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2D2-5FE9-4347-84D5-F78E02B0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069-51D5-43E6-B40C-2DDDA8CA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0C1B-0AA9-4899-AFE3-59D0F40B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835-39D2-4F92-95C7-7DB83BDA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3B8-7371-4433-80ED-545BAD54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B205-C08F-41F1-96D0-BC787736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CAC-5832-45C8-A229-8D99E07C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8A9-BA76-4D95-B284-602A9D67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E3A-CFAB-48A8-9942-88B80677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37A-A701-45F6-A9B2-9A616AA3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294-3809-4256-A6CC-7812281A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542-A585-4489-88D4-3C386BB3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9BD2-9A29-424D-B296-B54D8B4FE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7854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REMESA</a:t>
            </a:r>
            <a:br>
              <a:rPr sz="40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éunion du CPC / Alger, 1-2 février 2011</a:t>
            </a:r>
            <a:br>
              <a:rPr sz="2400"/>
            </a:br>
            <a:br>
              <a:rPr sz="2000"/>
            </a:br>
            <a:r>
              <a:rPr b="1" i="1" lang="fr-FR" sz="2000" spc="-1" strike="noStrike" u="sng">
                <a:solidFill>
                  <a:srgbClr val="008000"/>
                </a:solidFill>
                <a:uFillTx/>
                <a:latin typeface="Arial"/>
              </a:rPr>
              <a:t>Sous-groupe thématique Socio-économie: contributions au RESEPSA</a:t>
            </a:r>
            <a:r>
              <a:rPr b="1" lang="fr-FR" sz="20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Appui à la définition et la mise en oeuvre de stratégies en santé animales sous-régionales concertées plus pertinentes et plus effic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87640" y="5805360"/>
            <a:ext cx="19846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Jacques Confort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cio-économi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604800" y="855720"/>
          <a:ext cx="7954920" cy="54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855720"/>
                    <a:ext cx="79549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3"/>
          <p:cNvSpPr/>
          <p:nvPr/>
        </p:nvSpPr>
        <p:spPr>
          <a:xfrm>
            <a:off x="3193920" y="2967120"/>
            <a:ext cx="308772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Times New Roman"/>
              </a:rPr>
              <a:t>Coopérer entre disciplines, acteurs et pays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OU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4"/>
          <p:cNvSpPr/>
          <p:nvPr/>
        </p:nvSpPr>
        <p:spPr>
          <a:xfrm>
            <a:off x="2193840" y="1838160"/>
            <a:ext cx="625680" cy="324000"/>
          </a:xfrm>
          <a:custGeom>
            <a:avLst/>
            <a:gdLst>
              <a:gd name="textAreaLeft" fmla="*/ 0 w 625680"/>
              <a:gd name="textAreaRight" fmla="*/ 626040 w 6256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446" h="215">
                <a:moveTo>
                  <a:pt x="0" y="211"/>
                </a:moveTo>
                <a:lnTo>
                  <a:pt x="29" y="214"/>
                </a:lnTo>
                <a:lnTo>
                  <a:pt x="58" y="187"/>
                </a:lnTo>
                <a:lnTo>
                  <a:pt x="87" y="169"/>
                </a:lnTo>
                <a:lnTo>
                  <a:pt x="97" y="143"/>
                </a:lnTo>
                <a:lnTo>
                  <a:pt x="126" y="134"/>
                </a:lnTo>
                <a:lnTo>
                  <a:pt x="155" y="125"/>
                </a:lnTo>
                <a:lnTo>
                  <a:pt x="184" y="107"/>
                </a:lnTo>
                <a:lnTo>
                  <a:pt x="203" y="80"/>
                </a:lnTo>
                <a:lnTo>
                  <a:pt x="203" y="54"/>
                </a:lnTo>
                <a:lnTo>
                  <a:pt x="213" y="27"/>
                </a:lnTo>
                <a:lnTo>
                  <a:pt x="242" y="27"/>
                </a:lnTo>
                <a:lnTo>
                  <a:pt x="271" y="18"/>
                </a:lnTo>
                <a:lnTo>
                  <a:pt x="300" y="18"/>
                </a:lnTo>
                <a:lnTo>
                  <a:pt x="329" y="18"/>
                </a:lnTo>
                <a:lnTo>
                  <a:pt x="358" y="18"/>
                </a:lnTo>
                <a:lnTo>
                  <a:pt x="387" y="9"/>
                </a:lnTo>
                <a:lnTo>
                  <a:pt x="416" y="0"/>
                </a:lnTo>
                <a:lnTo>
                  <a:pt x="445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"/>
          <p:cNvSpPr/>
          <p:nvPr/>
        </p:nvSpPr>
        <p:spPr>
          <a:xfrm>
            <a:off x="3193920" y="1646280"/>
            <a:ext cx="212760" cy="54000"/>
          </a:xfrm>
          <a:custGeom>
            <a:avLst/>
            <a:gdLst>
              <a:gd name="textAreaLeft" fmla="*/ 0 w 212760"/>
              <a:gd name="textAreaRight" fmla="*/ 213120 w 212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51" h="36">
                <a:moveTo>
                  <a:pt x="0" y="3"/>
                </a:moveTo>
                <a:lnTo>
                  <a:pt x="33" y="0"/>
                </a:lnTo>
                <a:lnTo>
                  <a:pt x="62" y="9"/>
                </a:lnTo>
                <a:lnTo>
                  <a:pt x="91" y="18"/>
                </a:lnTo>
                <a:lnTo>
                  <a:pt x="121" y="26"/>
                </a:lnTo>
                <a:lnTo>
                  <a:pt x="150" y="3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3581280" y="1622520"/>
            <a:ext cx="88920" cy="31680"/>
          </a:xfrm>
          <a:custGeom>
            <a:avLst/>
            <a:gdLst>
              <a:gd name="textAreaLeft" fmla="*/ 0 w 88920"/>
              <a:gd name="textAreaRight" fmla="*/ 89280 w 889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2" h="21">
                <a:moveTo>
                  <a:pt x="0" y="20"/>
                </a:moveTo>
                <a:lnTo>
                  <a:pt x="31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7"/>
          <p:cNvSpPr/>
          <p:nvPr/>
        </p:nvSpPr>
        <p:spPr>
          <a:xfrm>
            <a:off x="4321080" y="1251000"/>
            <a:ext cx="614520" cy="358560"/>
          </a:xfrm>
          <a:custGeom>
            <a:avLst/>
            <a:gdLst>
              <a:gd name="textAreaLeft" fmla="*/ 0 w 614520"/>
              <a:gd name="textAreaRight" fmla="*/ 614880 w 61452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437" h="239">
                <a:moveTo>
                  <a:pt x="0" y="220"/>
                </a:moveTo>
                <a:lnTo>
                  <a:pt x="29" y="229"/>
                </a:lnTo>
                <a:lnTo>
                  <a:pt x="58" y="229"/>
                </a:lnTo>
                <a:lnTo>
                  <a:pt x="87" y="229"/>
                </a:lnTo>
                <a:lnTo>
                  <a:pt x="116" y="238"/>
                </a:lnTo>
                <a:lnTo>
                  <a:pt x="145" y="238"/>
                </a:lnTo>
                <a:lnTo>
                  <a:pt x="174" y="229"/>
                </a:lnTo>
                <a:lnTo>
                  <a:pt x="203" y="229"/>
                </a:lnTo>
                <a:lnTo>
                  <a:pt x="233" y="229"/>
                </a:lnTo>
                <a:lnTo>
                  <a:pt x="262" y="229"/>
                </a:lnTo>
                <a:lnTo>
                  <a:pt x="291" y="229"/>
                </a:lnTo>
                <a:lnTo>
                  <a:pt x="320" y="220"/>
                </a:lnTo>
                <a:lnTo>
                  <a:pt x="349" y="229"/>
                </a:lnTo>
                <a:lnTo>
                  <a:pt x="368" y="201"/>
                </a:lnTo>
                <a:lnTo>
                  <a:pt x="368" y="174"/>
                </a:lnTo>
                <a:lnTo>
                  <a:pt x="349" y="146"/>
                </a:lnTo>
                <a:lnTo>
                  <a:pt x="320" y="137"/>
                </a:lnTo>
                <a:lnTo>
                  <a:pt x="291" y="137"/>
                </a:lnTo>
                <a:lnTo>
                  <a:pt x="262" y="128"/>
                </a:lnTo>
                <a:lnTo>
                  <a:pt x="291" y="146"/>
                </a:lnTo>
                <a:lnTo>
                  <a:pt x="320" y="156"/>
                </a:lnTo>
                <a:lnTo>
                  <a:pt x="349" y="156"/>
                </a:lnTo>
                <a:lnTo>
                  <a:pt x="378" y="156"/>
                </a:lnTo>
                <a:lnTo>
                  <a:pt x="407" y="146"/>
                </a:lnTo>
                <a:lnTo>
                  <a:pt x="436" y="119"/>
                </a:lnTo>
                <a:lnTo>
                  <a:pt x="426" y="92"/>
                </a:lnTo>
                <a:lnTo>
                  <a:pt x="397" y="73"/>
                </a:lnTo>
                <a:lnTo>
                  <a:pt x="368" y="46"/>
                </a:lnTo>
                <a:lnTo>
                  <a:pt x="358" y="18"/>
                </a:lnTo>
                <a:lnTo>
                  <a:pt x="38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8"/>
          <p:cNvSpPr/>
          <p:nvPr/>
        </p:nvSpPr>
        <p:spPr>
          <a:xfrm>
            <a:off x="5072040" y="1074600"/>
            <a:ext cx="403200" cy="436680"/>
          </a:xfrm>
          <a:custGeom>
            <a:avLst/>
            <a:gdLst>
              <a:gd name="textAreaLeft" fmla="*/ 0 w 403200"/>
              <a:gd name="textAreaRight" fmla="*/ 403560 w 4032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86" h="290">
                <a:moveTo>
                  <a:pt x="26" y="0"/>
                </a:moveTo>
                <a:lnTo>
                  <a:pt x="39" y="24"/>
                </a:lnTo>
                <a:lnTo>
                  <a:pt x="58" y="36"/>
                </a:lnTo>
                <a:lnTo>
                  <a:pt x="65" y="54"/>
                </a:lnTo>
                <a:lnTo>
                  <a:pt x="65" y="72"/>
                </a:lnTo>
                <a:lnTo>
                  <a:pt x="52" y="90"/>
                </a:lnTo>
                <a:lnTo>
                  <a:pt x="45" y="108"/>
                </a:lnTo>
                <a:lnTo>
                  <a:pt x="39" y="126"/>
                </a:lnTo>
                <a:lnTo>
                  <a:pt x="58" y="132"/>
                </a:lnTo>
                <a:lnTo>
                  <a:pt x="78" y="145"/>
                </a:lnTo>
                <a:lnTo>
                  <a:pt x="97" y="138"/>
                </a:lnTo>
                <a:lnTo>
                  <a:pt x="117" y="132"/>
                </a:lnTo>
                <a:lnTo>
                  <a:pt x="136" y="145"/>
                </a:lnTo>
                <a:lnTo>
                  <a:pt x="117" y="157"/>
                </a:lnTo>
                <a:lnTo>
                  <a:pt x="97" y="169"/>
                </a:lnTo>
                <a:lnTo>
                  <a:pt x="84" y="187"/>
                </a:lnTo>
                <a:lnTo>
                  <a:pt x="65" y="193"/>
                </a:lnTo>
                <a:lnTo>
                  <a:pt x="45" y="205"/>
                </a:lnTo>
                <a:lnTo>
                  <a:pt x="26" y="217"/>
                </a:lnTo>
                <a:lnTo>
                  <a:pt x="6" y="229"/>
                </a:lnTo>
                <a:lnTo>
                  <a:pt x="0" y="247"/>
                </a:lnTo>
                <a:lnTo>
                  <a:pt x="0" y="265"/>
                </a:lnTo>
                <a:lnTo>
                  <a:pt x="19" y="277"/>
                </a:lnTo>
                <a:lnTo>
                  <a:pt x="39" y="277"/>
                </a:lnTo>
                <a:lnTo>
                  <a:pt x="65" y="277"/>
                </a:lnTo>
                <a:lnTo>
                  <a:pt x="91" y="283"/>
                </a:lnTo>
                <a:lnTo>
                  <a:pt x="110" y="283"/>
                </a:lnTo>
                <a:lnTo>
                  <a:pt x="130" y="283"/>
                </a:lnTo>
                <a:lnTo>
                  <a:pt x="168" y="283"/>
                </a:lnTo>
                <a:lnTo>
                  <a:pt x="194" y="289"/>
                </a:lnTo>
                <a:lnTo>
                  <a:pt x="220" y="289"/>
                </a:lnTo>
                <a:lnTo>
                  <a:pt x="246" y="289"/>
                </a:lnTo>
                <a:lnTo>
                  <a:pt x="266" y="289"/>
                </a:lnTo>
                <a:lnTo>
                  <a:pt x="285" y="28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"/>
          <p:cNvSpPr/>
          <p:nvPr/>
        </p:nvSpPr>
        <p:spPr>
          <a:xfrm>
            <a:off x="5854680" y="1577880"/>
            <a:ext cx="647640" cy="147600"/>
          </a:xfrm>
          <a:custGeom>
            <a:avLst/>
            <a:gdLst>
              <a:gd name="textAreaLeft" fmla="*/ 0 w 647640"/>
              <a:gd name="textAreaRight" fmla="*/ 648000 w 6476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460" h="98">
                <a:moveTo>
                  <a:pt x="19" y="0"/>
                </a:moveTo>
                <a:lnTo>
                  <a:pt x="0" y="0"/>
                </a:lnTo>
                <a:lnTo>
                  <a:pt x="19" y="0"/>
                </a:lnTo>
                <a:lnTo>
                  <a:pt x="39" y="0"/>
                </a:lnTo>
                <a:lnTo>
                  <a:pt x="58" y="0"/>
                </a:lnTo>
                <a:lnTo>
                  <a:pt x="78" y="0"/>
                </a:lnTo>
                <a:lnTo>
                  <a:pt x="103" y="6"/>
                </a:lnTo>
                <a:lnTo>
                  <a:pt x="123" y="6"/>
                </a:lnTo>
                <a:lnTo>
                  <a:pt x="175" y="12"/>
                </a:lnTo>
                <a:lnTo>
                  <a:pt x="200" y="18"/>
                </a:lnTo>
                <a:lnTo>
                  <a:pt x="220" y="18"/>
                </a:lnTo>
                <a:lnTo>
                  <a:pt x="239" y="24"/>
                </a:lnTo>
                <a:lnTo>
                  <a:pt x="259" y="24"/>
                </a:lnTo>
                <a:lnTo>
                  <a:pt x="278" y="30"/>
                </a:lnTo>
                <a:lnTo>
                  <a:pt x="297" y="36"/>
                </a:lnTo>
                <a:lnTo>
                  <a:pt x="317" y="42"/>
                </a:lnTo>
                <a:lnTo>
                  <a:pt x="336" y="49"/>
                </a:lnTo>
                <a:lnTo>
                  <a:pt x="356" y="55"/>
                </a:lnTo>
                <a:lnTo>
                  <a:pt x="381" y="67"/>
                </a:lnTo>
                <a:lnTo>
                  <a:pt x="401" y="73"/>
                </a:lnTo>
                <a:lnTo>
                  <a:pt x="420" y="85"/>
                </a:lnTo>
                <a:lnTo>
                  <a:pt x="440" y="91"/>
                </a:lnTo>
                <a:lnTo>
                  <a:pt x="459" y="9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0"/>
          <p:cNvSpPr/>
          <p:nvPr/>
        </p:nvSpPr>
        <p:spPr>
          <a:xfrm>
            <a:off x="6811920" y="1928880"/>
            <a:ext cx="338040" cy="87120"/>
          </a:xfrm>
          <a:custGeom>
            <a:avLst/>
            <a:gdLst>
              <a:gd name="textAreaLeft" fmla="*/ 0 w 338040"/>
              <a:gd name="textAreaRight" fmla="*/ 338400 w 33804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40" h="58">
                <a:moveTo>
                  <a:pt x="0" y="57"/>
                </a:moveTo>
                <a:lnTo>
                  <a:pt x="19" y="51"/>
                </a:lnTo>
                <a:lnTo>
                  <a:pt x="39" y="51"/>
                </a:lnTo>
                <a:lnTo>
                  <a:pt x="58" y="51"/>
                </a:lnTo>
                <a:lnTo>
                  <a:pt x="78" y="44"/>
                </a:lnTo>
                <a:lnTo>
                  <a:pt x="97" y="38"/>
                </a:lnTo>
                <a:lnTo>
                  <a:pt x="116" y="25"/>
                </a:lnTo>
                <a:lnTo>
                  <a:pt x="136" y="13"/>
                </a:lnTo>
                <a:lnTo>
                  <a:pt x="155" y="0"/>
                </a:lnTo>
                <a:lnTo>
                  <a:pt x="174" y="0"/>
                </a:lnTo>
                <a:lnTo>
                  <a:pt x="200" y="13"/>
                </a:lnTo>
                <a:lnTo>
                  <a:pt x="220" y="25"/>
                </a:lnTo>
                <a:lnTo>
                  <a:pt x="239" y="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732720" y="6453360"/>
            <a:ext cx="2411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RESEPSA (</a:t>
            </a:r>
            <a:fld id="{A0AFCD9C-63A0-486E-9D7A-6E29C973BE4D}" type="slidenum">
              <a:rPr b="1" lang="fr-FR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786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Contributions au RESEPSA: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FIN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4920" y="169992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tribuer à la formulation et à la mise en œuvre de stratégies  et de politiques de santé anima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tinente et efficac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u couteus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nimisant les impacts négatif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nant en compte les points de vue et intérêts des multiples acteurs concernés.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732720" y="6453360"/>
            <a:ext cx="2411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RESEPSA (</a:t>
            </a:r>
            <a:fld id="{F7D2C499-8525-4F58-B96B-AF9271D3219C}" type="slidenum">
              <a:rPr b="1" lang="fr-FR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786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APPRO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4920" y="169992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mouvoir une approche pluri-disciplinaire et multi-sectorielle de la santé animale (plaidoyer en relation avec RECOM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mouvoir les échanges d'information et d'expé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voriser les participations des acteurs des filières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732720" y="6453360"/>
            <a:ext cx="2411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RESEPSA (</a:t>
            </a:r>
            <a:fld id="{5DB24109-EB9C-4683-B845-A17A464650B7}" type="slidenum">
              <a:rPr b="1" lang="fr-FR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786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Programme de travail pour 2011 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4920" y="1699920"/>
            <a:ext cx="8280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TIVATION ET ANIMATION DU SOUS-RESE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signation officielle des points foc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dentification de membres et partenaires potentiels (Services publics, Recherche et Enseignement, Secteur privé et associat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motion de la concertation avec les autres sous-rése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place un espace dédié sur le site Web REM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rticipation ad hoc à divers séminaires, échanges, et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telier Fièvre de la vallée du Nil oc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732720" y="6453360"/>
            <a:ext cx="2411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RESEPSA (</a:t>
            </a:r>
            <a:fld id="{87075070-A135-4835-AF34-A0C9A5692741}" type="slidenum">
              <a:rPr b="1" lang="fr-FR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786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Programme de travail pour 2011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69992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MERCE SOUS-REGIONAL DES ANIMAUX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GCP/RAB/010/SPA)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Afin de mieux appréhender les flux commerciaux pour une meill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gestion des risques zoo-sanita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ffectuer un inventaire des données existantes dans chaque p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nalyser et synthétiser les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poser la mise en place d'une base de données / 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rtage et discussion des résultats en atelier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à financ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732720" y="6453360"/>
            <a:ext cx="2411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RESEPSA (</a:t>
            </a:r>
            <a:fld id="{39EE74AC-4CE6-4BA7-BFAB-3666F3F5BDCC}" type="slidenum">
              <a:rPr b="1" lang="fr-FR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786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Programme de travail pour 2011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9992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PACTS DES MALADIES ANIMALES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GCP/RAB/010/SPA)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IMPACT MACRO-ECONO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au point d'une méthodologie d'évaluation rapide de l'impact (étude pilote sur un pays: Tunis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ation de missions d'évaluation rapide dans un autre p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IMPACT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ation de l'impact social (pauvreté, conditions d'existence) à travers des enquêtes de terrains (Algérie et Maurita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ise en oeuvre par une/des Institutions nationale ou sous-régionales dans le cadre d'un protocole d'ac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ission d'appui FAO-ECT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732720" y="6453360"/>
            <a:ext cx="2411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RESEPSA (</a:t>
            </a:r>
            <a:fld id="{2746DD77-60B0-44E3-BEFF-42239C7B750C}" type="slidenum">
              <a:rPr b="1" lang="fr-FR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786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Programme de travail pour 2011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69992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SEAUX SOUS-REGIONAL DES ACTEURS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GCP/RAB/010/SPA)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Afin de permettre une participation active des acteurs de filières animales 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de promouvoir des productions animales saines et dur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éalisation d'un inventaire des principales organisations professionnelles du secteur de l'élevage (production, commerce, services, etc.) dans chaque pays (Structure, fonctionnement, objectifs, attentes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ilation et analyses de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rganisation d'un atelier/rencontr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à financ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732720" y="6453360"/>
            <a:ext cx="2411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RESEPSA (</a:t>
            </a:r>
            <a:fld id="{532A2D13-3B6B-4EA9-92BE-B01CE6B56C4A}" type="slidenum">
              <a:rPr b="1" lang="fr-FR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786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Programme de travail pour 2011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69992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NAISSANCE DES FILIÈRES ANIMALES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(à financer)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Mettre à disposition  un ensemble de données (de nature socio-économique) utiles à la cartographie et l'analyse du risque zoo-sanita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ncer la réalisation d'une revue du secteur des petits ruminants dans les 6 p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finition des données pertinentes à collecter et de la méthodologie en concertation avec les épidémi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ncement de la collecte des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732720" y="6453360"/>
            <a:ext cx="2411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RESEPSA (</a:t>
            </a:r>
            <a:fld id="{716E0C9C-89AC-4B41-94BB-1C5A0A08C079}" type="slidenum">
              <a:rPr b="1" lang="fr-FR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207"/>
          <p:cNvSpPr/>
          <p:nvPr/>
        </p:nvSpPr>
        <p:spPr>
          <a:xfrm>
            <a:off x="907920" y="631800"/>
            <a:ext cx="635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936720"/>
          <a:ext cx="7767720" cy="4878360"/>
        </p:xfrm>
        <a:graphic>
          <a:graphicData uri="http://schemas.openxmlformats.org/drawingml/2006/table">
            <a:tbl>
              <a:tblPr/>
              <a:tblGrid>
                <a:gridCol w="4402080"/>
                <a:gridCol w="673200"/>
                <a:gridCol w="672840"/>
                <a:gridCol w="673200"/>
                <a:gridCol w="673200"/>
                <a:gridCol w="673200"/>
              </a:tblGrid>
              <a:tr h="2764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AD-Tunis socio-économie - programme indicatif de travail février-juin 2011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er du 25/01/20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vri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r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tion RESEP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lier Régional WNF -Tun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vi/relance des membres du groupe socio-économi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aux activités des autres composantes - Réponses aux requêres ad hoc, etc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tion du site web REMESA et site ECTAD-AN (espace RESEPS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e sous-régional des aniam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herche documentai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tion validation des TDR et identification des experts pour chaque p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aire/collecte des données (par les points focaux ou exper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thèse,  partage des résultats - Consultations  en vue de la mise en place d'un SIG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 des malad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 macro</a:t>
                      </a: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Phase pilote en Tunis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o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 et recherche complémentai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 micro</a:t>
                      </a: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Préparation de protocole d'accords pour Algérie et Maurita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on de lancement Algérie (6 jours) + Mauritanie (6 jour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ien à la création d'un réseau d’associations de product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paration des TdR pour l'inventaire des organisations par pay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ation de l'inventaire  (par les points focau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 et compilation des donnée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66" name="Text Box 5805"/>
          <p:cNvSpPr/>
          <p:nvPr/>
        </p:nvSpPr>
        <p:spPr>
          <a:xfrm>
            <a:off x="6732720" y="6453360"/>
            <a:ext cx="2411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RESEPSA (</a:t>
            </a:r>
            <a:fld id="{37A91F59-48C6-4F6F-8A5F-843B4EA00C2D}" type="slidenum">
              <a:rPr b="1" lang="fr-FR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r>
              <a:rPr b="1" lang="fr-FR" sz="12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TextBox 161"/>
          <p:cNvGrpSpPr/>
          <p:nvPr/>
        </p:nvGrpSpPr>
        <p:grpSpPr>
          <a:xfrm>
            <a:off x="2179080" y="1347840"/>
            <a:ext cx="4736880" cy="4005360"/>
            <a:chOff x="2179080" y="1347840"/>
            <a:chExt cx="4736880" cy="4005360"/>
          </a:xfrm>
        </p:grpSpPr>
        <p:pic>
          <p:nvPicPr>
            <p:cNvPr id="68" name="TextBox 161" descr=""/>
            <p:cNvPicPr/>
            <p:nvPr/>
          </p:nvPicPr>
          <p:blipFill>
            <a:blip r:embed="rId1"/>
            <a:stretch/>
          </p:blipFill>
          <p:spPr>
            <a:xfrm>
              <a:off x="2193840" y="1347840"/>
              <a:ext cx="4707360" cy="40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 rot="19498200">
              <a:off x="1895400" y="3006720"/>
              <a:ext cx="5303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OBSOLÈ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(en avril 201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9:19:31Z</dcterms:created>
  <dc:creator>Conforti, Jacques</dc:creator>
  <dc:description/>
  <dc:language>en-US</dc:language>
  <cp:lastModifiedBy>J. Conforti</cp:lastModifiedBy>
  <dcterms:modified xsi:type="dcterms:W3CDTF">2011-04-28T13:11:42Z</dcterms:modified>
  <cp:revision>411</cp:revision>
  <dc:subject/>
  <dc:title>Diapositive 1</dc:title>
</cp:coreProperties>
</file>