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AC54C-6F2D-410A-9EE8-829050B843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7762-36C8-483B-9477-437253F824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EAE3-2702-479E-ACD8-3EB05E1C8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6119-3BD7-403F-8F3B-ECFC76C2C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AB9A-989A-4E6D-BD2F-7C42E5E31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B9C9-0367-4484-B8B8-222854B9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AB0-1C49-490C-9550-E80EA91D4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5DCB-0F8A-4878-BA21-CA0B875D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485-BE1D-4DFB-8517-E99255FDA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9522-46AF-4253-9F79-8D1092482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66E-355E-4919-B053-A0C67293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5158-82D2-484D-852C-D5649B35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C439-6DC1-4A2A-A03F-B7D3D26A0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DCC8-778D-48DB-90C6-729163053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A88B-B414-42FA-A9E4-1575421B5E8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Sous-titre 2"/>
          <p:cNvGrpSpPr/>
          <p:nvPr/>
        </p:nvGrpSpPr>
        <p:grpSpPr>
          <a:xfrm>
            <a:off x="665280" y="2189160"/>
            <a:ext cx="7881840" cy="4059360"/>
            <a:chOff x="665280" y="2189160"/>
            <a:chExt cx="7881840" cy="4059360"/>
          </a:xfrm>
        </p:grpSpPr>
        <p:pic>
          <p:nvPicPr>
            <p:cNvPr id="49" name="Sous-titre 2" descr=""/>
            <p:cNvPicPr/>
            <p:nvPr/>
          </p:nvPicPr>
          <p:blipFill>
            <a:blip r:embed="rId1"/>
            <a:stretch/>
          </p:blipFill>
          <p:spPr>
            <a:xfrm>
              <a:off x="665280" y="2189160"/>
              <a:ext cx="7881840" cy="405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205000"/>
              <a:ext cx="7848360" cy="40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2060"/>
                  </a:solidFill>
                  <a:latin typeface="Calibri"/>
                </a:rPr>
                <a:t>Amélioration de la Production de Riz en Afrique de l’Ouest en Réponse à la Flambée des Prix des Denrées Alimentaires (APRAO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002060"/>
                  </a:solidFill>
                  <a:latin typeface="Calibri"/>
                </a:rPr>
                <a:t>(GCP/RAF/453/SPA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984807"/>
                  </a:solidFill>
                  <a:latin typeface="Calibri"/>
                </a:rPr>
                <a:t>Projet financé par le Gouvernement  du Royaume d’Espagne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3200" spc="-1" strike="noStrike">
                  <a:solidFill>
                    <a:srgbClr val="000000"/>
                  </a:solidFill>
                  <a:latin typeface="Calibri"/>
                </a:rPr>
                <a:t>Composante CÔTE D’IVOIR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" name="Picture 7" descr="38145765FAO_logo_web"/>
          <p:cNvPicPr/>
          <p:nvPr/>
        </p:nvPicPr>
        <p:blipFill>
          <a:blip r:embed="rId2"/>
          <a:stretch/>
        </p:blipFill>
        <p:spPr>
          <a:xfrm>
            <a:off x="1547640" y="476280"/>
            <a:ext cx="1295640" cy="12970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spain"/>
          <p:cNvPicPr/>
          <p:nvPr/>
        </p:nvPicPr>
        <p:blipFill>
          <a:blip r:embed="rId3"/>
          <a:stretch/>
        </p:blipFill>
        <p:spPr>
          <a:xfrm>
            <a:off x="6732720" y="692280"/>
            <a:ext cx="1095120" cy="828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2" descr="Cote-d-Ivoire-flag"/>
          <p:cNvPicPr/>
          <p:nvPr/>
        </p:nvPicPr>
        <p:blipFill>
          <a:blip r:embed="rId4"/>
          <a:stretch/>
        </p:blipFill>
        <p:spPr>
          <a:xfrm>
            <a:off x="3708360" y="692280"/>
            <a:ext cx="201600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SECTEURS D’INTERVENTION AP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4960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mélioration de l’environnement technique et socio-économique de la production rizico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oduction de semences de qualit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roduction de padd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ransform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ommercialis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STRATEGIE DE MISE EN ŒUVRE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79280" y="3428640"/>
            <a:ext cx="856944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le Partenaria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Identifier plusieurs partenaires dans la chaine des valeurs avec action en synergi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ff0000"/>
                </a:solidFill>
                <a:latin typeface="Calibri"/>
              </a:rPr>
              <a:t>l’Exploitation de la chaine des valeu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Caractérisation des sites pour identifier le (les) maillon (s) faible (s) de la chaine des valeurs pour actions bénéf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oneTexte 3"/>
          <p:cNvSpPr/>
          <p:nvPr/>
        </p:nvSpPr>
        <p:spPr>
          <a:xfrm>
            <a:off x="250920" y="981000"/>
            <a:ext cx="8497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La stratégie de mise en œuvre du projet APRAO en CI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s’inscrit dans le cadre  de la mise en œuvre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Stratégie Nationale de Développement de la Rizicultur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ôte d’Ivoire (</a:t>
            </a:r>
            <a:r>
              <a:rPr b="1" lang="fr-FR" sz="2800" spc="-1" strike="noStrike">
                <a:solidFill>
                  <a:srgbClr val="ff0000"/>
                </a:solidFill>
                <a:latin typeface="Arial"/>
              </a:rPr>
              <a:t>SNDR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asée sur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Mise en œuvr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539280" y="1125000"/>
            <a:ext cx="82803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Vu l’Absence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Mise en place d’un </a:t>
            </a: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Comité Technique adh’oc (Février 2012)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</a:rPr>
              <a:t>Missions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- Recadrage des activités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- Elaboration d’une Matrice d’Action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- suivi des activité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lèche droite 3"/>
          <p:cNvSpPr/>
          <p:nvPr/>
        </p:nvSpPr>
        <p:spPr>
          <a:xfrm>
            <a:off x="684360" y="1916280"/>
            <a:ext cx="977760" cy="48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Identification des Partenaire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35164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our la réalisation des activités, il fallait </a:t>
            </a:r>
            <a:r>
              <a:rPr b="0" lang="fr-FR" sz="4800" spc="-1" strike="noStrike">
                <a:solidFill>
                  <a:srgbClr val="ff0000"/>
                </a:solidFill>
                <a:latin typeface="Calibri"/>
              </a:rPr>
              <a:t>identifier des partenaire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, dans l’objectif que chaque partenaire </a:t>
            </a:r>
            <a:r>
              <a:rPr b="0" lang="fr-FR" sz="4800" spc="-1" strike="noStrike" u="sng">
                <a:solidFill>
                  <a:srgbClr val="ff0000"/>
                </a:solidFill>
                <a:uFillTx/>
                <a:latin typeface="Calibri"/>
              </a:rPr>
              <a:t>apporte un plus</a:t>
            </a: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 à l’amélioration de la chaine des valeurs !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78544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PARTENAIRES IDENTIFIES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50920" y="1125000"/>
            <a:ext cx="864216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MINAGRI: Ministère de l’Agriculture: </a:t>
            </a:r>
            <a:r>
              <a:rPr b="1" lang="fr-FR" sz="2500" spc="-1" strike="noStrike">
                <a:solidFill>
                  <a:srgbClr val="00b050"/>
                </a:solidFill>
                <a:latin typeface="Calibri"/>
              </a:rPr>
              <a:t>Rôle régalie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(Contrôle de qualité; Certification des semences, …..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ONDR (ex PNR) : Office National de Développement du Riz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Installation de minirizeries (transformation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CNRA : Centre National de Recherche Agronomique ;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Production de semences de pré-bases et de 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NADER : Agence Nationale d’Appui au Développement Rural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diffusion de la réglementation ; Sensibilisation des producteurs ; Appui-Conseil; Appui à la formalisation des Coopératives;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ANARIZ-CI: Association Nationale des Riziculteurs de C.I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FENARIZ-CI: Fédération Nationale des Riziculteurs de C.I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2500" spc="-1" strike="noStrike">
                <a:solidFill>
                  <a:srgbClr val="ff0000"/>
                </a:solidFill>
                <a:latin typeface="Calibri"/>
              </a:rPr>
              <a:t>Production de riz paddy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4216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ARTENAIRES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50920" y="1196640"/>
            <a:ext cx="86421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NASEM-CI: Association Nationale des Semenciers de C.I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Production de semenc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IRCA: Fonds Interprofessionnel pour la Recherche et le Conseil Agricol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Appui financier au programme (système d’inform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ANQUES ET ETABLISSEMENTS FINANCI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Facilitation de l’accès au finance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autres proje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Echange d’information ;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CBSS: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cyber-semences,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PMS: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démarrage de la Certification des semences sur 550 ha (PPMS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WAAPP 1 b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. : système d’information; Edition et diffusion de documents relatifs à la réglementatio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(5000 exemplaires) 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(catalogues et text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WAAPP 1</a:t>
            </a:r>
            <a:r>
              <a:rPr b="1" lang="fr-FR" sz="2400" spc="-1" strike="noStrike">
                <a:solidFill>
                  <a:srgbClr val="ff0000"/>
                </a:solidFill>
                <a:latin typeface="Calibri"/>
              </a:rPr>
              <a:t>. C: appui à la production de riz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7138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Activités a réaliser en 2012 (1)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50560" y="907560"/>
            <a:ext cx="85690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mélioration de l’environnement technique et socio-économique de la production rizic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50920" y="1916280"/>
          <a:ext cx="8569080" cy="4806720"/>
        </p:xfrm>
        <a:graphic>
          <a:graphicData uri="http://schemas.openxmlformats.org/drawingml/2006/table">
            <a:tbl>
              <a:tblPr/>
              <a:tblGrid>
                <a:gridCol w="3106800"/>
                <a:gridCol w="546228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oma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3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Mise en œuvre de la politique nationale semencière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aborer, Editer et diffuser 500 exemplaires  des règlements techniques généraux  de production, de contrôle et de certification de semences de riz sous forme de dépliants et de plaquettes imagé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7030a0"/>
                          </a:solidFill>
                          <a:latin typeface="Calibri"/>
                        </a:rPr>
                        <a:t>Renforcement des capacités techniques , organisationnelles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sessions de formation prévues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Agents du Ministère, Producteurs de semences, Producteurs de paddy)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21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ctivités à réaliser en 2012 (2)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78920" y="620640"/>
            <a:ext cx="8713800" cy="59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784080"/>
          <a:ext cx="8640720" cy="6305760"/>
        </p:xfrm>
        <a:graphic>
          <a:graphicData uri="http://schemas.openxmlformats.org/drawingml/2006/table">
            <a:tbl>
              <a:tblPr/>
              <a:tblGrid>
                <a:gridCol w="3456000"/>
                <a:gridCol w="5184720"/>
              </a:tblGrid>
              <a:tr h="57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mposant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tivité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8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nforcement de capacités matérielles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( </a:t>
                      </a: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pui à la production de semences et de paddy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 = Fonds de roule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Motoculteu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 bâch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250 t de semence, 93 t de NPK, 46,5 tonnes d’urée, 1500 l d’herbicides, 7,3 t d’insectici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ur 465 H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otion de l’utilisation des semences amélioré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ons promotionnelles de la semence de qualit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Emissions Radio (Nationale et de proximité)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Emissions (TV, Presse écrites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Journées promotionnel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Activités réalisées à ce jour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oneTexte 2"/>
          <p:cNvSpPr/>
          <p:nvPr/>
        </p:nvSpPr>
        <p:spPr>
          <a:xfrm>
            <a:off x="682560" y="1341360"/>
            <a:ext cx="7993080" cy="60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Mise en place du personnel du projet: en pla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1 Coordonnateur National 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3 Agents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1 Secrét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1 Assistante administrativ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hoix des sites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4 sites (Grand-lahou, Bongouanou, Yamoussokro, Gagno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ite de Gagnoa caractéri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ctivités réalisées à ce jour </a:t>
            </a: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90792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Trois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sessions de formation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éalisée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renforcement des capacités de 38 acteurs et actrices  de la filière riz sur le warrantage (09 et 10 novembre 2011 à Abidjan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1 agents du MINAGRI formés sur la certification et la réglementation semenciè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un atelier national sur l’implication des acteurs semenciers dans la mise en œuvre de la Stratégie Nationale pour le Développement de la filière Rizicole (SNDR)  (50 participant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Matériels fourn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a fourniture de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inq motoculteur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ux coopératives  bénéfici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ETAT D’AVANCEMENT DU PROJET APRAO / COMPOSANTE CÔTE D’IVOI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3640" y="1628640"/>
            <a:ext cx="85690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 u="sng">
                <a:solidFill>
                  <a:srgbClr val="ff0000"/>
                </a:solidFill>
                <a:uFillTx/>
                <a:latin typeface="Calibri"/>
              </a:rPr>
              <a:t>PLAN DE PRESENT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CONTEX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Calibri"/>
              </a:rPr>
              <a:t>CONTRAINTES MAJEUR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TOUTS DE LA COTE D’IVOI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PRAO: COMPOSANTE C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SECTEURS D’INTER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STRATEGIE DE MISE EN ŒUV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MISE EN ŒUVR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dentification des partenair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artenaires identifi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CTIVI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NIVEAU DE REALIS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Calibri"/>
              </a:rPr>
              <a:t>RECOMMAND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blè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ZoneTexte 2"/>
          <p:cNvSpPr/>
          <p:nvPr/>
        </p:nvSpPr>
        <p:spPr>
          <a:xfrm>
            <a:off x="468360" y="1268280"/>
            <a:ext cx="8064360" cy="84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Absence du Comité de Pilotage  (Pour orientation et suivi);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Absence d’appui technique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0000"/>
                </a:solidFill>
                <a:latin typeface="Calibri"/>
              </a:rPr>
              <a:t>Recommanda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920" y="1341000"/>
            <a:ext cx="8353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ecadrage des activités prévues en 2012 par rapport au temps qui reste pour la clôture du projet (déc. 2012) et les ressources dispon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le Comité de pilot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Appui technique du Coordinateur  Technique Régiona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Bénéficier de l’expérience et des  acquis des autres composantes nationa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CLU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50560" y="907560"/>
            <a:ext cx="87138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Le Projet APRAO est </a:t>
            </a:r>
            <a:r>
              <a:rPr b="1" lang="fr-FR" sz="3400" spc="-1" strike="noStrike">
                <a:solidFill>
                  <a:srgbClr val="ff0000"/>
                </a:solidFill>
                <a:latin typeface="Calibri"/>
              </a:rPr>
              <a:t>très important </a:t>
            </a: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pour la mise en œuvre de la SNDR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A ce titre, l’on pourrait le considérer comme un </a:t>
            </a:r>
            <a:r>
              <a:rPr b="1" lang="fr-FR" sz="3400" spc="-1" strike="noStrike">
                <a:solidFill>
                  <a:srgbClr val="ff0000"/>
                </a:solidFill>
                <a:latin typeface="Calibri"/>
              </a:rPr>
              <a:t>projet pilo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Pour  qu’il en soit ainsi, il est important de créer </a:t>
            </a:r>
            <a:r>
              <a:rPr b="1" lang="fr-FR" sz="3400" spc="-1" strike="noStrike">
                <a:solidFill>
                  <a:srgbClr val="ff0000"/>
                </a:solidFill>
                <a:latin typeface="Calibri"/>
              </a:rPr>
              <a:t>les conditions nécessaires </a:t>
            </a: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pour assurer une mise en œuvre effective et efficace du projet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400" spc="-1" strike="noStrike">
                <a:solidFill>
                  <a:srgbClr val="ff0000"/>
                </a:solidFill>
                <a:latin typeface="Calibri"/>
              </a:rPr>
              <a:t>Sa réussite </a:t>
            </a: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est un impérative pour donner des </a:t>
            </a:r>
            <a:r>
              <a:rPr b="1" lang="fr-FR" sz="3400" spc="-1" strike="noStrike">
                <a:solidFill>
                  <a:srgbClr val="ff0000"/>
                </a:solidFill>
                <a:latin typeface="Calibri"/>
              </a:rPr>
              <a:t>pistes dans la mise en œuvre de la SNDR</a:t>
            </a:r>
            <a:r>
              <a:rPr b="1" lang="fr-FR" sz="3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ormation des Agents du MINAGR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Espace réservé du contenu 3" descr="C:\Users\Hp\Desktop\APRAO\PHOTO APRAO\DSC00031.JPG"/>
          <p:cNvPicPr/>
          <p:nvPr/>
        </p:nvPicPr>
        <p:blipFill>
          <a:blip r:embed="rId1"/>
          <a:stretch/>
        </p:blipFill>
        <p:spPr>
          <a:xfrm>
            <a:off x="468360" y="1773360"/>
            <a:ext cx="8351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articipants à la formation des agents du MINAGRI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628640"/>
            <a:ext cx="8496000" cy="482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4" name="Image 3" descr="C:\Users\Hp\Desktop\APRAO\PHOTO APRAO\DSC00025.JPG"/>
          <p:cNvPicPr/>
          <p:nvPr/>
        </p:nvPicPr>
        <p:blipFill>
          <a:blip r:embed="rId1"/>
          <a:stretch/>
        </p:blipFill>
        <p:spPr>
          <a:xfrm>
            <a:off x="971640" y="1628640"/>
            <a:ext cx="75610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68360" y="764640"/>
            <a:ext cx="7920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Je vous remerci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Étoile à 5 branches 3"/>
          <p:cNvSpPr/>
          <p:nvPr/>
        </p:nvSpPr>
        <p:spPr>
          <a:xfrm>
            <a:off x="468360" y="47628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Étoile à 5 branches 4"/>
          <p:cNvSpPr/>
          <p:nvPr/>
        </p:nvSpPr>
        <p:spPr>
          <a:xfrm>
            <a:off x="4140360" y="404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Étoile à 5 branches 5"/>
          <p:cNvSpPr/>
          <p:nvPr/>
        </p:nvSpPr>
        <p:spPr>
          <a:xfrm>
            <a:off x="7667640" y="40464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Étoile à 5 branches 6"/>
          <p:cNvSpPr/>
          <p:nvPr/>
        </p:nvSpPr>
        <p:spPr>
          <a:xfrm>
            <a:off x="4211640" y="4941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Étoile à 5 branches 7"/>
          <p:cNvSpPr/>
          <p:nvPr/>
        </p:nvSpPr>
        <p:spPr>
          <a:xfrm>
            <a:off x="2195640" y="342900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Étoile à 5 branches 8"/>
          <p:cNvSpPr/>
          <p:nvPr/>
        </p:nvSpPr>
        <p:spPr>
          <a:xfrm>
            <a:off x="6300720" y="3141720"/>
            <a:ext cx="914400" cy="914400"/>
          </a:xfrm>
          <a:custGeom>
            <a:avLst/>
            <a:gdLst>
              <a:gd name="textAreaLeft" fmla="*/ 282600 w 914400"/>
              <a:gd name="textAreaRight" fmla="*/ 631800 w 914400"/>
              <a:gd name="textAreaTop" fmla="*/ 349200 h 914400"/>
              <a:gd name="textAreaBottom" fmla="*/ 698760 h 914400"/>
            </a:gdLst>
            <a:ahLst/>
            <a:rect l="textAreaLeft" t="textAreaTop" r="textAreaRight" b="textAreaBottom"/>
            <a:pathLst>
              <a:path w="914400" h="914400">
                <a:moveTo>
                  <a:pt x="1" y="349269"/>
                </a:moveTo>
                <a:lnTo>
                  <a:pt x="349272" y="349271"/>
                </a:lnTo>
                <a:lnTo>
                  <a:pt x="457200" y="0"/>
                </a:lnTo>
                <a:lnTo>
                  <a:pt x="565128" y="349271"/>
                </a:lnTo>
                <a:lnTo>
                  <a:pt x="914399" y="349269"/>
                </a:lnTo>
                <a:lnTo>
                  <a:pt x="631832" y="565127"/>
                </a:lnTo>
                <a:lnTo>
                  <a:pt x="739765" y="914397"/>
                </a:lnTo>
                <a:lnTo>
                  <a:pt x="457200" y="698535"/>
                </a:lnTo>
                <a:lnTo>
                  <a:pt x="174635" y="914397"/>
                </a:lnTo>
                <a:lnTo>
                  <a:pt x="282568" y="565127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CONTEXTE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ZoneTexte 2"/>
          <p:cNvSpPr/>
          <p:nvPr/>
        </p:nvSpPr>
        <p:spPr>
          <a:xfrm>
            <a:off x="324000" y="981000"/>
            <a:ext cx="8424720" cy="73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riz est une denrée essentielle pour l’économie et la sécurité alimentaire en Côte d’Iv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pays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mporte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chaque année en moyenne 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919 000 t de riz blanchi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our un coût d’environ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236 milliards de F CF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production nationale est de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650 000 tonnes de riz blanch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en moyenne par an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et qui couvre seulement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49% des besoins nationau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sommation par habitant et par an: </a:t>
            </a: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64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70c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texte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ZoneTexte 3"/>
          <p:cNvSpPr/>
          <p:nvPr/>
        </p:nvSpPr>
        <p:spPr>
          <a:xfrm>
            <a:off x="539640" y="1052640"/>
            <a:ext cx="8136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Une SNDR a été adoptée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le 15 février 201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Quelques points saillants  de la SNDR !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ppui technique à la p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ppui en infrastructure et sauvegarde de l’environ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ystème d’information sur la fil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Organisation des producteurs et de la filière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ppui à la transformation du pa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ppui à la distribution et à la promotion du riz blanch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0320" y="259920"/>
            <a:ext cx="77724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texte (3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A l’horizon 2016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accroissement de la production locale pour atteindre 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2.100.000 </a:t>
            </a: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tonnes de riz blanchi pour une consommation estimée à environ 1 915 000 tonnes </a:t>
            </a:r>
            <a:r>
              <a:rPr b="1" lang="fr-FR" sz="4000" spc="-1" strike="noStrike">
                <a:solidFill>
                  <a:srgbClr val="ff0000"/>
                </a:solidFill>
                <a:latin typeface="Calibri"/>
              </a:rPr>
              <a:t>et dégager environ 200.000 tonnes supplémentair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texte (3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84978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systèmes de production de riz majeurs en CI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iz irrigué: </a:t>
            </a: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0 % de la production nationale et correspond à 10 % des superficies rizico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iz pluvial: </a:t>
            </a:r>
            <a:r>
              <a:rPr b="0" i="1" lang="fr-FR" sz="3200" spc="-1" strike="noStrike">
                <a:solidFill>
                  <a:srgbClr val="ff0000"/>
                </a:solidFill>
                <a:latin typeface="Calibri"/>
              </a:rPr>
              <a:t>85% des superficies emblavé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Riz de bas-fonds: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5% des superficies emblav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Plus de 42% des riziculteurs sont des femm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ontraintes majeur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3516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productivité du riz local  est faibl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a commercialisation et la transformation du paddy ne sont pas efficientes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s acteurs ne sont pas suffisamment organisés et impliqués dans le développement de la filière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Le riz local n’est pas  suffisamment accessible en qualité et en quantité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touts de la 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24000" y="907920"/>
            <a:ext cx="8496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a Côte d’Ivoire dispose de plusieurs atouts en matière de riziculture pour lui permettre de produire suffisamment de riz en vue de couvrir sa consommation nationale et exporter le surplus éventuel. A savoir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potentiel important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en terres rizicultivables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climat très favorable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avec une pluviométrie abondante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des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 producteurs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au savoir faire non négligeable,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’existence de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variétés à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haut rendement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 ayant de bonne qualité organoleptiques,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l’existence d’un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marché potentiel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7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2700" spc="-1" strike="noStrike">
                <a:solidFill>
                  <a:srgbClr val="ff0000"/>
                </a:solidFill>
                <a:latin typeface="Calibri"/>
              </a:rPr>
              <a:t>environnement économique et institutionnel devenu satisfaisant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2060"/>
                </a:solidFill>
                <a:latin typeface="Arial"/>
                <a:ea typeface="Arial"/>
              </a:rPr>
              <a:t>APRAO: COMPOSANTE C.I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50560" y="1341000"/>
            <a:ext cx="8569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0000"/>
                </a:solidFill>
                <a:uFillTx/>
                <a:latin typeface="Calibri"/>
              </a:rPr>
              <a:t>Objectif Général</a:t>
            </a:r>
            <a:r>
              <a:rPr b="1" lang="fr-FR" sz="4800" spc="-1" strike="noStrike">
                <a:solidFill>
                  <a:srgbClr val="ff0000"/>
                </a:solidFill>
                <a:latin typeface="Calibri"/>
              </a:rPr>
              <a:t>:</a:t>
            </a:r>
            <a:r>
              <a:rPr b="1" lang="fr-FR" sz="4800" spc="-1" strike="noStrike">
                <a:solidFill>
                  <a:srgbClr val="0000cc"/>
                </a:solidFill>
                <a:latin typeface="Calibri"/>
              </a:rPr>
              <a:t> Accroître la production nationale de riz en Côte d’Ivoir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7T19:10:41Z</dcterms:created>
  <dc:creator>Hp</dc:creator>
  <dc:description/>
  <dc:language>en-US</dc:language>
  <cp:lastModifiedBy>TOSHIBA</cp:lastModifiedBy>
  <dcterms:modified xsi:type="dcterms:W3CDTF">2012-05-31T16:50:04Z</dcterms:modified>
  <cp:revision>149</cp:revision>
  <dc:subject/>
  <dc:title>ETAT D’AVANCEMENT DU PROJE APRAO / VOLET CÔTE D’IVOIRE</dc:title>
</cp:coreProperties>
</file>