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2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7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9.jpeg" ContentType="image/jpeg"/>
  <Override PartName="/ppt/media/image12.png" ContentType="image/pn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11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jpeg" ContentType="image/jpe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8E0A-BAF0-412C-BC9D-AD118B5B616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6D31-C603-4211-9E58-84439C47950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EB90-4B64-447B-87AC-980C9684F8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6D97-2E07-4FAF-AE0B-1EC72E035B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DDCE-6423-479F-84E4-DF818A13EC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63A3F-E14D-4AF4-8E75-CA9795CAB59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A480-4869-4A1C-9B9C-EC9F5ED578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7BD21-9AFA-4F1D-B07F-717FBBAAF74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E8734-4519-4DDE-89C3-D511142F6B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09DD8-52DA-45FE-B13C-86C82AF7EB5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4436-583D-419D-9899-7EF92C9B6AB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01CC4-033E-43C0-9B5A-F29FA7A0CA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58FA-C938-4005-B9D3-38FAA5CFA6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C0A4-25BE-45C9-8505-6AF4E4743CA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5F365-F401-4299-B073-A856908CB42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60AC-A8FA-499B-97E0-E5109438A6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5F3D-3CB8-4AAC-A844-C2EEA34F98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0B4F7-7340-49B3-A25F-A8F0562260E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8DEAC-02BC-420D-8140-8892F5486AB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56D08-F173-4B7D-B499-1422B0770BB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3A10-F787-4482-875D-3D523C0AD51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C9C2F-377A-4EEB-86A2-5CF63656980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6BA96-D32D-4B6E-BF03-996EDE79243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BCFE7-7CA6-49CB-8880-87346F6653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A810-48C9-4493-B2B8-7109B6CD538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845D-D321-4B90-9BF6-68E080EF49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18E7-EA61-47B9-8986-5B3A4C9B0A3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E6A44-555E-4A1B-ADB1-A63F8CEBA1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B59F-1576-4FB7-92F2-BB5F79061EE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C20F-F01A-4D14-B804-34BA55441DD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0224-2BA5-4BEE-A4A4-5BD72F5BD6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BE376-440C-4262-90E7-418CFFCE2B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FBD6-62B5-44D6-8176-D2F252F13BD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84B9-FCC7-42B9-960F-80713210427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0F9D-27D8-4F91-9D32-9BDC9040B7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58B36-CC07-43F0-BCAB-4CF7ABCC5C0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F79-E060-419E-930C-F4AA8677336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Espace réservé du numéro de diapositiv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8A50-E7C2-4627-91A8-3EF166C32FA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6807-6B05-42D7-8574-BF587B88549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766F-016F-48B3-988D-A87714FA6BF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3755B-6AA9-4C21-81B3-24FB240FA80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CBE99-3A88-47FB-9520-37EB0AD2BF1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0ADF-50A9-4781-9EBB-A262431CF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E840-9A72-4858-BD50-F87C2ACC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DE2D-EBE1-41F3-9B51-8F7D22ED8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E53E-B292-4D7B-B204-0EB3F1BF7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A068-623D-4850-951F-068F71FAD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3FBEF-1560-47D7-89F7-71AC9D5C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91C0B-A87F-48CF-9A5A-6BCA7E85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97F6E-FFA3-4C78-B8DB-2F1E6D0A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A583-1B74-4FCE-8818-4ABED684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A58B7-B005-4034-87D8-9B990052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95EC-E30B-4B06-85BF-2F5092E1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0E5-DE81-401B-A249-46DBE28B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3F1D-F323-4CE9-8E3F-D20CDD17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177E-1598-4986-87CB-10311BC9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3BC4-374A-4D88-9AE2-3CDA9179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40D3-24D4-4156-B1C9-F2D0F2B3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97FB-63A5-4F57-9675-27DF64329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598A-69BC-4F8A-8A86-DA2E2F9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B96-DABF-432B-BE9D-D47AB3013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936-85EF-451C-8E6F-D721A096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F95A-3649-4CF6-9ECE-157F958E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6A7-CA36-4838-853A-8C60010BF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B586-F17F-4082-AB5E-6465683B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9A2-63BD-485C-9E4A-A27C7EC3A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4889-EAC6-4FD4-B7A2-8D10C7A527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D7D1-DFF2-4808-A856-473021DBD02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-181440" y="2997360"/>
            <a:ext cx="775188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ESULTATS ATTEINTS PAR LE PROJET APRAO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OSANTE DU M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AI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age 1" descr=""/>
          <p:cNvPicPr/>
          <p:nvPr/>
        </p:nvPicPr>
        <p:blipFill>
          <a:blip r:embed="rId1"/>
          <a:srcRect l="-4194" t="0" r="0" b="0"/>
          <a:stretch/>
        </p:blipFill>
        <p:spPr>
          <a:xfrm>
            <a:off x="250920" y="404640"/>
            <a:ext cx="1531800" cy="12240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13320" y="228600"/>
            <a:ext cx="43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Image 1" descr="C:\Users\SOULEYMANE\Downloads\logo_aprao_fr_Touf.png"/>
          <p:cNvPicPr/>
          <p:nvPr/>
        </p:nvPicPr>
        <p:blipFill>
          <a:blip r:embed="rId2"/>
          <a:stretch/>
        </p:blipFill>
        <p:spPr>
          <a:xfrm>
            <a:off x="1979640" y="476280"/>
            <a:ext cx="1584360" cy="1297080"/>
          </a:xfrm>
          <a:prstGeom prst="rect">
            <a:avLst/>
          </a:prstGeom>
          <a:ln w="0">
            <a:noFill/>
          </a:ln>
        </p:spPr>
      </p:pic>
      <p:pic>
        <p:nvPicPr>
          <p:cNvPr id="163" name="Image 11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439640" cy="12240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Image 4" descr=""/>
          <p:cNvPicPr/>
          <p:nvPr/>
        </p:nvPicPr>
        <p:blipFill>
          <a:blip r:embed="rId4"/>
          <a:srcRect l="3525" t="22456" r="7994" b="24673"/>
          <a:stretch/>
        </p:blipFill>
        <p:spPr>
          <a:xfrm>
            <a:off x="5435640" y="404640"/>
            <a:ext cx="1650960" cy="1285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0" descr="Flag_of_Mali"/>
          <p:cNvPicPr/>
          <p:nvPr/>
        </p:nvPicPr>
        <p:blipFill>
          <a:blip r:embed="rId5"/>
          <a:stretch/>
        </p:blipFill>
        <p:spPr>
          <a:xfrm>
            <a:off x="5651640" y="4508640"/>
            <a:ext cx="1143000" cy="857160"/>
          </a:xfrm>
          <a:prstGeom prst="rect">
            <a:avLst/>
          </a:prstGeom>
          <a:ln w="0">
            <a:noFill/>
          </a:ln>
        </p:spPr>
      </p:pic>
      <p:sp>
        <p:nvSpPr>
          <p:cNvPr id="167" name="Espace réservé du numéro de diapositive 1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3CF59-D555-4103-9E65-D8180B5853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813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Stratégies d’intervention  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107172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x des sites: ciblage des interventions, potentiel du site, l’engagement des OP et la possibilité de synergie avec d’autres partenaires techniques.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x des bénéficiaires: OP/interprofession (avec une attention particulière à l’aspect genr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Mode opérationnel de collaboration avec les bénéficiaires: intervention à la demande / le "faire faire«/signature de protocoles d’accord avec des structures techniques dont un point focal par structure et un contrôleur de champs semenciers/ z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5"/>
          <p:cNvSpPr/>
          <p:nvPr/>
        </p:nvSpPr>
        <p:spPr>
          <a:xfrm>
            <a:off x="324000" y="836640"/>
            <a:ext cx="739116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16720" y="44280"/>
            <a:ext cx="1295280" cy="720720"/>
          </a:xfrm>
          <a:prstGeom prst="rect">
            <a:avLst/>
          </a:prstGeom>
          <a:ln w="0">
            <a:noFill/>
          </a:ln>
        </p:spPr>
      </p:pic>
      <p:sp>
        <p:nvSpPr>
          <p:cNvPr id="21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62AD-A8A4-49FE-BEA0-0D95A5525B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813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Stratégies d’intervention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2364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hoix des partenaires: structures/OP intervenant dans la filière riz et répondant aux critères d’un partenariat dit « gagnant – gagnant » et dynamique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Gestion des partenariats: définition des actions précises à développer par rapport à chaque maillon de la chaîne de valeur du riz. (qui fait quo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324000" y="836640"/>
            <a:ext cx="739116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804000" y="117360"/>
            <a:ext cx="1081080" cy="719280"/>
          </a:xfrm>
          <a:prstGeom prst="rect">
            <a:avLst/>
          </a:prstGeom>
          <a:ln w="0">
            <a:noFill/>
          </a:ln>
        </p:spPr>
      </p:pic>
      <p:sp>
        <p:nvSpPr>
          <p:cNvPr id="22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2F4E-828E-4122-BB25-B80F80F738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813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Stratégies d’intervention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23640" y="1341360"/>
            <a:ext cx="856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loitation des synergi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RAO/ARPASO/PROSA pour la mini rizerie à Sa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AAPP/PDRN/APRAO pour l’augmentation de la production du riz dans le secteur de Kit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RS/PDRIK/APRAO pour la réhabilitation de deux bas-fonds à K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xploitation de la chaîne des valeurs du riz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à disposition d'infrastructures, d’équipements et d’intrants aux OP sous forme revolving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éveloppement  d’un mécanisme de gestion durable des infrastructures, équipements et intrants agricoles avec les 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duction d’un bulletin d’information sur les semences de riz à pérenni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Oval 5"/>
          <p:cNvSpPr/>
          <p:nvPr/>
        </p:nvSpPr>
        <p:spPr>
          <a:xfrm>
            <a:off x="324000" y="836640"/>
            <a:ext cx="739116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804000" y="117360"/>
            <a:ext cx="1081080" cy="719280"/>
          </a:xfrm>
          <a:prstGeom prst="rect">
            <a:avLst/>
          </a:prstGeom>
          <a:ln w="0">
            <a:noFill/>
          </a:ln>
        </p:spPr>
      </p:pic>
      <p:sp>
        <p:nvSpPr>
          <p:cNvPr id="22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88F7-CC4B-46C0-A664-BF935804F5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813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Stratégies d’intervention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 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3640" y="1125000"/>
            <a:ext cx="8569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ivi et appui techniques des activité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ités de gestion des OP, facilitateurs CEP, contrôleurs des champs semenciers et les points focaux des structures partenai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montées mensuelle à la coordination technique nationale les rapport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missions d’appui-conseils et de suivi de l’équipe du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viennent renforcer  ce disposit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pitalisation des résultats du projet APRAO par un consultant 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Oval 5"/>
          <p:cNvSpPr/>
          <p:nvPr/>
        </p:nvSpPr>
        <p:spPr>
          <a:xfrm>
            <a:off x="324000" y="836640"/>
            <a:ext cx="739116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804000" y="189000"/>
            <a:ext cx="1081080" cy="576000"/>
          </a:xfrm>
          <a:prstGeom prst="rect">
            <a:avLst/>
          </a:prstGeom>
          <a:ln w="0">
            <a:noFill/>
          </a:ln>
        </p:spPr>
      </p:pic>
      <p:sp>
        <p:nvSpPr>
          <p:cNvPr id="23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3438-6CCE-412B-BE2A-D443CA0BE6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813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Stratégies d’intervention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 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250920" y="1125000"/>
            <a:ext cx="864216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eractions avec la Coordination Régionale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atelier de lancement du projet tenu le 22 avril 2011 à Bamak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sion d’appui opérationnel de M. Kouamé Miezan Coordinateur Régional du projet APRAO, du 04 au 17 décem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sion d‘appui technique de M. Koffi Honouga de l’unité des Opérations du Bureau Régional de la FAO à Accra, du 20 au 23 décembre 2011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à disposition de 199 plaquettes (dépliants) et de 149 posters au bénéfice des acteurs de la filière riz au Mali (action fortement appréciée par les bénéficiaires)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5"/>
          <p:cNvSpPr/>
          <p:nvPr/>
        </p:nvSpPr>
        <p:spPr>
          <a:xfrm>
            <a:off x="324000" y="836640"/>
            <a:ext cx="739116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804000" y="189000"/>
            <a:ext cx="1081080" cy="576000"/>
          </a:xfrm>
          <a:prstGeom prst="rect">
            <a:avLst/>
          </a:prstGeom>
          <a:ln w="0">
            <a:noFill/>
          </a:ln>
        </p:spPr>
      </p:pic>
      <p:sp>
        <p:nvSpPr>
          <p:cNvPr id="23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AB832-5542-491E-A023-29D645B8E8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058"/>
          <p:cNvGrpSpPr/>
          <p:nvPr/>
        </p:nvGrpSpPr>
        <p:grpSpPr>
          <a:xfrm>
            <a:off x="0" y="260280"/>
            <a:ext cx="8789760" cy="6357600"/>
            <a:chOff x="0" y="260280"/>
            <a:chExt cx="8789760" cy="6357600"/>
          </a:xfrm>
        </p:grpSpPr>
        <p:sp>
          <p:nvSpPr>
            <p:cNvPr id="237" name="AutoShape 1059"/>
            <p:cNvSpPr/>
            <p:nvPr/>
          </p:nvSpPr>
          <p:spPr>
            <a:xfrm>
              <a:off x="102600" y="260280"/>
              <a:ext cx="8687160" cy="57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" name="Group 1060"/>
            <p:cNvGrpSpPr/>
            <p:nvPr/>
          </p:nvGrpSpPr>
          <p:grpSpPr>
            <a:xfrm>
              <a:off x="0" y="524520"/>
              <a:ext cx="8583840" cy="5482800"/>
              <a:chOff x="0" y="524520"/>
              <a:chExt cx="8583840" cy="5482800"/>
            </a:xfrm>
          </p:grpSpPr>
          <p:sp>
            <p:nvSpPr>
              <p:cNvPr id="239" name="Freeform 1061"/>
              <p:cNvSpPr/>
              <p:nvPr/>
            </p:nvSpPr>
            <p:spPr>
              <a:xfrm>
                <a:off x="1487160" y="2297520"/>
                <a:ext cx="2160" cy="64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4" h="10">
                    <a:moveTo>
                      <a:pt x="4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4" y="5"/>
                    </a:lnTo>
                    <a:lnTo>
                      <a:pt x="0" y="10"/>
                    </a:lnTo>
                    <a:lnTo>
                      <a:pt x="4" y="10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1062"/>
              <p:cNvSpPr/>
              <p:nvPr/>
            </p:nvSpPr>
            <p:spPr>
              <a:xfrm>
                <a:off x="1484280" y="2278800"/>
                <a:ext cx="27360" cy="21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7" h="33">
                    <a:moveTo>
                      <a:pt x="42" y="0"/>
                    </a:moveTo>
                    <a:lnTo>
                      <a:pt x="47" y="4"/>
                    </a:lnTo>
                    <a:lnTo>
                      <a:pt x="9" y="33"/>
                    </a:lnTo>
                    <a:lnTo>
                      <a:pt x="0" y="28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1063"/>
              <p:cNvSpPr/>
              <p:nvPr/>
            </p:nvSpPr>
            <p:spPr>
              <a:xfrm>
                <a:off x="1519920" y="22629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5"/>
                    </a:moveTo>
                    <a:lnTo>
                      <a:pt x="10" y="0"/>
                    </a:lnTo>
                    <a:lnTo>
                      <a:pt x="0" y="5"/>
                    </a:lnTo>
                    <a:lnTo>
                      <a:pt x="10" y="1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1064"/>
              <p:cNvSpPr/>
              <p:nvPr/>
            </p:nvSpPr>
            <p:spPr>
              <a:xfrm>
                <a:off x="1523160" y="2238120"/>
                <a:ext cx="16200" cy="280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28" h="43">
                    <a:moveTo>
                      <a:pt x="19" y="0"/>
                    </a:moveTo>
                    <a:lnTo>
                      <a:pt x="28" y="5"/>
                    </a:lnTo>
                    <a:lnTo>
                      <a:pt x="9" y="43"/>
                    </a:lnTo>
                    <a:lnTo>
                      <a:pt x="0" y="38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1065"/>
              <p:cNvSpPr/>
              <p:nvPr/>
            </p:nvSpPr>
            <p:spPr>
              <a:xfrm>
                <a:off x="1542240" y="2207520"/>
                <a:ext cx="10800" cy="18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19" h="29">
                    <a:moveTo>
                      <a:pt x="14" y="0"/>
                    </a:moveTo>
                    <a:lnTo>
                      <a:pt x="9" y="0"/>
                    </a:lnTo>
                    <a:lnTo>
                      <a:pt x="0" y="24"/>
                    </a:lnTo>
                    <a:lnTo>
                      <a:pt x="9" y="29"/>
                    </a:lnTo>
                    <a:lnTo>
                      <a:pt x="19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1066"/>
              <p:cNvSpPr/>
              <p:nvPr/>
            </p:nvSpPr>
            <p:spPr>
              <a:xfrm>
                <a:off x="1550520" y="21949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4" y="0"/>
                    </a:moveTo>
                    <a:lnTo>
                      <a:pt x="24" y="5"/>
                    </a:lnTo>
                    <a:lnTo>
                      <a:pt x="5" y="24"/>
                    </a:lnTo>
                    <a:lnTo>
                      <a:pt x="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1067"/>
              <p:cNvSpPr/>
              <p:nvPr/>
            </p:nvSpPr>
            <p:spPr>
              <a:xfrm>
                <a:off x="1569960" y="2154960"/>
                <a:ext cx="25200" cy="2736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33" y="0"/>
                    </a:moveTo>
                    <a:lnTo>
                      <a:pt x="29" y="9"/>
                    </a:lnTo>
                    <a:lnTo>
                      <a:pt x="0" y="38"/>
                    </a:lnTo>
                    <a:lnTo>
                      <a:pt x="10" y="42"/>
                    </a:lnTo>
                    <a:lnTo>
                      <a:pt x="33" y="14"/>
                    </a:lnTo>
                    <a:lnTo>
                      <a:pt x="43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Freeform 1068"/>
              <p:cNvSpPr/>
              <p:nvPr/>
            </p:nvSpPr>
            <p:spPr>
              <a:xfrm>
                <a:off x="1600200" y="2114640"/>
                <a:ext cx="21960" cy="30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8" h="47">
                    <a:moveTo>
                      <a:pt x="33" y="0"/>
                    </a:moveTo>
                    <a:lnTo>
                      <a:pt x="19" y="18"/>
                    </a:lnTo>
                    <a:lnTo>
                      <a:pt x="0" y="37"/>
                    </a:lnTo>
                    <a:lnTo>
                      <a:pt x="10" y="47"/>
                    </a:lnTo>
                    <a:lnTo>
                      <a:pt x="24" y="23"/>
                    </a:lnTo>
                    <a:lnTo>
                      <a:pt x="38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Freeform 1069"/>
              <p:cNvSpPr/>
              <p:nvPr/>
            </p:nvSpPr>
            <p:spPr>
              <a:xfrm>
                <a:off x="1304640" y="4407840"/>
                <a:ext cx="5040" cy="338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9" h="52">
                    <a:moveTo>
                      <a:pt x="0" y="0"/>
                    </a:moveTo>
                    <a:lnTo>
                      <a:pt x="0" y="5"/>
                    </a:lnTo>
                    <a:lnTo>
                      <a:pt x="0" y="52"/>
                    </a:lnTo>
                    <a:lnTo>
                      <a:pt x="9" y="52"/>
                    </a:lnTo>
                    <a:lnTo>
                      <a:pt x="9" y="10"/>
                    </a:lnTo>
                    <a:lnTo>
                      <a:pt x="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070"/>
              <p:cNvSpPr/>
              <p:nvPr/>
            </p:nvSpPr>
            <p:spPr>
              <a:xfrm>
                <a:off x="1309680" y="4358520"/>
                <a:ext cx="10800" cy="306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9" h="47">
                    <a:moveTo>
                      <a:pt x="10" y="0"/>
                    </a:moveTo>
                    <a:lnTo>
                      <a:pt x="5" y="23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5" y="23"/>
                    </a:lnTo>
                    <a:lnTo>
                      <a:pt x="19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071"/>
              <p:cNvSpPr/>
              <p:nvPr/>
            </p:nvSpPr>
            <p:spPr>
              <a:xfrm>
                <a:off x="1318680" y="4308480"/>
                <a:ext cx="13320" cy="30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47">
                    <a:moveTo>
                      <a:pt x="14" y="0"/>
                    </a:moveTo>
                    <a:lnTo>
                      <a:pt x="9" y="29"/>
                    </a:lnTo>
                    <a:lnTo>
                      <a:pt x="0" y="47"/>
                    </a:lnTo>
                    <a:lnTo>
                      <a:pt x="9" y="47"/>
                    </a:lnTo>
                    <a:lnTo>
                      <a:pt x="18" y="29"/>
                    </a:lnTo>
                    <a:lnTo>
                      <a:pt x="23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072"/>
              <p:cNvSpPr/>
              <p:nvPr/>
            </p:nvSpPr>
            <p:spPr>
              <a:xfrm>
                <a:off x="1332000" y="4259520"/>
                <a:ext cx="16920" cy="306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9" h="47">
                    <a:moveTo>
                      <a:pt x="19" y="0"/>
                    </a:moveTo>
                    <a:lnTo>
                      <a:pt x="10" y="23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9" y="28"/>
                    </a:lnTo>
                    <a:lnTo>
                      <a:pt x="2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Freeform 1073"/>
              <p:cNvSpPr/>
              <p:nvPr/>
            </p:nvSpPr>
            <p:spPr>
              <a:xfrm>
                <a:off x="1348920" y="4209480"/>
                <a:ext cx="13320" cy="33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3" h="52">
                    <a:moveTo>
                      <a:pt x="14" y="0"/>
                    </a:moveTo>
                    <a:lnTo>
                      <a:pt x="9" y="24"/>
                    </a:lnTo>
                    <a:lnTo>
                      <a:pt x="0" y="47"/>
                    </a:lnTo>
                    <a:lnTo>
                      <a:pt x="9" y="52"/>
                    </a:lnTo>
                    <a:lnTo>
                      <a:pt x="14" y="24"/>
                    </a:lnTo>
                    <a:lnTo>
                      <a:pt x="23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Freeform 1074"/>
              <p:cNvSpPr/>
              <p:nvPr/>
            </p:nvSpPr>
            <p:spPr>
              <a:xfrm>
                <a:off x="1365480" y="4162680"/>
                <a:ext cx="16200" cy="313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28" h="48">
                    <a:moveTo>
                      <a:pt x="19" y="0"/>
                    </a:moveTo>
                    <a:lnTo>
                      <a:pt x="9" y="19"/>
                    </a:lnTo>
                    <a:lnTo>
                      <a:pt x="0" y="43"/>
                    </a:lnTo>
                    <a:lnTo>
                      <a:pt x="9" y="48"/>
                    </a:lnTo>
                    <a:lnTo>
                      <a:pt x="19" y="24"/>
                    </a:lnTo>
                    <a:lnTo>
                      <a:pt x="28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Freeform 1075"/>
              <p:cNvSpPr/>
              <p:nvPr/>
            </p:nvSpPr>
            <p:spPr>
              <a:xfrm>
                <a:off x="1382040" y="4116960"/>
                <a:ext cx="19080" cy="30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3" h="47">
                    <a:moveTo>
                      <a:pt x="24" y="0"/>
                    </a:moveTo>
                    <a:lnTo>
                      <a:pt x="10" y="23"/>
                    </a:lnTo>
                    <a:lnTo>
                      <a:pt x="0" y="42"/>
                    </a:lnTo>
                    <a:lnTo>
                      <a:pt x="10" y="47"/>
                    </a:lnTo>
                    <a:lnTo>
                      <a:pt x="19" y="28"/>
                    </a:lnTo>
                    <a:lnTo>
                      <a:pt x="33" y="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Freeform 1076"/>
              <p:cNvSpPr/>
              <p:nvPr/>
            </p:nvSpPr>
            <p:spPr>
              <a:xfrm>
                <a:off x="1398960" y="4066920"/>
                <a:ext cx="7920" cy="33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52">
                    <a:moveTo>
                      <a:pt x="0" y="0"/>
                    </a:moveTo>
                    <a:lnTo>
                      <a:pt x="9" y="0"/>
                    </a:lnTo>
                    <a:lnTo>
                      <a:pt x="14" y="47"/>
                    </a:lnTo>
                    <a:lnTo>
                      <a:pt x="4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Freeform 1077"/>
              <p:cNvSpPr/>
              <p:nvPr/>
            </p:nvSpPr>
            <p:spPr>
              <a:xfrm>
                <a:off x="1398960" y="4014360"/>
                <a:ext cx="7920" cy="33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52">
                    <a:moveTo>
                      <a:pt x="4" y="0"/>
                    </a:moveTo>
                    <a:lnTo>
                      <a:pt x="0" y="23"/>
                    </a:lnTo>
                    <a:lnTo>
                      <a:pt x="0" y="52"/>
                    </a:lnTo>
                    <a:lnTo>
                      <a:pt x="9" y="52"/>
                    </a:lnTo>
                    <a:lnTo>
                      <a:pt x="9" y="23"/>
                    </a:lnTo>
                    <a:lnTo>
                      <a:pt x="14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Freeform 1078"/>
              <p:cNvSpPr/>
              <p:nvPr/>
            </p:nvSpPr>
            <p:spPr>
              <a:xfrm>
                <a:off x="1404000" y="3964680"/>
                <a:ext cx="14040" cy="33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4" h="52">
                    <a:moveTo>
                      <a:pt x="14" y="0"/>
                    </a:moveTo>
                    <a:lnTo>
                      <a:pt x="24" y="0"/>
                    </a:lnTo>
                    <a:lnTo>
                      <a:pt x="14" y="52"/>
                    </a:lnTo>
                    <a:lnTo>
                      <a:pt x="0" y="48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Freeform 1079"/>
              <p:cNvSpPr/>
              <p:nvPr/>
            </p:nvSpPr>
            <p:spPr>
              <a:xfrm>
                <a:off x="1396080" y="395532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5"/>
                    </a:moveTo>
                    <a:lnTo>
                      <a:pt x="5" y="10"/>
                    </a:lnTo>
                    <a:lnTo>
                      <a:pt x="14" y="10"/>
                    </a:lnTo>
                    <a:lnTo>
                      <a:pt x="14" y="0"/>
                    </a:lnTo>
                    <a:lnTo>
                      <a:pt x="5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Rectangle 1080"/>
              <p:cNvSpPr/>
              <p:nvPr/>
            </p:nvSpPr>
            <p:spPr>
              <a:xfrm>
                <a:off x="1396080" y="3933720"/>
                <a:ext cx="5040" cy="248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081"/>
              <p:cNvSpPr/>
              <p:nvPr/>
            </p:nvSpPr>
            <p:spPr>
              <a:xfrm>
                <a:off x="1396080" y="3884400"/>
                <a:ext cx="5040" cy="3060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Freeform 1082"/>
              <p:cNvSpPr/>
              <p:nvPr/>
            </p:nvSpPr>
            <p:spPr>
              <a:xfrm>
                <a:off x="1370880" y="386532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5"/>
                    </a:moveTo>
                    <a:lnTo>
                      <a:pt x="0" y="10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1083"/>
              <p:cNvSpPr/>
              <p:nvPr/>
            </p:nvSpPr>
            <p:spPr>
              <a:xfrm>
                <a:off x="1368360" y="3850200"/>
                <a:ext cx="7920" cy="18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4" h="28">
                    <a:moveTo>
                      <a:pt x="0" y="0"/>
                    </a:moveTo>
                    <a:lnTo>
                      <a:pt x="9" y="0"/>
                    </a:lnTo>
                    <a:lnTo>
                      <a:pt x="14" y="28"/>
                    </a:lnTo>
                    <a:lnTo>
                      <a:pt x="4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1084"/>
              <p:cNvSpPr/>
              <p:nvPr/>
            </p:nvSpPr>
            <p:spPr>
              <a:xfrm>
                <a:off x="1362600" y="3797280"/>
                <a:ext cx="7920" cy="338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4" h="52">
                    <a:moveTo>
                      <a:pt x="0" y="0"/>
                    </a:moveTo>
                    <a:lnTo>
                      <a:pt x="5" y="48"/>
                    </a:lnTo>
                    <a:lnTo>
                      <a:pt x="5" y="52"/>
                    </a:lnTo>
                    <a:lnTo>
                      <a:pt x="14" y="52"/>
                    </a:lnTo>
                    <a:lnTo>
                      <a:pt x="14" y="48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1085"/>
              <p:cNvSpPr/>
              <p:nvPr/>
            </p:nvSpPr>
            <p:spPr>
              <a:xfrm>
                <a:off x="1370880" y="3763800"/>
                <a:ext cx="28080" cy="2124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8" h="33">
                    <a:moveTo>
                      <a:pt x="43" y="0"/>
                    </a:moveTo>
                    <a:lnTo>
                      <a:pt x="19" y="14"/>
                    </a:lnTo>
                    <a:lnTo>
                      <a:pt x="0" y="23"/>
                    </a:lnTo>
                    <a:lnTo>
                      <a:pt x="5" y="33"/>
                    </a:lnTo>
                    <a:lnTo>
                      <a:pt x="24" y="18"/>
                    </a:lnTo>
                    <a:lnTo>
                      <a:pt x="48" y="9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1086"/>
              <p:cNvSpPr/>
              <p:nvPr/>
            </p:nvSpPr>
            <p:spPr>
              <a:xfrm>
                <a:off x="1409400" y="3738600"/>
                <a:ext cx="30240" cy="21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48" y="0"/>
                    </a:moveTo>
                    <a:lnTo>
                      <a:pt x="52" y="9"/>
                    </a:lnTo>
                    <a:lnTo>
                      <a:pt x="5" y="33"/>
                    </a:lnTo>
                    <a:lnTo>
                      <a:pt x="0" y="23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Freeform 1087"/>
              <p:cNvSpPr/>
              <p:nvPr/>
            </p:nvSpPr>
            <p:spPr>
              <a:xfrm>
                <a:off x="1431720" y="3688560"/>
                <a:ext cx="7920" cy="306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4" h="47">
                    <a:moveTo>
                      <a:pt x="0" y="0"/>
                    </a:moveTo>
                    <a:lnTo>
                      <a:pt x="5" y="5"/>
                    </a:lnTo>
                    <a:lnTo>
                      <a:pt x="5" y="43"/>
                    </a:lnTo>
                    <a:lnTo>
                      <a:pt x="5" y="47"/>
                    </a:lnTo>
                    <a:lnTo>
                      <a:pt x="14" y="47"/>
                    </a:lnTo>
                    <a:lnTo>
                      <a:pt x="14" y="43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Freeform 1088"/>
              <p:cNvSpPr/>
              <p:nvPr/>
            </p:nvSpPr>
            <p:spPr>
              <a:xfrm>
                <a:off x="1423440" y="3636000"/>
                <a:ext cx="14040" cy="33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4" h="52">
                    <a:moveTo>
                      <a:pt x="0" y="5"/>
                    </a:moveTo>
                    <a:lnTo>
                      <a:pt x="9" y="43"/>
                    </a:lnTo>
                    <a:lnTo>
                      <a:pt x="14" y="52"/>
                    </a:lnTo>
                    <a:lnTo>
                      <a:pt x="24" y="52"/>
                    </a:lnTo>
                    <a:lnTo>
                      <a:pt x="19" y="38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1089"/>
              <p:cNvSpPr/>
              <p:nvPr/>
            </p:nvSpPr>
            <p:spPr>
              <a:xfrm>
                <a:off x="1431720" y="3596040"/>
                <a:ext cx="24840" cy="27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33" y="0"/>
                    </a:moveTo>
                    <a:lnTo>
                      <a:pt x="33" y="0"/>
                    </a:lnTo>
                    <a:lnTo>
                      <a:pt x="0" y="37"/>
                    </a:lnTo>
                    <a:lnTo>
                      <a:pt x="10" y="42"/>
                    </a:lnTo>
                    <a:lnTo>
                      <a:pt x="38" y="9"/>
                    </a:lnTo>
                    <a:lnTo>
                      <a:pt x="43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1090"/>
              <p:cNvSpPr/>
              <p:nvPr/>
            </p:nvSpPr>
            <p:spPr>
              <a:xfrm>
                <a:off x="1461960" y="3558600"/>
                <a:ext cx="25200" cy="2808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3" h="43">
                    <a:moveTo>
                      <a:pt x="33" y="0"/>
                    </a:moveTo>
                    <a:lnTo>
                      <a:pt x="28" y="5"/>
                    </a:lnTo>
                    <a:lnTo>
                      <a:pt x="0" y="38"/>
                    </a:lnTo>
                    <a:lnTo>
                      <a:pt x="10" y="43"/>
                    </a:lnTo>
                    <a:lnTo>
                      <a:pt x="33" y="14"/>
                    </a:lnTo>
                    <a:lnTo>
                      <a:pt x="43" y="5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091"/>
              <p:cNvSpPr/>
              <p:nvPr/>
            </p:nvSpPr>
            <p:spPr>
              <a:xfrm>
                <a:off x="1492560" y="3518640"/>
                <a:ext cx="25200" cy="3060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43" h="47">
                    <a:moveTo>
                      <a:pt x="33" y="0"/>
                    </a:moveTo>
                    <a:lnTo>
                      <a:pt x="24" y="14"/>
                    </a:lnTo>
                    <a:lnTo>
                      <a:pt x="0" y="37"/>
                    </a:lnTo>
                    <a:lnTo>
                      <a:pt x="9" y="47"/>
                    </a:lnTo>
                    <a:lnTo>
                      <a:pt x="28" y="23"/>
                    </a:lnTo>
                    <a:lnTo>
                      <a:pt x="43" y="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Freeform 1092"/>
              <p:cNvSpPr/>
              <p:nvPr/>
            </p:nvSpPr>
            <p:spPr>
              <a:xfrm>
                <a:off x="1526040" y="349380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4" y="0"/>
                    </a:moveTo>
                    <a:lnTo>
                      <a:pt x="14" y="0"/>
                    </a:lnTo>
                    <a:lnTo>
                      <a:pt x="0" y="19"/>
                    </a:lnTo>
                    <a:lnTo>
                      <a:pt x="4" y="24"/>
                    </a:lnTo>
                    <a:lnTo>
                      <a:pt x="19" y="9"/>
                    </a:lnTo>
                    <a:lnTo>
                      <a:pt x="1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093"/>
              <p:cNvSpPr/>
              <p:nvPr/>
            </p:nvSpPr>
            <p:spPr>
              <a:xfrm>
                <a:off x="1533960" y="3493800"/>
                <a:ext cx="16200" cy="57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28" h="9">
                    <a:moveTo>
                      <a:pt x="28" y="0"/>
                    </a:moveTo>
                    <a:lnTo>
                      <a:pt x="28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28" y="9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094"/>
              <p:cNvSpPr/>
              <p:nvPr/>
            </p:nvSpPr>
            <p:spPr>
              <a:xfrm>
                <a:off x="1567440" y="3484440"/>
                <a:ext cx="29880" cy="122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1" h="19">
                    <a:moveTo>
                      <a:pt x="47" y="0"/>
                    </a:moveTo>
                    <a:lnTo>
                      <a:pt x="33" y="4"/>
                    </a:lnTo>
                    <a:lnTo>
                      <a:pt x="0" y="9"/>
                    </a:lnTo>
                    <a:lnTo>
                      <a:pt x="4" y="19"/>
                    </a:lnTo>
                    <a:lnTo>
                      <a:pt x="37" y="14"/>
                    </a:lnTo>
                    <a:lnTo>
                      <a:pt x="51" y="9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095"/>
              <p:cNvSpPr/>
              <p:nvPr/>
            </p:nvSpPr>
            <p:spPr>
              <a:xfrm>
                <a:off x="1611360" y="3453480"/>
                <a:ext cx="21960" cy="27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28" y="0"/>
                    </a:moveTo>
                    <a:lnTo>
                      <a:pt x="28" y="4"/>
                    </a:lnTo>
                    <a:lnTo>
                      <a:pt x="24" y="14"/>
                    </a:lnTo>
                    <a:lnTo>
                      <a:pt x="14" y="23"/>
                    </a:lnTo>
                    <a:lnTo>
                      <a:pt x="0" y="33"/>
                    </a:lnTo>
                    <a:lnTo>
                      <a:pt x="5" y="42"/>
                    </a:lnTo>
                    <a:lnTo>
                      <a:pt x="9" y="42"/>
                    </a:lnTo>
                    <a:lnTo>
                      <a:pt x="19" y="33"/>
                    </a:lnTo>
                    <a:lnTo>
                      <a:pt x="28" y="18"/>
                    </a:lnTo>
                    <a:lnTo>
                      <a:pt x="38" y="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1096"/>
              <p:cNvSpPr/>
              <p:nvPr/>
            </p:nvSpPr>
            <p:spPr>
              <a:xfrm>
                <a:off x="1622520" y="3407040"/>
                <a:ext cx="14040" cy="30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4" h="47">
                    <a:moveTo>
                      <a:pt x="5" y="9"/>
                    </a:moveTo>
                    <a:lnTo>
                      <a:pt x="0" y="4"/>
                    </a:lnTo>
                    <a:lnTo>
                      <a:pt x="9" y="23"/>
                    </a:lnTo>
                    <a:lnTo>
                      <a:pt x="14" y="42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19" y="23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1097"/>
              <p:cNvSpPr/>
              <p:nvPr/>
            </p:nvSpPr>
            <p:spPr>
              <a:xfrm>
                <a:off x="1622520" y="3403800"/>
                <a:ext cx="2880" cy="900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5" h="14">
                    <a:moveTo>
                      <a:pt x="0" y="9"/>
                    </a:moveTo>
                    <a:lnTo>
                      <a:pt x="0" y="0"/>
                    </a:lnTo>
                    <a:lnTo>
                      <a:pt x="5" y="5"/>
                    </a:lnTo>
                    <a:lnTo>
                      <a:pt x="5" y="14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Freeform 1098"/>
              <p:cNvSpPr/>
              <p:nvPr/>
            </p:nvSpPr>
            <p:spPr>
              <a:xfrm>
                <a:off x="1577880" y="3397680"/>
                <a:ext cx="28080" cy="900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48" h="14">
                    <a:moveTo>
                      <a:pt x="0" y="9"/>
                    </a:moveTo>
                    <a:lnTo>
                      <a:pt x="33" y="14"/>
                    </a:lnTo>
                    <a:lnTo>
                      <a:pt x="48" y="14"/>
                    </a:lnTo>
                    <a:lnTo>
                      <a:pt x="48" y="4"/>
                    </a:lnTo>
                    <a:lnTo>
                      <a:pt x="33" y="4"/>
                    </a:lnTo>
                    <a:lnTo>
                      <a:pt x="0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Freeform 1099"/>
              <p:cNvSpPr/>
              <p:nvPr/>
            </p:nvSpPr>
            <p:spPr>
              <a:xfrm>
                <a:off x="1569960" y="3351240"/>
                <a:ext cx="7920" cy="342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14" h="52">
                    <a:moveTo>
                      <a:pt x="5" y="5"/>
                    </a:moveTo>
                    <a:lnTo>
                      <a:pt x="5" y="19"/>
                    </a:lnTo>
                    <a:lnTo>
                      <a:pt x="5" y="42"/>
                    </a:lnTo>
                    <a:lnTo>
                      <a:pt x="0" y="52"/>
                    </a:lnTo>
                    <a:lnTo>
                      <a:pt x="10" y="52"/>
                    </a:lnTo>
                    <a:lnTo>
                      <a:pt x="14" y="42"/>
                    </a:lnTo>
                    <a:lnTo>
                      <a:pt x="14" y="19"/>
                    </a:lnTo>
                    <a:lnTo>
                      <a:pt x="14" y="0"/>
                    </a:lnTo>
                    <a:lnTo>
                      <a:pt x="5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Freeform 1100"/>
              <p:cNvSpPr/>
              <p:nvPr/>
            </p:nvSpPr>
            <p:spPr>
              <a:xfrm>
                <a:off x="1553400" y="3304440"/>
                <a:ext cx="19080" cy="306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3" h="47">
                    <a:moveTo>
                      <a:pt x="0" y="9"/>
                    </a:moveTo>
                    <a:lnTo>
                      <a:pt x="0" y="9"/>
                    </a:lnTo>
                    <a:lnTo>
                      <a:pt x="14" y="24"/>
                    </a:lnTo>
                    <a:lnTo>
                      <a:pt x="24" y="42"/>
                    </a:lnTo>
                    <a:lnTo>
                      <a:pt x="24" y="47"/>
                    </a:lnTo>
                    <a:lnTo>
                      <a:pt x="33" y="42"/>
                    </a:lnTo>
                    <a:lnTo>
                      <a:pt x="33" y="38"/>
                    </a:lnTo>
                    <a:lnTo>
                      <a:pt x="24" y="19"/>
                    </a:lnTo>
                    <a:lnTo>
                      <a:pt x="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Freeform 1101"/>
              <p:cNvSpPr/>
              <p:nvPr/>
            </p:nvSpPr>
            <p:spPr>
              <a:xfrm>
                <a:off x="1523160" y="3288600"/>
                <a:ext cx="19080" cy="12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0" y="5"/>
                    </a:moveTo>
                    <a:lnTo>
                      <a:pt x="5" y="10"/>
                    </a:lnTo>
                    <a:lnTo>
                      <a:pt x="28" y="19"/>
                    </a:lnTo>
                    <a:lnTo>
                      <a:pt x="33" y="10"/>
                    </a:lnTo>
                    <a:lnTo>
                      <a:pt x="5" y="0"/>
                    </a:lnTo>
                    <a:lnTo>
                      <a:pt x="9" y="5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5" y="1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102"/>
              <p:cNvSpPr/>
              <p:nvPr/>
            </p:nvSpPr>
            <p:spPr>
              <a:xfrm>
                <a:off x="1523160" y="3277080"/>
                <a:ext cx="5040" cy="1476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1103"/>
              <p:cNvSpPr/>
              <p:nvPr/>
            </p:nvSpPr>
            <p:spPr>
              <a:xfrm>
                <a:off x="1514880" y="3223800"/>
                <a:ext cx="10800" cy="338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9" h="52">
                    <a:moveTo>
                      <a:pt x="0" y="0"/>
                    </a:moveTo>
                    <a:lnTo>
                      <a:pt x="5" y="29"/>
                    </a:lnTo>
                    <a:lnTo>
                      <a:pt x="9" y="52"/>
                    </a:lnTo>
                    <a:lnTo>
                      <a:pt x="19" y="48"/>
                    </a:lnTo>
                    <a:lnTo>
                      <a:pt x="19" y="24"/>
                    </a:lnTo>
                    <a:lnTo>
                      <a:pt x="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104"/>
              <p:cNvSpPr/>
              <p:nvPr/>
            </p:nvSpPr>
            <p:spPr>
              <a:xfrm>
                <a:off x="1503720" y="3174480"/>
                <a:ext cx="14040" cy="338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24" h="52">
                    <a:moveTo>
                      <a:pt x="0" y="5"/>
                    </a:moveTo>
                    <a:lnTo>
                      <a:pt x="9" y="38"/>
                    </a:lnTo>
                    <a:lnTo>
                      <a:pt x="14" y="52"/>
                    </a:lnTo>
                    <a:lnTo>
                      <a:pt x="24" y="47"/>
                    </a:lnTo>
                    <a:lnTo>
                      <a:pt x="19" y="33"/>
                    </a:lnTo>
                    <a:lnTo>
                      <a:pt x="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105"/>
              <p:cNvSpPr/>
              <p:nvPr/>
            </p:nvSpPr>
            <p:spPr>
              <a:xfrm>
                <a:off x="1492560" y="3124800"/>
                <a:ext cx="10800" cy="338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9" h="52">
                    <a:moveTo>
                      <a:pt x="0" y="0"/>
                    </a:moveTo>
                    <a:lnTo>
                      <a:pt x="9" y="0"/>
                    </a:lnTo>
                    <a:lnTo>
                      <a:pt x="19" y="47"/>
                    </a:lnTo>
                    <a:lnTo>
                      <a:pt x="9" y="5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106"/>
              <p:cNvSpPr/>
              <p:nvPr/>
            </p:nvSpPr>
            <p:spPr>
              <a:xfrm>
                <a:off x="1489680" y="3075480"/>
                <a:ext cx="14040" cy="309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24" h="47">
                    <a:moveTo>
                      <a:pt x="19" y="0"/>
                    </a:moveTo>
                    <a:lnTo>
                      <a:pt x="14" y="4"/>
                    </a:lnTo>
                    <a:lnTo>
                      <a:pt x="5" y="28"/>
                    </a:lnTo>
                    <a:lnTo>
                      <a:pt x="0" y="47"/>
                    </a:lnTo>
                    <a:lnTo>
                      <a:pt x="10" y="47"/>
                    </a:lnTo>
                    <a:lnTo>
                      <a:pt x="14" y="33"/>
                    </a:lnTo>
                    <a:lnTo>
                      <a:pt x="19" y="9"/>
                    </a:lnTo>
                    <a:lnTo>
                      <a:pt x="24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107"/>
              <p:cNvSpPr/>
              <p:nvPr/>
            </p:nvSpPr>
            <p:spPr>
              <a:xfrm>
                <a:off x="1512000" y="3038040"/>
                <a:ext cx="24840" cy="2484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3" h="38">
                    <a:moveTo>
                      <a:pt x="38" y="0"/>
                    </a:moveTo>
                    <a:lnTo>
                      <a:pt x="10" y="19"/>
                    </a:lnTo>
                    <a:lnTo>
                      <a:pt x="0" y="33"/>
                    </a:lnTo>
                    <a:lnTo>
                      <a:pt x="5" y="38"/>
                    </a:lnTo>
                    <a:lnTo>
                      <a:pt x="19" y="28"/>
                    </a:lnTo>
                    <a:lnTo>
                      <a:pt x="43" y="1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1108"/>
              <p:cNvSpPr/>
              <p:nvPr/>
            </p:nvSpPr>
            <p:spPr>
              <a:xfrm>
                <a:off x="1550520" y="3012840"/>
                <a:ext cx="27360" cy="216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47" h="33">
                    <a:moveTo>
                      <a:pt x="43" y="0"/>
                    </a:moveTo>
                    <a:lnTo>
                      <a:pt x="14" y="15"/>
                    </a:lnTo>
                    <a:lnTo>
                      <a:pt x="0" y="24"/>
                    </a:lnTo>
                    <a:lnTo>
                      <a:pt x="5" y="33"/>
                    </a:lnTo>
                    <a:lnTo>
                      <a:pt x="19" y="24"/>
                    </a:lnTo>
                    <a:lnTo>
                      <a:pt x="47" y="1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1109"/>
              <p:cNvSpPr/>
              <p:nvPr/>
            </p:nvSpPr>
            <p:spPr>
              <a:xfrm>
                <a:off x="1589040" y="2985480"/>
                <a:ext cx="27360" cy="248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47" h="38">
                    <a:moveTo>
                      <a:pt x="43" y="0"/>
                    </a:moveTo>
                    <a:lnTo>
                      <a:pt x="29" y="9"/>
                    </a:lnTo>
                    <a:lnTo>
                      <a:pt x="0" y="33"/>
                    </a:lnTo>
                    <a:lnTo>
                      <a:pt x="10" y="38"/>
                    </a:lnTo>
                    <a:lnTo>
                      <a:pt x="38" y="19"/>
                    </a:lnTo>
                    <a:lnTo>
                      <a:pt x="47" y="9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1110"/>
              <p:cNvSpPr/>
              <p:nvPr/>
            </p:nvSpPr>
            <p:spPr>
              <a:xfrm>
                <a:off x="1625400" y="2951280"/>
                <a:ext cx="24480" cy="273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2" h="42">
                    <a:moveTo>
                      <a:pt x="37" y="0"/>
                    </a:moveTo>
                    <a:lnTo>
                      <a:pt x="33" y="5"/>
                    </a:lnTo>
                    <a:lnTo>
                      <a:pt x="0" y="38"/>
                    </a:lnTo>
                    <a:lnTo>
                      <a:pt x="9" y="42"/>
                    </a:lnTo>
                    <a:lnTo>
                      <a:pt x="37" y="14"/>
                    </a:lnTo>
                    <a:lnTo>
                      <a:pt x="42" y="5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1111"/>
              <p:cNvSpPr/>
              <p:nvPr/>
            </p:nvSpPr>
            <p:spPr>
              <a:xfrm>
                <a:off x="1656000" y="2926440"/>
                <a:ext cx="10440" cy="122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4" y="0"/>
                    </a:moveTo>
                    <a:lnTo>
                      <a:pt x="14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18" y="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1112"/>
              <p:cNvSpPr/>
              <p:nvPr/>
            </p:nvSpPr>
            <p:spPr>
              <a:xfrm>
                <a:off x="1663920" y="2911320"/>
                <a:ext cx="16200" cy="180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23" y="0"/>
                    </a:moveTo>
                    <a:lnTo>
                      <a:pt x="28" y="9"/>
                    </a:lnTo>
                    <a:lnTo>
                      <a:pt x="4" y="28"/>
                    </a:lnTo>
                    <a:lnTo>
                      <a:pt x="0" y="23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1113"/>
              <p:cNvSpPr/>
              <p:nvPr/>
            </p:nvSpPr>
            <p:spPr>
              <a:xfrm>
                <a:off x="1688760" y="288972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4" y="0"/>
                    </a:moveTo>
                    <a:lnTo>
                      <a:pt x="0" y="14"/>
                    </a:lnTo>
                    <a:lnTo>
                      <a:pt x="10" y="23"/>
                    </a:lnTo>
                    <a:lnTo>
                      <a:pt x="24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6046200" y="5074200"/>
                <a:ext cx="60840" cy="68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47"/>
                    </a:moveTo>
                    <a:lnTo>
                      <a:pt x="0" y="38"/>
                    </a:lnTo>
                    <a:lnTo>
                      <a:pt x="5" y="28"/>
                    </a:lnTo>
                    <a:lnTo>
                      <a:pt x="9" y="19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71" y="5"/>
                    </a:lnTo>
                    <a:lnTo>
                      <a:pt x="80" y="9"/>
                    </a:lnTo>
                    <a:lnTo>
                      <a:pt x="90" y="14"/>
                    </a:lnTo>
                    <a:lnTo>
                      <a:pt x="94" y="19"/>
                    </a:lnTo>
                    <a:lnTo>
                      <a:pt x="99" y="28"/>
                    </a:lnTo>
                    <a:lnTo>
                      <a:pt x="104" y="38"/>
                    </a:lnTo>
                    <a:lnTo>
                      <a:pt x="104" y="47"/>
                    </a:lnTo>
                    <a:lnTo>
                      <a:pt x="104" y="61"/>
                    </a:lnTo>
                    <a:lnTo>
                      <a:pt x="99" y="71"/>
                    </a:lnTo>
                    <a:lnTo>
                      <a:pt x="94" y="80"/>
                    </a:lnTo>
                    <a:lnTo>
                      <a:pt x="90" y="90"/>
                    </a:lnTo>
                    <a:lnTo>
                      <a:pt x="80" y="94"/>
                    </a:lnTo>
                    <a:lnTo>
                      <a:pt x="71" y="99"/>
                    </a:lnTo>
                    <a:lnTo>
                      <a:pt x="61" y="104"/>
                    </a:lnTo>
                    <a:lnTo>
                      <a:pt x="52" y="104"/>
                    </a:lnTo>
                    <a:lnTo>
                      <a:pt x="42" y="104"/>
                    </a:lnTo>
                    <a:lnTo>
                      <a:pt x="33" y="99"/>
                    </a:lnTo>
                    <a:lnTo>
                      <a:pt x="23" y="94"/>
                    </a:lnTo>
                    <a:lnTo>
                      <a:pt x="14" y="90"/>
                    </a:lnTo>
                    <a:lnTo>
                      <a:pt x="9" y="80"/>
                    </a:lnTo>
                    <a:lnTo>
                      <a:pt x="0" y="71"/>
                    </a:lnTo>
                    <a:lnTo>
                      <a:pt x="0" y="61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6046200" y="5074200"/>
                <a:ext cx="60840" cy="68040"/>
              </a:xfrm>
              <a:custGeom>
                <a:avLst/>
                <a:gdLst>
                  <a:gd name="textAreaLeft" fmla="*/ 0 w 60840"/>
                  <a:gd name="textAreaRight" fmla="*/ 61200 w 6084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104" h="104">
                    <a:moveTo>
                      <a:pt x="0" y="47"/>
                    </a:moveTo>
                    <a:lnTo>
                      <a:pt x="0" y="38"/>
                    </a:lnTo>
                    <a:lnTo>
                      <a:pt x="5" y="28"/>
                    </a:lnTo>
                    <a:lnTo>
                      <a:pt x="9" y="19"/>
                    </a:lnTo>
                    <a:lnTo>
                      <a:pt x="14" y="14"/>
                    </a:lnTo>
                    <a:lnTo>
                      <a:pt x="23" y="5"/>
                    </a:lnTo>
                    <a:lnTo>
                      <a:pt x="33" y="5"/>
                    </a:lnTo>
                    <a:lnTo>
                      <a:pt x="42" y="0"/>
                    </a:lnTo>
                    <a:lnTo>
                      <a:pt x="52" y="0"/>
                    </a:lnTo>
                    <a:lnTo>
                      <a:pt x="61" y="0"/>
                    </a:lnTo>
                    <a:lnTo>
                      <a:pt x="71" y="5"/>
                    </a:lnTo>
                    <a:lnTo>
                      <a:pt x="80" y="9"/>
                    </a:lnTo>
                    <a:lnTo>
                      <a:pt x="90" y="14"/>
                    </a:lnTo>
                    <a:lnTo>
                      <a:pt x="94" y="19"/>
                    </a:lnTo>
                    <a:lnTo>
                      <a:pt x="99" y="28"/>
                    </a:lnTo>
                    <a:lnTo>
                      <a:pt x="104" y="38"/>
                    </a:lnTo>
                    <a:lnTo>
                      <a:pt x="104" y="47"/>
                    </a:lnTo>
                    <a:lnTo>
                      <a:pt x="104" y="61"/>
                    </a:lnTo>
                    <a:lnTo>
                      <a:pt x="99" y="71"/>
                    </a:lnTo>
                    <a:lnTo>
                      <a:pt x="94" y="80"/>
                    </a:lnTo>
                    <a:lnTo>
                      <a:pt x="90" y="90"/>
                    </a:lnTo>
                    <a:lnTo>
                      <a:pt x="80" y="94"/>
                    </a:lnTo>
                    <a:lnTo>
                      <a:pt x="71" y="99"/>
                    </a:lnTo>
                    <a:lnTo>
                      <a:pt x="61" y="104"/>
                    </a:lnTo>
                    <a:lnTo>
                      <a:pt x="52" y="104"/>
                    </a:lnTo>
                    <a:lnTo>
                      <a:pt x="42" y="104"/>
                    </a:lnTo>
                    <a:lnTo>
                      <a:pt x="33" y="99"/>
                    </a:lnTo>
                    <a:lnTo>
                      <a:pt x="23" y="94"/>
                    </a:lnTo>
                    <a:lnTo>
                      <a:pt x="14" y="90"/>
                    </a:lnTo>
                    <a:lnTo>
                      <a:pt x="9" y="80"/>
                    </a:lnTo>
                    <a:lnTo>
                      <a:pt x="0" y="71"/>
                    </a:lnTo>
                    <a:lnTo>
                      <a:pt x="0" y="61"/>
                    </a:lnTo>
                    <a:lnTo>
                      <a:pt x="0" y="47"/>
                    </a:lnTo>
                  </a:path>
                </a:pathLst>
              </a:custGeom>
              <a:noFill/>
              <a:ln w="576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1116"/>
              <p:cNvSpPr/>
              <p:nvPr/>
            </p:nvSpPr>
            <p:spPr>
              <a:xfrm>
                <a:off x="6059880" y="5092560"/>
                <a:ext cx="30240" cy="31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52" h="48">
                    <a:moveTo>
                      <a:pt x="0" y="24"/>
                    </a:moveTo>
                    <a:lnTo>
                      <a:pt x="5" y="29"/>
                    </a:lnTo>
                    <a:lnTo>
                      <a:pt x="5" y="38"/>
                    </a:lnTo>
                    <a:lnTo>
                      <a:pt x="10" y="43"/>
                    </a:lnTo>
                    <a:lnTo>
                      <a:pt x="15" y="48"/>
                    </a:lnTo>
                    <a:lnTo>
                      <a:pt x="24" y="48"/>
                    </a:lnTo>
                    <a:lnTo>
                      <a:pt x="29" y="48"/>
                    </a:lnTo>
                    <a:lnTo>
                      <a:pt x="33" y="48"/>
                    </a:lnTo>
                    <a:lnTo>
                      <a:pt x="38" y="48"/>
                    </a:lnTo>
                    <a:lnTo>
                      <a:pt x="48" y="43"/>
                    </a:lnTo>
                    <a:lnTo>
                      <a:pt x="52" y="38"/>
                    </a:lnTo>
                    <a:lnTo>
                      <a:pt x="52" y="33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2" y="10"/>
                    </a:lnTo>
                    <a:lnTo>
                      <a:pt x="48" y="5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10" y="5"/>
                    </a:lnTo>
                    <a:lnTo>
                      <a:pt x="5" y="1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1117"/>
              <p:cNvSpPr/>
              <p:nvPr/>
            </p:nvSpPr>
            <p:spPr>
              <a:xfrm>
                <a:off x="6059880" y="5092560"/>
                <a:ext cx="30240" cy="3132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52" h="48">
                    <a:moveTo>
                      <a:pt x="0" y="24"/>
                    </a:moveTo>
                    <a:lnTo>
                      <a:pt x="5" y="29"/>
                    </a:lnTo>
                    <a:lnTo>
                      <a:pt x="5" y="38"/>
                    </a:lnTo>
                    <a:lnTo>
                      <a:pt x="10" y="43"/>
                    </a:lnTo>
                    <a:lnTo>
                      <a:pt x="15" y="48"/>
                    </a:lnTo>
                    <a:lnTo>
                      <a:pt x="24" y="48"/>
                    </a:lnTo>
                    <a:lnTo>
                      <a:pt x="29" y="48"/>
                    </a:lnTo>
                    <a:lnTo>
                      <a:pt x="33" y="48"/>
                    </a:lnTo>
                    <a:lnTo>
                      <a:pt x="38" y="48"/>
                    </a:lnTo>
                    <a:lnTo>
                      <a:pt x="48" y="43"/>
                    </a:lnTo>
                    <a:lnTo>
                      <a:pt x="52" y="38"/>
                    </a:lnTo>
                    <a:lnTo>
                      <a:pt x="52" y="33"/>
                    </a:lnTo>
                    <a:lnTo>
                      <a:pt x="52" y="24"/>
                    </a:lnTo>
                    <a:lnTo>
                      <a:pt x="52" y="15"/>
                    </a:lnTo>
                    <a:lnTo>
                      <a:pt x="52" y="10"/>
                    </a:lnTo>
                    <a:lnTo>
                      <a:pt x="48" y="5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19" y="0"/>
                    </a:lnTo>
                    <a:lnTo>
                      <a:pt x="10" y="5"/>
                    </a:lnTo>
                    <a:lnTo>
                      <a:pt x="5" y="15"/>
                    </a:lnTo>
                    <a:lnTo>
                      <a:pt x="0" y="2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Rectangle 1118"/>
              <p:cNvSpPr/>
              <p:nvPr/>
            </p:nvSpPr>
            <p:spPr>
              <a:xfrm>
                <a:off x="5902200" y="4659120"/>
                <a:ext cx="5796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Rectangle 1119"/>
              <p:cNvSpPr/>
              <p:nvPr/>
            </p:nvSpPr>
            <p:spPr>
              <a:xfrm>
                <a:off x="5971320" y="465912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1120"/>
              <p:cNvSpPr/>
              <p:nvPr/>
            </p:nvSpPr>
            <p:spPr>
              <a:xfrm>
                <a:off x="5993640" y="465912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Rectangle 1121"/>
              <p:cNvSpPr/>
              <p:nvPr/>
            </p:nvSpPr>
            <p:spPr>
              <a:xfrm>
                <a:off x="6015960" y="4659120"/>
                <a:ext cx="576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Rectangle 1122"/>
              <p:cNvSpPr/>
              <p:nvPr/>
            </p:nvSpPr>
            <p:spPr>
              <a:xfrm>
                <a:off x="6087960" y="465912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Rectangle 1123"/>
              <p:cNvSpPr/>
              <p:nvPr/>
            </p:nvSpPr>
            <p:spPr>
              <a:xfrm>
                <a:off x="6109560" y="465912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1124"/>
              <p:cNvSpPr/>
              <p:nvPr/>
            </p:nvSpPr>
            <p:spPr>
              <a:xfrm>
                <a:off x="6131880" y="4659120"/>
                <a:ext cx="5796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6201000" y="465912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Rectangle 1126"/>
              <p:cNvSpPr/>
              <p:nvPr/>
            </p:nvSpPr>
            <p:spPr>
              <a:xfrm>
                <a:off x="6226200" y="4659120"/>
                <a:ext cx="36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Rectangle 1127"/>
              <p:cNvSpPr/>
              <p:nvPr/>
            </p:nvSpPr>
            <p:spPr>
              <a:xfrm>
                <a:off x="5908320" y="4863600"/>
                <a:ext cx="2736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128"/>
              <p:cNvSpPr/>
              <p:nvPr/>
            </p:nvSpPr>
            <p:spPr>
              <a:xfrm>
                <a:off x="5951880" y="4863600"/>
                <a:ext cx="3024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Rectangle 1129"/>
              <p:cNvSpPr/>
              <p:nvPr/>
            </p:nvSpPr>
            <p:spPr>
              <a:xfrm>
                <a:off x="5999400" y="4863600"/>
                <a:ext cx="2736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Rectangle 1130"/>
              <p:cNvSpPr/>
              <p:nvPr/>
            </p:nvSpPr>
            <p:spPr>
              <a:xfrm>
                <a:off x="6046200" y="4863600"/>
                <a:ext cx="2736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Rectangle 1131"/>
              <p:cNvSpPr/>
              <p:nvPr/>
            </p:nvSpPr>
            <p:spPr>
              <a:xfrm>
                <a:off x="6090120" y="4863600"/>
                <a:ext cx="3024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132"/>
              <p:cNvSpPr/>
              <p:nvPr/>
            </p:nvSpPr>
            <p:spPr>
              <a:xfrm>
                <a:off x="6137640" y="4863600"/>
                <a:ext cx="3024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Rectangle 1133"/>
              <p:cNvSpPr/>
              <p:nvPr/>
            </p:nvSpPr>
            <p:spPr>
              <a:xfrm>
                <a:off x="6184440" y="4863600"/>
                <a:ext cx="2736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1134"/>
              <p:cNvSpPr/>
              <p:nvPr/>
            </p:nvSpPr>
            <p:spPr>
              <a:xfrm>
                <a:off x="6228360" y="4863600"/>
                <a:ext cx="2880" cy="64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Rectangle 1135"/>
              <p:cNvSpPr/>
              <p:nvPr/>
            </p:nvSpPr>
            <p:spPr>
              <a:xfrm>
                <a:off x="5908320" y="4432680"/>
                <a:ext cx="317880" cy="24840"/>
              </a:xfrm>
              <a:prstGeom prst="rect">
                <a:avLst/>
              </a:pr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Rectangle 1136"/>
              <p:cNvSpPr/>
              <p:nvPr/>
            </p:nvSpPr>
            <p:spPr>
              <a:xfrm>
                <a:off x="6281280" y="4383360"/>
                <a:ext cx="169272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1f1a17"/>
                    </a:solidFill>
                    <a:latin typeface="Futura Lt BT"/>
                  </a:rPr>
                  <a:t>FRONTIERES INTERNATIONAL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Rectangle 1137"/>
              <p:cNvSpPr/>
              <p:nvPr/>
            </p:nvSpPr>
            <p:spPr>
              <a:xfrm>
                <a:off x="6281280" y="4600080"/>
                <a:ext cx="11714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1f1a17"/>
                    </a:solidFill>
                    <a:latin typeface="Futura Lt BT"/>
                  </a:rPr>
                  <a:t>LIMITES DES REG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Rectangle 1138"/>
              <p:cNvSpPr/>
              <p:nvPr/>
            </p:nvSpPr>
            <p:spPr>
              <a:xfrm>
                <a:off x="6281280" y="4817520"/>
                <a:ext cx="208584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1f1a17"/>
                    </a:solidFill>
                    <a:latin typeface="Futura Lt BT"/>
                  </a:rPr>
                  <a:t>LIMITES DES CERCLES (Région de Kay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Rectangle 1139"/>
              <p:cNvSpPr/>
              <p:nvPr/>
            </p:nvSpPr>
            <p:spPr>
              <a:xfrm>
                <a:off x="6281280" y="5034240"/>
                <a:ext cx="138816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1f1a17"/>
                    </a:solidFill>
                    <a:latin typeface="Futura Lt BT"/>
                  </a:rPr>
                  <a:t>CHEF-LIEUX DES REGION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Rectangle 1140"/>
              <p:cNvSpPr/>
              <p:nvPr/>
            </p:nvSpPr>
            <p:spPr>
              <a:xfrm>
                <a:off x="6281280" y="5251680"/>
                <a:ext cx="230256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800" spc="-1" strike="noStrike">
                    <a:solidFill>
                      <a:srgbClr val="1f1a17"/>
                    </a:solidFill>
                    <a:latin typeface="Futura Lt BT"/>
                  </a:rPr>
                  <a:t>CHEF-LIEUX DES CERCLES (Région de Kayes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1141"/>
              <p:cNvSpPr/>
              <p:nvPr/>
            </p:nvSpPr>
            <p:spPr>
              <a:xfrm>
                <a:off x="6281280" y="5468040"/>
                <a:ext cx="1904040" cy="27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1f1a17"/>
                    </a:solidFill>
                    <a:latin typeface="Futura Lt BT"/>
                  </a:rPr>
                  <a:t>VILLES ET VILLAGES SELECTIONN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Freeform 1142"/>
              <p:cNvSpPr/>
              <p:nvPr/>
            </p:nvSpPr>
            <p:spPr>
              <a:xfrm>
                <a:off x="2880360" y="5923080"/>
                <a:ext cx="72000" cy="83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23" h="128">
                    <a:moveTo>
                      <a:pt x="0" y="104"/>
                    </a:moveTo>
                    <a:lnTo>
                      <a:pt x="61" y="38"/>
                    </a:lnTo>
                    <a:lnTo>
                      <a:pt x="90" y="66"/>
                    </a:lnTo>
                    <a:lnTo>
                      <a:pt x="28" y="128"/>
                    </a:lnTo>
                    <a:lnTo>
                      <a:pt x="0" y="104"/>
                    </a:lnTo>
                    <a:close/>
                    <a:moveTo>
                      <a:pt x="90" y="62"/>
                    </a:moveTo>
                    <a:lnTo>
                      <a:pt x="90" y="66"/>
                    </a:lnTo>
                    <a:lnTo>
                      <a:pt x="76" y="52"/>
                    </a:lnTo>
                    <a:lnTo>
                      <a:pt x="90" y="62"/>
                    </a:lnTo>
                    <a:close/>
                    <a:moveTo>
                      <a:pt x="61" y="38"/>
                    </a:moveTo>
                    <a:lnTo>
                      <a:pt x="90" y="0"/>
                    </a:lnTo>
                    <a:lnTo>
                      <a:pt x="123" y="29"/>
                    </a:lnTo>
                    <a:lnTo>
                      <a:pt x="90" y="62"/>
                    </a:lnTo>
                    <a:lnTo>
                      <a:pt x="61" y="38"/>
                    </a:lnTo>
                    <a:close/>
                  </a:path>
                </a:pathLst>
              </a:custGeom>
              <a:solidFill>
                <a:srgbClr val="4e4b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Freeform 1143"/>
              <p:cNvSpPr/>
              <p:nvPr/>
            </p:nvSpPr>
            <p:spPr>
              <a:xfrm>
                <a:off x="0" y="524520"/>
                <a:ext cx="8222040" cy="5482800"/>
              </a:xfrm>
              <a:custGeom>
                <a:avLst/>
                <a:gdLst>
                  <a:gd name="textAreaLeft" fmla="*/ 0 w 8222040"/>
                  <a:gd name="textAreaRight" fmla="*/ 8222400 w 8222040"/>
                  <a:gd name="textAreaTop" fmla="*/ 0 h 5482800"/>
                  <a:gd name="textAreaBottom" fmla="*/ 5483160 h 5482800"/>
                </a:gdLst>
                <a:ahLst/>
                <a:rect l="textAreaLeft" t="textAreaTop" r="textAreaRight" b="textAreaBottom"/>
                <a:pathLst>
                  <a:path w="14040" h="8350">
                    <a:moveTo>
                      <a:pt x="7412" y="0"/>
                    </a:moveTo>
                    <a:lnTo>
                      <a:pt x="7506" y="1194"/>
                    </a:lnTo>
                    <a:lnTo>
                      <a:pt x="7469" y="1199"/>
                    </a:lnTo>
                    <a:lnTo>
                      <a:pt x="7369" y="5"/>
                    </a:lnTo>
                    <a:lnTo>
                      <a:pt x="7412" y="0"/>
                    </a:lnTo>
                    <a:close/>
                    <a:moveTo>
                      <a:pt x="7478" y="1213"/>
                    </a:moveTo>
                    <a:lnTo>
                      <a:pt x="7469" y="1209"/>
                    </a:lnTo>
                    <a:lnTo>
                      <a:pt x="7469" y="1199"/>
                    </a:lnTo>
                    <a:lnTo>
                      <a:pt x="7487" y="1194"/>
                    </a:lnTo>
                    <a:lnTo>
                      <a:pt x="7478" y="1213"/>
                    </a:lnTo>
                    <a:close/>
                    <a:moveTo>
                      <a:pt x="7502" y="1180"/>
                    </a:moveTo>
                    <a:lnTo>
                      <a:pt x="7799" y="1393"/>
                    </a:lnTo>
                    <a:lnTo>
                      <a:pt x="7775" y="1426"/>
                    </a:lnTo>
                    <a:lnTo>
                      <a:pt x="7478" y="1213"/>
                    </a:lnTo>
                    <a:lnTo>
                      <a:pt x="7502" y="1180"/>
                    </a:lnTo>
                    <a:close/>
                    <a:moveTo>
                      <a:pt x="7799" y="1393"/>
                    </a:moveTo>
                    <a:lnTo>
                      <a:pt x="7808" y="1402"/>
                    </a:lnTo>
                    <a:lnTo>
                      <a:pt x="7808" y="1412"/>
                    </a:lnTo>
                    <a:lnTo>
                      <a:pt x="7790" y="1412"/>
                    </a:lnTo>
                    <a:lnTo>
                      <a:pt x="7799" y="1393"/>
                    </a:lnTo>
                    <a:close/>
                    <a:moveTo>
                      <a:pt x="7808" y="1412"/>
                    </a:moveTo>
                    <a:lnTo>
                      <a:pt x="7657" y="2313"/>
                    </a:lnTo>
                    <a:lnTo>
                      <a:pt x="7620" y="2304"/>
                    </a:lnTo>
                    <a:lnTo>
                      <a:pt x="7771" y="1407"/>
                    </a:lnTo>
                    <a:lnTo>
                      <a:pt x="7808" y="1412"/>
                    </a:lnTo>
                    <a:close/>
                    <a:moveTo>
                      <a:pt x="7657" y="2313"/>
                    </a:moveTo>
                    <a:lnTo>
                      <a:pt x="7653" y="2327"/>
                    </a:lnTo>
                    <a:lnTo>
                      <a:pt x="7638" y="2327"/>
                    </a:lnTo>
                    <a:lnTo>
                      <a:pt x="7638" y="2308"/>
                    </a:lnTo>
                    <a:lnTo>
                      <a:pt x="7657" y="2313"/>
                    </a:lnTo>
                    <a:close/>
                    <a:moveTo>
                      <a:pt x="7638" y="2327"/>
                    </a:moveTo>
                    <a:lnTo>
                      <a:pt x="3540" y="2285"/>
                    </a:lnTo>
                    <a:lnTo>
                      <a:pt x="3540" y="2247"/>
                    </a:lnTo>
                    <a:lnTo>
                      <a:pt x="7638" y="2289"/>
                    </a:lnTo>
                    <a:lnTo>
                      <a:pt x="7638" y="2327"/>
                    </a:lnTo>
                    <a:close/>
                    <a:moveTo>
                      <a:pt x="3540" y="2285"/>
                    </a:moveTo>
                    <a:lnTo>
                      <a:pt x="3531" y="2285"/>
                    </a:lnTo>
                    <a:lnTo>
                      <a:pt x="3526" y="2280"/>
                    </a:lnTo>
                    <a:lnTo>
                      <a:pt x="3540" y="2266"/>
                    </a:lnTo>
                    <a:lnTo>
                      <a:pt x="3540" y="2285"/>
                    </a:lnTo>
                    <a:close/>
                    <a:moveTo>
                      <a:pt x="3526" y="2280"/>
                    </a:moveTo>
                    <a:lnTo>
                      <a:pt x="3441" y="2181"/>
                    </a:lnTo>
                    <a:lnTo>
                      <a:pt x="3470" y="2157"/>
                    </a:lnTo>
                    <a:lnTo>
                      <a:pt x="3555" y="2252"/>
                    </a:lnTo>
                    <a:lnTo>
                      <a:pt x="3526" y="2280"/>
                    </a:lnTo>
                    <a:close/>
                    <a:moveTo>
                      <a:pt x="3441" y="2181"/>
                    </a:moveTo>
                    <a:lnTo>
                      <a:pt x="3432" y="2176"/>
                    </a:lnTo>
                    <a:lnTo>
                      <a:pt x="3437" y="2167"/>
                    </a:lnTo>
                    <a:lnTo>
                      <a:pt x="3456" y="2171"/>
                    </a:lnTo>
                    <a:lnTo>
                      <a:pt x="3441" y="2181"/>
                    </a:lnTo>
                    <a:close/>
                    <a:moveTo>
                      <a:pt x="3437" y="2167"/>
                    </a:moveTo>
                    <a:lnTo>
                      <a:pt x="3456" y="2049"/>
                    </a:lnTo>
                    <a:lnTo>
                      <a:pt x="3493" y="2053"/>
                    </a:lnTo>
                    <a:lnTo>
                      <a:pt x="3474" y="2171"/>
                    </a:lnTo>
                    <a:lnTo>
                      <a:pt x="3437" y="2167"/>
                    </a:lnTo>
                    <a:close/>
                    <a:moveTo>
                      <a:pt x="3484" y="2035"/>
                    </a:moveTo>
                    <a:lnTo>
                      <a:pt x="3498" y="2039"/>
                    </a:lnTo>
                    <a:lnTo>
                      <a:pt x="3493" y="2053"/>
                    </a:lnTo>
                    <a:lnTo>
                      <a:pt x="3474" y="2053"/>
                    </a:lnTo>
                    <a:lnTo>
                      <a:pt x="3484" y="2035"/>
                    </a:lnTo>
                    <a:close/>
                    <a:moveTo>
                      <a:pt x="3465" y="2068"/>
                    </a:moveTo>
                    <a:lnTo>
                      <a:pt x="3418" y="2044"/>
                    </a:lnTo>
                    <a:lnTo>
                      <a:pt x="3437" y="2006"/>
                    </a:lnTo>
                    <a:lnTo>
                      <a:pt x="3484" y="2035"/>
                    </a:lnTo>
                    <a:lnTo>
                      <a:pt x="3465" y="2068"/>
                    </a:lnTo>
                    <a:close/>
                    <a:moveTo>
                      <a:pt x="3413" y="2011"/>
                    </a:moveTo>
                    <a:lnTo>
                      <a:pt x="3422" y="2002"/>
                    </a:lnTo>
                    <a:lnTo>
                      <a:pt x="3437" y="2006"/>
                    </a:lnTo>
                    <a:lnTo>
                      <a:pt x="3427" y="2025"/>
                    </a:lnTo>
                    <a:lnTo>
                      <a:pt x="3413" y="2011"/>
                    </a:lnTo>
                    <a:close/>
                    <a:moveTo>
                      <a:pt x="3441" y="2039"/>
                    </a:moveTo>
                    <a:lnTo>
                      <a:pt x="3333" y="2157"/>
                    </a:lnTo>
                    <a:lnTo>
                      <a:pt x="3304" y="2129"/>
                    </a:lnTo>
                    <a:lnTo>
                      <a:pt x="3413" y="2011"/>
                    </a:lnTo>
                    <a:lnTo>
                      <a:pt x="3441" y="2039"/>
                    </a:lnTo>
                    <a:close/>
                    <a:moveTo>
                      <a:pt x="3300" y="2148"/>
                    </a:moveTo>
                    <a:lnTo>
                      <a:pt x="3300" y="2138"/>
                    </a:lnTo>
                    <a:lnTo>
                      <a:pt x="3304" y="2129"/>
                    </a:lnTo>
                    <a:lnTo>
                      <a:pt x="3319" y="2143"/>
                    </a:lnTo>
                    <a:lnTo>
                      <a:pt x="3300" y="2148"/>
                    </a:lnTo>
                    <a:close/>
                    <a:moveTo>
                      <a:pt x="3337" y="2138"/>
                    </a:moveTo>
                    <a:lnTo>
                      <a:pt x="3371" y="2304"/>
                    </a:lnTo>
                    <a:lnTo>
                      <a:pt x="3333" y="2313"/>
                    </a:lnTo>
                    <a:lnTo>
                      <a:pt x="3300" y="2148"/>
                    </a:lnTo>
                    <a:lnTo>
                      <a:pt x="3337" y="2138"/>
                    </a:lnTo>
                    <a:close/>
                    <a:moveTo>
                      <a:pt x="3371" y="2304"/>
                    </a:moveTo>
                    <a:lnTo>
                      <a:pt x="3375" y="2327"/>
                    </a:lnTo>
                    <a:lnTo>
                      <a:pt x="3352" y="2327"/>
                    </a:lnTo>
                    <a:lnTo>
                      <a:pt x="3352" y="2308"/>
                    </a:lnTo>
                    <a:lnTo>
                      <a:pt x="3371" y="2304"/>
                    </a:lnTo>
                    <a:close/>
                    <a:moveTo>
                      <a:pt x="3352" y="2327"/>
                    </a:moveTo>
                    <a:lnTo>
                      <a:pt x="3309" y="2327"/>
                    </a:lnTo>
                    <a:lnTo>
                      <a:pt x="3205" y="2332"/>
                    </a:lnTo>
                    <a:lnTo>
                      <a:pt x="3101" y="2337"/>
                    </a:lnTo>
                    <a:lnTo>
                      <a:pt x="3045" y="2341"/>
                    </a:lnTo>
                    <a:lnTo>
                      <a:pt x="3031" y="2304"/>
                    </a:lnTo>
                    <a:lnTo>
                      <a:pt x="3092" y="2299"/>
                    </a:lnTo>
                    <a:lnTo>
                      <a:pt x="3201" y="2294"/>
                    </a:lnTo>
                    <a:lnTo>
                      <a:pt x="3304" y="2289"/>
                    </a:lnTo>
                    <a:lnTo>
                      <a:pt x="3352" y="2289"/>
                    </a:lnTo>
                    <a:lnTo>
                      <a:pt x="3352" y="2327"/>
                    </a:lnTo>
                    <a:close/>
                    <a:moveTo>
                      <a:pt x="3045" y="2341"/>
                    </a:moveTo>
                    <a:lnTo>
                      <a:pt x="2974" y="2384"/>
                    </a:lnTo>
                    <a:lnTo>
                      <a:pt x="2917" y="2422"/>
                    </a:lnTo>
                    <a:lnTo>
                      <a:pt x="2898" y="2389"/>
                    </a:lnTo>
                    <a:lnTo>
                      <a:pt x="2950" y="2351"/>
                    </a:lnTo>
                    <a:lnTo>
                      <a:pt x="3031" y="2304"/>
                    </a:lnTo>
                    <a:lnTo>
                      <a:pt x="3045" y="2341"/>
                    </a:lnTo>
                    <a:close/>
                    <a:moveTo>
                      <a:pt x="2917" y="2422"/>
                    </a:moveTo>
                    <a:lnTo>
                      <a:pt x="2913" y="2426"/>
                    </a:lnTo>
                    <a:lnTo>
                      <a:pt x="2908" y="2422"/>
                    </a:lnTo>
                    <a:lnTo>
                      <a:pt x="2908" y="2403"/>
                    </a:lnTo>
                    <a:lnTo>
                      <a:pt x="2917" y="2422"/>
                    </a:lnTo>
                    <a:close/>
                    <a:moveTo>
                      <a:pt x="2908" y="2422"/>
                    </a:moveTo>
                    <a:lnTo>
                      <a:pt x="2601" y="2403"/>
                    </a:lnTo>
                    <a:lnTo>
                      <a:pt x="2606" y="2365"/>
                    </a:lnTo>
                    <a:lnTo>
                      <a:pt x="2908" y="2384"/>
                    </a:lnTo>
                    <a:lnTo>
                      <a:pt x="2908" y="2422"/>
                    </a:lnTo>
                    <a:close/>
                    <a:moveTo>
                      <a:pt x="2601" y="2403"/>
                    </a:moveTo>
                    <a:lnTo>
                      <a:pt x="2596" y="2403"/>
                    </a:lnTo>
                    <a:lnTo>
                      <a:pt x="2592" y="2398"/>
                    </a:lnTo>
                    <a:lnTo>
                      <a:pt x="2606" y="2384"/>
                    </a:lnTo>
                    <a:lnTo>
                      <a:pt x="2601" y="2403"/>
                    </a:lnTo>
                    <a:close/>
                    <a:moveTo>
                      <a:pt x="2592" y="2398"/>
                    </a:moveTo>
                    <a:lnTo>
                      <a:pt x="2507" y="2351"/>
                    </a:lnTo>
                    <a:lnTo>
                      <a:pt x="2525" y="2318"/>
                    </a:lnTo>
                    <a:lnTo>
                      <a:pt x="2615" y="2365"/>
                    </a:lnTo>
                    <a:lnTo>
                      <a:pt x="2592" y="2398"/>
                    </a:lnTo>
                    <a:close/>
                    <a:moveTo>
                      <a:pt x="2521" y="2318"/>
                    </a:moveTo>
                    <a:lnTo>
                      <a:pt x="2525" y="2318"/>
                    </a:lnTo>
                    <a:lnTo>
                      <a:pt x="2516" y="2337"/>
                    </a:lnTo>
                    <a:lnTo>
                      <a:pt x="2521" y="2318"/>
                    </a:lnTo>
                    <a:close/>
                    <a:moveTo>
                      <a:pt x="2511" y="2356"/>
                    </a:moveTo>
                    <a:lnTo>
                      <a:pt x="2393" y="2322"/>
                    </a:lnTo>
                    <a:lnTo>
                      <a:pt x="2407" y="2285"/>
                    </a:lnTo>
                    <a:lnTo>
                      <a:pt x="2521" y="2318"/>
                    </a:lnTo>
                    <a:lnTo>
                      <a:pt x="2511" y="2356"/>
                    </a:lnTo>
                    <a:close/>
                    <a:moveTo>
                      <a:pt x="2398" y="2285"/>
                    </a:moveTo>
                    <a:lnTo>
                      <a:pt x="2403" y="2285"/>
                    </a:lnTo>
                    <a:lnTo>
                      <a:pt x="2407" y="2285"/>
                    </a:lnTo>
                    <a:lnTo>
                      <a:pt x="2398" y="2304"/>
                    </a:lnTo>
                    <a:lnTo>
                      <a:pt x="2398" y="2285"/>
                    </a:lnTo>
                    <a:close/>
                    <a:moveTo>
                      <a:pt x="2398" y="2322"/>
                    </a:moveTo>
                    <a:lnTo>
                      <a:pt x="1978" y="2322"/>
                    </a:lnTo>
                    <a:lnTo>
                      <a:pt x="1978" y="2285"/>
                    </a:lnTo>
                    <a:lnTo>
                      <a:pt x="2398" y="2285"/>
                    </a:lnTo>
                    <a:lnTo>
                      <a:pt x="2398" y="2322"/>
                    </a:lnTo>
                    <a:close/>
                    <a:moveTo>
                      <a:pt x="1968" y="2285"/>
                    </a:moveTo>
                    <a:lnTo>
                      <a:pt x="1973" y="2285"/>
                    </a:lnTo>
                    <a:lnTo>
                      <a:pt x="1978" y="2285"/>
                    </a:lnTo>
                    <a:lnTo>
                      <a:pt x="1978" y="2304"/>
                    </a:lnTo>
                    <a:lnTo>
                      <a:pt x="1968" y="2285"/>
                    </a:lnTo>
                    <a:close/>
                    <a:moveTo>
                      <a:pt x="1987" y="2318"/>
                    </a:moveTo>
                    <a:lnTo>
                      <a:pt x="1945" y="2346"/>
                    </a:lnTo>
                    <a:lnTo>
                      <a:pt x="1926" y="2313"/>
                    </a:lnTo>
                    <a:lnTo>
                      <a:pt x="1968" y="2285"/>
                    </a:lnTo>
                    <a:lnTo>
                      <a:pt x="1987" y="2318"/>
                    </a:lnTo>
                    <a:close/>
                    <a:moveTo>
                      <a:pt x="1916" y="2327"/>
                    </a:moveTo>
                    <a:lnTo>
                      <a:pt x="1916" y="2318"/>
                    </a:lnTo>
                    <a:lnTo>
                      <a:pt x="1926" y="2313"/>
                    </a:lnTo>
                    <a:lnTo>
                      <a:pt x="1935" y="2327"/>
                    </a:lnTo>
                    <a:lnTo>
                      <a:pt x="1916" y="2327"/>
                    </a:lnTo>
                    <a:close/>
                    <a:moveTo>
                      <a:pt x="1954" y="2327"/>
                    </a:moveTo>
                    <a:lnTo>
                      <a:pt x="1949" y="2365"/>
                    </a:lnTo>
                    <a:lnTo>
                      <a:pt x="1935" y="2398"/>
                    </a:lnTo>
                    <a:lnTo>
                      <a:pt x="1926" y="2422"/>
                    </a:lnTo>
                    <a:lnTo>
                      <a:pt x="1921" y="2431"/>
                    </a:lnTo>
                    <a:lnTo>
                      <a:pt x="1888" y="2412"/>
                    </a:lnTo>
                    <a:lnTo>
                      <a:pt x="1902" y="2384"/>
                    </a:lnTo>
                    <a:lnTo>
                      <a:pt x="1916" y="2327"/>
                    </a:lnTo>
                    <a:lnTo>
                      <a:pt x="1954" y="2327"/>
                    </a:lnTo>
                    <a:close/>
                    <a:moveTo>
                      <a:pt x="1921" y="2431"/>
                    </a:moveTo>
                    <a:lnTo>
                      <a:pt x="1916" y="2436"/>
                    </a:lnTo>
                    <a:lnTo>
                      <a:pt x="1912" y="2436"/>
                    </a:lnTo>
                    <a:lnTo>
                      <a:pt x="1902" y="2422"/>
                    </a:lnTo>
                    <a:lnTo>
                      <a:pt x="1921" y="2431"/>
                    </a:lnTo>
                    <a:close/>
                    <a:moveTo>
                      <a:pt x="1912" y="2436"/>
                    </a:moveTo>
                    <a:lnTo>
                      <a:pt x="1817" y="2497"/>
                    </a:lnTo>
                    <a:lnTo>
                      <a:pt x="1798" y="2464"/>
                    </a:lnTo>
                    <a:lnTo>
                      <a:pt x="1893" y="2403"/>
                    </a:lnTo>
                    <a:lnTo>
                      <a:pt x="1912" y="2436"/>
                    </a:lnTo>
                    <a:close/>
                    <a:moveTo>
                      <a:pt x="1789" y="2474"/>
                    </a:moveTo>
                    <a:lnTo>
                      <a:pt x="1789" y="2464"/>
                    </a:lnTo>
                    <a:lnTo>
                      <a:pt x="1798" y="2464"/>
                    </a:lnTo>
                    <a:lnTo>
                      <a:pt x="1808" y="2478"/>
                    </a:lnTo>
                    <a:lnTo>
                      <a:pt x="1789" y="2474"/>
                    </a:lnTo>
                    <a:close/>
                    <a:moveTo>
                      <a:pt x="1827" y="2483"/>
                    </a:moveTo>
                    <a:lnTo>
                      <a:pt x="1808" y="2544"/>
                    </a:lnTo>
                    <a:lnTo>
                      <a:pt x="1770" y="2535"/>
                    </a:lnTo>
                    <a:lnTo>
                      <a:pt x="1789" y="2474"/>
                    </a:lnTo>
                    <a:lnTo>
                      <a:pt x="1827" y="2483"/>
                    </a:lnTo>
                    <a:close/>
                    <a:moveTo>
                      <a:pt x="1808" y="2544"/>
                    </a:moveTo>
                    <a:lnTo>
                      <a:pt x="1808" y="2544"/>
                    </a:lnTo>
                    <a:lnTo>
                      <a:pt x="1808" y="2549"/>
                    </a:lnTo>
                    <a:lnTo>
                      <a:pt x="1789" y="2540"/>
                    </a:lnTo>
                    <a:lnTo>
                      <a:pt x="1808" y="2544"/>
                    </a:lnTo>
                    <a:close/>
                    <a:moveTo>
                      <a:pt x="1808" y="2549"/>
                    </a:moveTo>
                    <a:lnTo>
                      <a:pt x="1775" y="2596"/>
                    </a:lnTo>
                    <a:lnTo>
                      <a:pt x="1742" y="2577"/>
                    </a:lnTo>
                    <a:lnTo>
                      <a:pt x="1775" y="2525"/>
                    </a:lnTo>
                    <a:lnTo>
                      <a:pt x="1808" y="2549"/>
                    </a:lnTo>
                    <a:close/>
                    <a:moveTo>
                      <a:pt x="1742" y="2577"/>
                    </a:moveTo>
                    <a:lnTo>
                      <a:pt x="1742" y="2577"/>
                    </a:lnTo>
                    <a:lnTo>
                      <a:pt x="1761" y="2587"/>
                    </a:lnTo>
                    <a:lnTo>
                      <a:pt x="1742" y="2577"/>
                    </a:lnTo>
                    <a:close/>
                    <a:moveTo>
                      <a:pt x="1775" y="2596"/>
                    </a:moveTo>
                    <a:lnTo>
                      <a:pt x="1751" y="2648"/>
                    </a:lnTo>
                    <a:lnTo>
                      <a:pt x="1713" y="2629"/>
                    </a:lnTo>
                    <a:lnTo>
                      <a:pt x="1742" y="2577"/>
                    </a:lnTo>
                    <a:lnTo>
                      <a:pt x="1775" y="2596"/>
                    </a:lnTo>
                    <a:close/>
                    <a:moveTo>
                      <a:pt x="1751" y="2648"/>
                    </a:moveTo>
                    <a:lnTo>
                      <a:pt x="1737" y="2672"/>
                    </a:lnTo>
                    <a:lnTo>
                      <a:pt x="1718" y="2653"/>
                    </a:lnTo>
                    <a:lnTo>
                      <a:pt x="1732" y="2639"/>
                    </a:lnTo>
                    <a:lnTo>
                      <a:pt x="1751" y="2648"/>
                    </a:lnTo>
                    <a:close/>
                    <a:moveTo>
                      <a:pt x="1718" y="2653"/>
                    </a:moveTo>
                    <a:lnTo>
                      <a:pt x="1534" y="2459"/>
                    </a:lnTo>
                    <a:lnTo>
                      <a:pt x="1562" y="2436"/>
                    </a:lnTo>
                    <a:lnTo>
                      <a:pt x="1746" y="2625"/>
                    </a:lnTo>
                    <a:lnTo>
                      <a:pt x="1718" y="2653"/>
                    </a:lnTo>
                    <a:close/>
                    <a:moveTo>
                      <a:pt x="1562" y="2431"/>
                    </a:moveTo>
                    <a:lnTo>
                      <a:pt x="1562" y="2436"/>
                    </a:lnTo>
                    <a:lnTo>
                      <a:pt x="1548" y="2445"/>
                    </a:lnTo>
                    <a:lnTo>
                      <a:pt x="1562" y="2431"/>
                    </a:lnTo>
                    <a:close/>
                    <a:moveTo>
                      <a:pt x="1539" y="2459"/>
                    </a:moveTo>
                    <a:lnTo>
                      <a:pt x="1260" y="2200"/>
                    </a:lnTo>
                    <a:lnTo>
                      <a:pt x="1284" y="2171"/>
                    </a:lnTo>
                    <a:lnTo>
                      <a:pt x="1562" y="2431"/>
                    </a:lnTo>
                    <a:lnTo>
                      <a:pt x="1539" y="2459"/>
                    </a:lnTo>
                    <a:close/>
                    <a:moveTo>
                      <a:pt x="1260" y="2200"/>
                    </a:moveTo>
                    <a:lnTo>
                      <a:pt x="1255" y="2200"/>
                    </a:lnTo>
                    <a:lnTo>
                      <a:pt x="1255" y="2195"/>
                    </a:lnTo>
                    <a:lnTo>
                      <a:pt x="1274" y="2186"/>
                    </a:lnTo>
                    <a:lnTo>
                      <a:pt x="1260" y="2200"/>
                    </a:lnTo>
                    <a:close/>
                    <a:moveTo>
                      <a:pt x="1255" y="2195"/>
                    </a:moveTo>
                    <a:lnTo>
                      <a:pt x="1180" y="2082"/>
                    </a:lnTo>
                    <a:lnTo>
                      <a:pt x="1213" y="2063"/>
                    </a:lnTo>
                    <a:lnTo>
                      <a:pt x="1288" y="2176"/>
                    </a:lnTo>
                    <a:lnTo>
                      <a:pt x="1255" y="2195"/>
                    </a:lnTo>
                    <a:close/>
                    <a:moveTo>
                      <a:pt x="1208" y="2053"/>
                    </a:moveTo>
                    <a:lnTo>
                      <a:pt x="1213" y="2058"/>
                    </a:lnTo>
                    <a:lnTo>
                      <a:pt x="1213" y="2063"/>
                    </a:lnTo>
                    <a:lnTo>
                      <a:pt x="1199" y="2072"/>
                    </a:lnTo>
                    <a:lnTo>
                      <a:pt x="1208" y="2053"/>
                    </a:lnTo>
                    <a:close/>
                    <a:moveTo>
                      <a:pt x="1189" y="2091"/>
                    </a:moveTo>
                    <a:lnTo>
                      <a:pt x="1114" y="2053"/>
                    </a:lnTo>
                    <a:lnTo>
                      <a:pt x="1133" y="2016"/>
                    </a:lnTo>
                    <a:lnTo>
                      <a:pt x="1208" y="2053"/>
                    </a:lnTo>
                    <a:lnTo>
                      <a:pt x="1189" y="2091"/>
                    </a:lnTo>
                    <a:close/>
                    <a:moveTo>
                      <a:pt x="1128" y="2016"/>
                    </a:moveTo>
                    <a:lnTo>
                      <a:pt x="1128" y="2016"/>
                    </a:lnTo>
                    <a:lnTo>
                      <a:pt x="1133" y="2016"/>
                    </a:lnTo>
                    <a:lnTo>
                      <a:pt x="1123" y="2035"/>
                    </a:lnTo>
                    <a:lnTo>
                      <a:pt x="1128" y="2016"/>
                    </a:lnTo>
                    <a:close/>
                    <a:moveTo>
                      <a:pt x="1119" y="2053"/>
                    </a:moveTo>
                    <a:lnTo>
                      <a:pt x="1062" y="2044"/>
                    </a:lnTo>
                    <a:lnTo>
                      <a:pt x="1067" y="2006"/>
                    </a:lnTo>
                    <a:lnTo>
                      <a:pt x="1128" y="2016"/>
                    </a:lnTo>
                    <a:lnTo>
                      <a:pt x="1119" y="2053"/>
                    </a:lnTo>
                    <a:close/>
                    <a:moveTo>
                      <a:pt x="1043" y="2020"/>
                    </a:moveTo>
                    <a:lnTo>
                      <a:pt x="1048" y="2002"/>
                    </a:lnTo>
                    <a:lnTo>
                      <a:pt x="1067" y="2006"/>
                    </a:lnTo>
                    <a:lnTo>
                      <a:pt x="1062" y="2025"/>
                    </a:lnTo>
                    <a:lnTo>
                      <a:pt x="1043" y="2020"/>
                    </a:lnTo>
                    <a:close/>
                    <a:moveTo>
                      <a:pt x="1081" y="2030"/>
                    </a:moveTo>
                    <a:lnTo>
                      <a:pt x="1071" y="2068"/>
                    </a:lnTo>
                    <a:lnTo>
                      <a:pt x="1034" y="2058"/>
                    </a:lnTo>
                    <a:lnTo>
                      <a:pt x="1043" y="2020"/>
                    </a:lnTo>
                    <a:lnTo>
                      <a:pt x="1081" y="2030"/>
                    </a:lnTo>
                    <a:close/>
                    <a:moveTo>
                      <a:pt x="1038" y="2072"/>
                    </a:moveTo>
                    <a:lnTo>
                      <a:pt x="1034" y="2063"/>
                    </a:lnTo>
                    <a:lnTo>
                      <a:pt x="1034" y="2058"/>
                    </a:lnTo>
                    <a:lnTo>
                      <a:pt x="1052" y="2063"/>
                    </a:lnTo>
                    <a:lnTo>
                      <a:pt x="1038" y="2072"/>
                    </a:lnTo>
                    <a:close/>
                    <a:moveTo>
                      <a:pt x="1071" y="2053"/>
                    </a:moveTo>
                    <a:lnTo>
                      <a:pt x="1095" y="2096"/>
                    </a:lnTo>
                    <a:lnTo>
                      <a:pt x="1062" y="2115"/>
                    </a:lnTo>
                    <a:lnTo>
                      <a:pt x="1038" y="2072"/>
                    </a:lnTo>
                    <a:lnTo>
                      <a:pt x="1071" y="2053"/>
                    </a:lnTo>
                    <a:close/>
                    <a:moveTo>
                      <a:pt x="1095" y="2096"/>
                    </a:moveTo>
                    <a:lnTo>
                      <a:pt x="1109" y="2115"/>
                    </a:lnTo>
                    <a:lnTo>
                      <a:pt x="1085" y="2124"/>
                    </a:lnTo>
                    <a:lnTo>
                      <a:pt x="1081" y="2105"/>
                    </a:lnTo>
                    <a:lnTo>
                      <a:pt x="1095" y="2096"/>
                    </a:lnTo>
                    <a:close/>
                    <a:moveTo>
                      <a:pt x="1085" y="2124"/>
                    </a:moveTo>
                    <a:lnTo>
                      <a:pt x="944" y="2176"/>
                    </a:lnTo>
                    <a:lnTo>
                      <a:pt x="930" y="2138"/>
                    </a:lnTo>
                    <a:lnTo>
                      <a:pt x="1071" y="2086"/>
                    </a:lnTo>
                    <a:lnTo>
                      <a:pt x="1085" y="2124"/>
                    </a:lnTo>
                    <a:close/>
                    <a:moveTo>
                      <a:pt x="944" y="2176"/>
                    </a:moveTo>
                    <a:lnTo>
                      <a:pt x="934" y="2181"/>
                    </a:lnTo>
                    <a:lnTo>
                      <a:pt x="925" y="2176"/>
                    </a:lnTo>
                    <a:lnTo>
                      <a:pt x="934" y="2157"/>
                    </a:lnTo>
                    <a:lnTo>
                      <a:pt x="944" y="2176"/>
                    </a:lnTo>
                    <a:close/>
                    <a:moveTo>
                      <a:pt x="925" y="2176"/>
                    </a:moveTo>
                    <a:lnTo>
                      <a:pt x="882" y="2143"/>
                    </a:lnTo>
                    <a:lnTo>
                      <a:pt x="906" y="2110"/>
                    </a:lnTo>
                    <a:lnTo>
                      <a:pt x="949" y="2143"/>
                    </a:lnTo>
                    <a:lnTo>
                      <a:pt x="925" y="2176"/>
                    </a:lnTo>
                    <a:close/>
                    <a:moveTo>
                      <a:pt x="887" y="2105"/>
                    </a:moveTo>
                    <a:lnTo>
                      <a:pt x="897" y="2105"/>
                    </a:lnTo>
                    <a:lnTo>
                      <a:pt x="906" y="2110"/>
                    </a:lnTo>
                    <a:lnTo>
                      <a:pt x="892" y="2124"/>
                    </a:lnTo>
                    <a:lnTo>
                      <a:pt x="887" y="2105"/>
                    </a:lnTo>
                    <a:close/>
                    <a:moveTo>
                      <a:pt x="897" y="2143"/>
                    </a:moveTo>
                    <a:lnTo>
                      <a:pt x="854" y="2157"/>
                    </a:lnTo>
                    <a:lnTo>
                      <a:pt x="845" y="2120"/>
                    </a:lnTo>
                    <a:lnTo>
                      <a:pt x="887" y="2105"/>
                    </a:lnTo>
                    <a:lnTo>
                      <a:pt x="897" y="2143"/>
                    </a:lnTo>
                    <a:close/>
                    <a:moveTo>
                      <a:pt x="831" y="2134"/>
                    </a:moveTo>
                    <a:lnTo>
                      <a:pt x="831" y="2120"/>
                    </a:lnTo>
                    <a:lnTo>
                      <a:pt x="845" y="2120"/>
                    </a:lnTo>
                    <a:lnTo>
                      <a:pt x="849" y="2138"/>
                    </a:lnTo>
                    <a:lnTo>
                      <a:pt x="831" y="2134"/>
                    </a:lnTo>
                    <a:close/>
                    <a:moveTo>
                      <a:pt x="868" y="2138"/>
                    </a:moveTo>
                    <a:lnTo>
                      <a:pt x="868" y="2157"/>
                    </a:lnTo>
                    <a:lnTo>
                      <a:pt x="859" y="2204"/>
                    </a:lnTo>
                    <a:lnTo>
                      <a:pt x="845" y="2256"/>
                    </a:lnTo>
                    <a:lnTo>
                      <a:pt x="826" y="2294"/>
                    </a:lnTo>
                    <a:lnTo>
                      <a:pt x="797" y="2271"/>
                    </a:lnTo>
                    <a:lnTo>
                      <a:pt x="821" y="2195"/>
                    </a:lnTo>
                    <a:lnTo>
                      <a:pt x="831" y="2134"/>
                    </a:lnTo>
                    <a:lnTo>
                      <a:pt x="868" y="2138"/>
                    </a:lnTo>
                    <a:close/>
                    <a:moveTo>
                      <a:pt x="826" y="2294"/>
                    </a:moveTo>
                    <a:lnTo>
                      <a:pt x="812" y="2327"/>
                    </a:lnTo>
                    <a:lnTo>
                      <a:pt x="788" y="2398"/>
                    </a:lnTo>
                    <a:lnTo>
                      <a:pt x="750" y="2384"/>
                    </a:lnTo>
                    <a:lnTo>
                      <a:pt x="779" y="2313"/>
                    </a:lnTo>
                    <a:lnTo>
                      <a:pt x="797" y="2271"/>
                    </a:lnTo>
                    <a:lnTo>
                      <a:pt x="826" y="2294"/>
                    </a:lnTo>
                    <a:close/>
                    <a:moveTo>
                      <a:pt x="788" y="2398"/>
                    </a:moveTo>
                    <a:lnTo>
                      <a:pt x="769" y="2455"/>
                    </a:lnTo>
                    <a:lnTo>
                      <a:pt x="750" y="2507"/>
                    </a:lnTo>
                    <a:lnTo>
                      <a:pt x="736" y="2554"/>
                    </a:lnTo>
                    <a:lnTo>
                      <a:pt x="731" y="2587"/>
                    </a:lnTo>
                    <a:lnTo>
                      <a:pt x="694" y="2577"/>
                    </a:lnTo>
                    <a:lnTo>
                      <a:pt x="698" y="2544"/>
                    </a:lnTo>
                    <a:lnTo>
                      <a:pt x="713" y="2497"/>
                    </a:lnTo>
                    <a:lnTo>
                      <a:pt x="731" y="2440"/>
                    </a:lnTo>
                    <a:lnTo>
                      <a:pt x="750" y="2384"/>
                    </a:lnTo>
                    <a:lnTo>
                      <a:pt x="788" y="2398"/>
                    </a:lnTo>
                    <a:close/>
                    <a:moveTo>
                      <a:pt x="731" y="2587"/>
                    </a:moveTo>
                    <a:lnTo>
                      <a:pt x="727" y="2615"/>
                    </a:lnTo>
                    <a:lnTo>
                      <a:pt x="727" y="2639"/>
                    </a:lnTo>
                    <a:lnTo>
                      <a:pt x="689" y="2648"/>
                    </a:lnTo>
                    <a:lnTo>
                      <a:pt x="684" y="2629"/>
                    </a:lnTo>
                    <a:lnTo>
                      <a:pt x="684" y="2615"/>
                    </a:lnTo>
                    <a:lnTo>
                      <a:pt x="689" y="2601"/>
                    </a:lnTo>
                    <a:lnTo>
                      <a:pt x="694" y="2577"/>
                    </a:lnTo>
                    <a:lnTo>
                      <a:pt x="731" y="2587"/>
                    </a:lnTo>
                    <a:close/>
                    <a:moveTo>
                      <a:pt x="727" y="2639"/>
                    </a:moveTo>
                    <a:lnTo>
                      <a:pt x="731" y="2658"/>
                    </a:lnTo>
                    <a:lnTo>
                      <a:pt x="736" y="2691"/>
                    </a:lnTo>
                    <a:lnTo>
                      <a:pt x="698" y="2695"/>
                    </a:lnTo>
                    <a:lnTo>
                      <a:pt x="694" y="2667"/>
                    </a:lnTo>
                    <a:lnTo>
                      <a:pt x="689" y="2648"/>
                    </a:lnTo>
                    <a:lnTo>
                      <a:pt x="727" y="2639"/>
                    </a:lnTo>
                    <a:close/>
                    <a:moveTo>
                      <a:pt x="736" y="2691"/>
                    </a:moveTo>
                    <a:lnTo>
                      <a:pt x="741" y="2719"/>
                    </a:lnTo>
                    <a:lnTo>
                      <a:pt x="746" y="2743"/>
                    </a:lnTo>
                    <a:lnTo>
                      <a:pt x="708" y="2752"/>
                    </a:lnTo>
                    <a:lnTo>
                      <a:pt x="703" y="2724"/>
                    </a:lnTo>
                    <a:lnTo>
                      <a:pt x="698" y="2695"/>
                    </a:lnTo>
                    <a:lnTo>
                      <a:pt x="736" y="2691"/>
                    </a:lnTo>
                    <a:close/>
                    <a:moveTo>
                      <a:pt x="746" y="2743"/>
                    </a:moveTo>
                    <a:lnTo>
                      <a:pt x="750" y="2780"/>
                    </a:lnTo>
                    <a:lnTo>
                      <a:pt x="755" y="2818"/>
                    </a:lnTo>
                    <a:lnTo>
                      <a:pt x="750" y="2832"/>
                    </a:lnTo>
                    <a:lnTo>
                      <a:pt x="746" y="2851"/>
                    </a:lnTo>
                    <a:lnTo>
                      <a:pt x="736" y="2865"/>
                    </a:lnTo>
                    <a:lnTo>
                      <a:pt x="727" y="2884"/>
                    </a:lnTo>
                    <a:lnTo>
                      <a:pt x="698" y="2856"/>
                    </a:lnTo>
                    <a:lnTo>
                      <a:pt x="703" y="2846"/>
                    </a:lnTo>
                    <a:lnTo>
                      <a:pt x="708" y="2832"/>
                    </a:lnTo>
                    <a:lnTo>
                      <a:pt x="713" y="2823"/>
                    </a:lnTo>
                    <a:lnTo>
                      <a:pt x="713" y="2809"/>
                    </a:lnTo>
                    <a:lnTo>
                      <a:pt x="713" y="2780"/>
                    </a:lnTo>
                    <a:lnTo>
                      <a:pt x="708" y="2752"/>
                    </a:lnTo>
                    <a:lnTo>
                      <a:pt x="746" y="2743"/>
                    </a:lnTo>
                    <a:close/>
                    <a:moveTo>
                      <a:pt x="727" y="2884"/>
                    </a:moveTo>
                    <a:lnTo>
                      <a:pt x="708" y="2903"/>
                    </a:lnTo>
                    <a:lnTo>
                      <a:pt x="698" y="2917"/>
                    </a:lnTo>
                    <a:lnTo>
                      <a:pt x="665" y="2894"/>
                    </a:lnTo>
                    <a:lnTo>
                      <a:pt x="679" y="2875"/>
                    </a:lnTo>
                    <a:lnTo>
                      <a:pt x="698" y="2856"/>
                    </a:lnTo>
                    <a:lnTo>
                      <a:pt x="727" y="2884"/>
                    </a:lnTo>
                    <a:close/>
                    <a:moveTo>
                      <a:pt x="665" y="2894"/>
                    </a:moveTo>
                    <a:lnTo>
                      <a:pt x="665" y="2894"/>
                    </a:lnTo>
                    <a:lnTo>
                      <a:pt x="679" y="2908"/>
                    </a:lnTo>
                    <a:lnTo>
                      <a:pt x="665" y="2894"/>
                    </a:lnTo>
                    <a:close/>
                    <a:moveTo>
                      <a:pt x="698" y="2917"/>
                    </a:moveTo>
                    <a:lnTo>
                      <a:pt x="679" y="2941"/>
                    </a:lnTo>
                    <a:lnTo>
                      <a:pt x="656" y="2964"/>
                    </a:lnTo>
                    <a:lnTo>
                      <a:pt x="628" y="2988"/>
                    </a:lnTo>
                    <a:lnTo>
                      <a:pt x="590" y="3012"/>
                    </a:lnTo>
                    <a:lnTo>
                      <a:pt x="576" y="2974"/>
                    </a:lnTo>
                    <a:lnTo>
                      <a:pt x="604" y="2955"/>
                    </a:lnTo>
                    <a:lnTo>
                      <a:pt x="632" y="2936"/>
                    </a:lnTo>
                    <a:lnTo>
                      <a:pt x="651" y="2917"/>
                    </a:lnTo>
                    <a:lnTo>
                      <a:pt x="665" y="2894"/>
                    </a:lnTo>
                    <a:lnTo>
                      <a:pt x="698" y="2917"/>
                    </a:lnTo>
                    <a:close/>
                    <a:moveTo>
                      <a:pt x="590" y="3012"/>
                    </a:moveTo>
                    <a:lnTo>
                      <a:pt x="561" y="3026"/>
                    </a:lnTo>
                    <a:lnTo>
                      <a:pt x="538" y="3040"/>
                    </a:lnTo>
                    <a:lnTo>
                      <a:pt x="519" y="3007"/>
                    </a:lnTo>
                    <a:lnTo>
                      <a:pt x="543" y="2993"/>
                    </a:lnTo>
                    <a:lnTo>
                      <a:pt x="576" y="2974"/>
                    </a:lnTo>
                    <a:lnTo>
                      <a:pt x="590" y="3012"/>
                    </a:lnTo>
                    <a:close/>
                    <a:moveTo>
                      <a:pt x="538" y="3040"/>
                    </a:moveTo>
                    <a:lnTo>
                      <a:pt x="509" y="3054"/>
                    </a:lnTo>
                    <a:lnTo>
                      <a:pt x="486" y="3063"/>
                    </a:lnTo>
                    <a:lnTo>
                      <a:pt x="476" y="3068"/>
                    </a:lnTo>
                    <a:lnTo>
                      <a:pt x="462" y="3068"/>
                    </a:lnTo>
                    <a:lnTo>
                      <a:pt x="448" y="3063"/>
                    </a:lnTo>
                    <a:lnTo>
                      <a:pt x="434" y="3059"/>
                    </a:lnTo>
                    <a:lnTo>
                      <a:pt x="453" y="3021"/>
                    </a:lnTo>
                    <a:lnTo>
                      <a:pt x="467" y="3026"/>
                    </a:lnTo>
                    <a:lnTo>
                      <a:pt x="481" y="3026"/>
                    </a:lnTo>
                    <a:lnTo>
                      <a:pt x="500" y="3016"/>
                    </a:lnTo>
                    <a:lnTo>
                      <a:pt x="519" y="3007"/>
                    </a:lnTo>
                    <a:lnTo>
                      <a:pt x="538" y="3040"/>
                    </a:lnTo>
                    <a:close/>
                    <a:moveTo>
                      <a:pt x="434" y="3059"/>
                    </a:moveTo>
                    <a:lnTo>
                      <a:pt x="420" y="3049"/>
                    </a:lnTo>
                    <a:lnTo>
                      <a:pt x="410" y="3040"/>
                    </a:lnTo>
                    <a:lnTo>
                      <a:pt x="401" y="3026"/>
                    </a:lnTo>
                    <a:lnTo>
                      <a:pt x="396" y="3016"/>
                    </a:lnTo>
                    <a:lnTo>
                      <a:pt x="434" y="2997"/>
                    </a:lnTo>
                    <a:lnTo>
                      <a:pt x="439" y="3012"/>
                    </a:lnTo>
                    <a:lnTo>
                      <a:pt x="453" y="3021"/>
                    </a:lnTo>
                    <a:lnTo>
                      <a:pt x="434" y="3059"/>
                    </a:lnTo>
                    <a:close/>
                    <a:moveTo>
                      <a:pt x="396" y="3016"/>
                    </a:moveTo>
                    <a:lnTo>
                      <a:pt x="391" y="3007"/>
                    </a:lnTo>
                    <a:lnTo>
                      <a:pt x="387" y="3002"/>
                    </a:lnTo>
                    <a:lnTo>
                      <a:pt x="377" y="3002"/>
                    </a:lnTo>
                    <a:lnTo>
                      <a:pt x="358" y="3007"/>
                    </a:lnTo>
                    <a:lnTo>
                      <a:pt x="349" y="2969"/>
                    </a:lnTo>
                    <a:lnTo>
                      <a:pt x="368" y="2964"/>
                    </a:lnTo>
                    <a:lnTo>
                      <a:pt x="387" y="2960"/>
                    </a:lnTo>
                    <a:lnTo>
                      <a:pt x="396" y="2964"/>
                    </a:lnTo>
                    <a:lnTo>
                      <a:pt x="410" y="2969"/>
                    </a:lnTo>
                    <a:lnTo>
                      <a:pt x="425" y="2979"/>
                    </a:lnTo>
                    <a:lnTo>
                      <a:pt x="434" y="2997"/>
                    </a:lnTo>
                    <a:lnTo>
                      <a:pt x="396" y="3016"/>
                    </a:lnTo>
                    <a:close/>
                    <a:moveTo>
                      <a:pt x="358" y="3007"/>
                    </a:moveTo>
                    <a:lnTo>
                      <a:pt x="288" y="3026"/>
                    </a:lnTo>
                    <a:lnTo>
                      <a:pt x="273" y="3030"/>
                    </a:lnTo>
                    <a:lnTo>
                      <a:pt x="259" y="2997"/>
                    </a:lnTo>
                    <a:lnTo>
                      <a:pt x="273" y="2988"/>
                    </a:lnTo>
                    <a:lnTo>
                      <a:pt x="349" y="2969"/>
                    </a:lnTo>
                    <a:lnTo>
                      <a:pt x="358" y="3007"/>
                    </a:lnTo>
                    <a:close/>
                    <a:moveTo>
                      <a:pt x="255" y="3026"/>
                    </a:moveTo>
                    <a:lnTo>
                      <a:pt x="236" y="3007"/>
                    </a:lnTo>
                    <a:lnTo>
                      <a:pt x="259" y="2997"/>
                    </a:lnTo>
                    <a:lnTo>
                      <a:pt x="269" y="3012"/>
                    </a:lnTo>
                    <a:lnTo>
                      <a:pt x="255" y="3026"/>
                    </a:lnTo>
                    <a:close/>
                    <a:moveTo>
                      <a:pt x="283" y="3002"/>
                    </a:moveTo>
                    <a:lnTo>
                      <a:pt x="292" y="3016"/>
                    </a:lnTo>
                    <a:lnTo>
                      <a:pt x="321" y="3049"/>
                    </a:lnTo>
                    <a:lnTo>
                      <a:pt x="344" y="3087"/>
                    </a:lnTo>
                    <a:lnTo>
                      <a:pt x="358" y="3120"/>
                    </a:lnTo>
                    <a:lnTo>
                      <a:pt x="316" y="3120"/>
                    </a:lnTo>
                    <a:lnTo>
                      <a:pt x="283" y="3068"/>
                    </a:lnTo>
                    <a:lnTo>
                      <a:pt x="255" y="3026"/>
                    </a:lnTo>
                    <a:lnTo>
                      <a:pt x="283" y="3002"/>
                    </a:lnTo>
                    <a:close/>
                    <a:moveTo>
                      <a:pt x="358" y="3120"/>
                    </a:moveTo>
                    <a:lnTo>
                      <a:pt x="344" y="3153"/>
                    </a:lnTo>
                    <a:lnTo>
                      <a:pt x="325" y="3191"/>
                    </a:lnTo>
                    <a:lnTo>
                      <a:pt x="292" y="3167"/>
                    </a:lnTo>
                    <a:lnTo>
                      <a:pt x="306" y="3139"/>
                    </a:lnTo>
                    <a:lnTo>
                      <a:pt x="316" y="3120"/>
                    </a:lnTo>
                    <a:lnTo>
                      <a:pt x="358" y="3120"/>
                    </a:lnTo>
                    <a:close/>
                    <a:moveTo>
                      <a:pt x="325" y="3191"/>
                    </a:moveTo>
                    <a:lnTo>
                      <a:pt x="302" y="3224"/>
                    </a:lnTo>
                    <a:lnTo>
                      <a:pt x="292" y="3248"/>
                    </a:lnTo>
                    <a:lnTo>
                      <a:pt x="255" y="3248"/>
                    </a:lnTo>
                    <a:lnTo>
                      <a:pt x="255" y="3229"/>
                    </a:lnTo>
                    <a:lnTo>
                      <a:pt x="264" y="3210"/>
                    </a:lnTo>
                    <a:lnTo>
                      <a:pt x="278" y="3191"/>
                    </a:lnTo>
                    <a:lnTo>
                      <a:pt x="292" y="3167"/>
                    </a:lnTo>
                    <a:lnTo>
                      <a:pt x="325" y="3191"/>
                    </a:lnTo>
                    <a:close/>
                    <a:moveTo>
                      <a:pt x="292" y="3248"/>
                    </a:moveTo>
                    <a:lnTo>
                      <a:pt x="292" y="3266"/>
                    </a:lnTo>
                    <a:lnTo>
                      <a:pt x="302" y="3290"/>
                    </a:lnTo>
                    <a:lnTo>
                      <a:pt x="264" y="3299"/>
                    </a:lnTo>
                    <a:lnTo>
                      <a:pt x="255" y="3276"/>
                    </a:lnTo>
                    <a:lnTo>
                      <a:pt x="255" y="3248"/>
                    </a:lnTo>
                    <a:lnTo>
                      <a:pt x="292" y="3248"/>
                    </a:lnTo>
                    <a:close/>
                    <a:moveTo>
                      <a:pt x="302" y="3290"/>
                    </a:moveTo>
                    <a:lnTo>
                      <a:pt x="311" y="3328"/>
                    </a:lnTo>
                    <a:lnTo>
                      <a:pt x="311" y="3366"/>
                    </a:lnTo>
                    <a:lnTo>
                      <a:pt x="273" y="3366"/>
                    </a:lnTo>
                    <a:lnTo>
                      <a:pt x="269" y="3333"/>
                    </a:lnTo>
                    <a:lnTo>
                      <a:pt x="264" y="3299"/>
                    </a:lnTo>
                    <a:lnTo>
                      <a:pt x="302" y="3290"/>
                    </a:lnTo>
                    <a:close/>
                    <a:moveTo>
                      <a:pt x="311" y="3366"/>
                    </a:moveTo>
                    <a:lnTo>
                      <a:pt x="316" y="3380"/>
                    </a:lnTo>
                    <a:lnTo>
                      <a:pt x="330" y="3389"/>
                    </a:lnTo>
                    <a:lnTo>
                      <a:pt x="344" y="3403"/>
                    </a:lnTo>
                    <a:lnTo>
                      <a:pt x="363" y="3413"/>
                    </a:lnTo>
                    <a:lnTo>
                      <a:pt x="396" y="3427"/>
                    </a:lnTo>
                    <a:lnTo>
                      <a:pt x="410" y="3432"/>
                    </a:lnTo>
                    <a:lnTo>
                      <a:pt x="401" y="3469"/>
                    </a:lnTo>
                    <a:lnTo>
                      <a:pt x="382" y="3465"/>
                    </a:lnTo>
                    <a:lnTo>
                      <a:pt x="335" y="3441"/>
                    </a:lnTo>
                    <a:lnTo>
                      <a:pt x="316" y="3427"/>
                    </a:lnTo>
                    <a:lnTo>
                      <a:pt x="292" y="3408"/>
                    </a:lnTo>
                    <a:lnTo>
                      <a:pt x="278" y="3389"/>
                    </a:lnTo>
                    <a:lnTo>
                      <a:pt x="273" y="3366"/>
                    </a:lnTo>
                    <a:lnTo>
                      <a:pt x="311" y="3366"/>
                    </a:lnTo>
                    <a:close/>
                    <a:moveTo>
                      <a:pt x="410" y="3432"/>
                    </a:moveTo>
                    <a:lnTo>
                      <a:pt x="420" y="3436"/>
                    </a:lnTo>
                    <a:lnTo>
                      <a:pt x="420" y="3441"/>
                    </a:lnTo>
                    <a:lnTo>
                      <a:pt x="406" y="3451"/>
                    </a:lnTo>
                    <a:lnTo>
                      <a:pt x="410" y="3432"/>
                    </a:lnTo>
                    <a:close/>
                    <a:moveTo>
                      <a:pt x="420" y="3441"/>
                    </a:moveTo>
                    <a:lnTo>
                      <a:pt x="467" y="3498"/>
                    </a:lnTo>
                    <a:lnTo>
                      <a:pt x="434" y="3521"/>
                    </a:lnTo>
                    <a:lnTo>
                      <a:pt x="391" y="3465"/>
                    </a:lnTo>
                    <a:lnTo>
                      <a:pt x="420" y="3441"/>
                    </a:lnTo>
                    <a:close/>
                    <a:moveTo>
                      <a:pt x="467" y="3498"/>
                    </a:moveTo>
                    <a:lnTo>
                      <a:pt x="467" y="3498"/>
                    </a:lnTo>
                    <a:lnTo>
                      <a:pt x="467" y="3502"/>
                    </a:lnTo>
                    <a:lnTo>
                      <a:pt x="448" y="3512"/>
                    </a:lnTo>
                    <a:lnTo>
                      <a:pt x="467" y="3498"/>
                    </a:lnTo>
                    <a:close/>
                    <a:moveTo>
                      <a:pt x="467" y="3502"/>
                    </a:moveTo>
                    <a:lnTo>
                      <a:pt x="552" y="3644"/>
                    </a:lnTo>
                    <a:lnTo>
                      <a:pt x="519" y="3663"/>
                    </a:lnTo>
                    <a:lnTo>
                      <a:pt x="434" y="3521"/>
                    </a:lnTo>
                    <a:lnTo>
                      <a:pt x="467" y="3502"/>
                    </a:lnTo>
                    <a:close/>
                    <a:moveTo>
                      <a:pt x="552" y="3644"/>
                    </a:moveTo>
                    <a:lnTo>
                      <a:pt x="552" y="3649"/>
                    </a:lnTo>
                    <a:lnTo>
                      <a:pt x="552" y="3653"/>
                    </a:lnTo>
                    <a:lnTo>
                      <a:pt x="533" y="3653"/>
                    </a:lnTo>
                    <a:lnTo>
                      <a:pt x="552" y="3644"/>
                    </a:lnTo>
                    <a:close/>
                    <a:moveTo>
                      <a:pt x="552" y="3653"/>
                    </a:moveTo>
                    <a:lnTo>
                      <a:pt x="557" y="3701"/>
                    </a:lnTo>
                    <a:lnTo>
                      <a:pt x="552" y="3786"/>
                    </a:lnTo>
                    <a:lnTo>
                      <a:pt x="514" y="3781"/>
                    </a:lnTo>
                    <a:lnTo>
                      <a:pt x="519" y="3701"/>
                    </a:lnTo>
                    <a:lnTo>
                      <a:pt x="514" y="3658"/>
                    </a:lnTo>
                    <a:lnTo>
                      <a:pt x="552" y="3653"/>
                    </a:lnTo>
                    <a:close/>
                    <a:moveTo>
                      <a:pt x="552" y="3786"/>
                    </a:moveTo>
                    <a:lnTo>
                      <a:pt x="543" y="3819"/>
                    </a:lnTo>
                    <a:lnTo>
                      <a:pt x="533" y="3842"/>
                    </a:lnTo>
                    <a:lnTo>
                      <a:pt x="495" y="3823"/>
                    </a:lnTo>
                    <a:lnTo>
                      <a:pt x="509" y="3800"/>
                    </a:lnTo>
                    <a:lnTo>
                      <a:pt x="514" y="3781"/>
                    </a:lnTo>
                    <a:lnTo>
                      <a:pt x="552" y="3786"/>
                    </a:lnTo>
                    <a:close/>
                    <a:moveTo>
                      <a:pt x="533" y="3842"/>
                    </a:moveTo>
                    <a:lnTo>
                      <a:pt x="524" y="3861"/>
                    </a:lnTo>
                    <a:lnTo>
                      <a:pt x="524" y="3871"/>
                    </a:lnTo>
                    <a:lnTo>
                      <a:pt x="491" y="3899"/>
                    </a:lnTo>
                    <a:lnTo>
                      <a:pt x="481" y="3880"/>
                    </a:lnTo>
                    <a:lnTo>
                      <a:pt x="481" y="3861"/>
                    </a:lnTo>
                    <a:lnTo>
                      <a:pt x="486" y="3842"/>
                    </a:lnTo>
                    <a:lnTo>
                      <a:pt x="495" y="3823"/>
                    </a:lnTo>
                    <a:lnTo>
                      <a:pt x="533" y="3842"/>
                    </a:lnTo>
                    <a:close/>
                    <a:moveTo>
                      <a:pt x="524" y="3871"/>
                    </a:moveTo>
                    <a:lnTo>
                      <a:pt x="533" y="3885"/>
                    </a:lnTo>
                    <a:lnTo>
                      <a:pt x="547" y="3889"/>
                    </a:lnTo>
                    <a:lnTo>
                      <a:pt x="524" y="3923"/>
                    </a:lnTo>
                    <a:lnTo>
                      <a:pt x="509" y="3913"/>
                    </a:lnTo>
                    <a:lnTo>
                      <a:pt x="491" y="3899"/>
                    </a:lnTo>
                    <a:lnTo>
                      <a:pt x="524" y="3871"/>
                    </a:lnTo>
                    <a:close/>
                    <a:moveTo>
                      <a:pt x="524" y="3923"/>
                    </a:moveTo>
                    <a:lnTo>
                      <a:pt x="524" y="3923"/>
                    </a:lnTo>
                    <a:lnTo>
                      <a:pt x="533" y="3908"/>
                    </a:lnTo>
                    <a:lnTo>
                      <a:pt x="524" y="3923"/>
                    </a:lnTo>
                    <a:close/>
                    <a:moveTo>
                      <a:pt x="547" y="3889"/>
                    </a:moveTo>
                    <a:lnTo>
                      <a:pt x="557" y="3899"/>
                    </a:lnTo>
                    <a:lnTo>
                      <a:pt x="566" y="3908"/>
                    </a:lnTo>
                    <a:lnTo>
                      <a:pt x="571" y="3923"/>
                    </a:lnTo>
                    <a:lnTo>
                      <a:pt x="576" y="3937"/>
                    </a:lnTo>
                    <a:lnTo>
                      <a:pt x="538" y="3937"/>
                    </a:lnTo>
                    <a:lnTo>
                      <a:pt x="533" y="3932"/>
                    </a:lnTo>
                    <a:lnTo>
                      <a:pt x="524" y="3923"/>
                    </a:lnTo>
                    <a:lnTo>
                      <a:pt x="547" y="3889"/>
                    </a:lnTo>
                    <a:close/>
                    <a:moveTo>
                      <a:pt x="576" y="3937"/>
                    </a:moveTo>
                    <a:lnTo>
                      <a:pt x="576" y="3946"/>
                    </a:lnTo>
                    <a:lnTo>
                      <a:pt x="576" y="3960"/>
                    </a:lnTo>
                    <a:lnTo>
                      <a:pt x="538" y="3965"/>
                    </a:lnTo>
                    <a:lnTo>
                      <a:pt x="538" y="3951"/>
                    </a:lnTo>
                    <a:lnTo>
                      <a:pt x="538" y="3937"/>
                    </a:lnTo>
                    <a:lnTo>
                      <a:pt x="576" y="3937"/>
                    </a:lnTo>
                    <a:close/>
                    <a:moveTo>
                      <a:pt x="538" y="3965"/>
                    </a:moveTo>
                    <a:lnTo>
                      <a:pt x="538" y="3965"/>
                    </a:lnTo>
                    <a:lnTo>
                      <a:pt x="557" y="3960"/>
                    </a:lnTo>
                    <a:lnTo>
                      <a:pt x="538" y="3965"/>
                    </a:lnTo>
                    <a:close/>
                    <a:moveTo>
                      <a:pt x="576" y="3960"/>
                    </a:moveTo>
                    <a:lnTo>
                      <a:pt x="580" y="3993"/>
                    </a:lnTo>
                    <a:lnTo>
                      <a:pt x="580" y="4031"/>
                    </a:lnTo>
                    <a:lnTo>
                      <a:pt x="580" y="4050"/>
                    </a:lnTo>
                    <a:lnTo>
                      <a:pt x="571" y="4069"/>
                    </a:lnTo>
                    <a:lnTo>
                      <a:pt x="561" y="4083"/>
                    </a:lnTo>
                    <a:lnTo>
                      <a:pt x="547" y="4097"/>
                    </a:lnTo>
                    <a:lnTo>
                      <a:pt x="524" y="4069"/>
                    </a:lnTo>
                    <a:lnTo>
                      <a:pt x="533" y="4059"/>
                    </a:lnTo>
                    <a:lnTo>
                      <a:pt x="538" y="4045"/>
                    </a:lnTo>
                    <a:lnTo>
                      <a:pt x="543" y="4031"/>
                    </a:lnTo>
                    <a:lnTo>
                      <a:pt x="543" y="4017"/>
                    </a:lnTo>
                    <a:lnTo>
                      <a:pt x="543" y="3989"/>
                    </a:lnTo>
                    <a:lnTo>
                      <a:pt x="538" y="3965"/>
                    </a:lnTo>
                    <a:lnTo>
                      <a:pt x="576" y="3960"/>
                    </a:lnTo>
                    <a:close/>
                    <a:moveTo>
                      <a:pt x="547" y="4097"/>
                    </a:moveTo>
                    <a:lnTo>
                      <a:pt x="533" y="4111"/>
                    </a:lnTo>
                    <a:lnTo>
                      <a:pt x="519" y="4121"/>
                    </a:lnTo>
                    <a:lnTo>
                      <a:pt x="495" y="4088"/>
                    </a:lnTo>
                    <a:lnTo>
                      <a:pt x="509" y="4078"/>
                    </a:lnTo>
                    <a:lnTo>
                      <a:pt x="524" y="4069"/>
                    </a:lnTo>
                    <a:lnTo>
                      <a:pt x="547" y="4097"/>
                    </a:lnTo>
                    <a:close/>
                    <a:moveTo>
                      <a:pt x="519" y="4121"/>
                    </a:moveTo>
                    <a:lnTo>
                      <a:pt x="495" y="4135"/>
                    </a:lnTo>
                    <a:lnTo>
                      <a:pt x="476" y="4149"/>
                    </a:lnTo>
                    <a:lnTo>
                      <a:pt x="467" y="4163"/>
                    </a:lnTo>
                    <a:lnTo>
                      <a:pt x="462" y="4177"/>
                    </a:lnTo>
                    <a:lnTo>
                      <a:pt x="425" y="4177"/>
                    </a:lnTo>
                    <a:lnTo>
                      <a:pt x="425" y="4163"/>
                    </a:lnTo>
                    <a:lnTo>
                      <a:pt x="429" y="4154"/>
                    </a:lnTo>
                    <a:lnTo>
                      <a:pt x="434" y="4140"/>
                    </a:lnTo>
                    <a:lnTo>
                      <a:pt x="443" y="4130"/>
                    </a:lnTo>
                    <a:lnTo>
                      <a:pt x="467" y="4107"/>
                    </a:lnTo>
                    <a:lnTo>
                      <a:pt x="495" y="4088"/>
                    </a:lnTo>
                    <a:lnTo>
                      <a:pt x="519" y="4121"/>
                    </a:lnTo>
                    <a:close/>
                    <a:moveTo>
                      <a:pt x="462" y="4177"/>
                    </a:moveTo>
                    <a:lnTo>
                      <a:pt x="467" y="4215"/>
                    </a:lnTo>
                    <a:lnTo>
                      <a:pt x="476" y="4267"/>
                    </a:lnTo>
                    <a:lnTo>
                      <a:pt x="486" y="4310"/>
                    </a:lnTo>
                    <a:lnTo>
                      <a:pt x="491" y="4328"/>
                    </a:lnTo>
                    <a:lnTo>
                      <a:pt x="453" y="4338"/>
                    </a:lnTo>
                    <a:lnTo>
                      <a:pt x="448" y="4319"/>
                    </a:lnTo>
                    <a:lnTo>
                      <a:pt x="439" y="4272"/>
                    </a:lnTo>
                    <a:lnTo>
                      <a:pt x="429" y="4220"/>
                    </a:lnTo>
                    <a:lnTo>
                      <a:pt x="425" y="4177"/>
                    </a:lnTo>
                    <a:lnTo>
                      <a:pt x="462" y="4177"/>
                    </a:lnTo>
                    <a:close/>
                    <a:moveTo>
                      <a:pt x="462" y="4352"/>
                    </a:moveTo>
                    <a:lnTo>
                      <a:pt x="453" y="4347"/>
                    </a:lnTo>
                    <a:lnTo>
                      <a:pt x="453" y="4338"/>
                    </a:lnTo>
                    <a:lnTo>
                      <a:pt x="472" y="4333"/>
                    </a:lnTo>
                    <a:lnTo>
                      <a:pt x="462" y="4352"/>
                    </a:lnTo>
                    <a:close/>
                    <a:moveTo>
                      <a:pt x="476" y="4314"/>
                    </a:moveTo>
                    <a:lnTo>
                      <a:pt x="519" y="4333"/>
                    </a:lnTo>
                    <a:lnTo>
                      <a:pt x="590" y="4371"/>
                    </a:lnTo>
                    <a:lnTo>
                      <a:pt x="566" y="4404"/>
                    </a:lnTo>
                    <a:lnTo>
                      <a:pt x="505" y="4366"/>
                    </a:lnTo>
                    <a:lnTo>
                      <a:pt x="462" y="4352"/>
                    </a:lnTo>
                    <a:lnTo>
                      <a:pt x="476" y="4314"/>
                    </a:lnTo>
                    <a:close/>
                    <a:moveTo>
                      <a:pt x="590" y="4371"/>
                    </a:moveTo>
                    <a:lnTo>
                      <a:pt x="604" y="4380"/>
                    </a:lnTo>
                    <a:lnTo>
                      <a:pt x="618" y="4380"/>
                    </a:lnTo>
                    <a:lnTo>
                      <a:pt x="609" y="4423"/>
                    </a:lnTo>
                    <a:lnTo>
                      <a:pt x="590" y="4418"/>
                    </a:lnTo>
                    <a:lnTo>
                      <a:pt x="566" y="4404"/>
                    </a:lnTo>
                    <a:lnTo>
                      <a:pt x="590" y="4371"/>
                    </a:lnTo>
                    <a:close/>
                    <a:moveTo>
                      <a:pt x="618" y="4380"/>
                    </a:moveTo>
                    <a:lnTo>
                      <a:pt x="637" y="4385"/>
                    </a:lnTo>
                    <a:lnTo>
                      <a:pt x="651" y="4394"/>
                    </a:lnTo>
                    <a:lnTo>
                      <a:pt x="656" y="4404"/>
                    </a:lnTo>
                    <a:lnTo>
                      <a:pt x="661" y="4413"/>
                    </a:lnTo>
                    <a:lnTo>
                      <a:pt x="665" y="4423"/>
                    </a:lnTo>
                    <a:lnTo>
                      <a:pt x="665" y="4442"/>
                    </a:lnTo>
                    <a:lnTo>
                      <a:pt x="628" y="4442"/>
                    </a:lnTo>
                    <a:lnTo>
                      <a:pt x="628" y="4432"/>
                    </a:lnTo>
                    <a:lnTo>
                      <a:pt x="623" y="4428"/>
                    </a:lnTo>
                    <a:lnTo>
                      <a:pt x="618" y="4423"/>
                    </a:lnTo>
                    <a:lnTo>
                      <a:pt x="609" y="4423"/>
                    </a:lnTo>
                    <a:lnTo>
                      <a:pt x="618" y="4380"/>
                    </a:lnTo>
                    <a:close/>
                    <a:moveTo>
                      <a:pt x="665" y="4442"/>
                    </a:moveTo>
                    <a:lnTo>
                      <a:pt x="661" y="4479"/>
                    </a:lnTo>
                    <a:lnTo>
                      <a:pt x="656" y="4517"/>
                    </a:lnTo>
                    <a:lnTo>
                      <a:pt x="646" y="4536"/>
                    </a:lnTo>
                    <a:lnTo>
                      <a:pt x="642" y="4546"/>
                    </a:lnTo>
                    <a:lnTo>
                      <a:pt x="609" y="4527"/>
                    </a:lnTo>
                    <a:lnTo>
                      <a:pt x="618" y="4503"/>
                    </a:lnTo>
                    <a:lnTo>
                      <a:pt x="628" y="4442"/>
                    </a:lnTo>
                    <a:lnTo>
                      <a:pt x="665" y="4442"/>
                    </a:lnTo>
                    <a:close/>
                    <a:moveTo>
                      <a:pt x="604" y="4541"/>
                    </a:moveTo>
                    <a:lnTo>
                      <a:pt x="604" y="4531"/>
                    </a:lnTo>
                    <a:lnTo>
                      <a:pt x="609" y="4527"/>
                    </a:lnTo>
                    <a:lnTo>
                      <a:pt x="628" y="4536"/>
                    </a:lnTo>
                    <a:lnTo>
                      <a:pt x="604" y="4541"/>
                    </a:lnTo>
                    <a:close/>
                    <a:moveTo>
                      <a:pt x="646" y="4536"/>
                    </a:moveTo>
                    <a:lnTo>
                      <a:pt x="646" y="4546"/>
                    </a:lnTo>
                    <a:lnTo>
                      <a:pt x="651" y="4564"/>
                    </a:lnTo>
                    <a:lnTo>
                      <a:pt x="661" y="4579"/>
                    </a:lnTo>
                    <a:lnTo>
                      <a:pt x="665" y="4588"/>
                    </a:lnTo>
                    <a:lnTo>
                      <a:pt x="675" y="4597"/>
                    </a:lnTo>
                    <a:lnTo>
                      <a:pt x="689" y="4602"/>
                    </a:lnTo>
                    <a:lnTo>
                      <a:pt x="679" y="4640"/>
                    </a:lnTo>
                    <a:lnTo>
                      <a:pt x="661" y="4635"/>
                    </a:lnTo>
                    <a:lnTo>
                      <a:pt x="642" y="4621"/>
                    </a:lnTo>
                    <a:lnTo>
                      <a:pt x="628" y="4602"/>
                    </a:lnTo>
                    <a:lnTo>
                      <a:pt x="618" y="4588"/>
                    </a:lnTo>
                    <a:lnTo>
                      <a:pt x="609" y="4555"/>
                    </a:lnTo>
                    <a:lnTo>
                      <a:pt x="604" y="4541"/>
                    </a:lnTo>
                    <a:lnTo>
                      <a:pt x="646" y="4536"/>
                    </a:lnTo>
                    <a:close/>
                    <a:moveTo>
                      <a:pt x="689" y="4602"/>
                    </a:moveTo>
                    <a:lnTo>
                      <a:pt x="708" y="4612"/>
                    </a:lnTo>
                    <a:lnTo>
                      <a:pt x="722" y="4616"/>
                    </a:lnTo>
                    <a:lnTo>
                      <a:pt x="727" y="4626"/>
                    </a:lnTo>
                    <a:lnTo>
                      <a:pt x="731" y="4630"/>
                    </a:lnTo>
                    <a:lnTo>
                      <a:pt x="698" y="4649"/>
                    </a:lnTo>
                    <a:lnTo>
                      <a:pt x="694" y="4645"/>
                    </a:lnTo>
                    <a:lnTo>
                      <a:pt x="679" y="4640"/>
                    </a:lnTo>
                    <a:lnTo>
                      <a:pt x="689" y="4602"/>
                    </a:lnTo>
                    <a:close/>
                    <a:moveTo>
                      <a:pt x="731" y="4630"/>
                    </a:moveTo>
                    <a:lnTo>
                      <a:pt x="722" y="4626"/>
                    </a:lnTo>
                    <a:lnTo>
                      <a:pt x="717" y="4621"/>
                    </a:lnTo>
                    <a:lnTo>
                      <a:pt x="717" y="4664"/>
                    </a:lnTo>
                    <a:lnTo>
                      <a:pt x="703" y="4659"/>
                    </a:lnTo>
                    <a:lnTo>
                      <a:pt x="698" y="4649"/>
                    </a:lnTo>
                    <a:lnTo>
                      <a:pt x="731" y="4630"/>
                    </a:lnTo>
                    <a:close/>
                    <a:moveTo>
                      <a:pt x="717" y="4621"/>
                    </a:moveTo>
                    <a:lnTo>
                      <a:pt x="713" y="4621"/>
                    </a:lnTo>
                    <a:lnTo>
                      <a:pt x="708" y="4621"/>
                    </a:lnTo>
                    <a:lnTo>
                      <a:pt x="736" y="4649"/>
                    </a:lnTo>
                    <a:lnTo>
                      <a:pt x="727" y="4659"/>
                    </a:lnTo>
                    <a:lnTo>
                      <a:pt x="717" y="4664"/>
                    </a:lnTo>
                    <a:lnTo>
                      <a:pt x="717" y="4621"/>
                    </a:lnTo>
                    <a:close/>
                    <a:moveTo>
                      <a:pt x="708" y="4621"/>
                    </a:moveTo>
                    <a:lnTo>
                      <a:pt x="713" y="4616"/>
                    </a:lnTo>
                    <a:lnTo>
                      <a:pt x="717" y="4612"/>
                    </a:lnTo>
                    <a:lnTo>
                      <a:pt x="746" y="4635"/>
                    </a:lnTo>
                    <a:lnTo>
                      <a:pt x="741" y="4645"/>
                    </a:lnTo>
                    <a:lnTo>
                      <a:pt x="736" y="4649"/>
                    </a:lnTo>
                    <a:lnTo>
                      <a:pt x="708" y="4621"/>
                    </a:lnTo>
                    <a:close/>
                    <a:moveTo>
                      <a:pt x="717" y="4612"/>
                    </a:moveTo>
                    <a:lnTo>
                      <a:pt x="755" y="4555"/>
                    </a:lnTo>
                    <a:lnTo>
                      <a:pt x="774" y="4522"/>
                    </a:lnTo>
                    <a:lnTo>
                      <a:pt x="807" y="4541"/>
                    </a:lnTo>
                    <a:lnTo>
                      <a:pt x="793" y="4574"/>
                    </a:lnTo>
                    <a:lnTo>
                      <a:pt x="746" y="4635"/>
                    </a:lnTo>
                    <a:lnTo>
                      <a:pt x="717" y="4612"/>
                    </a:lnTo>
                    <a:close/>
                    <a:moveTo>
                      <a:pt x="774" y="4522"/>
                    </a:moveTo>
                    <a:lnTo>
                      <a:pt x="779" y="4512"/>
                    </a:lnTo>
                    <a:lnTo>
                      <a:pt x="788" y="4512"/>
                    </a:lnTo>
                    <a:lnTo>
                      <a:pt x="793" y="4531"/>
                    </a:lnTo>
                    <a:lnTo>
                      <a:pt x="774" y="4522"/>
                    </a:lnTo>
                    <a:close/>
                    <a:moveTo>
                      <a:pt x="788" y="4512"/>
                    </a:moveTo>
                    <a:lnTo>
                      <a:pt x="812" y="4508"/>
                    </a:lnTo>
                    <a:lnTo>
                      <a:pt x="859" y="4508"/>
                    </a:lnTo>
                    <a:lnTo>
                      <a:pt x="887" y="4512"/>
                    </a:lnTo>
                    <a:lnTo>
                      <a:pt x="916" y="4517"/>
                    </a:lnTo>
                    <a:lnTo>
                      <a:pt x="939" y="4531"/>
                    </a:lnTo>
                    <a:lnTo>
                      <a:pt x="958" y="4550"/>
                    </a:lnTo>
                    <a:lnTo>
                      <a:pt x="925" y="4569"/>
                    </a:lnTo>
                    <a:lnTo>
                      <a:pt x="911" y="4555"/>
                    </a:lnTo>
                    <a:lnTo>
                      <a:pt x="897" y="4550"/>
                    </a:lnTo>
                    <a:lnTo>
                      <a:pt x="873" y="4546"/>
                    </a:lnTo>
                    <a:lnTo>
                      <a:pt x="849" y="4546"/>
                    </a:lnTo>
                    <a:lnTo>
                      <a:pt x="812" y="4550"/>
                    </a:lnTo>
                    <a:lnTo>
                      <a:pt x="793" y="4550"/>
                    </a:lnTo>
                    <a:lnTo>
                      <a:pt x="788" y="4512"/>
                    </a:lnTo>
                    <a:close/>
                    <a:moveTo>
                      <a:pt x="958" y="4550"/>
                    </a:moveTo>
                    <a:lnTo>
                      <a:pt x="967" y="4574"/>
                    </a:lnTo>
                    <a:lnTo>
                      <a:pt x="977" y="4607"/>
                    </a:lnTo>
                    <a:lnTo>
                      <a:pt x="986" y="4640"/>
                    </a:lnTo>
                    <a:lnTo>
                      <a:pt x="991" y="4678"/>
                    </a:lnTo>
                    <a:lnTo>
                      <a:pt x="953" y="4682"/>
                    </a:lnTo>
                    <a:lnTo>
                      <a:pt x="939" y="4616"/>
                    </a:lnTo>
                    <a:lnTo>
                      <a:pt x="925" y="4569"/>
                    </a:lnTo>
                    <a:lnTo>
                      <a:pt x="958" y="4550"/>
                    </a:lnTo>
                    <a:close/>
                    <a:moveTo>
                      <a:pt x="991" y="4678"/>
                    </a:moveTo>
                    <a:lnTo>
                      <a:pt x="996" y="4725"/>
                    </a:lnTo>
                    <a:lnTo>
                      <a:pt x="1010" y="4777"/>
                    </a:lnTo>
                    <a:lnTo>
                      <a:pt x="967" y="4786"/>
                    </a:lnTo>
                    <a:lnTo>
                      <a:pt x="958" y="4734"/>
                    </a:lnTo>
                    <a:lnTo>
                      <a:pt x="953" y="4682"/>
                    </a:lnTo>
                    <a:lnTo>
                      <a:pt x="991" y="4678"/>
                    </a:lnTo>
                    <a:close/>
                    <a:moveTo>
                      <a:pt x="1010" y="4777"/>
                    </a:moveTo>
                    <a:lnTo>
                      <a:pt x="1015" y="4805"/>
                    </a:lnTo>
                    <a:lnTo>
                      <a:pt x="1029" y="4829"/>
                    </a:lnTo>
                    <a:lnTo>
                      <a:pt x="1038" y="4848"/>
                    </a:lnTo>
                    <a:lnTo>
                      <a:pt x="1048" y="4862"/>
                    </a:lnTo>
                    <a:lnTo>
                      <a:pt x="1071" y="4876"/>
                    </a:lnTo>
                    <a:lnTo>
                      <a:pt x="1076" y="4881"/>
                    </a:lnTo>
                    <a:lnTo>
                      <a:pt x="1062" y="4918"/>
                    </a:lnTo>
                    <a:lnTo>
                      <a:pt x="1048" y="4914"/>
                    </a:lnTo>
                    <a:lnTo>
                      <a:pt x="1024" y="4890"/>
                    </a:lnTo>
                    <a:lnTo>
                      <a:pt x="1010" y="4871"/>
                    </a:lnTo>
                    <a:lnTo>
                      <a:pt x="996" y="4852"/>
                    </a:lnTo>
                    <a:lnTo>
                      <a:pt x="982" y="4824"/>
                    </a:lnTo>
                    <a:lnTo>
                      <a:pt x="967" y="4786"/>
                    </a:lnTo>
                    <a:lnTo>
                      <a:pt x="1010" y="4777"/>
                    </a:lnTo>
                    <a:close/>
                    <a:moveTo>
                      <a:pt x="1076" y="4881"/>
                    </a:moveTo>
                    <a:lnTo>
                      <a:pt x="1081" y="4885"/>
                    </a:lnTo>
                    <a:lnTo>
                      <a:pt x="1085" y="4890"/>
                    </a:lnTo>
                    <a:lnTo>
                      <a:pt x="1071" y="4900"/>
                    </a:lnTo>
                    <a:lnTo>
                      <a:pt x="1076" y="4881"/>
                    </a:lnTo>
                    <a:close/>
                    <a:moveTo>
                      <a:pt x="1085" y="4890"/>
                    </a:moveTo>
                    <a:lnTo>
                      <a:pt x="1095" y="4904"/>
                    </a:lnTo>
                    <a:lnTo>
                      <a:pt x="1128" y="4942"/>
                    </a:lnTo>
                    <a:lnTo>
                      <a:pt x="1095" y="4966"/>
                    </a:lnTo>
                    <a:lnTo>
                      <a:pt x="1067" y="4928"/>
                    </a:lnTo>
                    <a:lnTo>
                      <a:pt x="1052" y="4914"/>
                    </a:lnTo>
                    <a:lnTo>
                      <a:pt x="1085" y="4890"/>
                    </a:lnTo>
                    <a:close/>
                    <a:moveTo>
                      <a:pt x="1128" y="4942"/>
                    </a:moveTo>
                    <a:lnTo>
                      <a:pt x="1137" y="4947"/>
                    </a:lnTo>
                    <a:lnTo>
                      <a:pt x="1152" y="4947"/>
                    </a:lnTo>
                    <a:lnTo>
                      <a:pt x="1152" y="4989"/>
                    </a:lnTo>
                    <a:lnTo>
                      <a:pt x="1137" y="4989"/>
                    </a:lnTo>
                    <a:lnTo>
                      <a:pt x="1123" y="4984"/>
                    </a:lnTo>
                    <a:lnTo>
                      <a:pt x="1109" y="4980"/>
                    </a:lnTo>
                    <a:lnTo>
                      <a:pt x="1095" y="4966"/>
                    </a:lnTo>
                    <a:lnTo>
                      <a:pt x="1128" y="4942"/>
                    </a:lnTo>
                    <a:close/>
                    <a:moveTo>
                      <a:pt x="1152" y="4947"/>
                    </a:moveTo>
                    <a:lnTo>
                      <a:pt x="1170" y="4951"/>
                    </a:lnTo>
                    <a:lnTo>
                      <a:pt x="1189" y="4956"/>
                    </a:lnTo>
                    <a:lnTo>
                      <a:pt x="1199" y="4966"/>
                    </a:lnTo>
                    <a:lnTo>
                      <a:pt x="1204" y="4975"/>
                    </a:lnTo>
                    <a:lnTo>
                      <a:pt x="1204" y="4989"/>
                    </a:lnTo>
                    <a:lnTo>
                      <a:pt x="1208" y="5008"/>
                    </a:lnTo>
                    <a:lnTo>
                      <a:pt x="1166" y="5008"/>
                    </a:lnTo>
                    <a:lnTo>
                      <a:pt x="1166" y="4999"/>
                    </a:lnTo>
                    <a:lnTo>
                      <a:pt x="1161" y="4989"/>
                    </a:lnTo>
                    <a:lnTo>
                      <a:pt x="1156" y="4989"/>
                    </a:lnTo>
                    <a:lnTo>
                      <a:pt x="1152" y="4989"/>
                    </a:lnTo>
                    <a:lnTo>
                      <a:pt x="1152" y="4947"/>
                    </a:lnTo>
                    <a:close/>
                    <a:moveTo>
                      <a:pt x="1208" y="5008"/>
                    </a:moveTo>
                    <a:lnTo>
                      <a:pt x="1204" y="5036"/>
                    </a:lnTo>
                    <a:lnTo>
                      <a:pt x="1194" y="5060"/>
                    </a:lnTo>
                    <a:lnTo>
                      <a:pt x="1185" y="5084"/>
                    </a:lnTo>
                    <a:lnTo>
                      <a:pt x="1170" y="5102"/>
                    </a:lnTo>
                    <a:lnTo>
                      <a:pt x="1137" y="5079"/>
                    </a:lnTo>
                    <a:lnTo>
                      <a:pt x="1147" y="5065"/>
                    </a:lnTo>
                    <a:lnTo>
                      <a:pt x="1156" y="5046"/>
                    </a:lnTo>
                    <a:lnTo>
                      <a:pt x="1166" y="5027"/>
                    </a:lnTo>
                    <a:lnTo>
                      <a:pt x="1166" y="5008"/>
                    </a:lnTo>
                    <a:lnTo>
                      <a:pt x="1208" y="5008"/>
                    </a:lnTo>
                    <a:close/>
                    <a:moveTo>
                      <a:pt x="1170" y="5102"/>
                    </a:moveTo>
                    <a:lnTo>
                      <a:pt x="1152" y="5126"/>
                    </a:lnTo>
                    <a:lnTo>
                      <a:pt x="1142" y="5154"/>
                    </a:lnTo>
                    <a:lnTo>
                      <a:pt x="1104" y="5150"/>
                    </a:lnTo>
                    <a:lnTo>
                      <a:pt x="1119" y="5112"/>
                    </a:lnTo>
                    <a:lnTo>
                      <a:pt x="1137" y="5079"/>
                    </a:lnTo>
                    <a:lnTo>
                      <a:pt x="1170" y="5102"/>
                    </a:lnTo>
                    <a:close/>
                    <a:moveTo>
                      <a:pt x="1142" y="5154"/>
                    </a:moveTo>
                    <a:lnTo>
                      <a:pt x="1137" y="5235"/>
                    </a:lnTo>
                    <a:lnTo>
                      <a:pt x="1142" y="5277"/>
                    </a:lnTo>
                    <a:lnTo>
                      <a:pt x="1104" y="5282"/>
                    </a:lnTo>
                    <a:lnTo>
                      <a:pt x="1100" y="5235"/>
                    </a:lnTo>
                    <a:lnTo>
                      <a:pt x="1104" y="5150"/>
                    </a:lnTo>
                    <a:lnTo>
                      <a:pt x="1142" y="5154"/>
                    </a:lnTo>
                    <a:close/>
                    <a:moveTo>
                      <a:pt x="1142" y="5277"/>
                    </a:moveTo>
                    <a:lnTo>
                      <a:pt x="1142" y="5282"/>
                    </a:lnTo>
                    <a:lnTo>
                      <a:pt x="1123" y="5282"/>
                    </a:lnTo>
                    <a:lnTo>
                      <a:pt x="1142" y="5277"/>
                    </a:lnTo>
                    <a:close/>
                    <a:moveTo>
                      <a:pt x="1142" y="5282"/>
                    </a:moveTo>
                    <a:lnTo>
                      <a:pt x="1137" y="5372"/>
                    </a:lnTo>
                    <a:lnTo>
                      <a:pt x="1100" y="5372"/>
                    </a:lnTo>
                    <a:lnTo>
                      <a:pt x="1104" y="5277"/>
                    </a:lnTo>
                    <a:lnTo>
                      <a:pt x="1142" y="5282"/>
                    </a:lnTo>
                    <a:close/>
                    <a:moveTo>
                      <a:pt x="1137" y="5372"/>
                    </a:moveTo>
                    <a:lnTo>
                      <a:pt x="1137" y="5376"/>
                    </a:lnTo>
                    <a:lnTo>
                      <a:pt x="1133" y="5381"/>
                    </a:lnTo>
                    <a:lnTo>
                      <a:pt x="1119" y="5372"/>
                    </a:lnTo>
                    <a:lnTo>
                      <a:pt x="1137" y="5372"/>
                    </a:lnTo>
                    <a:close/>
                    <a:moveTo>
                      <a:pt x="1133" y="5381"/>
                    </a:moveTo>
                    <a:lnTo>
                      <a:pt x="1076" y="5461"/>
                    </a:lnTo>
                    <a:lnTo>
                      <a:pt x="1043" y="5438"/>
                    </a:lnTo>
                    <a:lnTo>
                      <a:pt x="1100" y="5357"/>
                    </a:lnTo>
                    <a:lnTo>
                      <a:pt x="1133" y="5381"/>
                    </a:lnTo>
                    <a:close/>
                    <a:moveTo>
                      <a:pt x="1048" y="5466"/>
                    </a:moveTo>
                    <a:lnTo>
                      <a:pt x="1029" y="5456"/>
                    </a:lnTo>
                    <a:lnTo>
                      <a:pt x="1043" y="5438"/>
                    </a:lnTo>
                    <a:lnTo>
                      <a:pt x="1057" y="5452"/>
                    </a:lnTo>
                    <a:lnTo>
                      <a:pt x="1048" y="5466"/>
                    </a:lnTo>
                    <a:close/>
                    <a:moveTo>
                      <a:pt x="1071" y="5433"/>
                    </a:moveTo>
                    <a:lnTo>
                      <a:pt x="1104" y="5461"/>
                    </a:lnTo>
                    <a:lnTo>
                      <a:pt x="1161" y="5513"/>
                    </a:lnTo>
                    <a:lnTo>
                      <a:pt x="1128" y="5537"/>
                    </a:lnTo>
                    <a:lnTo>
                      <a:pt x="1081" y="5489"/>
                    </a:lnTo>
                    <a:lnTo>
                      <a:pt x="1048" y="5466"/>
                    </a:lnTo>
                    <a:lnTo>
                      <a:pt x="1071" y="5433"/>
                    </a:lnTo>
                    <a:close/>
                    <a:moveTo>
                      <a:pt x="1161" y="5513"/>
                    </a:moveTo>
                    <a:lnTo>
                      <a:pt x="1170" y="5523"/>
                    </a:lnTo>
                    <a:lnTo>
                      <a:pt x="1175" y="5532"/>
                    </a:lnTo>
                    <a:lnTo>
                      <a:pt x="1152" y="5560"/>
                    </a:lnTo>
                    <a:lnTo>
                      <a:pt x="1142" y="5551"/>
                    </a:lnTo>
                    <a:lnTo>
                      <a:pt x="1128" y="5537"/>
                    </a:lnTo>
                    <a:lnTo>
                      <a:pt x="1161" y="5513"/>
                    </a:lnTo>
                    <a:close/>
                    <a:moveTo>
                      <a:pt x="1175" y="5532"/>
                    </a:moveTo>
                    <a:lnTo>
                      <a:pt x="1194" y="5541"/>
                    </a:lnTo>
                    <a:lnTo>
                      <a:pt x="1204" y="5560"/>
                    </a:lnTo>
                    <a:lnTo>
                      <a:pt x="1213" y="5584"/>
                    </a:lnTo>
                    <a:lnTo>
                      <a:pt x="1213" y="5622"/>
                    </a:lnTo>
                    <a:lnTo>
                      <a:pt x="1170" y="5622"/>
                    </a:lnTo>
                    <a:lnTo>
                      <a:pt x="1170" y="5593"/>
                    </a:lnTo>
                    <a:lnTo>
                      <a:pt x="1170" y="5579"/>
                    </a:lnTo>
                    <a:lnTo>
                      <a:pt x="1161" y="5570"/>
                    </a:lnTo>
                    <a:lnTo>
                      <a:pt x="1152" y="5560"/>
                    </a:lnTo>
                    <a:lnTo>
                      <a:pt x="1175" y="5532"/>
                    </a:lnTo>
                    <a:close/>
                    <a:moveTo>
                      <a:pt x="1213" y="5622"/>
                    </a:moveTo>
                    <a:lnTo>
                      <a:pt x="1208" y="5674"/>
                    </a:lnTo>
                    <a:lnTo>
                      <a:pt x="1199" y="5711"/>
                    </a:lnTo>
                    <a:lnTo>
                      <a:pt x="1161" y="5702"/>
                    </a:lnTo>
                    <a:lnTo>
                      <a:pt x="1166" y="5669"/>
                    </a:lnTo>
                    <a:lnTo>
                      <a:pt x="1170" y="5622"/>
                    </a:lnTo>
                    <a:lnTo>
                      <a:pt x="1213" y="5622"/>
                    </a:lnTo>
                    <a:close/>
                    <a:moveTo>
                      <a:pt x="1199" y="5711"/>
                    </a:moveTo>
                    <a:lnTo>
                      <a:pt x="1194" y="5730"/>
                    </a:lnTo>
                    <a:lnTo>
                      <a:pt x="1185" y="5744"/>
                    </a:lnTo>
                    <a:lnTo>
                      <a:pt x="1175" y="5759"/>
                    </a:lnTo>
                    <a:lnTo>
                      <a:pt x="1161" y="5773"/>
                    </a:lnTo>
                    <a:lnTo>
                      <a:pt x="1137" y="5740"/>
                    </a:lnTo>
                    <a:lnTo>
                      <a:pt x="1152" y="5721"/>
                    </a:lnTo>
                    <a:lnTo>
                      <a:pt x="1161" y="5702"/>
                    </a:lnTo>
                    <a:lnTo>
                      <a:pt x="1199" y="5711"/>
                    </a:lnTo>
                    <a:close/>
                    <a:moveTo>
                      <a:pt x="1161" y="5773"/>
                    </a:moveTo>
                    <a:lnTo>
                      <a:pt x="1152" y="5777"/>
                    </a:lnTo>
                    <a:lnTo>
                      <a:pt x="1142" y="5787"/>
                    </a:lnTo>
                    <a:lnTo>
                      <a:pt x="1119" y="5754"/>
                    </a:lnTo>
                    <a:lnTo>
                      <a:pt x="1123" y="5749"/>
                    </a:lnTo>
                    <a:lnTo>
                      <a:pt x="1137" y="5740"/>
                    </a:lnTo>
                    <a:lnTo>
                      <a:pt x="1161" y="5773"/>
                    </a:lnTo>
                    <a:close/>
                    <a:moveTo>
                      <a:pt x="1142" y="5787"/>
                    </a:moveTo>
                    <a:lnTo>
                      <a:pt x="1128" y="5801"/>
                    </a:lnTo>
                    <a:lnTo>
                      <a:pt x="1104" y="5825"/>
                    </a:lnTo>
                    <a:lnTo>
                      <a:pt x="1076" y="5801"/>
                    </a:lnTo>
                    <a:lnTo>
                      <a:pt x="1100" y="5773"/>
                    </a:lnTo>
                    <a:lnTo>
                      <a:pt x="1119" y="5754"/>
                    </a:lnTo>
                    <a:lnTo>
                      <a:pt x="1142" y="5787"/>
                    </a:lnTo>
                    <a:close/>
                    <a:moveTo>
                      <a:pt x="1104" y="5825"/>
                    </a:moveTo>
                    <a:lnTo>
                      <a:pt x="1090" y="5853"/>
                    </a:lnTo>
                    <a:lnTo>
                      <a:pt x="1081" y="5877"/>
                    </a:lnTo>
                    <a:lnTo>
                      <a:pt x="1043" y="5872"/>
                    </a:lnTo>
                    <a:lnTo>
                      <a:pt x="1052" y="5834"/>
                    </a:lnTo>
                    <a:lnTo>
                      <a:pt x="1076" y="5801"/>
                    </a:lnTo>
                    <a:lnTo>
                      <a:pt x="1104" y="5825"/>
                    </a:lnTo>
                    <a:close/>
                    <a:moveTo>
                      <a:pt x="1081" y="5877"/>
                    </a:moveTo>
                    <a:lnTo>
                      <a:pt x="1081" y="5886"/>
                    </a:lnTo>
                    <a:lnTo>
                      <a:pt x="1081" y="5895"/>
                    </a:lnTo>
                    <a:lnTo>
                      <a:pt x="1090" y="5905"/>
                    </a:lnTo>
                    <a:lnTo>
                      <a:pt x="1100" y="5919"/>
                    </a:lnTo>
                    <a:lnTo>
                      <a:pt x="1071" y="5947"/>
                    </a:lnTo>
                    <a:lnTo>
                      <a:pt x="1057" y="5928"/>
                    </a:lnTo>
                    <a:lnTo>
                      <a:pt x="1043" y="5910"/>
                    </a:lnTo>
                    <a:lnTo>
                      <a:pt x="1043" y="5891"/>
                    </a:lnTo>
                    <a:lnTo>
                      <a:pt x="1043" y="5872"/>
                    </a:lnTo>
                    <a:lnTo>
                      <a:pt x="1081" y="5877"/>
                    </a:lnTo>
                    <a:close/>
                    <a:moveTo>
                      <a:pt x="1100" y="5919"/>
                    </a:moveTo>
                    <a:lnTo>
                      <a:pt x="1119" y="5933"/>
                    </a:lnTo>
                    <a:lnTo>
                      <a:pt x="1133" y="5947"/>
                    </a:lnTo>
                    <a:lnTo>
                      <a:pt x="1109" y="5976"/>
                    </a:lnTo>
                    <a:lnTo>
                      <a:pt x="1095" y="5966"/>
                    </a:lnTo>
                    <a:lnTo>
                      <a:pt x="1071" y="5947"/>
                    </a:lnTo>
                    <a:lnTo>
                      <a:pt x="1100" y="5919"/>
                    </a:lnTo>
                    <a:close/>
                    <a:moveTo>
                      <a:pt x="1133" y="5947"/>
                    </a:moveTo>
                    <a:lnTo>
                      <a:pt x="1133" y="5947"/>
                    </a:lnTo>
                    <a:lnTo>
                      <a:pt x="1123" y="5961"/>
                    </a:lnTo>
                    <a:lnTo>
                      <a:pt x="1133" y="5947"/>
                    </a:lnTo>
                    <a:close/>
                    <a:moveTo>
                      <a:pt x="1133" y="5947"/>
                    </a:moveTo>
                    <a:lnTo>
                      <a:pt x="1156" y="5966"/>
                    </a:lnTo>
                    <a:lnTo>
                      <a:pt x="1199" y="6004"/>
                    </a:lnTo>
                    <a:lnTo>
                      <a:pt x="1175" y="6032"/>
                    </a:lnTo>
                    <a:lnTo>
                      <a:pt x="1133" y="5995"/>
                    </a:lnTo>
                    <a:lnTo>
                      <a:pt x="1109" y="5976"/>
                    </a:lnTo>
                    <a:lnTo>
                      <a:pt x="1133" y="5947"/>
                    </a:lnTo>
                    <a:close/>
                    <a:moveTo>
                      <a:pt x="1199" y="6004"/>
                    </a:moveTo>
                    <a:lnTo>
                      <a:pt x="1204" y="6009"/>
                    </a:lnTo>
                    <a:lnTo>
                      <a:pt x="1208" y="6013"/>
                    </a:lnTo>
                    <a:lnTo>
                      <a:pt x="1185" y="6042"/>
                    </a:lnTo>
                    <a:lnTo>
                      <a:pt x="1180" y="6037"/>
                    </a:lnTo>
                    <a:lnTo>
                      <a:pt x="1175" y="6032"/>
                    </a:lnTo>
                    <a:lnTo>
                      <a:pt x="1199" y="6004"/>
                    </a:lnTo>
                    <a:close/>
                    <a:moveTo>
                      <a:pt x="1208" y="6013"/>
                    </a:moveTo>
                    <a:lnTo>
                      <a:pt x="1251" y="6046"/>
                    </a:lnTo>
                    <a:lnTo>
                      <a:pt x="1284" y="6075"/>
                    </a:lnTo>
                    <a:lnTo>
                      <a:pt x="1298" y="6084"/>
                    </a:lnTo>
                    <a:lnTo>
                      <a:pt x="1317" y="6089"/>
                    </a:lnTo>
                    <a:lnTo>
                      <a:pt x="1331" y="6094"/>
                    </a:lnTo>
                    <a:lnTo>
                      <a:pt x="1350" y="6094"/>
                    </a:lnTo>
                    <a:lnTo>
                      <a:pt x="1355" y="6131"/>
                    </a:lnTo>
                    <a:lnTo>
                      <a:pt x="1331" y="6131"/>
                    </a:lnTo>
                    <a:lnTo>
                      <a:pt x="1307" y="6131"/>
                    </a:lnTo>
                    <a:lnTo>
                      <a:pt x="1288" y="6122"/>
                    </a:lnTo>
                    <a:lnTo>
                      <a:pt x="1270" y="6113"/>
                    </a:lnTo>
                    <a:lnTo>
                      <a:pt x="1227" y="6079"/>
                    </a:lnTo>
                    <a:lnTo>
                      <a:pt x="1185" y="6042"/>
                    </a:lnTo>
                    <a:lnTo>
                      <a:pt x="1208" y="6013"/>
                    </a:lnTo>
                    <a:close/>
                    <a:moveTo>
                      <a:pt x="1350" y="6094"/>
                    </a:moveTo>
                    <a:lnTo>
                      <a:pt x="1378" y="6089"/>
                    </a:lnTo>
                    <a:lnTo>
                      <a:pt x="1397" y="6084"/>
                    </a:lnTo>
                    <a:lnTo>
                      <a:pt x="1411" y="6070"/>
                    </a:lnTo>
                    <a:lnTo>
                      <a:pt x="1425" y="6051"/>
                    </a:lnTo>
                    <a:lnTo>
                      <a:pt x="1454" y="6079"/>
                    </a:lnTo>
                    <a:lnTo>
                      <a:pt x="1435" y="6103"/>
                    </a:lnTo>
                    <a:lnTo>
                      <a:pt x="1416" y="6117"/>
                    </a:lnTo>
                    <a:lnTo>
                      <a:pt x="1392" y="6127"/>
                    </a:lnTo>
                    <a:lnTo>
                      <a:pt x="1355" y="6131"/>
                    </a:lnTo>
                    <a:lnTo>
                      <a:pt x="1350" y="6094"/>
                    </a:lnTo>
                    <a:close/>
                    <a:moveTo>
                      <a:pt x="1425" y="6051"/>
                    </a:moveTo>
                    <a:lnTo>
                      <a:pt x="1430" y="6046"/>
                    </a:lnTo>
                    <a:lnTo>
                      <a:pt x="1440" y="6037"/>
                    </a:lnTo>
                    <a:lnTo>
                      <a:pt x="1468" y="6061"/>
                    </a:lnTo>
                    <a:lnTo>
                      <a:pt x="1463" y="6070"/>
                    </a:lnTo>
                    <a:lnTo>
                      <a:pt x="1454" y="6079"/>
                    </a:lnTo>
                    <a:lnTo>
                      <a:pt x="1425" y="6051"/>
                    </a:lnTo>
                    <a:close/>
                    <a:moveTo>
                      <a:pt x="1440" y="6037"/>
                    </a:moveTo>
                    <a:lnTo>
                      <a:pt x="1454" y="6018"/>
                    </a:lnTo>
                    <a:lnTo>
                      <a:pt x="1458" y="5999"/>
                    </a:lnTo>
                    <a:lnTo>
                      <a:pt x="1496" y="6004"/>
                    </a:lnTo>
                    <a:lnTo>
                      <a:pt x="1487" y="6032"/>
                    </a:lnTo>
                    <a:lnTo>
                      <a:pt x="1468" y="6061"/>
                    </a:lnTo>
                    <a:lnTo>
                      <a:pt x="1440" y="6037"/>
                    </a:lnTo>
                    <a:close/>
                    <a:moveTo>
                      <a:pt x="1458" y="5999"/>
                    </a:moveTo>
                    <a:lnTo>
                      <a:pt x="1463" y="5980"/>
                    </a:lnTo>
                    <a:lnTo>
                      <a:pt x="1468" y="5961"/>
                    </a:lnTo>
                    <a:lnTo>
                      <a:pt x="1482" y="5943"/>
                    </a:lnTo>
                    <a:lnTo>
                      <a:pt x="1506" y="5924"/>
                    </a:lnTo>
                    <a:lnTo>
                      <a:pt x="1529" y="5961"/>
                    </a:lnTo>
                    <a:lnTo>
                      <a:pt x="1510" y="5971"/>
                    </a:lnTo>
                    <a:lnTo>
                      <a:pt x="1501" y="5985"/>
                    </a:lnTo>
                    <a:lnTo>
                      <a:pt x="1496" y="5995"/>
                    </a:lnTo>
                    <a:lnTo>
                      <a:pt x="1496" y="6004"/>
                    </a:lnTo>
                    <a:lnTo>
                      <a:pt x="1458" y="5999"/>
                    </a:lnTo>
                    <a:close/>
                    <a:moveTo>
                      <a:pt x="1506" y="5924"/>
                    </a:moveTo>
                    <a:lnTo>
                      <a:pt x="1534" y="5910"/>
                    </a:lnTo>
                    <a:lnTo>
                      <a:pt x="1548" y="5895"/>
                    </a:lnTo>
                    <a:lnTo>
                      <a:pt x="1576" y="5919"/>
                    </a:lnTo>
                    <a:lnTo>
                      <a:pt x="1558" y="5938"/>
                    </a:lnTo>
                    <a:lnTo>
                      <a:pt x="1529" y="5961"/>
                    </a:lnTo>
                    <a:lnTo>
                      <a:pt x="1506" y="5924"/>
                    </a:lnTo>
                    <a:close/>
                    <a:moveTo>
                      <a:pt x="1548" y="5895"/>
                    </a:moveTo>
                    <a:lnTo>
                      <a:pt x="1558" y="5881"/>
                    </a:lnTo>
                    <a:lnTo>
                      <a:pt x="1572" y="5872"/>
                    </a:lnTo>
                    <a:lnTo>
                      <a:pt x="1591" y="5867"/>
                    </a:lnTo>
                    <a:lnTo>
                      <a:pt x="1619" y="5862"/>
                    </a:lnTo>
                    <a:lnTo>
                      <a:pt x="1619" y="5905"/>
                    </a:lnTo>
                    <a:lnTo>
                      <a:pt x="1600" y="5905"/>
                    </a:lnTo>
                    <a:lnTo>
                      <a:pt x="1591" y="5910"/>
                    </a:lnTo>
                    <a:lnTo>
                      <a:pt x="1581" y="5914"/>
                    </a:lnTo>
                    <a:lnTo>
                      <a:pt x="1576" y="5919"/>
                    </a:lnTo>
                    <a:lnTo>
                      <a:pt x="1548" y="5895"/>
                    </a:lnTo>
                    <a:close/>
                    <a:moveTo>
                      <a:pt x="1619" y="5862"/>
                    </a:moveTo>
                    <a:lnTo>
                      <a:pt x="1638" y="5862"/>
                    </a:lnTo>
                    <a:lnTo>
                      <a:pt x="1652" y="5853"/>
                    </a:lnTo>
                    <a:lnTo>
                      <a:pt x="1676" y="5886"/>
                    </a:lnTo>
                    <a:lnTo>
                      <a:pt x="1666" y="5891"/>
                    </a:lnTo>
                    <a:lnTo>
                      <a:pt x="1652" y="5895"/>
                    </a:lnTo>
                    <a:lnTo>
                      <a:pt x="1638" y="5900"/>
                    </a:lnTo>
                    <a:lnTo>
                      <a:pt x="1619" y="5905"/>
                    </a:lnTo>
                    <a:lnTo>
                      <a:pt x="1619" y="5862"/>
                    </a:lnTo>
                    <a:close/>
                    <a:moveTo>
                      <a:pt x="1652" y="5853"/>
                    </a:moveTo>
                    <a:lnTo>
                      <a:pt x="1666" y="5839"/>
                    </a:lnTo>
                    <a:lnTo>
                      <a:pt x="1690" y="5839"/>
                    </a:lnTo>
                    <a:lnTo>
                      <a:pt x="1699" y="5839"/>
                    </a:lnTo>
                    <a:lnTo>
                      <a:pt x="1713" y="5848"/>
                    </a:lnTo>
                    <a:lnTo>
                      <a:pt x="1732" y="5862"/>
                    </a:lnTo>
                    <a:lnTo>
                      <a:pt x="1751" y="5881"/>
                    </a:lnTo>
                    <a:lnTo>
                      <a:pt x="1723" y="5910"/>
                    </a:lnTo>
                    <a:lnTo>
                      <a:pt x="1704" y="5891"/>
                    </a:lnTo>
                    <a:lnTo>
                      <a:pt x="1690" y="5881"/>
                    </a:lnTo>
                    <a:lnTo>
                      <a:pt x="1680" y="5881"/>
                    </a:lnTo>
                    <a:lnTo>
                      <a:pt x="1676" y="5886"/>
                    </a:lnTo>
                    <a:lnTo>
                      <a:pt x="1652" y="5853"/>
                    </a:lnTo>
                    <a:close/>
                    <a:moveTo>
                      <a:pt x="1751" y="5881"/>
                    </a:moveTo>
                    <a:lnTo>
                      <a:pt x="1789" y="5914"/>
                    </a:lnTo>
                    <a:lnTo>
                      <a:pt x="1817" y="5938"/>
                    </a:lnTo>
                    <a:lnTo>
                      <a:pt x="1794" y="5971"/>
                    </a:lnTo>
                    <a:lnTo>
                      <a:pt x="1765" y="5947"/>
                    </a:lnTo>
                    <a:lnTo>
                      <a:pt x="1723" y="5910"/>
                    </a:lnTo>
                    <a:lnTo>
                      <a:pt x="1751" y="5881"/>
                    </a:lnTo>
                    <a:close/>
                    <a:moveTo>
                      <a:pt x="1817" y="5938"/>
                    </a:moveTo>
                    <a:lnTo>
                      <a:pt x="1841" y="5957"/>
                    </a:lnTo>
                    <a:lnTo>
                      <a:pt x="1855" y="5971"/>
                    </a:lnTo>
                    <a:lnTo>
                      <a:pt x="1864" y="5990"/>
                    </a:lnTo>
                    <a:lnTo>
                      <a:pt x="1869" y="6009"/>
                    </a:lnTo>
                    <a:lnTo>
                      <a:pt x="1831" y="6013"/>
                    </a:lnTo>
                    <a:lnTo>
                      <a:pt x="1827" y="6004"/>
                    </a:lnTo>
                    <a:lnTo>
                      <a:pt x="1822" y="5995"/>
                    </a:lnTo>
                    <a:lnTo>
                      <a:pt x="1808" y="5980"/>
                    </a:lnTo>
                    <a:lnTo>
                      <a:pt x="1794" y="5971"/>
                    </a:lnTo>
                    <a:lnTo>
                      <a:pt x="1817" y="5938"/>
                    </a:lnTo>
                    <a:close/>
                    <a:moveTo>
                      <a:pt x="1869" y="6009"/>
                    </a:moveTo>
                    <a:lnTo>
                      <a:pt x="1869" y="6037"/>
                    </a:lnTo>
                    <a:lnTo>
                      <a:pt x="1869" y="6061"/>
                    </a:lnTo>
                    <a:lnTo>
                      <a:pt x="1831" y="6056"/>
                    </a:lnTo>
                    <a:lnTo>
                      <a:pt x="1831" y="6037"/>
                    </a:lnTo>
                    <a:lnTo>
                      <a:pt x="1831" y="6013"/>
                    </a:lnTo>
                    <a:lnTo>
                      <a:pt x="1869" y="6009"/>
                    </a:lnTo>
                    <a:close/>
                    <a:moveTo>
                      <a:pt x="1869" y="6061"/>
                    </a:moveTo>
                    <a:lnTo>
                      <a:pt x="1869" y="6079"/>
                    </a:lnTo>
                    <a:lnTo>
                      <a:pt x="1874" y="6103"/>
                    </a:lnTo>
                    <a:lnTo>
                      <a:pt x="1836" y="6113"/>
                    </a:lnTo>
                    <a:lnTo>
                      <a:pt x="1831" y="6084"/>
                    </a:lnTo>
                    <a:lnTo>
                      <a:pt x="1831" y="6056"/>
                    </a:lnTo>
                    <a:lnTo>
                      <a:pt x="1869" y="6061"/>
                    </a:lnTo>
                    <a:close/>
                    <a:moveTo>
                      <a:pt x="1874" y="6103"/>
                    </a:moveTo>
                    <a:lnTo>
                      <a:pt x="1921" y="6169"/>
                    </a:lnTo>
                    <a:lnTo>
                      <a:pt x="1964" y="6216"/>
                    </a:lnTo>
                    <a:lnTo>
                      <a:pt x="1935" y="6245"/>
                    </a:lnTo>
                    <a:lnTo>
                      <a:pt x="1921" y="6231"/>
                    </a:lnTo>
                    <a:lnTo>
                      <a:pt x="1893" y="6193"/>
                    </a:lnTo>
                    <a:lnTo>
                      <a:pt x="1855" y="6150"/>
                    </a:lnTo>
                    <a:lnTo>
                      <a:pt x="1836" y="6113"/>
                    </a:lnTo>
                    <a:lnTo>
                      <a:pt x="1874" y="6103"/>
                    </a:lnTo>
                    <a:close/>
                    <a:moveTo>
                      <a:pt x="1959" y="6249"/>
                    </a:moveTo>
                    <a:lnTo>
                      <a:pt x="1945" y="6254"/>
                    </a:lnTo>
                    <a:lnTo>
                      <a:pt x="1935" y="6245"/>
                    </a:lnTo>
                    <a:lnTo>
                      <a:pt x="1949" y="6231"/>
                    </a:lnTo>
                    <a:lnTo>
                      <a:pt x="1959" y="6249"/>
                    </a:lnTo>
                    <a:close/>
                    <a:moveTo>
                      <a:pt x="1945" y="6212"/>
                    </a:moveTo>
                    <a:lnTo>
                      <a:pt x="1959" y="6207"/>
                    </a:lnTo>
                    <a:lnTo>
                      <a:pt x="1992" y="6188"/>
                    </a:lnTo>
                    <a:lnTo>
                      <a:pt x="2030" y="6160"/>
                    </a:lnTo>
                    <a:lnTo>
                      <a:pt x="2063" y="6122"/>
                    </a:lnTo>
                    <a:lnTo>
                      <a:pt x="2096" y="6146"/>
                    </a:lnTo>
                    <a:lnTo>
                      <a:pt x="2077" y="6169"/>
                    </a:lnTo>
                    <a:lnTo>
                      <a:pt x="2058" y="6188"/>
                    </a:lnTo>
                    <a:lnTo>
                      <a:pt x="2034" y="6202"/>
                    </a:lnTo>
                    <a:lnTo>
                      <a:pt x="2011" y="6221"/>
                    </a:lnTo>
                    <a:lnTo>
                      <a:pt x="1973" y="6240"/>
                    </a:lnTo>
                    <a:lnTo>
                      <a:pt x="1959" y="6249"/>
                    </a:lnTo>
                    <a:lnTo>
                      <a:pt x="1945" y="6212"/>
                    </a:lnTo>
                    <a:close/>
                    <a:moveTo>
                      <a:pt x="2063" y="6122"/>
                    </a:moveTo>
                    <a:lnTo>
                      <a:pt x="2077" y="6098"/>
                    </a:lnTo>
                    <a:lnTo>
                      <a:pt x="2091" y="6079"/>
                    </a:lnTo>
                    <a:lnTo>
                      <a:pt x="2124" y="6098"/>
                    </a:lnTo>
                    <a:lnTo>
                      <a:pt x="2115" y="6122"/>
                    </a:lnTo>
                    <a:lnTo>
                      <a:pt x="2096" y="6146"/>
                    </a:lnTo>
                    <a:lnTo>
                      <a:pt x="2063" y="6122"/>
                    </a:lnTo>
                    <a:close/>
                    <a:moveTo>
                      <a:pt x="2091" y="6079"/>
                    </a:moveTo>
                    <a:lnTo>
                      <a:pt x="2101" y="6056"/>
                    </a:lnTo>
                    <a:lnTo>
                      <a:pt x="2115" y="6037"/>
                    </a:lnTo>
                    <a:lnTo>
                      <a:pt x="2134" y="6018"/>
                    </a:lnTo>
                    <a:lnTo>
                      <a:pt x="2157" y="5995"/>
                    </a:lnTo>
                    <a:lnTo>
                      <a:pt x="2181" y="6028"/>
                    </a:lnTo>
                    <a:lnTo>
                      <a:pt x="2162" y="6046"/>
                    </a:lnTo>
                    <a:lnTo>
                      <a:pt x="2148" y="6061"/>
                    </a:lnTo>
                    <a:lnTo>
                      <a:pt x="2134" y="6079"/>
                    </a:lnTo>
                    <a:lnTo>
                      <a:pt x="2124" y="6098"/>
                    </a:lnTo>
                    <a:lnTo>
                      <a:pt x="2091" y="6079"/>
                    </a:lnTo>
                    <a:close/>
                    <a:moveTo>
                      <a:pt x="2157" y="5995"/>
                    </a:moveTo>
                    <a:lnTo>
                      <a:pt x="2181" y="5976"/>
                    </a:lnTo>
                    <a:lnTo>
                      <a:pt x="2195" y="5961"/>
                    </a:lnTo>
                    <a:lnTo>
                      <a:pt x="2228" y="5985"/>
                    </a:lnTo>
                    <a:lnTo>
                      <a:pt x="2209" y="6004"/>
                    </a:lnTo>
                    <a:lnTo>
                      <a:pt x="2181" y="6028"/>
                    </a:lnTo>
                    <a:lnTo>
                      <a:pt x="2157" y="5995"/>
                    </a:lnTo>
                    <a:close/>
                    <a:moveTo>
                      <a:pt x="2195" y="5961"/>
                    </a:moveTo>
                    <a:lnTo>
                      <a:pt x="2209" y="5947"/>
                    </a:lnTo>
                    <a:lnTo>
                      <a:pt x="2223" y="5933"/>
                    </a:lnTo>
                    <a:lnTo>
                      <a:pt x="2242" y="5924"/>
                    </a:lnTo>
                    <a:lnTo>
                      <a:pt x="2275" y="5914"/>
                    </a:lnTo>
                    <a:lnTo>
                      <a:pt x="2280" y="5952"/>
                    </a:lnTo>
                    <a:lnTo>
                      <a:pt x="2261" y="5957"/>
                    </a:lnTo>
                    <a:lnTo>
                      <a:pt x="2247" y="5966"/>
                    </a:lnTo>
                    <a:lnTo>
                      <a:pt x="2233" y="5976"/>
                    </a:lnTo>
                    <a:lnTo>
                      <a:pt x="2228" y="5985"/>
                    </a:lnTo>
                    <a:lnTo>
                      <a:pt x="2195" y="5961"/>
                    </a:lnTo>
                    <a:close/>
                    <a:moveTo>
                      <a:pt x="2275" y="5914"/>
                    </a:moveTo>
                    <a:lnTo>
                      <a:pt x="2308" y="5900"/>
                    </a:lnTo>
                    <a:lnTo>
                      <a:pt x="2337" y="5881"/>
                    </a:lnTo>
                    <a:lnTo>
                      <a:pt x="2360" y="5914"/>
                    </a:lnTo>
                    <a:lnTo>
                      <a:pt x="2322" y="5938"/>
                    </a:lnTo>
                    <a:lnTo>
                      <a:pt x="2280" y="5952"/>
                    </a:lnTo>
                    <a:lnTo>
                      <a:pt x="2275" y="5914"/>
                    </a:lnTo>
                    <a:close/>
                    <a:moveTo>
                      <a:pt x="2337" y="5881"/>
                    </a:moveTo>
                    <a:lnTo>
                      <a:pt x="2360" y="5867"/>
                    </a:lnTo>
                    <a:lnTo>
                      <a:pt x="2384" y="5858"/>
                    </a:lnTo>
                    <a:lnTo>
                      <a:pt x="2412" y="5848"/>
                    </a:lnTo>
                    <a:lnTo>
                      <a:pt x="2445" y="5848"/>
                    </a:lnTo>
                    <a:lnTo>
                      <a:pt x="2440" y="5886"/>
                    </a:lnTo>
                    <a:lnTo>
                      <a:pt x="2417" y="5891"/>
                    </a:lnTo>
                    <a:lnTo>
                      <a:pt x="2393" y="5895"/>
                    </a:lnTo>
                    <a:lnTo>
                      <a:pt x="2374" y="5905"/>
                    </a:lnTo>
                    <a:lnTo>
                      <a:pt x="2360" y="5914"/>
                    </a:lnTo>
                    <a:lnTo>
                      <a:pt x="2337" y="5881"/>
                    </a:lnTo>
                    <a:close/>
                    <a:moveTo>
                      <a:pt x="2445" y="5848"/>
                    </a:moveTo>
                    <a:lnTo>
                      <a:pt x="2464" y="5848"/>
                    </a:lnTo>
                    <a:lnTo>
                      <a:pt x="2474" y="5848"/>
                    </a:lnTo>
                    <a:lnTo>
                      <a:pt x="2474" y="5891"/>
                    </a:lnTo>
                    <a:lnTo>
                      <a:pt x="2459" y="5891"/>
                    </a:lnTo>
                    <a:lnTo>
                      <a:pt x="2440" y="5886"/>
                    </a:lnTo>
                    <a:lnTo>
                      <a:pt x="2445" y="5848"/>
                    </a:lnTo>
                    <a:close/>
                    <a:moveTo>
                      <a:pt x="2474" y="5848"/>
                    </a:moveTo>
                    <a:lnTo>
                      <a:pt x="2488" y="5848"/>
                    </a:lnTo>
                    <a:lnTo>
                      <a:pt x="2502" y="5853"/>
                    </a:lnTo>
                    <a:lnTo>
                      <a:pt x="2483" y="5891"/>
                    </a:lnTo>
                    <a:lnTo>
                      <a:pt x="2478" y="5891"/>
                    </a:lnTo>
                    <a:lnTo>
                      <a:pt x="2474" y="5891"/>
                    </a:lnTo>
                    <a:lnTo>
                      <a:pt x="2474" y="5848"/>
                    </a:lnTo>
                    <a:close/>
                    <a:moveTo>
                      <a:pt x="2483" y="5891"/>
                    </a:moveTo>
                    <a:lnTo>
                      <a:pt x="2483" y="5891"/>
                    </a:lnTo>
                    <a:lnTo>
                      <a:pt x="2492" y="5872"/>
                    </a:lnTo>
                    <a:lnTo>
                      <a:pt x="2483" y="5891"/>
                    </a:lnTo>
                    <a:close/>
                    <a:moveTo>
                      <a:pt x="2502" y="5853"/>
                    </a:moveTo>
                    <a:lnTo>
                      <a:pt x="2507" y="5858"/>
                    </a:lnTo>
                    <a:lnTo>
                      <a:pt x="2516" y="5867"/>
                    </a:lnTo>
                    <a:lnTo>
                      <a:pt x="2488" y="5895"/>
                    </a:lnTo>
                    <a:lnTo>
                      <a:pt x="2483" y="5891"/>
                    </a:lnTo>
                    <a:lnTo>
                      <a:pt x="2502" y="5853"/>
                    </a:lnTo>
                    <a:close/>
                    <a:moveTo>
                      <a:pt x="2488" y="5895"/>
                    </a:moveTo>
                    <a:lnTo>
                      <a:pt x="2488" y="5895"/>
                    </a:lnTo>
                    <a:lnTo>
                      <a:pt x="2502" y="5881"/>
                    </a:lnTo>
                    <a:lnTo>
                      <a:pt x="2488" y="5895"/>
                    </a:lnTo>
                    <a:close/>
                    <a:moveTo>
                      <a:pt x="2516" y="5867"/>
                    </a:moveTo>
                    <a:lnTo>
                      <a:pt x="2535" y="5881"/>
                    </a:lnTo>
                    <a:lnTo>
                      <a:pt x="2568" y="5905"/>
                    </a:lnTo>
                    <a:lnTo>
                      <a:pt x="2544" y="5938"/>
                    </a:lnTo>
                    <a:lnTo>
                      <a:pt x="2507" y="5910"/>
                    </a:lnTo>
                    <a:lnTo>
                      <a:pt x="2488" y="5895"/>
                    </a:lnTo>
                    <a:lnTo>
                      <a:pt x="2516" y="5867"/>
                    </a:lnTo>
                    <a:close/>
                    <a:moveTo>
                      <a:pt x="2568" y="5905"/>
                    </a:moveTo>
                    <a:lnTo>
                      <a:pt x="2596" y="5924"/>
                    </a:lnTo>
                    <a:lnTo>
                      <a:pt x="2629" y="5938"/>
                    </a:lnTo>
                    <a:lnTo>
                      <a:pt x="2653" y="5952"/>
                    </a:lnTo>
                    <a:lnTo>
                      <a:pt x="2677" y="5957"/>
                    </a:lnTo>
                    <a:lnTo>
                      <a:pt x="2714" y="5966"/>
                    </a:lnTo>
                    <a:lnTo>
                      <a:pt x="2728" y="5966"/>
                    </a:lnTo>
                    <a:lnTo>
                      <a:pt x="2728" y="6004"/>
                    </a:lnTo>
                    <a:lnTo>
                      <a:pt x="2710" y="6004"/>
                    </a:lnTo>
                    <a:lnTo>
                      <a:pt x="2672" y="5995"/>
                    </a:lnTo>
                    <a:lnTo>
                      <a:pt x="2643" y="5990"/>
                    </a:lnTo>
                    <a:lnTo>
                      <a:pt x="2615" y="5976"/>
                    </a:lnTo>
                    <a:lnTo>
                      <a:pt x="2577" y="5961"/>
                    </a:lnTo>
                    <a:lnTo>
                      <a:pt x="2544" y="5938"/>
                    </a:lnTo>
                    <a:lnTo>
                      <a:pt x="2568" y="5905"/>
                    </a:lnTo>
                    <a:close/>
                    <a:moveTo>
                      <a:pt x="2728" y="5966"/>
                    </a:moveTo>
                    <a:lnTo>
                      <a:pt x="2733" y="5966"/>
                    </a:lnTo>
                    <a:lnTo>
                      <a:pt x="2738" y="5971"/>
                    </a:lnTo>
                    <a:lnTo>
                      <a:pt x="2728" y="5985"/>
                    </a:lnTo>
                    <a:lnTo>
                      <a:pt x="2728" y="5966"/>
                    </a:lnTo>
                    <a:close/>
                    <a:moveTo>
                      <a:pt x="2738" y="5971"/>
                    </a:moveTo>
                    <a:lnTo>
                      <a:pt x="2785" y="5995"/>
                    </a:lnTo>
                    <a:lnTo>
                      <a:pt x="2851" y="6032"/>
                    </a:lnTo>
                    <a:lnTo>
                      <a:pt x="2837" y="6070"/>
                    </a:lnTo>
                    <a:lnTo>
                      <a:pt x="2766" y="6032"/>
                    </a:lnTo>
                    <a:lnTo>
                      <a:pt x="2714" y="6004"/>
                    </a:lnTo>
                    <a:lnTo>
                      <a:pt x="2738" y="5971"/>
                    </a:lnTo>
                    <a:close/>
                    <a:moveTo>
                      <a:pt x="2851" y="6032"/>
                    </a:moveTo>
                    <a:lnTo>
                      <a:pt x="2861" y="6037"/>
                    </a:lnTo>
                    <a:lnTo>
                      <a:pt x="2875" y="6042"/>
                    </a:lnTo>
                    <a:lnTo>
                      <a:pt x="2856" y="6079"/>
                    </a:lnTo>
                    <a:lnTo>
                      <a:pt x="2846" y="6070"/>
                    </a:lnTo>
                    <a:lnTo>
                      <a:pt x="2837" y="6070"/>
                    </a:lnTo>
                    <a:lnTo>
                      <a:pt x="2851" y="6032"/>
                    </a:lnTo>
                    <a:close/>
                    <a:moveTo>
                      <a:pt x="2875" y="6042"/>
                    </a:moveTo>
                    <a:lnTo>
                      <a:pt x="2908" y="6056"/>
                    </a:lnTo>
                    <a:lnTo>
                      <a:pt x="2955" y="6065"/>
                    </a:lnTo>
                    <a:lnTo>
                      <a:pt x="2950" y="6108"/>
                    </a:lnTo>
                    <a:lnTo>
                      <a:pt x="2898" y="6094"/>
                    </a:lnTo>
                    <a:lnTo>
                      <a:pt x="2856" y="6079"/>
                    </a:lnTo>
                    <a:lnTo>
                      <a:pt x="2875" y="6042"/>
                    </a:lnTo>
                    <a:close/>
                    <a:moveTo>
                      <a:pt x="2955" y="6065"/>
                    </a:moveTo>
                    <a:lnTo>
                      <a:pt x="2974" y="6065"/>
                    </a:lnTo>
                    <a:lnTo>
                      <a:pt x="2988" y="6061"/>
                    </a:lnTo>
                    <a:lnTo>
                      <a:pt x="3002" y="6051"/>
                    </a:lnTo>
                    <a:lnTo>
                      <a:pt x="3021" y="6037"/>
                    </a:lnTo>
                    <a:lnTo>
                      <a:pt x="3045" y="6070"/>
                    </a:lnTo>
                    <a:lnTo>
                      <a:pt x="3026" y="6084"/>
                    </a:lnTo>
                    <a:lnTo>
                      <a:pt x="3002" y="6098"/>
                    </a:lnTo>
                    <a:lnTo>
                      <a:pt x="2979" y="6108"/>
                    </a:lnTo>
                    <a:lnTo>
                      <a:pt x="2950" y="6108"/>
                    </a:lnTo>
                    <a:lnTo>
                      <a:pt x="2955" y="6065"/>
                    </a:lnTo>
                    <a:close/>
                    <a:moveTo>
                      <a:pt x="3021" y="6037"/>
                    </a:moveTo>
                    <a:lnTo>
                      <a:pt x="3031" y="6028"/>
                    </a:lnTo>
                    <a:lnTo>
                      <a:pt x="3045" y="6018"/>
                    </a:lnTo>
                    <a:lnTo>
                      <a:pt x="3068" y="6051"/>
                    </a:lnTo>
                    <a:lnTo>
                      <a:pt x="3059" y="6061"/>
                    </a:lnTo>
                    <a:lnTo>
                      <a:pt x="3045" y="6070"/>
                    </a:lnTo>
                    <a:lnTo>
                      <a:pt x="3021" y="6037"/>
                    </a:lnTo>
                    <a:close/>
                    <a:moveTo>
                      <a:pt x="3045" y="6018"/>
                    </a:moveTo>
                    <a:lnTo>
                      <a:pt x="3068" y="5999"/>
                    </a:lnTo>
                    <a:lnTo>
                      <a:pt x="3083" y="5980"/>
                    </a:lnTo>
                    <a:lnTo>
                      <a:pt x="3116" y="6004"/>
                    </a:lnTo>
                    <a:lnTo>
                      <a:pt x="3097" y="6028"/>
                    </a:lnTo>
                    <a:lnTo>
                      <a:pt x="3068" y="6051"/>
                    </a:lnTo>
                    <a:lnTo>
                      <a:pt x="3045" y="6018"/>
                    </a:lnTo>
                    <a:close/>
                    <a:moveTo>
                      <a:pt x="3083" y="5980"/>
                    </a:moveTo>
                    <a:lnTo>
                      <a:pt x="3106" y="5957"/>
                    </a:lnTo>
                    <a:lnTo>
                      <a:pt x="3134" y="5933"/>
                    </a:lnTo>
                    <a:lnTo>
                      <a:pt x="3153" y="5971"/>
                    </a:lnTo>
                    <a:lnTo>
                      <a:pt x="3130" y="5985"/>
                    </a:lnTo>
                    <a:lnTo>
                      <a:pt x="3116" y="6004"/>
                    </a:lnTo>
                    <a:lnTo>
                      <a:pt x="3083" y="5980"/>
                    </a:lnTo>
                    <a:close/>
                    <a:moveTo>
                      <a:pt x="3134" y="5933"/>
                    </a:moveTo>
                    <a:lnTo>
                      <a:pt x="3134" y="5933"/>
                    </a:lnTo>
                    <a:lnTo>
                      <a:pt x="3172" y="5928"/>
                    </a:lnTo>
                    <a:lnTo>
                      <a:pt x="3172" y="5943"/>
                    </a:lnTo>
                    <a:lnTo>
                      <a:pt x="3172" y="5952"/>
                    </a:lnTo>
                    <a:lnTo>
                      <a:pt x="3163" y="5961"/>
                    </a:lnTo>
                    <a:lnTo>
                      <a:pt x="3153" y="5971"/>
                    </a:lnTo>
                    <a:lnTo>
                      <a:pt x="3134" y="5933"/>
                    </a:lnTo>
                    <a:close/>
                    <a:moveTo>
                      <a:pt x="3134" y="5933"/>
                    </a:moveTo>
                    <a:lnTo>
                      <a:pt x="3130" y="5928"/>
                    </a:lnTo>
                    <a:lnTo>
                      <a:pt x="3130" y="5919"/>
                    </a:lnTo>
                    <a:lnTo>
                      <a:pt x="3172" y="5919"/>
                    </a:lnTo>
                    <a:lnTo>
                      <a:pt x="3172" y="5924"/>
                    </a:lnTo>
                    <a:lnTo>
                      <a:pt x="3172" y="5928"/>
                    </a:lnTo>
                    <a:lnTo>
                      <a:pt x="3134" y="5933"/>
                    </a:lnTo>
                    <a:close/>
                    <a:moveTo>
                      <a:pt x="3130" y="5919"/>
                    </a:moveTo>
                    <a:lnTo>
                      <a:pt x="3134" y="5910"/>
                    </a:lnTo>
                    <a:lnTo>
                      <a:pt x="3139" y="5900"/>
                    </a:lnTo>
                    <a:lnTo>
                      <a:pt x="3149" y="5891"/>
                    </a:lnTo>
                    <a:lnTo>
                      <a:pt x="3163" y="5881"/>
                    </a:lnTo>
                    <a:lnTo>
                      <a:pt x="3186" y="5877"/>
                    </a:lnTo>
                    <a:lnTo>
                      <a:pt x="3215" y="5872"/>
                    </a:lnTo>
                    <a:lnTo>
                      <a:pt x="3252" y="5867"/>
                    </a:lnTo>
                    <a:lnTo>
                      <a:pt x="3304" y="5872"/>
                    </a:lnTo>
                    <a:lnTo>
                      <a:pt x="3304" y="5910"/>
                    </a:lnTo>
                    <a:lnTo>
                      <a:pt x="3234" y="5905"/>
                    </a:lnTo>
                    <a:lnTo>
                      <a:pt x="3196" y="5910"/>
                    </a:lnTo>
                    <a:lnTo>
                      <a:pt x="3177" y="5914"/>
                    </a:lnTo>
                    <a:lnTo>
                      <a:pt x="3172" y="5919"/>
                    </a:lnTo>
                    <a:lnTo>
                      <a:pt x="3130" y="5919"/>
                    </a:lnTo>
                    <a:close/>
                    <a:moveTo>
                      <a:pt x="3304" y="5872"/>
                    </a:moveTo>
                    <a:lnTo>
                      <a:pt x="3375" y="5877"/>
                    </a:lnTo>
                    <a:lnTo>
                      <a:pt x="3422" y="5881"/>
                    </a:lnTo>
                    <a:lnTo>
                      <a:pt x="3441" y="5881"/>
                    </a:lnTo>
                    <a:lnTo>
                      <a:pt x="3446" y="5881"/>
                    </a:lnTo>
                    <a:lnTo>
                      <a:pt x="3489" y="5881"/>
                    </a:lnTo>
                    <a:lnTo>
                      <a:pt x="3484" y="5891"/>
                    </a:lnTo>
                    <a:lnTo>
                      <a:pt x="3479" y="5900"/>
                    </a:lnTo>
                    <a:lnTo>
                      <a:pt x="3470" y="5905"/>
                    </a:lnTo>
                    <a:lnTo>
                      <a:pt x="3451" y="5910"/>
                    </a:lnTo>
                    <a:lnTo>
                      <a:pt x="3394" y="5910"/>
                    </a:lnTo>
                    <a:lnTo>
                      <a:pt x="3304" y="5910"/>
                    </a:lnTo>
                    <a:lnTo>
                      <a:pt x="3304" y="5872"/>
                    </a:lnTo>
                    <a:close/>
                    <a:moveTo>
                      <a:pt x="3446" y="5881"/>
                    </a:moveTo>
                    <a:lnTo>
                      <a:pt x="3446" y="5881"/>
                    </a:lnTo>
                    <a:lnTo>
                      <a:pt x="3479" y="5862"/>
                    </a:lnTo>
                    <a:lnTo>
                      <a:pt x="3484" y="5872"/>
                    </a:lnTo>
                    <a:lnTo>
                      <a:pt x="3489" y="5881"/>
                    </a:lnTo>
                    <a:lnTo>
                      <a:pt x="3446" y="5881"/>
                    </a:lnTo>
                    <a:close/>
                    <a:moveTo>
                      <a:pt x="3446" y="5881"/>
                    </a:moveTo>
                    <a:lnTo>
                      <a:pt x="3441" y="5872"/>
                    </a:lnTo>
                    <a:lnTo>
                      <a:pt x="3441" y="5853"/>
                    </a:lnTo>
                    <a:lnTo>
                      <a:pt x="3479" y="5862"/>
                    </a:lnTo>
                    <a:lnTo>
                      <a:pt x="3446" y="5881"/>
                    </a:lnTo>
                    <a:close/>
                    <a:moveTo>
                      <a:pt x="3441" y="5853"/>
                    </a:moveTo>
                    <a:lnTo>
                      <a:pt x="3460" y="5792"/>
                    </a:lnTo>
                    <a:lnTo>
                      <a:pt x="3474" y="5749"/>
                    </a:lnTo>
                    <a:lnTo>
                      <a:pt x="3507" y="5763"/>
                    </a:lnTo>
                    <a:lnTo>
                      <a:pt x="3498" y="5801"/>
                    </a:lnTo>
                    <a:lnTo>
                      <a:pt x="3479" y="5862"/>
                    </a:lnTo>
                    <a:lnTo>
                      <a:pt x="3441" y="5853"/>
                    </a:lnTo>
                    <a:close/>
                    <a:moveTo>
                      <a:pt x="3507" y="5740"/>
                    </a:moveTo>
                    <a:lnTo>
                      <a:pt x="3512" y="5749"/>
                    </a:lnTo>
                    <a:lnTo>
                      <a:pt x="3507" y="5763"/>
                    </a:lnTo>
                    <a:lnTo>
                      <a:pt x="3489" y="5754"/>
                    </a:lnTo>
                    <a:lnTo>
                      <a:pt x="3507" y="5740"/>
                    </a:lnTo>
                    <a:close/>
                    <a:moveTo>
                      <a:pt x="3474" y="5768"/>
                    </a:moveTo>
                    <a:lnTo>
                      <a:pt x="3361" y="5645"/>
                    </a:lnTo>
                    <a:lnTo>
                      <a:pt x="3389" y="5617"/>
                    </a:lnTo>
                    <a:lnTo>
                      <a:pt x="3507" y="5740"/>
                    </a:lnTo>
                    <a:lnTo>
                      <a:pt x="3474" y="5768"/>
                    </a:lnTo>
                    <a:close/>
                    <a:moveTo>
                      <a:pt x="3361" y="5645"/>
                    </a:moveTo>
                    <a:lnTo>
                      <a:pt x="3342" y="5626"/>
                    </a:lnTo>
                    <a:lnTo>
                      <a:pt x="3366" y="5617"/>
                    </a:lnTo>
                    <a:lnTo>
                      <a:pt x="3375" y="5631"/>
                    </a:lnTo>
                    <a:lnTo>
                      <a:pt x="3361" y="5645"/>
                    </a:lnTo>
                    <a:close/>
                    <a:moveTo>
                      <a:pt x="3366" y="5617"/>
                    </a:moveTo>
                    <a:lnTo>
                      <a:pt x="3389" y="5607"/>
                    </a:lnTo>
                    <a:lnTo>
                      <a:pt x="3465" y="5598"/>
                    </a:lnTo>
                    <a:lnTo>
                      <a:pt x="3465" y="5636"/>
                    </a:lnTo>
                    <a:lnTo>
                      <a:pt x="3404" y="5645"/>
                    </a:lnTo>
                    <a:lnTo>
                      <a:pt x="3380" y="5650"/>
                    </a:lnTo>
                    <a:lnTo>
                      <a:pt x="3366" y="5617"/>
                    </a:lnTo>
                    <a:close/>
                    <a:moveTo>
                      <a:pt x="3465" y="5598"/>
                    </a:moveTo>
                    <a:lnTo>
                      <a:pt x="3489" y="5598"/>
                    </a:lnTo>
                    <a:lnTo>
                      <a:pt x="3512" y="5593"/>
                    </a:lnTo>
                    <a:lnTo>
                      <a:pt x="3517" y="5631"/>
                    </a:lnTo>
                    <a:lnTo>
                      <a:pt x="3489" y="5636"/>
                    </a:lnTo>
                    <a:lnTo>
                      <a:pt x="3465" y="5636"/>
                    </a:lnTo>
                    <a:lnTo>
                      <a:pt x="3465" y="5598"/>
                    </a:lnTo>
                    <a:close/>
                    <a:moveTo>
                      <a:pt x="3512" y="5593"/>
                    </a:moveTo>
                    <a:lnTo>
                      <a:pt x="3559" y="5589"/>
                    </a:lnTo>
                    <a:lnTo>
                      <a:pt x="3597" y="5589"/>
                    </a:lnTo>
                    <a:lnTo>
                      <a:pt x="3621" y="5593"/>
                    </a:lnTo>
                    <a:lnTo>
                      <a:pt x="3640" y="5598"/>
                    </a:lnTo>
                    <a:lnTo>
                      <a:pt x="3654" y="5607"/>
                    </a:lnTo>
                    <a:lnTo>
                      <a:pt x="3673" y="5617"/>
                    </a:lnTo>
                    <a:lnTo>
                      <a:pt x="3644" y="5645"/>
                    </a:lnTo>
                    <a:lnTo>
                      <a:pt x="3630" y="5641"/>
                    </a:lnTo>
                    <a:lnTo>
                      <a:pt x="3621" y="5631"/>
                    </a:lnTo>
                    <a:lnTo>
                      <a:pt x="3607" y="5631"/>
                    </a:lnTo>
                    <a:lnTo>
                      <a:pt x="3588" y="5626"/>
                    </a:lnTo>
                    <a:lnTo>
                      <a:pt x="3555" y="5631"/>
                    </a:lnTo>
                    <a:lnTo>
                      <a:pt x="3517" y="5631"/>
                    </a:lnTo>
                    <a:lnTo>
                      <a:pt x="3512" y="5593"/>
                    </a:lnTo>
                    <a:close/>
                    <a:moveTo>
                      <a:pt x="3673" y="5617"/>
                    </a:moveTo>
                    <a:lnTo>
                      <a:pt x="3715" y="5655"/>
                    </a:lnTo>
                    <a:lnTo>
                      <a:pt x="3762" y="5678"/>
                    </a:lnTo>
                    <a:lnTo>
                      <a:pt x="3744" y="5716"/>
                    </a:lnTo>
                    <a:lnTo>
                      <a:pt x="3692" y="5688"/>
                    </a:lnTo>
                    <a:lnTo>
                      <a:pt x="3644" y="5645"/>
                    </a:lnTo>
                    <a:lnTo>
                      <a:pt x="3673" y="5617"/>
                    </a:lnTo>
                    <a:close/>
                    <a:moveTo>
                      <a:pt x="3762" y="5678"/>
                    </a:moveTo>
                    <a:lnTo>
                      <a:pt x="3781" y="5692"/>
                    </a:lnTo>
                    <a:lnTo>
                      <a:pt x="3800" y="5702"/>
                    </a:lnTo>
                    <a:lnTo>
                      <a:pt x="3781" y="5735"/>
                    </a:lnTo>
                    <a:lnTo>
                      <a:pt x="3762" y="5725"/>
                    </a:lnTo>
                    <a:lnTo>
                      <a:pt x="3744" y="5716"/>
                    </a:lnTo>
                    <a:lnTo>
                      <a:pt x="3762" y="5678"/>
                    </a:lnTo>
                    <a:close/>
                    <a:moveTo>
                      <a:pt x="3781" y="5735"/>
                    </a:moveTo>
                    <a:lnTo>
                      <a:pt x="3781" y="5735"/>
                    </a:lnTo>
                    <a:lnTo>
                      <a:pt x="3791" y="5716"/>
                    </a:lnTo>
                    <a:lnTo>
                      <a:pt x="3781" y="5735"/>
                    </a:lnTo>
                    <a:close/>
                    <a:moveTo>
                      <a:pt x="3800" y="5702"/>
                    </a:moveTo>
                    <a:lnTo>
                      <a:pt x="3814" y="5707"/>
                    </a:lnTo>
                    <a:lnTo>
                      <a:pt x="3824" y="5711"/>
                    </a:lnTo>
                    <a:lnTo>
                      <a:pt x="3819" y="5749"/>
                    </a:lnTo>
                    <a:lnTo>
                      <a:pt x="3800" y="5744"/>
                    </a:lnTo>
                    <a:lnTo>
                      <a:pt x="3781" y="5735"/>
                    </a:lnTo>
                    <a:lnTo>
                      <a:pt x="3800" y="5702"/>
                    </a:lnTo>
                    <a:close/>
                    <a:moveTo>
                      <a:pt x="3824" y="5711"/>
                    </a:moveTo>
                    <a:lnTo>
                      <a:pt x="3852" y="5716"/>
                    </a:lnTo>
                    <a:lnTo>
                      <a:pt x="3871" y="5730"/>
                    </a:lnTo>
                    <a:lnTo>
                      <a:pt x="3880" y="5740"/>
                    </a:lnTo>
                    <a:lnTo>
                      <a:pt x="3885" y="5754"/>
                    </a:lnTo>
                    <a:lnTo>
                      <a:pt x="3885" y="5773"/>
                    </a:lnTo>
                    <a:lnTo>
                      <a:pt x="3885" y="5801"/>
                    </a:lnTo>
                    <a:lnTo>
                      <a:pt x="3847" y="5796"/>
                    </a:lnTo>
                    <a:lnTo>
                      <a:pt x="3847" y="5773"/>
                    </a:lnTo>
                    <a:lnTo>
                      <a:pt x="3843" y="5759"/>
                    </a:lnTo>
                    <a:lnTo>
                      <a:pt x="3828" y="5749"/>
                    </a:lnTo>
                    <a:lnTo>
                      <a:pt x="3819" y="5749"/>
                    </a:lnTo>
                    <a:lnTo>
                      <a:pt x="3824" y="5711"/>
                    </a:lnTo>
                    <a:close/>
                    <a:moveTo>
                      <a:pt x="3885" y="5801"/>
                    </a:moveTo>
                    <a:lnTo>
                      <a:pt x="3871" y="5867"/>
                    </a:lnTo>
                    <a:lnTo>
                      <a:pt x="3862" y="5900"/>
                    </a:lnTo>
                    <a:lnTo>
                      <a:pt x="3828" y="5877"/>
                    </a:lnTo>
                    <a:lnTo>
                      <a:pt x="3838" y="5853"/>
                    </a:lnTo>
                    <a:lnTo>
                      <a:pt x="3847" y="5796"/>
                    </a:lnTo>
                    <a:lnTo>
                      <a:pt x="3885" y="5801"/>
                    </a:lnTo>
                    <a:close/>
                    <a:moveTo>
                      <a:pt x="3862" y="5900"/>
                    </a:moveTo>
                    <a:lnTo>
                      <a:pt x="3852" y="5910"/>
                    </a:lnTo>
                    <a:lnTo>
                      <a:pt x="3843" y="5919"/>
                    </a:lnTo>
                    <a:lnTo>
                      <a:pt x="3838" y="5919"/>
                    </a:lnTo>
                    <a:lnTo>
                      <a:pt x="3833" y="5919"/>
                    </a:lnTo>
                    <a:lnTo>
                      <a:pt x="3824" y="5905"/>
                    </a:lnTo>
                    <a:lnTo>
                      <a:pt x="3819" y="5891"/>
                    </a:lnTo>
                    <a:lnTo>
                      <a:pt x="3862" y="5891"/>
                    </a:lnTo>
                    <a:lnTo>
                      <a:pt x="3857" y="5895"/>
                    </a:lnTo>
                    <a:lnTo>
                      <a:pt x="3852" y="5900"/>
                    </a:lnTo>
                    <a:lnTo>
                      <a:pt x="3843" y="5900"/>
                    </a:lnTo>
                    <a:lnTo>
                      <a:pt x="3838" y="5900"/>
                    </a:lnTo>
                    <a:lnTo>
                      <a:pt x="3828" y="5900"/>
                    </a:lnTo>
                    <a:lnTo>
                      <a:pt x="3824" y="5895"/>
                    </a:lnTo>
                    <a:lnTo>
                      <a:pt x="3824" y="5886"/>
                    </a:lnTo>
                    <a:lnTo>
                      <a:pt x="3828" y="5877"/>
                    </a:lnTo>
                    <a:lnTo>
                      <a:pt x="3862" y="5900"/>
                    </a:lnTo>
                    <a:close/>
                    <a:moveTo>
                      <a:pt x="3819" y="5891"/>
                    </a:moveTo>
                    <a:lnTo>
                      <a:pt x="3824" y="5881"/>
                    </a:lnTo>
                    <a:lnTo>
                      <a:pt x="3828" y="5872"/>
                    </a:lnTo>
                    <a:lnTo>
                      <a:pt x="3843" y="5867"/>
                    </a:lnTo>
                    <a:lnTo>
                      <a:pt x="3857" y="5872"/>
                    </a:lnTo>
                    <a:lnTo>
                      <a:pt x="3838" y="5905"/>
                    </a:lnTo>
                    <a:lnTo>
                      <a:pt x="3833" y="5905"/>
                    </a:lnTo>
                    <a:lnTo>
                      <a:pt x="3833" y="5900"/>
                    </a:lnTo>
                    <a:lnTo>
                      <a:pt x="3838" y="5895"/>
                    </a:lnTo>
                    <a:lnTo>
                      <a:pt x="3843" y="5891"/>
                    </a:lnTo>
                    <a:lnTo>
                      <a:pt x="3852" y="5886"/>
                    </a:lnTo>
                    <a:lnTo>
                      <a:pt x="3862" y="5891"/>
                    </a:lnTo>
                    <a:lnTo>
                      <a:pt x="3819" y="5891"/>
                    </a:lnTo>
                    <a:close/>
                    <a:moveTo>
                      <a:pt x="3857" y="5872"/>
                    </a:moveTo>
                    <a:lnTo>
                      <a:pt x="3876" y="5895"/>
                    </a:lnTo>
                    <a:lnTo>
                      <a:pt x="3909" y="5952"/>
                    </a:lnTo>
                    <a:lnTo>
                      <a:pt x="3876" y="5966"/>
                    </a:lnTo>
                    <a:lnTo>
                      <a:pt x="3847" y="5924"/>
                    </a:lnTo>
                    <a:lnTo>
                      <a:pt x="3838" y="5905"/>
                    </a:lnTo>
                    <a:lnTo>
                      <a:pt x="3857" y="5872"/>
                    </a:lnTo>
                    <a:close/>
                    <a:moveTo>
                      <a:pt x="3909" y="5952"/>
                    </a:moveTo>
                    <a:lnTo>
                      <a:pt x="3923" y="5980"/>
                    </a:lnTo>
                    <a:lnTo>
                      <a:pt x="3932" y="6013"/>
                    </a:lnTo>
                    <a:lnTo>
                      <a:pt x="3895" y="6023"/>
                    </a:lnTo>
                    <a:lnTo>
                      <a:pt x="3885" y="5995"/>
                    </a:lnTo>
                    <a:lnTo>
                      <a:pt x="3876" y="5966"/>
                    </a:lnTo>
                    <a:lnTo>
                      <a:pt x="3909" y="5952"/>
                    </a:lnTo>
                    <a:close/>
                    <a:moveTo>
                      <a:pt x="3932" y="6013"/>
                    </a:moveTo>
                    <a:lnTo>
                      <a:pt x="3937" y="6046"/>
                    </a:lnTo>
                    <a:lnTo>
                      <a:pt x="3937" y="6089"/>
                    </a:lnTo>
                    <a:lnTo>
                      <a:pt x="3899" y="6089"/>
                    </a:lnTo>
                    <a:lnTo>
                      <a:pt x="3899" y="6051"/>
                    </a:lnTo>
                    <a:lnTo>
                      <a:pt x="3895" y="6023"/>
                    </a:lnTo>
                    <a:lnTo>
                      <a:pt x="3932" y="6013"/>
                    </a:lnTo>
                    <a:close/>
                    <a:moveTo>
                      <a:pt x="3937" y="6089"/>
                    </a:moveTo>
                    <a:lnTo>
                      <a:pt x="3942" y="6098"/>
                    </a:lnTo>
                    <a:lnTo>
                      <a:pt x="3951" y="6103"/>
                    </a:lnTo>
                    <a:lnTo>
                      <a:pt x="3965" y="6108"/>
                    </a:lnTo>
                    <a:lnTo>
                      <a:pt x="3980" y="6113"/>
                    </a:lnTo>
                    <a:lnTo>
                      <a:pt x="3970" y="6150"/>
                    </a:lnTo>
                    <a:lnTo>
                      <a:pt x="3942" y="6146"/>
                    </a:lnTo>
                    <a:lnTo>
                      <a:pt x="3923" y="6131"/>
                    </a:lnTo>
                    <a:lnTo>
                      <a:pt x="3913" y="6127"/>
                    </a:lnTo>
                    <a:lnTo>
                      <a:pt x="3904" y="6113"/>
                    </a:lnTo>
                    <a:lnTo>
                      <a:pt x="3899" y="6103"/>
                    </a:lnTo>
                    <a:lnTo>
                      <a:pt x="3899" y="6089"/>
                    </a:lnTo>
                    <a:lnTo>
                      <a:pt x="3937" y="6089"/>
                    </a:lnTo>
                    <a:close/>
                    <a:moveTo>
                      <a:pt x="3980" y="6113"/>
                    </a:moveTo>
                    <a:lnTo>
                      <a:pt x="4003" y="6122"/>
                    </a:lnTo>
                    <a:lnTo>
                      <a:pt x="4027" y="6131"/>
                    </a:lnTo>
                    <a:lnTo>
                      <a:pt x="4036" y="6141"/>
                    </a:lnTo>
                    <a:lnTo>
                      <a:pt x="4046" y="6150"/>
                    </a:lnTo>
                    <a:lnTo>
                      <a:pt x="4050" y="6160"/>
                    </a:lnTo>
                    <a:lnTo>
                      <a:pt x="4055" y="6174"/>
                    </a:lnTo>
                    <a:lnTo>
                      <a:pt x="4017" y="6183"/>
                    </a:lnTo>
                    <a:lnTo>
                      <a:pt x="4013" y="6169"/>
                    </a:lnTo>
                    <a:lnTo>
                      <a:pt x="3998" y="6164"/>
                    </a:lnTo>
                    <a:lnTo>
                      <a:pt x="3984" y="6155"/>
                    </a:lnTo>
                    <a:lnTo>
                      <a:pt x="3970" y="6150"/>
                    </a:lnTo>
                    <a:lnTo>
                      <a:pt x="3980" y="6113"/>
                    </a:lnTo>
                    <a:close/>
                    <a:moveTo>
                      <a:pt x="4055" y="6174"/>
                    </a:moveTo>
                    <a:lnTo>
                      <a:pt x="4055" y="6183"/>
                    </a:lnTo>
                    <a:lnTo>
                      <a:pt x="4060" y="6197"/>
                    </a:lnTo>
                    <a:lnTo>
                      <a:pt x="4022" y="6202"/>
                    </a:lnTo>
                    <a:lnTo>
                      <a:pt x="4017" y="6197"/>
                    </a:lnTo>
                    <a:lnTo>
                      <a:pt x="4017" y="6183"/>
                    </a:lnTo>
                    <a:lnTo>
                      <a:pt x="4055" y="6174"/>
                    </a:lnTo>
                    <a:close/>
                    <a:moveTo>
                      <a:pt x="4060" y="6197"/>
                    </a:moveTo>
                    <a:lnTo>
                      <a:pt x="4065" y="6231"/>
                    </a:lnTo>
                    <a:lnTo>
                      <a:pt x="4069" y="6259"/>
                    </a:lnTo>
                    <a:lnTo>
                      <a:pt x="4065" y="6297"/>
                    </a:lnTo>
                    <a:lnTo>
                      <a:pt x="4055" y="6339"/>
                    </a:lnTo>
                    <a:lnTo>
                      <a:pt x="4017" y="6325"/>
                    </a:lnTo>
                    <a:lnTo>
                      <a:pt x="4027" y="6292"/>
                    </a:lnTo>
                    <a:lnTo>
                      <a:pt x="4027" y="6259"/>
                    </a:lnTo>
                    <a:lnTo>
                      <a:pt x="4027" y="6235"/>
                    </a:lnTo>
                    <a:lnTo>
                      <a:pt x="4022" y="6202"/>
                    </a:lnTo>
                    <a:lnTo>
                      <a:pt x="4060" y="6197"/>
                    </a:lnTo>
                    <a:close/>
                    <a:moveTo>
                      <a:pt x="4055" y="6339"/>
                    </a:moveTo>
                    <a:lnTo>
                      <a:pt x="4046" y="6363"/>
                    </a:lnTo>
                    <a:lnTo>
                      <a:pt x="4041" y="6386"/>
                    </a:lnTo>
                    <a:lnTo>
                      <a:pt x="4003" y="6377"/>
                    </a:lnTo>
                    <a:lnTo>
                      <a:pt x="4008" y="6349"/>
                    </a:lnTo>
                    <a:lnTo>
                      <a:pt x="4017" y="6325"/>
                    </a:lnTo>
                    <a:lnTo>
                      <a:pt x="4055" y="6339"/>
                    </a:lnTo>
                    <a:close/>
                    <a:moveTo>
                      <a:pt x="4041" y="6386"/>
                    </a:moveTo>
                    <a:lnTo>
                      <a:pt x="4027" y="6424"/>
                    </a:lnTo>
                    <a:lnTo>
                      <a:pt x="4017" y="6452"/>
                    </a:lnTo>
                    <a:lnTo>
                      <a:pt x="4013" y="6476"/>
                    </a:lnTo>
                    <a:lnTo>
                      <a:pt x="4017" y="6495"/>
                    </a:lnTo>
                    <a:lnTo>
                      <a:pt x="3980" y="6514"/>
                    </a:lnTo>
                    <a:lnTo>
                      <a:pt x="3975" y="6500"/>
                    </a:lnTo>
                    <a:lnTo>
                      <a:pt x="3975" y="6485"/>
                    </a:lnTo>
                    <a:lnTo>
                      <a:pt x="3975" y="6471"/>
                    </a:lnTo>
                    <a:lnTo>
                      <a:pt x="3980" y="6452"/>
                    </a:lnTo>
                    <a:lnTo>
                      <a:pt x="3989" y="6415"/>
                    </a:lnTo>
                    <a:lnTo>
                      <a:pt x="4003" y="6377"/>
                    </a:lnTo>
                    <a:lnTo>
                      <a:pt x="4041" y="6386"/>
                    </a:lnTo>
                    <a:close/>
                    <a:moveTo>
                      <a:pt x="4017" y="6495"/>
                    </a:moveTo>
                    <a:lnTo>
                      <a:pt x="4022" y="6509"/>
                    </a:lnTo>
                    <a:lnTo>
                      <a:pt x="4031" y="6528"/>
                    </a:lnTo>
                    <a:lnTo>
                      <a:pt x="3994" y="6542"/>
                    </a:lnTo>
                    <a:lnTo>
                      <a:pt x="3989" y="6528"/>
                    </a:lnTo>
                    <a:lnTo>
                      <a:pt x="3980" y="6514"/>
                    </a:lnTo>
                    <a:lnTo>
                      <a:pt x="4017" y="6495"/>
                    </a:lnTo>
                    <a:close/>
                    <a:moveTo>
                      <a:pt x="4031" y="6528"/>
                    </a:moveTo>
                    <a:lnTo>
                      <a:pt x="4041" y="6556"/>
                    </a:lnTo>
                    <a:lnTo>
                      <a:pt x="4050" y="6570"/>
                    </a:lnTo>
                    <a:lnTo>
                      <a:pt x="4055" y="6608"/>
                    </a:lnTo>
                    <a:lnTo>
                      <a:pt x="4046" y="6608"/>
                    </a:lnTo>
                    <a:lnTo>
                      <a:pt x="4031" y="6608"/>
                    </a:lnTo>
                    <a:lnTo>
                      <a:pt x="4022" y="6599"/>
                    </a:lnTo>
                    <a:lnTo>
                      <a:pt x="4017" y="6589"/>
                    </a:lnTo>
                    <a:lnTo>
                      <a:pt x="4003" y="6570"/>
                    </a:lnTo>
                    <a:lnTo>
                      <a:pt x="3994" y="6542"/>
                    </a:lnTo>
                    <a:lnTo>
                      <a:pt x="4031" y="6528"/>
                    </a:lnTo>
                    <a:close/>
                    <a:moveTo>
                      <a:pt x="4050" y="6570"/>
                    </a:moveTo>
                    <a:lnTo>
                      <a:pt x="4060" y="6566"/>
                    </a:lnTo>
                    <a:lnTo>
                      <a:pt x="4074" y="6551"/>
                    </a:lnTo>
                    <a:lnTo>
                      <a:pt x="4098" y="6585"/>
                    </a:lnTo>
                    <a:lnTo>
                      <a:pt x="4079" y="6599"/>
                    </a:lnTo>
                    <a:lnTo>
                      <a:pt x="4055" y="6608"/>
                    </a:lnTo>
                    <a:lnTo>
                      <a:pt x="4050" y="6570"/>
                    </a:lnTo>
                    <a:close/>
                    <a:moveTo>
                      <a:pt x="4074" y="6551"/>
                    </a:moveTo>
                    <a:lnTo>
                      <a:pt x="4093" y="6537"/>
                    </a:lnTo>
                    <a:lnTo>
                      <a:pt x="4112" y="6528"/>
                    </a:lnTo>
                    <a:lnTo>
                      <a:pt x="4121" y="6566"/>
                    </a:lnTo>
                    <a:lnTo>
                      <a:pt x="4112" y="6575"/>
                    </a:lnTo>
                    <a:lnTo>
                      <a:pt x="4098" y="6585"/>
                    </a:lnTo>
                    <a:lnTo>
                      <a:pt x="4074" y="6551"/>
                    </a:lnTo>
                    <a:close/>
                    <a:moveTo>
                      <a:pt x="4121" y="6566"/>
                    </a:moveTo>
                    <a:lnTo>
                      <a:pt x="4121" y="6566"/>
                    </a:lnTo>
                    <a:lnTo>
                      <a:pt x="4116" y="6547"/>
                    </a:lnTo>
                    <a:lnTo>
                      <a:pt x="4121" y="6566"/>
                    </a:lnTo>
                    <a:close/>
                    <a:moveTo>
                      <a:pt x="4112" y="6533"/>
                    </a:moveTo>
                    <a:lnTo>
                      <a:pt x="4121" y="6528"/>
                    </a:lnTo>
                    <a:lnTo>
                      <a:pt x="4135" y="6528"/>
                    </a:lnTo>
                    <a:lnTo>
                      <a:pt x="4145" y="6537"/>
                    </a:lnTo>
                    <a:lnTo>
                      <a:pt x="4150" y="6551"/>
                    </a:lnTo>
                    <a:lnTo>
                      <a:pt x="4112" y="6566"/>
                    </a:lnTo>
                    <a:lnTo>
                      <a:pt x="4121" y="6566"/>
                    </a:lnTo>
                    <a:lnTo>
                      <a:pt x="4112" y="6533"/>
                    </a:lnTo>
                    <a:close/>
                    <a:moveTo>
                      <a:pt x="4150" y="6551"/>
                    </a:moveTo>
                    <a:lnTo>
                      <a:pt x="4187" y="6627"/>
                    </a:lnTo>
                    <a:lnTo>
                      <a:pt x="4216" y="6684"/>
                    </a:lnTo>
                    <a:lnTo>
                      <a:pt x="4178" y="6702"/>
                    </a:lnTo>
                    <a:lnTo>
                      <a:pt x="4150" y="6646"/>
                    </a:lnTo>
                    <a:lnTo>
                      <a:pt x="4112" y="6566"/>
                    </a:lnTo>
                    <a:lnTo>
                      <a:pt x="4150" y="6551"/>
                    </a:lnTo>
                    <a:close/>
                    <a:moveTo>
                      <a:pt x="4187" y="6707"/>
                    </a:moveTo>
                    <a:lnTo>
                      <a:pt x="4183" y="6702"/>
                    </a:lnTo>
                    <a:lnTo>
                      <a:pt x="4178" y="6702"/>
                    </a:lnTo>
                    <a:lnTo>
                      <a:pt x="4197" y="6693"/>
                    </a:lnTo>
                    <a:lnTo>
                      <a:pt x="4187" y="6707"/>
                    </a:lnTo>
                    <a:close/>
                    <a:moveTo>
                      <a:pt x="4206" y="6674"/>
                    </a:moveTo>
                    <a:lnTo>
                      <a:pt x="4305" y="6740"/>
                    </a:lnTo>
                    <a:lnTo>
                      <a:pt x="4282" y="6773"/>
                    </a:lnTo>
                    <a:lnTo>
                      <a:pt x="4187" y="6707"/>
                    </a:lnTo>
                    <a:lnTo>
                      <a:pt x="4206" y="6674"/>
                    </a:lnTo>
                    <a:close/>
                    <a:moveTo>
                      <a:pt x="4305" y="6740"/>
                    </a:moveTo>
                    <a:lnTo>
                      <a:pt x="4305" y="6740"/>
                    </a:lnTo>
                    <a:lnTo>
                      <a:pt x="4310" y="6745"/>
                    </a:lnTo>
                    <a:lnTo>
                      <a:pt x="4291" y="6754"/>
                    </a:lnTo>
                    <a:lnTo>
                      <a:pt x="4305" y="6740"/>
                    </a:lnTo>
                    <a:close/>
                    <a:moveTo>
                      <a:pt x="4310" y="6745"/>
                    </a:moveTo>
                    <a:lnTo>
                      <a:pt x="4329" y="6764"/>
                    </a:lnTo>
                    <a:lnTo>
                      <a:pt x="4376" y="6802"/>
                    </a:lnTo>
                    <a:lnTo>
                      <a:pt x="4357" y="6835"/>
                    </a:lnTo>
                    <a:lnTo>
                      <a:pt x="4324" y="6816"/>
                    </a:lnTo>
                    <a:lnTo>
                      <a:pt x="4301" y="6792"/>
                    </a:lnTo>
                    <a:lnTo>
                      <a:pt x="4282" y="6773"/>
                    </a:lnTo>
                    <a:lnTo>
                      <a:pt x="4277" y="6769"/>
                    </a:lnTo>
                    <a:lnTo>
                      <a:pt x="4310" y="6745"/>
                    </a:lnTo>
                    <a:close/>
                    <a:moveTo>
                      <a:pt x="4376" y="6802"/>
                    </a:moveTo>
                    <a:lnTo>
                      <a:pt x="4400" y="6806"/>
                    </a:lnTo>
                    <a:lnTo>
                      <a:pt x="4433" y="6811"/>
                    </a:lnTo>
                    <a:lnTo>
                      <a:pt x="4433" y="6849"/>
                    </a:lnTo>
                    <a:lnTo>
                      <a:pt x="4395" y="6849"/>
                    </a:lnTo>
                    <a:lnTo>
                      <a:pt x="4357" y="6835"/>
                    </a:lnTo>
                    <a:lnTo>
                      <a:pt x="4376" y="6802"/>
                    </a:lnTo>
                    <a:close/>
                    <a:moveTo>
                      <a:pt x="4433" y="6811"/>
                    </a:moveTo>
                    <a:lnTo>
                      <a:pt x="4456" y="6811"/>
                    </a:lnTo>
                    <a:lnTo>
                      <a:pt x="4480" y="6816"/>
                    </a:lnTo>
                    <a:lnTo>
                      <a:pt x="4494" y="6816"/>
                    </a:lnTo>
                    <a:lnTo>
                      <a:pt x="4504" y="6825"/>
                    </a:lnTo>
                    <a:lnTo>
                      <a:pt x="4513" y="6830"/>
                    </a:lnTo>
                    <a:lnTo>
                      <a:pt x="4518" y="6839"/>
                    </a:lnTo>
                    <a:lnTo>
                      <a:pt x="4485" y="6863"/>
                    </a:lnTo>
                    <a:lnTo>
                      <a:pt x="4475" y="6854"/>
                    </a:lnTo>
                    <a:lnTo>
                      <a:pt x="4466" y="6849"/>
                    </a:lnTo>
                    <a:lnTo>
                      <a:pt x="4447" y="6849"/>
                    </a:lnTo>
                    <a:lnTo>
                      <a:pt x="4433" y="6849"/>
                    </a:lnTo>
                    <a:lnTo>
                      <a:pt x="4433" y="6811"/>
                    </a:lnTo>
                    <a:close/>
                    <a:moveTo>
                      <a:pt x="4485" y="6863"/>
                    </a:moveTo>
                    <a:lnTo>
                      <a:pt x="4485" y="6863"/>
                    </a:lnTo>
                    <a:lnTo>
                      <a:pt x="4504" y="6854"/>
                    </a:lnTo>
                    <a:lnTo>
                      <a:pt x="4485" y="6863"/>
                    </a:lnTo>
                    <a:close/>
                    <a:moveTo>
                      <a:pt x="4518" y="6839"/>
                    </a:moveTo>
                    <a:lnTo>
                      <a:pt x="4527" y="6854"/>
                    </a:lnTo>
                    <a:lnTo>
                      <a:pt x="4541" y="6868"/>
                    </a:lnTo>
                    <a:lnTo>
                      <a:pt x="4513" y="6896"/>
                    </a:lnTo>
                    <a:lnTo>
                      <a:pt x="4499" y="6877"/>
                    </a:lnTo>
                    <a:lnTo>
                      <a:pt x="4485" y="6863"/>
                    </a:lnTo>
                    <a:lnTo>
                      <a:pt x="4518" y="6839"/>
                    </a:lnTo>
                    <a:close/>
                    <a:moveTo>
                      <a:pt x="4541" y="6868"/>
                    </a:moveTo>
                    <a:lnTo>
                      <a:pt x="4551" y="6877"/>
                    </a:lnTo>
                    <a:lnTo>
                      <a:pt x="4560" y="6891"/>
                    </a:lnTo>
                    <a:lnTo>
                      <a:pt x="4522" y="6910"/>
                    </a:lnTo>
                    <a:lnTo>
                      <a:pt x="4518" y="6901"/>
                    </a:lnTo>
                    <a:lnTo>
                      <a:pt x="4513" y="6896"/>
                    </a:lnTo>
                    <a:lnTo>
                      <a:pt x="4541" y="6868"/>
                    </a:lnTo>
                    <a:close/>
                    <a:moveTo>
                      <a:pt x="4560" y="6891"/>
                    </a:moveTo>
                    <a:lnTo>
                      <a:pt x="4565" y="6910"/>
                    </a:lnTo>
                    <a:lnTo>
                      <a:pt x="4560" y="6924"/>
                    </a:lnTo>
                    <a:lnTo>
                      <a:pt x="4551" y="6934"/>
                    </a:lnTo>
                    <a:lnTo>
                      <a:pt x="4527" y="6948"/>
                    </a:lnTo>
                    <a:lnTo>
                      <a:pt x="4508" y="6915"/>
                    </a:lnTo>
                    <a:lnTo>
                      <a:pt x="4522" y="6910"/>
                    </a:lnTo>
                    <a:lnTo>
                      <a:pt x="4560" y="6891"/>
                    </a:lnTo>
                    <a:close/>
                    <a:moveTo>
                      <a:pt x="4527" y="6948"/>
                    </a:moveTo>
                    <a:lnTo>
                      <a:pt x="4508" y="6957"/>
                    </a:lnTo>
                    <a:lnTo>
                      <a:pt x="4489" y="6957"/>
                    </a:lnTo>
                    <a:lnTo>
                      <a:pt x="4475" y="6957"/>
                    </a:lnTo>
                    <a:lnTo>
                      <a:pt x="4456" y="6957"/>
                    </a:lnTo>
                    <a:lnTo>
                      <a:pt x="4466" y="6915"/>
                    </a:lnTo>
                    <a:lnTo>
                      <a:pt x="4485" y="6920"/>
                    </a:lnTo>
                    <a:lnTo>
                      <a:pt x="4508" y="6915"/>
                    </a:lnTo>
                    <a:lnTo>
                      <a:pt x="4527" y="6948"/>
                    </a:lnTo>
                    <a:close/>
                    <a:moveTo>
                      <a:pt x="4456" y="6957"/>
                    </a:moveTo>
                    <a:lnTo>
                      <a:pt x="4442" y="6953"/>
                    </a:lnTo>
                    <a:lnTo>
                      <a:pt x="4428" y="6957"/>
                    </a:lnTo>
                    <a:lnTo>
                      <a:pt x="4409" y="6972"/>
                    </a:lnTo>
                    <a:lnTo>
                      <a:pt x="4390" y="7000"/>
                    </a:lnTo>
                    <a:lnTo>
                      <a:pt x="4357" y="6981"/>
                    </a:lnTo>
                    <a:lnTo>
                      <a:pt x="4371" y="6957"/>
                    </a:lnTo>
                    <a:lnTo>
                      <a:pt x="4386" y="6938"/>
                    </a:lnTo>
                    <a:lnTo>
                      <a:pt x="4400" y="6929"/>
                    </a:lnTo>
                    <a:lnTo>
                      <a:pt x="4409" y="6920"/>
                    </a:lnTo>
                    <a:lnTo>
                      <a:pt x="4438" y="6915"/>
                    </a:lnTo>
                    <a:lnTo>
                      <a:pt x="4466" y="6915"/>
                    </a:lnTo>
                    <a:lnTo>
                      <a:pt x="4456" y="6957"/>
                    </a:lnTo>
                    <a:close/>
                    <a:moveTo>
                      <a:pt x="4390" y="7000"/>
                    </a:moveTo>
                    <a:lnTo>
                      <a:pt x="4367" y="7042"/>
                    </a:lnTo>
                    <a:lnTo>
                      <a:pt x="4343" y="7080"/>
                    </a:lnTo>
                    <a:lnTo>
                      <a:pt x="4324" y="7113"/>
                    </a:lnTo>
                    <a:lnTo>
                      <a:pt x="4305" y="7141"/>
                    </a:lnTo>
                    <a:lnTo>
                      <a:pt x="4272" y="7123"/>
                    </a:lnTo>
                    <a:lnTo>
                      <a:pt x="4291" y="7094"/>
                    </a:lnTo>
                    <a:lnTo>
                      <a:pt x="4310" y="7061"/>
                    </a:lnTo>
                    <a:lnTo>
                      <a:pt x="4334" y="7023"/>
                    </a:lnTo>
                    <a:lnTo>
                      <a:pt x="4357" y="6981"/>
                    </a:lnTo>
                    <a:lnTo>
                      <a:pt x="4390" y="7000"/>
                    </a:lnTo>
                    <a:close/>
                    <a:moveTo>
                      <a:pt x="4272" y="7123"/>
                    </a:moveTo>
                    <a:lnTo>
                      <a:pt x="4272" y="7123"/>
                    </a:lnTo>
                    <a:lnTo>
                      <a:pt x="4291" y="7132"/>
                    </a:lnTo>
                    <a:lnTo>
                      <a:pt x="4272" y="7123"/>
                    </a:lnTo>
                    <a:close/>
                    <a:moveTo>
                      <a:pt x="4305" y="7141"/>
                    </a:moveTo>
                    <a:lnTo>
                      <a:pt x="4286" y="7179"/>
                    </a:lnTo>
                    <a:lnTo>
                      <a:pt x="4268" y="7208"/>
                    </a:lnTo>
                    <a:lnTo>
                      <a:pt x="4235" y="7189"/>
                    </a:lnTo>
                    <a:lnTo>
                      <a:pt x="4253" y="7156"/>
                    </a:lnTo>
                    <a:lnTo>
                      <a:pt x="4272" y="7123"/>
                    </a:lnTo>
                    <a:lnTo>
                      <a:pt x="4305" y="7141"/>
                    </a:lnTo>
                    <a:close/>
                    <a:moveTo>
                      <a:pt x="4268" y="7208"/>
                    </a:moveTo>
                    <a:lnTo>
                      <a:pt x="4253" y="7231"/>
                    </a:lnTo>
                    <a:lnTo>
                      <a:pt x="4244" y="7250"/>
                    </a:lnTo>
                    <a:lnTo>
                      <a:pt x="4211" y="7226"/>
                    </a:lnTo>
                    <a:lnTo>
                      <a:pt x="4220" y="7212"/>
                    </a:lnTo>
                    <a:lnTo>
                      <a:pt x="4235" y="7189"/>
                    </a:lnTo>
                    <a:lnTo>
                      <a:pt x="4268" y="7208"/>
                    </a:lnTo>
                    <a:close/>
                    <a:moveTo>
                      <a:pt x="4244" y="7250"/>
                    </a:moveTo>
                    <a:lnTo>
                      <a:pt x="4220" y="7288"/>
                    </a:lnTo>
                    <a:lnTo>
                      <a:pt x="4211" y="7316"/>
                    </a:lnTo>
                    <a:lnTo>
                      <a:pt x="4173" y="7316"/>
                    </a:lnTo>
                    <a:lnTo>
                      <a:pt x="4173" y="7297"/>
                    </a:lnTo>
                    <a:lnTo>
                      <a:pt x="4183" y="7278"/>
                    </a:lnTo>
                    <a:lnTo>
                      <a:pt x="4192" y="7255"/>
                    </a:lnTo>
                    <a:lnTo>
                      <a:pt x="4211" y="7226"/>
                    </a:lnTo>
                    <a:lnTo>
                      <a:pt x="4244" y="7250"/>
                    </a:lnTo>
                    <a:close/>
                    <a:moveTo>
                      <a:pt x="4211" y="7316"/>
                    </a:moveTo>
                    <a:lnTo>
                      <a:pt x="4211" y="7316"/>
                    </a:lnTo>
                    <a:lnTo>
                      <a:pt x="4173" y="7330"/>
                    </a:lnTo>
                    <a:lnTo>
                      <a:pt x="4173" y="7321"/>
                    </a:lnTo>
                    <a:lnTo>
                      <a:pt x="4173" y="7316"/>
                    </a:lnTo>
                    <a:lnTo>
                      <a:pt x="4211" y="7316"/>
                    </a:lnTo>
                    <a:close/>
                    <a:moveTo>
                      <a:pt x="4211" y="7316"/>
                    </a:moveTo>
                    <a:lnTo>
                      <a:pt x="4216" y="7316"/>
                    </a:lnTo>
                    <a:lnTo>
                      <a:pt x="4225" y="7321"/>
                    </a:lnTo>
                    <a:lnTo>
                      <a:pt x="4211" y="7359"/>
                    </a:lnTo>
                    <a:lnTo>
                      <a:pt x="4201" y="7354"/>
                    </a:lnTo>
                    <a:lnTo>
                      <a:pt x="4187" y="7349"/>
                    </a:lnTo>
                    <a:lnTo>
                      <a:pt x="4178" y="7340"/>
                    </a:lnTo>
                    <a:lnTo>
                      <a:pt x="4173" y="7330"/>
                    </a:lnTo>
                    <a:lnTo>
                      <a:pt x="4211" y="7316"/>
                    </a:lnTo>
                    <a:close/>
                    <a:moveTo>
                      <a:pt x="4225" y="7321"/>
                    </a:moveTo>
                    <a:lnTo>
                      <a:pt x="4244" y="7326"/>
                    </a:lnTo>
                    <a:lnTo>
                      <a:pt x="4258" y="7326"/>
                    </a:lnTo>
                    <a:lnTo>
                      <a:pt x="4258" y="7368"/>
                    </a:lnTo>
                    <a:lnTo>
                      <a:pt x="4235" y="7363"/>
                    </a:lnTo>
                    <a:lnTo>
                      <a:pt x="4211" y="7359"/>
                    </a:lnTo>
                    <a:lnTo>
                      <a:pt x="4225" y="7321"/>
                    </a:lnTo>
                    <a:close/>
                    <a:moveTo>
                      <a:pt x="4258" y="7326"/>
                    </a:moveTo>
                    <a:lnTo>
                      <a:pt x="4272" y="7326"/>
                    </a:lnTo>
                    <a:lnTo>
                      <a:pt x="4282" y="7326"/>
                    </a:lnTo>
                    <a:lnTo>
                      <a:pt x="4296" y="7363"/>
                    </a:lnTo>
                    <a:lnTo>
                      <a:pt x="4277" y="7363"/>
                    </a:lnTo>
                    <a:lnTo>
                      <a:pt x="4258" y="7368"/>
                    </a:lnTo>
                    <a:lnTo>
                      <a:pt x="4258" y="7326"/>
                    </a:lnTo>
                    <a:close/>
                    <a:moveTo>
                      <a:pt x="4282" y="7326"/>
                    </a:moveTo>
                    <a:lnTo>
                      <a:pt x="4291" y="7316"/>
                    </a:lnTo>
                    <a:lnTo>
                      <a:pt x="4305" y="7302"/>
                    </a:lnTo>
                    <a:lnTo>
                      <a:pt x="4334" y="7321"/>
                    </a:lnTo>
                    <a:lnTo>
                      <a:pt x="4319" y="7344"/>
                    </a:lnTo>
                    <a:lnTo>
                      <a:pt x="4296" y="7363"/>
                    </a:lnTo>
                    <a:lnTo>
                      <a:pt x="4282" y="7326"/>
                    </a:lnTo>
                    <a:close/>
                    <a:moveTo>
                      <a:pt x="4305" y="7302"/>
                    </a:moveTo>
                    <a:lnTo>
                      <a:pt x="4324" y="7274"/>
                    </a:lnTo>
                    <a:lnTo>
                      <a:pt x="4353" y="7250"/>
                    </a:lnTo>
                    <a:lnTo>
                      <a:pt x="4371" y="7283"/>
                    </a:lnTo>
                    <a:lnTo>
                      <a:pt x="4353" y="7302"/>
                    </a:lnTo>
                    <a:lnTo>
                      <a:pt x="4334" y="7321"/>
                    </a:lnTo>
                    <a:lnTo>
                      <a:pt x="4305" y="7302"/>
                    </a:lnTo>
                    <a:close/>
                    <a:moveTo>
                      <a:pt x="4353" y="7250"/>
                    </a:moveTo>
                    <a:lnTo>
                      <a:pt x="4381" y="7236"/>
                    </a:lnTo>
                    <a:lnTo>
                      <a:pt x="4409" y="7226"/>
                    </a:lnTo>
                    <a:lnTo>
                      <a:pt x="4419" y="7264"/>
                    </a:lnTo>
                    <a:lnTo>
                      <a:pt x="4395" y="7274"/>
                    </a:lnTo>
                    <a:lnTo>
                      <a:pt x="4371" y="7283"/>
                    </a:lnTo>
                    <a:lnTo>
                      <a:pt x="4353" y="7250"/>
                    </a:lnTo>
                    <a:close/>
                    <a:moveTo>
                      <a:pt x="4409" y="7226"/>
                    </a:moveTo>
                    <a:lnTo>
                      <a:pt x="4438" y="7222"/>
                    </a:lnTo>
                    <a:lnTo>
                      <a:pt x="4456" y="7222"/>
                    </a:lnTo>
                    <a:lnTo>
                      <a:pt x="4456" y="7259"/>
                    </a:lnTo>
                    <a:lnTo>
                      <a:pt x="4438" y="7264"/>
                    </a:lnTo>
                    <a:lnTo>
                      <a:pt x="4419" y="7264"/>
                    </a:lnTo>
                    <a:lnTo>
                      <a:pt x="4409" y="7226"/>
                    </a:lnTo>
                    <a:close/>
                    <a:moveTo>
                      <a:pt x="4456" y="7222"/>
                    </a:moveTo>
                    <a:lnTo>
                      <a:pt x="4466" y="7222"/>
                    </a:lnTo>
                    <a:lnTo>
                      <a:pt x="4471" y="7222"/>
                    </a:lnTo>
                    <a:lnTo>
                      <a:pt x="4471" y="7259"/>
                    </a:lnTo>
                    <a:lnTo>
                      <a:pt x="4466" y="7259"/>
                    </a:lnTo>
                    <a:lnTo>
                      <a:pt x="4456" y="7259"/>
                    </a:lnTo>
                    <a:lnTo>
                      <a:pt x="4456" y="7222"/>
                    </a:lnTo>
                    <a:close/>
                    <a:moveTo>
                      <a:pt x="4471" y="7222"/>
                    </a:moveTo>
                    <a:lnTo>
                      <a:pt x="4513" y="7222"/>
                    </a:lnTo>
                    <a:lnTo>
                      <a:pt x="4560" y="7226"/>
                    </a:lnTo>
                    <a:lnTo>
                      <a:pt x="4584" y="7231"/>
                    </a:lnTo>
                    <a:lnTo>
                      <a:pt x="4603" y="7241"/>
                    </a:lnTo>
                    <a:lnTo>
                      <a:pt x="4617" y="7255"/>
                    </a:lnTo>
                    <a:lnTo>
                      <a:pt x="4626" y="7274"/>
                    </a:lnTo>
                    <a:lnTo>
                      <a:pt x="4589" y="7283"/>
                    </a:lnTo>
                    <a:lnTo>
                      <a:pt x="4584" y="7274"/>
                    </a:lnTo>
                    <a:lnTo>
                      <a:pt x="4574" y="7269"/>
                    </a:lnTo>
                    <a:lnTo>
                      <a:pt x="4560" y="7264"/>
                    </a:lnTo>
                    <a:lnTo>
                      <a:pt x="4541" y="7259"/>
                    </a:lnTo>
                    <a:lnTo>
                      <a:pt x="4504" y="7259"/>
                    </a:lnTo>
                    <a:lnTo>
                      <a:pt x="4471" y="7259"/>
                    </a:lnTo>
                    <a:lnTo>
                      <a:pt x="4471" y="7222"/>
                    </a:lnTo>
                    <a:close/>
                    <a:moveTo>
                      <a:pt x="4626" y="7274"/>
                    </a:moveTo>
                    <a:lnTo>
                      <a:pt x="4631" y="7288"/>
                    </a:lnTo>
                    <a:lnTo>
                      <a:pt x="4636" y="7302"/>
                    </a:lnTo>
                    <a:lnTo>
                      <a:pt x="4598" y="7316"/>
                    </a:lnTo>
                    <a:lnTo>
                      <a:pt x="4593" y="7302"/>
                    </a:lnTo>
                    <a:lnTo>
                      <a:pt x="4589" y="7283"/>
                    </a:lnTo>
                    <a:lnTo>
                      <a:pt x="4626" y="7274"/>
                    </a:lnTo>
                    <a:close/>
                    <a:moveTo>
                      <a:pt x="4636" y="7302"/>
                    </a:moveTo>
                    <a:lnTo>
                      <a:pt x="4645" y="7330"/>
                    </a:lnTo>
                    <a:lnTo>
                      <a:pt x="4650" y="7363"/>
                    </a:lnTo>
                    <a:lnTo>
                      <a:pt x="4645" y="7401"/>
                    </a:lnTo>
                    <a:lnTo>
                      <a:pt x="4631" y="7453"/>
                    </a:lnTo>
                    <a:lnTo>
                      <a:pt x="4593" y="7439"/>
                    </a:lnTo>
                    <a:lnTo>
                      <a:pt x="4607" y="7396"/>
                    </a:lnTo>
                    <a:lnTo>
                      <a:pt x="4607" y="7363"/>
                    </a:lnTo>
                    <a:lnTo>
                      <a:pt x="4603" y="7340"/>
                    </a:lnTo>
                    <a:lnTo>
                      <a:pt x="4598" y="7316"/>
                    </a:lnTo>
                    <a:lnTo>
                      <a:pt x="4636" y="7302"/>
                    </a:lnTo>
                    <a:close/>
                    <a:moveTo>
                      <a:pt x="4631" y="7453"/>
                    </a:moveTo>
                    <a:lnTo>
                      <a:pt x="4617" y="7486"/>
                    </a:lnTo>
                    <a:lnTo>
                      <a:pt x="4607" y="7510"/>
                    </a:lnTo>
                    <a:lnTo>
                      <a:pt x="4570" y="7491"/>
                    </a:lnTo>
                    <a:lnTo>
                      <a:pt x="4584" y="7467"/>
                    </a:lnTo>
                    <a:lnTo>
                      <a:pt x="4593" y="7439"/>
                    </a:lnTo>
                    <a:lnTo>
                      <a:pt x="4631" y="7453"/>
                    </a:lnTo>
                    <a:close/>
                    <a:moveTo>
                      <a:pt x="4607" y="7510"/>
                    </a:moveTo>
                    <a:lnTo>
                      <a:pt x="4598" y="7528"/>
                    </a:lnTo>
                    <a:lnTo>
                      <a:pt x="4589" y="7547"/>
                    </a:lnTo>
                    <a:lnTo>
                      <a:pt x="4593" y="7576"/>
                    </a:lnTo>
                    <a:lnTo>
                      <a:pt x="4603" y="7618"/>
                    </a:lnTo>
                    <a:lnTo>
                      <a:pt x="4560" y="7628"/>
                    </a:lnTo>
                    <a:lnTo>
                      <a:pt x="4551" y="7576"/>
                    </a:lnTo>
                    <a:lnTo>
                      <a:pt x="4551" y="7543"/>
                    </a:lnTo>
                    <a:lnTo>
                      <a:pt x="4560" y="7514"/>
                    </a:lnTo>
                    <a:lnTo>
                      <a:pt x="4570" y="7491"/>
                    </a:lnTo>
                    <a:lnTo>
                      <a:pt x="4607" y="7510"/>
                    </a:lnTo>
                    <a:close/>
                    <a:moveTo>
                      <a:pt x="4603" y="7618"/>
                    </a:moveTo>
                    <a:lnTo>
                      <a:pt x="4622" y="7689"/>
                    </a:lnTo>
                    <a:lnTo>
                      <a:pt x="4641" y="7736"/>
                    </a:lnTo>
                    <a:lnTo>
                      <a:pt x="4603" y="7750"/>
                    </a:lnTo>
                    <a:lnTo>
                      <a:pt x="4584" y="7698"/>
                    </a:lnTo>
                    <a:lnTo>
                      <a:pt x="4560" y="7628"/>
                    </a:lnTo>
                    <a:lnTo>
                      <a:pt x="4603" y="7618"/>
                    </a:lnTo>
                    <a:close/>
                    <a:moveTo>
                      <a:pt x="4641" y="7736"/>
                    </a:moveTo>
                    <a:lnTo>
                      <a:pt x="4650" y="7769"/>
                    </a:lnTo>
                    <a:lnTo>
                      <a:pt x="4655" y="7798"/>
                    </a:lnTo>
                    <a:lnTo>
                      <a:pt x="4617" y="7798"/>
                    </a:lnTo>
                    <a:lnTo>
                      <a:pt x="4612" y="7779"/>
                    </a:lnTo>
                    <a:lnTo>
                      <a:pt x="4603" y="7750"/>
                    </a:lnTo>
                    <a:lnTo>
                      <a:pt x="4641" y="7736"/>
                    </a:lnTo>
                    <a:close/>
                    <a:moveTo>
                      <a:pt x="4655" y="7798"/>
                    </a:moveTo>
                    <a:lnTo>
                      <a:pt x="4655" y="7816"/>
                    </a:lnTo>
                    <a:lnTo>
                      <a:pt x="4659" y="7840"/>
                    </a:lnTo>
                    <a:lnTo>
                      <a:pt x="4664" y="7849"/>
                    </a:lnTo>
                    <a:lnTo>
                      <a:pt x="4674" y="7859"/>
                    </a:lnTo>
                    <a:lnTo>
                      <a:pt x="4683" y="7868"/>
                    </a:lnTo>
                    <a:lnTo>
                      <a:pt x="4692" y="7873"/>
                    </a:lnTo>
                    <a:lnTo>
                      <a:pt x="4683" y="7911"/>
                    </a:lnTo>
                    <a:lnTo>
                      <a:pt x="4659" y="7901"/>
                    </a:lnTo>
                    <a:lnTo>
                      <a:pt x="4645" y="7892"/>
                    </a:lnTo>
                    <a:lnTo>
                      <a:pt x="4631" y="7878"/>
                    </a:lnTo>
                    <a:lnTo>
                      <a:pt x="4622" y="7859"/>
                    </a:lnTo>
                    <a:lnTo>
                      <a:pt x="4617" y="7826"/>
                    </a:lnTo>
                    <a:lnTo>
                      <a:pt x="4617" y="7798"/>
                    </a:lnTo>
                    <a:lnTo>
                      <a:pt x="4655" y="7798"/>
                    </a:lnTo>
                    <a:close/>
                    <a:moveTo>
                      <a:pt x="4692" y="7873"/>
                    </a:moveTo>
                    <a:lnTo>
                      <a:pt x="4735" y="7887"/>
                    </a:lnTo>
                    <a:lnTo>
                      <a:pt x="4773" y="7906"/>
                    </a:lnTo>
                    <a:lnTo>
                      <a:pt x="4759" y="7939"/>
                    </a:lnTo>
                    <a:lnTo>
                      <a:pt x="4721" y="7925"/>
                    </a:lnTo>
                    <a:lnTo>
                      <a:pt x="4683" y="7911"/>
                    </a:lnTo>
                    <a:lnTo>
                      <a:pt x="4692" y="7873"/>
                    </a:lnTo>
                    <a:close/>
                    <a:moveTo>
                      <a:pt x="4773" y="7906"/>
                    </a:moveTo>
                    <a:lnTo>
                      <a:pt x="4806" y="7925"/>
                    </a:lnTo>
                    <a:lnTo>
                      <a:pt x="4834" y="7944"/>
                    </a:lnTo>
                    <a:lnTo>
                      <a:pt x="4801" y="7972"/>
                    </a:lnTo>
                    <a:lnTo>
                      <a:pt x="4782" y="7953"/>
                    </a:lnTo>
                    <a:lnTo>
                      <a:pt x="4759" y="7939"/>
                    </a:lnTo>
                    <a:lnTo>
                      <a:pt x="4773" y="7906"/>
                    </a:lnTo>
                    <a:close/>
                    <a:moveTo>
                      <a:pt x="4834" y="7944"/>
                    </a:moveTo>
                    <a:lnTo>
                      <a:pt x="4839" y="7958"/>
                    </a:lnTo>
                    <a:lnTo>
                      <a:pt x="4844" y="7967"/>
                    </a:lnTo>
                    <a:lnTo>
                      <a:pt x="4844" y="7977"/>
                    </a:lnTo>
                    <a:lnTo>
                      <a:pt x="4844" y="7986"/>
                    </a:lnTo>
                    <a:lnTo>
                      <a:pt x="4801" y="7977"/>
                    </a:lnTo>
                    <a:lnTo>
                      <a:pt x="4806" y="7977"/>
                    </a:lnTo>
                    <a:lnTo>
                      <a:pt x="4801" y="7972"/>
                    </a:lnTo>
                    <a:lnTo>
                      <a:pt x="4834" y="7944"/>
                    </a:lnTo>
                    <a:close/>
                    <a:moveTo>
                      <a:pt x="4844" y="7986"/>
                    </a:moveTo>
                    <a:lnTo>
                      <a:pt x="4844" y="7991"/>
                    </a:lnTo>
                    <a:lnTo>
                      <a:pt x="4862" y="8005"/>
                    </a:lnTo>
                    <a:lnTo>
                      <a:pt x="4844" y="8038"/>
                    </a:lnTo>
                    <a:lnTo>
                      <a:pt x="4815" y="8019"/>
                    </a:lnTo>
                    <a:lnTo>
                      <a:pt x="4806" y="8005"/>
                    </a:lnTo>
                    <a:lnTo>
                      <a:pt x="4801" y="7991"/>
                    </a:lnTo>
                    <a:lnTo>
                      <a:pt x="4801" y="7977"/>
                    </a:lnTo>
                    <a:lnTo>
                      <a:pt x="4844" y="7986"/>
                    </a:lnTo>
                    <a:close/>
                    <a:moveTo>
                      <a:pt x="4862" y="8005"/>
                    </a:moveTo>
                    <a:lnTo>
                      <a:pt x="4895" y="8019"/>
                    </a:lnTo>
                    <a:lnTo>
                      <a:pt x="4924" y="8024"/>
                    </a:lnTo>
                    <a:lnTo>
                      <a:pt x="4919" y="8062"/>
                    </a:lnTo>
                    <a:lnTo>
                      <a:pt x="4886" y="8057"/>
                    </a:lnTo>
                    <a:lnTo>
                      <a:pt x="4844" y="8038"/>
                    </a:lnTo>
                    <a:lnTo>
                      <a:pt x="4862" y="8005"/>
                    </a:lnTo>
                    <a:close/>
                    <a:moveTo>
                      <a:pt x="4924" y="8024"/>
                    </a:moveTo>
                    <a:lnTo>
                      <a:pt x="4943" y="8029"/>
                    </a:lnTo>
                    <a:lnTo>
                      <a:pt x="4957" y="8033"/>
                    </a:lnTo>
                    <a:lnTo>
                      <a:pt x="4966" y="8043"/>
                    </a:lnTo>
                    <a:lnTo>
                      <a:pt x="4976" y="8057"/>
                    </a:lnTo>
                    <a:lnTo>
                      <a:pt x="4938" y="8071"/>
                    </a:lnTo>
                    <a:lnTo>
                      <a:pt x="4933" y="8067"/>
                    </a:lnTo>
                    <a:lnTo>
                      <a:pt x="4919" y="8062"/>
                    </a:lnTo>
                    <a:lnTo>
                      <a:pt x="4924" y="8024"/>
                    </a:lnTo>
                    <a:close/>
                    <a:moveTo>
                      <a:pt x="4976" y="8057"/>
                    </a:moveTo>
                    <a:lnTo>
                      <a:pt x="4990" y="8085"/>
                    </a:lnTo>
                    <a:lnTo>
                      <a:pt x="5004" y="8100"/>
                    </a:lnTo>
                    <a:lnTo>
                      <a:pt x="4976" y="8128"/>
                    </a:lnTo>
                    <a:lnTo>
                      <a:pt x="4962" y="8109"/>
                    </a:lnTo>
                    <a:lnTo>
                      <a:pt x="4938" y="8071"/>
                    </a:lnTo>
                    <a:lnTo>
                      <a:pt x="4976" y="8057"/>
                    </a:lnTo>
                    <a:close/>
                    <a:moveTo>
                      <a:pt x="5004" y="8100"/>
                    </a:moveTo>
                    <a:lnTo>
                      <a:pt x="5004" y="8104"/>
                    </a:lnTo>
                    <a:lnTo>
                      <a:pt x="5009" y="8109"/>
                    </a:lnTo>
                    <a:lnTo>
                      <a:pt x="4990" y="8114"/>
                    </a:lnTo>
                    <a:lnTo>
                      <a:pt x="5004" y="8100"/>
                    </a:lnTo>
                    <a:close/>
                    <a:moveTo>
                      <a:pt x="5009" y="8109"/>
                    </a:moveTo>
                    <a:lnTo>
                      <a:pt x="5028" y="8227"/>
                    </a:lnTo>
                    <a:lnTo>
                      <a:pt x="4990" y="8232"/>
                    </a:lnTo>
                    <a:lnTo>
                      <a:pt x="4966" y="8118"/>
                    </a:lnTo>
                    <a:lnTo>
                      <a:pt x="5009" y="8109"/>
                    </a:lnTo>
                    <a:close/>
                    <a:moveTo>
                      <a:pt x="5004" y="8251"/>
                    </a:moveTo>
                    <a:lnTo>
                      <a:pt x="4990" y="8246"/>
                    </a:lnTo>
                    <a:lnTo>
                      <a:pt x="4990" y="8232"/>
                    </a:lnTo>
                    <a:lnTo>
                      <a:pt x="5009" y="8232"/>
                    </a:lnTo>
                    <a:lnTo>
                      <a:pt x="5004" y="8251"/>
                    </a:lnTo>
                    <a:close/>
                    <a:moveTo>
                      <a:pt x="5013" y="8213"/>
                    </a:moveTo>
                    <a:lnTo>
                      <a:pt x="5023" y="8213"/>
                    </a:lnTo>
                    <a:lnTo>
                      <a:pt x="5047" y="8218"/>
                    </a:lnTo>
                    <a:lnTo>
                      <a:pt x="5075" y="8222"/>
                    </a:lnTo>
                    <a:lnTo>
                      <a:pt x="5103" y="8218"/>
                    </a:lnTo>
                    <a:lnTo>
                      <a:pt x="5117" y="8255"/>
                    </a:lnTo>
                    <a:lnTo>
                      <a:pt x="5103" y="8260"/>
                    </a:lnTo>
                    <a:lnTo>
                      <a:pt x="5080" y="8260"/>
                    </a:lnTo>
                    <a:lnTo>
                      <a:pt x="5061" y="8260"/>
                    </a:lnTo>
                    <a:lnTo>
                      <a:pt x="5047" y="8260"/>
                    </a:lnTo>
                    <a:lnTo>
                      <a:pt x="5013" y="8251"/>
                    </a:lnTo>
                    <a:lnTo>
                      <a:pt x="5004" y="8251"/>
                    </a:lnTo>
                    <a:lnTo>
                      <a:pt x="5013" y="8213"/>
                    </a:lnTo>
                    <a:close/>
                    <a:moveTo>
                      <a:pt x="5103" y="8218"/>
                    </a:moveTo>
                    <a:lnTo>
                      <a:pt x="5136" y="8199"/>
                    </a:lnTo>
                    <a:lnTo>
                      <a:pt x="5174" y="8170"/>
                    </a:lnTo>
                    <a:lnTo>
                      <a:pt x="5202" y="8199"/>
                    </a:lnTo>
                    <a:lnTo>
                      <a:pt x="5160" y="8232"/>
                    </a:lnTo>
                    <a:lnTo>
                      <a:pt x="5117" y="8255"/>
                    </a:lnTo>
                    <a:lnTo>
                      <a:pt x="5103" y="8218"/>
                    </a:lnTo>
                    <a:close/>
                    <a:moveTo>
                      <a:pt x="5174" y="8170"/>
                    </a:moveTo>
                    <a:lnTo>
                      <a:pt x="5174" y="8170"/>
                    </a:lnTo>
                    <a:lnTo>
                      <a:pt x="5188" y="8185"/>
                    </a:lnTo>
                    <a:lnTo>
                      <a:pt x="5174" y="8170"/>
                    </a:lnTo>
                    <a:close/>
                    <a:moveTo>
                      <a:pt x="5174" y="8170"/>
                    </a:moveTo>
                    <a:lnTo>
                      <a:pt x="5193" y="8147"/>
                    </a:lnTo>
                    <a:lnTo>
                      <a:pt x="5198" y="8128"/>
                    </a:lnTo>
                    <a:lnTo>
                      <a:pt x="5235" y="8128"/>
                    </a:lnTo>
                    <a:lnTo>
                      <a:pt x="5235" y="8147"/>
                    </a:lnTo>
                    <a:lnTo>
                      <a:pt x="5226" y="8166"/>
                    </a:lnTo>
                    <a:lnTo>
                      <a:pt x="5217" y="8180"/>
                    </a:lnTo>
                    <a:lnTo>
                      <a:pt x="5202" y="8199"/>
                    </a:lnTo>
                    <a:lnTo>
                      <a:pt x="5174" y="8170"/>
                    </a:lnTo>
                    <a:close/>
                    <a:moveTo>
                      <a:pt x="5198" y="8128"/>
                    </a:moveTo>
                    <a:lnTo>
                      <a:pt x="5198" y="8114"/>
                    </a:lnTo>
                    <a:lnTo>
                      <a:pt x="5198" y="8100"/>
                    </a:lnTo>
                    <a:lnTo>
                      <a:pt x="5235" y="8095"/>
                    </a:lnTo>
                    <a:lnTo>
                      <a:pt x="5235" y="8114"/>
                    </a:lnTo>
                    <a:lnTo>
                      <a:pt x="5235" y="8128"/>
                    </a:lnTo>
                    <a:lnTo>
                      <a:pt x="5198" y="8128"/>
                    </a:lnTo>
                    <a:close/>
                    <a:moveTo>
                      <a:pt x="5198" y="8100"/>
                    </a:moveTo>
                    <a:lnTo>
                      <a:pt x="5193" y="8067"/>
                    </a:lnTo>
                    <a:lnTo>
                      <a:pt x="5198" y="8038"/>
                    </a:lnTo>
                    <a:lnTo>
                      <a:pt x="5202" y="8024"/>
                    </a:lnTo>
                    <a:lnTo>
                      <a:pt x="5207" y="8015"/>
                    </a:lnTo>
                    <a:lnTo>
                      <a:pt x="5221" y="8005"/>
                    </a:lnTo>
                    <a:lnTo>
                      <a:pt x="5235" y="7996"/>
                    </a:lnTo>
                    <a:lnTo>
                      <a:pt x="5245" y="8033"/>
                    </a:lnTo>
                    <a:lnTo>
                      <a:pt x="5235" y="8043"/>
                    </a:lnTo>
                    <a:lnTo>
                      <a:pt x="5235" y="8057"/>
                    </a:lnTo>
                    <a:lnTo>
                      <a:pt x="5235" y="8076"/>
                    </a:lnTo>
                    <a:lnTo>
                      <a:pt x="5235" y="8095"/>
                    </a:lnTo>
                    <a:lnTo>
                      <a:pt x="5198" y="8100"/>
                    </a:lnTo>
                    <a:close/>
                    <a:moveTo>
                      <a:pt x="5235" y="7996"/>
                    </a:moveTo>
                    <a:lnTo>
                      <a:pt x="5254" y="7986"/>
                    </a:lnTo>
                    <a:lnTo>
                      <a:pt x="5278" y="7963"/>
                    </a:lnTo>
                    <a:lnTo>
                      <a:pt x="5292" y="7944"/>
                    </a:lnTo>
                    <a:lnTo>
                      <a:pt x="5297" y="7934"/>
                    </a:lnTo>
                    <a:lnTo>
                      <a:pt x="5330" y="7958"/>
                    </a:lnTo>
                    <a:lnTo>
                      <a:pt x="5325" y="7967"/>
                    </a:lnTo>
                    <a:lnTo>
                      <a:pt x="5306" y="7991"/>
                    </a:lnTo>
                    <a:lnTo>
                      <a:pt x="5292" y="8005"/>
                    </a:lnTo>
                    <a:lnTo>
                      <a:pt x="5278" y="8019"/>
                    </a:lnTo>
                    <a:lnTo>
                      <a:pt x="5259" y="8029"/>
                    </a:lnTo>
                    <a:lnTo>
                      <a:pt x="5245" y="8033"/>
                    </a:lnTo>
                    <a:lnTo>
                      <a:pt x="5235" y="7996"/>
                    </a:lnTo>
                    <a:close/>
                    <a:moveTo>
                      <a:pt x="5297" y="7934"/>
                    </a:moveTo>
                    <a:lnTo>
                      <a:pt x="5306" y="7920"/>
                    </a:lnTo>
                    <a:lnTo>
                      <a:pt x="5320" y="7930"/>
                    </a:lnTo>
                    <a:lnTo>
                      <a:pt x="5316" y="7949"/>
                    </a:lnTo>
                    <a:lnTo>
                      <a:pt x="5297" y="7934"/>
                    </a:lnTo>
                    <a:close/>
                    <a:moveTo>
                      <a:pt x="5320" y="7930"/>
                    </a:moveTo>
                    <a:lnTo>
                      <a:pt x="5349" y="7939"/>
                    </a:lnTo>
                    <a:lnTo>
                      <a:pt x="5401" y="7953"/>
                    </a:lnTo>
                    <a:lnTo>
                      <a:pt x="5396" y="7991"/>
                    </a:lnTo>
                    <a:lnTo>
                      <a:pt x="5335" y="7977"/>
                    </a:lnTo>
                    <a:lnTo>
                      <a:pt x="5306" y="7967"/>
                    </a:lnTo>
                    <a:lnTo>
                      <a:pt x="5320" y="7930"/>
                    </a:lnTo>
                    <a:close/>
                    <a:moveTo>
                      <a:pt x="5401" y="7953"/>
                    </a:moveTo>
                    <a:lnTo>
                      <a:pt x="5467" y="7944"/>
                    </a:lnTo>
                    <a:lnTo>
                      <a:pt x="5505" y="7930"/>
                    </a:lnTo>
                    <a:lnTo>
                      <a:pt x="5519" y="7967"/>
                    </a:lnTo>
                    <a:lnTo>
                      <a:pt x="5505" y="7972"/>
                    </a:lnTo>
                    <a:lnTo>
                      <a:pt x="5476" y="7982"/>
                    </a:lnTo>
                    <a:lnTo>
                      <a:pt x="5434" y="7991"/>
                    </a:lnTo>
                    <a:lnTo>
                      <a:pt x="5396" y="7991"/>
                    </a:lnTo>
                    <a:lnTo>
                      <a:pt x="5401" y="7953"/>
                    </a:lnTo>
                    <a:close/>
                    <a:moveTo>
                      <a:pt x="5505" y="7930"/>
                    </a:moveTo>
                    <a:lnTo>
                      <a:pt x="5505" y="7930"/>
                    </a:lnTo>
                    <a:lnTo>
                      <a:pt x="5509" y="7930"/>
                    </a:lnTo>
                    <a:lnTo>
                      <a:pt x="5514" y="7949"/>
                    </a:lnTo>
                    <a:lnTo>
                      <a:pt x="5505" y="7930"/>
                    </a:lnTo>
                    <a:close/>
                    <a:moveTo>
                      <a:pt x="5509" y="7930"/>
                    </a:moveTo>
                    <a:lnTo>
                      <a:pt x="5519" y="7925"/>
                    </a:lnTo>
                    <a:lnTo>
                      <a:pt x="5542" y="7925"/>
                    </a:lnTo>
                    <a:lnTo>
                      <a:pt x="5552" y="7930"/>
                    </a:lnTo>
                    <a:lnTo>
                      <a:pt x="5566" y="7934"/>
                    </a:lnTo>
                    <a:lnTo>
                      <a:pt x="5571" y="7949"/>
                    </a:lnTo>
                    <a:lnTo>
                      <a:pt x="5575" y="7963"/>
                    </a:lnTo>
                    <a:lnTo>
                      <a:pt x="5533" y="7963"/>
                    </a:lnTo>
                    <a:lnTo>
                      <a:pt x="5523" y="7963"/>
                    </a:lnTo>
                    <a:lnTo>
                      <a:pt x="5514" y="7967"/>
                    </a:lnTo>
                    <a:lnTo>
                      <a:pt x="5509" y="7930"/>
                    </a:lnTo>
                    <a:close/>
                    <a:moveTo>
                      <a:pt x="5575" y="7963"/>
                    </a:moveTo>
                    <a:lnTo>
                      <a:pt x="5575" y="7986"/>
                    </a:lnTo>
                    <a:lnTo>
                      <a:pt x="5585" y="8015"/>
                    </a:lnTo>
                    <a:lnTo>
                      <a:pt x="5547" y="8024"/>
                    </a:lnTo>
                    <a:lnTo>
                      <a:pt x="5538" y="7991"/>
                    </a:lnTo>
                    <a:lnTo>
                      <a:pt x="5533" y="7963"/>
                    </a:lnTo>
                    <a:lnTo>
                      <a:pt x="5575" y="7963"/>
                    </a:lnTo>
                    <a:close/>
                    <a:moveTo>
                      <a:pt x="5585" y="8015"/>
                    </a:moveTo>
                    <a:lnTo>
                      <a:pt x="5580" y="8024"/>
                    </a:lnTo>
                    <a:lnTo>
                      <a:pt x="5580" y="8029"/>
                    </a:lnTo>
                    <a:lnTo>
                      <a:pt x="5580" y="8067"/>
                    </a:lnTo>
                    <a:lnTo>
                      <a:pt x="5571" y="8067"/>
                    </a:lnTo>
                    <a:lnTo>
                      <a:pt x="5561" y="8057"/>
                    </a:lnTo>
                    <a:lnTo>
                      <a:pt x="5552" y="8043"/>
                    </a:lnTo>
                    <a:lnTo>
                      <a:pt x="5547" y="8024"/>
                    </a:lnTo>
                    <a:lnTo>
                      <a:pt x="5585" y="8015"/>
                    </a:lnTo>
                    <a:close/>
                    <a:moveTo>
                      <a:pt x="5580" y="8029"/>
                    </a:moveTo>
                    <a:lnTo>
                      <a:pt x="5585" y="8029"/>
                    </a:lnTo>
                    <a:lnTo>
                      <a:pt x="5589" y="8029"/>
                    </a:lnTo>
                    <a:lnTo>
                      <a:pt x="5599" y="8067"/>
                    </a:lnTo>
                    <a:lnTo>
                      <a:pt x="5589" y="8067"/>
                    </a:lnTo>
                    <a:lnTo>
                      <a:pt x="5580" y="8067"/>
                    </a:lnTo>
                    <a:lnTo>
                      <a:pt x="5580" y="8029"/>
                    </a:lnTo>
                    <a:close/>
                    <a:moveTo>
                      <a:pt x="5589" y="8029"/>
                    </a:moveTo>
                    <a:lnTo>
                      <a:pt x="5608" y="8024"/>
                    </a:lnTo>
                    <a:lnTo>
                      <a:pt x="5627" y="8019"/>
                    </a:lnTo>
                    <a:lnTo>
                      <a:pt x="5632" y="8057"/>
                    </a:lnTo>
                    <a:lnTo>
                      <a:pt x="5613" y="8062"/>
                    </a:lnTo>
                    <a:lnTo>
                      <a:pt x="5599" y="8067"/>
                    </a:lnTo>
                    <a:lnTo>
                      <a:pt x="5589" y="8029"/>
                    </a:lnTo>
                    <a:close/>
                    <a:moveTo>
                      <a:pt x="5627" y="8019"/>
                    </a:moveTo>
                    <a:lnTo>
                      <a:pt x="5651" y="8019"/>
                    </a:lnTo>
                    <a:lnTo>
                      <a:pt x="5670" y="8024"/>
                    </a:lnTo>
                    <a:lnTo>
                      <a:pt x="5679" y="8029"/>
                    </a:lnTo>
                    <a:lnTo>
                      <a:pt x="5684" y="8033"/>
                    </a:lnTo>
                    <a:lnTo>
                      <a:pt x="5689" y="8043"/>
                    </a:lnTo>
                    <a:lnTo>
                      <a:pt x="5693" y="8057"/>
                    </a:lnTo>
                    <a:lnTo>
                      <a:pt x="5651" y="8062"/>
                    </a:lnTo>
                    <a:lnTo>
                      <a:pt x="5646" y="8057"/>
                    </a:lnTo>
                    <a:lnTo>
                      <a:pt x="5632" y="8057"/>
                    </a:lnTo>
                    <a:lnTo>
                      <a:pt x="5627" y="8019"/>
                    </a:lnTo>
                    <a:close/>
                    <a:moveTo>
                      <a:pt x="5693" y="8057"/>
                    </a:moveTo>
                    <a:lnTo>
                      <a:pt x="5698" y="8090"/>
                    </a:lnTo>
                    <a:lnTo>
                      <a:pt x="5712" y="8118"/>
                    </a:lnTo>
                    <a:lnTo>
                      <a:pt x="5684" y="8142"/>
                    </a:lnTo>
                    <a:lnTo>
                      <a:pt x="5670" y="8123"/>
                    </a:lnTo>
                    <a:lnTo>
                      <a:pt x="5660" y="8104"/>
                    </a:lnTo>
                    <a:lnTo>
                      <a:pt x="5656" y="8081"/>
                    </a:lnTo>
                    <a:lnTo>
                      <a:pt x="5651" y="8062"/>
                    </a:lnTo>
                    <a:lnTo>
                      <a:pt x="5693" y="8057"/>
                    </a:lnTo>
                    <a:close/>
                    <a:moveTo>
                      <a:pt x="5712" y="8118"/>
                    </a:moveTo>
                    <a:lnTo>
                      <a:pt x="5731" y="8137"/>
                    </a:lnTo>
                    <a:lnTo>
                      <a:pt x="5750" y="8147"/>
                    </a:lnTo>
                    <a:lnTo>
                      <a:pt x="5741" y="8185"/>
                    </a:lnTo>
                    <a:lnTo>
                      <a:pt x="5726" y="8180"/>
                    </a:lnTo>
                    <a:lnTo>
                      <a:pt x="5708" y="8170"/>
                    </a:lnTo>
                    <a:lnTo>
                      <a:pt x="5693" y="8156"/>
                    </a:lnTo>
                    <a:lnTo>
                      <a:pt x="5684" y="8142"/>
                    </a:lnTo>
                    <a:lnTo>
                      <a:pt x="5712" y="8118"/>
                    </a:lnTo>
                    <a:close/>
                    <a:moveTo>
                      <a:pt x="5750" y="8147"/>
                    </a:moveTo>
                    <a:lnTo>
                      <a:pt x="5807" y="8161"/>
                    </a:lnTo>
                    <a:lnTo>
                      <a:pt x="5877" y="8175"/>
                    </a:lnTo>
                    <a:lnTo>
                      <a:pt x="5939" y="8189"/>
                    </a:lnTo>
                    <a:lnTo>
                      <a:pt x="5967" y="8194"/>
                    </a:lnTo>
                    <a:lnTo>
                      <a:pt x="5958" y="8232"/>
                    </a:lnTo>
                    <a:lnTo>
                      <a:pt x="5929" y="8227"/>
                    </a:lnTo>
                    <a:lnTo>
                      <a:pt x="5868" y="8213"/>
                    </a:lnTo>
                    <a:lnTo>
                      <a:pt x="5797" y="8199"/>
                    </a:lnTo>
                    <a:lnTo>
                      <a:pt x="5741" y="8185"/>
                    </a:lnTo>
                    <a:lnTo>
                      <a:pt x="5750" y="8147"/>
                    </a:lnTo>
                    <a:close/>
                    <a:moveTo>
                      <a:pt x="5967" y="8194"/>
                    </a:moveTo>
                    <a:lnTo>
                      <a:pt x="5967" y="8194"/>
                    </a:lnTo>
                    <a:lnTo>
                      <a:pt x="5967" y="8199"/>
                    </a:lnTo>
                    <a:lnTo>
                      <a:pt x="5962" y="8213"/>
                    </a:lnTo>
                    <a:lnTo>
                      <a:pt x="5967" y="8194"/>
                    </a:lnTo>
                    <a:close/>
                    <a:moveTo>
                      <a:pt x="5967" y="8199"/>
                    </a:moveTo>
                    <a:lnTo>
                      <a:pt x="5981" y="8203"/>
                    </a:lnTo>
                    <a:lnTo>
                      <a:pt x="6010" y="8218"/>
                    </a:lnTo>
                    <a:lnTo>
                      <a:pt x="6047" y="8236"/>
                    </a:lnTo>
                    <a:lnTo>
                      <a:pt x="6071" y="8260"/>
                    </a:lnTo>
                    <a:lnTo>
                      <a:pt x="6043" y="8284"/>
                    </a:lnTo>
                    <a:lnTo>
                      <a:pt x="5991" y="8251"/>
                    </a:lnTo>
                    <a:lnTo>
                      <a:pt x="5953" y="8232"/>
                    </a:lnTo>
                    <a:lnTo>
                      <a:pt x="5967" y="8199"/>
                    </a:lnTo>
                    <a:close/>
                    <a:moveTo>
                      <a:pt x="6071" y="8260"/>
                    </a:moveTo>
                    <a:lnTo>
                      <a:pt x="6085" y="8260"/>
                    </a:lnTo>
                    <a:lnTo>
                      <a:pt x="6104" y="8246"/>
                    </a:lnTo>
                    <a:lnTo>
                      <a:pt x="6123" y="8232"/>
                    </a:lnTo>
                    <a:lnTo>
                      <a:pt x="6128" y="8227"/>
                    </a:lnTo>
                    <a:lnTo>
                      <a:pt x="6156" y="8255"/>
                    </a:lnTo>
                    <a:lnTo>
                      <a:pt x="6142" y="8265"/>
                    </a:lnTo>
                    <a:lnTo>
                      <a:pt x="6114" y="8288"/>
                    </a:lnTo>
                    <a:lnTo>
                      <a:pt x="6095" y="8293"/>
                    </a:lnTo>
                    <a:lnTo>
                      <a:pt x="6076" y="8298"/>
                    </a:lnTo>
                    <a:lnTo>
                      <a:pt x="6057" y="8298"/>
                    </a:lnTo>
                    <a:lnTo>
                      <a:pt x="6043" y="8284"/>
                    </a:lnTo>
                    <a:lnTo>
                      <a:pt x="6071" y="8260"/>
                    </a:lnTo>
                    <a:close/>
                    <a:moveTo>
                      <a:pt x="6151" y="8222"/>
                    </a:moveTo>
                    <a:lnTo>
                      <a:pt x="6175" y="8236"/>
                    </a:lnTo>
                    <a:lnTo>
                      <a:pt x="6156" y="8255"/>
                    </a:lnTo>
                    <a:lnTo>
                      <a:pt x="6142" y="8241"/>
                    </a:lnTo>
                    <a:lnTo>
                      <a:pt x="6151" y="8222"/>
                    </a:lnTo>
                    <a:close/>
                    <a:moveTo>
                      <a:pt x="6132" y="8260"/>
                    </a:moveTo>
                    <a:lnTo>
                      <a:pt x="6118" y="8251"/>
                    </a:lnTo>
                    <a:lnTo>
                      <a:pt x="6085" y="8227"/>
                    </a:lnTo>
                    <a:lnTo>
                      <a:pt x="6071" y="8213"/>
                    </a:lnTo>
                    <a:lnTo>
                      <a:pt x="6062" y="8194"/>
                    </a:lnTo>
                    <a:lnTo>
                      <a:pt x="6057" y="8180"/>
                    </a:lnTo>
                    <a:lnTo>
                      <a:pt x="6062" y="8161"/>
                    </a:lnTo>
                    <a:lnTo>
                      <a:pt x="6095" y="8180"/>
                    </a:lnTo>
                    <a:lnTo>
                      <a:pt x="6123" y="8208"/>
                    </a:lnTo>
                    <a:lnTo>
                      <a:pt x="6151" y="8222"/>
                    </a:lnTo>
                    <a:lnTo>
                      <a:pt x="6132" y="8260"/>
                    </a:lnTo>
                    <a:close/>
                    <a:moveTo>
                      <a:pt x="6062" y="8161"/>
                    </a:moveTo>
                    <a:lnTo>
                      <a:pt x="6066" y="8151"/>
                    </a:lnTo>
                    <a:lnTo>
                      <a:pt x="6071" y="8133"/>
                    </a:lnTo>
                    <a:lnTo>
                      <a:pt x="6109" y="8142"/>
                    </a:lnTo>
                    <a:lnTo>
                      <a:pt x="6104" y="8166"/>
                    </a:lnTo>
                    <a:lnTo>
                      <a:pt x="6095" y="8180"/>
                    </a:lnTo>
                    <a:lnTo>
                      <a:pt x="6062" y="8161"/>
                    </a:lnTo>
                    <a:close/>
                    <a:moveTo>
                      <a:pt x="6071" y="8133"/>
                    </a:moveTo>
                    <a:lnTo>
                      <a:pt x="6076" y="8109"/>
                    </a:lnTo>
                    <a:lnTo>
                      <a:pt x="6090" y="8085"/>
                    </a:lnTo>
                    <a:lnTo>
                      <a:pt x="6095" y="8076"/>
                    </a:lnTo>
                    <a:lnTo>
                      <a:pt x="6109" y="8067"/>
                    </a:lnTo>
                    <a:lnTo>
                      <a:pt x="6118" y="8057"/>
                    </a:lnTo>
                    <a:lnTo>
                      <a:pt x="6137" y="8057"/>
                    </a:lnTo>
                    <a:lnTo>
                      <a:pt x="6142" y="8095"/>
                    </a:lnTo>
                    <a:lnTo>
                      <a:pt x="6128" y="8100"/>
                    </a:lnTo>
                    <a:lnTo>
                      <a:pt x="6118" y="8114"/>
                    </a:lnTo>
                    <a:lnTo>
                      <a:pt x="6114" y="8128"/>
                    </a:lnTo>
                    <a:lnTo>
                      <a:pt x="6109" y="8142"/>
                    </a:lnTo>
                    <a:lnTo>
                      <a:pt x="6071" y="8133"/>
                    </a:lnTo>
                    <a:close/>
                    <a:moveTo>
                      <a:pt x="6137" y="8057"/>
                    </a:moveTo>
                    <a:lnTo>
                      <a:pt x="6180" y="8052"/>
                    </a:lnTo>
                    <a:lnTo>
                      <a:pt x="6213" y="8043"/>
                    </a:lnTo>
                    <a:lnTo>
                      <a:pt x="6222" y="8085"/>
                    </a:lnTo>
                    <a:lnTo>
                      <a:pt x="6184" y="8090"/>
                    </a:lnTo>
                    <a:lnTo>
                      <a:pt x="6142" y="8095"/>
                    </a:lnTo>
                    <a:lnTo>
                      <a:pt x="6137" y="8057"/>
                    </a:lnTo>
                    <a:close/>
                    <a:moveTo>
                      <a:pt x="6213" y="8043"/>
                    </a:moveTo>
                    <a:lnTo>
                      <a:pt x="6232" y="8043"/>
                    </a:lnTo>
                    <a:lnTo>
                      <a:pt x="6250" y="8033"/>
                    </a:lnTo>
                    <a:lnTo>
                      <a:pt x="6265" y="8071"/>
                    </a:lnTo>
                    <a:lnTo>
                      <a:pt x="6246" y="8081"/>
                    </a:lnTo>
                    <a:lnTo>
                      <a:pt x="6222" y="8085"/>
                    </a:lnTo>
                    <a:lnTo>
                      <a:pt x="6213" y="8043"/>
                    </a:lnTo>
                    <a:close/>
                    <a:moveTo>
                      <a:pt x="6250" y="8033"/>
                    </a:moveTo>
                    <a:lnTo>
                      <a:pt x="6269" y="8029"/>
                    </a:lnTo>
                    <a:lnTo>
                      <a:pt x="6283" y="8024"/>
                    </a:lnTo>
                    <a:lnTo>
                      <a:pt x="6302" y="8019"/>
                    </a:lnTo>
                    <a:lnTo>
                      <a:pt x="6321" y="8024"/>
                    </a:lnTo>
                    <a:lnTo>
                      <a:pt x="6307" y="8062"/>
                    </a:lnTo>
                    <a:lnTo>
                      <a:pt x="6288" y="8062"/>
                    </a:lnTo>
                    <a:lnTo>
                      <a:pt x="6265" y="8071"/>
                    </a:lnTo>
                    <a:lnTo>
                      <a:pt x="6250" y="8033"/>
                    </a:lnTo>
                    <a:close/>
                    <a:moveTo>
                      <a:pt x="6321" y="8024"/>
                    </a:moveTo>
                    <a:lnTo>
                      <a:pt x="6378" y="8052"/>
                    </a:lnTo>
                    <a:lnTo>
                      <a:pt x="6416" y="8071"/>
                    </a:lnTo>
                    <a:lnTo>
                      <a:pt x="6397" y="8104"/>
                    </a:lnTo>
                    <a:lnTo>
                      <a:pt x="6364" y="8085"/>
                    </a:lnTo>
                    <a:lnTo>
                      <a:pt x="6307" y="8062"/>
                    </a:lnTo>
                    <a:lnTo>
                      <a:pt x="6321" y="8024"/>
                    </a:lnTo>
                    <a:close/>
                    <a:moveTo>
                      <a:pt x="6406" y="8104"/>
                    </a:moveTo>
                    <a:lnTo>
                      <a:pt x="6402" y="8109"/>
                    </a:lnTo>
                    <a:lnTo>
                      <a:pt x="6397" y="8104"/>
                    </a:lnTo>
                    <a:lnTo>
                      <a:pt x="6406" y="8085"/>
                    </a:lnTo>
                    <a:lnTo>
                      <a:pt x="6406" y="8104"/>
                    </a:lnTo>
                    <a:close/>
                    <a:moveTo>
                      <a:pt x="6402" y="8067"/>
                    </a:moveTo>
                    <a:lnTo>
                      <a:pt x="6420" y="8062"/>
                    </a:lnTo>
                    <a:lnTo>
                      <a:pt x="6444" y="8048"/>
                    </a:lnTo>
                    <a:lnTo>
                      <a:pt x="6482" y="8048"/>
                    </a:lnTo>
                    <a:lnTo>
                      <a:pt x="6482" y="8062"/>
                    </a:lnTo>
                    <a:lnTo>
                      <a:pt x="6472" y="8076"/>
                    </a:lnTo>
                    <a:lnTo>
                      <a:pt x="6458" y="8085"/>
                    </a:lnTo>
                    <a:lnTo>
                      <a:pt x="6444" y="8095"/>
                    </a:lnTo>
                    <a:lnTo>
                      <a:pt x="6420" y="8104"/>
                    </a:lnTo>
                    <a:lnTo>
                      <a:pt x="6406" y="8104"/>
                    </a:lnTo>
                    <a:lnTo>
                      <a:pt x="6402" y="8067"/>
                    </a:lnTo>
                    <a:close/>
                    <a:moveTo>
                      <a:pt x="6444" y="8048"/>
                    </a:moveTo>
                    <a:lnTo>
                      <a:pt x="6444" y="8029"/>
                    </a:lnTo>
                    <a:lnTo>
                      <a:pt x="6439" y="8005"/>
                    </a:lnTo>
                    <a:lnTo>
                      <a:pt x="6477" y="7996"/>
                    </a:lnTo>
                    <a:lnTo>
                      <a:pt x="6482" y="8024"/>
                    </a:lnTo>
                    <a:lnTo>
                      <a:pt x="6482" y="8048"/>
                    </a:lnTo>
                    <a:lnTo>
                      <a:pt x="6444" y="8048"/>
                    </a:lnTo>
                    <a:close/>
                    <a:moveTo>
                      <a:pt x="6439" y="8005"/>
                    </a:moveTo>
                    <a:lnTo>
                      <a:pt x="6435" y="7991"/>
                    </a:lnTo>
                    <a:lnTo>
                      <a:pt x="6425" y="7972"/>
                    </a:lnTo>
                    <a:lnTo>
                      <a:pt x="6458" y="7953"/>
                    </a:lnTo>
                    <a:lnTo>
                      <a:pt x="6468" y="7977"/>
                    </a:lnTo>
                    <a:lnTo>
                      <a:pt x="6477" y="7996"/>
                    </a:lnTo>
                    <a:lnTo>
                      <a:pt x="6439" y="8005"/>
                    </a:lnTo>
                    <a:close/>
                    <a:moveTo>
                      <a:pt x="6425" y="7972"/>
                    </a:moveTo>
                    <a:lnTo>
                      <a:pt x="6416" y="7934"/>
                    </a:lnTo>
                    <a:lnTo>
                      <a:pt x="6411" y="7878"/>
                    </a:lnTo>
                    <a:lnTo>
                      <a:pt x="6406" y="7831"/>
                    </a:lnTo>
                    <a:lnTo>
                      <a:pt x="6406" y="7807"/>
                    </a:lnTo>
                    <a:lnTo>
                      <a:pt x="6444" y="7807"/>
                    </a:lnTo>
                    <a:lnTo>
                      <a:pt x="6444" y="7826"/>
                    </a:lnTo>
                    <a:lnTo>
                      <a:pt x="6449" y="7873"/>
                    </a:lnTo>
                    <a:lnTo>
                      <a:pt x="6453" y="7920"/>
                    </a:lnTo>
                    <a:lnTo>
                      <a:pt x="6458" y="7953"/>
                    </a:lnTo>
                    <a:lnTo>
                      <a:pt x="6425" y="7972"/>
                    </a:lnTo>
                    <a:close/>
                    <a:moveTo>
                      <a:pt x="6406" y="7807"/>
                    </a:moveTo>
                    <a:lnTo>
                      <a:pt x="6406" y="7807"/>
                    </a:lnTo>
                    <a:lnTo>
                      <a:pt x="6406" y="7802"/>
                    </a:lnTo>
                    <a:lnTo>
                      <a:pt x="6425" y="7807"/>
                    </a:lnTo>
                    <a:lnTo>
                      <a:pt x="6406" y="7807"/>
                    </a:lnTo>
                    <a:close/>
                    <a:moveTo>
                      <a:pt x="6406" y="7802"/>
                    </a:moveTo>
                    <a:lnTo>
                      <a:pt x="6425" y="7722"/>
                    </a:lnTo>
                    <a:lnTo>
                      <a:pt x="6463" y="7731"/>
                    </a:lnTo>
                    <a:lnTo>
                      <a:pt x="6444" y="7812"/>
                    </a:lnTo>
                    <a:lnTo>
                      <a:pt x="6406" y="7802"/>
                    </a:lnTo>
                    <a:close/>
                    <a:moveTo>
                      <a:pt x="6425" y="7722"/>
                    </a:moveTo>
                    <a:lnTo>
                      <a:pt x="6425" y="7717"/>
                    </a:lnTo>
                    <a:lnTo>
                      <a:pt x="6435" y="7713"/>
                    </a:lnTo>
                    <a:lnTo>
                      <a:pt x="6444" y="7727"/>
                    </a:lnTo>
                    <a:lnTo>
                      <a:pt x="6425" y="7722"/>
                    </a:lnTo>
                    <a:close/>
                    <a:moveTo>
                      <a:pt x="6435" y="7713"/>
                    </a:moveTo>
                    <a:lnTo>
                      <a:pt x="6444" y="7703"/>
                    </a:lnTo>
                    <a:lnTo>
                      <a:pt x="6472" y="7694"/>
                    </a:lnTo>
                    <a:lnTo>
                      <a:pt x="6487" y="7694"/>
                    </a:lnTo>
                    <a:lnTo>
                      <a:pt x="6501" y="7698"/>
                    </a:lnTo>
                    <a:lnTo>
                      <a:pt x="6515" y="7703"/>
                    </a:lnTo>
                    <a:lnTo>
                      <a:pt x="6524" y="7722"/>
                    </a:lnTo>
                    <a:lnTo>
                      <a:pt x="6487" y="7736"/>
                    </a:lnTo>
                    <a:lnTo>
                      <a:pt x="6468" y="7736"/>
                    </a:lnTo>
                    <a:lnTo>
                      <a:pt x="6453" y="7746"/>
                    </a:lnTo>
                    <a:lnTo>
                      <a:pt x="6435" y="7713"/>
                    </a:lnTo>
                    <a:close/>
                    <a:moveTo>
                      <a:pt x="6524" y="7722"/>
                    </a:moveTo>
                    <a:lnTo>
                      <a:pt x="6538" y="7755"/>
                    </a:lnTo>
                    <a:lnTo>
                      <a:pt x="6562" y="7798"/>
                    </a:lnTo>
                    <a:lnTo>
                      <a:pt x="6529" y="7821"/>
                    </a:lnTo>
                    <a:lnTo>
                      <a:pt x="6505" y="7774"/>
                    </a:lnTo>
                    <a:lnTo>
                      <a:pt x="6487" y="7736"/>
                    </a:lnTo>
                    <a:lnTo>
                      <a:pt x="6524" y="7722"/>
                    </a:lnTo>
                    <a:close/>
                    <a:moveTo>
                      <a:pt x="6562" y="7798"/>
                    </a:moveTo>
                    <a:lnTo>
                      <a:pt x="6576" y="7812"/>
                    </a:lnTo>
                    <a:lnTo>
                      <a:pt x="6595" y="7821"/>
                    </a:lnTo>
                    <a:lnTo>
                      <a:pt x="6590" y="7859"/>
                    </a:lnTo>
                    <a:lnTo>
                      <a:pt x="6571" y="7854"/>
                    </a:lnTo>
                    <a:lnTo>
                      <a:pt x="6557" y="7845"/>
                    </a:lnTo>
                    <a:lnTo>
                      <a:pt x="6543" y="7835"/>
                    </a:lnTo>
                    <a:lnTo>
                      <a:pt x="6529" y="7821"/>
                    </a:lnTo>
                    <a:lnTo>
                      <a:pt x="6562" y="7798"/>
                    </a:lnTo>
                    <a:close/>
                    <a:moveTo>
                      <a:pt x="6595" y="7821"/>
                    </a:moveTo>
                    <a:lnTo>
                      <a:pt x="6652" y="7826"/>
                    </a:lnTo>
                    <a:lnTo>
                      <a:pt x="6680" y="7831"/>
                    </a:lnTo>
                    <a:lnTo>
                      <a:pt x="6675" y="7868"/>
                    </a:lnTo>
                    <a:lnTo>
                      <a:pt x="6647" y="7868"/>
                    </a:lnTo>
                    <a:lnTo>
                      <a:pt x="6590" y="7859"/>
                    </a:lnTo>
                    <a:lnTo>
                      <a:pt x="6595" y="7821"/>
                    </a:lnTo>
                    <a:close/>
                    <a:moveTo>
                      <a:pt x="6690" y="7864"/>
                    </a:moveTo>
                    <a:lnTo>
                      <a:pt x="6685" y="7873"/>
                    </a:lnTo>
                    <a:lnTo>
                      <a:pt x="6675" y="7868"/>
                    </a:lnTo>
                    <a:lnTo>
                      <a:pt x="6675" y="7849"/>
                    </a:lnTo>
                    <a:lnTo>
                      <a:pt x="6690" y="7864"/>
                    </a:lnTo>
                    <a:close/>
                    <a:moveTo>
                      <a:pt x="6666" y="7835"/>
                    </a:moveTo>
                    <a:lnTo>
                      <a:pt x="6694" y="7826"/>
                    </a:lnTo>
                    <a:lnTo>
                      <a:pt x="6699" y="7826"/>
                    </a:lnTo>
                    <a:lnTo>
                      <a:pt x="6732" y="7798"/>
                    </a:lnTo>
                    <a:lnTo>
                      <a:pt x="6737" y="7807"/>
                    </a:lnTo>
                    <a:lnTo>
                      <a:pt x="6732" y="7821"/>
                    </a:lnTo>
                    <a:lnTo>
                      <a:pt x="6718" y="7840"/>
                    </a:lnTo>
                    <a:lnTo>
                      <a:pt x="6690" y="7864"/>
                    </a:lnTo>
                    <a:lnTo>
                      <a:pt x="6666" y="7835"/>
                    </a:lnTo>
                    <a:close/>
                    <a:moveTo>
                      <a:pt x="6699" y="7826"/>
                    </a:moveTo>
                    <a:lnTo>
                      <a:pt x="6704" y="7826"/>
                    </a:lnTo>
                    <a:lnTo>
                      <a:pt x="6713" y="7788"/>
                    </a:lnTo>
                    <a:lnTo>
                      <a:pt x="6723" y="7793"/>
                    </a:lnTo>
                    <a:lnTo>
                      <a:pt x="6732" y="7798"/>
                    </a:lnTo>
                    <a:lnTo>
                      <a:pt x="6699" y="7826"/>
                    </a:lnTo>
                    <a:close/>
                    <a:moveTo>
                      <a:pt x="6704" y="7826"/>
                    </a:moveTo>
                    <a:lnTo>
                      <a:pt x="6699" y="7826"/>
                    </a:lnTo>
                    <a:lnTo>
                      <a:pt x="6694" y="7826"/>
                    </a:lnTo>
                    <a:lnTo>
                      <a:pt x="6708" y="7788"/>
                    </a:lnTo>
                    <a:lnTo>
                      <a:pt x="6713" y="7788"/>
                    </a:lnTo>
                    <a:lnTo>
                      <a:pt x="6704" y="7826"/>
                    </a:lnTo>
                    <a:close/>
                    <a:moveTo>
                      <a:pt x="6694" y="7826"/>
                    </a:moveTo>
                    <a:lnTo>
                      <a:pt x="6680" y="7816"/>
                    </a:lnTo>
                    <a:lnTo>
                      <a:pt x="6675" y="7802"/>
                    </a:lnTo>
                    <a:lnTo>
                      <a:pt x="6675" y="7783"/>
                    </a:lnTo>
                    <a:lnTo>
                      <a:pt x="6685" y="7755"/>
                    </a:lnTo>
                    <a:lnTo>
                      <a:pt x="6723" y="7774"/>
                    </a:lnTo>
                    <a:lnTo>
                      <a:pt x="6713" y="7788"/>
                    </a:lnTo>
                    <a:lnTo>
                      <a:pt x="6708" y="7788"/>
                    </a:lnTo>
                    <a:lnTo>
                      <a:pt x="6694" y="7826"/>
                    </a:lnTo>
                    <a:close/>
                    <a:moveTo>
                      <a:pt x="6685" y="7755"/>
                    </a:moveTo>
                    <a:lnTo>
                      <a:pt x="6708" y="7713"/>
                    </a:lnTo>
                    <a:lnTo>
                      <a:pt x="6732" y="7689"/>
                    </a:lnTo>
                    <a:lnTo>
                      <a:pt x="6756" y="7717"/>
                    </a:lnTo>
                    <a:lnTo>
                      <a:pt x="6741" y="7736"/>
                    </a:lnTo>
                    <a:lnTo>
                      <a:pt x="6723" y="7774"/>
                    </a:lnTo>
                    <a:lnTo>
                      <a:pt x="6685" y="7755"/>
                    </a:lnTo>
                    <a:close/>
                    <a:moveTo>
                      <a:pt x="6732" y="7689"/>
                    </a:moveTo>
                    <a:lnTo>
                      <a:pt x="6741" y="7680"/>
                    </a:lnTo>
                    <a:lnTo>
                      <a:pt x="6756" y="7675"/>
                    </a:lnTo>
                    <a:lnTo>
                      <a:pt x="6774" y="7670"/>
                    </a:lnTo>
                    <a:lnTo>
                      <a:pt x="6793" y="7665"/>
                    </a:lnTo>
                    <a:lnTo>
                      <a:pt x="6798" y="7703"/>
                    </a:lnTo>
                    <a:lnTo>
                      <a:pt x="6774" y="7708"/>
                    </a:lnTo>
                    <a:lnTo>
                      <a:pt x="6756" y="7717"/>
                    </a:lnTo>
                    <a:lnTo>
                      <a:pt x="6732" y="7689"/>
                    </a:lnTo>
                    <a:close/>
                    <a:moveTo>
                      <a:pt x="6793" y="7665"/>
                    </a:moveTo>
                    <a:lnTo>
                      <a:pt x="6817" y="7661"/>
                    </a:lnTo>
                    <a:lnTo>
                      <a:pt x="6841" y="7646"/>
                    </a:lnTo>
                    <a:lnTo>
                      <a:pt x="6859" y="7680"/>
                    </a:lnTo>
                    <a:lnTo>
                      <a:pt x="6831" y="7694"/>
                    </a:lnTo>
                    <a:lnTo>
                      <a:pt x="6798" y="7703"/>
                    </a:lnTo>
                    <a:lnTo>
                      <a:pt x="6793" y="7665"/>
                    </a:lnTo>
                    <a:close/>
                    <a:moveTo>
                      <a:pt x="6841" y="7646"/>
                    </a:moveTo>
                    <a:lnTo>
                      <a:pt x="6859" y="7637"/>
                    </a:lnTo>
                    <a:lnTo>
                      <a:pt x="6878" y="7632"/>
                    </a:lnTo>
                    <a:lnTo>
                      <a:pt x="6883" y="7670"/>
                    </a:lnTo>
                    <a:lnTo>
                      <a:pt x="6874" y="7675"/>
                    </a:lnTo>
                    <a:lnTo>
                      <a:pt x="6859" y="7680"/>
                    </a:lnTo>
                    <a:lnTo>
                      <a:pt x="6841" y="7646"/>
                    </a:lnTo>
                    <a:close/>
                    <a:moveTo>
                      <a:pt x="6878" y="7632"/>
                    </a:moveTo>
                    <a:lnTo>
                      <a:pt x="6893" y="7632"/>
                    </a:lnTo>
                    <a:lnTo>
                      <a:pt x="6902" y="7637"/>
                    </a:lnTo>
                    <a:lnTo>
                      <a:pt x="6911" y="7646"/>
                    </a:lnTo>
                    <a:lnTo>
                      <a:pt x="6916" y="7661"/>
                    </a:lnTo>
                    <a:lnTo>
                      <a:pt x="6878" y="7665"/>
                    </a:lnTo>
                    <a:lnTo>
                      <a:pt x="6883" y="7665"/>
                    </a:lnTo>
                    <a:lnTo>
                      <a:pt x="6883" y="7670"/>
                    </a:lnTo>
                    <a:lnTo>
                      <a:pt x="6878" y="7632"/>
                    </a:lnTo>
                    <a:close/>
                    <a:moveTo>
                      <a:pt x="6916" y="7661"/>
                    </a:moveTo>
                    <a:lnTo>
                      <a:pt x="6916" y="7680"/>
                    </a:lnTo>
                    <a:lnTo>
                      <a:pt x="6916" y="7694"/>
                    </a:lnTo>
                    <a:lnTo>
                      <a:pt x="6878" y="7689"/>
                    </a:lnTo>
                    <a:lnTo>
                      <a:pt x="6878" y="7680"/>
                    </a:lnTo>
                    <a:lnTo>
                      <a:pt x="6878" y="7665"/>
                    </a:lnTo>
                    <a:lnTo>
                      <a:pt x="6916" y="7661"/>
                    </a:lnTo>
                    <a:close/>
                    <a:moveTo>
                      <a:pt x="6916" y="7694"/>
                    </a:moveTo>
                    <a:lnTo>
                      <a:pt x="6916" y="7708"/>
                    </a:lnTo>
                    <a:lnTo>
                      <a:pt x="6921" y="7722"/>
                    </a:lnTo>
                    <a:lnTo>
                      <a:pt x="6926" y="7741"/>
                    </a:lnTo>
                    <a:lnTo>
                      <a:pt x="6940" y="7774"/>
                    </a:lnTo>
                    <a:lnTo>
                      <a:pt x="6907" y="7793"/>
                    </a:lnTo>
                    <a:lnTo>
                      <a:pt x="6888" y="7755"/>
                    </a:lnTo>
                    <a:lnTo>
                      <a:pt x="6883" y="7731"/>
                    </a:lnTo>
                    <a:lnTo>
                      <a:pt x="6878" y="7708"/>
                    </a:lnTo>
                    <a:lnTo>
                      <a:pt x="6878" y="7689"/>
                    </a:lnTo>
                    <a:lnTo>
                      <a:pt x="6916" y="7694"/>
                    </a:lnTo>
                    <a:close/>
                    <a:moveTo>
                      <a:pt x="6940" y="7774"/>
                    </a:moveTo>
                    <a:lnTo>
                      <a:pt x="6963" y="7826"/>
                    </a:lnTo>
                    <a:lnTo>
                      <a:pt x="6978" y="7868"/>
                    </a:lnTo>
                    <a:lnTo>
                      <a:pt x="6940" y="7878"/>
                    </a:lnTo>
                    <a:lnTo>
                      <a:pt x="6930" y="7840"/>
                    </a:lnTo>
                    <a:lnTo>
                      <a:pt x="6907" y="7793"/>
                    </a:lnTo>
                    <a:lnTo>
                      <a:pt x="6940" y="7774"/>
                    </a:lnTo>
                    <a:close/>
                    <a:moveTo>
                      <a:pt x="6978" y="7868"/>
                    </a:moveTo>
                    <a:lnTo>
                      <a:pt x="6987" y="7906"/>
                    </a:lnTo>
                    <a:lnTo>
                      <a:pt x="6992" y="7939"/>
                    </a:lnTo>
                    <a:lnTo>
                      <a:pt x="6954" y="7944"/>
                    </a:lnTo>
                    <a:lnTo>
                      <a:pt x="6949" y="7911"/>
                    </a:lnTo>
                    <a:lnTo>
                      <a:pt x="6940" y="7878"/>
                    </a:lnTo>
                    <a:lnTo>
                      <a:pt x="6978" y="7868"/>
                    </a:lnTo>
                    <a:close/>
                    <a:moveTo>
                      <a:pt x="6992" y="7939"/>
                    </a:moveTo>
                    <a:lnTo>
                      <a:pt x="6996" y="7967"/>
                    </a:lnTo>
                    <a:lnTo>
                      <a:pt x="7006" y="7982"/>
                    </a:lnTo>
                    <a:lnTo>
                      <a:pt x="6973" y="8005"/>
                    </a:lnTo>
                    <a:lnTo>
                      <a:pt x="6959" y="7982"/>
                    </a:lnTo>
                    <a:lnTo>
                      <a:pt x="6954" y="7944"/>
                    </a:lnTo>
                    <a:lnTo>
                      <a:pt x="6992" y="7939"/>
                    </a:lnTo>
                    <a:close/>
                    <a:moveTo>
                      <a:pt x="7006" y="7982"/>
                    </a:moveTo>
                    <a:lnTo>
                      <a:pt x="7015" y="8000"/>
                    </a:lnTo>
                    <a:lnTo>
                      <a:pt x="7025" y="8024"/>
                    </a:lnTo>
                    <a:lnTo>
                      <a:pt x="7020" y="8052"/>
                    </a:lnTo>
                    <a:lnTo>
                      <a:pt x="7001" y="8090"/>
                    </a:lnTo>
                    <a:lnTo>
                      <a:pt x="6963" y="8071"/>
                    </a:lnTo>
                    <a:lnTo>
                      <a:pt x="6978" y="8043"/>
                    </a:lnTo>
                    <a:lnTo>
                      <a:pt x="6982" y="8029"/>
                    </a:lnTo>
                    <a:lnTo>
                      <a:pt x="6978" y="8015"/>
                    </a:lnTo>
                    <a:lnTo>
                      <a:pt x="6973" y="8005"/>
                    </a:lnTo>
                    <a:lnTo>
                      <a:pt x="7006" y="7982"/>
                    </a:lnTo>
                    <a:close/>
                    <a:moveTo>
                      <a:pt x="7001" y="8090"/>
                    </a:moveTo>
                    <a:lnTo>
                      <a:pt x="6968" y="8137"/>
                    </a:lnTo>
                    <a:lnTo>
                      <a:pt x="6940" y="8166"/>
                    </a:lnTo>
                    <a:lnTo>
                      <a:pt x="6911" y="8137"/>
                    </a:lnTo>
                    <a:lnTo>
                      <a:pt x="6935" y="8109"/>
                    </a:lnTo>
                    <a:lnTo>
                      <a:pt x="6963" y="8071"/>
                    </a:lnTo>
                    <a:lnTo>
                      <a:pt x="7001" y="8090"/>
                    </a:lnTo>
                    <a:close/>
                    <a:moveTo>
                      <a:pt x="6940" y="8166"/>
                    </a:moveTo>
                    <a:lnTo>
                      <a:pt x="6930" y="8175"/>
                    </a:lnTo>
                    <a:lnTo>
                      <a:pt x="6926" y="8175"/>
                    </a:lnTo>
                    <a:lnTo>
                      <a:pt x="6888" y="8161"/>
                    </a:lnTo>
                    <a:lnTo>
                      <a:pt x="6897" y="8147"/>
                    </a:lnTo>
                    <a:lnTo>
                      <a:pt x="6911" y="8137"/>
                    </a:lnTo>
                    <a:lnTo>
                      <a:pt x="6940" y="8166"/>
                    </a:lnTo>
                    <a:close/>
                    <a:moveTo>
                      <a:pt x="6926" y="8175"/>
                    </a:moveTo>
                    <a:lnTo>
                      <a:pt x="6930" y="8175"/>
                    </a:lnTo>
                    <a:lnTo>
                      <a:pt x="6940" y="8175"/>
                    </a:lnTo>
                    <a:lnTo>
                      <a:pt x="6926" y="8213"/>
                    </a:lnTo>
                    <a:lnTo>
                      <a:pt x="6902" y="8199"/>
                    </a:lnTo>
                    <a:lnTo>
                      <a:pt x="6893" y="8189"/>
                    </a:lnTo>
                    <a:lnTo>
                      <a:pt x="6888" y="8175"/>
                    </a:lnTo>
                    <a:lnTo>
                      <a:pt x="6888" y="8161"/>
                    </a:lnTo>
                    <a:lnTo>
                      <a:pt x="6926" y="8175"/>
                    </a:lnTo>
                    <a:close/>
                    <a:moveTo>
                      <a:pt x="6940" y="8175"/>
                    </a:moveTo>
                    <a:lnTo>
                      <a:pt x="6973" y="8189"/>
                    </a:lnTo>
                    <a:lnTo>
                      <a:pt x="7001" y="8208"/>
                    </a:lnTo>
                    <a:lnTo>
                      <a:pt x="6978" y="8241"/>
                    </a:lnTo>
                    <a:lnTo>
                      <a:pt x="6954" y="8227"/>
                    </a:lnTo>
                    <a:lnTo>
                      <a:pt x="6926" y="8213"/>
                    </a:lnTo>
                    <a:lnTo>
                      <a:pt x="6940" y="8175"/>
                    </a:lnTo>
                    <a:close/>
                    <a:moveTo>
                      <a:pt x="7001" y="8208"/>
                    </a:moveTo>
                    <a:lnTo>
                      <a:pt x="7020" y="8222"/>
                    </a:lnTo>
                    <a:lnTo>
                      <a:pt x="7039" y="8232"/>
                    </a:lnTo>
                    <a:lnTo>
                      <a:pt x="7058" y="8236"/>
                    </a:lnTo>
                    <a:lnTo>
                      <a:pt x="7086" y="8236"/>
                    </a:lnTo>
                    <a:lnTo>
                      <a:pt x="7091" y="8279"/>
                    </a:lnTo>
                    <a:lnTo>
                      <a:pt x="7053" y="8274"/>
                    </a:lnTo>
                    <a:lnTo>
                      <a:pt x="7025" y="8269"/>
                    </a:lnTo>
                    <a:lnTo>
                      <a:pt x="7001" y="8255"/>
                    </a:lnTo>
                    <a:lnTo>
                      <a:pt x="6978" y="8241"/>
                    </a:lnTo>
                    <a:lnTo>
                      <a:pt x="7001" y="8208"/>
                    </a:lnTo>
                    <a:close/>
                    <a:moveTo>
                      <a:pt x="7086" y="8236"/>
                    </a:moveTo>
                    <a:lnTo>
                      <a:pt x="7100" y="8236"/>
                    </a:lnTo>
                    <a:lnTo>
                      <a:pt x="7114" y="8236"/>
                    </a:lnTo>
                    <a:lnTo>
                      <a:pt x="7119" y="8274"/>
                    </a:lnTo>
                    <a:lnTo>
                      <a:pt x="7105" y="8274"/>
                    </a:lnTo>
                    <a:lnTo>
                      <a:pt x="7091" y="8279"/>
                    </a:lnTo>
                    <a:lnTo>
                      <a:pt x="7086" y="8236"/>
                    </a:lnTo>
                    <a:close/>
                    <a:moveTo>
                      <a:pt x="7119" y="8274"/>
                    </a:moveTo>
                    <a:lnTo>
                      <a:pt x="7119" y="8274"/>
                    </a:lnTo>
                    <a:lnTo>
                      <a:pt x="7119" y="8255"/>
                    </a:lnTo>
                    <a:lnTo>
                      <a:pt x="7119" y="8274"/>
                    </a:lnTo>
                    <a:close/>
                    <a:moveTo>
                      <a:pt x="7114" y="8236"/>
                    </a:moveTo>
                    <a:lnTo>
                      <a:pt x="7147" y="8232"/>
                    </a:lnTo>
                    <a:lnTo>
                      <a:pt x="7171" y="8227"/>
                    </a:lnTo>
                    <a:lnTo>
                      <a:pt x="7195" y="8208"/>
                    </a:lnTo>
                    <a:lnTo>
                      <a:pt x="7228" y="8175"/>
                    </a:lnTo>
                    <a:lnTo>
                      <a:pt x="7261" y="8199"/>
                    </a:lnTo>
                    <a:lnTo>
                      <a:pt x="7237" y="8222"/>
                    </a:lnTo>
                    <a:lnTo>
                      <a:pt x="7218" y="8241"/>
                    </a:lnTo>
                    <a:lnTo>
                      <a:pt x="7204" y="8255"/>
                    </a:lnTo>
                    <a:lnTo>
                      <a:pt x="7185" y="8265"/>
                    </a:lnTo>
                    <a:lnTo>
                      <a:pt x="7157" y="8274"/>
                    </a:lnTo>
                    <a:lnTo>
                      <a:pt x="7119" y="8274"/>
                    </a:lnTo>
                    <a:lnTo>
                      <a:pt x="7114" y="8236"/>
                    </a:lnTo>
                    <a:close/>
                    <a:moveTo>
                      <a:pt x="7228" y="8175"/>
                    </a:moveTo>
                    <a:lnTo>
                      <a:pt x="7280" y="8114"/>
                    </a:lnTo>
                    <a:lnTo>
                      <a:pt x="7327" y="8052"/>
                    </a:lnTo>
                    <a:lnTo>
                      <a:pt x="7365" y="8005"/>
                    </a:lnTo>
                    <a:lnTo>
                      <a:pt x="7379" y="7986"/>
                    </a:lnTo>
                    <a:lnTo>
                      <a:pt x="7407" y="8015"/>
                    </a:lnTo>
                    <a:lnTo>
                      <a:pt x="7393" y="8033"/>
                    </a:lnTo>
                    <a:lnTo>
                      <a:pt x="7360" y="8076"/>
                    </a:lnTo>
                    <a:lnTo>
                      <a:pt x="7308" y="8137"/>
                    </a:lnTo>
                    <a:lnTo>
                      <a:pt x="7261" y="8199"/>
                    </a:lnTo>
                    <a:lnTo>
                      <a:pt x="7228" y="8175"/>
                    </a:lnTo>
                    <a:close/>
                    <a:moveTo>
                      <a:pt x="7379" y="7986"/>
                    </a:moveTo>
                    <a:lnTo>
                      <a:pt x="7384" y="7982"/>
                    </a:lnTo>
                    <a:lnTo>
                      <a:pt x="7393" y="7982"/>
                    </a:lnTo>
                    <a:lnTo>
                      <a:pt x="7393" y="8000"/>
                    </a:lnTo>
                    <a:lnTo>
                      <a:pt x="7379" y="7986"/>
                    </a:lnTo>
                    <a:close/>
                    <a:moveTo>
                      <a:pt x="7393" y="7982"/>
                    </a:moveTo>
                    <a:lnTo>
                      <a:pt x="7681" y="7986"/>
                    </a:lnTo>
                    <a:lnTo>
                      <a:pt x="7681" y="8024"/>
                    </a:lnTo>
                    <a:lnTo>
                      <a:pt x="7393" y="8019"/>
                    </a:lnTo>
                    <a:lnTo>
                      <a:pt x="7393" y="7982"/>
                    </a:lnTo>
                    <a:close/>
                    <a:moveTo>
                      <a:pt x="14" y="2889"/>
                    </a:moveTo>
                    <a:lnTo>
                      <a:pt x="292" y="3007"/>
                    </a:lnTo>
                    <a:lnTo>
                      <a:pt x="278" y="3045"/>
                    </a:lnTo>
                    <a:lnTo>
                      <a:pt x="0" y="2927"/>
                    </a:lnTo>
                    <a:lnTo>
                      <a:pt x="14" y="2889"/>
                    </a:lnTo>
                    <a:close/>
                    <a:moveTo>
                      <a:pt x="1194" y="5674"/>
                    </a:moveTo>
                    <a:lnTo>
                      <a:pt x="1170" y="5669"/>
                    </a:lnTo>
                    <a:lnTo>
                      <a:pt x="1137" y="5655"/>
                    </a:lnTo>
                    <a:lnTo>
                      <a:pt x="1156" y="5617"/>
                    </a:lnTo>
                    <a:lnTo>
                      <a:pt x="1185" y="5631"/>
                    </a:lnTo>
                    <a:lnTo>
                      <a:pt x="1199" y="5636"/>
                    </a:lnTo>
                    <a:lnTo>
                      <a:pt x="1194" y="5674"/>
                    </a:lnTo>
                    <a:close/>
                    <a:moveTo>
                      <a:pt x="1137" y="5655"/>
                    </a:moveTo>
                    <a:lnTo>
                      <a:pt x="1081" y="5631"/>
                    </a:lnTo>
                    <a:lnTo>
                      <a:pt x="1034" y="5622"/>
                    </a:lnTo>
                    <a:lnTo>
                      <a:pt x="1029" y="5579"/>
                    </a:lnTo>
                    <a:lnTo>
                      <a:pt x="1057" y="5584"/>
                    </a:lnTo>
                    <a:lnTo>
                      <a:pt x="1085" y="5593"/>
                    </a:lnTo>
                    <a:lnTo>
                      <a:pt x="1123" y="5603"/>
                    </a:lnTo>
                    <a:lnTo>
                      <a:pt x="1156" y="5617"/>
                    </a:lnTo>
                    <a:lnTo>
                      <a:pt x="1137" y="5655"/>
                    </a:lnTo>
                    <a:close/>
                    <a:moveTo>
                      <a:pt x="1034" y="5622"/>
                    </a:moveTo>
                    <a:lnTo>
                      <a:pt x="1005" y="5626"/>
                    </a:lnTo>
                    <a:lnTo>
                      <a:pt x="963" y="5641"/>
                    </a:lnTo>
                    <a:lnTo>
                      <a:pt x="949" y="5607"/>
                    </a:lnTo>
                    <a:lnTo>
                      <a:pt x="996" y="5589"/>
                    </a:lnTo>
                    <a:lnTo>
                      <a:pt x="1029" y="5579"/>
                    </a:lnTo>
                    <a:lnTo>
                      <a:pt x="1034" y="5622"/>
                    </a:lnTo>
                    <a:close/>
                    <a:moveTo>
                      <a:pt x="963" y="5641"/>
                    </a:moveTo>
                    <a:lnTo>
                      <a:pt x="901" y="5664"/>
                    </a:lnTo>
                    <a:lnTo>
                      <a:pt x="840" y="5678"/>
                    </a:lnTo>
                    <a:lnTo>
                      <a:pt x="835" y="5641"/>
                    </a:lnTo>
                    <a:lnTo>
                      <a:pt x="892" y="5626"/>
                    </a:lnTo>
                    <a:lnTo>
                      <a:pt x="949" y="5607"/>
                    </a:lnTo>
                    <a:lnTo>
                      <a:pt x="963" y="5641"/>
                    </a:lnTo>
                    <a:close/>
                    <a:moveTo>
                      <a:pt x="840" y="5678"/>
                    </a:moveTo>
                    <a:lnTo>
                      <a:pt x="797" y="5683"/>
                    </a:lnTo>
                    <a:lnTo>
                      <a:pt x="746" y="5683"/>
                    </a:lnTo>
                    <a:lnTo>
                      <a:pt x="750" y="5645"/>
                    </a:lnTo>
                    <a:lnTo>
                      <a:pt x="793" y="5645"/>
                    </a:lnTo>
                    <a:lnTo>
                      <a:pt x="835" y="5641"/>
                    </a:lnTo>
                    <a:lnTo>
                      <a:pt x="840" y="5678"/>
                    </a:lnTo>
                    <a:close/>
                    <a:moveTo>
                      <a:pt x="746" y="5683"/>
                    </a:moveTo>
                    <a:lnTo>
                      <a:pt x="684" y="5678"/>
                    </a:lnTo>
                    <a:lnTo>
                      <a:pt x="632" y="5669"/>
                    </a:lnTo>
                    <a:lnTo>
                      <a:pt x="642" y="5631"/>
                    </a:lnTo>
                    <a:lnTo>
                      <a:pt x="689" y="5636"/>
                    </a:lnTo>
                    <a:lnTo>
                      <a:pt x="750" y="5645"/>
                    </a:lnTo>
                    <a:lnTo>
                      <a:pt x="746" y="5683"/>
                    </a:lnTo>
                    <a:close/>
                    <a:moveTo>
                      <a:pt x="632" y="5669"/>
                    </a:moveTo>
                    <a:lnTo>
                      <a:pt x="590" y="5659"/>
                    </a:lnTo>
                    <a:lnTo>
                      <a:pt x="543" y="5650"/>
                    </a:lnTo>
                    <a:lnTo>
                      <a:pt x="547" y="5612"/>
                    </a:lnTo>
                    <a:lnTo>
                      <a:pt x="594" y="5622"/>
                    </a:lnTo>
                    <a:lnTo>
                      <a:pt x="642" y="5631"/>
                    </a:lnTo>
                    <a:lnTo>
                      <a:pt x="632" y="5669"/>
                    </a:lnTo>
                    <a:close/>
                    <a:moveTo>
                      <a:pt x="543" y="5650"/>
                    </a:moveTo>
                    <a:lnTo>
                      <a:pt x="505" y="5645"/>
                    </a:lnTo>
                    <a:lnTo>
                      <a:pt x="481" y="5645"/>
                    </a:lnTo>
                    <a:lnTo>
                      <a:pt x="472" y="5607"/>
                    </a:lnTo>
                    <a:lnTo>
                      <a:pt x="505" y="5607"/>
                    </a:lnTo>
                    <a:lnTo>
                      <a:pt x="547" y="5612"/>
                    </a:lnTo>
                    <a:lnTo>
                      <a:pt x="543" y="5650"/>
                    </a:lnTo>
                    <a:close/>
                    <a:moveTo>
                      <a:pt x="481" y="5645"/>
                    </a:moveTo>
                    <a:lnTo>
                      <a:pt x="462" y="5650"/>
                    </a:lnTo>
                    <a:lnTo>
                      <a:pt x="443" y="5650"/>
                    </a:lnTo>
                    <a:lnTo>
                      <a:pt x="448" y="5607"/>
                    </a:lnTo>
                    <a:lnTo>
                      <a:pt x="462" y="5607"/>
                    </a:lnTo>
                    <a:lnTo>
                      <a:pt x="472" y="5607"/>
                    </a:lnTo>
                    <a:lnTo>
                      <a:pt x="481" y="5645"/>
                    </a:lnTo>
                    <a:close/>
                    <a:moveTo>
                      <a:pt x="443" y="5650"/>
                    </a:moveTo>
                    <a:lnTo>
                      <a:pt x="425" y="5645"/>
                    </a:lnTo>
                    <a:lnTo>
                      <a:pt x="410" y="5650"/>
                    </a:lnTo>
                    <a:lnTo>
                      <a:pt x="391" y="5655"/>
                    </a:lnTo>
                    <a:lnTo>
                      <a:pt x="377" y="5664"/>
                    </a:lnTo>
                    <a:lnTo>
                      <a:pt x="349" y="5636"/>
                    </a:lnTo>
                    <a:lnTo>
                      <a:pt x="373" y="5617"/>
                    </a:lnTo>
                    <a:lnTo>
                      <a:pt x="396" y="5612"/>
                    </a:lnTo>
                    <a:lnTo>
                      <a:pt x="420" y="5607"/>
                    </a:lnTo>
                    <a:lnTo>
                      <a:pt x="448" y="5607"/>
                    </a:lnTo>
                    <a:lnTo>
                      <a:pt x="443" y="5650"/>
                    </a:lnTo>
                    <a:close/>
                    <a:moveTo>
                      <a:pt x="377" y="5664"/>
                    </a:moveTo>
                    <a:lnTo>
                      <a:pt x="363" y="5674"/>
                    </a:lnTo>
                    <a:lnTo>
                      <a:pt x="349" y="5683"/>
                    </a:lnTo>
                    <a:lnTo>
                      <a:pt x="335" y="5683"/>
                    </a:lnTo>
                    <a:lnTo>
                      <a:pt x="321" y="5683"/>
                    </a:lnTo>
                    <a:lnTo>
                      <a:pt x="288" y="5678"/>
                    </a:lnTo>
                    <a:lnTo>
                      <a:pt x="250" y="5659"/>
                    </a:lnTo>
                    <a:lnTo>
                      <a:pt x="269" y="5626"/>
                    </a:lnTo>
                    <a:lnTo>
                      <a:pt x="297" y="5636"/>
                    </a:lnTo>
                    <a:lnTo>
                      <a:pt x="316" y="5645"/>
                    </a:lnTo>
                    <a:lnTo>
                      <a:pt x="335" y="5645"/>
                    </a:lnTo>
                    <a:lnTo>
                      <a:pt x="349" y="5636"/>
                    </a:lnTo>
                    <a:lnTo>
                      <a:pt x="377" y="5664"/>
                    </a:lnTo>
                    <a:close/>
                    <a:moveTo>
                      <a:pt x="250" y="5659"/>
                    </a:moveTo>
                    <a:lnTo>
                      <a:pt x="245" y="5655"/>
                    </a:lnTo>
                    <a:lnTo>
                      <a:pt x="231" y="5650"/>
                    </a:lnTo>
                    <a:lnTo>
                      <a:pt x="250" y="5617"/>
                    </a:lnTo>
                    <a:lnTo>
                      <a:pt x="255" y="5617"/>
                    </a:lnTo>
                    <a:lnTo>
                      <a:pt x="269" y="5626"/>
                    </a:lnTo>
                    <a:lnTo>
                      <a:pt x="250" y="5659"/>
                    </a:lnTo>
                    <a:close/>
                    <a:moveTo>
                      <a:pt x="231" y="5650"/>
                    </a:moveTo>
                    <a:lnTo>
                      <a:pt x="174" y="5636"/>
                    </a:lnTo>
                    <a:lnTo>
                      <a:pt x="99" y="5622"/>
                    </a:lnTo>
                    <a:lnTo>
                      <a:pt x="33" y="5612"/>
                    </a:lnTo>
                    <a:lnTo>
                      <a:pt x="4" y="5607"/>
                    </a:lnTo>
                    <a:lnTo>
                      <a:pt x="9" y="5570"/>
                    </a:lnTo>
                    <a:lnTo>
                      <a:pt x="37" y="5574"/>
                    </a:lnTo>
                    <a:lnTo>
                      <a:pt x="103" y="5584"/>
                    </a:lnTo>
                    <a:lnTo>
                      <a:pt x="184" y="5598"/>
                    </a:lnTo>
                    <a:lnTo>
                      <a:pt x="250" y="5617"/>
                    </a:lnTo>
                    <a:lnTo>
                      <a:pt x="231" y="5650"/>
                    </a:lnTo>
                    <a:close/>
                    <a:moveTo>
                      <a:pt x="8233" y="8350"/>
                    </a:moveTo>
                    <a:lnTo>
                      <a:pt x="8214" y="8326"/>
                    </a:lnTo>
                    <a:lnTo>
                      <a:pt x="8191" y="8303"/>
                    </a:lnTo>
                    <a:lnTo>
                      <a:pt x="8214" y="8274"/>
                    </a:lnTo>
                    <a:lnTo>
                      <a:pt x="8243" y="8298"/>
                    </a:lnTo>
                    <a:lnTo>
                      <a:pt x="8266" y="8326"/>
                    </a:lnTo>
                    <a:lnTo>
                      <a:pt x="8233" y="8350"/>
                    </a:lnTo>
                    <a:close/>
                    <a:moveTo>
                      <a:pt x="8191" y="8303"/>
                    </a:moveTo>
                    <a:lnTo>
                      <a:pt x="8181" y="8298"/>
                    </a:lnTo>
                    <a:lnTo>
                      <a:pt x="8177" y="8293"/>
                    </a:lnTo>
                    <a:lnTo>
                      <a:pt x="8205" y="8265"/>
                    </a:lnTo>
                    <a:lnTo>
                      <a:pt x="8210" y="8269"/>
                    </a:lnTo>
                    <a:lnTo>
                      <a:pt x="8214" y="8274"/>
                    </a:lnTo>
                    <a:lnTo>
                      <a:pt x="8191" y="8303"/>
                    </a:lnTo>
                    <a:close/>
                    <a:moveTo>
                      <a:pt x="8177" y="8293"/>
                    </a:moveTo>
                    <a:lnTo>
                      <a:pt x="8158" y="8274"/>
                    </a:lnTo>
                    <a:lnTo>
                      <a:pt x="8148" y="8255"/>
                    </a:lnTo>
                    <a:lnTo>
                      <a:pt x="8139" y="8236"/>
                    </a:lnTo>
                    <a:lnTo>
                      <a:pt x="8134" y="8218"/>
                    </a:lnTo>
                    <a:lnTo>
                      <a:pt x="8172" y="8203"/>
                    </a:lnTo>
                    <a:lnTo>
                      <a:pt x="8177" y="8222"/>
                    </a:lnTo>
                    <a:lnTo>
                      <a:pt x="8181" y="8236"/>
                    </a:lnTo>
                    <a:lnTo>
                      <a:pt x="8191" y="8251"/>
                    </a:lnTo>
                    <a:lnTo>
                      <a:pt x="8205" y="8265"/>
                    </a:lnTo>
                    <a:lnTo>
                      <a:pt x="8177" y="8293"/>
                    </a:lnTo>
                    <a:close/>
                    <a:moveTo>
                      <a:pt x="8134" y="8218"/>
                    </a:moveTo>
                    <a:lnTo>
                      <a:pt x="8129" y="8199"/>
                    </a:lnTo>
                    <a:lnTo>
                      <a:pt x="8120" y="8189"/>
                    </a:lnTo>
                    <a:lnTo>
                      <a:pt x="8106" y="8180"/>
                    </a:lnTo>
                    <a:lnTo>
                      <a:pt x="8082" y="8175"/>
                    </a:lnTo>
                    <a:lnTo>
                      <a:pt x="8082" y="8137"/>
                    </a:lnTo>
                    <a:lnTo>
                      <a:pt x="8106" y="8137"/>
                    </a:lnTo>
                    <a:lnTo>
                      <a:pt x="8125" y="8142"/>
                    </a:lnTo>
                    <a:lnTo>
                      <a:pt x="8139" y="8147"/>
                    </a:lnTo>
                    <a:lnTo>
                      <a:pt x="8148" y="8156"/>
                    </a:lnTo>
                    <a:lnTo>
                      <a:pt x="8163" y="8180"/>
                    </a:lnTo>
                    <a:lnTo>
                      <a:pt x="8172" y="8203"/>
                    </a:lnTo>
                    <a:lnTo>
                      <a:pt x="8134" y="8218"/>
                    </a:lnTo>
                    <a:close/>
                    <a:moveTo>
                      <a:pt x="8082" y="8175"/>
                    </a:moveTo>
                    <a:lnTo>
                      <a:pt x="8040" y="8175"/>
                    </a:lnTo>
                    <a:lnTo>
                      <a:pt x="8007" y="8180"/>
                    </a:lnTo>
                    <a:lnTo>
                      <a:pt x="8002" y="8142"/>
                    </a:lnTo>
                    <a:lnTo>
                      <a:pt x="8035" y="8137"/>
                    </a:lnTo>
                    <a:lnTo>
                      <a:pt x="8082" y="8137"/>
                    </a:lnTo>
                    <a:lnTo>
                      <a:pt x="8082" y="8175"/>
                    </a:lnTo>
                    <a:close/>
                    <a:moveTo>
                      <a:pt x="8007" y="8180"/>
                    </a:moveTo>
                    <a:lnTo>
                      <a:pt x="7978" y="8185"/>
                    </a:lnTo>
                    <a:lnTo>
                      <a:pt x="7955" y="8185"/>
                    </a:lnTo>
                    <a:lnTo>
                      <a:pt x="7926" y="8180"/>
                    </a:lnTo>
                    <a:lnTo>
                      <a:pt x="7898" y="8175"/>
                    </a:lnTo>
                    <a:lnTo>
                      <a:pt x="7908" y="8137"/>
                    </a:lnTo>
                    <a:lnTo>
                      <a:pt x="7936" y="8142"/>
                    </a:lnTo>
                    <a:lnTo>
                      <a:pt x="7955" y="8147"/>
                    </a:lnTo>
                    <a:lnTo>
                      <a:pt x="7978" y="8147"/>
                    </a:lnTo>
                    <a:lnTo>
                      <a:pt x="8002" y="8142"/>
                    </a:lnTo>
                    <a:lnTo>
                      <a:pt x="8007" y="8180"/>
                    </a:lnTo>
                    <a:close/>
                    <a:moveTo>
                      <a:pt x="7898" y="8175"/>
                    </a:moveTo>
                    <a:lnTo>
                      <a:pt x="7841" y="8151"/>
                    </a:lnTo>
                    <a:lnTo>
                      <a:pt x="7790" y="8123"/>
                    </a:lnTo>
                    <a:lnTo>
                      <a:pt x="7808" y="8090"/>
                    </a:lnTo>
                    <a:lnTo>
                      <a:pt x="7860" y="8118"/>
                    </a:lnTo>
                    <a:lnTo>
                      <a:pt x="7908" y="8137"/>
                    </a:lnTo>
                    <a:lnTo>
                      <a:pt x="7898" y="8175"/>
                    </a:lnTo>
                    <a:close/>
                    <a:moveTo>
                      <a:pt x="7790" y="8123"/>
                    </a:moveTo>
                    <a:lnTo>
                      <a:pt x="7738" y="8085"/>
                    </a:lnTo>
                    <a:lnTo>
                      <a:pt x="7695" y="8048"/>
                    </a:lnTo>
                    <a:lnTo>
                      <a:pt x="7723" y="8019"/>
                    </a:lnTo>
                    <a:lnTo>
                      <a:pt x="7761" y="8057"/>
                    </a:lnTo>
                    <a:lnTo>
                      <a:pt x="7808" y="8090"/>
                    </a:lnTo>
                    <a:lnTo>
                      <a:pt x="7790" y="8123"/>
                    </a:lnTo>
                    <a:close/>
                    <a:moveTo>
                      <a:pt x="7695" y="8048"/>
                    </a:moveTo>
                    <a:lnTo>
                      <a:pt x="7676" y="8024"/>
                    </a:lnTo>
                    <a:lnTo>
                      <a:pt x="7667" y="7996"/>
                    </a:lnTo>
                    <a:lnTo>
                      <a:pt x="7657" y="7963"/>
                    </a:lnTo>
                    <a:lnTo>
                      <a:pt x="7653" y="7930"/>
                    </a:lnTo>
                    <a:lnTo>
                      <a:pt x="7690" y="7925"/>
                    </a:lnTo>
                    <a:lnTo>
                      <a:pt x="7695" y="7953"/>
                    </a:lnTo>
                    <a:lnTo>
                      <a:pt x="7700" y="7982"/>
                    </a:lnTo>
                    <a:lnTo>
                      <a:pt x="7709" y="8000"/>
                    </a:lnTo>
                    <a:lnTo>
                      <a:pt x="7723" y="8019"/>
                    </a:lnTo>
                    <a:lnTo>
                      <a:pt x="7695" y="8048"/>
                    </a:lnTo>
                    <a:close/>
                    <a:moveTo>
                      <a:pt x="7653" y="7930"/>
                    </a:moveTo>
                    <a:lnTo>
                      <a:pt x="7648" y="7897"/>
                    </a:lnTo>
                    <a:lnTo>
                      <a:pt x="7653" y="7864"/>
                    </a:lnTo>
                    <a:lnTo>
                      <a:pt x="7657" y="7835"/>
                    </a:lnTo>
                    <a:lnTo>
                      <a:pt x="7672" y="7807"/>
                    </a:lnTo>
                    <a:lnTo>
                      <a:pt x="7705" y="7821"/>
                    </a:lnTo>
                    <a:lnTo>
                      <a:pt x="7695" y="7845"/>
                    </a:lnTo>
                    <a:lnTo>
                      <a:pt x="7690" y="7873"/>
                    </a:lnTo>
                    <a:lnTo>
                      <a:pt x="7690" y="7897"/>
                    </a:lnTo>
                    <a:lnTo>
                      <a:pt x="7690" y="7925"/>
                    </a:lnTo>
                    <a:lnTo>
                      <a:pt x="7653" y="7930"/>
                    </a:lnTo>
                    <a:close/>
                    <a:moveTo>
                      <a:pt x="7672" y="7807"/>
                    </a:moveTo>
                    <a:lnTo>
                      <a:pt x="7690" y="7764"/>
                    </a:lnTo>
                    <a:lnTo>
                      <a:pt x="7709" y="7717"/>
                    </a:lnTo>
                    <a:lnTo>
                      <a:pt x="7723" y="7675"/>
                    </a:lnTo>
                    <a:lnTo>
                      <a:pt x="7738" y="7637"/>
                    </a:lnTo>
                    <a:lnTo>
                      <a:pt x="7775" y="7651"/>
                    </a:lnTo>
                    <a:lnTo>
                      <a:pt x="7761" y="7689"/>
                    </a:lnTo>
                    <a:lnTo>
                      <a:pt x="7742" y="7736"/>
                    </a:lnTo>
                    <a:lnTo>
                      <a:pt x="7723" y="7779"/>
                    </a:lnTo>
                    <a:lnTo>
                      <a:pt x="7705" y="7821"/>
                    </a:lnTo>
                    <a:lnTo>
                      <a:pt x="7672" y="7807"/>
                    </a:lnTo>
                    <a:close/>
                    <a:moveTo>
                      <a:pt x="7738" y="7637"/>
                    </a:moveTo>
                    <a:lnTo>
                      <a:pt x="7747" y="7618"/>
                    </a:lnTo>
                    <a:lnTo>
                      <a:pt x="7752" y="7609"/>
                    </a:lnTo>
                    <a:lnTo>
                      <a:pt x="7785" y="7623"/>
                    </a:lnTo>
                    <a:lnTo>
                      <a:pt x="7780" y="7637"/>
                    </a:lnTo>
                    <a:lnTo>
                      <a:pt x="7775" y="7651"/>
                    </a:lnTo>
                    <a:lnTo>
                      <a:pt x="7738" y="7637"/>
                    </a:lnTo>
                    <a:close/>
                    <a:moveTo>
                      <a:pt x="7752" y="7609"/>
                    </a:moveTo>
                    <a:lnTo>
                      <a:pt x="7752" y="7599"/>
                    </a:lnTo>
                    <a:lnTo>
                      <a:pt x="7757" y="7595"/>
                    </a:lnTo>
                    <a:lnTo>
                      <a:pt x="7794" y="7609"/>
                    </a:lnTo>
                    <a:lnTo>
                      <a:pt x="7790" y="7618"/>
                    </a:lnTo>
                    <a:lnTo>
                      <a:pt x="7785" y="7623"/>
                    </a:lnTo>
                    <a:lnTo>
                      <a:pt x="7752" y="7609"/>
                    </a:lnTo>
                    <a:close/>
                    <a:moveTo>
                      <a:pt x="7757" y="7595"/>
                    </a:moveTo>
                    <a:lnTo>
                      <a:pt x="7766" y="7576"/>
                    </a:lnTo>
                    <a:lnTo>
                      <a:pt x="7771" y="7552"/>
                    </a:lnTo>
                    <a:lnTo>
                      <a:pt x="7771" y="7533"/>
                    </a:lnTo>
                    <a:lnTo>
                      <a:pt x="7766" y="7514"/>
                    </a:lnTo>
                    <a:lnTo>
                      <a:pt x="7794" y="7491"/>
                    </a:lnTo>
                    <a:lnTo>
                      <a:pt x="7804" y="7505"/>
                    </a:lnTo>
                    <a:lnTo>
                      <a:pt x="7808" y="7524"/>
                    </a:lnTo>
                    <a:lnTo>
                      <a:pt x="7813" y="7538"/>
                    </a:lnTo>
                    <a:lnTo>
                      <a:pt x="7813" y="7552"/>
                    </a:lnTo>
                    <a:lnTo>
                      <a:pt x="7804" y="7585"/>
                    </a:lnTo>
                    <a:lnTo>
                      <a:pt x="7794" y="7609"/>
                    </a:lnTo>
                    <a:lnTo>
                      <a:pt x="7757" y="7595"/>
                    </a:lnTo>
                    <a:close/>
                    <a:moveTo>
                      <a:pt x="7766" y="7514"/>
                    </a:moveTo>
                    <a:lnTo>
                      <a:pt x="7738" y="7481"/>
                    </a:lnTo>
                    <a:lnTo>
                      <a:pt x="7723" y="7444"/>
                    </a:lnTo>
                    <a:lnTo>
                      <a:pt x="7761" y="7434"/>
                    </a:lnTo>
                    <a:lnTo>
                      <a:pt x="7775" y="7462"/>
                    </a:lnTo>
                    <a:lnTo>
                      <a:pt x="7794" y="7491"/>
                    </a:lnTo>
                    <a:lnTo>
                      <a:pt x="7766" y="7514"/>
                    </a:lnTo>
                    <a:close/>
                    <a:moveTo>
                      <a:pt x="7723" y="7444"/>
                    </a:moveTo>
                    <a:lnTo>
                      <a:pt x="7714" y="7425"/>
                    </a:lnTo>
                    <a:lnTo>
                      <a:pt x="7714" y="7401"/>
                    </a:lnTo>
                    <a:lnTo>
                      <a:pt x="7709" y="7377"/>
                    </a:lnTo>
                    <a:lnTo>
                      <a:pt x="7709" y="7354"/>
                    </a:lnTo>
                    <a:lnTo>
                      <a:pt x="7752" y="7354"/>
                    </a:lnTo>
                    <a:lnTo>
                      <a:pt x="7752" y="7396"/>
                    </a:lnTo>
                    <a:lnTo>
                      <a:pt x="7761" y="7434"/>
                    </a:lnTo>
                    <a:lnTo>
                      <a:pt x="7723" y="7444"/>
                    </a:lnTo>
                    <a:close/>
                    <a:moveTo>
                      <a:pt x="7709" y="7354"/>
                    </a:moveTo>
                    <a:lnTo>
                      <a:pt x="7709" y="7340"/>
                    </a:lnTo>
                    <a:lnTo>
                      <a:pt x="7705" y="7330"/>
                    </a:lnTo>
                    <a:lnTo>
                      <a:pt x="7695" y="7321"/>
                    </a:lnTo>
                    <a:lnTo>
                      <a:pt x="7690" y="7316"/>
                    </a:lnTo>
                    <a:lnTo>
                      <a:pt x="7714" y="7283"/>
                    </a:lnTo>
                    <a:lnTo>
                      <a:pt x="7728" y="7297"/>
                    </a:lnTo>
                    <a:lnTo>
                      <a:pt x="7738" y="7311"/>
                    </a:lnTo>
                    <a:lnTo>
                      <a:pt x="7747" y="7330"/>
                    </a:lnTo>
                    <a:lnTo>
                      <a:pt x="7752" y="7354"/>
                    </a:lnTo>
                    <a:lnTo>
                      <a:pt x="7709" y="7354"/>
                    </a:lnTo>
                    <a:close/>
                    <a:moveTo>
                      <a:pt x="7690" y="7316"/>
                    </a:moveTo>
                    <a:lnTo>
                      <a:pt x="7676" y="7302"/>
                    </a:lnTo>
                    <a:lnTo>
                      <a:pt x="7672" y="7292"/>
                    </a:lnTo>
                    <a:lnTo>
                      <a:pt x="7709" y="7283"/>
                    </a:lnTo>
                    <a:lnTo>
                      <a:pt x="7714" y="7283"/>
                    </a:lnTo>
                    <a:lnTo>
                      <a:pt x="7690" y="7316"/>
                    </a:lnTo>
                    <a:close/>
                    <a:moveTo>
                      <a:pt x="7672" y="7292"/>
                    </a:moveTo>
                    <a:lnTo>
                      <a:pt x="7672" y="7278"/>
                    </a:lnTo>
                    <a:lnTo>
                      <a:pt x="7681" y="7269"/>
                    </a:lnTo>
                    <a:lnTo>
                      <a:pt x="7700" y="7259"/>
                    </a:lnTo>
                    <a:lnTo>
                      <a:pt x="7733" y="7250"/>
                    </a:lnTo>
                    <a:lnTo>
                      <a:pt x="7738" y="7288"/>
                    </a:lnTo>
                    <a:lnTo>
                      <a:pt x="7714" y="7283"/>
                    </a:lnTo>
                    <a:lnTo>
                      <a:pt x="7709" y="7283"/>
                    </a:lnTo>
                    <a:lnTo>
                      <a:pt x="7672" y="7292"/>
                    </a:lnTo>
                    <a:close/>
                    <a:moveTo>
                      <a:pt x="7733" y="7250"/>
                    </a:moveTo>
                    <a:lnTo>
                      <a:pt x="7752" y="7245"/>
                    </a:lnTo>
                    <a:lnTo>
                      <a:pt x="7761" y="7241"/>
                    </a:lnTo>
                    <a:lnTo>
                      <a:pt x="7771" y="7283"/>
                    </a:lnTo>
                    <a:lnTo>
                      <a:pt x="7752" y="7283"/>
                    </a:lnTo>
                    <a:lnTo>
                      <a:pt x="7738" y="7288"/>
                    </a:lnTo>
                    <a:lnTo>
                      <a:pt x="7733" y="7250"/>
                    </a:lnTo>
                    <a:close/>
                    <a:moveTo>
                      <a:pt x="7761" y="7241"/>
                    </a:moveTo>
                    <a:lnTo>
                      <a:pt x="7804" y="7236"/>
                    </a:lnTo>
                    <a:lnTo>
                      <a:pt x="7827" y="7222"/>
                    </a:lnTo>
                    <a:lnTo>
                      <a:pt x="7851" y="7203"/>
                    </a:lnTo>
                    <a:lnTo>
                      <a:pt x="7870" y="7174"/>
                    </a:lnTo>
                    <a:lnTo>
                      <a:pt x="7903" y="7193"/>
                    </a:lnTo>
                    <a:lnTo>
                      <a:pt x="7889" y="7217"/>
                    </a:lnTo>
                    <a:lnTo>
                      <a:pt x="7879" y="7231"/>
                    </a:lnTo>
                    <a:lnTo>
                      <a:pt x="7865" y="7245"/>
                    </a:lnTo>
                    <a:lnTo>
                      <a:pt x="7851" y="7255"/>
                    </a:lnTo>
                    <a:lnTo>
                      <a:pt x="7818" y="7269"/>
                    </a:lnTo>
                    <a:lnTo>
                      <a:pt x="7771" y="7283"/>
                    </a:lnTo>
                    <a:lnTo>
                      <a:pt x="7761" y="7241"/>
                    </a:lnTo>
                    <a:close/>
                    <a:moveTo>
                      <a:pt x="7870" y="7174"/>
                    </a:moveTo>
                    <a:lnTo>
                      <a:pt x="7875" y="7165"/>
                    </a:lnTo>
                    <a:lnTo>
                      <a:pt x="7879" y="7156"/>
                    </a:lnTo>
                    <a:lnTo>
                      <a:pt x="7912" y="7174"/>
                    </a:lnTo>
                    <a:lnTo>
                      <a:pt x="7908" y="7184"/>
                    </a:lnTo>
                    <a:lnTo>
                      <a:pt x="7903" y="7193"/>
                    </a:lnTo>
                    <a:lnTo>
                      <a:pt x="7870" y="7174"/>
                    </a:lnTo>
                    <a:close/>
                    <a:moveTo>
                      <a:pt x="7879" y="7156"/>
                    </a:moveTo>
                    <a:lnTo>
                      <a:pt x="7912" y="7090"/>
                    </a:lnTo>
                    <a:lnTo>
                      <a:pt x="7950" y="7014"/>
                    </a:lnTo>
                    <a:lnTo>
                      <a:pt x="7983" y="6953"/>
                    </a:lnTo>
                    <a:lnTo>
                      <a:pt x="7993" y="6920"/>
                    </a:lnTo>
                    <a:lnTo>
                      <a:pt x="8035" y="6920"/>
                    </a:lnTo>
                    <a:lnTo>
                      <a:pt x="8021" y="6962"/>
                    </a:lnTo>
                    <a:lnTo>
                      <a:pt x="7988" y="7028"/>
                    </a:lnTo>
                    <a:lnTo>
                      <a:pt x="7950" y="7104"/>
                    </a:lnTo>
                    <a:lnTo>
                      <a:pt x="7912" y="7174"/>
                    </a:lnTo>
                    <a:lnTo>
                      <a:pt x="7879" y="7156"/>
                    </a:lnTo>
                    <a:close/>
                    <a:moveTo>
                      <a:pt x="7993" y="6920"/>
                    </a:moveTo>
                    <a:lnTo>
                      <a:pt x="7993" y="6877"/>
                    </a:lnTo>
                    <a:lnTo>
                      <a:pt x="7988" y="6811"/>
                    </a:lnTo>
                    <a:lnTo>
                      <a:pt x="7983" y="6745"/>
                    </a:lnTo>
                    <a:lnTo>
                      <a:pt x="7983" y="6717"/>
                    </a:lnTo>
                    <a:lnTo>
                      <a:pt x="8021" y="6717"/>
                    </a:lnTo>
                    <a:lnTo>
                      <a:pt x="8026" y="6745"/>
                    </a:lnTo>
                    <a:lnTo>
                      <a:pt x="8030" y="6806"/>
                    </a:lnTo>
                    <a:lnTo>
                      <a:pt x="8030" y="6877"/>
                    </a:lnTo>
                    <a:lnTo>
                      <a:pt x="8035" y="6920"/>
                    </a:lnTo>
                    <a:lnTo>
                      <a:pt x="7993" y="6920"/>
                    </a:lnTo>
                    <a:close/>
                    <a:moveTo>
                      <a:pt x="8011" y="6698"/>
                    </a:moveTo>
                    <a:lnTo>
                      <a:pt x="8021" y="6707"/>
                    </a:lnTo>
                    <a:lnTo>
                      <a:pt x="8021" y="6717"/>
                    </a:lnTo>
                    <a:lnTo>
                      <a:pt x="8002" y="6717"/>
                    </a:lnTo>
                    <a:lnTo>
                      <a:pt x="8011" y="6698"/>
                    </a:lnTo>
                    <a:close/>
                    <a:moveTo>
                      <a:pt x="7993" y="6736"/>
                    </a:moveTo>
                    <a:lnTo>
                      <a:pt x="7889" y="6684"/>
                    </a:lnTo>
                    <a:lnTo>
                      <a:pt x="7903" y="6646"/>
                    </a:lnTo>
                    <a:lnTo>
                      <a:pt x="8011" y="6698"/>
                    </a:lnTo>
                    <a:lnTo>
                      <a:pt x="7993" y="6736"/>
                    </a:lnTo>
                    <a:close/>
                    <a:moveTo>
                      <a:pt x="7889" y="6684"/>
                    </a:moveTo>
                    <a:lnTo>
                      <a:pt x="7875" y="6674"/>
                    </a:lnTo>
                    <a:lnTo>
                      <a:pt x="7879" y="6660"/>
                    </a:lnTo>
                    <a:lnTo>
                      <a:pt x="7898" y="6665"/>
                    </a:lnTo>
                    <a:lnTo>
                      <a:pt x="7889" y="6684"/>
                    </a:lnTo>
                    <a:close/>
                    <a:moveTo>
                      <a:pt x="7879" y="6660"/>
                    </a:moveTo>
                    <a:lnTo>
                      <a:pt x="7903" y="6542"/>
                    </a:lnTo>
                    <a:lnTo>
                      <a:pt x="7941" y="6551"/>
                    </a:lnTo>
                    <a:lnTo>
                      <a:pt x="7917" y="6669"/>
                    </a:lnTo>
                    <a:lnTo>
                      <a:pt x="7879" y="6660"/>
                    </a:lnTo>
                    <a:close/>
                    <a:moveTo>
                      <a:pt x="7936" y="6533"/>
                    </a:moveTo>
                    <a:lnTo>
                      <a:pt x="7945" y="6537"/>
                    </a:lnTo>
                    <a:lnTo>
                      <a:pt x="7941" y="6551"/>
                    </a:lnTo>
                    <a:lnTo>
                      <a:pt x="7922" y="6547"/>
                    </a:lnTo>
                    <a:lnTo>
                      <a:pt x="7936" y="6533"/>
                    </a:lnTo>
                    <a:close/>
                    <a:moveTo>
                      <a:pt x="7912" y="6561"/>
                    </a:moveTo>
                    <a:lnTo>
                      <a:pt x="7808" y="6485"/>
                    </a:lnTo>
                    <a:lnTo>
                      <a:pt x="7832" y="6457"/>
                    </a:lnTo>
                    <a:lnTo>
                      <a:pt x="7936" y="6533"/>
                    </a:lnTo>
                    <a:lnTo>
                      <a:pt x="7912" y="6561"/>
                    </a:lnTo>
                    <a:close/>
                    <a:moveTo>
                      <a:pt x="7808" y="6485"/>
                    </a:moveTo>
                    <a:lnTo>
                      <a:pt x="7804" y="6481"/>
                    </a:lnTo>
                    <a:lnTo>
                      <a:pt x="7804" y="6471"/>
                    </a:lnTo>
                    <a:lnTo>
                      <a:pt x="7823" y="6471"/>
                    </a:lnTo>
                    <a:lnTo>
                      <a:pt x="7808" y="6485"/>
                    </a:lnTo>
                    <a:close/>
                    <a:moveTo>
                      <a:pt x="7804" y="6471"/>
                    </a:moveTo>
                    <a:lnTo>
                      <a:pt x="7794" y="6410"/>
                    </a:lnTo>
                    <a:lnTo>
                      <a:pt x="7837" y="6405"/>
                    </a:lnTo>
                    <a:lnTo>
                      <a:pt x="7841" y="6471"/>
                    </a:lnTo>
                    <a:lnTo>
                      <a:pt x="7804" y="6471"/>
                    </a:lnTo>
                    <a:close/>
                    <a:moveTo>
                      <a:pt x="7794" y="6410"/>
                    </a:moveTo>
                    <a:lnTo>
                      <a:pt x="7794" y="6382"/>
                    </a:lnTo>
                    <a:lnTo>
                      <a:pt x="7823" y="6386"/>
                    </a:lnTo>
                    <a:lnTo>
                      <a:pt x="7818" y="6410"/>
                    </a:lnTo>
                    <a:lnTo>
                      <a:pt x="7794" y="6410"/>
                    </a:lnTo>
                    <a:close/>
                    <a:moveTo>
                      <a:pt x="7823" y="6386"/>
                    </a:moveTo>
                    <a:lnTo>
                      <a:pt x="7827" y="6391"/>
                    </a:lnTo>
                    <a:lnTo>
                      <a:pt x="7846" y="6391"/>
                    </a:lnTo>
                    <a:lnTo>
                      <a:pt x="7879" y="6386"/>
                    </a:lnTo>
                    <a:lnTo>
                      <a:pt x="7922" y="6367"/>
                    </a:lnTo>
                    <a:lnTo>
                      <a:pt x="7936" y="6405"/>
                    </a:lnTo>
                    <a:lnTo>
                      <a:pt x="7884" y="6424"/>
                    </a:lnTo>
                    <a:lnTo>
                      <a:pt x="7846" y="6429"/>
                    </a:lnTo>
                    <a:lnTo>
                      <a:pt x="7823" y="6429"/>
                    </a:lnTo>
                    <a:lnTo>
                      <a:pt x="7813" y="6429"/>
                    </a:lnTo>
                    <a:lnTo>
                      <a:pt x="7823" y="6386"/>
                    </a:lnTo>
                    <a:close/>
                    <a:moveTo>
                      <a:pt x="7922" y="6367"/>
                    </a:moveTo>
                    <a:lnTo>
                      <a:pt x="7964" y="6344"/>
                    </a:lnTo>
                    <a:lnTo>
                      <a:pt x="8007" y="6315"/>
                    </a:lnTo>
                    <a:lnTo>
                      <a:pt x="8030" y="6344"/>
                    </a:lnTo>
                    <a:lnTo>
                      <a:pt x="7983" y="6377"/>
                    </a:lnTo>
                    <a:lnTo>
                      <a:pt x="7936" y="6405"/>
                    </a:lnTo>
                    <a:lnTo>
                      <a:pt x="7922" y="6367"/>
                    </a:lnTo>
                    <a:close/>
                    <a:moveTo>
                      <a:pt x="8007" y="6315"/>
                    </a:moveTo>
                    <a:lnTo>
                      <a:pt x="8040" y="6292"/>
                    </a:lnTo>
                    <a:lnTo>
                      <a:pt x="8073" y="6273"/>
                    </a:lnTo>
                    <a:lnTo>
                      <a:pt x="8101" y="6254"/>
                    </a:lnTo>
                    <a:lnTo>
                      <a:pt x="8129" y="6249"/>
                    </a:lnTo>
                    <a:lnTo>
                      <a:pt x="8134" y="6287"/>
                    </a:lnTo>
                    <a:lnTo>
                      <a:pt x="8111" y="6297"/>
                    </a:lnTo>
                    <a:lnTo>
                      <a:pt x="8087" y="6306"/>
                    </a:lnTo>
                    <a:lnTo>
                      <a:pt x="8059" y="6325"/>
                    </a:lnTo>
                    <a:lnTo>
                      <a:pt x="8030" y="6344"/>
                    </a:lnTo>
                    <a:lnTo>
                      <a:pt x="8007" y="6315"/>
                    </a:lnTo>
                    <a:close/>
                    <a:moveTo>
                      <a:pt x="8129" y="6249"/>
                    </a:moveTo>
                    <a:lnTo>
                      <a:pt x="8167" y="6245"/>
                    </a:lnTo>
                    <a:lnTo>
                      <a:pt x="8214" y="6235"/>
                    </a:lnTo>
                    <a:lnTo>
                      <a:pt x="8219" y="6273"/>
                    </a:lnTo>
                    <a:lnTo>
                      <a:pt x="8172" y="6282"/>
                    </a:lnTo>
                    <a:lnTo>
                      <a:pt x="8134" y="6287"/>
                    </a:lnTo>
                    <a:lnTo>
                      <a:pt x="8129" y="6249"/>
                    </a:lnTo>
                    <a:close/>
                    <a:moveTo>
                      <a:pt x="8214" y="6235"/>
                    </a:moveTo>
                    <a:lnTo>
                      <a:pt x="8257" y="6231"/>
                    </a:lnTo>
                    <a:lnTo>
                      <a:pt x="8299" y="6221"/>
                    </a:lnTo>
                    <a:lnTo>
                      <a:pt x="8337" y="6221"/>
                    </a:lnTo>
                    <a:lnTo>
                      <a:pt x="8366" y="6216"/>
                    </a:lnTo>
                    <a:lnTo>
                      <a:pt x="8366" y="6254"/>
                    </a:lnTo>
                    <a:lnTo>
                      <a:pt x="8337" y="6259"/>
                    </a:lnTo>
                    <a:lnTo>
                      <a:pt x="8304" y="6264"/>
                    </a:lnTo>
                    <a:lnTo>
                      <a:pt x="8262" y="6268"/>
                    </a:lnTo>
                    <a:lnTo>
                      <a:pt x="8219" y="6273"/>
                    </a:lnTo>
                    <a:lnTo>
                      <a:pt x="8214" y="6235"/>
                    </a:lnTo>
                    <a:close/>
                    <a:moveTo>
                      <a:pt x="8366" y="6216"/>
                    </a:moveTo>
                    <a:lnTo>
                      <a:pt x="8394" y="6221"/>
                    </a:lnTo>
                    <a:lnTo>
                      <a:pt x="8408" y="6221"/>
                    </a:lnTo>
                    <a:lnTo>
                      <a:pt x="8399" y="6259"/>
                    </a:lnTo>
                    <a:lnTo>
                      <a:pt x="8384" y="6259"/>
                    </a:lnTo>
                    <a:lnTo>
                      <a:pt x="8366" y="6254"/>
                    </a:lnTo>
                    <a:lnTo>
                      <a:pt x="8366" y="6216"/>
                    </a:lnTo>
                    <a:close/>
                    <a:moveTo>
                      <a:pt x="8408" y="6221"/>
                    </a:moveTo>
                    <a:lnTo>
                      <a:pt x="8417" y="6226"/>
                    </a:lnTo>
                    <a:lnTo>
                      <a:pt x="8427" y="6226"/>
                    </a:lnTo>
                    <a:lnTo>
                      <a:pt x="8446" y="6221"/>
                    </a:lnTo>
                    <a:lnTo>
                      <a:pt x="8474" y="6212"/>
                    </a:lnTo>
                    <a:lnTo>
                      <a:pt x="8484" y="6249"/>
                    </a:lnTo>
                    <a:lnTo>
                      <a:pt x="8451" y="6259"/>
                    </a:lnTo>
                    <a:lnTo>
                      <a:pt x="8427" y="6264"/>
                    </a:lnTo>
                    <a:lnTo>
                      <a:pt x="8413" y="6264"/>
                    </a:lnTo>
                    <a:lnTo>
                      <a:pt x="8399" y="6259"/>
                    </a:lnTo>
                    <a:lnTo>
                      <a:pt x="8408" y="6221"/>
                    </a:lnTo>
                    <a:close/>
                    <a:moveTo>
                      <a:pt x="8474" y="6212"/>
                    </a:moveTo>
                    <a:lnTo>
                      <a:pt x="8502" y="6197"/>
                    </a:lnTo>
                    <a:lnTo>
                      <a:pt x="8526" y="6183"/>
                    </a:lnTo>
                    <a:lnTo>
                      <a:pt x="8545" y="6169"/>
                    </a:lnTo>
                    <a:lnTo>
                      <a:pt x="8559" y="6155"/>
                    </a:lnTo>
                    <a:lnTo>
                      <a:pt x="8587" y="6179"/>
                    </a:lnTo>
                    <a:lnTo>
                      <a:pt x="8569" y="6197"/>
                    </a:lnTo>
                    <a:lnTo>
                      <a:pt x="8550" y="6216"/>
                    </a:lnTo>
                    <a:lnTo>
                      <a:pt x="8521" y="6235"/>
                    </a:lnTo>
                    <a:lnTo>
                      <a:pt x="8484" y="6249"/>
                    </a:lnTo>
                    <a:lnTo>
                      <a:pt x="8474" y="6212"/>
                    </a:lnTo>
                    <a:close/>
                    <a:moveTo>
                      <a:pt x="8559" y="6155"/>
                    </a:moveTo>
                    <a:lnTo>
                      <a:pt x="8573" y="6136"/>
                    </a:lnTo>
                    <a:lnTo>
                      <a:pt x="8592" y="6122"/>
                    </a:lnTo>
                    <a:lnTo>
                      <a:pt x="8611" y="6160"/>
                    </a:lnTo>
                    <a:lnTo>
                      <a:pt x="8597" y="6169"/>
                    </a:lnTo>
                    <a:lnTo>
                      <a:pt x="8587" y="6179"/>
                    </a:lnTo>
                    <a:lnTo>
                      <a:pt x="8559" y="6155"/>
                    </a:lnTo>
                    <a:close/>
                    <a:moveTo>
                      <a:pt x="8592" y="6122"/>
                    </a:moveTo>
                    <a:lnTo>
                      <a:pt x="8616" y="6117"/>
                    </a:lnTo>
                    <a:lnTo>
                      <a:pt x="8635" y="6117"/>
                    </a:lnTo>
                    <a:lnTo>
                      <a:pt x="8620" y="6155"/>
                    </a:lnTo>
                    <a:lnTo>
                      <a:pt x="8616" y="6155"/>
                    </a:lnTo>
                    <a:lnTo>
                      <a:pt x="8611" y="6160"/>
                    </a:lnTo>
                    <a:lnTo>
                      <a:pt x="8592" y="6122"/>
                    </a:lnTo>
                    <a:close/>
                    <a:moveTo>
                      <a:pt x="8635" y="6117"/>
                    </a:moveTo>
                    <a:lnTo>
                      <a:pt x="8639" y="6117"/>
                    </a:lnTo>
                    <a:lnTo>
                      <a:pt x="8663" y="6098"/>
                    </a:lnTo>
                    <a:lnTo>
                      <a:pt x="8691" y="6127"/>
                    </a:lnTo>
                    <a:lnTo>
                      <a:pt x="8668" y="6150"/>
                    </a:lnTo>
                    <a:lnTo>
                      <a:pt x="8649" y="6160"/>
                    </a:lnTo>
                    <a:lnTo>
                      <a:pt x="8635" y="6160"/>
                    </a:lnTo>
                    <a:lnTo>
                      <a:pt x="8620" y="6155"/>
                    </a:lnTo>
                    <a:lnTo>
                      <a:pt x="8635" y="6117"/>
                    </a:lnTo>
                    <a:close/>
                    <a:moveTo>
                      <a:pt x="8663" y="6098"/>
                    </a:moveTo>
                    <a:lnTo>
                      <a:pt x="8677" y="6079"/>
                    </a:lnTo>
                    <a:lnTo>
                      <a:pt x="8691" y="6065"/>
                    </a:lnTo>
                    <a:lnTo>
                      <a:pt x="8696" y="6051"/>
                    </a:lnTo>
                    <a:lnTo>
                      <a:pt x="8696" y="6037"/>
                    </a:lnTo>
                    <a:lnTo>
                      <a:pt x="8734" y="6042"/>
                    </a:lnTo>
                    <a:lnTo>
                      <a:pt x="8734" y="6061"/>
                    </a:lnTo>
                    <a:lnTo>
                      <a:pt x="8724" y="6079"/>
                    </a:lnTo>
                    <a:lnTo>
                      <a:pt x="8710" y="6103"/>
                    </a:lnTo>
                    <a:lnTo>
                      <a:pt x="8691" y="6127"/>
                    </a:lnTo>
                    <a:lnTo>
                      <a:pt x="8663" y="6098"/>
                    </a:lnTo>
                    <a:close/>
                    <a:moveTo>
                      <a:pt x="8696" y="6037"/>
                    </a:moveTo>
                    <a:lnTo>
                      <a:pt x="8701" y="6018"/>
                    </a:lnTo>
                    <a:lnTo>
                      <a:pt x="8705" y="5999"/>
                    </a:lnTo>
                    <a:lnTo>
                      <a:pt x="8743" y="6013"/>
                    </a:lnTo>
                    <a:lnTo>
                      <a:pt x="8739" y="6028"/>
                    </a:lnTo>
                    <a:lnTo>
                      <a:pt x="8734" y="6042"/>
                    </a:lnTo>
                    <a:lnTo>
                      <a:pt x="8696" y="6037"/>
                    </a:lnTo>
                    <a:close/>
                    <a:moveTo>
                      <a:pt x="8705" y="5999"/>
                    </a:moveTo>
                    <a:lnTo>
                      <a:pt x="8748" y="5947"/>
                    </a:lnTo>
                    <a:lnTo>
                      <a:pt x="8772" y="5924"/>
                    </a:lnTo>
                    <a:lnTo>
                      <a:pt x="8795" y="5952"/>
                    </a:lnTo>
                    <a:lnTo>
                      <a:pt x="8776" y="5971"/>
                    </a:lnTo>
                    <a:lnTo>
                      <a:pt x="8743" y="6013"/>
                    </a:lnTo>
                    <a:lnTo>
                      <a:pt x="8705" y="5999"/>
                    </a:lnTo>
                    <a:close/>
                    <a:moveTo>
                      <a:pt x="8805" y="5943"/>
                    </a:moveTo>
                    <a:lnTo>
                      <a:pt x="8800" y="5947"/>
                    </a:lnTo>
                    <a:lnTo>
                      <a:pt x="8795" y="5952"/>
                    </a:lnTo>
                    <a:lnTo>
                      <a:pt x="8786" y="5938"/>
                    </a:lnTo>
                    <a:lnTo>
                      <a:pt x="8805" y="5943"/>
                    </a:lnTo>
                    <a:close/>
                    <a:moveTo>
                      <a:pt x="8767" y="5933"/>
                    </a:moveTo>
                    <a:lnTo>
                      <a:pt x="8781" y="5867"/>
                    </a:lnTo>
                    <a:lnTo>
                      <a:pt x="8819" y="5877"/>
                    </a:lnTo>
                    <a:lnTo>
                      <a:pt x="8805" y="5943"/>
                    </a:lnTo>
                    <a:lnTo>
                      <a:pt x="8767" y="5933"/>
                    </a:lnTo>
                    <a:close/>
                    <a:moveTo>
                      <a:pt x="8781" y="5867"/>
                    </a:moveTo>
                    <a:lnTo>
                      <a:pt x="8790" y="5829"/>
                    </a:lnTo>
                    <a:lnTo>
                      <a:pt x="8814" y="5862"/>
                    </a:lnTo>
                    <a:lnTo>
                      <a:pt x="8800" y="5872"/>
                    </a:lnTo>
                    <a:lnTo>
                      <a:pt x="8781" y="5867"/>
                    </a:lnTo>
                    <a:close/>
                    <a:moveTo>
                      <a:pt x="8814" y="5862"/>
                    </a:moveTo>
                    <a:lnTo>
                      <a:pt x="8819" y="5867"/>
                    </a:lnTo>
                    <a:lnTo>
                      <a:pt x="8833" y="5881"/>
                    </a:lnTo>
                    <a:lnTo>
                      <a:pt x="8852" y="5891"/>
                    </a:lnTo>
                    <a:lnTo>
                      <a:pt x="8866" y="5891"/>
                    </a:lnTo>
                    <a:lnTo>
                      <a:pt x="8885" y="5928"/>
                    </a:lnTo>
                    <a:lnTo>
                      <a:pt x="8866" y="5933"/>
                    </a:lnTo>
                    <a:lnTo>
                      <a:pt x="8847" y="5933"/>
                    </a:lnTo>
                    <a:lnTo>
                      <a:pt x="8833" y="5924"/>
                    </a:lnTo>
                    <a:lnTo>
                      <a:pt x="8819" y="5914"/>
                    </a:lnTo>
                    <a:lnTo>
                      <a:pt x="8795" y="5895"/>
                    </a:lnTo>
                    <a:lnTo>
                      <a:pt x="8786" y="5886"/>
                    </a:lnTo>
                    <a:lnTo>
                      <a:pt x="8814" y="5862"/>
                    </a:lnTo>
                    <a:close/>
                    <a:moveTo>
                      <a:pt x="8866" y="5891"/>
                    </a:moveTo>
                    <a:lnTo>
                      <a:pt x="8871" y="5886"/>
                    </a:lnTo>
                    <a:lnTo>
                      <a:pt x="8871" y="5877"/>
                    </a:lnTo>
                    <a:lnTo>
                      <a:pt x="8866" y="5862"/>
                    </a:lnTo>
                    <a:lnTo>
                      <a:pt x="8861" y="5848"/>
                    </a:lnTo>
                    <a:lnTo>
                      <a:pt x="8894" y="5834"/>
                    </a:lnTo>
                    <a:lnTo>
                      <a:pt x="8908" y="5862"/>
                    </a:lnTo>
                    <a:lnTo>
                      <a:pt x="8913" y="5886"/>
                    </a:lnTo>
                    <a:lnTo>
                      <a:pt x="8913" y="5900"/>
                    </a:lnTo>
                    <a:lnTo>
                      <a:pt x="8908" y="5910"/>
                    </a:lnTo>
                    <a:lnTo>
                      <a:pt x="8899" y="5919"/>
                    </a:lnTo>
                    <a:lnTo>
                      <a:pt x="8885" y="5928"/>
                    </a:lnTo>
                    <a:lnTo>
                      <a:pt x="8866" y="5891"/>
                    </a:lnTo>
                    <a:close/>
                    <a:moveTo>
                      <a:pt x="8861" y="5848"/>
                    </a:moveTo>
                    <a:lnTo>
                      <a:pt x="8857" y="5848"/>
                    </a:lnTo>
                    <a:lnTo>
                      <a:pt x="8857" y="5843"/>
                    </a:lnTo>
                    <a:lnTo>
                      <a:pt x="8894" y="5829"/>
                    </a:lnTo>
                    <a:lnTo>
                      <a:pt x="8894" y="5834"/>
                    </a:lnTo>
                    <a:lnTo>
                      <a:pt x="8861" y="5848"/>
                    </a:lnTo>
                    <a:close/>
                    <a:moveTo>
                      <a:pt x="8857" y="5843"/>
                    </a:moveTo>
                    <a:lnTo>
                      <a:pt x="8852" y="5834"/>
                    </a:lnTo>
                    <a:lnTo>
                      <a:pt x="8842" y="5825"/>
                    </a:lnTo>
                    <a:lnTo>
                      <a:pt x="8871" y="5796"/>
                    </a:lnTo>
                    <a:lnTo>
                      <a:pt x="8880" y="5810"/>
                    </a:lnTo>
                    <a:lnTo>
                      <a:pt x="8894" y="5829"/>
                    </a:lnTo>
                    <a:lnTo>
                      <a:pt x="8857" y="5843"/>
                    </a:lnTo>
                    <a:close/>
                    <a:moveTo>
                      <a:pt x="8842" y="5825"/>
                    </a:moveTo>
                    <a:lnTo>
                      <a:pt x="8828" y="5806"/>
                    </a:lnTo>
                    <a:lnTo>
                      <a:pt x="8819" y="5787"/>
                    </a:lnTo>
                    <a:lnTo>
                      <a:pt x="8814" y="5777"/>
                    </a:lnTo>
                    <a:lnTo>
                      <a:pt x="8819" y="5763"/>
                    </a:lnTo>
                    <a:lnTo>
                      <a:pt x="8823" y="5749"/>
                    </a:lnTo>
                    <a:lnTo>
                      <a:pt x="8833" y="5735"/>
                    </a:lnTo>
                    <a:lnTo>
                      <a:pt x="8866" y="5754"/>
                    </a:lnTo>
                    <a:lnTo>
                      <a:pt x="8857" y="5768"/>
                    </a:lnTo>
                    <a:lnTo>
                      <a:pt x="8857" y="5782"/>
                    </a:lnTo>
                    <a:lnTo>
                      <a:pt x="8861" y="5792"/>
                    </a:lnTo>
                    <a:lnTo>
                      <a:pt x="8871" y="5796"/>
                    </a:lnTo>
                    <a:lnTo>
                      <a:pt x="8842" y="5825"/>
                    </a:lnTo>
                    <a:close/>
                    <a:moveTo>
                      <a:pt x="8833" y="5735"/>
                    </a:moveTo>
                    <a:lnTo>
                      <a:pt x="8852" y="5711"/>
                    </a:lnTo>
                    <a:lnTo>
                      <a:pt x="8871" y="5688"/>
                    </a:lnTo>
                    <a:lnTo>
                      <a:pt x="8899" y="5716"/>
                    </a:lnTo>
                    <a:lnTo>
                      <a:pt x="8880" y="5735"/>
                    </a:lnTo>
                    <a:lnTo>
                      <a:pt x="8866" y="5754"/>
                    </a:lnTo>
                    <a:lnTo>
                      <a:pt x="8833" y="5735"/>
                    </a:lnTo>
                    <a:close/>
                    <a:moveTo>
                      <a:pt x="8871" y="5688"/>
                    </a:moveTo>
                    <a:lnTo>
                      <a:pt x="8885" y="5674"/>
                    </a:lnTo>
                    <a:lnTo>
                      <a:pt x="8894" y="5664"/>
                    </a:lnTo>
                    <a:lnTo>
                      <a:pt x="8923" y="5683"/>
                    </a:lnTo>
                    <a:lnTo>
                      <a:pt x="8913" y="5702"/>
                    </a:lnTo>
                    <a:lnTo>
                      <a:pt x="8899" y="5716"/>
                    </a:lnTo>
                    <a:lnTo>
                      <a:pt x="8871" y="5688"/>
                    </a:lnTo>
                    <a:close/>
                    <a:moveTo>
                      <a:pt x="8894" y="5664"/>
                    </a:moveTo>
                    <a:lnTo>
                      <a:pt x="8899" y="5655"/>
                    </a:lnTo>
                    <a:lnTo>
                      <a:pt x="8894" y="5650"/>
                    </a:lnTo>
                    <a:lnTo>
                      <a:pt x="8918" y="5617"/>
                    </a:lnTo>
                    <a:lnTo>
                      <a:pt x="8932" y="5631"/>
                    </a:lnTo>
                    <a:lnTo>
                      <a:pt x="8937" y="5650"/>
                    </a:lnTo>
                    <a:lnTo>
                      <a:pt x="8937" y="5669"/>
                    </a:lnTo>
                    <a:lnTo>
                      <a:pt x="8923" y="5683"/>
                    </a:lnTo>
                    <a:lnTo>
                      <a:pt x="8894" y="5664"/>
                    </a:lnTo>
                    <a:close/>
                    <a:moveTo>
                      <a:pt x="8894" y="5650"/>
                    </a:moveTo>
                    <a:lnTo>
                      <a:pt x="8866" y="5622"/>
                    </a:lnTo>
                    <a:lnTo>
                      <a:pt x="8842" y="5589"/>
                    </a:lnTo>
                    <a:lnTo>
                      <a:pt x="8875" y="5565"/>
                    </a:lnTo>
                    <a:lnTo>
                      <a:pt x="8894" y="5593"/>
                    </a:lnTo>
                    <a:lnTo>
                      <a:pt x="8918" y="5617"/>
                    </a:lnTo>
                    <a:lnTo>
                      <a:pt x="8894" y="5650"/>
                    </a:lnTo>
                    <a:close/>
                    <a:moveTo>
                      <a:pt x="8842" y="5589"/>
                    </a:moveTo>
                    <a:lnTo>
                      <a:pt x="8809" y="5537"/>
                    </a:lnTo>
                    <a:lnTo>
                      <a:pt x="8786" y="5489"/>
                    </a:lnTo>
                    <a:lnTo>
                      <a:pt x="8823" y="5475"/>
                    </a:lnTo>
                    <a:lnTo>
                      <a:pt x="8842" y="5518"/>
                    </a:lnTo>
                    <a:lnTo>
                      <a:pt x="8875" y="5565"/>
                    </a:lnTo>
                    <a:lnTo>
                      <a:pt x="8842" y="5589"/>
                    </a:lnTo>
                    <a:close/>
                    <a:moveTo>
                      <a:pt x="8786" y="5489"/>
                    </a:moveTo>
                    <a:lnTo>
                      <a:pt x="8781" y="5471"/>
                    </a:lnTo>
                    <a:lnTo>
                      <a:pt x="8786" y="5452"/>
                    </a:lnTo>
                    <a:lnTo>
                      <a:pt x="8795" y="5438"/>
                    </a:lnTo>
                    <a:lnTo>
                      <a:pt x="8809" y="5419"/>
                    </a:lnTo>
                    <a:lnTo>
                      <a:pt x="8838" y="5400"/>
                    </a:lnTo>
                    <a:lnTo>
                      <a:pt x="8852" y="5390"/>
                    </a:lnTo>
                    <a:lnTo>
                      <a:pt x="8866" y="5423"/>
                    </a:lnTo>
                    <a:lnTo>
                      <a:pt x="8861" y="5428"/>
                    </a:lnTo>
                    <a:lnTo>
                      <a:pt x="8842" y="5442"/>
                    </a:lnTo>
                    <a:lnTo>
                      <a:pt x="8833" y="5452"/>
                    </a:lnTo>
                    <a:lnTo>
                      <a:pt x="8828" y="5456"/>
                    </a:lnTo>
                    <a:lnTo>
                      <a:pt x="8823" y="5466"/>
                    </a:lnTo>
                    <a:lnTo>
                      <a:pt x="8823" y="5475"/>
                    </a:lnTo>
                    <a:lnTo>
                      <a:pt x="8786" y="5489"/>
                    </a:lnTo>
                    <a:close/>
                    <a:moveTo>
                      <a:pt x="8852" y="5390"/>
                    </a:moveTo>
                    <a:lnTo>
                      <a:pt x="8857" y="5386"/>
                    </a:lnTo>
                    <a:lnTo>
                      <a:pt x="8866" y="5390"/>
                    </a:lnTo>
                    <a:lnTo>
                      <a:pt x="8857" y="5409"/>
                    </a:lnTo>
                    <a:lnTo>
                      <a:pt x="8852" y="5390"/>
                    </a:lnTo>
                    <a:close/>
                    <a:moveTo>
                      <a:pt x="8866" y="5390"/>
                    </a:moveTo>
                    <a:lnTo>
                      <a:pt x="8904" y="5405"/>
                    </a:lnTo>
                    <a:lnTo>
                      <a:pt x="8960" y="5433"/>
                    </a:lnTo>
                    <a:lnTo>
                      <a:pt x="8942" y="5466"/>
                    </a:lnTo>
                    <a:lnTo>
                      <a:pt x="8885" y="5442"/>
                    </a:lnTo>
                    <a:lnTo>
                      <a:pt x="8852" y="5428"/>
                    </a:lnTo>
                    <a:lnTo>
                      <a:pt x="8866" y="5390"/>
                    </a:lnTo>
                    <a:close/>
                    <a:moveTo>
                      <a:pt x="8960" y="5433"/>
                    </a:moveTo>
                    <a:lnTo>
                      <a:pt x="8960" y="5433"/>
                    </a:lnTo>
                    <a:lnTo>
                      <a:pt x="8965" y="5433"/>
                    </a:lnTo>
                    <a:lnTo>
                      <a:pt x="8965" y="5475"/>
                    </a:lnTo>
                    <a:lnTo>
                      <a:pt x="8951" y="5471"/>
                    </a:lnTo>
                    <a:lnTo>
                      <a:pt x="8942" y="5466"/>
                    </a:lnTo>
                    <a:lnTo>
                      <a:pt x="8960" y="5433"/>
                    </a:lnTo>
                    <a:close/>
                    <a:moveTo>
                      <a:pt x="8965" y="5433"/>
                    </a:moveTo>
                    <a:lnTo>
                      <a:pt x="8989" y="5433"/>
                    </a:lnTo>
                    <a:lnTo>
                      <a:pt x="9008" y="5423"/>
                    </a:lnTo>
                    <a:lnTo>
                      <a:pt x="9027" y="5461"/>
                    </a:lnTo>
                    <a:lnTo>
                      <a:pt x="8993" y="5471"/>
                    </a:lnTo>
                    <a:lnTo>
                      <a:pt x="8965" y="5475"/>
                    </a:lnTo>
                    <a:lnTo>
                      <a:pt x="8965" y="5433"/>
                    </a:lnTo>
                    <a:close/>
                    <a:moveTo>
                      <a:pt x="9008" y="5423"/>
                    </a:moveTo>
                    <a:lnTo>
                      <a:pt x="9008" y="5423"/>
                    </a:lnTo>
                    <a:lnTo>
                      <a:pt x="9017" y="5442"/>
                    </a:lnTo>
                    <a:lnTo>
                      <a:pt x="9008" y="5423"/>
                    </a:lnTo>
                    <a:close/>
                    <a:moveTo>
                      <a:pt x="9008" y="5423"/>
                    </a:moveTo>
                    <a:lnTo>
                      <a:pt x="9027" y="5414"/>
                    </a:lnTo>
                    <a:lnTo>
                      <a:pt x="9036" y="5405"/>
                    </a:lnTo>
                    <a:lnTo>
                      <a:pt x="9069" y="5423"/>
                    </a:lnTo>
                    <a:lnTo>
                      <a:pt x="9050" y="5442"/>
                    </a:lnTo>
                    <a:lnTo>
                      <a:pt x="9027" y="5461"/>
                    </a:lnTo>
                    <a:lnTo>
                      <a:pt x="9008" y="5423"/>
                    </a:lnTo>
                    <a:close/>
                    <a:moveTo>
                      <a:pt x="9036" y="5405"/>
                    </a:moveTo>
                    <a:lnTo>
                      <a:pt x="9036" y="5405"/>
                    </a:lnTo>
                    <a:lnTo>
                      <a:pt x="9078" y="5405"/>
                    </a:lnTo>
                    <a:lnTo>
                      <a:pt x="9074" y="5414"/>
                    </a:lnTo>
                    <a:lnTo>
                      <a:pt x="9069" y="5423"/>
                    </a:lnTo>
                    <a:lnTo>
                      <a:pt x="9036" y="5405"/>
                    </a:lnTo>
                    <a:close/>
                    <a:moveTo>
                      <a:pt x="9036" y="5405"/>
                    </a:moveTo>
                    <a:lnTo>
                      <a:pt x="9036" y="5390"/>
                    </a:lnTo>
                    <a:lnTo>
                      <a:pt x="9031" y="5381"/>
                    </a:lnTo>
                    <a:lnTo>
                      <a:pt x="9069" y="5367"/>
                    </a:lnTo>
                    <a:lnTo>
                      <a:pt x="9074" y="5386"/>
                    </a:lnTo>
                    <a:lnTo>
                      <a:pt x="9078" y="5405"/>
                    </a:lnTo>
                    <a:lnTo>
                      <a:pt x="9036" y="5405"/>
                    </a:lnTo>
                    <a:close/>
                    <a:moveTo>
                      <a:pt x="9031" y="5381"/>
                    </a:moveTo>
                    <a:lnTo>
                      <a:pt x="9027" y="5367"/>
                    </a:lnTo>
                    <a:lnTo>
                      <a:pt x="9022" y="5348"/>
                    </a:lnTo>
                    <a:lnTo>
                      <a:pt x="9017" y="5324"/>
                    </a:lnTo>
                    <a:lnTo>
                      <a:pt x="9022" y="5296"/>
                    </a:lnTo>
                    <a:lnTo>
                      <a:pt x="9060" y="5305"/>
                    </a:lnTo>
                    <a:lnTo>
                      <a:pt x="9060" y="5324"/>
                    </a:lnTo>
                    <a:lnTo>
                      <a:pt x="9060" y="5338"/>
                    </a:lnTo>
                    <a:lnTo>
                      <a:pt x="9064" y="5353"/>
                    </a:lnTo>
                    <a:lnTo>
                      <a:pt x="9069" y="5367"/>
                    </a:lnTo>
                    <a:lnTo>
                      <a:pt x="9031" y="5381"/>
                    </a:lnTo>
                    <a:close/>
                    <a:moveTo>
                      <a:pt x="9022" y="5296"/>
                    </a:moveTo>
                    <a:lnTo>
                      <a:pt x="9036" y="5225"/>
                    </a:lnTo>
                    <a:lnTo>
                      <a:pt x="9041" y="5192"/>
                    </a:lnTo>
                    <a:lnTo>
                      <a:pt x="9083" y="5197"/>
                    </a:lnTo>
                    <a:lnTo>
                      <a:pt x="9074" y="5230"/>
                    </a:lnTo>
                    <a:lnTo>
                      <a:pt x="9060" y="5305"/>
                    </a:lnTo>
                    <a:lnTo>
                      <a:pt x="9022" y="5296"/>
                    </a:lnTo>
                    <a:close/>
                    <a:moveTo>
                      <a:pt x="9074" y="5178"/>
                    </a:moveTo>
                    <a:lnTo>
                      <a:pt x="9083" y="5183"/>
                    </a:lnTo>
                    <a:lnTo>
                      <a:pt x="9083" y="5197"/>
                    </a:lnTo>
                    <a:lnTo>
                      <a:pt x="9060" y="5192"/>
                    </a:lnTo>
                    <a:lnTo>
                      <a:pt x="9074" y="5178"/>
                    </a:lnTo>
                    <a:close/>
                    <a:moveTo>
                      <a:pt x="9050" y="5211"/>
                    </a:moveTo>
                    <a:lnTo>
                      <a:pt x="9003" y="5178"/>
                    </a:lnTo>
                    <a:lnTo>
                      <a:pt x="8937" y="5121"/>
                    </a:lnTo>
                    <a:lnTo>
                      <a:pt x="8965" y="5098"/>
                    </a:lnTo>
                    <a:lnTo>
                      <a:pt x="9027" y="5150"/>
                    </a:lnTo>
                    <a:lnTo>
                      <a:pt x="9074" y="5178"/>
                    </a:lnTo>
                    <a:lnTo>
                      <a:pt x="9050" y="5211"/>
                    </a:lnTo>
                    <a:close/>
                    <a:moveTo>
                      <a:pt x="8937" y="5121"/>
                    </a:moveTo>
                    <a:lnTo>
                      <a:pt x="8923" y="5102"/>
                    </a:lnTo>
                    <a:lnTo>
                      <a:pt x="8908" y="5079"/>
                    </a:lnTo>
                    <a:lnTo>
                      <a:pt x="8899" y="5051"/>
                    </a:lnTo>
                    <a:lnTo>
                      <a:pt x="8890" y="5022"/>
                    </a:lnTo>
                    <a:lnTo>
                      <a:pt x="8927" y="5013"/>
                    </a:lnTo>
                    <a:lnTo>
                      <a:pt x="8932" y="5036"/>
                    </a:lnTo>
                    <a:lnTo>
                      <a:pt x="8942" y="5060"/>
                    </a:lnTo>
                    <a:lnTo>
                      <a:pt x="8956" y="5079"/>
                    </a:lnTo>
                    <a:lnTo>
                      <a:pt x="8965" y="5098"/>
                    </a:lnTo>
                    <a:lnTo>
                      <a:pt x="8937" y="5121"/>
                    </a:lnTo>
                    <a:close/>
                    <a:moveTo>
                      <a:pt x="8890" y="5022"/>
                    </a:moveTo>
                    <a:lnTo>
                      <a:pt x="8885" y="4999"/>
                    </a:lnTo>
                    <a:lnTo>
                      <a:pt x="8885" y="4975"/>
                    </a:lnTo>
                    <a:lnTo>
                      <a:pt x="8894" y="4956"/>
                    </a:lnTo>
                    <a:lnTo>
                      <a:pt x="8904" y="4942"/>
                    </a:lnTo>
                    <a:lnTo>
                      <a:pt x="8932" y="4966"/>
                    </a:lnTo>
                    <a:lnTo>
                      <a:pt x="8927" y="4975"/>
                    </a:lnTo>
                    <a:lnTo>
                      <a:pt x="8923" y="4984"/>
                    </a:lnTo>
                    <a:lnTo>
                      <a:pt x="8927" y="4999"/>
                    </a:lnTo>
                    <a:lnTo>
                      <a:pt x="8927" y="5013"/>
                    </a:lnTo>
                    <a:lnTo>
                      <a:pt x="8890" y="5022"/>
                    </a:lnTo>
                    <a:close/>
                    <a:moveTo>
                      <a:pt x="8904" y="4942"/>
                    </a:moveTo>
                    <a:lnTo>
                      <a:pt x="8918" y="4928"/>
                    </a:lnTo>
                    <a:lnTo>
                      <a:pt x="8927" y="4909"/>
                    </a:lnTo>
                    <a:lnTo>
                      <a:pt x="8960" y="4933"/>
                    </a:lnTo>
                    <a:lnTo>
                      <a:pt x="8946" y="4951"/>
                    </a:lnTo>
                    <a:lnTo>
                      <a:pt x="8932" y="4966"/>
                    </a:lnTo>
                    <a:lnTo>
                      <a:pt x="8904" y="4942"/>
                    </a:lnTo>
                    <a:close/>
                    <a:moveTo>
                      <a:pt x="8927" y="4909"/>
                    </a:moveTo>
                    <a:lnTo>
                      <a:pt x="8946" y="4885"/>
                    </a:lnTo>
                    <a:lnTo>
                      <a:pt x="8965" y="4866"/>
                    </a:lnTo>
                    <a:lnTo>
                      <a:pt x="8989" y="4848"/>
                    </a:lnTo>
                    <a:lnTo>
                      <a:pt x="9022" y="4838"/>
                    </a:lnTo>
                    <a:lnTo>
                      <a:pt x="9027" y="4876"/>
                    </a:lnTo>
                    <a:lnTo>
                      <a:pt x="9008" y="4885"/>
                    </a:lnTo>
                    <a:lnTo>
                      <a:pt x="8989" y="4900"/>
                    </a:lnTo>
                    <a:lnTo>
                      <a:pt x="8975" y="4914"/>
                    </a:lnTo>
                    <a:lnTo>
                      <a:pt x="8960" y="4933"/>
                    </a:lnTo>
                    <a:lnTo>
                      <a:pt x="8927" y="4909"/>
                    </a:lnTo>
                    <a:close/>
                    <a:moveTo>
                      <a:pt x="9022" y="4838"/>
                    </a:moveTo>
                    <a:lnTo>
                      <a:pt x="9050" y="4833"/>
                    </a:lnTo>
                    <a:lnTo>
                      <a:pt x="9074" y="4824"/>
                    </a:lnTo>
                    <a:lnTo>
                      <a:pt x="9093" y="4857"/>
                    </a:lnTo>
                    <a:lnTo>
                      <a:pt x="9064" y="4866"/>
                    </a:lnTo>
                    <a:lnTo>
                      <a:pt x="9027" y="4876"/>
                    </a:lnTo>
                    <a:lnTo>
                      <a:pt x="9022" y="4838"/>
                    </a:lnTo>
                    <a:close/>
                    <a:moveTo>
                      <a:pt x="9074" y="4824"/>
                    </a:moveTo>
                    <a:lnTo>
                      <a:pt x="9088" y="4810"/>
                    </a:lnTo>
                    <a:lnTo>
                      <a:pt x="9111" y="4791"/>
                    </a:lnTo>
                    <a:lnTo>
                      <a:pt x="9140" y="4819"/>
                    </a:lnTo>
                    <a:lnTo>
                      <a:pt x="9111" y="4843"/>
                    </a:lnTo>
                    <a:lnTo>
                      <a:pt x="9093" y="4857"/>
                    </a:lnTo>
                    <a:lnTo>
                      <a:pt x="9074" y="4824"/>
                    </a:lnTo>
                    <a:close/>
                    <a:moveTo>
                      <a:pt x="9111" y="4791"/>
                    </a:moveTo>
                    <a:lnTo>
                      <a:pt x="9111" y="4791"/>
                    </a:lnTo>
                    <a:lnTo>
                      <a:pt x="9126" y="4805"/>
                    </a:lnTo>
                    <a:lnTo>
                      <a:pt x="9111" y="4791"/>
                    </a:lnTo>
                    <a:close/>
                    <a:moveTo>
                      <a:pt x="9111" y="4791"/>
                    </a:moveTo>
                    <a:lnTo>
                      <a:pt x="9145" y="4758"/>
                    </a:lnTo>
                    <a:lnTo>
                      <a:pt x="9178" y="4720"/>
                    </a:lnTo>
                    <a:lnTo>
                      <a:pt x="9211" y="4744"/>
                    </a:lnTo>
                    <a:lnTo>
                      <a:pt x="9173" y="4782"/>
                    </a:lnTo>
                    <a:lnTo>
                      <a:pt x="9140" y="4819"/>
                    </a:lnTo>
                    <a:lnTo>
                      <a:pt x="9111" y="4791"/>
                    </a:lnTo>
                    <a:close/>
                    <a:moveTo>
                      <a:pt x="9178" y="4720"/>
                    </a:moveTo>
                    <a:lnTo>
                      <a:pt x="9206" y="4687"/>
                    </a:lnTo>
                    <a:lnTo>
                      <a:pt x="9230" y="4659"/>
                    </a:lnTo>
                    <a:lnTo>
                      <a:pt x="9258" y="4682"/>
                    </a:lnTo>
                    <a:lnTo>
                      <a:pt x="9239" y="4711"/>
                    </a:lnTo>
                    <a:lnTo>
                      <a:pt x="9211" y="4744"/>
                    </a:lnTo>
                    <a:lnTo>
                      <a:pt x="9178" y="4720"/>
                    </a:lnTo>
                    <a:close/>
                    <a:moveTo>
                      <a:pt x="9230" y="4659"/>
                    </a:moveTo>
                    <a:lnTo>
                      <a:pt x="9234" y="4649"/>
                    </a:lnTo>
                    <a:lnTo>
                      <a:pt x="9244" y="4635"/>
                    </a:lnTo>
                    <a:lnTo>
                      <a:pt x="9277" y="4654"/>
                    </a:lnTo>
                    <a:lnTo>
                      <a:pt x="9267" y="4668"/>
                    </a:lnTo>
                    <a:lnTo>
                      <a:pt x="9258" y="4682"/>
                    </a:lnTo>
                    <a:lnTo>
                      <a:pt x="9230" y="4659"/>
                    </a:lnTo>
                    <a:close/>
                    <a:moveTo>
                      <a:pt x="9277" y="4654"/>
                    </a:moveTo>
                    <a:lnTo>
                      <a:pt x="9277" y="4654"/>
                    </a:lnTo>
                    <a:lnTo>
                      <a:pt x="9258" y="4645"/>
                    </a:lnTo>
                    <a:lnTo>
                      <a:pt x="9277" y="4654"/>
                    </a:lnTo>
                    <a:close/>
                    <a:moveTo>
                      <a:pt x="9244" y="4635"/>
                    </a:moveTo>
                    <a:lnTo>
                      <a:pt x="9258" y="4612"/>
                    </a:lnTo>
                    <a:lnTo>
                      <a:pt x="9277" y="4588"/>
                    </a:lnTo>
                    <a:lnTo>
                      <a:pt x="9305" y="4616"/>
                    </a:lnTo>
                    <a:lnTo>
                      <a:pt x="9291" y="4635"/>
                    </a:lnTo>
                    <a:lnTo>
                      <a:pt x="9277" y="4654"/>
                    </a:lnTo>
                    <a:lnTo>
                      <a:pt x="9244" y="4635"/>
                    </a:lnTo>
                    <a:close/>
                    <a:moveTo>
                      <a:pt x="9277" y="4588"/>
                    </a:moveTo>
                    <a:lnTo>
                      <a:pt x="9291" y="4574"/>
                    </a:lnTo>
                    <a:lnTo>
                      <a:pt x="9310" y="4569"/>
                    </a:lnTo>
                    <a:lnTo>
                      <a:pt x="9329" y="4574"/>
                    </a:lnTo>
                    <a:lnTo>
                      <a:pt x="9348" y="4588"/>
                    </a:lnTo>
                    <a:lnTo>
                      <a:pt x="9319" y="4616"/>
                    </a:lnTo>
                    <a:lnTo>
                      <a:pt x="9310" y="4612"/>
                    </a:lnTo>
                    <a:lnTo>
                      <a:pt x="9305" y="4616"/>
                    </a:lnTo>
                    <a:lnTo>
                      <a:pt x="9277" y="4588"/>
                    </a:lnTo>
                    <a:close/>
                    <a:moveTo>
                      <a:pt x="9348" y="4588"/>
                    </a:moveTo>
                    <a:lnTo>
                      <a:pt x="9362" y="4607"/>
                    </a:lnTo>
                    <a:lnTo>
                      <a:pt x="9371" y="4626"/>
                    </a:lnTo>
                    <a:lnTo>
                      <a:pt x="9381" y="4649"/>
                    </a:lnTo>
                    <a:lnTo>
                      <a:pt x="9385" y="4673"/>
                    </a:lnTo>
                    <a:lnTo>
                      <a:pt x="9348" y="4678"/>
                    </a:lnTo>
                    <a:lnTo>
                      <a:pt x="9338" y="4645"/>
                    </a:lnTo>
                    <a:lnTo>
                      <a:pt x="9319" y="4616"/>
                    </a:lnTo>
                    <a:lnTo>
                      <a:pt x="9348" y="4588"/>
                    </a:lnTo>
                    <a:close/>
                    <a:moveTo>
                      <a:pt x="9385" y="4673"/>
                    </a:moveTo>
                    <a:lnTo>
                      <a:pt x="9385" y="4673"/>
                    </a:lnTo>
                    <a:lnTo>
                      <a:pt x="9366" y="4678"/>
                    </a:lnTo>
                    <a:lnTo>
                      <a:pt x="9385" y="4673"/>
                    </a:lnTo>
                    <a:close/>
                    <a:moveTo>
                      <a:pt x="9385" y="4673"/>
                    </a:moveTo>
                    <a:lnTo>
                      <a:pt x="9385" y="4692"/>
                    </a:lnTo>
                    <a:lnTo>
                      <a:pt x="9390" y="4701"/>
                    </a:lnTo>
                    <a:lnTo>
                      <a:pt x="9390" y="4739"/>
                    </a:lnTo>
                    <a:lnTo>
                      <a:pt x="9376" y="4739"/>
                    </a:lnTo>
                    <a:lnTo>
                      <a:pt x="9371" y="4734"/>
                    </a:lnTo>
                    <a:lnTo>
                      <a:pt x="9362" y="4730"/>
                    </a:lnTo>
                    <a:lnTo>
                      <a:pt x="9357" y="4720"/>
                    </a:lnTo>
                    <a:lnTo>
                      <a:pt x="9352" y="4701"/>
                    </a:lnTo>
                    <a:lnTo>
                      <a:pt x="9348" y="4678"/>
                    </a:lnTo>
                    <a:lnTo>
                      <a:pt x="9385" y="4673"/>
                    </a:lnTo>
                    <a:close/>
                    <a:moveTo>
                      <a:pt x="9390" y="4701"/>
                    </a:moveTo>
                    <a:lnTo>
                      <a:pt x="9423" y="4701"/>
                    </a:lnTo>
                    <a:lnTo>
                      <a:pt x="9466" y="4711"/>
                    </a:lnTo>
                    <a:lnTo>
                      <a:pt x="9451" y="4748"/>
                    </a:lnTo>
                    <a:lnTo>
                      <a:pt x="9418" y="4739"/>
                    </a:lnTo>
                    <a:lnTo>
                      <a:pt x="9390" y="4739"/>
                    </a:lnTo>
                    <a:lnTo>
                      <a:pt x="9390" y="4701"/>
                    </a:lnTo>
                    <a:close/>
                    <a:moveTo>
                      <a:pt x="9466" y="4711"/>
                    </a:moveTo>
                    <a:lnTo>
                      <a:pt x="9494" y="4720"/>
                    </a:lnTo>
                    <a:lnTo>
                      <a:pt x="9522" y="4739"/>
                    </a:lnTo>
                    <a:lnTo>
                      <a:pt x="9499" y="4772"/>
                    </a:lnTo>
                    <a:lnTo>
                      <a:pt x="9475" y="4758"/>
                    </a:lnTo>
                    <a:lnTo>
                      <a:pt x="9451" y="4748"/>
                    </a:lnTo>
                    <a:lnTo>
                      <a:pt x="9466" y="4711"/>
                    </a:lnTo>
                    <a:close/>
                    <a:moveTo>
                      <a:pt x="9522" y="4739"/>
                    </a:moveTo>
                    <a:lnTo>
                      <a:pt x="9551" y="4758"/>
                    </a:lnTo>
                    <a:lnTo>
                      <a:pt x="9584" y="4782"/>
                    </a:lnTo>
                    <a:lnTo>
                      <a:pt x="9565" y="4815"/>
                    </a:lnTo>
                    <a:lnTo>
                      <a:pt x="9527" y="4791"/>
                    </a:lnTo>
                    <a:lnTo>
                      <a:pt x="9499" y="4772"/>
                    </a:lnTo>
                    <a:lnTo>
                      <a:pt x="9522" y="4739"/>
                    </a:lnTo>
                    <a:close/>
                    <a:moveTo>
                      <a:pt x="9584" y="4782"/>
                    </a:moveTo>
                    <a:lnTo>
                      <a:pt x="9617" y="4805"/>
                    </a:lnTo>
                    <a:lnTo>
                      <a:pt x="9650" y="4824"/>
                    </a:lnTo>
                    <a:lnTo>
                      <a:pt x="9678" y="4848"/>
                    </a:lnTo>
                    <a:lnTo>
                      <a:pt x="9692" y="4871"/>
                    </a:lnTo>
                    <a:lnTo>
                      <a:pt x="9659" y="4890"/>
                    </a:lnTo>
                    <a:lnTo>
                      <a:pt x="9645" y="4871"/>
                    </a:lnTo>
                    <a:lnTo>
                      <a:pt x="9621" y="4852"/>
                    </a:lnTo>
                    <a:lnTo>
                      <a:pt x="9593" y="4833"/>
                    </a:lnTo>
                    <a:lnTo>
                      <a:pt x="9565" y="4815"/>
                    </a:lnTo>
                    <a:lnTo>
                      <a:pt x="9584" y="4782"/>
                    </a:lnTo>
                    <a:close/>
                    <a:moveTo>
                      <a:pt x="9692" y="4871"/>
                    </a:moveTo>
                    <a:lnTo>
                      <a:pt x="9716" y="4890"/>
                    </a:lnTo>
                    <a:lnTo>
                      <a:pt x="9744" y="4914"/>
                    </a:lnTo>
                    <a:lnTo>
                      <a:pt x="9772" y="4923"/>
                    </a:lnTo>
                    <a:lnTo>
                      <a:pt x="9787" y="4933"/>
                    </a:lnTo>
                    <a:lnTo>
                      <a:pt x="9772" y="4966"/>
                    </a:lnTo>
                    <a:lnTo>
                      <a:pt x="9758" y="4961"/>
                    </a:lnTo>
                    <a:lnTo>
                      <a:pt x="9725" y="4942"/>
                    </a:lnTo>
                    <a:lnTo>
                      <a:pt x="9706" y="4933"/>
                    </a:lnTo>
                    <a:lnTo>
                      <a:pt x="9687" y="4918"/>
                    </a:lnTo>
                    <a:lnTo>
                      <a:pt x="9673" y="4904"/>
                    </a:lnTo>
                    <a:lnTo>
                      <a:pt x="9659" y="4890"/>
                    </a:lnTo>
                    <a:lnTo>
                      <a:pt x="9692" y="4871"/>
                    </a:lnTo>
                    <a:close/>
                    <a:moveTo>
                      <a:pt x="9772" y="4966"/>
                    </a:moveTo>
                    <a:lnTo>
                      <a:pt x="9772" y="4966"/>
                    </a:lnTo>
                    <a:lnTo>
                      <a:pt x="9777" y="4947"/>
                    </a:lnTo>
                    <a:lnTo>
                      <a:pt x="9772" y="4966"/>
                    </a:lnTo>
                    <a:close/>
                    <a:moveTo>
                      <a:pt x="9782" y="4928"/>
                    </a:moveTo>
                    <a:lnTo>
                      <a:pt x="9843" y="4947"/>
                    </a:lnTo>
                    <a:lnTo>
                      <a:pt x="9905" y="4961"/>
                    </a:lnTo>
                    <a:lnTo>
                      <a:pt x="9942" y="4961"/>
                    </a:lnTo>
                    <a:lnTo>
                      <a:pt x="9942" y="4970"/>
                    </a:lnTo>
                    <a:lnTo>
                      <a:pt x="9933" y="4975"/>
                    </a:lnTo>
                    <a:lnTo>
                      <a:pt x="9928" y="4980"/>
                    </a:lnTo>
                    <a:lnTo>
                      <a:pt x="9914" y="4984"/>
                    </a:lnTo>
                    <a:lnTo>
                      <a:pt x="9890" y="4989"/>
                    </a:lnTo>
                    <a:lnTo>
                      <a:pt x="9857" y="4984"/>
                    </a:lnTo>
                    <a:lnTo>
                      <a:pt x="9801" y="4975"/>
                    </a:lnTo>
                    <a:lnTo>
                      <a:pt x="9772" y="4966"/>
                    </a:lnTo>
                    <a:lnTo>
                      <a:pt x="9782" y="4928"/>
                    </a:lnTo>
                    <a:close/>
                    <a:moveTo>
                      <a:pt x="9905" y="4961"/>
                    </a:moveTo>
                    <a:lnTo>
                      <a:pt x="9905" y="4918"/>
                    </a:lnTo>
                    <a:lnTo>
                      <a:pt x="9909" y="4862"/>
                    </a:lnTo>
                    <a:lnTo>
                      <a:pt x="9914" y="4838"/>
                    </a:lnTo>
                    <a:lnTo>
                      <a:pt x="9924" y="4815"/>
                    </a:lnTo>
                    <a:lnTo>
                      <a:pt x="9928" y="4810"/>
                    </a:lnTo>
                    <a:lnTo>
                      <a:pt x="9938" y="4805"/>
                    </a:lnTo>
                    <a:lnTo>
                      <a:pt x="9942" y="4800"/>
                    </a:lnTo>
                    <a:lnTo>
                      <a:pt x="9952" y="4800"/>
                    </a:lnTo>
                    <a:lnTo>
                      <a:pt x="9947" y="4838"/>
                    </a:lnTo>
                    <a:lnTo>
                      <a:pt x="9942" y="4890"/>
                    </a:lnTo>
                    <a:lnTo>
                      <a:pt x="9942" y="4961"/>
                    </a:lnTo>
                    <a:lnTo>
                      <a:pt x="9905" y="4961"/>
                    </a:lnTo>
                    <a:close/>
                    <a:moveTo>
                      <a:pt x="9952" y="4800"/>
                    </a:moveTo>
                    <a:lnTo>
                      <a:pt x="9990" y="4800"/>
                    </a:lnTo>
                    <a:lnTo>
                      <a:pt x="10046" y="4800"/>
                    </a:lnTo>
                    <a:lnTo>
                      <a:pt x="10098" y="4796"/>
                    </a:lnTo>
                    <a:lnTo>
                      <a:pt x="10117" y="4796"/>
                    </a:lnTo>
                    <a:lnTo>
                      <a:pt x="10122" y="4833"/>
                    </a:lnTo>
                    <a:lnTo>
                      <a:pt x="10098" y="4838"/>
                    </a:lnTo>
                    <a:lnTo>
                      <a:pt x="10046" y="4838"/>
                    </a:lnTo>
                    <a:lnTo>
                      <a:pt x="9985" y="4843"/>
                    </a:lnTo>
                    <a:lnTo>
                      <a:pt x="9947" y="4838"/>
                    </a:lnTo>
                    <a:lnTo>
                      <a:pt x="9952" y="4800"/>
                    </a:lnTo>
                    <a:close/>
                    <a:moveTo>
                      <a:pt x="10141" y="4810"/>
                    </a:moveTo>
                    <a:lnTo>
                      <a:pt x="10145" y="4833"/>
                    </a:lnTo>
                    <a:lnTo>
                      <a:pt x="10122" y="4833"/>
                    </a:lnTo>
                    <a:lnTo>
                      <a:pt x="10122" y="4815"/>
                    </a:lnTo>
                    <a:lnTo>
                      <a:pt x="10141" y="4810"/>
                    </a:lnTo>
                    <a:close/>
                    <a:moveTo>
                      <a:pt x="10103" y="4819"/>
                    </a:moveTo>
                    <a:lnTo>
                      <a:pt x="10093" y="4782"/>
                    </a:lnTo>
                    <a:lnTo>
                      <a:pt x="10079" y="4697"/>
                    </a:lnTo>
                    <a:lnTo>
                      <a:pt x="10065" y="4607"/>
                    </a:lnTo>
                    <a:lnTo>
                      <a:pt x="10056" y="4555"/>
                    </a:lnTo>
                    <a:lnTo>
                      <a:pt x="10098" y="4555"/>
                    </a:lnTo>
                    <a:lnTo>
                      <a:pt x="10103" y="4602"/>
                    </a:lnTo>
                    <a:lnTo>
                      <a:pt x="10117" y="4692"/>
                    </a:lnTo>
                    <a:lnTo>
                      <a:pt x="10131" y="4772"/>
                    </a:lnTo>
                    <a:lnTo>
                      <a:pt x="10141" y="4810"/>
                    </a:lnTo>
                    <a:lnTo>
                      <a:pt x="10103" y="4819"/>
                    </a:lnTo>
                    <a:close/>
                    <a:moveTo>
                      <a:pt x="10056" y="4555"/>
                    </a:moveTo>
                    <a:lnTo>
                      <a:pt x="10056" y="4546"/>
                    </a:lnTo>
                    <a:lnTo>
                      <a:pt x="10056" y="4541"/>
                    </a:lnTo>
                    <a:lnTo>
                      <a:pt x="10098" y="4541"/>
                    </a:lnTo>
                    <a:lnTo>
                      <a:pt x="10098" y="4546"/>
                    </a:lnTo>
                    <a:lnTo>
                      <a:pt x="10098" y="4555"/>
                    </a:lnTo>
                    <a:lnTo>
                      <a:pt x="10056" y="4555"/>
                    </a:lnTo>
                    <a:close/>
                    <a:moveTo>
                      <a:pt x="10056" y="4541"/>
                    </a:moveTo>
                    <a:lnTo>
                      <a:pt x="10056" y="4512"/>
                    </a:lnTo>
                    <a:lnTo>
                      <a:pt x="10060" y="4484"/>
                    </a:lnTo>
                    <a:lnTo>
                      <a:pt x="10065" y="4465"/>
                    </a:lnTo>
                    <a:lnTo>
                      <a:pt x="10070" y="4451"/>
                    </a:lnTo>
                    <a:lnTo>
                      <a:pt x="10075" y="4437"/>
                    </a:lnTo>
                    <a:lnTo>
                      <a:pt x="10084" y="4428"/>
                    </a:lnTo>
                    <a:lnTo>
                      <a:pt x="10112" y="4456"/>
                    </a:lnTo>
                    <a:lnTo>
                      <a:pt x="10103" y="4470"/>
                    </a:lnTo>
                    <a:lnTo>
                      <a:pt x="10098" y="4494"/>
                    </a:lnTo>
                    <a:lnTo>
                      <a:pt x="10098" y="4517"/>
                    </a:lnTo>
                    <a:lnTo>
                      <a:pt x="10098" y="4541"/>
                    </a:lnTo>
                    <a:lnTo>
                      <a:pt x="10056" y="4541"/>
                    </a:lnTo>
                    <a:close/>
                    <a:moveTo>
                      <a:pt x="10084" y="4428"/>
                    </a:moveTo>
                    <a:lnTo>
                      <a:pt x="10084" y="4428"/>
                    </a:lnTo>
                    <a:lnTo>
                      <a:pt x="10098" y="4442"/>
                    </a:lnTo>
                    <a:lnTo>
                      <a:pt x="10084" y="4428"/>
                    </a:lnTo>
                    <a:close/>
                    <a:moveTo>
                      <a:pt x="10084" y="4428"/>
                    </a:moveTo>
                    <a:lnTo>
                      <a:pt x="10103" y="4413"/>
                    </a:lnTo>
                    <a:lnTo>
                      <a:pt x="10122" y="4404"/>
                    </a:lnTo>
                    <a:lnTo>
                      <a:pt x="10145" y="4394"/>
                    </a:lnTo>
                    <a:lnTo>
                      <a:pt x="10174" y="4390"/>
                    </a:lnTo>
                    <a:lnTo>
                      <a:pt x="10221" y="4376"/>
                    </a:lnTo>
                    <a:lnTo>
                      <a:pt x="10240" y="4376"/>
                    </a:lnTo>
                    <a:lnTo>
                      <a:pt x="10245" y="4413"/>
                    </a:lnTo>
                    <a:lnTo>
                      <a:pt x="10230" y="4413"/>
                    </a:lnTo>
                    <a:lnTo>
                      <a:pt x="10188" y="4423"/>
                    </a:lnTo>
                    <a:lnTo>
                      <a:pt x="10145" y="4437"/>
                    </a:lnTo>
                    <a:lnTo>
                      <a:pt x="10112" y="4456"/>
                    </a:lnTo>
                    <a:lnTo>
                      <a:pt x="10084" y="4428"/>
                    </a:lnTo>
                    <a:close/>
                    <a:moveTo>
                      <a:pt x="10240" y="4376"/>
                    </a:moveTo>
                    <a:lnTo>
                      <a:pt x="10249" y="4371"/>
                    </a:lnTo>
                    <a:lnTo>
                      <a:pt x="10254" y="4376"/>
                    </a:lnTo>
                    <a:lnTo>
                      <a:pt x="10245" y="4394"/>
                    </a:lnTo>
                    <a:lnTo>
                      <a:pt x="10240" y="4376"/>
                    </a:lnTo>
                    <a:close/>
                    <a:moveTo>
                      <a:pt x="10254" y="4376"/>
                    </a:moveTo>
                    <a:lnTo>
                      <a:pt x="10287" y="4404"/>
                    </a:lnTo>
                    <a:lnTo>
                      <a:pt x="10339" y="4446"/>
                    </a:lnTo>
                    <a:lnTo>
                      <a:pt x="10315" y="4479"/>
                    </a:lnTo>
                    <a:lnTo>
                      <a:pt x="10263" y="4432"/>
                    </a:lnTo>
                    <a:lnTo>
                      <a:pt x="10230" y="4409"/>
                    </a:lnTo>
                    <a:lnTo>
                      <a:pt x="10254" y="4376"/>
                    </a:lnTo>
                    <a:close/>
                    <a:moveTo>
                      <a:pt x="10339" y="4446"/>
                    </a:moveTo>
                    <a:lnTo>
                      <a:pt x="10358" y="4446"/>
                    </a:lnTo>
                    <a:lnTo>
                      <a:pt x="10381" y="4437"/>
                    </a:lnTo>
                    <a:lnTo>
                      <a:pt x="10400" y="4428"/>
                    </a:lnTo>
                    <a:lnTo>
                      <a:pt x="10410" y="4418"/>
                    </a:lnTo>
                    <a:lnTo>
                      <a:pt x="10433" y="4451"/>
                    </a:lnTo>
                    <a:lnTo>
                      <a:pt x="10419" y="4461"/>
                    </a:lnTo>
                    <a:lnTo>
                      <a:pt x="10386" y="4475"/>
                    </a:lnTo>
                    <a:lnTo>
                      <a:pt x="10372" y="4484"/>
                    </a:lnTo>
                    <a:lnTo>
                      <a:pt x="10353" y="4484"/>
                    </a:lnTo>
                    <a:lnTo>
                      <a:pt x="10334" y="4484"/>
                    </a:lnTo>
                    <a:lnTo>
                      <a:pt x="10315" y="4479"/>
                    </a:lnTo>
                    <a:lnTo>
                      <a:pt x="10339" y="4446"/>
                    </a:lnTo>
                    <a:close/>
                    <a:moveTo>
                      <a:pt x="10410" y="4418"/>
                    </a:moveTo>
                    <a:lnTo>
                      <a:pt x="10415" y="4413"/>
                    </a:lnTo>
                    <a:lnTo>
                      <a:pt x="10424" y="4418"/>
                    </a:lnTo>
                    <a:lnTo>
                      <a:pt x="10419" y="4437"/>
                    </a:lnTo>
                    <a:lnTo>
                      <a:pt x="10410" y="4418"/>
                    </a:lnTo>
                    <a:close/>
                    <a:moveTo>
                      <a:pt x="10424" y="4418"/>
                    </a:moveTo>
                    <a:lnTo>
                      <a:pt x="10448" y="4423"/>
                    </a:lnTo>
                    <a:lnTo>
                      <a:pt x="10471" y="4423"/>
                    </a:lnTo>
                    <a:lnTo>
                      <a:pt x="10509" y="4418"/>
                    </a:lnTo>
                    <a:lnTo>
                      <a:pt x="10509" y="4428"/>
                    </a:lnTo>
                    <a:lnTo>
                      <a:pt x="10509" y="4437"/>
                    </a:lnTo>
                    <a:lnTo>
                      <a:pt x="10504" y="4442"/>
                    </a:lnTo>
                    <a:lnTo>
                      <a:pt x="10500" y="4446"/>
                    </a:lnTo>
                    <a:lnTo>
                      <a:pt x="10485" y="4456"/>
                    </a:lnTo>
                    <a:lnTo>
                      <a:pt x="10466" y="4456"/>
                    </a:lnTo>
                    <a:lnTo>
                      <a:pt x="10433" y="4456"/>
                    </a:lnTo>
                    <a:lnTo>
                      <a:pt x="10415" y="4456"/>
                    </a:lnTo>
                    <a:lnTo>
                      <a:pt x="10424" y="4418"/>
                    </a:lnTo>
                    <a:close/>
                    <a:moveTo>
                      <a:pt x="10471" y="4423"/>
                    </a:moveTo>
                    <a:lnTo>
                      <a:pt x="10466" y="4409"/>
                    </a:lnTo>
                    <a:lnTo>
                      <a:pt x="10462" y="4390"/>
                    </a:lnTo>
                    <a:lnTo>
                      <a:pt x="10504" y="4385"/>
                    </a:lnTo>
                    <a:lnTo>
                      <a:pt x="10504" y="4404"/>
                    </a:lnTo>
                    <a:lnTo>
                      <a:pt x="10509" y="4418"/>
                    </a:lnTo>
                    <a:lnTo>
                      <a:pt x="10471" y="4423"/>
                    </a:lnTo>
                    <a:close/>
                    <a:moveTo>
                      <a:pt x="10462" y="4390"/>
                    </a:moveTo>
                    <a:lnTo>
                      <a:pt x="10452" y="4324"/>
                    </a:lnTo>
                    <a:lnTo>
                      <a:pt x="10448" y="4267"/>
                    </a:lnTo>
                    <a:lnTo>
                      <a:pt x="10485" y="4272"/>
                    </a:lnTo>
                    <a:lnTo>
                      <a:pt x="10490" y="4324"/>
                    </a:lnTo>
                    <a:lnTo>
                      <a:pt x="10504" y="4385"/>
                    </a:lnTo>
                    <a:lnTo>
                      <a:pt x="10462" y="4390"/>
                    </a:lnTo>
                    <a:close/>
                    <a:moveTo>
                      <a:pt x="10448" y="4267"/>
                    </a:moveTo>
                    <a:lnTo>
                      <a:pt x="10462" y="4234"/>
                    </a:lnTo>
                    <a:lnTo>
                      <a:pt x="10485" y="4192"/>
                    </a:lnTo>
                    <a:lnTo>
                      <a:pt x="10504" y="4159"/>
                    </a:lnTo>
                    <a:lnTo>
                      <a:pt x="10518" y="4144"/>
                    </a:lnTo>
                    <a:lnTo>
                      <a:pt x="10547" y="4168"/>
                    </a:lnTo>
                    <a:lnTo>
                      <a:pt x="10518" y="4210"/>
                    </a:lnTo>
                    <a:lnTo>
                      <a:pt x="10485" y="4272"/>
                    </a:lnTo>
                    <a:lnTo>
                      <a:pt x="10448" y="4267"/>
                    </a:lnTo>
                    <a:close/>
                    <a:moveTo>
                      <a:pt x="10547" y="4144"/>
                    </a:moveTo>
                    <a:lnTo>
                      <a:pt x="10556" y="4159"/>
                    </a:lnTo>
                    <a:lnTo>
                      <a:pt x="10547" y="4168"/>
                    </a:lnTo>
                    <a:lnTo>
                      <a:pt x="10533" y="4159"/>
                    </a:lnTo>
                    <a:lnTo>
                      <a:pt x="10547" y="4144"/>
                    </a:lnTo>
                    <a:close/>
                    <a:moveTo>
                      <a:pt x="10518" y="4168"/>
                    </a:moveTo>
                    <a:lnTo>
                      <a:pt x="10509" y="4159"/>
                    </a:lnTo>
                    <a:lnTo>
                      <a:pt x="10495" y="4130"/>
                    </a:lnTo>
                    <a:lnTo>
                      <a:pt x="10485" y="4111"/>
                    </a:lnTo>
                    <a:lnTo>
                      <a:pt x="10485" y="4088"/>
                    </a:lnTo>
                    <a:lnTo>
                      <a:pt x="10485" y="4069"/>
                    </a:lnTo>
                    <a:lnTo>
                      <a:pt x="10495" y="4050"/>
                    </a:lnTo>
                    <a:lnTo>
                      <a:pt x="10528" y="4074"/>
                    </a:lnTo>
                    <a:lnTo>
                      <a:pt x="10523" y="4083"/>
                    </a:lnTo>
                    <a:lnTo>
                      <a:pt x="10523" y="4092"/>
                    </a:lnTo>
                    <a:lnTo>
                      <a:pt x="10523" y="4107"/>
                    </a:lnTo>
                    <a:lnTo>
                      <a:pt x="10533" y="4116"/>
                    </a:lnTo>
                    <a:lnTo>
                      <a:pt x="10542" y="4135"/>
                    </a:lnTo>
                    <a:lnTo>
                      <a:pt x="10547" y="4144"/>
                    </a:lnTo>
                    <a:lnTo>
                      <a:pt x="10518" y="4168"/>
                    </a:lnTo>
                    <a:close/>
                    <a:moveTo>
                      <a:pt x="10495" y="4050"/>
                    </a:moveTo>
                    <a:lnTo>
                      <a:pt x="10542" y="3989"/>
                    </a:lnTo>
                    <a:lnTo>
                      <a:pt x="10570" y="3956"/>
                    </a:lnTo>
                    <a:lnTo>
                      <a:pt x="10599" y="3984"/>
                    </a:lnTo>
                    <a:lnTo>
                      <a:pt x="10575" y="4017"/>
                    </a:lnTo>
                    <a:lnTo>
                      <a:pt x="10528" y="4074"/>
                    </a:lnTo>
                    <a:lnTo>
                      <a:pt x="10495" y="4050"/>
                    </a:lnTo>
                    <a:close/>
                    <a:moveTo>
                      <a:pt x="10570" y="3956"/>
                    </a:moveTo>
                    <a:lnTo>
                      <a:pt x="10570" y="3956"/>
                    </a:lnTo>
                    <a:lnTo>
                      <a:pt x="10575" y="3956"/>
                    </a:lnTo>
                    <a:lnTo>
                      <a:pt x="10584" y="3970"/>
                    </a:lnTo>
                    <a:lnTo>
                      <a:pt x="10570" y="3956"/>
                    </a:lnTo>
                    <a:close/>
                    <a:moveTo>
                      <a:pt x="10575" y="3956"/>
                    </a:moveTo>
                    <a:lnTo>
                      <a:pt x="10924" y="3729"/>
                    </a:lnTo>
                    <a:lnTo>
                      <a:pt x="10943" y="3762"/>
                    </a:lnTo>
                    <a:lnTo>
                      <a:pt x="10594" y="3989"/>
                    </a:lnTo>
                    <a:lnTo>
                      <a:pt x="10575" y="3956"/>
                    </a:lnTo>
                    <a:close/>
                    <a:moveTo>
                      <a:pt x="10924" y="3729"/>
                    </a:moveTo>
                    <a:lnTo>
                      <a:pt x="10929" y="3724"/>
                    </a:lnTo>
                    <a:lnTo>
                      <a:pt x="10939" y="3729"/>
                    </a:lnTo>
                    <a:lnTo>
                      <a:pt x="10934" y="3748"/>
                    </a:lnTo>
                    <a:lnTo>
                      <a:pt x="10924" y="3729"/>
                    </a:lnTo>
                    <a:close/>
                    <a:moveTo>
                      <a:pt x="10939" y="3729"/>
                    </a:moveTo>
                    <a:lnTo>
                      <a:pt x="11368" y="3880"/>
                    </a:lnTo>
                    <a:lnTo>
                      <a:pt x="11354" y="3918"/>
                    </a:lnTo>
                    <a:lnTo>
                      <a:pt x="10924" y="3762"/>
                    </a:lnTo>
                    <a:lnTo>
                      <a:pt x="10939" y="3729"/>
                    </a:lnTo>
                    <a:close/>
                    <a:moveTo>
                      <a:pt x="11373" y="3918"/>
                    </a:moveTo>
                    <a:lnTo>
                      <a:pt x="11363" y="3923"/>
                    </a:lnTo>
                    <a:lnTo>
                      <a:pt x="11354" y="3918"/>
                    </a:lnTo>
                    <a:lnTo>
                      <a:pt x="11359" y="3899"/>
                    </a:lnTo>
                    <a:lnTo>
                      <a:pt x="11373" y="3918"/>
                    </a:lnTo>
                    <a:close/>
                    <a:moveTo>
                      <a:pt x="11349" y="3885"/>
                    </a:moveTo>
                    <a:lnTo>
                      <a:pt x="11458" y="3819"/>
                    </a:lnTo>
                    <a:lnTo>
                      <a:pt x="11477" y="3852"/>
                    </a:lnTo>
                    <a:lnTo>
                      <a:pt x="11373" y="3918"/>
                    </a:lnTo>
                    <a:lnTo>
                      <a:pt x="11349" y="3885"/>
                    </a:lnTo>
                    <a:close/>
                    <a:moveTo>
                      <a:pt x="11486" y="3838"/>
                    </a:moveTo>
                    <a:lnTo>
                      <a:pt x="11486" y="3847"/>
                    </a:lnTo>
                    <a:lnTo>
                      <a:pt x="11477" y="3852"/>
                    </a:lnTo>
                    <a:lnTo>
                      <a:pt x="11467" y="3838"/>
                    </a:lnTo>
                    <a:lnTo>
                      <a:pt x="11486" y="3838"/>
                    </a:lnTo>
                    <a:close/>
                    <a:moveTo>
                      <a:pt x="11448" y="3838"/>
                    </a:moveTo>
                    <a:lnTo>
                      <a:pt x="11467" y="3488"/>
                    </a:lnTo>
                    <a:lnTo>
                      <a:pt x="11510" y="3488"/>
                    </a:lnTo>
                    <a:lnTo>
                      <a:pt x="11486" y="3838"/>
                    </a:lnTo>
                    <a:lnTo>
                      <a:pt x="11448" y="3838"/>
                    </a:lnTo>
                    <a:close/>
                    <a:moveTo>
                      <a:pt x="11467" y="3488"/>
                    </a:moveTo>
                    <a:lnTo>
                      <a:pt x="11472" y="3474"/>
                    </a:lnTo>
                    <a:lnTo>
                      <a:pt x="11482" y="3469"/>
                    </a:lnTo>
                    <a:lnTo>
                      <a:pt x="11491" y="3488"/>
                    </a:lnTo>
                    <a:lnTo>
                      <a:pt x="11467" y="3488"/>
                    </a:lnTo>
                    <a:close/>
                    <a:moveTo>
                      <a:pt x="11482" y="3469"/>
                    </a:moveTo>
                    <a:lnTo>
                      <a:pt x="12176" y="3205"/>
                    </a:lnTo>
                    <a:lnTo>
                      <a:pt x="12190" y="3238"/>
                    </a:lnTo>
                    <a:lnTo>
                      <a:pt x="11496" y="3507"/>
                    </a:lnTo>
                    <a:lnTo>
                      <a:pt x="11482" y="3469"/>
                    </a:lnTo>
                    <a:close/>
                    <a:moveTo>
                      <a:pt x="12176" y="3205"/>
                    </a:moveTo>
                    <a:lnTo>
                      <a:pt x="12180" y="3205"/>
                    </a:lnTo>
                    <a:lnTo>
                      <a:pt x="12180" y="3200"/>
                    </a:lnTo>
                    <a:lnTo>
                      <a:pt x="12185" y="3224"/>
                    </a:lnTo>
                    <a:lnTo>
                      <a:pt x="12176" y="3205"/>
                    </a:lnTo>
                    <a:close/>
                    <a:moveTo>
                      <a:pt x="12180" y="3200"/>
                    </a:moveTo>
                    <a:lnTo>
                      <a:pt x="12388" y="3177"/>
                    </a:lnTo>
                    <a:lnTo>
                      <a:pt x="12397" y="3215"/>
                    </a:lnTo>
                    <a:lnTo>
                      <a:pt x="12185" y="3243"/>
                    </a:lnTo>
                    <a:lnTo>
                      <a:pt x="12180" y="3200"/>
                    </a:lnTo>
                    <a:close/>
                    <a:moveTo>
                      <a:pt x="12402" y="3210"/>
                    </a:moveTo>
                    <a:lnTo>
                      <a:pt x="12402" y="3215"/>
                    </a:lnTo>
                    <a:lnTo>
                      <a:pt x="12397" y="3215"/>
                    </a:lnTo>
                    <a:lnTo>
                      <a:pt x="12393" y="3196"/>
                    </a:lnTo>
                    <a:lnTo>
                      <a:pt x="12402" y="3210"/>
                    </a:lnTo>
                    <a:close/>
                    <a:moveTo>
                      <a:pt x="12383" y="3181"/>
                    </a:moveTo>
                    <a:lnTo>
                      <a:pt x="12813" y="2865"/>
                    </a:lnTo>
                    <a:lnTo>
                      <a:pt x="12836" y="2894"/>
                    </a:lnTo>
                    <a:lnTo>
                      <a:pt x="12402" y="3210"/>
                    </a:lnTo>
                    <a:lnTo>
                      <a:pt x="12383" y="3181"/>
                    </a:lnTo>
                    <a:close/>
                    <a:moveTo>
                      <a:pt x="12813" y="2865"/>
                    </a:moveTo>
                    <a:lnTo>
                      <a:pt x="12818" y="2861"/>
                    </a:lnTo>
                    <a:lnTo>
                      <a:pt x="12827" y="2861"/>
                    </a:lnTo>
                    <a:lnTo>
                      <a:pt x="12827" y="2879"/>
                    </a:lnTo>
                    <a:lnTo>
                      <a:pt x="12813" y="2865"/>
                    </a:lnTo>
                    <a:close/>
                    <a:moveTo>
                      <a:pt x="12827" y="2861"/>
                    </a:moveTo>
                    <a:lnTo>
                      <a:pt x="13129" y="2875"/>
                    </a:lnTo>
                    <a:lnTo>
                      <a:pt x="13129" y="2917"/>
                    </a:lnTo>
                    <a:lnTo>
                      <a:pt x="12827" y="2898"/>
                    </a:lnTo>
                    <a:lnTo>
                      <a:pt x="12827" y="2861"/>
                    </a:lnTo>
                    <a:close/>
                    <a:moveTo>
                      <a:pt x="13129" y="2875"/>
                    </a:moveTo>
                    <a:lnTo>
                      <a:pt x="13148" y="2879"/>
                    </a:lnTo>
                    <a:lnTo>
                      <a:pt x="13148" y="2894"/>
                    </a:lnTo>
                    <a:lnTo>
                      <a:pt x="13129" y="2898"/>
                    </a:lnTo>
                    <a:lnTo>
                      <a:pt x="13129" y="2875"/>
                    </a:lnTo>
                    <a:close/>
                    <a:moveTo>
                      <a:pt x="13148" y="2894"/>
                    </a:moveTo>
                    <a:lnTo>
                      <a:pt x="13158" y="2922"/>
                    </a:lnTo>
                    <a:lnTo>
                      <a:pt x="13172" y="2950"/>
                    </a:lnTo>
                    <a:lnTo>
                      <a:pt x="13186" y="2988"/>
                    </a:lnTo>
                    <a:lnTo>
                      <a:pt x="13167" y="2993"/>
                    </a:lnTo>
                    <a:lnTo>
                      <a:pt x="13153" y="2983"/>
                    </a:lnTo>
                    <a:lnTo>
                      <a:pt x="13139" y="2969"/>
                    </a:lnTo>
                    <a:lnTo>
                      <a:pt x="13129" y="2950"/>
                    </a:lnTo>
                    <a:lnTo>
                      <a:pt x="13115" y="2917"/>
                    </a:lnTo>
                    <a:lnTo>
                      <a:pt x="13110" y="2898"/>
                    </a:lnTo>
                    <a:lnTo>
                      <a:pt x="13148" y="2894"/>
                    </a:lnTo>
                    <a:close/>
                    <a:moveTo>
                      <a:pt x="13172" y="2950"/>
                    </a:moveTo>
                    <a:lnTo>
                      <a:pt x="13224" y="2941"/>
                    </a:lnTo>
                    <a:lnTo>
                      <a:pt x="13299" y="2927"/>
                    </a:lnTo>
                    <a:lnTo>
                      <a:pt x="13375" y="2912"/>
                    </a:lnTo>
                    <a:lnTo>
                      <a:pt x="13403" y="2908"/>
                    </a:lnTo>
                    <a:lnTo>
                      <a:pt x="13412" y="2946"/>
                    </a:lnTo>
                    <a:lnTo>
                      <a:pt x="13379" y="2955"/>
                    </a:lnTo>
                    <a:lnTo>
                      <a:pt x="13309" y="2964"/>
                    </a:lnTo>
                    <a:lnTo>
                      <a:pt x="13233" y="2979"/>
                    </a:lnTo>
                    <a:lnTo>
                      <a:pt x="13186" y="2988"/>
                    </a:lnTo>
                    <a:lnTo>
                      <a:pt x="13172" y="2950"/>
                    </a:lnTo>
                    <a:close/>
                    <a:moveTo>
                      <a:pt x="13403" y="2908"/>
                    </a:moveTo>
                    <a:lnTo>
                      <a:pt x="13412" y="2908"/>
                    </a:lnTo>
                    <a:lnTo>
                      <a:pt x="13417" y="2908"/>
                    </a:lnTo>
                    <a:lnTo>
                      <a:pt x="13408" y="2927"/>
                    </a:lnTo>
                    <a:lnTo>
                      <a:pt x="13403" y="2908"/>
                    </a:lnTo>
                    <a:close/>
                    <a:moveTo>
                      <a:pt x="13417" y="2908"/>
                    </a:moveTo>
                    <a:lnTo>
                      <a:pt x="13700" y="3012"/>
                    </a:lnTo>
                    <a:lnTo>
                      <a:pt x="13686" y="3049"/>
                    </a:lnTo>
                    <a:lnTo>
                      <a:pt x="13403" y="2946"/>
                    </a:lnTo>
                    <a:lnTo>
                      <a:pt x="13417" y="2908"/>
                    </a:lnTo>
                    <a:close/>
                    <a:moveTo>
                      <a:pt x="13691" y="3049"/>
                    </a:moveTo>
                    <a:lnTo>
                      <a:pt x="13686" y="3049"/>
                    </a:lnTo>
                    <a:lnTo>
                      <a:pt x="13691" y="3030"/>
                    </a:lnTo>
                    <a:lnTo>
                      <a:pt x="13691" y="3049"/>
                    </a:lnTo>
                    <a:close/>
                    <a:moveTo>
                      <a:pt x="13691" y="3012"/>
                    </a:moveTo>
                    <a:lnTo>
                      <a:pt x="13771" y="3012"/>
                    </a:lnTo>
                    <a:lnTo>
                      <a:pt x="13771" y="3049"/>
                    </a:lnTo>
                    <a:lnTo>
                      <a:pt x="13691" y="3049"/>
                    </a:lnTo>
                    <a:lnTo>
                      <a:pt x="13691" y="3012"/>
                    </a:lnTo>
                    <a:close/>
                    <a:moveTo>
                      <a:pt x="13781" y="3049"/>
                    </a:moveTo>
                    <a:lnTo>
                      <a:pt x="13776" y="3049"/>
                    </a:lnTo>
                    <a:lnTo>
                      <a:pt x="13771" y="3049"/>
                    </a:lnTo>
                    <a:lnTo>
                      <a:pt x="13771" y="3030"/>
                    </a:lnTo>
                    <a:lnTo>
                      <a:pt x="13781" y="3049"/>
                    </a:lnTo>
                    <a:close/>
                    <a:moveTo>
                      <a:pt x="13767" y="3012"/>
                    </a:moveTo>
                    <a:lnTo>
                      <a:pt x="13875" y="2969"/>
                    </a:lnTo>
                    <a:lnTo>
                      <a:pt x="13889" y="3007"/>
                    </a:lnTo>
                    <a:lnTo>
                      <a:pt x="13781" y="3049"/>
                    </a:lnTo>
                    <a:lnTo>
                      <a:pt x="13767" y="3012"/>
                    </a:lnTo>
                    <a:close/>
                    <a:moveTo>
                      <a:pt x="13875" y="2969"/>
                    </a:moveTo>
                    <a:lnTo>
                      <a:pt x="13885" y="2964"/>
                    </a:lnTo>
                    <a:lnTo>
                      <a:pt x="13889" y="2969"/>
                    </a:lnTo>
                    <a:lnTo>
                      <a:pt x="13885" y="2988"/>
                    </a:lnTo>
                    <a:lnTo>
                      <a:pt x="13875" y="2969"/>
                    </a:lnTo>
                    <a:close/>
                    <a:moveTo>
                      <a:pt x="13889" y="2969"/>
                    </a:moveTo>
                    <a:lnTo>
                      <a:pt x="14031" y="3016"/>
                    </a:lnTo>
                    <a:lnTo>
                      <a:pt x="14017" y="3054"/>
                    </a:lnTo>
                    <a:lnTo>
                      <a:pt x="13880" y="3007"/>
                    </a:lnTo>
                    <a:lnTo>
                      <a:pt x="13889" y="2969"/>
                    </a:lnTo>
                    <a:close/>
                    <a:moveTo>
                      <a:pt x="13875" y="3021"/>
                    </a:moveTo>
                    <a:lnTo>
                      <a:pt x="13866" y="3200"/>
                    </a:lnTo>
                    <a:lnTo>
                      <a:pt x="13828" y="3200"/>
                    </a:lnTo>
                    <a:lnTo>
                      <a:pt x="13837" y="3016"/>
                    </a:lnTo>
                    <a:lnTo>
                      <a:pt x="13875" y="3021"/>
                    </a:lnTo>
                    <a:close/>
                    <a:moveTo>
                      <a:pt x="13828" y="3205"/>
                    </a:moveTo>
                    <a:lnTo>
                      <a:pt x="13828" y="3205"/>
                    </a:lnTo>
                    <a:lnTo>
                      <a:pt x="13828" y="3200"/>
                    </a:lnTo>
                    <a:lnTo>
                      <a:pt x="13847" y="3200"/>
                    </a:lnTo>
                    <a:lnTo>
                      <a:pt x="13828" y="3205"/>
                    </a:lnTo>
                    <a:close/>
                    <a:moveTo>
                      <a:pt x="13866" y="3196"/>
                    </a:moveTo>
                    <a:lnTo>
                      <a:pt x="13899" y="3304"/>
                    </a:lnTo>
                    <a:lnTo>
                      <a:pt x="13861" y="3314"/>
                    </a:lnTo>
                    <a:lnTo>
                      <a:pt x="13828" y="3205"/>
                    </a:lnTo>
                    <a:lnTo>
                      <a:pt x="13866" y="3196"/>
                    </a:lnTo>
                    <a:close/>
                    <a:moveTo>
                      <a:pt x="13899" y="3304"/>
                    </a:moveTo>
                    <a:lnTo>
                      <a:pt x="13899" y="3309"/>
                    </a:lnTo>
                    <a:lnTo>
                      <a:pt x="13894" y="3318"/>
                    </a:lnTo>
                    <a:lnTo>
                      <a:pt x="13880" y="3309"/>
                    </a:lnTo>
                    <a:lnTo>
                      <a:pt x="13899" y="3304"/>
                    </a:lnTo>
                    <a:close/>
                    <a:moveTo>
                      <a:pt x="13894" y="3318"/>
                    </a:moveTo>
                    <a:lnTo>
                      <a:pt x="13880" y="3347"/>
                    </a:lnTo>
                    <a:lnTo>
                      <a:pt x="13852" y="3408"/>
                    </a:lnTo>
                    <a:lnTo>
                      <a:pt x="13833" y="3446"/>
                    </a:lnTo>
                    <a:lnTo>
                      <a:pt x="13823" y="3484"/>
                    </a:lnTo>
                    <a:lnTo>
                      <a:pt x="13823" y="3498"/>
                    </a:lnTo>
                    <a:lnTo>
                      <a:pt x="13818" y="3512"/>
                    </a:lnTo>
                    <a:lnTo>
                      <a:pt x="13823" y="3526"/>
                    </a:lnTo>
                    <a:lnTo>
                      <a:pt x="13828" y="3535"/>
                    </a:lnTo>
                    <a:lnTo>
                      <a:pt x="13795" y="3559"/>
                    </a:lnTo>
                    <a:lnTo>
                      <a:pt x="13785" y="3545"/>
                    </a:lnTo>
                    <a:lnTo>
                      <a:pt x="13785" y="3526"/>
                    </a:lnTo>
                    <a:lnTo>
                      <a:pt x="13781" y="3507"/>
                    </a:lnTo>
                    <a:lnTo>
                      <a:pt x="13785" y="3488"/>
                    </a:lnTo>
                    <a:lnTo>
                      <a:pt x="13795" y="3446"/>
                    </a:lnTo>
                    <a:lnTo>
                      <a:pt x="13809" y="3403"/>
                    </a:lnTo>
                    <a:lnTo>
                      <a:pt x="13847" y="3328"/>
                    </a:lnTo>
                    <a:lnTo>
                      <a:pt x="13861" y="3299"/>
                    </a:lnTo>
                    <a:lnTo>
                      <a:pt x="13894" y="3318"/>
                    </a:lnTo>
                    <a:close/>
                    <a:moveTo>
                      <a:pt x="13828" y="3535"/>
                    </a:moveTo>
                    <a:lnTo>
                      <a:pt x="13842" y="3564"/>
                    </a:lnTo>
                    <a:lnTo>
                      <a:pt x="13856" y="3592"/>
                    </a:lnTo>
                    <a:lnTo>
                      <a:pt x="13823" y="3611"/>
                    </a:lnTo>
                    <a:lnTo>
                      <a:pt x="13809" y="3587"/>
                    </a:lnTo>
                    <a:lnTo>
                      <a:pt x="13795" y="3559"/>
                    </a:lnTo>
                    <a:lnTo>
                      <a:pt x="13828" y="3535"/>
                    </a:lnTo>
                    <a:close/>
                    <a:moveTo>
                      <a:pt x="13856" y="3592"/>
                    </a:moveTo>
                    <a:lnTo>
                      <a:pt x="13870" y="3616"/>
                    </a:lnTo>
                    <a:lnTo>
                      <a:pt x="13880" y="3635"/>
                    </a:lnTo>
                    <a:lnTo>
                      <a:pt x="13894" y="3653"/>
                    </a:lnTo>
                    <a:lnTo>
                      <a:pt x="13913" y="3663"/>
                    </a:lnTo>
                    <a:lnTo>
                      <a:pt x="13889" y="3701"/>
                    </a:lnTo>
                    <a:lnTo>
                      <a:pt x="13866" y="3682"/>
                    </a:lnTo>
                    <a:lnTo>
                      <a:pt x="13852" y="3663"/>
                    </a:lnTo>
                    <a:lnTo>
                      <a:pt x="13837" y="3639"/>
                    </a:lnTo>
                    <a:lnTo>
                      <a:pt x="13823" y="3611"/>
                    </a:lnTo>
                    <a:lnTo>
                      <a:pt x="13856" y="3592"/>
                    </a:lnTo>
                    <a:close/>
                    <a:moveTo>
                      <a:pt x="13913" y="3663"/>
                    </a:moveTo>
                    <a:lnTo>
                      <a:pt x="13932" y="3677"/>
                    </a:lnTo>
                    <a:lnTo>
                      <a:pt x="13955" y="3682"/>
                    </a:lnTo>
                    <a:lnTo>
                      <a:pt x="13946" y="3720"/>
                    </a:lnTo>
                    <a:lnTo>
                      <a:pt x="13918" y="3710"/>
                    </a:lnTo>
                    <a:lnTo>
                      <a:pt x="13889" y="3701"/>
                    </a:lnTo>
                    <a:lnTo>
                      <a:pt x="13913" y="3663"/>
                    </a:lnTo>
                    <a:close/>
                    <a:moveTo>
                      <a:pt x="13955" y="3682"/>
                    </a:moveTo>
                    <a:lnTo>
                      <a:pt x="13984" y="3691"/>
                    </a:lnTo>
                    <a:lnTo>
                      <a:pt x="14007" y="3701"/>
                    </a:lnTo>
                    <a:lnTo>
                      <a:pt x="14017" y="3710"/>
                    </a:lnTo>
                    <a:lnTo>
                      <a:pt x="14026" y="3720"/>
                    </a:lnTo>
                    <a:lnTo>
                      <a:pt x="14036" y="3734"/>
                    </a:lnTo>
                    <a:lnTo>
                      <a:pt x="14040" y="3748"/>
                    </a:lnTo>
                    <a:lnTo>
                      <a:pt x="14007" y="3762"/>
                    </a:lnTo>
                    <a:lnTo>
                      <a:pt x="13998" y="3748"/>
                    </a:lnTo>
                    <a:lnTo>
                      <a:pt x="13979" y="3734"/>
                    </a:lnTo>
                    <a:lnTo>
                      <a:pt x="13965" y="3724"/>
                    </a:lnTo>
                    <a:lnTo>
                      <a:pt x="13946" y="3720"/>
                    </a:lnTo>
                    <a:lnTo>
                      <a:pt x="13955" y="3682"/>
                    </a:lnTo>
                    <a:close/>
                  </a:path>
                </a:pathLst>
              </a:custGeom>
              <a:solidFill>
                <a:srgbClr val="605e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Freeform 1144"/>
              <p:cNvSpPr/>
              <p:nvPr/>
            </p:nvSpPr>
            <p:spPr>
              <a:xfrm>
                <a:off x="2120400" y="4144320"/>
                <a:ext cx="46800" cy="49680"/>
              </a:xfrm>
              <a:custGeom>
                <a:avLst/>
                <a:gdLst>
                  <a:gd name="textAreaLeft" fmla="*/ 0 w 46800"/>
                  <a:gd name="textAreaRight" fmla="*/ 47160 w 468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80" h="76">
                    <a:moveTo>
                      <a:pt x="71" y="0"/>
                    </a:moveTo>
                    <a:lnTo>
                      <a:pt x="33" y="33"/>
                    </a:lnTo>
                    <a:lnTo>
                      <a:pt x="0" y="66"/>
                    </a:lnTo>
                    <a:lnTo>
                      <a:pt x="19" y="76"/>
                    </a:lnTo>
                    <a:lnTo>
                      <a:pt x="47" y="47"/>
                    </a:lnTo>
                    <a:lnTo>
                      <a:pt x="80" y="1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Freeform 1145"/>
              <p:cNvSpPr/>
              <p:nvPr/>
            </p:nvSpPr>
            <p:spPr>
              <a:xfrm>
                <a:off x="2170080" y="412848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4" y="0"/>
                    </a:moveTo>
                    <a:lnTo>
                      <a:pt x="4" y="10"/>
                    </a:lnTo>
                    <a:lnTo>
                      <a:pt x="0" y="15"/>
                    </a:lnTo>
                    <a:lnTo>
                      <a:pt x="9" y="29"/>
                    </a:lnTo>
                    <a:lnTo>
                      <a:pt x="14" y="24"/>
                    </a:lnTo>
                    <a:lnTo>
                      <a:pt x="23" y="1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Freeform 1146"/>
              <p:cNvSpPr/>
              <p:nvPr/>
            </p:nvSpPr>
            <p:spPr>
              <a:xfrm>
                <a:off x="2186640" y="411372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4" y="0"/>
                    </a:moveTo>
                    <a:lnTo>
                      <a:pt x="24" y="14"/>
                    </a:lnTo>
                    <a:lnTo>
                      <a:pt x="10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2202840" y="4095360"/>
                <a:ext cx="19080" cy="21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24" y="0"/>
                    </a:moveTo>
                    <a:lnTo>
                      <a:pt x="24" y="0"/>
                    </a:lnTo>
                    <a:lnTo>
                      <a:pt x="0" y="18"/>
                    </a:lnTo>
                    <a:lnTo>
                      <a:pt x="10" y="33"/>
                    </a:lnTo>
                    <a:lnTo>
                      <a:pt x="33" y="14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2216880" y="4079520"/>
                <a:ext cx="38520" cy="248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66" h="38">
                    <a:moveTo>
                      <a:pt x="61" y="0"/>
                    </a:moveTo>
                    <a:lnTo>
                      <a:pt x="42" y="5"/>
                    </a:lnTo>
                    <a:lnTo>
                      <a:pt x="0" y="24"/>
                    </a:lnTo>
                    <a:lnTo>
                      <a:pt x="9" y="38"/>
                    </a:lnTo>
                    <a:lnTo>
                      <a:pt x="52" y="24"/>
                    </a:lnTo>
                    <a:lnTo>
                      <a:pt x="66" y="19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Freeform 1149"/>
              <p:cNvSpPr/>
              <p:nvPr/>
            </p:nvSpPr>
            <p:spPr>
              <a:xfrm>
                <a:off x="2263680" y="407340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9" y="0"/>
                    </a:moveTo>
                    <a:lnTo>
                      <a:pt x="24" y="18"/>
                    </a:lnTo>
                    <a:lnTo>
                      <a:pt x="5" y="23"/>
                    </a:lnTo>
                    <a:lnTo>
                      <a:pt x="0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Freeform 1150"/>
              <p:cNvSpPr/>
              <p:nvPr/>
            </p:nvSpPr>
            <p:spPr>
              <a:xfrm>
                <a:off x="2283120" y="40669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0"/>
                    </a:moveTo>
                    <a:lnTo>
                      <a:pt x="24" y="19"/>
                    </a:lnTo>
                    <a:lnTo>
                      <a:pt x="5" y="24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Freeform 1151"/>
              <p:cNvSpPr/>
              <p:nvPr/>
            </p:nvSpPr>
            <p:spPr>
              <a:xfrm>
                <a:off x="2305440" y="4051800"/>
                <a:ext cx="54720" cy="241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94" h="37">
                    <a:moveTo>
                      <a:pt x="90" y="0"/>
                    </a:moveTo>
                    <a:lnTo>
                      <a:pt x="76" y="4"/>
                    </a:lnTo>
                    <a:lnTo>
                      <a:pt x="33" y="14"/>
                    </a:lnTo>
                    <a:lnTo>
                      <a:pt x="0" y="18"/>
                    </a:lnTo>
                    <a:lnTo>
                      <a:pt x="5" y="37"/>
                    </a:lnTo>
                    <a:lnTo>
                      <a:pt x="38" y="33"/>
                    </a:lnTo>
                    <a:lnTo>
                      <a:pt x="80" y="23"/>
                    </a:lnTo>
                    <a:lnTo>
                      <a:pt x="94" y="18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Freeform 1152"/>
              <p:cNvSpPr/>
              <p:nvPr/>
            </p:nvSpPr>
            <p:spPr>
              <a:xfrm>
                <a:off x="2369160" y="40420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4" y="0"/>
                    </a:moveTo>
                    <a:lnTo>
                      <a:pt x="9" y="5"/>
                    </a:lnTo>
                    <a:lnTo>
                      <a:pt x="0" y="10"/>
                    </a:lnTo>
                    <a:lnTo>
                      <a:pt x="4" y="24"/>
                    </a:lnTo>
                    <a:lnTo>
                      <a:pt x="19" y="19"/>
                    </a:lnTo>
                    <a:lnTo>
                      <a:pt x="23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Freeform 1153"/>
              <p:cNvSpPr/>
              <p:nvPr/>
            </p:nvSpPr>
            <p:spPr>
              <a:xfrm>
                <a:off x="2388600" y="40327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4" y="0"/>
                    </a:moveTo>
                    <a:lnTo>
                      <a:pt x="23" y="14"/>
                    </a:lnTo>
                    <a:lnTo>
                      <a:pt x="4" y="24"/>
                    </a:lnTo>
                    <a:lnTo>
                      <a:pt x="0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Freeform 1154"/>
              <p:cNvSpPr/>
              <p:nvPr/>
            </p:nvSpPr>
            <p:spPr>
              <a:xfrm>
                <a:off x="2405160" y="3989520"/>
                <a:ext cx="46440" cy="4644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80" h="71">
                    <a:moveTo>
                      <a:pt x="71" y="0"/>
                    </a:moveTo>
                    <a:lnTo>
                      <a:pt x="57" y="14"/>
                    </a:lnTo>
                    <a:lnTo>
                      <a:pt x="0" y="57"/>
                    </a:lnTo>
                    <a:lnTo>
                      <a:pt x="9" y="71"/>
                    </a:lnTo>
                    <a:lnTo>
                      <a:pt x="66" y="28"/>
                    </a:lnTo>
                    <a:lnTo>
                      <a:pt x="80" y="14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Freeform 1155"/>
              <p:cNvSpPr/>
              <p:nvPr/>
            </p:nvSpPr>
            <p:spPr>
              <a:xfrm>
                <a:off x="2454840" y="3976920"/>
                <a:ext cx="5040" cy="12240"/>
              </a:xfrm>
              <a:custGeom>
                <a:avLst/>
                <a:gdLst>
                  <a:gd name="textAreaLeft" fmla="*/ 0 w 5040"/>
                  <a:gd name="textAreaRight" fmla="*/ 5400 w 5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9" h="19">
                    <a:moveTo>
                      <a:pt x="5" y="19"/>
                    </a:moveTo>
                    <a:lnTo>
                      <a:pt x="0" y="5"/>
                    </a:lnTo>
                    <a:lnTo>
                      <a:pt x="9" y="19"/>
                    </a:lnTo>
                    <a:lnTo>
                      <a:pt x="5" y="0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Freeform 1156"/>
              <p:cNvSpPr/>
              <p:nvPr/>
            </p:nvSpPr>
            <p:spPr>
              <a:xfrm>
                <a:off x="2446560" y="3974400"/>
                <a:ext cx="10800" cy="15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0" y="18"/>
                    </a:moveTo>
                    <a:lnTo>
                      <a:pt x="0" y="18"/>
                    </a:lnTo>
                    <a:lnTo>
                      <a:pt x="19" y="23"/>
                    </a:lnTo>
                    <a:lnTo>
                      <a:pt x="19" y="4"/>
                    </a:lnTo>
                    <a:lnTo>
                      <a:pt x="9" y="4"/>
                    </a:lnTo>
                    <a:lnTo>
                      <a:pt x="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Freeform 1157"/>
              <p:cNvSpPr/>
              <p:nvPr/>
            </p:nvSpPr>
            <p:spPr>
              <a:xfrm>
                <a:off x="2427120" y="39646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5"/>
                    </a:moveTo>
                    <a:lnTo>
                      <a:pt x="5" y="19"/>
                    </a:lnTo>
                    <a:lnTo>
                      <a:pt x="14" y="24"/>
                    </a:lnTo>
                    <a:lnTo>
                      <a:pt x="23" y="10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Freeform 1158"/>
              <p:cNvSpPr/>
              <p:nvPr/>
            </p:nvSpPr>
            <p:spPr>
              <a:xfrm>
                <a:off x="2418840" y="3927600"/>
                <a:ext cx="21600" cy="338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7" h="52">
                    <a:moveTo>
                      <a:pt x="28" y="0"/>
                    </a:moveTo>
                    <a:lnTo>
                      <a:pt x="28" y="0"/>
                    </a:lnTo>
                    <a:lnTo>
                      <a:pt x="9" y="23"/>
                    </a:lnTo>
                    <a:lnTo>
                      <a:pt x="0" y="42"/>
                    </a:lnTo>
                    <a:lnTo>
                      <a:pt x="0" y="52"/>
                    </a:lnTo>
                    <a:lnTo>
                      <a:pt x="19" y="42"/>
                    </a:lnTo>
                    <a:lnTo>
                      <a:pt x="23" y="33"/>
                    </a:lnTo>
                    <a:lnTo>
                      <a:pt x="37" y="14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Freeform 1159"/>
              <p:cNvSpPr/>
              <p:nvPr/>
            </p:nvSpPr>
            <p:spPr>
              <a:xfrm>
                <a:off x="2435400" y="3908520"/>
                <a:ext cx="27360" cy="280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47" h="43">
                    <a:moveTo>
                      <a:pt x="33" y="0"/>
                    </a:moveTo>
                    <a:lnTo>
                      <a:pt x="47" y="15"/>
                    </a:lnTo>
                    <a:lnTo>
                      <a:pt x="9" y="43"/>
                    </a:lnTo>
                    <a:lnTo>
                      <a:pt x="0" y="29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Freeform 1160"/>
              <p:cNvSpPr/>
              <p:nvPr/>
            </p:nvSpPr>
            <p:spPr>
              <a:xfrm>
                <a:off x="2462760" y="3893760"/>
                <a:ext cx="16920" cy="14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14" y="0"/>
                    </a:moveTo>
                    <a:lnTo>
                      <a:pt x="29" y="14"/>
                    </a:lnTo>
                    <a:lnTo>
                      <a:pt x="14" y="23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Freeform 1161"/>
              <p:cNvSpPr/>
              <p:nvPr/>
            </p:nvSpPr>
            <p:spPr>
              <a:xfrm>
                <a:off x="2480040" y="387468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9" y="0"/>
                    </a:moveTo>
                    <a:lnTo>
                      <a:pt x="4" y="5"/>
                    </a:lnTo>
                    <a:lnTo>
                      <a:pt x="0" y="15"/>
                    </a:lnTo>
                    <a:lnTo>
                      <a:pt x="14" y="29"/>
                    </a:lnTo>
                    <a:lnTo>
                      <a:pt x="23" y="15"/>
                    </a:lnTo>
                    <a:lnTo>
                      <a:pt x="23" y="1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Freeform 1162"/>
              <p:cNvSpPr/>
              <p:nvPr/>
            </p:nvSpPr>
            <p:spPr>
              <a:xfrm>
                <a:off x="2487960" y="3843720"/>
                <a:ext cx="13320" cy="248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3" h="38">
                    <a:moveTo>
                      <a:pt x="4" y="0"/>
                    </a:moveTo>
                    <a:lnTo>
                      <a:pt x="4" y="0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19" y="38"/>
                    </a:lnTo>
                    <a:lnTo>
                      <a:pt x="19" y="24"/>
                    </a:lnTo>
                    <a:lnTo>
                      <a:pt x="23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Freeform 1163"/>
              <p:cNvSpPr/>
              <p:nvPr/>
            </p:nvSpPr>
            <p:spPr>
              <a:xfrm>
                <a:off x="2490480" y="3807000"/>
                <a:ext cx="10800" cy="36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19" h="56">
                    <a:moveTo>
                      <a:pt x="0" y="0"/>
                    </a:moveTo>
                    <a:lnTo>
                      <a:pt x="0" y="9"/>
                    </a:lnTo>
                    <a:lnTo>
                      <a:pt x="0" y="56"/>
                    </a:lnTo>
                    <a:lnTo>
                      <a:pt x="19" y="56"/>
                    </a:lnTo>
                    <a:lnTo>
                      <a:pt x="19" y="9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Freeform 1164"/>
              <p:cNvSpPr/>
              <p:nvPr/>
            </p:nvSpPr>
            <p:spPr>
              <a:xfrm>
                <a:off x="2493360" y="3781800"/>
                <a:ext cx="10800" cy="15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0" y="0"/>
                    </a:moveTo>
                    <a:lnTo>
                      <a:pt x="0" y="5"/>
                    </a:lnTo>
                    <a:lnTo>
                      <a:pt x="0" y="19"/>
                    </a:lnTo>
                    <a:lnTo>
                      <a:pt x="14" y="23"/>
                    </a:lnTo>
                    <a:lnTo>
                      <a:pt x="19" y="9"/>
                    </a:lnTo>
                    <a:lnTo>
                      <a:pt x="1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1165"/>
              <p:cNvSpPr/>
              <p:nvPr/>
            </p:nvSpPr>
            <p:spPr>
              <a:xfrm>
                <a:off x="2496240" y="376020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0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14" y="19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1166"/>
              <p:cNvSpPr/>
              <p:nvPr/>
            </p:nvSpPr>
            <p:spPr>
              <a:xfrm>
                <a:off x="2496240" y="37321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5" y="0"/>
                    </a:moveTo>
                    <a:lnTo>
                      <a:pt x="5" y="0"/>
                    </a:lnTo>
                    <a:lnTo>
                      <a:pt x="0" y="24"/>
                    </a:lnTo>
                    <a:lnTo>
                      <a:pt x="19" y="24"/>
                    </a:lnTo>
                    <a:lnTo>
                      <a:pt x="23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2499120" y="3686040"/>
                <a:ext cx="16200" cy="45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28" h="70">
                    <a:moveTo>
                      <a:pt x="9" y="0"/>
                    </a:moveTo>
                    <a:lnTo>
                      <a:pt x="9" y="0"/>
                    </a:lnTo>
                    <a:lnTo>
                      <a:pt x="4" y="28"/>
                    </a:lnTo>
                    <a:lnTo>
                      <a:pt x="0" y="70"/>
                    </a:lnTo>
                    <a:lnTo>
                      <a:pt x="18" y="70"/>
                    </a:lnTo>
                    <a:lnTo>
                      <a:pt x="23" y="33"/>
                    </a:lnTo>
                    <a:lnTo>
                      <a:pt x="28" y="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2507400" y="366444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4" y="0"/>
                    </a:moveTo>
                    <a:lnTo>
                      <a:pt x="4" y="9"/>
                    </a:lnTo>
                    <a:lnTo>
                      <a:pt x="0" y="14"/>
                    </a:lnTo>
                    <a:lnTo>
                      <a:pt x="19" y="18"/>
                    </a:lnTo>
                    <a:lnTo>
                      <a:pt x="19" y="14"/>
                    </a:lnTo>
                    <a:lnTo>
                      <a:pt x="23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169"/>
              <p:cNvSpPr/>
              <p:nvPr/>
            </p:nvSpPr>
            <p:spPr>
              <a:xfrm>
                <a:off x="2515680" y="3648600"/>
                <a:ext cx="7920" cy="5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4" h="9">
                    <a:moveTo>
                      <a:pt x="0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4" y="9"/>
                    </a:lnTo>
                    <a:lnTo>
                      <a:pt x="14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2515680" y="363960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5" y="0"/>
                    </a:moveTo>
                    <a:lnTo>
                      <a:pt x="19" y="4"/>
                    </a:lnTo>
                    <a:lnTo>
                      <a:pt x="14" y="19"/>
                    </a:lnTo>
                    <a:lnTo>
                      <a:pt x="0" y="14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171"/>
              <p:cNvSpPr/>
              <p:nvPr/>
            </p:nvSpPr>
            <p:spPr>
              <a:xfrm>
                <a:off x="2521080" y="3571200"/>
                <a:ext cx="27720" cy="615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8" h="94">
                    <a:moveTo>
                      <a:pt x="29" y="0"/>
                    </a:moveTo>
                    <a:lnTo>
                      <a:pt x="19" y="33"/>
                    </a:lnTo>
                    <a:lnTo>
                      <a:pt x="0" y="85"/>
                    </a:lnTo>
                    <a:lnTo>
                      <a:pt x="19" y="94"/>
                    </a:lnTo>
                    <a:lnTo>
                      <a:pt x="33" y="38"/>
                    </a:lnTo>
                    <a:lnTo>
                      <a:pt x="48" y="5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172"/>
              <p:cNvSpPr/>
              <p:nvPr/>
            </p:nvSpPr>
            <p:spPr>
              <a:xfrm>
                <a:off x="2543040" y="3549600"/>
                <a:ext cx="16200" cy="183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0" y="28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173"/>
              <p:cNvSpPr/>
              <p:nvPr/>
            </p:nvSpPr>
            <p:spPr>
              <a:xfrm>
                <a:off x="2562480" y="35370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4" y="0"/>
                    </a:moveTo>
                    <a:lnTo>
                      <a:pt x="24" y="14"/>
                    </a:lnTo>
                    <a:lnTo>
                      <a:pt x="10" y="24"/>
                    </a:lnTo>
                    <a:lnTo>
                      <a:pt x="0" y="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174"/>
              <p:cNvSpPr/>
              <p:nvPr/>
            </p:nvSpPr>
            <p:spPr>
              <a:xfrm>
                <a:off x="2548800" y="3481200"/>
                <a:ext cx="38520" cy="558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6" h="85">
                    <a:moveTo>
                      <a:pt x="0" y="9"/>
                    </a:moveTo>
                    <a:lnTo>
                      <a:pt x="9" y="28"/>
                    </a:lnTo>
                    <a:lnTo>
                      <a:pt x="51" y="85"/>
                    </a:lnTo>
                    <a:lnTo>
                      <a:pt x="66" y="76"/>
                    </a:lnTo>
                    <a:lnTo>
                      <a:pt x="23" y="19"/>
                    </a:lnTo>
                    <a:lnTo>
                      <a:pt x="1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175"/>
              <p:cNvSpPr/>
              <p:nvPr/>
            </p:nvSpPr>
            <p:spPr>
              <a:xfrm>
                <a:off x="2535120" y="3462840"/>
                <a:ext cx="16200" cy="147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0" y="9"/>
                    </a:moveTo>
                    <a:lnTo>
                      <a:pt x="19" y="0"/>
                    </a:lnTo>
                    <a:lnTo>
                      <a:pt x="28" y="14"/>
                    </a:lnTo>
                    <a:lnTo>
                      <a:pt x="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176"/>
              <p:cNvSpPr/>
              <p:nvPr/>
            </p:nvSpPr>
            <p:spPr>
              <a:xfrm>
                <a:off x="2523960" y="3441240"/>
                <a:ext cx="16200" cy="151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0" y="9"/>
                    </a:moveTo>
                    <a:lnTo>
                      <a:pt x="19" y="0"/>
                    </a:lnTo>
                    <a:lnTo>
                      <a:pt x="28" y="14"/>
                    </a:lnTo>
                    <a:lnTo>
                      <a:pt x="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177"/>
              <p:cNvSpPr/>
              <p:nvPr/>
            </p:nvSpPr>
            <p:spPr>
              <a:xfrm>
                <a:off x="2496240" y="3376080"/>
                <a:ext cx="32760" cy="583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56" h="89">
                    <a:moveTo>
                      <a:pt x="0" y="4"/>
                    </a:moveTo>
                    <a:lnTo>
                      <a:pt x="5" y="14"/>
                    </a:lnTo>
                    <a:lnTo>
                      <a:pt x="14" y="37"/>
                    </a:lnTo>
                    <a:lnTo>
                      <a:pt x="33" y="75"/>
                    </a:lnTo>
                    <a:lnTo>
                      <a:pt x="38" y="89"/>
                    </a:lnTo>
                    <a:lnTo>
                      <a:pt x="56" y="85"/>
                    </a:lnTo>
                    <a:lnTo>
                      <a:pt x="52" y="66"/>
                    </a:lnTo>
                    <a:lnTo>
                      <a:pt x="28" y="28"/>
                    </a:lnTo>
                    <a:lnTo>
                      <a:pt x="19" y="9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178"/>
              <p:cNvSpPr/>
              <p:nvPr/>
            </p:nvSpPr>
            <p:spPr>
              <a:xfrm>
                <a:off x="2493360" y="3354480"/>
                <a:ext cx="10800" cy="11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0" y="0"/>
                    </a:moveTo>
                    <a:lnTo>
                      <a:pt x="0" y="4"/>
                    </a:lnTo>
                    <a:lnTo>
                      <a:pt x="0" y="18"/>
                    </a:lnTo>
                    <a:lnTo>
                      <a:pt x="19" y="18"/>
                    </a:lnTo>
                    <a:lnTo>
                      <a:pt x="19" y="4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1179"/>
              <p:cNvSpPr/>
              <p:nvPr/>
            </p:nvSpPr>
            <p:spPr>
              <a:xfrm>
                <a:off x="2499120" y="332964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9" y="0"/>
                    </a:moveTo>
                    <a:lnTo>
                      <a:pt x="23" y="9"/>
                    </a:lnTo>
                    <a:lnTo>
                      <a:pt x="14" y="23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1180"/>
              <p:cNvSpPr/>
              <p:nvPr/>
            </p:nvSpPr>
            <p:spPr>
              <a:xfrm>
                <a:off x="2509920" y="3270600"/>
                <a:ext cx="36000" cy="55800"/>
              </a:xfrm>
              <a:custGeom>
                <a:avLst/>
                <a:gdLst>
                  <a:gd name="textAreaLeft" fmla="*/ 0 w 36000"/>
                  <a:gd name="textAreaRight" fmla="*/ 36360 w 360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2" h="85">
                    <a:moveTo>
                      <a:pt x="48" y="0"/>
                    </a:moveTo>
                    <a:lnTo>
                      <a:pt x="48" y="0"/>
                    </a:lnTo>
                    <a:lnTo>
                      <a:pt x="10" y="61"/>
                    </a:lnTo>
                    <a:lnTo>
                      <a:pt x="0" y="76"/>
                    </a:lnTo>
                    <a:lnTo>
                      <a:pt x="15" y="85"/>
                    </a:lnTo>
                    <a:lnTo>
                      <a:pt x="24" y="71"/>
                    </a:lnTo>
                    <a:lnTo>
                      <a:pt x="62" y="5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1181"/>
              <p:cNvSpPr/>
              <p:nvPr/>
            </p:nvSpPr>
            <p:spPr>
              <a:xfrm>
                <a:off x="2538000" y="326736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0" y="0"/>
                    </a:moveTo>
                    <a:lnTo>
                      <a:pt x="14" y="10"/>
                    </a:lnTo>
                    <a:lnTo>
                      <a:pt x="0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1182"/>
              <p:cNvSpPr/>
              <p:nvPr/>
            </p:nvSpPr>
            <p:spPr>
              <a:xfrm>
                <a:off x="2540160" y="3245400"/>
                <a:ext cx="16920" cy="187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9" h="29">
                    <a:moveTo>
                      <a:pt x="10" y="0"/>
                    </a:moveTo>
                    <a:lnTo>
                      <a:pt x="29" y="10"/>
                    </a:lnTo>
                    <a:lnTo>
                      <a:pt x="19" y="29"/>
                    </a:lnTo>
                    <a:lnTo>
                      <a:pt x="0" y="1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2551320" y="322380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5" y="0"/>
                    </a:moveTo>
                    <a:lnTo>
                      <a:pt x="0" y="5"/>
                    </a:lnTo>
                    <a:lnTo>
                      <a:pt x="0" y="19"/>
                    </a:lnTo>
                    <a:lnTo>
                      <a:pt x="14" y="24"/>
                    </a:lnTo>
                    <a:lnTo>
                      <a:pt x="19" y="10"/>
                    </a:lnTo>
                    <a:lnTo>
                      <a:pt x="19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2551320" y="3183840"/>
                <a:ext cx="14040" cy="306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4" h="47">
                    <a:moveTo>
                      <a:pt x="0" y="0"/>
                    </a:moveTo>
                    <a:lnTo>
                      <a:pt x="0" y="0"/>
                    </a:lnTo>
                    <a:lnTo>
                      <a:pt x="5" y="42"/>
                    </a:lnTo>
                    <a:lnTo>
                      <a:pt x="24" y="47"/>
                    </a:lnTo>
                    <a:lnTo>
                      <a:pt x="24" y="42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2548800" y="3152880"/>
                <a:ext cx="13320" cy="306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3" h="47">
                    <a:moveTo>
                      <a:pt x="0" y="4"/>
                    </a:moveTo>
                    <a:lnTo>
                      <a:pt x="18" y="0"/>
                    </a:lnTo>
                    <a:lnTo>
                      <a:pt x="23" y="47"/>
                    </a:lnTo>
                    <a:lnTo>
                      <a:pt x="4" y="47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2543040" y="31280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9"/>
                    </a:moveTo>
                    <a:lnTo>
                      <a:pt x="0" y="9"/>
                    </a:lnTo>
                    <a:lnTo>
                      <a:pt x="5" y="24"/>
                    </a:lnTo>
                    <a:lnTo>
                      <a:pt x="24" y="19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2529000" y="3115440"/>
                <a:ext cx="16920" cy="12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9" h="19">
                    <a:moveTo>
                      <a:pt x="5" y="19"/>
                    </a:moveTo>
                    <a:lnTo>
                      <a:pt x="10" y="14"/>
                    </a:lnTo>
                    <a:lnTo>
                      <a:pt x="15" y="14"/>
                    </a:lnTo>
                    <a:lnTo>
                      <a:pt x="29" y="5"/>
                    </a:lnTo>
                    <a:lnTo>
                      <a:pt x="19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1188"/>
              <p:cNvSpPr/>
              <p:nvPr/>
            </p:nvSpPr>
            <p:spPr>
              <a:xfrm>
                <a:off x="2480040" y="3121920"/>
                <a:ext cx="43920" cy="4896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75" h="75">
                    <a:moveTo>
                      <a:pt x="18" y="75"/>
                    </a:moveTo>
                    <a:lnTo>
                      <a:pt x="23" y="66"/>
                    </a:lnTo>
                    <a:lnTo>
                      <a:pt x="33" y="42"/>
                    </a:lnTo>
                    <a:lnTo>
                      <a:pt x="51" y="28"/>
                    </a:lnTo>
                    <a:lnTo>
                      <a:pt x="75" y="14"/>
                    </a:lnTo>
                    <a:lnTo>
                      <a:pt x="66" y="0"/>
                    </a:lnTo>
                    <a:lnTo>
                      <a:pt x="37" y="14"/>
                    </a:lnTo>
                    <a:lnTo>
                      <a:pt x="18" y="33"/>
                    </a:lnTo>
                    <a:lnTo>
                      <a:pt x="4" y="56"/>
                    </a:lnTo>
                    <a:lnTo>
                      <a:pt x="0" y="66"/>
                    </a:lnTo>
                    <a:lnTo>
                      <a:pt x="18" y="7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1189"/>
              <p:cNvSpPr/>
              <p:nvPr/>
            </p:nvSpPr>
            <p:spPr>
              <a:xfrm>
                <a:off x="2473920" y="3177720"/>
                <a:ext cx="10800" cy="5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760"/>
                  <a:gd name="textAreaBottom" fmla="*/ 6120 h 5760"/>
                </a:gdLst>
                <a:ahLst/>
                <a:rect l="textAreaLeft" t="textAreaTop" r="textAreaRight" b="textAreaBottom"/>
                <a:pathLst>
                  <a:path w="19" h="9">
                    <a:moveTo>
                      <a:pt x="19" y="9"/>
                    </a:moveTo>
                    <a:lnTo>
                      <a:pt x="19" y="9"/>
                    </a:lnTo>
                    <a:lnTo>
                      <a:pt x="19" y="4"/>
                    </a:lnTo>
                    <a:lnTo>
                      <a:pt x="0" y="0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1190"/>
              <p:cNvSpPr/>
              <p:nvPr/>
            </p:nvSpPr>
            <p:spPr>
              <a:xfrm>
                <a:off x="2471040" y="317772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9" y="23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24" y="9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1191"/>
              <p:cNvSpPr/>
              <p:nvPr/>
            </p:nvSpPr>
            <p:spPr>
              <a:xfrm>
                <a:off x="2462760" y="319968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9" y="23"/>
                    </a:moveTo>
                    <a:lnTo>
                      <a:pt x="24" y="9"/>
                    </a:lnTo>
                    <a:lnTo>
                      <a:pt x="10" y="0"/>
                    </a:lnTo>
                    <a:lnTo>
                      <a:pt x="5" y="4"/>
                    </a:lnTo>
                    <a:lnTo>
                      <a:pt x="0" y="18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1192"/>
              <p:cNvSpPr/>
              <p:nvPr/>
            </p:nvSpPr>
            <p:spPr>
              <a:xfrm>
                <a:off x="2424240" y="3208680"/>
                <a:ext cx="44280" cy="2412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76" h="37">
                    <a:moveTo>
                      <a:pt x="0" y="14"/>
                    </a:moveTo>
                    <a:lnTo>
                      <a:pt x="0" y="14"/>
                    </a:lnTo>
                    <a:lnTo>
                      <a:pt x="24" y="28"/>
                    </a:lnTo>
                    <a:lnTo>
                      <a:pt x="43" y="37"/>
                    </a:lnTo>
                    <a:lnTo>
                      <a:pt x="61" y="37"/>
                    </a:lnTo>
                    <a:lnTo>
                      <a:pt x="76" y="28"/>
                    </a:lnTo>
                    <a:lnTo>
                      <a:pt x="57" y="19"/>
                    </a:lnTo>
                    <a:lnTo>
                      <a:pt x="47" y="19"/>
                    </a:lnTo>
                    <a:lnTo>
                      <a:pt x="33" y="14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Freeform 1193"/>
              <p:cNvSpPr/>
              <p:nvPr/>
            </p:nvSpPr>
            <p:spPr>
              <a:xfrm>
                <a:off x="2415960" y="3196440"/>
                <a:ext cx="16200" cy="21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28" h="33">
                    <a:moveTo>
                      <a:pt x="0" y="14"/>
                    </a:moveTo>
                    <a:lnTo>
                      <a:pt x="9" y="0"/>
                    </a:lnTo>
                    <a:lnTo>
                      <a:pt x="28" y="19"/>
                    </a:lnTo>
                    <a:lnTo>
                      <a:pt x="14" y="3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1194"/>
              <p:cNvSpPr/>
              <p:nvPr/>
            </p:nvSpPr>
            <p:spPr>
              <a:xfrm>
                <a:off x="2399760" y="318060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4"/>
                    </a:moveTo>
                    <a:lnTo>
                      <a:pt x="9" y="24"/>
                    </a:lnTo>
                    <a:lnTo>
                      <a:pt x="14" y="24"/>
                    </a:lnTo>
                    <a:lnTo>
                      <a:pt x="23" y="10"/>
                    </a:lnTo>
                    <a:lnTo>
                      <a:pt x="14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Freeform 1195"/>
              <p:cNvSpPr/>
              <p:nvPr/>
            </p:nvSpPr>
            <p:spPr>
              <a:xfrm>
                <a:off x="2382840" y="3165480"/>
                <a:ext cx="16920" cy="15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9"/>
                    </a:moveTo>
                    <a:lnTo>
                      <a:pt x="14" y="0"/>
                    </a:lnTo>
                    <a:lnTo>
                      <a:pt x="29" y="9"/>
                    </a:lnTo>
                    <a:lnTo>
                      <a:pt x="14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2360520" y="3143880"/>
                <a:ext cx="21960" cy="2124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0" y="14"/>
                    </a:moveTo>
                    <a:lnTo>
                      <a:pt x="0" y="14"/>
                    </a:lnTo>
                    <a:lnTo>
                      <a:pt x="24" y="33"/>
                    </a:lnTo>
                    <a:lnTo>
                      <a:pt x="38" y="18"/>
                    </a:lnTo>
                    <a:lnTo>
                      <a:pt x="1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2330640" y="3124800"/>
                <a:ext cx="35640" cy="280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61" h="43">
                    <a:moveTo>
                      <a:pt x="0" y="14"/>
                    </a:moveTo>
                    <a:lnTo>
                      <a:pt x="4" y="19"/>
                    </a:lnTo>
                    <a:lnTo>
                      <a:pt x="51" y="43"/>
                    </a:lnTo>
                    <a:lnTo>
                      <a:pt x="61" y="29"/>
                    </a:lnTo>
                    <a:lnTo>
                      <a:pt x="14" y="0"/>
                    </a:lnTo>
                    <a:lnTo>
                      <a:pt x="9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2311200" y="311220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4" y="19"/>
                    </a:lnTo>
                    <a:lnTo>
                      <a:pt x="14" y="24"/>
                    </a:lnTo>
                    <a:lnTo>
                      <a:pt x="23" y="10"/>
                    </a:lnTo>
                    <a:lnTo>
                      <a:pt x="9" y="5"/>
                    </a:lnTo>
                    <a:lnTo>
                      <a:pt x="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2300040" y="3097080"/>
                <a:ext cx="10800" cy="18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9" h="28">
                    <a:moveTo>
                      <a:pt x="0" y="0"/>
                    </a:moveTo>
                    <a:lnTo>
                      <a:pt x="0" y="9"/>
                    </a:lnTo>
                    <a:lnTo>
                      <a:pt x="0" y="23"/>
                    </a:lnTo>
                    <a:lnTo>
                      <a:pt x="4" y="28"/>
                    </a:lnTo>
                    <a:lnTo>
                      <a:pt x="14" y="14"/>
                    </a:lnTo>
                    <a:lnTo>
                      <a:pt x="19" y="19"/>
                    </a:lnTo>
                    <a:lnTo>
                      <a:pt x="19" y="14"/>
                    </a:lnTo>
                    <a:lnTo>
                      <a:pt x="19" y="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>
                <a:off x="2308320" y="3056400"/>
                <a:ext cx="19080" cy="342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14" y="5"/>
                    </a:moveTo>
                    <a:lnTo>
                      <a:pt x="14" y="5"/>
                    </a:lnTo>
                    <a:lnTo>
                      <a:pt x="19" y="24"/>
                    </a:lnTo>
                    <a:lnTo>
                      <a:pt x="14" y="29"/>
                    </a:lnTo>
                    <a:lnTo>
                      <a:pt x="5" y="38"/>
                    </a:lnTo>
                    <a:lnTo>
                      <a:pt x="0" y="43"/>
                    </a:lnTo>
                    <a:lnTo>
                      <a:pt x="14" y="52"/>
                    </a:lnTo>
                    <a:lnTo>
                      <a:pt x="19" y="48"/>
                    </a:lnTo>
                    <a:lnTo>
                      <a:pt x="28" y="38"/>
                    </a:lnTo>
                    <a:lnTo>
                      <a:pt x="33" y="24"/>
                    </a:lnTo>
                    <a:lnTo>
                      <a:pt x="33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1201"/>
              <p:cNvSpPr/>
              <p:nvPr/>
            </p:nvSpPr>
            <p:spPr>
              <a:xfrm>
                <a:off x="2313720" y="3031920"/>
                <a:ext cx="13680" cy="27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4" h="42">
                    <a:moveTo>
                      <a:pt x="0" y="4"/>
                    </a:moveTo>
                    <a:lnTo>
                      <a:pt x="19" y="0"/>
                    </a:lnTo>
                    <a:lnTo>
                      <a:pt x="24" y="37"/>
                    </a:lnTo>
                    <a:lnTo>
                      <a:pt x="5" y="42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1202"/>
              <p:cNvSpPr/>
              <p:nvPr/>
            </p:nvSpPr>
            <p:spPr>
              <a:xfrm>
                <a:off x="2319480" y="3022920"/>
                <a:ext cx="16200" cy="151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9"/>
                    </a:moveTo>
                    <a:lnTo>
                      <a:pt x="14" y="0"/>
                    </a:lnTo>
                    <a:lnTo>
                      <a:pt x="0" y="18"/>
                    </a:lnTo>
                    <a:lnTo>
                      <a:pt x="4" y="18"/>
                    </a:lnTo>
                    <a:lnTo>
                      <a:pt x="19" y="23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1203"/>
              <p:cNvSpPr/>
              <p:nvPr/>
            </p:nvSpPr>
            <p:spPr>
              <a:xfrm>
                <a:off x="2343960" y="302292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9" h="28">
                    <a:moveTo>
                      <a:pt x="10" y="0"/>
                    </a:moveTo>
                    <a:lnTo>
                      <a:pt x="5" y="9"/>
                    </a:lnTo>
                    <a:lnTo>
                      <a:pt x="0" y="9"/>
                    </a:lnTo>
                    <a:lnTo>
                      <a:pt x="0" y="28"/>
                    </a:lnTo>
                    <a:lnTo>
                      <a:pt x="14" y="23"/>
                    </a:lnTo>
                    <a:lnTo>
                      <a:pt x="19" y="18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Freeform 1204"/>
              <p:cNvSpPr/>
              <p:nvPr/>
            </p:nvSpPr>
            <p:spPr>
              <a:xfrm>
                <a:off x="2352240" y="2957040"/>
                <a:ext cx="16920" cy="622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29" h="95">
                    <a:moveTo>
                      <a:pt x="10" y="0"/>
                    </a:moveTo>
                    <a:lnTo>
                      <a:pt x="5" y="10"/>
                    </a:lnTo>
                    <a:lnTo>
                      <a:pt x="5" y="33"/>
                    </a:lnTo>
                    <a:lnTo>
                      <a:pt x="5" y="62"/>
                    </a:lnTo>
                    <a:lnTo>
                      <a:pt x="0" y="90"/>
                    </a:lnTo>
                    <a:lnTo>
                      <a:pt x="19" y="95"/>
                    </a:lnTo>
                    <a:lnTo>
                      <a:pt x="24" y="62"/>
                    </a:lnTo>
                    <a:lnTo>
                      <a:pt x="24" y="38"/>
                    </a:lnTo>
                    <a:lnTo>
                      <a:pt x="24" y="15"/>
                    </a:lnTo>
                    <a:lnTo>
                      <a:pt x="29" y="5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1205"/>
              <p:cNvSpPr/>
              <p:nvPr/>
            </p:nvSpPr>
            <p:spPr>
              <a:xfrm>
                <a:off x="2363400" y="2935440"/>
                <a:ext cx="16920" cy="154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10" y="0"/>
                    </a:moveTo>
                    <a:lnTo>
                      <a:pt x="10" y="0"/>
                    </a:lnTo>
                    <a:lnTo>
                      <a:pt x="0" y="15"/>
                    </a:lnTo>
                    <a:lnTo>
                      <a:pt x="19" y="24"/>
                    </a:lnTo>
                    <a:lnTo>
                      <a:pt x="29" y="1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206"/>
              <p:cNvSpPr/>
              <p:nvPr/>
            </p:nvSpPr>
            <p:spPr>
              <a:xfrm>
                <a:off x="2374560" y="291384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4" y="0"/>
                    </a:moveTo>
                    <a:lnTo>
                      <a:pt x="14" y="0"/>
                    </a:lnTo>
                    <a:lnTo>
                      <a:pt x="5" y="1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19" y="19"/>
                    </a:lnTo>
                    <a:lnTo>
                      <a:pt x="28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2390760" y="2901600"/>
                <a:ext cx="16920" cy="154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29" y="0"/>
                    </a:moveTo>
                    <a:lnTo>
                      <a:pt x="29" y="0"/>
                    </a:lnTo>
                    <a:lnTo>
                      <a:pt x="10" y="5"/>
                    </a:lnTo>
                    <a:lnTo>
                      <a:pt x="0" y="5"/>
                    </a:lnTo>
                    <a:lnTo>
                      <a:pt x="15" y="24"/>
                    </a:lnTo>
                    <a:lnTo>
                      <a:pt x="15" y="19"/>
                    </a:lnTo>
                    <a:lnTo>
                      <a:pt x="29" y="19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2408040" y="2889720"/>
                <a:ext cx="41400" cy="2412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71" h="37">
                    <a:moveTo>
                      <a:pt x="66" y="0"/>
                    </a:moveTo>
                    <a:lnTo>
                      <a:pt x="56" y="4"/>
                    </a:lnTo>
                    <a:lnTo>
                      <a:pt x="0" y="18"/>
                    </a:lnTo>
                    <a:lnTo>
                      <a:pt x="0" y="37"/>
                    </a:lnTo>
                    <a:lnTo>
                      <a:pt x="61" y="18"/>
                    </a:lnTo>
                    <a:lnTo>
                      <a:pt x="71" y="18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2454840" y="2882880"/>
                <a:ext cx="7920" cy="12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14" y="0"/>
                    </a:moveTo>
                    <a:lnTo>
                      <a:pt x="5" y="0"/>
                    </a:lnTo>
                    <a:lnTo>
                      <a:pt x="0" y="5"/>
                    </a:lnTo>
                    <a:lnTo>
                      <a:pt x="9" y="19"/>
                    </a:lnTo>
                    <a:lnTo>
                      <a:pt x="14" y="19"/>
                    </a:lnTo>
                    <a:lnTo>
                      <a:pt x="5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2457720" y="28828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0"/>
                    </a:moveTo>
                    <a:lnTo>
                      <a:pt x="14" y="24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19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2473920" y="2892240"/>
                <a:ext cx="14040" cy="18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24" y="10"/>
                    </a:moveTo>
                    <a:lnTo>
                      <a:pt x="19" y="29"/>
                    </a:lnTo>
                    <a:lnTo>
                      <a:pt x="0" y="19"/>
                    </a:lnTo>
                    <a:lnTo>
                      <a:pt x="10" y="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1212"/>
              <p:cNvSpPr/>
              <p:nvPr/>
            </p:nvSpPr>
            <p:spPr>
              <a:xfrm>
                <a:off x="2493360" y="2904840"/>
                <a:ext cx="41400" cy="3384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71" h="52">
                    <a:moveTo>
                      <a:pt x="66" y="52"/>
                    </a:moveTo>
                    <a:lnTo>
                      <a:pt x="71" y="33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61" y="47"/>
                    </a:lnTo>
                    <a:lnTo>
                      <a:pt x="66" y="52"/>
                    </a:lnTo>
                    <a:lnTo>
                      <a:pt x="61" y="47"/>
                    </a:lnTo>
                    <a:lnTo>
                      <a:pt x="66" y="47"/>
                    </a:lnTo>
                    <a:lnTo>
                      <a:pt x="66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1213"/>
              <p:cNvSpPr/>
              <p:nvPr/>
            </p:nvSpPr>
            <p:spPr>
              <a:xfrm>
                <a:off x="2531880" y="292644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1214"/>
              <p:cNvSpPr/>
              <p:nvPr/>
            </p:nvSpPr>
            <p:spPr>
              <a:xfrm>
                <a:off x="2554200" y="292968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0"/>
                    </a:moveTo>
                    <a:lnTo>
                      <a:pt x="19" y="19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Freeform 1215"/>
              <p:cNvSpPr/>
              <p:nvPr/>
            </p:nvSpPr>
            <p:spPr>
              <a:xfrm>
                <a:off x="2576520" y="29296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5"/>
                    </a:moveTo>
                    <a:lnTo>
                      <a:pt x="19" y="24"/>
                    </a:lnTo>
                    <a:lnTo>
                      <a:pt x="0" y="19"/>
                    </a:lnTo>
                    <a:lnTo>
                      <a:pt x="4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Freeform 1216"/>
              <p:cNvSpPr/>
              <p:nvPr/>
            </p:nvSpPr>
            <p:spPr>
              <a:xfrm>
                <a:off x="2598840" y="2932920"/>
                <a:ext cx="55080" cy="183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4" h="28">
                    <a:moveTo>
                      <a:pt x="94" y="9"/>
                    </a:moveTo>
                    <a:lnTo>
                      <a:pt x="89" y="28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94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1217"/>
              <p:cNvSpPr/>
              <p:nvPr/>
            </p:nvSpPr>
            <p:spPr>
              <a:xfrm>
                <a:off x="2661840" y="29422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1218"/>
              <p:cNvSpPr/>
              <p:nvPr/>
            </p:nvSpPr>
            <p:spPr>
              <a:xfrm>
                <a:off x="2673000" y="29264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9" y="0"/>
                    </a:moveTo>
                    <a:lnTo>
                      <a:pt x="24" y="5"/>
                    </a:lnTo>
                    <a:lnTo>
                      <a:pt x="19" y="24"/>
                    </a:lnTo>
                    <a:lnTo>
                      <a:pt x="0" y="1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1219"/>
              <p:cNvSpPr/>
              <p:nvPr/>
            </p:nvSpPr>
            <p:spPr>
              <a:xfrm>
                <a:off x="2681280" y="2858040"/>
                <a:ext cx="27360" cy="6228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47" h="95">
                    <a:moveTo>
                      <a:pt x="28" y="0"/>
                    </a:moveTo>
                    <a:lnTo>
                      <a:pt x="47" y="5"/>
                    </a:lnTo>
                    <a:lnTo>
                      <a:pt x="14" y="95"/>
                    </a:lnTo>
                    <a:lnTo>
                      <a:pt x="0" y="85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2692440" y="28364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5"/>
                    </a:moveTo>
                    <a:lnTo>
                      <a:pt x="19" y="0"/>
                    </a:lnTo>
                    <a:lnTo>
                      <a:pt x="24" y="14"/>
                    </a:lnTo>
                    <a:lnTo>
                      <a:pt x="9" y="2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2681280" y="281484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0" y="10"/>
                    </a:moveTo>
                    <a:lnTo>
                      <a:pt x="19" y="0"/>
                    </a:lnTo>
                    <a:lnTo>
                      <a:pt x="28" y="14"/>
                    </a:lnTo>
                    <a:lnTo>
                      <a:pt x="10" y="24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2656800" y="2752920"/>
                <a:ext cx="30240" cy="558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52" h="85">
                    <a:moveTo>
                      <a:pt x="9" y="0"/>
                    </a:moveTo>
                    <a:lnTo>
                      <a:pt x="0" y="14"/>
                    </a:lnTo>
                    <a:lnTo>
                      <a:pt x="37" y="85"/>
                    </a:lnTo>
                    <a:lnTo>
                      <a:pt x="52" y="75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14" y="5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2651040" y="27496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0" y="19"/>
                    </a:moveTo>
                    <a:lnTo>
                      <a:pt x="10" y="0"/>
                    </a:lnTo>
                    <a:lnTo>
                      <a:pt x="19" y="5"/>
                    </a:lnTo>
                    <a:lnTo>
                      <a:pt x="14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>
                <a:off x="2631600" y="274068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0" y="14"/>
                    </a:moveTo>
                    <a:lnTo>
                      <a:pt x="10" y="0"/>
                    </a:lnTo>
                    <a:lnTo>
                      <a:pt x="28" y="9"/>
                    </a:lnTo>
                    <a:lnTo>
                      <a:pt x="19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1225"/>
              <p:cNvSpPr/>
              <p:nvPr/>
            </p:nvSpPr>
            <p:spPr>
              <a:xfrm>
                <a:off x="2612160" y="2728080"/>
                <a:ext cx="16200" cy="180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0" y="19"/>
                    </a:moveTo>
                    <a:lnTo>
                      <a:pt x="10" y="0"/>
                    </a:lnTo>
                    <a:lnTo>
                      <a:pt x="28" y="10"/>
                    </a:lnTo>
                    <a:lnTo>
                      <a:pt x="19" y="28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1226"/>
              <p:cNvSpPr/>
              <p:nvPr/>
            </p:nvSpPr>
            <p:spPr>
              <a:xfrm>
                <a:off x="2587680" y="2715480"/>
                <a:ext cx="21600" cy="1872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37" h="29">
                    <a:moveTo>
                      <a:pt x="0" y="0"/>
                    </a:moveTo>
                    <a:lnTo>
                      <a:pt x="0" y="14"/>
                    </a:lnTo>
                    <a:lnTo>
                      <a:pt x="28" y="29"/>
                    </a:lnTo>
                    <a:lnTo>
                      <a:pt x="37" y="14"/>
                    </a:lnTo>
                    <a:lnTo>
                      <a:pt x="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1227"/>
              <p:cNvSpPr/>
              <p:nvPr/>
            </p:nvSpPr>
            <p:spPr>
              <a:xfrm>
                <a:off x="2554200" y="2715480"/>
                <a:ext cx="35640" cy="1548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61" h="24">
                    <a:moveTo>
                      <a:pt x="0" y="10"/>
                    </a:moveTo>
                    <a:lnTo>
                      <a:pt x="0" y="14"/>
                    </a:lnTo>
                    <a:lnTo>
                      <a:pt x="9" y="24"/>
                    </a:lnTo>
                    <a:lnTo>
                      <a:pt x="24" y="24"/>
                    </a:lnTo>
                    <a:lnTo>
                      <a:pt x="33" y="24"/>
                    </a:lnTo>
                    <a:lnTo>
                      <a:pt x="52" y="19"/>
                    </a:lnTo>
                    <a:lnTo>
                      <a:pt x="61" y="14"/>
                    </a:lnTo>
                    <a:lnTo>
                      <a:pt x="57" y="0"/>
                    </a:lnTo>
                    <a:lnTo>
                      <a:pt x="47" y="0"/>
                    </a:lnTo>
                    <a:lnTo>
                      <a:pt x="33" y="5"/>
                    </a:lnTo>
                    <a:lnTo>
                      <a:pt x="24" y="5"/>
                    </a:lnTo>
                    <a:lnTo>
                      <a:pt x="19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1228"/>
              <p:cNvSpPr/>
              <p:nvPr/>
            </p:nvSpPr>
            <p:spPr>
              <a:xfrm>
                <a:off x="2548800" y="269388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0"/>
                    </a:moveTo>
                    <a:lnTo>
                      <a:pt x="18" y="0"/>
                    </a:lnTo>
                    <a:lnTo>
                      <a:pt x="23" y="19"/>
                    </a:lnTo>
                    <a:lnTo>
                      <a:pt x="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1229"/>
              <p:cNvSpPr/>
              <p:nvPr/>
            </p:nvSpPr>
            <p:spPr>
              <a:xfrm>
                <a:off x="2545920" y="266904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5"/>
                    </a:moveTo>
                    <a:lnTo>
                      <a:pt x="0" y="5"/>
                    </a:lnTo>
                    <a:lnTo>
                      <a:pt x="0" y="19"/>
                    </a:lnTo>
                    <a:lnTo>
                      <a:pt x="19" y="19"/>
                    </a:lnTo>
                    <a:lnTo>
                      <a:pt x="19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1230"/>
              <p:cNvSpPr/>
              <p:nvPr/>
            </p:nvSpPr>
            <p:spPr>
              <a:xfrm>
                <a:off x="2531880" y="2598120"/>
                <a:ext cx="21960" cy="61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8" h="94">
                    <a:moveTo>
                      <a:pt x="0" y="5"/>
                    </a:moveTo>
                    <a:lnTo>
                      <a:pt x="19" y="0"/>
                    </a:lnTo>
                    <a:lnTo>
                      <a:pt x="38" y="90"/>
                    </a:lnTo>
                    <a:lnTo>
                      <a:pt x="19" y="94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2529000" y="25765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0"/>
                    </a:moveTo>
                    <a:lnTo>
                      <a:pt x="15" y="0"/>
                    </a:lnTo>
                    <a:lnTo>
                      <a:pt x="19" y="14"/>
                    </a:lnTo>
                    <a:lnTo>
                      <a:pt x="0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2523960" y="255132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5"/>
                    </a:moveTo>
                    <a:lnTo>
                      <a:pt x="19" y="0"/>
                    </a:lnTo>
                    <a:lnTo>
                      <a:pt x="24" y="19"/>
                    </a:lnTo>
                    <a:lnTo>
                      <a:pt x="5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2509920" y="2480400"/>
                <a:ext cx="21960" cy="615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8" h="94">
                    <a:moveTo>
                      <a:pt x="0" y="4"/>
                    </a:moveTo>
                    <a:lnTo>
                      <a:pt x="10" y="42"/>
                    </a:lnTo>
                    <a:lnTo>
                      <a:pt x="19" y="94"/>
                    </a:lnTo>
                    <a:lnTo>
                      <a:pt x="38" y="89"/>
                    </a:lnTo>
                    <a:lnTo>
                      <a:pt x="29" y="37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2499120" y="24613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9" y="0"/>
                    </a:lnTo>
                    <a:lnTo>
                      <a:pt x="23" y="5"/>
                    </a:lnTo>
                    <a:lnTo>
                      <a:pt x="18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2480040" y="24523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4" y="0"/>
                    </a:lnTo>
                    <a:lnTo>
                      <a:pt x="23" y="10"/>
                    </a:lnTo>
                    <a:lnTo>
                      <a:pt x="18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1236"/>
              <p:cNvSpPr/>
              <p:nvPr/>
            </p:nvSpPr>
            <p:spPr>
              <a:xfrm>
                <a:off x="2418840" y="2430720"/>
                <a:ext cx="55080" cy="3060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4" h="47">
                    <a:moveTo>
                      <a:pt x="0" y="19"/>
                    </a:moveTo>
                    <a:lnTo>
                      <a:pt x="4" y="0"/>
                    </a:lnTo>
                    <a:lnTo>
                      <a:pt x="94" y="28"/>
                    </a:lnTo>
                    <a:lnTo>
                      <a:pt x="85" y="4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1237"/>
              <p:cNvSpPr/>
              <p:nvPr/>
            </p:nvSpPr>
            <p:spPr>
              <a:xfrm>
                <a:off x="2396880" y="242136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9"/>
                    </a:moveTo>
                    <a:lnTo>
                      <a:pt x="9" y="0"/>
                    </a:lnTo>
                    <a:lnTo>
                      <a:pt x="23" y="9"/>
                    </a:lnTo>
                    <a:lnTo>
                      <a:pt x="19" y="2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1238"/>
              <p:cNvSpPr/>
              <p:nvPr/>
            </p:nvSpPr>
            <p:spPr>
              <a:xfrm>
                <a:off x="2377440" y="24148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5"/>
                    </a:moveTo>
                    <a:lnTo>
                      <a:pt x="5" y="0"/>
                    </a:lnTo>
                    <a:lnTo>
                      <a:pt x="23" y="5"/>
                    </a:lnTo>
                    <a:lnTo>
                      <a:pt x="19" y="2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1239"/>
              <p:cNvSpPr/>
              <p:nvPr/>
            </p:nvSpPr>
            <p:spPr>
              <a:xfrm>
                <a:off x="2321640" y="2378160"/>
                <a:ext cx="49680" cy="432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85" h="66">
                    <a:moveTo>
                      <a:pt x="0" y="9"/>
                    </a:moveTo>
                    <a:lnTo>
                      <a:pt x="10" y="23"/>
                    </a:lnTo>
                    <a:lnTo>
                      <a:pt x="19" y="38"/>
                    </a:lnTo>
                    <a:lnTo>
                      <a:pt x="38" y="47"/>
                    </a:lnTo>
                    <a:lnTo>
                      <a:pt x="52" y="56"/>
                    </a:lnTo>
                    <a:lnTo>
                      <a:pt x="76" y="66"/>
                    </a:lnTo>
                    <a:lnTo>
                      <a:pt x="85" y="52"/>
                    </a:lnTo>
                    <a:lnTo>
                      <a:pt x="62" y="42"/>
                    </a:lnTo>
                    <a:lnTo>
                      <a:pt x="48" y="33"/>
                    </a:lnTo>
                    <a:lnTo>
                      <a:pt x="33" y="23"/>
                    </a:lnTo>
                    <a:lnTo>
                      <a:pt x="24" y="14"/>
                    </a:lnTo>
                    <a:lnTo>
                      <a:pt x="15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1240"/>
              <p:cNvSpPr/>
              <p:nvPr/>
            </p:nvSpPr>
            <p:spPr>
              <a:xfrm>
                <a:off x="2316600" y="2356560"/>
                <a:ext cx="10800" cy="14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0" y="4"/>
                    </a:moveTo>
                    <a:lnTo>
                      <a:pt x="0" y="4"/>
                    </a:lnTo>
                    <a:lnTo>
                      <a:pt x="5" y="23"/>
                    </a:lnTo>
                    <a:lnTo>
                      <a:pt x="19" y="19"/>
                    </a:lnTo>
                    <a:lnTo>
                      <a:pt x="19" y="4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1241"/>
              <p:cNvSpPr/>
              <p:nvPr/>
            </p:nvSpPr>
            <p:spPr>
              <a:xfrm>
                <a:off x="2316600" y="233460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0"/>
                    </a:moveTo>
                    <a:lnTo>
                      <a:pt x="0" y="9"/>
                    </a:lnTo>
                    <a:lnTo>
                      <a:pt x="0" y="19"/>
                    </a:lnTo>
                    <a:lnTo>
                      <a:pt x="19" y="14"/>
                    </a:lnTo>
                    <a:lnTo>
                      <a:pt x="19" y="9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1242"/>
              <p:cNvSpPr/>
              <p:nvPr/>
            </p:nvSpPr>
            <p:spPr>
              <a:xfrm>
                <a:off x="2288880" y="2266560"/>
                <a:ext cx="38520" cy="590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6" h="90">
                    <a:moveTo>
                      <a:pt x="0" y="14"/>
                    </a:moveTo>
                    <a:lnTo>
                      <a:pt x="14" y="0"/>
                    </a:lnTo>
                    <a:lnTo>
                      <a:pt x="66" y="80"/>
                    </a:lnTo>
                    <a:lnTo>
                      <a:pt x="47" y="9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1243"/>
              <p:cNvSpPr/>
              <p:nvPr/>
            </p:nvSpPr>
            <p:spPr>
              <a:xfrm>
                <a:off x="2278080" y="22482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9"/>
                    </a:moveTo>
                    <a:lnTo>
                      <a:pt x="14" y="0"/>
                    </a:lnTo>
                    <a:lnTo>
                      <a:pt x="23" y="14"/>
                    </a:lnTo>
                    <a:lnTo>
                      <a:pt x="9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2266920" y="2226240"/>
                <a:ext cx="14040" cy="183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0" y="9"/>
                    </a:moveTo>
                    <a:lnTo>
                      <a:pt x="14" y="0"/>
                    </a:lnTo>
                    <a:lnTo>
                      <a:pt x="24" y="18"/>
                    </a:lnTo>
                    <a:lnTo>
                      <a:pt x="9" y="2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2216880" y="2182320"/>
                <a:ext cx="49680" cy="4392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85" h="67">
                    <a:moveTo>
                      <a:pt x="0" y="15"/>
                    </a:moveTo>
                    <a:lnTo>
                      <a:pt x="9" y="0"/>
                    </a:lnTo>
                    <a:lnTo>
                      <a:pt x="85" y="52"/>
                    </a:lnTo>
                    <a:lnTo>
                      <a:pt x="76" y="67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2197800" y="2167200"/>
                <a:ext cx="16200" cy="180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0" y="14"/>
                    </a:moveTo>
                    <a:lnTo>
                      <a:pt x="14" y="0"/>
                    </a:lnTo>
                    <a:lnTo>
                      <a:pt x="28" y="9"/>
                    </a:lnTo>
                    <a:lnTo>
                      <a:pt x="19" y="28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2181240" y="215496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4"/>
                    </a:moveTo>
                    <a:lnTo>
                      <a:pt x="9" y="0"/>
                    </a:lnTo>
                    <a:lnTo>
                      <a:pt x="23" y="9"/>
                    </a:lnTo>
                    <a:lnTo>
                      <a:pt x="14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>
                <a:off x="2142720" y="2126520"/>
                <a:ext cx="35640" cy="313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61" h="48">
                    <a:moveTo>
                      <a:pt x="0" y="10"/>
                    </a:moveTo>
                    <a:lnTo>
                      <a:pt x="4" y="15"/>
                    </a:lnTo>
                    <a:lnTo>
                      <a:pt x="51" y="48"/>
                    </a:lnTo>
                    <a:lnTo>
                      <a:pt x="61" y="34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4" y="15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1249"/>
              <p:cNvSpPr/>
              <p:nvPr/>
            </p:nvSpPr>
            <p:spPr>
              <a:xfrm>
                <a:off x="2131560" y="2108160"/>
                <a:ext cx="21600" cy="248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37" h="38">
                    <a:moveTo>
                      <a:pt x="0" y="10"/>
                    </a:moveTo>
                    <a:lnTo>
                      <a:pt x="19" y="0"/>
                    </a:lnTo>
                    <a:lnTo>
                      <a:pt x="37" y="28"/>
                    </a:lnTo>
                    <a:lnTo>
                      <a:pt x="19" y="3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1250"/>
              <p:cNvSpPr/>
              <p:nvPr/>
            </p:nvSpPr>
            <p:spPr>
              <a:xfrm>
                <a:off x="2122560" y="2086560"/>
                <a:ext cx="14040" cy="183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0" y="10"/>
                    </a:moveTo>
                    <a:lnTo>
                      <a:pt x="15" y="0"/>
                    </a:lnTo>
                    <a:lnTo>
                      <a:pt x="24" y="19"/>
                    </a:lnTo>
                    <a:lnTo>
                      <a:pt x="5" y="2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1251"/>
              <p:cNvSpPr/>
              <p:nvPr/>
            </p:nvSpPr>
            <p:spPr>
              <a:xfrm>
                <a:off x="2112120" y="206496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10"/>
                    </a:moveTo>
                    <a:lnTo>
                      <a:pt x="14" y="0"/>
                    </a:lnTo>
                    <a:lnTo>
                      <a:pt x="23" y="19"/>
                    </a:lnTo>
                    <a:lnTo>
                      <a:pt x="9" y="28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1252"/>
              <p:cNvSpPr/>
              <p:nvPr/>
            </p:nvSpPr>
            <p:spPr>
              <a:xfrm>
                <a:off x="2078640" y="2003040"/>
                <a:ext cx="35640" cy="583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58320"/>
                  <a:gd name="textAreaBottom" fmla="*/ 58680 h 58320"/>
                </a:gdLst>
                <a:ahLst/>
                <a:rect l="textAreaLeft" t="textAreaTop" r="textAreaRight" b="textAreaBottom"/>
                <a:pathLst>
                  <a:path w="61" h="89">
                    <a:moveTo>
                      <a:pt x="0" y="9"/>
                    </a:moveTo>
                    <a:lnTo>
                      <a:pt x="14" y="0"/>
                    </a:lnTo>
                    <a:lnTo>
                      <a:pt x="61" y="80"/>
                    </a:lnTo>
                    <a:lnTo>
                      <a:pt x="47" y="8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1253"/>
              <p:cNvSpPr/>
              <p:nvPr/>
            </p:nvSpPr>
            <p:spPr>
              <a:xfrm>
                <a:off x="3947400" y="2061720"/>
                <a:ext cx="38880" cy="5544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7" h="85">
                    <a:moveTo>
                      <a:pt x="15" y="85"/>
                    </a:moveTo>
                    <a:lnTo>
                      <a:pt x="43" y="48"/>
                    </a:lnTo>
                    <a:lnTo>
                      <a:pt x="67" y="10"/>
                    </a:lnTo>
                    <a:lnTo>
                      <a:pt x="52" y="0"/>
                    </a:lnTo>
                    <a:lnTo>
                      <a:pt x="29" y="38"/>
                    </a:lnTo>
                    <a:lnTo>
                      <a:pt x="0" y="76"/>
                    </a:lnTo>
                    <a:lnTo>
                      <a:pt x="15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1254"/>
              <p:cNvSpPr/>
              <p:nvPr/>
            </p:nvSpPr>
            <p:spPr>
              <a:xfrm>
                <a:off x="3936960" y="212076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4" y="28"/>
                    </a:moveTo>
                    <a:lnTo>
                      <a:pt x="0" y="19"/>
                    </a:lnTo>
                    <a:lnTo>
                      <a:pt x="9" y="0"/>
                    </a:lnTo>
                    <a:lnTo>
                      <a:pt x="23" y="9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1255"/>
              <p:cNvSpPr/>
              <p:nvPr/>
            </p:nvSpPr>
            <p:spPr>
              <a:xfrm>
                <a:off x="3925800" y="214236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4" y="24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3" y="10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1256"/>
              <p:cNvSpPr/>
              <p:nvPr/>
            </p:nvSpPr>
            <p:spPr>
              <a:xfrm>
                <a:off x="3892320" y="2163960"/>
                <a:ext cx="35640" cy="5544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61" h="85">
                    <a:moveTo>
                      <a:pt x="14" y="85"/>
                    </a:moveTo>
                    <a:lnTo>
                      <a:pt x="28" y="66"/>
                    </a:lnTo>
                    <a:lnTo>
                      <a:pt x="61" y="10"/>
                    </a:lnTo>
                    <a:lnTo>
                      <a:pt x="47" y="0"/>
                    </a:lnTo>
                    <a:lnTo>
                      <a:pt x="9" y="57"/>
                    </a:lnTo>
                    <a:lnTo>
                      <a:pt x="0" y="80"/>
                    </a:lnTo>
                    <a:lnTo>
                      <a:pt x="14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1257"/>
              <p:cNvSpPr/>
              <p:nvPr/>
            </p:nvSpPr>
            <p:spPr>
              <a:xfrm>
                <a:off x="3884400" y="2226240"/>
                <a:ext cx="13320" cy="118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14" y="18"/>
                    </a:moveTo>
                    <a:lnTo>
                      <a:pt x="14" y="18"/>
                    </a:lnTo>
                    <a:lnTo>
                      <a:pt x="23" y="9"/>
                    </a:lnTo>
                    <a:lnTo>
                      <a:pt x="5" y="0"/>
                    </a:lnTo>
                    <a:lnTo>
                      <a:pt x="0" y="18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1258"/>
              <p:cNvSpPr/>
              <p:nvPr/>
            </p:nvSpPr>
            <p:spPr>
              <a:xfrm>
                <a:off x="3884400" y="2238120"/>
                <a:ext cx="7920" cy="3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Rectangle 1259"/>
              <p:cNvSpPr/>
              <p:nvPr/>
            </p:nvSpPr>
            <p:spPr>
              <a:xfrm>
                <a:off x="3881160" y="2253960"/>
                <a:ext cx="10800" cy="900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3867840" y="2275560"/>
                <a:ext cx="21600" cy="6156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37" h="94">
                    <a:moveTo>
                      <a:pt x="18" y="94"/>
                    </a:moveTo>
                    <a:lnTo>
                      <a:pt x="28" y="47"/>
                    </a:lnTo>
                    <a:lnTo>
                      <a:pt x="37" y="5"/>
                    </a:lnTo>
                    <a:lnTo>
                      <a:pt x="18" y="0"/>
                    </a:lnTo>
                    <a:lnTo>
                      <a:pt x="9" y="43"/>
                    </a:lnTo>
                    <a:lnTo>
                      <a:pt x="0" y="90"/>
                    </a:lnTo>
                    <a:lnTo>
                      <a:pt x="18" y="9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1261"/>
            <p:cNvGrpSpPr/>
            <p:nvPr/>
          </p:nvGrpSpPr>
          <p:grpSpPr>
            <a:xfrm>
              <a:off x="2419200" y="2347200"/>
              <a:ext cx="1890360" cy="2488320"/>
              <a:chOff x="2419200" y="2347200"/>
              <a:chExt cx="1890360" cy="2488320"/>
            </a:xfrm>
          </p:grpSpPr>
          <p:sp>
            <p:nvSpPr>
              <p:cNvPr id="440" name="Freeform 1262"/>
              <p:cNvSpPr/>
              <p:nvPr/>
            </p:nvSpPr>
            <p:spPr>
              <a:xfrm>
                <a:off x="3864600" y="2347200"/>
                <a:ext cx="10800" cy="115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14" y="18"/>
                    </a:moveTo>
                    <a:lnTo>
                      <a:pt x="0" y="18"/>
                    </a:lnTo>
                    <a:lnTo>
                      <a:pt x="5" y="0"/>
                    </a:lnTo>
                    <a:lnTo>
                      <a:pt x="19" y="4"/>
                    </a:lnTo>
                    <a:lnTo>
                      <a:pt x="14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1263"/>
              <p:cNvSpPr/>
              <p:nvPr/>
            </p:nvSpPr>
            <p:spPr>
              <a:xfrm>
                <a:off x="3856320" y="236844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4" y="23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3" y="4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1264"/>
              <p:cNvSpPr/>
              <p:nvPr/>
            </p:nvSpPr>
            <p:spPr>
              <a:xfrm>
                <a:off x="3820320" y="2390400"/>
                <a:ext cx="38520" cy="558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66" h="85">
                    <a:moveTo>
                      <a:pt x="19" y="85"/>
                    </a:moveTo>
                    <a:lnTo>
                      <a:pt x="33" y="66"/>
                    </a:lnTo>
                    <a:lnTo>
                      <a:pt x="66" y="9"/>
                    </a:lnTo>
                    <a:lnTo>
                      <a:pt x="66" y="4"/>
                    </a:lnTo>
                    <a:lnTo>
                      <a:pt x="52" y="0"/>
                    </a:lnTo>
                    <a:lnTo>
                      <a:pt x="14" y="52"/>
                    </a:lnTo>
                    <a:lnTo>
                      <a:pt x="0" y="7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1265"/>
              <p:cNvSpPr/>
              <p:nvPr/>
            </p:nvSpPr>
            <p:spPr>
              <a:xfrm>
                <a:off x="3809160" y="2448720"/>
                <a:ext cx="14040" cy="18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5" y="29"/>
                    </a:moveTo>
                    <a:lnTo>
                      <a:pt x="19" y="24"/>
                    </a:lnTo>
                    <a:lnTo>
                      <a:pt x="24" y="10"/>
                    </a:lnTo>
                    <a:lnTo>
                      <a:pt x="10" y="0"/>
                    </a:lnTo>
                    <a:lnTo>
                      <a:pt x="0" y="15"/>
                    </a:lnTo>
                    <a:lnTo>
                      <a:pt x="15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1266"/>
              <p:cNvSpPr/>
              <p:nvPr/>
            </p:nvSpPr>
            <p:spPr>
              <a:xfrm>
                <a:off x="3800880" y="2470320"/>
                <a:ext cx="10800" cy="6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0">
                    <a:moveTo>
                      <a:pt x="19" y="0"/>
                    </a:moveTo>
                    <a:lnTo>
                      <a:pt x="19" y="1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1267"/>
              <p:cNvSpPr/>
              <p:nvPr/>
            </p:nvSpPr>
            <p:spPr>
              <a:xfrm>
                <a:off x="3800880" y="24703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5"/>
                    </a:moveTo>
                    <a:lnTo>
                      <a:pt x="10" y="24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1268"/>
              <p:cNvSpPr/>
              <p:nvPr/>
            </p:nvSpPr>
            <p:spPr>
              <a:xfrm>
                <a:off x="3812040" y="2491920"/>
                <a:ext cx="33120" cy="558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57" h="85">
                    <a:moveTo>
                      <a:pt x="57" y="76"/>
                    </a:moveTo>
                    <a:lnTo>
                      <a:pt x="57" y="76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43" y="85"/>
                    </a:lnTo>
                    <a:lnTo>
                      <a:pt x="57" y="7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1269"/>
              <p:cNvSpPr/>
              <p:nvPr/>
            </p:nvSpPr>
            <p:spPr>
              <a:xfrm>
                <a:off x="3837240" y="2541960"/>
                <a:ext cx="10440" cy="900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8" h="14">
                    <a:moveTo>
                      <a:pt x="18" y="5"/>
                    </a:moveTo>
                    <a:lnTo>
                      <a:pt x="0" y="14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1270"/>
              <p:cNvSpPr/>
              <p:nvPr/>
            </p:nvSpPr>
            <p:spPr>
              <a:xfrm>
                <a:off x="3842280" y="2557800"/>
                <a:ext cx="10800" cy="15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9" y="14"/>
                    </a:moveTo>
                    <a:lnTo>
                      <a:pt x="5" y="23"/>
                    </a:lnTo>
                    <a:lnTo>
                      <a:pt x="0" y="4"/>
                    </a:lnTo>
                    <a:lnTo>
                      <a:pt x="14" y="0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3847680" y="257940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18"/>
                    </a:moveTo>
                    <a:lnTo>
                      <a:pt x="5" y="23"/>
                    </a:lnTo>
                    <a:lnTo>
                      <a:pt x="0" y="4"/>
                    </a:lnTo>
                    <a:lnTo>
                      <a:pt x="19" y="0"/>
                    </a:lnTo>
                    <a:lnTo>
                      <a:pt x="24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3853440" y="2603880"/>
                <a:ext cx="10800" cy="338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19" h="52">
                    <a:moveTo>
                      <a:pt x="19" y="52"/>
                    </a:moveTo>
                    <a:lnTo>
                      <a:pt x="19" y="5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48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3853440" y="2635200"/>
                <a:ext cx="10800" cy="306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19" h="47">
                    <a:moveTo>
                      <a:pt x="19" y="47"/>
                    </a:moveTo>
                    <a:lnTo>
                      <a:pt x="0" y="47"/>
                    </a:lnTo>
                    <a:lnTo>
                      <a:pt x="0" y="0"/>
                    </a:lnTo>
                    <a:lnTo>
                      <a:pt x="19" y="4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3850560" y="267552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9" y="23"/>
                    </a:moveTo>
                    <a:lnTo>
                      <a:pt x="0" y="19"/>
                    </a:lnTo>
                    <a:lnTo>
                      <a:pt x="5" y="0"/>
                    </a:lnTo>
                    <a:lnTo>
                      <a:pt x="24" y="5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Rectangle 1275"/>
              <p:cNvSpPr/>
              <p:nvPr/>
            </p:nvSpPr>
            <p:spPr>
              <a:xfrm>
                <a:off x="3850560" y="27003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276"/>
              <p:cNvSpPr/>
              <p:nvPr/>
            </p:nvSpPr>
            <p:spPr>
              <a:xfrm>
                <a:off x="3850560" y="2724480"/>
                <a:ext cx="10800" cy="248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19" h="38">
                    <a:moveTo>
                      <a:pt x="19" y="38"/>
                    </a:moveTo>
                    <a:lnTo>
                      <a:pt x="19" y="38"/>
                    </a:lnTo>
                    <a:lnTo>
                      <a:pt x="19" y="5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38"/>
                    </a:lnTo>
                    <a:lnTo>
                      <a:pt x="19" y="3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Rectangle 1277"/>
              <p:cNvSpPr/>
              <p:nvPr/>
            </p:nvSpPr>
            <p:spPr>
              <a:xfrm>
                <a:off x="3850560" y="2749680"/>
                <a:ext cx="10800" cy="370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Freeform 1278"/>
              <p:cNvSpPr/>
              <p:nvPr/>
            </p:nvSpPr>
            <p:spPr>
              <a:xfrm>
                <a:off x="3850560" y="27993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4" y="19"/>
                    </a:moveTo>
                    <a:lnTo>
                      <a:pt x="19" y="9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10" y="0"/>
                    </a:lnTo>
                    <a:lnTo>
                      <a:pt x="14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Freeform 1279"/>
              <p:cNvSpPr/>
              <p:nvPr/>
            </p:nvSpPr>
            <p:spPr>
              <a:xfrm>
                <a:off x="3850560" y="2799360"/>
                <a:ext cx="7920" cy="12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5" y="19"/>
                    </a:moveTo>
                    <a:lnTo>
                      <a:pt x="0" y="0"/>
                    </a:lnTo>
                    <a:lnTo>
                      <a:pt x="10" y="0"/>
                    </a:lnTo>
                    <a:lnTo>
                      <a:pt x="14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Freeform 1280"/>
              <p:cNvSpPr/>
              <p:nvPr/>
            </p:nvSpPr>
            <p:spPr>
              <a:xfrm>
                <a:off x="3828600" y="2802240"/>
                <a:ext cx="13680" cy="122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5" y="19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4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Freeform 1281"/>
              <p:cNvSpPr/>
              <p:nvPr/>
            </p:nvSpPr>
            <p:spPr>
              <a:xfrm>
                <a:off x="3765240" y="2805480"/>
                <a:ext cx="55080" cy="2484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5" y="38"/>
                    </a:moveTo>
                    <a:lnTo>
                      <a:pt x="0" y="19"/>
                    </a:lnTo>
                    <a:lnTo>
                      <a:pt x="94" y="0"/>
                    </a:lnTo>
                    <a:lnTo>
                      <a:pt x="94" y="19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Freeform 1282"/>
              <p:cNvSpPr/>
              <p:nvPr/>
            </p:nvSpPr>
            <p:spPr>
              <a:xfrm>
                <a:off x="3751200" y="2821320"/>
                <a:ext cx="5760" cy="12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0" y="0"/>
                    </a:moveTo>
                    <a:lnTo>
                      <a:pt x="10" y="19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Freeform 1283"/>
              <p:cNvSpPr/>
              <p:nvPr/>
            </p:nvSpPr>
            <p:spPr>
              <a:xfrm>
                <a:off x="3745800" y="282132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4" y="28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3" y="14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Freeform 1284"/>
              <p:cNvSpPr/>
              <p:nvPr/>
            </p:nvSpPr>
            <p:spPr>
              <a:xfrm>
                <a:off x="3731760" y="2842920"/>
                <a:ext cx="16920" cy="15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14" y="23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29" y="9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Freeform 1285"/>
              <p:cNvSpPr/>
              <p:nvPr/>
            </p:nvSpPr>
            <p:spPr>
              <a:xfrm>
                <a:off x="3693240" y="2861280"/>
                <a:ext cx="41400" cy="558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71" h="85">
                    <a:moveTo>
                      <a:pt x="14" y="85"/>
                    </a:moveTo>
                    <a:lnTo>
                      <a:pt x="0" y="71"/>
                    </a:lnTo>
                    <a:lnTo>
                      <a:pt x="57" y="0"/>
                    </a:lnTo>
                    <a:lnTo>
                      <a:pt x="71" y="10"/>
                    </a:lnTo>
                    <a:lnTo>
                      <a:pt x="14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Freeform 1286"/>
              <p:cNvSpPr/>
              <p:nvPr/>
            </p:nvSpPr>
            <p:spPr>
              <a:xfrm>
                <a:off x="3679200" y="2917080"/>
                <a:ext cx="16920" cy="180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19" y="28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29" y="14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Freeform 1287"/>
              <p:cNvSpPr/>
              <p:nvPr/>
            </p:nvSpPr>
            <p:spPr>
              <a:xfrm>
                <a:off x="3668400" y="29386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4" y="24"/>
                    </a:moveTo>
                    <a:lnTo>
                      <a:pt x="14" y="24"/>
                    </a:lnTo>
                    <a:lnTo>
                      <a:pt x="23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Freeform 1288"/>
              <p:cNvSpPr/>
              <p:nvPr/>
            </p:nvSpPr>
            <p:spPr>
              <a:xfrm>
                <a:off x="3629880" y="2957040"/>
                <a:ext cx="40680" cy="5580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70" h="85">
                    <a:moveTo>
                      <a:pt x="14" y="85"/>
                    </a:moveTo>
                    <a:lnTo>
                      <a:pt x="0" y="76"/>
                    </a:lnTo>
                    <a:lnTo>
                      <a:pt x="51" y="0"/>
                    </a:lnTo>
                    <a:lnTo>
                      <a:pt x="70" y="10"/>
                    </a:lnTo>
                    <a:lnTo>
                      <a:pt x="14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Freeform 1289"/>
              <p:cNvSpPr/>
              <p:nvPr/>
            </p:nvSpPr>
            <p:spPr>
              <a:xfrm>
                <a:off x="3615840" y="301608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4" y="24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28" y="10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Freeform 1290"/>
              <p:cNvSpPr/>
              <p:nvPr/>
            </p:nvSpPr>
            <p:spPr>
              <a:xfrm>
                <a:off x="3604680" y="3034440"/>
                <a:ext cx="14040" cy="18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4" y="29"/>
                    </a:moveTo>
                    <a:lnTo>
                      <a:pt x="0" y="15"/>
                    </a:lnTo>
                    <a:lnTo>
                      <a:pt x="9" y="0"/>
                    </a:lnTo>
                    <a:lnTo>
                      <a:pt x="24" y="10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Freeform 1291"/>
              <p:cNvSpPr/>
              <p:nvPr/>
            </p:nvSpPr>
            <p:spPr>
              <a:xfrm>
                <a:off x="3582360" y="3056040"/>
                <a:ext cx="24840" cy="313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43" h="48">
                    <a:moveTo>
                      <a:pt x="19" y="48"/>
                    </a:moveTo>
                    <a:lnTo>
                      <a:pt x="19" y="48"/>
                    </a:lnTo>
                    <a:lnTo>
                      <a:pt x="43" y="10"/>
                    </a:lnTo>
                    <a:lnTo>
                      <a:pt x="29" y="0"/>
                    </a:lnTo>
                    <a:lnTo>
                      <a:pt x="0" y="43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Freeform 1292"/>
              <p:cNvSpPr/>
              <p:nvPr/>
            </p:nvSpPr>
            <p:spPr>
              <a:xfrm>
                <a:off x="3577320" y="3084480"/>
                <a:ext cx="16200" cy="306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28" h="47">
                    <a:moveTo>
                      <a:pt x="19" y="47"/>
                    </a:moveTo>
                    <a:lnTo>
                      <a:pt x="0" y="42"/>
                    </a:lnTo>
                    <a:lnTo>
                      <a:pt x="9" y="0"/>
                    </a:lnTo>
                    <a:lnTo>
                      <a:pt x="28" y="5"/>
                    </a:lnTo>
                    <a:lnTo>
                      <a:pt x="19" y="4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Freeform 1293"/>
              <p:cNvSpPr/>
              <p:nvPr/>
            </p:nvSpPr>
            <p:spPr>
              <a:xfrm>
                <a:off x="3571200" y="31244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24"/>
                    </a:moveTo>
                    <a:lnTo>
                      <a:pt x="0" y="19"/>
                    </a:lnTo>
                    <a:lnTo>
                      <a:pt x="5" y="0"/>
                    </a:lnTo>
                    <a:lnTo>
                      <a:pt x="24" y="5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Freeform 1294"/>
              <p:cNvSpPr/>
              <p:nvPr/>
            </p:nvSpPr>
            <p:spPr>
              <a:xfrm>
                <a:off x="3566160" y="314964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9" y="19"/>
                    </a:moveTo>
                    <a:lnTo>
                      <a:pt x="19" y="19"/>
                    </a:lnTo>
                    <a:lnTo>
                      <a:pt x="24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Freeform 1295"/>
              <p:cNvSpPr/>
              <p:nvPr/>
            </p:nvSpPr>
            <p:spPr>
              <a:xfrm>
                <a:off x="3555000" y="3171240"/>
                <a:ext cx="19080" cy="525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3" h="80">
                    <a:moveTo>
                      <a:pt x="19" y="80"/>
                    </a:moveTo>
                    <a:lnTo>
                      <a:pt x="14" y="80"/>
                    </a:lnTo>
                    <a:lnTo>
                      <a:pt x="24" y="52"/>
                    </a:lnTo>
                    <a:lnTo>
                      <a:pt x="33" y="5"/>
                    </a:lnTo>
                    <a:lnTo>
                      <a:pt x="14" y="0"/>
                    </a:lnTo>
                    <a:lnTo>
                      <a:pt x="5" y="47"/>
                    </a:lnTo>
                    <a:lnTo>
                      <a:pt x="0" y="76"/>
                    </a:lnTo>
                    <a:lnTo>
                      <a:pt x="0" y="80"/>
                    </a:lnTo>
                    <a:lnTo>
                      <a:pt x="19" y="8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Rectangle 1296"/>
              <p:cNvSpPr/>
              <p:nvPr/>
            </p:nvSpPr>
            <p:spPr>
              <a:xfrm>
                <a:off x="3555000" y="3223800"/>
                <a:ext cx="10800" cy="900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Rectangle 1297"/>
              <p:cNvSpPr/>
              <p:nvPr/>
            </p:nvSpPr>
            <p:spPr>
              <a:xfrm>
                <a:off x="3555000" y="3245400"/>
                <a:ext cx="10800" cy="972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Rectangle 1298"/>
              <p:cNvSpPr/>
              <p:nvPr/>
            </p:nvSpPr>
            <p:spPr>
              <a:xfrm>
                <a:off x="3555000" y="326700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Rectangle 1299"/>
              <p:cNvSpPr/>
              <p:nvPr/>
            </p:nvSpPr>
            <p:spPr>
              <a:xfrm>
                <a:off x="3555000" y="3291840"/>
                <a:ext cx="10800" cy="622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Rectangle 1300"/>
              <p:cNvSpPr/>
              <p:nvPr/>
            </p:nvSpPr>
            <p:spPr>
              <a:xfrm>
                <a:off x="3555000" y="3366360"/>
                <a:ext cx="10800" cy="972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Rectangle 1301"/>
              <p:cNvSpPr/>
              <p:nvPr/>
            </p:nvSpPr>
            <p:spPr>
              <a:xfrm>
                <a:off x="3555000" y="33879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Rectangle 1302"/>
              <p:cNvSpPr/>
              <p:nvPr/>
            </p:nvSpPr>
            <p:spPr>
              <a:xfrm>
                <a:off x="3555000" y="3412800"/>
                <a:ext cx="10800" cy="622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303"/>
              <p:cNvSpPr/>
              <p:nvPr/>
            </p:nvSpPr>
            <p:spPr>
              <a:xfrm>
                <a:off x="3555000" y="34869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5"/>
                    </a:moveTo>
                    <a:lnTo>
                      <a:pt x="5" y="19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Rectangle 1304"/>
              <p:cNvSpPr/>
              <p:nvPr/>
            </p:nvSpPr>
            <p:spPr>
              <a:xfrm>
                <a:off x="3557880" y="3509280"/>
                <a:ext cx="7920" cy="1152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305"/>
              <p:cNvSpPr/>
              <p:nvPr/>
            </p:nvSpPr>
            <p:spPr>
              <a:xfrm>
                <a:off x="3557880" y="3533760"/>
                <a:ext cx="10800" cy="558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55800"/>
                  <a:gd name="textAreaBottom" fmla="*/ 56160 h 55800"/>
                </a:gdLst>
                <a:ahLst/>
                <a:rect l="textAreaLeft" t="textAreaTop" r="textAreaRight" b="textAreaBottom"/>
                <a:pathLst>
                  <a:path w="19" h="85">
                    <a:moveTo>
                      <a:pt x="14" y="85"/>
                    </a:moveTo>
                    <a:lnTo>
                      <a:pt x="19" y="76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76"/>
                    </a:lnTo>
                    <a:lnTo>
                      <a:pt x="14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06"/>
              <p:cNvSpPr/>
              <p:nvPr/>
            </p:nvSpPr>
            <p:spPr>
              <a:xfrm>
                <a:off x="3552120" y="35802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0" y="24"/>
                    </a:moveTo>
                    <a:lnTo>
                      <a:pt x="0" y="10"/>
                    </a:lnTo>
                    <a:lnTo>
                      <a:pt x="10" y="0"/>
                    </a:lnTo>
                    <a:lnTo>
                      <a:pt x="24" y="1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07"/>
              <p:cNvSpPr/>
              <p:nvPr/>
            </p:nvSpPr>
            <p:spPr>
              <a:xfrm>
                <a:off x="3535560" y="359604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4" y="2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24" y="14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08"/>
              <p:cNvSpPr/>
              <p:nvPr/>
            </p:nvSpPr>
            <p:spPr>
              <a:xfrm>
                <a:off x="3519360" y="361116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4" y="24"/>
                    </a:moveTo>
                    <a:lnTo>
                      <a:pt x="14" y="24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09"/>
              <p:cNvSpPr/>
              <p:nvPr/>
            </p:nvSpPr>
            <p:spPr>
              <a:xfrm>
                <a:off x="3471840" y="3627000"/>
                <a:ext cx="47160" cy="4896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81" h="75">
                    <a:moveTo>
                      <a:pt x="10" y="75"/>
                    </a:moveTo>
                    <a:lnTo>
                      <a:pt x="43" y="47"/>
                    </a:lnTo>
                    <a:lnTo>
                      <a:pt x="81" y="14"/>
                    </a:lnTo>
                    <a:lnTo>
                      <a:pt x="67" y="0"/>
                    </a:lnTo>
                    <a:lnTo>
                      <a:pt x="29" y="33"/>
                    </a:lnTo>
                    <a:lnTo>
                      <a:pt x="0" y="61"/>
                    </a:lnTo>
                    <a:lnTo>
                      <a:pt x="10" y="7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10"/>
              <p:cNvSpPr/>
              <p:nvPr/>
            </p:nvSpPr>
            <p:spPr>
              <a:xfrm>
                <a:off x="3455640" y="367596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0" y="24"/>
                    </a:moveTo>
                    <a:lnTo>
                      <a:pt x="10" y="24"/>
                    </a:lnTo>
                    <a:lnTo>
                      <a:pt x="28" y="15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1311"/>
              <p:cNvSpPr/>
              <p:nvPr/>
            </p:nvSpPr>
            <p:spPr>
              <a:xfrm>
                <a:off x="3439080" y="369180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4" y="24"/>
                    </a:moveTo>
                    <a:lnTo>
                      <a:pt x="19" y="19"/>
                    </a:lnTo>
                    <a:lnTo>
                      <a:pt x="23" y="14"/>
                    </a:lnTo>
                    <a:lnTo>
                      <a:pt x="14" y="0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1312"/>
              <p:cNvSpPr/>
              <p:nvPr/>
            </p:nvSpPr>
            <p:spPr>
              <a:xfrm>
                <a:off x="3425040" y="3710160"/>
                <a:ext cx="14040" cy="187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4" h="29">
                    <a:moveTo>
                      <a:pt x="19" y="29"/>
                    </a:moveTo>
                    <a:lnTo>
                      <a:pt x="19" y="29"/>
                    </a:lnTo>
                    <a:lnTo>
                      <a:pt x="19" y="19"/>
                    </a:lnTo>
                    <a:lnTo>
                      <a:pt x="24" y="10"/>
                    </a:lnTo>
                    <a:lnTo>
                      <a:pt x="10" y="0"/>
                    </a:lnTo>
                    <a:lnTo>
                      <a:pt x="5" y="14"/>
                    </a:lnTo>
                    <a:lnTo>
                      <a:pt x="0" y="29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1313"/>
              <p:cNvSpPr/>
              <p:nvPr/>
            </p:nvSpPr>
            <p:spPr>
              <a:xfrm>
                <a:off x="3425040" y="3729240"/>
                <a:ext cx="14040" cy="432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24" h="66">
                    <a:moveTo>
                      <a:pt x="24" y="66"/>
                    </a:moveTo>
                    <a:lnTo>
                      <a:pt x="24" y="42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5" y="42"/>
                    </a:lnTo>
                    <a:lnTo>
                      <a:pt x="5" y="66"/>
                    </a:lnTo>
                    <a:lnTo>
                      <a:pt x="24" y="6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1314"/>
              <p:cNvSpPr/>
              <p:nvPr/>
            </p:nvSpPr>
            <p:spPr>
              <a:xfrm>
                <a:off x="3427920" y="378504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1315"/>
              <p:cNvSpPr/>
              <p:nvPr/>
            </p:nvSpPr>
            <p:spPr>
              <a:xfrm>
                <a:off x="3427920" y="380952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Freeform 1316"/>
              <p:cNvSpPr/>
              <p:nvPr/>
            </p:nvSpPr>
            <p:spPr>
              <a:xfrm>
                <a:off x="3425040" y="3831120"/>
                <a:ext cx="21960" cy="5292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38" h="81">
                    <a:moveTo>
                      <a:pt x="38" y="66"/>
                    </a:moveTo>
                    <a:lnTo>
                      <a:pt x="38" y="66"/>
                    </a:lnTo>
                    <a:lnTo>
                      <a:pt x="28" y="52"/>
                    </a:lnTo>
                    <a:lnTo>
                      <a:pt x="19" y="38"/>
                    </a:lnTo>
                    <a:lnTo>
                      <a:pt x="19" y="29"/>
                    </a:lnTo>
                    <a:lnTo>
                      <a:pt x="19" y="15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29"/>
                    </a:lnTo>
                    <a:lnTo>
                      <a:pt x="5" y="48"/>
                    </a:lnTo>
                    <a:lnTo>
                      <a:pt x="10" y="62"/>
                    </a:lnTo>
                    <a:lnTo>
                      <a:pt x="24" y="81"/>
                    </a:lnTo>
                    <a:lnTo>
                      <a:pt x="38" y="6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Freeform 1317"/>
              <p:cNvSpPr/>
              <p:nvPr/>
            </p:nvSpPr>
            <p:spPr>
              <a:xfrm>
                <a:off x="3439080" y="387432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10"/>
                    </a:moveTo>
                    <a:lnTo>
                      <a:pt x="14" y="24"/>
                    </a:lnTo>
                    <a:lnTo>
                      <a:pt x="0" y="15"/>
                    </a:lnTo>
                    <a:lnTo>
                      <a:pt x="14" y="0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Freeform 1318"/>
              <p:cNvSpPr/>
              <p:nvPr/>
            </p:nvSpPr>
            <p:spPr>
              <a:xfrm>
                <a:off x="3455640" y="388692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5"/>
                    </a:moveTo>
                    <a:lnTo>
                      <a:pt x="14" y="0"/>
                    </a:lnTo>
                    <a:lnTo>
                      <a:pt x="0" y="15"/>
                    </a:lnTo>
                    <a:lnTo>
                      <a:pt x="10" y="19"/>
                    </a:lnTo>
                    <a:lnTo>
                      <a:pt x="19" y="24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Freeform 1319"/>
              <p:cNvSpPr/>
              <p:nvPr/>
            </p:nvSpPr>
            <p:spPr>
              <a:xfrm>
                <a:off x="3477600" y="38970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23" y="4"/>
                    </a:moveTo>
                    <a:lnTo>
                      <a:pt x="9" y="0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14" y="23"/>
                    </a:lnTo>
                    <a:lnTo>
                      <a:pt x="23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Freeform 1320"/>
              <p:cNvSpPr/>
              <p:nvPr/>
            </p:nvSpPr>
            <p:spPr>
              <a:xfrm>
                <a:off x="3494160" y="3908520"/>
                <a:ext cx="21960" cy="280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38" h="43">
                    <a:moveTo>
                      <a:pt x="38" y="38"/>
                    </a:moveTo>
                    <a:lnTo>
                      <a:pt x="38" y="38"/>
                    </a:lnTo>
                    <a:lnTo>
                      <a:pt x="29" y="15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0" y="24"/>
                    </a:lnTo>
                    <a:lnTo>
                      <a:pt x="24" y="43"/>
                    </a:lnTo>
                    <a:lnTo>
                      <a:pt x="38" y="3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1321"/>
              <p:cNvSpPr/>
              <p:nvPr/>
            </p:nvSpPr>
            <p:spPr>
              <a:xfrm>
                <a:off x="3508200" y="3933720"/>
                <a:ext cx="19080" cy="33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33" y="43"/>
                    </a:moveTo>
                    <a:lnTo>
                      <a:pt x="19" y="52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33" y="4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Freeform 1322"/>
              <p:cNvSpPr/>
              <p:nvPr/>
            </p:nvSpPr>
            <p:spPr>
              <a:xfrm>
                <a:off x="3524400" y="397440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14"/>
                    </a:moveTo>
                    <a:lnTo>
                      <a:pt x="10" y="2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Freeform 1323"/>
              <p:cNvSpPr/>
              <p:nvPr/>
            </p:nvSpPr>
            <p:spPr>
              <a:xfrm>
                <a:off x="3535560" y="399276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9"/>
                    </a:moveTo>
                    <a:lnTo>
                      <a:pt x="24" y="9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14" y="23"/>
                    </a:lnTo>
                    <a:lnTo>
                      <a:pt x="19" y="23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Freeform 1324"/>
              <p:cNvSpPr/>
              <p:nvPr/>
            </p:nvSpPr>
            <p:spPr>
              <a:xfrm>
                <a:off x="3555000" y="4001760"/>
                <a:ext cx="57960" cy="27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9" h="42">
                    <a:moveTo>
                      <a:pt x="99" y="24"/>
                    </a:moveTo>
                    <a:lnTo>
                      <a:pt x="57" y="14"/>
                    </a:lnTo>
                    <a:lnTo>
                      <a:pt x="19" y="5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14" y="24"/>
                    </a:lnTo>
                    <a:lnTo>
                      <a:pt x="52" y="33"/>
                    </a:lnTo>
                    <a:lnTo>
                      <a:pt x="94" y="42"/>
                    </a:lnTo>
                    <a:lnTo>
                      <a:pt x="9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Freeform 1325"/>
              <p:cNvSpPr/>
              <p:nvPr/>
            </p:nvSpPr>
            <p:spPr>
              <a:xfrm>
                <a:off x="3621240" y="4017600"/>
                <a:ext cx="10800" cy="15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9" y="4"/>
                    </a:moveTo>
                    <a:lnTo>
                      <a:pt x="19" y="23"/>
                    </a:lnTo>
                    <a:lnTo>
                      <a:pt x="0" y="18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Freeform 1326"/>
              <p:cNvSpPr/>
              <p:nvPr/>
            </p:nvSpPr>
            <p:spPr>
              <a:xfrm>
                <a:off x="3640320" y="40201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5"/>
                    </a:moveTo>
                    <a:lnTo>
                      <a:pt x="19" y="24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Freeform 1327"/>
              <p:cNvSpPr/>
              <p:nvPr/>
            </p:nvSpPr>
            <p:spPr>
              <a:xfrm>
                <a:off x="3662640" y="4023720"/>
                <a:ext cx="41400" cy="154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71" h="24">
                    <a:moveTo>
                      <a:pt x="71" y="5"/>
                    </a:moveTo>
                    <a:lnTo>
                      <a:pt x="71" y="5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71" y="24"/>
                    </a:lnTo>
                    <a:lnTo>
                      <a:pt x="71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1328"/>
              <p:cNvSpPr/>
              <p:nvPr/>
            </p:nvSpPr>
            <p:spPr>
              <a:xfrm>
                <a:off x="3704400" y="4026960"/>
                <a:ext cx="1404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1329"/>
              <p:cNvSpPr/>
              <p:nvPr/>
            </p:nvSpPr>
            <p:spPr>
              <a:xfrm>
                <a:off x="3728880" y="4026960"/>
                <a:ext cx="10800" cy="14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9" y="4"/>
                    </a:moveTo>
                    <a:lnTo>
                      <a:pt x="19" y="2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Freeform 1330"/>
              <p:cNvSpPr/>
              <p:nvPr/>
            </p:nvSpPr>
            <p:spPr>
              <a:xfrm>
                <a:off x="3748680" y="40327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10"/>
                    </a:moveTo>
                    <a:lnTo>
                      <a:pt x="18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9" y="24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Freeform 1331"/>
              <p:cNvSpPr/>
              <p:nvPr/>
            </p:nvSpPr>
            <p:spPr>
              <a:xfrm>
                <a:off x="3759120" y="4051800"/>
                <a:ext cx="36360" cy="4320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62" h="66">
                    <a:moveTo>
                      <a:pt x="52" y="51"/>
                    </a:moveTo>
                    <a:lnTo>
                      <a:pt x="62" y="51"/>
                    </a:lnTo>
                    <a:lnTo>
                      <a:pt x="43" y="33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29" y="42"/>
                    </a:lnTo>
                    <a:lnTo>
                      <a:pt x="48" y="66"/>
                    </a:lnTo>
                    <a:lnTo>
                      <a:pt x="57" y="66"/>
                    </a:lnTo>
                    <a:lnTo>
                      <a:pt x="52" y="51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1332"/>
              <p:cNvSpPr/>
              <p:nvPr/>
            </p:nvSpPr>
            <p:spPr>
              <a:xfrm>
                <a:off x="3789720" y="407952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0"/>
                    </a:moveTo>
                    <a:lnTo>
                      <a:pt x="24" y="14"/>
                    </a:lnTo>
                    <a:lnTo>
                      <a:pt x="5" y="24"/>
                    </a:lnTo>
                    <a:lnTo>
                      <a:pt x="0" y="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1333"/>
              <p:cNvSpPr/>
              <p:nvPr/>
            </p:nvSpPr>
            <p:spPr>
              <a:xfrm>
                <a:off x="3812040" y="406692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4" y="0"/>
                    </a:moveTo>
                    <a:lnTo>
                      <a:pt x="24" y="19"/>
                    </a:lnTo>
                    <a:lnTo>
                      <a:pt x="5" y="28"/>
                    </a:lnTo>
                    <a:lnTo>
                      <a:pt x="0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1334"/>
              <p:cNvSpPr/>
              <p:nvPr/>
            </p:nvSpPr>
            <p:spPr>
              <a:xfrm>
                <a:off x="3831480" y="4057560"/>
                <a:ext cx="10800" cy="183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19" h="28">
                    <a:moveTo>
                      <a:pt x="19" y="5"/>
                    </a:moveTo>
                    <a:lnTo>
                      <a:pt x="14" y="5"/>
                    </a:lnTo>
                    <a:lnTo>
                      <a:pt x="0" y="9"/>
                    </a:lnTo>
                    <a:lnTo>
                      <a:pt x="5" y="28"/>
                    </a:lnTo>
                    <a:lnTo>
                      <a:pt x="19" y="19"/>
                    </a:lnTo>
                    <a:lnTo>
                      <a:pt x="19" y="5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1335"/>
              <p:cNvSpPr/>
              <p:nvPr/>
            </p:nvSpPr>
            <p:spPr>
              <a:xfrm>
                <a:off x="3839400" y="4060800"/>
                <a:ext cx="5760" cy="90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0"/>
                    </a:moveTo>
                    <a:lnTo>
                      <a:pt x="0" y="14"/>
                    </a:lnTo>
                    <a:lnTo>
                      <a:pt x="5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1336"/>
              <p:cNvSpPr/>
              <p:nvPr/>
            </p:nvSpPr>
            <p:spPr>
              <a:xfrm>
                <a:off x="3850560" y="4063680"/>
                <a:ext cx="44280" cy="2484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76" h="38">
                    <a:moveTo>
                      <a:pt x="76" y="33"/>
                    </a:moveTo>
                    <a:lnTo>
                      <a:pt x="71" y="19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66" y="38"/>
                    </a:lnTo>
                    <a:lnTo>
                      <a:pt x="76" y="3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1337"/>
              <p:cNvSpPr/>
              <p:nvPr/>
            </p:nvSpPr>
            <p:spPr>
              <a:xfrm>
                <a:off x="3884040" y="4079520"/>
                <a:ext cx="10800" cy="18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9" h="28">
                    <a:moveTo>
                      <a:pt x="14" y="28"/>
                    </a:moveTo>
                    <a:lnTo>
                      <a:pt x="19" y="24"/>
                    </a:lnTo>
                    <a:lnTo>
                      <a:pt x="19" y="9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0" y="28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1338"/>
              <p:cNvSpPr/>
              <p:nvPr/>
            </p:nvSpPr>
            <p:spPr>
              <a:xfrm>
                <a:off x="3881160" y="41068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24"/>
                    </a:moveTo>
                    <a:lnTo>
                      <a:pt x="19" y="19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24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1339"/>
              <p:cNvSpPr/>
              <p:nvPr/>
            </p:nvSpPr>
            <p:spPr>
              <a:xfrm>
                <a:off x="3881160" y="41317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9"/>
                    </a:moveTo>
                    <a:lnTo>
                      <a:pt x="10" y="24"/>
                    </a:lnTo>
                    <a:lnTo>
                      <a:pt x="0" y="5"/>
                    </a:lnTo>
                    <a:lnTo>
                      <a:pt x="19" y="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1340"/>
              <p:cNvSpPr/>
              <p:nvPr/>
            </p:nvSpPr>
            <p:spPr>
              <a:xfrm>
                <a:off x="3892320" y="415080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38" y="14"/>
                    </a:moveTo>
                    <a:lnTo>
                      <a:pt x="38" y="14"/>
                    </a:lnTo>
                    <a:lnTo>
                      <a:pt x="19" y="4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5" y="18"/>
                    </a:lnTo>
                    <a:lnTo>
                      <a:pt x="33" y="33"/>
                    </a:lnTo>
                    <a:lnTo>
                      <a:pt x="38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1341"/>
              <p:cNvSpPr/>
              <p:nvPr/>
            </p:nvSpPr>
            <p:spPr>
              <a:xfrm>
                <a:off x="3911400" y="4160160"/>
                <a:ext cx="35640" cy="2412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61" h="37">
                    <a:moveTo>
                      <a:pt x="61" y="19"/>
                    </a:moveTo>
                    <a:lnTo>
                      <a:pt x="57" y="19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52" y="33"/>
                    </a:lnTo>
                    <a:lnTo>
                      <a:pt x="57" y="37"/>
                    </a:lnTo>
                    <a:lnTo>
                      <a:pt x="61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1342"/>
              <p:cNvSpPr/>
              <p:nvPr/>
            </p:nvSpPr>
            <p:spPr>
              <a:xfrm>
                <a:off x="3956040" y="41752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5"/>
                    </a:moveTo>
                    <a:lnTo>
                      <a:pt x="18" y="5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18" y="24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Freeform 1343"/>
              <p:cNvSpPr/>
              <p:nvPr/>
            </p:nvSpPr>
            <p:spPr>
              <a:xfrm>
                <a:off x="3975120" y="418176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23" y="19"/>
                    </a:moveTo>
                    <a:lnTo>
                      <a:pt x="23" y="14"/>
                    </a:lnTo>
                    <a:lnTo>
                      <a:pt x="14" y="4"/>
                    </a:lnTo>
                    <a:lnTo>
                      <a:pt x="4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4" y="23"/>
                    </a:lnTo>
                    <a:lnTo>
                      <a:pt x="4" y="28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Freeform 1344"/>
              <p:cNvSpPr/>
              <p:nvPr/>
            </p:nvSpPr>
            <p:spPr>
              <a:xfrm>
                <a:off x="3977640" y="4209480"/>
                <a:ext cx="14040" cy="590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24" h="90">
                    <a:moveTo>
                      <a:pt x="24" y="90"/>
                    </a:moveTo>
                    <a:lnTo>
                      <a:pt x="19" y="71"/>
                    </a:lnTo>
                    <a:lnTo>
                      <a:pt x="19" y="57"/>
                    </a:lnTo>
                    <a:lnTo>
                      <a:pt x="19" y="43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43"/>
                    </a:lnTo>
                    <a:lnTo>
                      <a:pt x="0" y="62"/>
                    </a:lnTo>
                    <a:lnTo>
                      <a:pt x="0" y="76"/>
                    </a:lnTo>
                    <a:lnTo>
                      <a:pt x="5" y="90"/>
                    </a:lnTo>
                    <a:lnTo>
                      <a:pt x="24" y="9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345"/>
              <p:cNvSpPr/>
              <p:nvPr/>
            </p:nvSpPr>
            <p:spPr>
              <a:xfrm>
                <a:off x="3986280" y="4274280"/>
                <a:ext cx="19080" cy="15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3" h="24">
                    <a:moveTo>
                      <a:pt x="33" y="14"/>
                    </a:moveTo>
                    <a:lnTo>
                      <a:pt x="14" y="24"/>
                    </a:lnTo>
                    <a:lnTo>
                      <a:pt x="0" y="14"/>
                    </a:lnTo>
                    <a:lnTo>
                      <a:pt x="18" y="0"/>
                    </a:lnTo>
                    <a:lnTo>
                      <a:pt x="33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346"/>
              <p:cNvSpPr/>
              <p:nvPr/>
            </p:nvSpPr>
            <p:spPr>
              <a:xfrm>
                <a:off x="4002840" y="429012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9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9" y="2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Freeform 1347"/>
              <p:cNvSpPr/>
              <p:nvPr/>
            </p:nvSpPr>
            <p:spPr>
              <a:xfrm>
                <a:off x="4022280" y="4302720"/>
                <a:ext cx="16200" cy="147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9"/>
                    </a:moveTo>
                    <a:lnTo>
                      <a:pt x="28" y="9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14" y="23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Freeform 1348"/>
              <p:cNvSpPr/>
              <p:nvPr/>
            </p:nvSpPr>
            <p:spPr>
              <a:xfrm>
                <a:off x="4030560" y="4308480"/>
                <a:ext cx="38520" cy="464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66" h="71">
                    <a:moveTo>
                      <a:pt x="66" y="57"/>
                    </a:moveTo>
                    <a:lnTo>
                      <a:pt x="57" y="47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3" y="62"/>
                    </a:lnTo>
                    <a:lnTo>
                      <a:pt x="52" y="71"/>
                    </a:lnTo>
                    <a:lnTo>
                      <a:pt x="66" y="5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Freeform 1349"/>
              <p:cNvSpPr/>
              <p:nvPr/>
            </p:nvSpPr>
            <p:spPr>
              <a:xfrm>
                <a:off x="4066200" y="4355280"/>
                <a:ext cx="16920" cy="1800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29" y="14"/>
                    </a:moveTo>
                    <a:lnTo>
                      <a:pt x="15" y="28"/>
                    </a:lnTo>
                    <a:lnTo>
                      <a:pt x="0" y="14"/>
                    </a:lnTo>
                    <a:lnTo>
                      <a:pt x="15" y="0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Freeform 1350"/>
              <p:cNvSpPr/>
              <p:nvPr/>
            </p:nvSpPr>
            <p:spPr>
              <a:xfrm>
                <a:off x="4080240" y="437364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10"/>
                    </a:moveTo>
                    <a:lnTo>
                      <a:pt x="19" y="0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5" y="15"/>
                    </a:lnTo>
                    <a:lnTo>
                      <a:pt x="19" y="24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1351"/>
              <p:cNvSpPr/>
              <p:nvPr/>
            </p:nvSpPr>
            <p:spPr>
              <a:xfrm>
                <a:off x="4102200" y="4383360"/>
                <a:ext cx="35640" cy="183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61" h="28">
                    <a:moveTo>
                      <a:pt x="47" y="14"/>
                    </a:moveTo>
                    <a:lnTo>
                      <a:pt x="56" y="9"/>
                    </a:lnTo>
                    <a:lnTo>
                      <a:pt x="47" y="9"/>
                    </a:lnTo>
                    <a:lnTo>
                      <a:pt x="23" y="4"/>
                    </a:lnTo>
                    <a:lnTo>
                      <a:pt x="9" y="0"/>
                    </a:lnTo>
                    <a:lnTo>
                      <a:pt x="0" y="18"/>
                    </a:lnTo>
                    <a:lnTo>
                      <a:pt x="19" y="23"/>
                    </a:lnTo>
                    <a:lnTo>
                      <a:pt x="42" y="28"/>
                    </a:lnTo>
                    <a:lnTo>
                      <a:pt x="56" y="28"/>
                    </a:lnTo>
                    <a:lnTo>
                      <a:pt x="61" y="23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1352"/>
              <p:cNvSpPr/>
              <p:nvPr/>
            </p:nvSpPr>
            <p:spPr>
              <a:xfrm>
                <a:off x="4129920" y="4371120"/>
                <a:ext cx="24840" cy="2736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43" h="42">
                    <a:moveTo>
                      <a:pt x="28" y="0"/>
                    </a:moveTo>
                    <a:lnTo>
                      <a:pt x="43" y="14"/>
                    </a:lnTo>
                    <a:lnTo>
                      <a:pt x="14" y="42"/>
                    </a:lnTo>
                    <a:lnTo>
                      <a:pt x="0" y="33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1353"/>
              <p:cNvSpPr/>
              <p:nvPr/>
            </p:nvSpPr>
            <p:spPr>
              <a:xfrm>
                <a:off x="4143960" y="4367880"/>
                <a:ext cx="10800" cy="18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19" h="28">
                    <a:moveTo>
                      <a:pt x="19" y="19"/>
                    </a:moveTo>
                    <a:lnTo>
                      <a:pt x="19" y="14"/>
                    </a:lnTo>
                    <a:lnTo>
                      <a:pt x="19" y="9"/>
                    </a:lnTo>
                    <a:lnTo>
                      <a:pt x="14" y="14"/>
                    </a:lnTo>
                    <a:lnTo>
                      <a:pt x="9" y="0"/>
                    </a:lnTo>
                    <a:lnTo>
                      <a:pt x="0" y="5"/>
                    </a:lnTo>
                    <a:lnTo>
                      <a:pt x="4" y="24"/>
                    </a:lnTo>
                    <a:lnTo>
                      <a:pt x="4" y="28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1354"/>
              <p:cNvSpPr/>
              <p:nvPr/>
            </p:nvSpPr>
            <p:spPr>
              <a:xfrm>
                <a:off x="4152240" y="438948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23" y="9"/>
                    </a:moveTo>
                    <a:lnTo>
                      <a:pt x="23" y="9"/>
                    </a:lnTo>
                    <a:lnTo>
                      <a:pt x="19" y="0"/>
                    </a:lnTo>
                    <a:lnTo>
                      <a:pt x="0" y="9"/>
                    </a:lnTo>
                    <a:lnTo>
                      <a:pt x="5" y="19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Freeform 1355"/>
              <p:cNvSpPr/>
              <p:nvPr/>
            </p:nvSpPr>
            <p:spPr>
              <a:xfrm>
                <a:off x="4155120" y="4395240"/>
                <a:ext cx="13320" cy="9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23" h="15">
                    <a:moveTo>
                      <a:pt x="23" y="5"/>
                    </a:moveTo>
                    <a:lnTo>
                      <a:pt x="9" y="15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3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Freeform 1356"/>
              <p:cNvSpPr/>
              <p:nvPr/>
            </p:nvSpPr>
            <p:spPr>
              <a:xfrm>
                <a:off x="4168440" y="4407840"/>
                <a:ext cx="52560" cy="403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90" h="62">
                    <a:moveTo>
                      <a:pt x="90" y="43"/>
                    </a:moveTo>
                    <a:lnTo>
                      <a:pt x="90" y="43"/>
                    </a:lnTo>
                    <a:lnTo>
                      <a:pt x="52" y="29"/>
                    </a:lnTo>
                    <a:lnTo>
                      <a:pt x="24" y="10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10" y="24"/>
                    </a:lnTo>
                    <a:lnTo>
                      <a:pt x="43" y="43"/>
                    </a:lnTo>
                    <a:lnTo>
                      <a:pt x="80" y="62"/>
                    </a:lnTo>
                    <a:lnTo>
                      <a:pt x="90" y="4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Freeform 1357"/>
              <p:cNvSpPr/>
              <p:nvPr/>
            </p:nvSpPr>
            <p:spPr>
              <a:xfrm>
                <a:off x="4224240" y="444204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10"/>
                    </a:moveTo>
                    <a:lnTo>
                      <a:pt x="18" y="24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Freeform 1358"/>
              <p:cNvSpPr/>
              <p:nvPr/>
            </p:nvSpPr>
            <p:spPr>
              <a:xfrm>
                <a:off x="4243320" y="44542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10"/>
                    </a:moveTo>
                    <a:lnTo>
                      <a:pt x="14" y="24"/>
                    </a:lnTo>
                    <a:lnTo>
                      <a:pt x="0" y="14"/>
                    </a:lnTo>
                    <a:lnTo>
                      <a:pt x="9" y="0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Freeform 1359"/>
              <p:cNvSpPr/>
              <p:nvPr/>
            </p:nvSpPr>
            <p:spPr>
              <a:xfrm>
                <a:off x="4259880" y="4466880"/>
                <a:ext cx="49320" cy="3996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85" h="61">
                    <a:moveTo>
                      <a:pt x="85" y="61"/>
                    </a:moveTo>
                    <a:lnTo>
                      <a:pt x="85" y="42"/>
                    </a:lnTo>
                    <a:lnTo>
                      <a:pt x="47" y="19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38" y="38"/>
                    </a:lnTo>
                    <a:lnTo>
                      <a:pt x="75" y="61"/>
                    </a:lnTo>
                    <a:lnTo>
                      <a:pt x="75" y="42"/>
                    </a:lnTo>
                    <a:lnTo>
                      <a:pt x="85" y="61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Freeform 1360"/>
              <p:cNvSpPr/>
              <p:nvPr/>
            </p:nvSpPr>
            <p:spPr>
              <a:xfrm>
                <a:off x="4301640" y="4494600"/>
                <a:ext cx="7920" cy="12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9" y="19"/>
                    </a:moveTo>
                    <a:lnTo>
                      <a:pt x="0" y="5"/>
                    </a:lnTo>
                    <a:lnTo>
                      <a:pt x="4" y="0"/>
                    </a:lnTo>
                    <a:lnTo>
                      <a:pt x="14" y="19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Freeform 1361"/>
              <p:cNvSpPr/>
              <p:nvPr/>
            </p:nvSpPr>
            <p:spPr>
              <a:xfrm>
                <a:off x="4282200" y="450108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9" y="28"/>
                    </a:moveTo>
                    <a:lnTo>
                      <a:pt x="0" y="9"/>
                    </a:lnTo>
                    <a:lnTo>
                      <a:pt x="19" y="0"/>
                    </a:lnTo>
                    <a:lnTo>
                      <a:pt x="23" y="19"/>
                    </a:lnTo>
                    <a:lnTo>
                      <a:pt x="9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Freeform 1362"/>
              <p:cNvSpPr/>
              <p:nvPr/>
            </p:nvSpPr>
            <p:spPr>
              <a:xfrm>
                <a:off x="4262760" y="451368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9" y="23"/>
                    </a:moveTo>
                    <a:lnTo>
                      <a:pt x="0" y="4"/>
                    </a:lnTo>
                    <a:lnTo>
                      <a:pt x="19" y="0"/>
                    </a:lnTo>
                    <a:lnTo>
                      <a:pt x="23" y="14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Freeform 1363"/>
              <p:cNvSpPr/>
              <p:nvPr/>
            </p:nvSpPr>
            <p:spPr>
              <a:xfrm>
                <a:off x="4204800" y="4522680"/>
                <a:ext cx="51840" cy="37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89" h="57">
                    <a:moveTo>
                      <a:pt x="9" y="57"/>
                    </a:moveTo>
                    <a:lnTo>
                      <a:pt x="0" y="42"/>
                    </a:lnTo>
                    <a:lnTo>
                      <a:pt x="85" y="0"/>
                    </a:lnTo>
                    <a:lnTo>
                      <a:pt x="89" y="19"/>
                    </a:lnTo>
                    <a:lnTo>
                      <a:pt x="9" y="5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Freeform 1364"/>
              <p:cNvSpPr/>
              <p:nvPr/>
            </p:nvSpPr>
            <p:spPr>
              <a:xfrm>
                <a:off x="4185000" y="455364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0" y="28"/>
                    </a:moveTo>
                    <a:lnTo>
                      <a:pt x="0" y="10"/>
                    </a:lnTo>
                    <a:lnTo>
                      <a:pt x="19" y="0"/>
                    </a:lnTo>
                    <a:lnTo>
                      <a:pt x="24" y="19"/>
                    </a:ln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Freeform 1365"/>
              <p:cNvSpPr/>
              <p:nvPr/>
            </p:nvSpPr>
            <p:spPr>
              <a:xfrm>
                <a:off x="4165560" y="456588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0" y="24"/>
                    </a:moveTo>
                    <a:lnTo>
                      <a:pt x="0" y="5"/>
                    </a:lnTo>
                    <a:lnTo>
                      <a:pt x="15" y="0"/>
                    </a:lnTo>
                    <a:lnTo>
                      <a:pt x="24" y="14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Freeform 1366"/>
              <p:cNvSpPr/>
              <p:nvPr/>
            </p:nvSpPr>
            <p:spPr>
              <a:xfrm>
                <a:off x="4107600" y="4575240"/>
                <a:ext cx="52560" cy="370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90" h="57">
                    <a:moveTo>
                      <a:pt x="10" y="57"/>
                    </a:moveTo>
                    <a:lnTo>
                      <a:pt x="0" y="43"/>
                    </a:lnTo>
                    <a:lnTo>
                      <a:pt x="81" y="0"/>
                    </a:lnTo>
                    <a:lnTo>
                      <a:pt x="90" y="19"/>
                    </a:lnTo>
                    <a:lnTo>
                      <a:pt x="10" y="5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Freeform 1367"/>
              <p:cNvSpPr/>
              <p:nvPr/>
            </p:nvSpPr>
            <p:spPr>
              <a:xfrm>
                <a:off x="4088520" y="459360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9"/>
                    </a:moveTo>
                    <a:lnTo>
                      <a:pt x="10" y="0"/>
                    </a:lnTo>
                    <a:lnTo>
                      <a:pt x="24" y="10"/>
                    </a:lnTo>
                    <a:lnTo>
                      <a:pt x="14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Freeform 1368"/>
              <p:cNvSpPr/>
              <p:nvPr/>
            </p:nvSpPr>
            <p:spPr>
              <a:xfrm>
                <a:off x="4069080" y="458424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4"/>
                    </a:moveTo>
                    <a:lnTo>
                      <a:pt x="5" y="0"/>
                    </a:lnTo>
                    <a:lnTo>
                      <a:pt x="24" y="10"/>
                    </a:lnTo>
                    <a:lnTo>
                      <a:pt x="14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Freeform 1369"/>
              <p:cNvSpPr/>
              <p:nvPr/>
            </p:nvSpPr>
            <p:spPr>
              <a:xfrm>
                <a:off x="4033440" y="4565880"/>
                <a:ext cx="30240" cy="248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52" h="38">
                    <a:moveTo>
                      <a:pt x="5" y="0"/>
                    </a:moveTo>
                    <a:lnTo>
                      <a:pt x="0" y="14"/>
                    </a:lnTo>
                    <a:lnTo>
                      <a:pt x="42" y="38"/>
                    </a:lnTo>
                    <a:lnTo>
                      <a:pt x="52" y="19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Freeform 1370"/>
              <p:cNvSpPr/>
              <p:nvPr/>
            </p:nvSpPr>
            <p:spPr>
              <a:xfrm>
                <a:off x="4008240" y="4560120"/>
                <a:ext cx="28080" cy="147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48" h="23">
                    <a:moveTo>
                      <a:pt x="0" y="18"/>
                    </a:moveTo>
                    <a:lnTo>
                      <a:pt x="5" y="0"/>
                    </a:lnTo>
                    <a:lnTo>
                      <a:pt x="48" y="9"/>
                    </a:lnTo>
                    <a:lnTo>
                      <a:pt x="43" y="23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Rectangle 1371"/>
              <p:cNvSpPr/>
              <p:nvPr/>
            </p:nvSpPr>
            <p:spPr>
              <a:xfrm>
                <a:off x="3988800" y="455688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Freeform 1372"/>
              <p:cNvSpPr/>
              <p:nvPr/>
            </p:nvSpPr>
            <p:spPr>
              <a:xfrm>
                <a:off x="3966480" y="4547520"/>
                <a:ext cx="16920" cy="14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0" y="19"/>
                    </a:moveTo>
                    <a:lnTo>
                      <a:pt x="10" y="23"/>
                    </a:lnTo>
                    <a:lnTo>
                      <a:pt x="15" y="23"/>
                    </a:lnTo>
                    <a:lnTo>
                      <a:pt x="29" y="9"/>
                    </a:lnTo>
                    <a:lnTo>
                      <a:pt x="19" y="4"/>
                    </a:lnTo>
                    <a:lnTo>
                      <a:pt x="1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Freeform 1373"/>
              <p:cNvSpPr/>
              <p:nvPr/>
            </p:nvSpPr>
            <p:spPr>
              <a:xfrm>
                <a:off x="3939120" y="4544280"/>
                <a:ext cx="21960" cy="154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38" h="24">
                    <a:moveTo>
                      <a:pt x="14" y="24"/>
                    </a:moveTo>
                    <a:lnTo>
                      <a:pt x="14" y="24"/>
                    </a:lnTo>
                    <a:lnTo>
                      <a:pt x="24" y="19"/>
                    </a:lnTo>
                    <a:lnTo>
                      <a:pt x="29" y="19"/>
                    </a:lnTo>
                    <a:lnTo>
                      <a:pt x="33" y="19"/>
                    </a:lnTo>
                    <a:lnTo>
                      <a:pt x="38" y="0"/>
                    </a:lnTo>
                    <a:lnTo>
                      <a:pt x="24" y="0"/>
                    </a:lnTo>
                    <a:lnTo>
                      <a:pt x="14" y="5"/>
                    </a:lnTo>
                    <a:lnTo>
                      <a:pt x="0" y="1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Freeform 1374"/>
              <p:cNvSpPr/>
              <p:nvPr/>
            </p:nvSpPr>
            <p:spPr>
              <a:xfrm>
                <a:off x="3919680" y="4553640"/>
                <a:ext cx="27360" cy="4320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7" h="66">
                    <a:moveTo>
                      <a:pt x="19" y="66"/>
                    </a:moveTo>
                    <a:lnTo>
                      <a:pt x="19" y="57"/>
                    </a:lnTo>
                    <a:lnTo>
                      <a:pt x="47" y="10"/>
                    </a:lnTo>
                    <a:lnTo>
                      <a:pt x="33" y="0"/>
                    </a:lnTo>
                    <a:lnTo>
                      <a:pt x="5" y="52"/>
                    </a:lnTo>
                    <a:lnTo>
                      <a:pt x="0" y="57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Freeform 1375"/>
              <p:cNvSpPr/>
              <p:nvPr/>
            </p:nvSpPr>
            <p:spPr>
              <a:xfrm>
                <a:off x="3914640" y="46000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4" y="5"/>
                    </a:moveTo>
                    <a:lnTo>
                      <a:pt x="19" y="19"/>
                    </a:lnTo>
                    <a:lnTo>
                      <a:pt x="19" y="9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5" y="24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Freeform 1376"/>
              <p:cNvSpPr/>
              <p:nvPr/>
            </p:nvSpPr>
            <p:spPr>
              <a:xfrm>
                <a:off x="3917520" y="4603320"/>
                <a:ext cx="10440" cy="122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18" y="9"/>
                    </a:moveTo>
                    <a:lnTo>
                      <a:pt x="18" y="9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4" y="19"/>
                    </a:lnTo>
                    <a:lnTo>
                      <a:pt x="18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Freeform 1377"/>
              <p:cNvSpPr/>
              <p:nvPr/>
            </p:nvSpPr>
            <p:spPr>
              <a:xfrm>
                <a:off x="3925800" y="461844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19"/>
                    </a:moveTo>
                    <a:lnTo>
                      <a:pt x="23" y="19"/>
                    </a:lnTo>
                    <a:lnTo>
                      <a:pt x="19" y="5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4" y="14"/>
                    </a:lnTo>
                    <a:lnTo>
                      <a:pt x="4" y="24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Freeform 1378"/>
              <p:cNvSpPr/>
              <p:nvPr/>
            </p:nvSpPr>
            <p:spPr>
              <a:xfrm>
                <a:off x="3919680" y="4643640"/>
                <a:ext cx="19080" cy="33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19" y="52"/>
                    </a:moveTo>
                    <a:lnTo>
                      <a:pt x="19" y="52"/>
                    </a:lnTo>
                    <a:lnTo>
                      <a:pt x="29" y="28"/>
                    </a:lnTo>
                    <a:lnTo>
                      <a:pt x="33" y="5"/>
                    </a:lnTo>
                    <a:lnTo>
                      <a:pt x="19" y="0"/>
                    </a:lnTo>
                    <a:lnTo>
                      <a:pt x="14" y="19"/>
                    </a:lnTo>
                    <a:lnTo>
                      <a:pt x="0" y="42"/>
                    </a:lnTo>
                    <a:lnTo>
                      <a:pt x="19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Freeform 1379"/>
              <p:cNvSpPr/>
              <p:nvPr/>
            </p:nvSpPr>
            <p:spPr>
              <a:xfrm>
                <a:off x="3911400" y="4671000"/>
                <a:ext cx="19080" cy="33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14" y="52"/>
                    </a:moveTo>
                    <a:lnTo>
                      <a:pt x="0" y="43"/>
                    </a:lnTo>
                    <a:lnTo>
                      <a:pt x="14" y="0"/>
                    </a:lnTo>
                    <a:lnTo>
                      <a:pt x="33" y="10"/>
                    </a:lnTo>
                    <a:lnTo>
                      <a:pt x="14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Freeform 1380"/>
              <p:cNvSpPr/>
              <p:nvPr/>
            </p:nvSpPr>
            <p:spPr>
              <a:xfrm>
                <a:off x="3900240" y="4708440"/>
                <a:ext cx="14040" cy="183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9" y="28"/>
                    </a:moveTo>
                    <a:lnTo>
                      <a:pt x="19" y="24"/>
                    </a:lnTo>
                    <a:lnTo>
                      <a:pt x="24" y="10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19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Freeform 1381"/>
              <p:cNvSpPr/>
              <p:nvPr/>
            </p:nvSpPr>
            <p:spPr>
              <a:xfrm>
                <a:off x="3892320" y="473328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9" y="23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4" y="5"/>
                    </a:lnTo>
                    <a:lnTo>
                      <a:pt x="19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Freeform 1382"/>
              <p:cNvSpPr/>
              <p:nvPr/>
            </p:nvSpPr>
            <p:spPr>
              <a:xfrm>
                <a:off x="3867480" y="4754880"/>
                <a:ext cx="32760" cy="590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" h="90">
                    <a:moveTo>
                      <a:pt x="14" y="90"/>
                    </a:moveTo>
                    <a:lnTo>
                      <a:pt x="28" y="71"/>
                    </a:lnTo>
                    <a:lnTo>
                      <a:pt x="42" y="33"/>
                    </a:lnTo>
                    <a:lnTo>
                      <a:pt x="56" y="5"/>
                    </a:lnTo>
                    <a:lnTo>
                      <a:pt x="37" y="0"/>
                    </a:lnTo>
                    <a:lnTo>
                      <a:pt x="28" y="24"/>
                    </a:lnTo>
                    <a:lnTo>
                      <a:pt x="9" y="61"/>
                    </a:lnTo>
                    <a:lnTo>
                      <a:pt x="0" y="80"/>
                    </a:lnTo>
                    <a:lnTo>
                      <a:pt x="14" y="9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Freeform 1383"/>
              <p:cNvSpPr/>
              <p:nvPr/>
            </p:nvSpPr>
            <p:spPr>
              <a:xfrm>
                <a:off x="3853440" y="4816800"/>
                <a:ext cx="16200" cy="18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9" y="29"/>
                    </a:moveTo>
                    <a:lnTo>
                      <a:pt x="14" y="24"/>
                    </a:lnTo>
                    <a:lnTo>
                      <a:pt x="24" y="14"/>
                    </a:lnTo>
                    <a:lnTo>
                      <a:pt x="28" y="14"/>
                    </a:lnTo>
                    <a:lnTo>
                      <a:pt x="14" y="0"/>
                    </a:lnTo>
                    <a:lnTo>
                      <a:pt x="14" y="5"/>
                    </a:lnTo>
                    <a:lnTo>
                      <a:pt x="5" y="10"/>
                    </a:lnTo>
                    <a:lnTo>
                      <a:pt x="0" y="10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Freeform 1384"/>
              <p:cNvSpPr/>
              <p:nvPr/>
            </p:nvSpPr>
            <p:spPr>
              <a:xfrm>
                <a:off x="3834360" y="482004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5" y="0"/>
                    </a:lnTo>
                    <a:lnTo>
                      <a:pt x="23" y="5"/>
                    </a:lnTo>
                    <a:lnTo>
                      <a:pt x="19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Freeform 1385"/>
              <p:cNvSpPr/>
              <p:nvPr/>
            </p:nvSpPr>
            <p:spPr>
              <a:xfrm>
                <a:off x="3773160" y="4801680"/>
                <a:ext cx="52560" cy="273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0" h="42">
                    <a:moveTo>
                      <a:pt x="0" y="19"/>
                    </a:moveTo>
                    <a:lnTo>
                      <a:pt x="24" y="23"/>
                    </a:lnTo>
                    <a:lnTo>
                      <a:pt x="85" y="37"/>
                    </a:lnTo>
                    <a:lnTo>
                      <a:pt x="90" y="42"/>
                    </a:lnTo>
                    <a:lnTo>
                      <a:pt x="90" y="23"/>
                    </a:lnTo>
                    <a:lnTo>
                      <a:pt x="28" y="4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Freeform 1386"/>
              <p:cNvSpPr/>
              <p:nvPr/>
            </p:nvSpPr>
            <p:spPr>
              <a:xfrm>
                <a:off x="3751200" y="479520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9"/>
                    </a:moveTo>
                    <a:lnTo>
                      <a:pt x="0" y="19"/>
                    </a:lnTo>
                    <a:lnTo>
                      <a:pt x="19" y="24"/>
                    </a:lnTo>
                    <a:lnTo>
                      <a:pt x="24" y="5"/>
                    </a:lnTo>
                    <a:lnTo>
                      <a:pt x="5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Freeform 1387"/>
              <p:cNvSpPr/>
              <p:nvPr/>
            </p:nvSpPr>
            <p:spPr>
              <a:xfrm>
                <a:off x="3731760" y="479520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9"/>
                    </a:moveTo>
                    <a:lnTo>
                      <a:pt x="14" y="19"/>
                    </a:lnTo>
                    <a:lnTo>
                      <a:pt x="19" y="0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Freeform 1388"/>
              <p:cNvSpPr/>
              <p:nvPr/>
            </p:nvSpPr>
            <p:spPr>
              <a:xfrm>
                <a:off x="3665520" y="4798440"/>
                <a:ext cx="54720" cy="248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4" h="38">
                    <a:moveTo>
                      <a:pt x="5" y="38"/>
                    </a:moveTo>
                    <a:lnTo>
                      <a:pt x="42" y="28"/>
                    </a:lnTo>
                    <a:lnTo>
                      <a:pt x="94" y="19"/>
                    </a:lnTo>
                    <a:lnTo>
                      <a:pt x="90" y="0"/>
                    </a:lnTo>
                    <a:lnTo>
                      <a:pt x="38" y="9"/>
                    </a:lnTo>
                    <a:lnTo>
                      <a:pt x="0" y="19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Freeform 1389"/>
              <p:cNvSpPr/>
              <p:nvPr/>
            </p:nvSpPr>
            <p:spPr>
              <a:xfrm>
                <a:off x="3651480" y="4792680"/>
                <a:ext cx="14040" cy="1800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0" y="9"/>
                    </a:moveTo>
                    <a:lnTo>
                      <a:pt x="19" y="0"/>
                    </a:lnTo>
                    <a:lnTo>
                      <a:pt x="24" y="18"/>
                    </a:lnTo>
                    <a:lnTo>
                      <a:pt x="10" y="2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Freeform 1390"/>
              <p:cNvSpPr/>
              <p:nvPr/>
            </p:nvSpPr>
            <p:spPr>
              <a:xfrm>
                <a:off x="3640320" y="4773600"/>
                <a:ext cx="16920" cy="1548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9" h="24">
                    <a:moveTo>
                      <a:pt x="0" y="10"/>
                    </a:moveTo>
                    <a:lnTo>
                      <a:pt x="5" y="19"/>
                    </a:lnTo>
                    <a:lnTo>
                      <a:pt x="10" y="24"/>
                    </a:lnTo>
                    <a:lnTo>
                      <a:pt x="29" y="14"/>
                    </a:lnTo>
                    <a:lnTo>
                      <a:pt x="24" y="5"/>
                    </a:lnTo>
                    <a:lnTo>
                      <a:pt x="15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Freeform 1391"/>
              <p:cNvSpPr/>
              <p:nvPr/>
            </p:nvSpPr>
            <p:spPr>
              <a:xfrm>
                <a:off x="3624120" y="4751640"/>
                <a:ext cx="16200" cy="18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0" y="14"/>
                    </a:moveTo>
                    <a:lnTo>
                      <a:pt x="0" y="14"/>
                    </a:lnTo>
                    <a:lnTo>
                      <a:pt x="10" y="24"/>
                    </a:lnTo>
                    <a:lnTo>
                      <a:pt x="19" y="29"/>
                    </a:lnTo>
                    <a:lnTo>
                      <a:pt x="28" y="19"/>
                    </a:lnTo>
                    <a:lnTo>
                      <a:pt x="24" y="10"/>
                    </a:lnTo>
                    <a:lnTo>
                      <a:pt x="5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Freeform 1392"/>
              <p:cNvSpPr/>
              <p:nvPr/>
            </p:nvSpPr>
            <p:spPr>
              <a:xfrm>
                <a:off x="3588480" y="4733280"/>
                <a:ext cx="38520" cy="2736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66" h="42">
                    <a:moveTo>
                      <a:pt x="0" y="19"/>
                    </a:moveTo>
                    <a:lnTo>
                      <a:pt x="4" y="19"/>
                    </a:lnTo>
                    <a:lnTo>
                      <a:pt x="61" y="42"/>
                    </a:lnTo>
                    <a:lnTo>
                      <a:pt x="66" y="28"/>
                    </a:lnTo>
                    <a:lnTo>
                      <a:pt x="14" y="5"/>
                    </a:lnTo>
                    <a:lnTo>
                      <a:pt x="9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Freeform 1393"/>
              <p:cNvSpPr/>
              <p:nvPr/>
            </p:nvSpPr>
            <p:spPr>
              <a:xfrm>
                <a:off x="3569040" y="472428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4"/>
                    </a:moveTo>
                    <a:lnTo>
                      <a:pt x="9" y="0"/>
                    </a:lnTo>
                    <a:lnTo>
                      <a:pt x="23" y="9"/>
                    </a:lnTo>
                    <a:lnTo>
                      <a:pt x="14" y="2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" name="Freeform 1394"/>
              <p:cNvSpPr/>
              <p:nvPr/>
            </p:nvSpPr>
            <p:spPr>
              <a:xfrm>
                <a:off x="3549600" y="471492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4"/>
                    </a:moveTo>
                    <a:lnTo>
                      <a:pt x="4" y="0"/>
                    </a:lnTo>
                    <a:lnTo>
                      <a:pt x="23" y="4"/>
                    </a:lnTo>
                    <a:lnTo>
                      <a:pt x="14" y="23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" name="Freeform 1395"/>
              <p:cNvSpPr/>
              <p:nvPr/>
            </p:nvSpPr>
            <p:spPr>
              <a:xfrm>
                <a:off x="3494160" y="4674240"/>
                <a:ext cx="49320" cy="43200"/>
              </a:xfrm>
              <a:custGeom>
                <a:avLst/>
                <a:gdLst>
                  <a:gd name="textAreaLeft" fmla="*/ 0 w 49320"/>
                  <a:gd name="textAreaRight" fmla="*/ 49680 w 49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85" h="66">
                    <a:moveTo>
                      <a:pt x="0" y="14"/>
                    </a:moveTo>
                    <a:lnTo>
                      <a:pt x="14" y="29"/>
                    </a:lnTo>
                    <a:lnTo>
                      <a:pt x="47" y="52"/>
                    </a:lnTo>
                    <a:lnTo>
                      <a:pt x="76" y="66"/>
                    </a:lnTo>
                    <a:lnTo>
                      <a:pt x="85" y="52"/>
                    </a:lnTo>
                    <a:lnTo>
                      <a:pt x="57" y="38"/>
                    </a:lnTo>
                    <a:lnTo>
                      <a:pt x="24" y="14"/>
                    </a:lnTo>
                    <a:lnTo>
                      <a:pt x="1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Freeform 1396"/>
              <p:cNvSpPr/>
              <p:nvPr/>
            </p:nvSpPr>
            <p:spPr>
              <a:xfrm>
                <a:off x="3480480" y="465912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9"/>
                    </a:moveTo>
                    <a:lnTo>
                      <a:pt x="0" y="9"/>
                    </a:lnTo>
                    <a:lnTo>
                      <a:pt x="9" y="23"/>
                    </a:lnTo>
                    <a:lnTo>
                      <a:pt x="23" y="14"/>
                    </a:lnTo>
                    <a:lnTo>
                      <a:pt x="1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Freeform 1397"/>
              <p:cNvSpPr/>
              <p:nvPr/>
            </p:nvSpPr>
            <p:spPr>
              <a:xfrm>
                <a:off x="3471840" y="463752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4"/>
                    </a:moveTo>
                    <a:lnTo>
                      <a:pt x="15" y="0"/>
                    </a:lnTo>
                    <a:lnTo>
                      <a:pt x="24" y="14"/>
                    </a:lnTo>
                    <a:lnTo>
                      <a:pt x="5" y="23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Freeform 1398"/>
              <p:cNvSpPr/>
              <p:nvPr/>
            </p:nvSpPr>
            <p:spPr>
              <a:xfrm>
                <a:off x="3458520" y="4587840"/>
                <a:ext cx="19080" cy="3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3" h="61">
                    <a:moveTo>
                      <a:pt x="0" y="9"/>
                    </a:moveTo>
                    <a:lnTo>
                      <a:pt x="0" y="9"/>
                    </a:lnTo>
                    <a:lnTo>
                      <a:pt x="5" y="33"/>
                    </a:lnTo>
                    <a:lnTo>
                      <a:pt x="14" y="61"/>
                    </a:lnTo>
                    <a:lnTo>
                      <a:pt x="33" y="57"/>
                    </a:lnTo>
                    <a:lnTo>
                      <a:pt x="23" y="24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Freeform 1399"/>
              <p:cNvSpPr/>
              <p:nvPr/>
            </p:nvSpPr>
            <p:spPr>
              <a:xfrm>
                <a:off x="3447360" y="4569120"/>
                <a:ext cx="19080" cy="241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33" h="37">
                    <a:moveTo>
                      <a:pt x="0" y="9"/>
                    </a:moveTo>
                    <a:lnTo>
                      <a:pt x="9" y="28"/>
                    </a:lnTo>
                    <a:lnTo>
                      <a:pt x="19" y="37"/>
                    </a:lnTo>
                    <a:lnTo>
                      <a:pt x="33" y="28"/>
                    </a:lnTo>
                    <a:lnTo>
                      <a:pt x="28" y="19"/>
                    </a:lnTo>
                    <a:lnTo>
                      <a:pt x="1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Freeform 1400"/>
              <p:cNvSpPr/>
              <p:nvPr/>
            </p:nvSpPr>
            <p:spPr>
              <a:xfrm>
                <a:off x="3439080" y="45475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4"/>
                    </a:moveTo>
                    <a:lnTo>
                      <a:pt x="0" y="9"/>
                    </a:lnTo>
                    <a:lnTo>
                      <a:pt x="4" y="23"/>
                    </a:lnTo>
                    <a:lnTo>
                      <a:pt x="23" y="14"/>
                    </a:lnTo>
                    <a:lnTo>
                      <a:pt x="19" y="4"/>
                    </a:lnTo>
                    <a:lnTo>
                      <a:pt x="19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Freeform 1401"/>
              <p:cNvSpPr/>
              <p:nvPr/>
            </p:nvSpPr>
            <p:spPr>
              <a:xfrm>
                <a:off x="3433320" y="452592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0"/>
                    </a:moveTo>
                    <a:lnTo>
                      <a:pt x="0" y="4"/>
                    </a:lnTo>
                    <a:lnTo>
                      <a:pt x="5" y="19"/>
                    </a:lnTo>
                    <a:lnTo>
                      <a:pt x="24" y="14"/>
                    </a:lnTo>
                    <a:lnTo>
                      <a:pt x="19" y="4"/>
                    </a:lnTo>
                    <a:lnTo>
                      <a:pt x="1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Freeform 1402"/>
              <p:cNvSpPr/>
              <p:nvPr/>
            </p:nvSpPr>
            <p:spPr>
              <a:xfrm>
                <a:off x="3436200" y="4475880"/>
                <a:ext cx="27360" cy="399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7" h="61">
                    <a:moveTo>
                      <a:pt x="33" y="10"/>
                    </a:moveTo>
                    <a:lnTo>
                      <a:pt x="33" y="0"/>
                    </a:lnTo>
                    <a:lnTo>
                      <a:pt x="19" y="14"/>
                    </a:lnTo>
                    <a:lnTo>
                      <a:pt x="0" y="57"/>
                    </a:lnTo>
                    <a:lnTo>
                      <a:pt x="19" y="61"/>
                    </a:lnTo>
                    <a:lnTo>
                      <a:pt x="38" y="24"/>
                    </a:lnTo>
                    <a:lnTo>
                      <a:pt x="47" y="10"/>
                    </a:lnTo>
                    <a:lnTo>
                      <a:pt x="47" y="0"/>
                    </a:lnTo>
                    <a:lnTo>
                      <a:pt x="33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Freeform 1403"/>
              <p:cNvSpPr/>
              <p:nvPr/>
            </p:nvSpPr>
            <p:spPr>
              <a:xfrm>
                <a:off x="3447360" y="4457520"/>
                <a:ext cx="16200" cy="248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8" h="38">
                    <a:moveTo>
                      <a:pt x="0" y="9"/>
                    </a:moveTo>
                    <a:lnTo>
                      <a:pt x="5" y="23"/>
                    </a:lnTo>
                    <a:lnTo>
                      <a:pt x="14" y="38"/>
                    </a:lnTo>
                    <a:lnTo>
                      <a:pt x="28" y="28"/>
                    </a:lnTo>
                    <a:lnTo>
                      <a:pt x="19" y="14"/>
                    </a:lnTo>
                    <a:lnTo>
                      <a:pt x="1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Freeform 1404"/>
              <p:cNvSpPr/>
              <p:nvPr/>
            </p:nvSpPr>
            <p:spPr>
              <a:xfrm>
                <a:off x="3436200" y="443592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9"/>
                    </a:moveTo>
                    <a:lnTo>
                      <a:pt x="5" y="19"/>
                    </a:lnTo>
                    <a:lnTo>
                      <a:pt x="9" y="23"/>
                    </a:lnTo>
                    <a:lnTo>
                      <a:pt x="24" y="19"/>
                    </a:lnTo>
                    <a:lnTo>
                      <a:pt x="24" y="9"/>
                    </a:lnTo>
                    <a:lnTo>
                      <a:pt x="19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Freeform 1405"/>
              <p:cNvSpPr/>
              <p:nvPr/>
            </p:nvSpPr>
            <p:spPr>
              <a:xfrm>
                <a:off x="3430800" y="44143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4"/>
                    </a:moveTo>
                    <a:lnTo>
                      <a:pt x="0" y="9"/>
                    </a:lnTo>
                    <a:lnTo>
                      <a:pt x="4" y="23"/>
                    </a:lnTo>
                    <a:lnTo>
                      <a:pt x="23" y="19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Freeform 1406"/>
              <p:cNvSpPr/>
              <p:nvPr/>
            </p:nvSpPr>
            <p:spPr>
              <a:xfrm>
                <a:off x="3427920" y="4395240"/>
                <a:ext cx="10800" cy="97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9" h="15">
                    <a:moveTo>
                      <a:pt x="0" y="0"/>
                    </a:moveTo>
                    <a:lnTo>
                      <a:pt x="0" y="0"/>
                    </a:lnTo>
                    <a:lnTo>
                      <a:pt x="0" y="15"/>
                    </a:lnTo>
                    <a:lnTo>
                      <a:pt x="19" y="15"/>
                    </a:lnTo>
                    <a:lnTo>
                      <a:pt x="19" y="1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Freeform 1407"/>
              <p:cNvSpPr/>
              <p:nvPr/>
            </p:nvSpPr>
            <p:spPr>
              <a:xfrm>
                <a:off x="3427920" y="4352040"/>
                <a:ext cx="21960" cy="4968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38" h="76">
                    <a:moveTo>
                      <a:pt x="19" y="5"/>
                    </a:moveTo>
                    <a:lnTo>
                      <a:pt x="19" y="0"/>
                    </a:lnTo>
                    <a:lnTo>
                      <a:pt x="14" y="24"/>
                    </a:lnTo>
                    <a:lnTo>
                      <a:pt x="0" y="66"/>
                    </a:lnTo>
                    <a:lnTo>
                      <a:pt x="19" y="76"/>
                    </a:lnTo>
                    <a:lnTo>
                      <a:pt x="33" y="29"/>
                    </a:lnTo>
                    <a:lnTo>
                      <a:pt x="38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Freeform 1408"/>
              <p:cNvSpPr/>
              <p:nvPr/>
            </p:nvSpPr>
            <p:spPr>
              <a:xfrm>
                <a:off x="3436200" y="434268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5"/>
                    </a:moveTo>
                    <a:lnTo>
                      <a:pt x="19" y="0"/>
                    </a:lnTo>
                    <a:lnTo>
                      <a:pt x="24" y="14"/>
                    </a:lnTo>
                    <a:lnTo>
                      <a:pt x="5" y="19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Freeform 1409"/>
              <p:cNvSpPr/>
              <p:nvPr/>
            </p:nvSpPr>
            <p:spPr>
              <a:xfrm>
                <a:off x="3433320" y="432108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0" y="0"/>
                    </a:moveTo>
                    <a:lnTo>
                      <a:pt x="19" y="0"/>
                    </a:lnTo>
                    <a:lnTo>
                      <a:pt x="24" y="14"/>
                    </a:lnTo>
                    <a:lnTo>
                      <a:pt x="5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Freeform 1410"/>
              <p:cNvSpPr/>
              <p:nvPr/>
            </p:nvSpPr>
            <p:spPr>
              <a:xfrm>
                <a:off x="3430800" y="429624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0" y="0"/>
                    </a:moveTo>
                    <a:lnTo>
                      <a:pt x="18" y="0"/>
                    </a:lnTo>
                    <a:lnTo>
                      <a:pt x="23" y="19"/>
                    </a:lnTo>
                    <a:lnTo>
                      <a:pt x="4" y="1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Freeform 1411"/>
              <p:cNvSpPr/>
              <p:nvPr/>
            </p:nvSpPr>
            <p:spPr>
              <a:xfrm>
                <a:off x="3427920" y="42742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5" y="0"/>
                    </a:moveTo>
                    <a:lnTo>
                      <a:pt x="0" y="10"/>
                    </a:lnTo>
                    <a:lnTo>
                      <a:pt x="5" y="19"/>
                    </a:lnTo>
                    <a:lnTo>
                      <a:pt x="19" y="14"/>
                    </a:lnTo>
                    <a:lnTo>
                      <a:pt x="19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Freeform 1412"/>
              <p:cNvSpPr/>
              <p:nvPr/>
            </p:nvSpPr>
            <p:spPr>
              <a:xfrm>
                <a:off x="3397320" y="4274280"/>
                <a:ext cx="41400" cy="4968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71" h="76">
                    <a:moveTo>
                      <a:pt x="14" y="76"/>
                    </a:moveTo>
                    <a:lnTo>
                      <a:pt x="38" y="48"/>
                    </a:lnTo>
                    <a:lnTo>
                      <a:pt x="71" y="14"/>
                    </a:lnTo>
                    <a:lnTo>
                      <a:pt x="57" y="0"/>
                    </a:lnTo>
                    <a:lnTo>
                      <a:pt x="28" y="38"/>
                    </a:lnTo>
                    <a:lnTo>
                      <a:pt x="0" y="62"/>
                    </a:lnTo>
                    <a:lnTo>
                      <a:pt x="14" y="7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Freeform 1413"/>
              <p:cNvSpPr/>
              <p:nvPr/>
            </p:nvSpPr>
            <p:spPr>
              <a:xfrm>
                <a:off x="3386160" y="43210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5" y="24"/>
                    </a:moveTo>
                    <a:lnTo>
                      <a:pt x="5" y="24"/>
                    </a:lnTo>
                    <a:lnTo>
                      <a:pt x="19" y="14"/>
                    </a:lnTo>
                    <a:lnTo>
                      <a:pt x="5" y="0"/>
                    </a:lnTo>
                    <a:lnTo>
                      <a:pt x="0" y="1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Freeform 1414"/>
              <p:cNvSpPr/>
              <p:nvPr/>
            </p:nvSpPr>
            <p:spPr>
              <a:xfrm>
                <a:off x="3381120" y="4327560"/>
                <a:ext cx="7920" cy="900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4" h="14">
                    <a:moveTo>
                      <a:pt x="9" y="14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4" y="14"/>
                    </a:lnTo>
                    <a:lnTo>
                      <a:pt x="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Freeform 1415"/>
              <p:cNvSpPr/>
              <p:nvPr/>
            </p:nvSpPr>
            <p:spPr>
              <a:xfrm>
                <a:off x="3361680" y="4327560"/>
                <a:ext cx="13320" cy="115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3" h="18">
                    <a:moveTo>
                      <a:pt x="0" y="18"/>
                    </a:moveTo>
                    <a:lnTo>
                      <a:pt x="14" y="18"/>
                    </a:lnTo>
                    <a:lnTo>
                      <a:pt x="23" y="18"/>
                    </a:lnTo>
                    <a:lnTo>
                      <a:pt x="14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Freeform 1416"/>
              <p:cNvSpPr/>
              <p:nvPr/>
            </p:nvSpPr>
            <p:spPr>
              <a:xfrm>
                <a:off x="3309120" y="4327560"/>
                <a:ext cx="41400" cy="1800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71" h="28">
                    <a:moveTo>
                      <a:pt x="19" y="28"/>
                    </a:moveTo>
                    <a:lnTo>
                      <a:pt x="19" y="28"/>
                    </a:lnTo>
                    <a:lnTo>
                      <a:pt x="23" y="23"/>
                    </a:lnTo>
                    <a:lnTo>
                      <a:pt x="33" y="23"/>
                    </a:lnTo>
                    <a:lnTo>
                      <a:pt x="47" y="18"/>
                    </a:lnTo>
                    <a:lnTo>
                      <a:pt x="66" y="18"/>
                    </a:lnTo>
                    <a:lnTo>
                      <a:pt x="71" y="18"/>
                    </a:lnTo>
                    <a:lnTo>
                      <a:pt x="71" y="0"/>
                    </a:lnTo>
                    <a:lnTo>
                      <a:pt x="66" y="0"/>
                    </a:lnTo>
                    <a:lnTo>
                      <a:pt x="42" y="0"/>
                    </a:lnTo>
                    <a:lnTo>
                      <a:pt x="23" y="4"/>
                    </a:lnTo>
                    <a:lnTo>
                      <a:pt x="9" y="9"/>
                    </a:lnTo>
                    <a:lnTo>
                      <a:pt x="0" y="28"/>
                    </a:lnTo>
                    <a:lnTo>
                      <a:pt x="19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Freeform 1417"/>
              <p:cNvSpPr/>
              <p:nvPr/>
            </p:nvSpPr>
            <p:spPr>
              <a:xfrm>
                <a:off x="3309120" y="43459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23" y="23"/>
                    </a:moveTo>
                    <a:lnTo>
                      <a:pt x="5" y="23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Freeform 1418"/>
              <p:cNvSpPr/>
              <p:nvPr/>
            </p:nvSpPr>
            <p:spPr>
              <a:xfrm>
                <a:off x="3317400" y="437112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14"/>
                    </a:moveTo>
                    <a:lnTo>
                      <a:pt x="24" y="14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19"/>
                    </a:lnTo>
                    <a:lnTo>
                      <a:pt x="9" y="23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Freeform 1419"/>
              <p:cNvSpPr/>
              <p:nvPr/>
            </p:nvSpPr>
            <p:spPr>
              <a:xfrm>
                <a:off x="3317400" y="4395240"/>
                <a:ext cx="16200" cy="12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19" y="19"/>
                    </a:moveTo>
                    <a:lnTo>
                      <a:pt x="24" y="10"/>
                    </a:lnTo>
                    <a:lnTo>
                      <a:pt x="28" y="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Freeform 1420"/>
              <p:cNvSpPr/>
              <p:nvPr/>
            </p:nvSpPr>
            <p:spPr>
              <a:xfrm>
                <a:off x="3306240" y="440784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0" y="19"/>
                    </a:moveTo>
                    <a:lnTo>
                      <a:pt x="10" y="19"/>
                    </a:lnTo>
                    <a:lnTo>
                      <a:pt x="19" y="14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1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Freeform 1421"/>
              <p:cNvSpPr/>
              <p:nvPr/>
            </p:nvSpPr>
            <p:spPr>
              <a:xfrm>
                <a:off x="3262320" y="4411080"/>
                <a:ext cx="49680" cy="3060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85" h="47">
                    <a:moveTo>
                      <a:pt x="9" y="47"/>
                    </a:moveTo>
                    <a:lnTo>
                      <a:pt x="0" y="28"/>
                    </a:lnTo>
                    <a:lnTo>
                      <a:pt x="75" y="0"/>
                    </a:lnTo>
                    <a:lnTo>
                      <a:pt x="85" y="14"/>
                    </a:lnTo>
                    <a:lnTo>
                      <a:pt x="9" y="4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Freeform 1422"/>
              <p:cNvSpPr/>
              <p:nvPr/>
            </p:nvSpPr>
            <p:spPr>
              <a:xfrm>
                <a:off x="3242880" y="443592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4" y="23"/>
                    </a:moveTo>
                    <a:lnTo>
                      <a:pt x="14" y="19"/>
                    </a:lnTo>
                    <a:lnTo>
                      <a:pt x="23" y="19"/>
                    </a:lnTo>
                    <a:lnTo>
                      <a:pt x="1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Freeform 1423"/>
              <p:cNvSpPr/>
              <p:nvPr/>
            </p:nvSpPr>
            <p:spPr>
              <a:xfrm>
                <a:off x="3223440" y="44452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4" y="24"/>
                    </a:moveTo>
                    <a:lnTo>
                      <a:pt x="0" y="5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Freeform 1424"/>
              <p:cNvSpPr/>
              <p:nvPr/>
            </p:nvSpPr>
            <p:spPr>
              <a:xfrm>
                <a:off x="3162600" y="4454280"/>
                <a:ext cx="54720" cy="3384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94" h="52">
                    <a:moveTo>
                      <a:pt x="4" y="52"/>
                    </a:moveTo>
                    <a:lnTo>
                      <a:pt x="0" y="33"/>
                    </a:lnTo>
                    <a:lnTo>
                      <a:pt x="85" y="0"/>
                    </a:lnTo>
                    <a:lnTo>
                      <a:pt x="94" y="14"/>
                    </a:lnTo>
                    <a:lnTo>
                      <a:pt x="4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Freeform 1425"/>
              <p:cNvSpPr/>
              <p:nvPr/>
            </p:nvSpPr>
            <p:spPr>
              <a:xfrm>
                <a:off x="3143160" y="448236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4" y="23"/>
                    </a:moveTo>
                    <a:lnTo>
                      <a:pt x="0" y="4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Freeform 1426"/>
              <p:cNvSpPr/>
              <p:nvPr/>
            </p:nvSpPr>
            <p:spPr>
              <a:xfrm>
                <a:off x="3124080" y="44917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4" y="23"/>
                    </a:moveTo>
                    <a:lnTo>
                      <a:pt x="0" y="4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Freeform 1427"/>
              <p:cNvSpPr/>
              <p:nvPr/>
            </p:nvSpPr>
            <p:spPr>
              <a:xfrm>
                <a:off x="3063240" y="4501080"/>
                <a:ext cx="51840" cy="338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9" h="52">
                    <a:moveTo>
                      <a:pt x="9" y="52"/>
                    </a:moveTo>
                    <a:lnTo>
                      <a:pt x="9" y="52"/>
                    </a:lnTo>
                    <a:lnTo>
                      <a:pt x="80" y="19"/>
                    </a:lnTo>
                    <a:lnTo>
                      <a:pt x="89" y="14"/>
                    </a:lnTo>
                    <a:lnTo>
                      <a:pt x="85" y="0"/>
                    </a:lnTo>
                    <a:lnTo>
                      <a:pt x="70" y="5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9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Freeform 1428"/>
              <p:cNvSpPr/>
              <p:nvPr/>
            </p:nvSpPr>
            <p:spPr>
              <a:xfrm>
                <a:off x="3043800" y="452844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9" y="2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23" y="19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Freeform 1429"/>
              <p:cNvSpPr/>
              <p:nvPr/>
            </p:nvSpPr>
            <p:spPr>
              <a:xfrm>
                <a:off x="3024360" y="454104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9" y="2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Freeform 1430"/>
              <p:cNvSpPr/>
              <p:nvPr/>
            </p:nvSpPr>
            <p:spPr>
              <a:xfrm>
                <a:off x="3002040" y="4560120"/>
                <a:ext cx="24480" cy="6156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42" h="94">
                    <a:moveTo>
                      <a:pt x="9" y="94"/>
                    </a:moveTo>
                    <a:lnTo>
                      <a:pt x="19" y="89"/>
                    </a:lnTo>
                    <a:lnTo>
                      <a:pt x="28" y="75"/>
                    </a:lnTo>
                    <a:lnTo>
                      <a:pt x="38" y="56"/>
                    </a:lnTo>
                    <a:lnTo>
                      <a:pt x="42" y="23"/>
                    </a:lnTo>
                    <a:lnTo>
                      <a:pt x="42" y="9"/>
                    </a:lnTo>
                    <a:lnTo>
                      <a:pt x="28" y="0"/>
                    </a:lnTo>
                    <a:lnTo>
                      <a:pt x="23" y="23"/>
                    </a:lnTo>
                    <a:lnTo>
                      <a:pt x="19" y="51"/>
                    </a:lnTo>
                    <a:lnTo>
                      <a:pt x="14" y="66"/>
                    </a:lnTo>
                    <a:lnTo>
                      <a:pt x="5" y="75"/>
                    </a:lnTo>
                    <a:lnTo>
                      <a:pt x="0" y="80"/>
                    </a:lnTo>
                    <a:lnTo>
                      <a:pt x="9" y="9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Freeform 1431"/>
              <p:cNvSpPr/>
              <p:nvPr/>
            </p:nvSpPr>
            <p:spPr>
              <a:xfrm>
                <a:off x="2985480" y="4615920"/>
                <a:ext cx="10800" cy="118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0" y="18"/>
                    </a:moveTo>
                    <a:lnTo>
                      <a:pt x="0" y="18"/>
                    </a:lnTo>
                    <a:lnTo>
                      <a:pt x="19" y="18"/>
                    </a:lnTo>
                    <a:lnTo>
                      <a:pt x="15" y="0"/>
                    </a:lnTo>
                    <a:lnTo>
                      <a:pt x="0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Freeform 1432"/>
              <p:cNvSpPr/>
              <p:nvPr/>
            </p:nvSpPr>
            <p:spPr>
              <a:xfrm>
                <a:off x="2982960" y="4615920"/>
                <a:ext cx="2160" cy="11880"/>
              </a:xfrm>
              <a:custGeom>
                <a:avLst/>
                <a:gdLst>
                  <a:gd name="textAreaLeft" fmla="*/ 0 w 2160"/>
                  <a:gd name="textAreaRight" fmla="*/ 2520 w 216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4" h="18">
                    <a:moveTo>
                      <a:pt x="4" y="18"/>
                    </a:moveTo>
                    <a:lnTo>
                      <a:pt x="0" y="4"/>
                    </a:lnTo>
                    <a:lnTo>
                      <a:pt x="4" y="0"/>
                    </a:lnTo>
                    <a:lnTo>
                      <a:pt x="4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Freeform 1433"/>
              <p:cNvSpPr/>
              <p:nvPr/>
            </p:nvSpPr>
            <p:spPr>
              <a:xfrm>
                <a:off x="2963520" y="461844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9"/>
                    </a:moveTo>
                    <a:lnTo>
                      <a:pt x="0" y="5"/>
                    </a:lnTo>
                    <a:lnTo>
                      <a:pt x="14" y="0"/>
                    </a:lnTo>
                    <a:lnTo>
                      <a:pt x="19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Freeform 1434"/>
              <p:cNvSpPr/>
              <p:nvPr/>
            </p:nvSpPr>
            <p:spPr>
              <a:xfrm>
                <a:off x="2925000" y="4621680"/>
                <a:ext cx="27360" cy="1836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47" h="28">
                    <a:moveTo>
                      <a:pt x="9" y="24"/>
                    </a:moveTo>
                    <a:lnTo>
                      <a:pt x="9" y="28"/>
                    </a:lnTo>
                    <a:lnTo>
                      <a:pt x="28" y="19"/>
                    </a:lnTo>
                    <a:lnTo>
                      <a:pt x="47" y="19"/>
                    </a:lnTo>
                    <a:lnTo>
                      <a:pt x="47" y="0"/>
                    </a:lnTo>
                    <a:lnTo>
                      <a:pt x="23" y="5"/>
                    </a:lnTo>
                    <a:lnTo>
                      <a:pt x="0" y="9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Freeform 1435"/>
              <p:cNvSpPr/>
              <p:nvPr/>
            </p:nvSpPr>
            <p:spPr>
              <a:xfrm>
                <a:off x="2899800" y="4627800"/>
                <a:ext cx="30240" cy="280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8080"/>
                  <a:gd name="textAreaBottom" fmla="*/ 28440 h 28080"/>
                </a:gdLst>
                <a:ahLst/>
                <a:rect l="textAreaLeft" t="textAreaTop" r="textAreaRight" b="textAreaBottom"/>
                <a:pathLst>
                  <a:path w="52" h="43">
                    <a:moveTo>
                      <a:pt x="14" y="43"/>
                    </a:moveTo>
                    <a:lnTo>
                      <a:pt x="0" y="29"/>
                    </a:lnTo>
                    <a:lnTo>
                      <a:pt x="43" y="0"/>
                    </a:lnTo>
                    <a:lnTo>
                      <a:pt x="52" y="15"/>
                    </a:lnTo>
                    <a:lnTo>
                      <a:pt x="14" y="4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Freeform 1436"/>
              <p:cNvSpPr/>
              <p:nvPr/>
            </p:nvSpPr>
            <p:spPr>
              <a:xfrm>
                <a:off x="2883240" y="465264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9" y="28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23" y="19"/>
                    </a:lnTo>
                    <a:lnTo>
                      <a:pt x="9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Freeform 1437"/>
              <p:cNvSpPr/>
              <p:nvPr/>
            </p:nvSpPr>
            <p:spPr>
              <a:xfrm>
                <a:off x="2866320" y="466848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0" y="23"/>
                    </a:moveTo>
                    <a:lnTo>
                      <a:pt x="0" y="9"/>
                    </a:lnTo>
                    <a:lnTo>
                      <a:pt x="15" y="0"/>
                    </a:lnTo>
                    <a:lnTo>
                      <a:pt x="24" y="14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Freeform 1438"/>
              <p:cNvSpPr/>
              <p:nvPr/>
            </p:nvSpPr>
            <p:spPr>
              <a:xfrm>
                <a:off x="2811240" y="4680720"/>
                <a:ext cx="52560" cy="4572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90" h="70">
                    <a:moveTo>
                      <a:pt x="14" y="70"/>
                    </a:moveTo>
                    <a:lnTo>
                      <a:pt x="0" y="56"/>
                    </a:lnTo>
                    <a:lnTo>
                      <a:pt x="76" y="0"/>
                    </a:lnTo>
                    <a:lnTo>
                      <a:pt x="90" y="19"/>
                    </a:lnTo>
                    <a:lnTo>
                      <a:pt x="14" y="7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Freeform 1439"/>
              <p:cNvSpPr/>
              <p:nvPr/>
            </p:nvSpPr>
            <p:spPr>
              <a:xfrm>
                <a:off x="2795040" y="472428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9" y="23"/>
                    </a:moveTo>
                    <a:lnTo>
                      <a:pt x="0" y="9"/>
                    </a:lnTo>
                    <a:lnTo>
                      <a:pt x="14" y="0"/>
                    </a:lnTo>
                    <a:lnTo>
                      <a:pt x="23" y="14"/>
                    </a:lnTo>
                    <a:lnTo>
                      <a:pt x="9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Freeform 1440"/>
              <p:cNvSpPr/>
              <p:nvPr/>
            </p:nvSpPr>
            <p:spPr>
              <a:xfrm>
                <a:off x="2778120" y="4736880"/>
                <a:ext cx="13680" cy="18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0" y="28"/>
                    </a:moveTo>
                    <a:lnTo>
                      <a:pt x="0" y="14"/>
                    </a:lnTo>
                    <a:lnTo>
                      <a:pt x="15" y="0"/>
                    </a:lnTo>
                    <a:lnTo>
                      <a:pt x="24" y="18"/>
                    </a:lnTo>
                    <a:lnTo>
                      <a:pt x="10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Freeform 1441"/>
              <p:cNvSpPr/>
              <p:nvPr/>
            </p:nvSpPr>
            <p:spPr>
              <a:xfrm>
                <a:off x="2764440" y="475164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5" y="24"/>
                    </a:moveTo>
                    <a:lnTo>
                      <a:pt x="9" y="19"/>
                    </a:lnTo>
                    <a:lnTo>
                      <a:pt x="19" y="14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Freeform 1442"/>
              <p:cNvSpPr/>
              <p:nvPr/>
            </p:nvSpPr>
            <p:spPr>
              <a:xfrm>
                <a:off x="2717640" y="4745880"/>
                <a:ext cx="49680" cy="212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85" h="33">
                    <a:moveTo>
                      <a:pt x="0" y="19"/>
                    </a:moveTo>
                    <a:lnTo>
                      <a:pt x="28" y="23"/>
                    </a:lnTo>
                    <a:lnTo>
                      <a:pt x="66" y="28"/>
                    </a:lnTo>
                    <a:lnTo>
                      <a:pt x="85" y="33"/>
                    </a:lnTo>
                    <a:lnTo>
                      <a:pt x="85" y="14"/>
                    </a:lnTo>
                    <a:lnTo>
                      <a:pt x="70" y="9"/>
                    </a:lnTo>
                    <a:lnTo>
                      <a:pt x="33" y="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Freeform 1443"/>
              <p:cNvSpPr/>
              <p:nvPr/>
            </p:nvSpPr>
            <p:spPr>
              <a:xfrm>
                <a:off x="2697840" y="4745880"/>
                <a:ext cx="10800" cy="14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0" y="23"/>
                    </a:moveTo>
                    <a:lnTo>
                      <a:pt x="0" y="4"/>
                    </a:lnTo>
                    <a:lnTo>
                      <a:pt x="19" y="0"/>
                    </a:lnTo>
                    <a:lnTo>
                      <a:pt x="19" y="1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Freeform 1444"/>
              <p:cNvSpPr/>
              <p:nvPr/>
            </p:nvSpPr>
            <p:spPr>
              <a:xfrm>
                <a:off x="2673000" y="4754880"/>
                <a:ext cx="16200" cy="122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8" h="19">
                    <a:moveTo>
                      <a:pt x="9" y="19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8" y="14"/>
                    </a:lnTo>
                    <a:lnTo>
                      <a:pt x="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Freeform 1445"/>
              <p:cNvSpPr/>
              <p:nvPr/>
            </p:nvSpPr>
            <p:spPr>
              <a:xfrm>
                <a:off x="2615400" y="4761000"/>
                <a:ext cx="54720" cy="313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94" h="48">
                    <a:moveTo>
                      <a:pt x="5" y="48"/>
                    </a:moveTo>
                    <a:lnTo>
                      <a:pt x="38" y="38"/>
                    </a:lnTo>
                    <a:lnTo>
                      <a:pt x="94" y="19"/>
                    </a:lnTo>
                    <a:lnTo>
                      <a:pt x="85" y="0"/>
                    </a:lnTo>
                    <a:lnTo>
                      <a:pt x="33" y="19"/>
                    </a:lnTo>
                    <a:lnTo>
                      <a:pt x="0" y="29"/>
                    </a:lnTo>
                    <a:lnTo>
                      <a:pt x="5" y="4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Freeform 1446"/>
              <p:cNvSpPr/>
              <p:nvPr/>
            </p:nvSpPr>
            <p:spPr>
              <a:xfrm>
                <a:off x="2593080" y="47826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5" y="24"/>
                    </a:moveTo>
                    <a:lnTo>
                      <a:pt x="19" y="19"/>
                    </a:lnTo>
                    <a:lnTo>
                      <a:pt x="24" y="19"/>
                    </a:lnTo>
                    <a:lnTo>
                      <a:pt x="19" y="0"/>
                    </a:lnTo>
                    <a:lnTo>
                      <a:pt x="14" y="5"/>
                    </a:lnTo>
                    <a:lnTo>
                      <a:pt x="0" y="5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Freeform 1447"/>
              <p:cNvSpPr/>
              <p:nvPr/>
            </p:nvSpPr>
            <p:spPr>
              <a:xfrm>
                <a:off x="2573640" y="478260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5"/>
                    </a:moveTo>
                    <a:lnTo>
                      <a:pt x="5" y="0"/>
                    </a:lnTo>
                    <a:lnTo>
                      <a:pt x="24" y="10"/>
                    </a:lnTo>
                    <a:lnTo>
                      <a:pt x="14" y="24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Freeform 1448"/>
              <p:cNvSpPr/>
              <p:nvPr/>
            </p:nvSpPr>
            <p:spPr>
              <a:xfrm>
                <a:off x="2515680" y="4751640"/>
                <a:ext cx="52560" cy="3744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90" h="57">
                    <a:moveTo>
                      <a:pt x="0" y="14"/>
                    </a:moveTo>
                    <a:lnTo>
                      <a:pt x="5" y="0"/>
                    </a:lnTo>
                    <a:lnTo>
                      <a:pt x="90" y="38"/>
                    </a:lnTo>
                    <a:lnTo>
                      <a:pt x="80" y="5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Freeform 1449"/>
              <p:cNvSpPr/>
              <p:nvPr/>
            </p:nvSpPr>
            <p:spPr>
              <a:xfrm>
                <a:off x="2493360" y="474264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0" y="14"/>
                    </a:moveTo>
                    <a:lnTo>
                      <a:pt x="10" y="0"/>
                    </a:lnTo>
                    <a:lnTo>
                      <a:pt x="28" y="5"/>
                    </a:lnTo>
                    <a:lnTo>
                      <a:pt x="19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Freeform 1450"/>
              <p:cNvSpPr/>
              <p:nvPr/>
            </p:nvSpPr>
            <p:spPr>
              <a:xfrm>
                <a:off x="2477160" y="473940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14" y="29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3" y="14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Freeform 1451"/>
              <p:cNvSpPr/>
              <p:nvPr/>
            </p:nvSpPr>
            <p:spPr>
              <a:xfrm>
                <a:off x="2432520" y="4758480"/>
                <a:ext cx="44280" cy="525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76" h="80">
                    <a:moveTo>
                      <a:pt x="14" y="80"/>
                    </a:moveTo>
                    <a:lnTo>
                      <a:pt x="0" y="66"/>
                    </a:lnTo>
                    <a:lnTo>
                      <a:pt x="62" y="0"/>
                    </a:lnTo>
                    <a:lnTo>
                      <a:pt x="76" y="9"/>
                    </a:lnTo>
                    <a:lnTo>
                      <a:pt x="14" y="8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Freeform 1452"/>
              <p:cNvSpPr/>
              <p:nvPr/>
            </p:nvSpPr>
            <p:spPr>
              <a:xfrm>
                <a:off x="2419200" y="4811040"/>
                <a:ext cx="13320" cy="18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14" y="28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3" y="14"/>
                    </a:lnTo>
                    <a:lnTo>
                      <a:pt x="14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Freeform 1453"/>
              <p:cNvSpPr/>
              <p:nvPr/>
            </p:nvSpPr>
            <p:spPr>
              <a:xfrm>
                <a:off x="3889080" y="4029480"/>
                <a:ext cx="47160" cy="4968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81" h="76">
                    <a:moveTo>
                      <a:pt x="71" y="0"/>
                    </a:moveTo>
                    <a:lnTo>
                      <a:pt x="81" y="15"/>
                    </a:lnTo>
                    <a:lnTo>
                      <a:pt x="14" y="76"/>
                    </a:lnTo>
                    <a:lnTo>
                      <a:pt x="0" y="62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Freeform 1454"/>
              <p:cNvSpPr/>
              <p:nvPr/>
            </p:nvSpPr>
            <p:spPr>
              <a:xfrm>
                <a:off x="3936600" y="401436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18" y="0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14" y="23"/>
                    </a:lnTo>
                    <a:lnTo>
                      <a:pt x="23" y="1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Freeform 1455"/>
              <p:cNvSpPr/>
              <p:nvPr/>
            </p:nvSpPr>
            <p:spPr>
              <a:xfrm>
                <a:off x="3947400" y="4014360"/>
                <a:ext cx="2880" cy="12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5" y="0"/>
                    </a:moveTo>
                    <a:lnTo>
                      <a:pt x="5" y="14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Freeform 1456"/>
              <p:cNvSpPr/>
              <p:nvPr/>
            </p:nvSpPr>
            <p:spPr>
              <a:xfrm>
                <a:off x="3961440" y="40111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4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Freeform 1457"/>
              <p:cNvSpPr/>
              <p:nvPr/>
            </p:nvSpPr>
            <p:spPr>
              <a:xfrm>
                <a:off x="3980520" y="4001760"/>
                <a:ext cx="55440" cy="18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95" h="28">
                    <a:moveTo>
                      <a:pt x="95" y="0"/>
                    </a:moveTo>
                    <a:lnTo>
                      <a:pt x="95" y="19"/>
                    </a:lnTo>
                    <a:lnTo>
                      <a:pt x="5" y="28"/>
                    </a:lnTo>
                    <a:lnTo>
                      <a:pt x="0" y="9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Rectangle 1458"/>
              <p:cNvSpPr/>
              <p:nvPr/>
            </p:nvSpPr>
            <p:spPr>
              <a:xfrm>
                <a:off x="4046760" y="40017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Freeform 1459"/>
              <p:cNvSpPr/>
              <p:nvPr/>
            </p:nvSpPr>
            <p:spPr>
              <a:xfrm>
                <a:off x="4069080" y="40017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9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Freeform 1460"/>
              <p:cNvSpPr/>
              <p:nvPr/>
            </p:nvSpPr>
            <p:spPr>
              <a:xfrm>
                <a:off x="4088520" y="4001760"/>
                <a:ext cx="30240" cy="1224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2" h="19">
                    <a:moveTo>
                      <a:pt x="52" y="0"/>
                    </a:moveTo>
                    <a:lnTo>
                      <a:pt x="52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52" y="19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Freeform 1461"/>
              <p:cNvSpPr/>
              <p:nvPr/>
            </p:nvSpPr>
            <p:spPr>
              <a:xfrm>
                <a:off x="4118760" y="4001760"/>
                <a:ext cx="24840" cy="1548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43" h="24">
                    <a:moveTo>
                      <a:pt x="43" y="5"/>
                    </a:moveTo>
                    <a:lnTo>
                      <a:pt x="43" y="24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Group 1462"/>
            <p:cNvGrpSpPr/>
            <p:nvPr/>
          </p:nvGrpSpPr>
          <p:grpSpPr>
            <a:xfrm>
              <a:off x="4155480" y="1900440"/>
              <a:ext cx="3274920" cy="2271960"/>
              <a:chOff x="4155480" y="1900440"/>
              <a:chExt cx="3274920" cy="2271960"/>
            </a:xfrm>
          </p:grpSpPr>
          <p:sp>
            <p:nvSpPr>
              <p:cNvPr id="641" name="Freeform 1463"/>
              <p:cNvSpPr/>
              <p:nvPr/>
            </p:nvSpPr>
            <p:spPr>
              <a:xfrm>
                <a:off x="4155480" y="4005360"/>
                <a:ext cx="10440" cy="151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8" h="23">
                    <a:moveTo>
                      <a:pt x="18" y="4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18" y="23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Freeform 1464"/>
              <p:cNvSpPr/>
              <p:nvPr/>
            </p:nvSpPr>
            <p:spPr>
              <a:xfrm>
                <a:off x="4174560" y="400788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23" y="0"/>
                    </a:moveTo>
                    <a:lnTo>
                      <a:pt x="18" y="19"/>
                    </a:lnTo>
                    <a:lnTo>
                      <a:pt x="0" y="19"/>
                    </a:lnTo>
                    <a:lnTo>
                      <a:pt x="4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Freeform 1465"/>
              <p:cNvSpPr/>
              <p:nvPr/>
            </p:nvSpPr>
            <p:spPr>
              <a:xfrm>
                <a:off x="4196160" y="4007880"/>
                <a:ext cx="5760" cy="1224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0" h="19">
                    <a:moveTo>
                      <a:pt x="10" y="5"/>
                    </a:moveTo>
                    <a:lnTo>
                      <a:pt x="10" y="5"/>
                    </a:lnTo>
                    <a:lnTo>
                      <a:pt x="5" y="0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Freeform 1466"/>
              <p:cNvSpPr/>
              <p:nvPr/>
            </p:nvSpPr>
            <p:spPr>
              <a:xfrm>
                <a:off x="4202280" y="4007880"/>
                <a:ext cx="49680" cy="1224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85" h="19">
                    <a:moveTo>
                      <a:pt x="85" y="0"/>
                    </a:moveTo>
                    <a:lnTo>
                      <a:pt x="47" y="0"/>
                    </a:lnTo>
                    <a:lnTo>
                      <a:pt x="0" y="5"/>
                    </a:lnTo>
                    <a:lnTo>
                      <a:pt x="0" y="19"/>
                    </a:lnTo>
                    <a:lnTo>
                      <a:pt x="47" y="19"/>
                    </a:lnTo>
                    <a:lnTo>
                      <a:pt x="85" y="15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Freeform 1467"/>
              <p:cNvSpPr/>
              <p:nvPr/>
            </p:nvSpPr>
            <p:spPr>
              <a:xfrm>
                <a:off x="4263120" y="40053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4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Freeform 1468"/>
              <p:cNvSpPr/>
              <p:nvPr/>
            </p:nvSpPr>
            <p:spPr>
              <a:xfrm>
                <a:off x="4282200" y="400212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19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4" y="19"/>
                    </a:lnTo>
                    <a:lnTo>
                      <a:pt x="23" y="1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Freeform 1469"/>
              <p:cNvSpPr/>
              <p:nvPr/>
            </p:nvSpPr>
            <p:spPr>
              <a:xfrm>
                <a:off x="4304160" y="3998520"/>
                <a:ext cx="2880" cy="12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5" y="0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5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Freeform 1470"/>
              <p:cNvSpPr/>
              <p:nvPr/>
            </p:nvSpPr>
            <p:spPr>
              <a:xfrm>
                <a:off x="4307040" y="3996000"/>
                <a:ext cx="52560" cy="14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0" h="23">
                    <a:moveTo>
                      <a:pt x="90" y="0"/>
                    </a:moveTo>
                    <a:lnTo>
                      <a:pt x="90" y="0"/>
                    </a:lnTo>
                    <a:lnTo>
                      <a:pt x="43" y="0"/>
                    </a:lnTo>
                    <a:lnTo>
                      <a:pt x="0" y="4"/>
                    </a:lnTo>
                    <a:lnTo>
                      <a:pt x="0" y="23"/>
                    </a:lnTo>
                    <a:lnTo>
                      <a:pt x="43" y="18"/>
                    </a:lnTo>
                    <a:lnTo>
                      <a:pt x="90" y="18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Freeform 1471"/>
              <p:cNvSpPr/>
              <p:nvPr/>
            </p:nvSpPr>
            <p:spPr>
              <a:xfrm>
                <a:off x="4367880" y="399276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9" y="0"/>
                    </a:moveTo>
                    <a:lnTo>
                      <a:pt x="24" y="19"/>
                    </a:lnTo>
                    <a:lnTo>
                      <a:pt x="5" y="19"/>
                    </a:lnTo>
                    <a:lnTo>
                      <a:pt x="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Rectangle 1472"/>
              <p:cNvSpPr/>
              <p:nvPr/>
            </p:nvSpPr>
            <p:spPr>
              <a:xfrm>
                <a:off x="4390200" y="39927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Freeform 1473"/>
              <p:cNvSpPr/>
              <p:nvPr/>
            </p:nvSpPr>
            <p:spPr>
              <a:xfrm>
                <a:off x="4412520" y="3992760"/>
                <a:ext cx="49680" cy="14760"/>
              </a:xfrm>
              <a:custGeom>
                <a:avLst/>
                <a:gdLst>
                  <a:gd name="textAreaLeft" fmla="*/ 0 w 49680"/>
                  <a:gd name="textAreaRight" fmla="*/ 50040 w 496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85" h="23">
                    <a:moveTo>
                      <a:pt x="85" y="5"/>
                    </a:moveTo>
                    <a:lnTo>
                      <a:pt x="80" y="5"/>
                    </a:lnTo>
                    <a:lnTo>
                      <a:pt x="47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47" y="19"/>
                    </a:lnTo>
                    <a:lnTo>
                      <a:pt x="75" y="23"/>
                    </a:lnTo>
                    <a:lnTo>
                      <a:pt x="85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Freeform 1474"/>
              <p:cNvSpPr/>
              <p:nvPr/>
            </p:nvSpPr>
            <p:spPr>
              <a:xfrm>
                <a:off x="4456440" y="3996000"/>
                <a:ext cx="10800" cy="14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19" y="9"/>
                    </a:moveTo>
                    <a:lnTo>
                      <a:pt x="10" y="23"/>
                    </a:lnTo>
                    <a:lnTo>
                      <a:pt x="0" y="18"/>
                    </a:lnTo>
                    <a:lnTo>
                      <a:pt x="10" y="0"/>
                    </a:lnTo>
                    <a:lnTo>
                      <a:pt x="19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Freeform 1475"/>
              <p:cNvSpPr/>
              <p:nvPr/>
            </p:nvSpPr>
            <p:spPr>
              <a:xfrm>
                <a:off x="4472640" y="40078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0"/>
                    </a:moveTo>
                    <a:lnTo>
                      <a:pt x="15" y="24"/>
                    </a:lnTo>
                    <a:lnTo>
                      <a:pt x="0" y="15"/>
                    </a:lnTo>
                    <a:lnTo>
                      <a:pt x="10" y="0"/>
                    </a:lnTo>
                    <a:lnTo>
                      <a:pt x="24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Freeform 1476"/>
              <p:cNvSpPr/>
              <p:nvPr/>
            </p:nvSpPr>
            <p:spPr>
              <a:xfrm>
                <a:off x="4489560" y="40204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24"/>
                    </a:moveTo>
                    <a:lnTo>
                      <a:pt x="23" y="5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14" y="24"/>
                    </a:lnTo>
                    <a:lnTo>
                      <a:pt x="23" y="24"/>
                    </a:lnTo>
                    <a:lnTo>
                      <a:pt x="14" y="24"/>
                    </a:lnTo>
                    <a:lnTo>
                      <a:pt x="19" y="24"/>
                    </a:lnTo>
                    <a:lnTo>
                      <a:pt x="23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Freeform 1477"/>
              <p:cNvSpPr/>
              <p:nvPr/>
            </p:nvSpPr>
            <p:spPr>
              <a:xfrm>
                <a:off x="4497840" y="4023720"/>
                <a:ext cx="7920" cy="12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5" y="0"/>
                    </a:moveTo>
                    <a:lnTo>
                      <a:pt x="14" y="19"/>
                    </a:lnTo>
                    <a:lnTo>
                      <a:pt x="9" y="19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Freeform 1478"/>
              <p:cNvSpPr/>
              <p:nvPr/>
            </p:nvSpPr>
            <p:spPr>
              <a:xfrm>
                <a:off x="4509000" y="3986280"/>
                <a:ext cx="52560" cy="432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90" h="66">
                    <a:moveTo>
                      <a:pt x="80" y="0"/>
                    </a:moveTo>
                    <a:lnTo>
                      <a:pt x="90" y="19"/>
                    </a:lnTo>
                    <a:lnTo>
                      <a:pt x="9" y="66"/>
                    </a:lnTo>
                    <a:lnTo>
                      <a:pt x="0" y="48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Freeform 1479"/>
              <p:cNvSpPr/>
              <p:nvPr/>
            </p:nvSpPr>
            <p:spPr>
              <a:xfrm>
                <a:off x="4564080" y="39805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4"/>
                    </a:moveTo>
                    <a:lnTo>
                      <a:pt x="5" y="0"/>
                    </a:lnTo>
                    <a:lnTo>
                      <a:pt x="0" y="0"/>
                    </a:lnTo>
                    <a:lnTo>
                      <a:pt x="10" y="19"/>
                    </a:lnTo>
                    <a:lnTo>
                      <a:pt x="14" y="14"/>
                    </a:lnTo>
                    <a:lnTo>
                      <a:pt x="19" y="14"/>
                    </a:lnTo>
                    <a:lnTo>
                      <a:pt x="14" y="14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Freeform 1480"/>
              <p:cNvSpPr/>
              <p:nvPr/>
            </p:nvSpPr>
            <p:spPr>
              <a:xfrm>
                <a:off x="4566960" y="397440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9" y="0"/>
                    </a:moveTo>
                    <a:lnTo>
                      <a:pt x="24" y="14"/>
                    </a:lnTo>
                    <a:lnTo>
                      <a:pt x="14" y="23"/>
                    </a:lnTo>
                    <a:lnTo>
                      <a:pt x="0" y="9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Freeform 1481"/>
              <p:cNvSpPr/>
              <p:nvPr/>
            </p:nvSpPr>
            <p:spPr>
              <a:xfrm>
                <a:off x="4581000" y="3958560"/>
                <a:ext cx="16200" cy="183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14" y="0"/>
                    </a:moveTo>
                    <a:lnTo>
                      <a:pt x="28" y="14"/>
                    </a:lnTo>
                    <a:lnTo>
                      <a:pt x="14" y="28"/>
                    </a:lnTo>
                    <a:lnTo>
                      <a:pt x="0" y="14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Freeform 1482"/>
              <p:cNvSpPr/>
              <p:nvPr/>
            </p:nvSpPr>
            <p:spPr>
              <a:xfrm>
                <a:off x="4597560" y="394632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5"/>
                    </a:moveTo>
                    <a:lnTo>
                      <a:pt x="14" y="0"/>
                    </a:lnTo>
                    <a:lnTo>
                      <a:pt x="0" y="9"/>
                    </a:lnTo>
                    <a:lnTo>
                      <a:pt x="14" y="24"/>
                    </a:lnTo>
                    <a:lnTo>
                      <a:pt x="24" y="9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1483"/>
              <p:cNvSpPr/>
              <p:nvPr/>
            </p:nvSpPr>
            <p:spPr>
              <a:xfrm>
                <a:off x="4602600" y="3949560"/>
                <a:ext cx="21960" cy="399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8" h="61">
                    <a:moveTo>
                      <a:pt x="38" y="52"/>
                    </a:moveTo>
                    <a:lnTo>
                      <a:pt x="38" y="52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5" y="19"/>
                    </a:lnTo>
                    <a:lnTo>
                      <a:pt x="24" y="61"/>
                    </a:lnTo>
                    <a:lnTo>
                      <a:pt x="38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1484"/>
              <p:cNvSpPr/>
              <p:nvPr/>
            </p:nvSpPr>
            <p:spPr>
              <a:xfrm>
                <a:off x="4616640" y="398376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14"/>
                    </a:moveTo>
                    <a:lnTo>
                      <a:pt x="9" y="23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Freeform 1485"/>
              <p:cNvSpPr/>
              <p:nvPr/>
            </p:nvSpPr>
            <p:spPr>
              <a:xfrm>
                <a:off x="4630680" y="399852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10"/>
                    </a:moveTo>
                    <a:lnTo>
                      <a:pt x="18" y="5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14" y="24"/>
                    </a:lnTo>
                    <a:lnTo>
                      <a:pt x="28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Freeform 1486"/>
              <p:cNvSpPr/>
              <p:nvPr/>
            </p:nvSpPr>
            <p:spPr>
              <a:xfrm>
                <a:off x="4650120" y="40111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10"/>
                    </a:moveTo>
                    <a:lnTo>
                      <a:pt x="9" y="0"/>
                    </a:lnTo>
                    <a:lnTo>
                      <a:pt x="0" y="14"/>
                    </a:lnTo>
                    <a:lnTo>
                      <a:pt x="14" y="24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487"/>
              <p:cNvSpPr/>
              <p:nvPr/>
            </p:nvSpPr>
            <p:spPr>
              <a:xfrm>
                <a:off x="4666680" y="4023720"/>
                <a:ext cx="43920" cy="39960"/>
              </a:xfrm>
              <a:custGeom>
                <a:avLst/>
                <a:gdLst>
                  <a:gd name="textAreaLeft" fmla="*/ 0 w 43920"/>
                  <a:gd name="textAreaRight" fmla="*/ 43920 w 439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5" h="61">
                    <a:moveTo>
                      <a:pt x="75" y="57"/>
                    </a:moveTo>
                    <a:lnTo>
                      <a:pt x="75" y="57"/>
                    </a:lnTo>
                    <a:lnTo>
                      <a:pt x="66" y="38"/>
                    </a:lnTo>
                    <a:lnTo>
                      <a:pt x="52" y="24"/>
                    </a:lnTo>
                    <a:lnTo>
                      <a:pt x="28" y="9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19" y="24"/>
                    </a:lnTo>
                    <a:lnTo>
                      <a:pt x="38" y="38"/>
                    </a:lnTo>
                    <a:lnTo>
                      <a:pt x="52" y="52"/>
                    </a:lnTo>
                    <a:lnTo>
                      <a:pt x="57" y="61"/>
                    </a:lnTo>
                    <a:lnTo>
                      <a:pt x="75" y="5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488"/>
              <p:cNvSpPr/>
              <p:nvPr/>
            </p:nvSpPr>
            <p:spPr>
              <a:xfrm>
                <a:off x="4699800" y="4061160"/>
                <a:ext cx="13320" cy="9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3" h="14">
                    <a:moveTo>
                      <a:pt x="23" y="14"/>
                    </a:moveTo>
                    <a:lnTo>
                      <a:pt x="4" y="14"/>
                    </a:lnTo>
                    <a:lnTo>
                      <a:pt x="0" y="4"/>
                    </a:lnTo>
                    <a:lnTo>
                      <a:pt x="18" y="0"/>
                    </a:lnTo>
                    <a:lnTo>
                      <a:pt x="23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Freeform 1489"/>
              <p:cNvSpPr/>
              <p:nvPr/>
            </p:nvSpPr>
            <p:spPr>
              <a:xfrm>
                <a:off x="4705200" y="407952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9"/>
                    </a:moveTo>
                    <a:lnTo>
                      <a:pt x="19" y="14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0" y="19"/>
                    </a:lnTo>
                    <a:lnTo>
                      <a:pt x="0" y="24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Freeform 1490"/>
              <p:cNvSpPr/>
              <p:nvPr/>
            </p:nvSpPr>
            <p:spPr>
              <a:xfrm>
                <a:off x="4708080" y="41043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19" y="14"/>
                    </a:moveTo>
                    <a:lnTo>
                      <a:pt x="19" y="14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4" y="14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Rectangle 1491"/>
              <p:cNvSpPr/>
              <p:nvPr/>
            </p:nvSpPr>
            <p:spPr>
              <a:xfrm>
                <a:off x="4710600" y="4113720"/>
                <a:ext cx="8640" cy="3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492"/>
              <p:cNvSpPr/>
              <p:nvPr/>
            </p:nvSpPr>
            <p:spPr>
              <a:xfrm>
                <a:off x="4710600" y="4128840"/>
                <a:ext cx="13680" cy="342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4" h="52">
                    <a:moveTo>
                      <a:pt x="15" y="34"/>
                    </a:moveTo>
                    <a:lnTo>
                      <a:pt x="24" y="43"/>
                    </a:lnTo>
                    <a:lnTo>
                      <a:pt x="19" y="19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5" y="43"/>
                    </a:lnTo>
                    <a:lnTo>
                      <a:pt x="10" y="52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Freeform 1493"/>
              <p:cNvSpPr/>
              <p:nvPr/>
            </p:nvSpPr>
            <p:spPr>
              <a:xfrm>
                <a:off x="4716360" y="4151160"/>
                <a:ext cx="33120" cy="1512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57" h="23">
                    <a:moveTo>
                      <a:pt x="57" y="4"/>
                    </a:moveTo>
                    <a:lnTo>
                      <a:pt x="47" y="4"/>
                    </a:lnTo>
                    <a:lnTo>
                      <a:pt x="5" y="0"/>
                    </a:lnTo>
                    <a:lnTo>
                      <a:pt x="0" y="18"/>
                    </a:lnTo>
                    <a:lnTo>
                      <a:pt x="47" y="23"/>
                    </a:lnTo>
                    <a:lnTo>
                      <a:pt x="52" y="23"/>
                    </a:lnTo>
                    <a:lnTo>
                      <a:pt x="57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Freeform 1494"/>
              <p:cNvSpPr/>
              <p:nvPr/>
            </p:nvSpPr>
            <p:spPr>
              <a:xfrm>
                <a:off x="4757760" y="41536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5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Rectangle 1495"/>
              <p:cNvSpPr/>
              <p:nvPr/>
            </p:nvSpPr>
            <p:spPr>
              <a:xfrm>
                <a:off x="4780080" y="4156920"/>
                <a:ext cx="1044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1496"/>
              <p:cNvSpPr/>
              <p:nvPr/>
            </p:nvSpPr>
            <p:spPr>
              <a:xfrm>
                <a:off x="4801680" y="4156920"/>
                <a:ext cx="52560" cy="154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0" h="24">
                    <a:moveTo>
                      <a:pt x="90" y="9"/>
                    </a:moveTo>
                    <a:lnTo>
                      <a:pt x="90" y="24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9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Freeform 1497"/>
              <p:cNvSpPr/>
              <p:nvPr/>
            </p:nvSpPr>
            <p:spPr>
              <a:xfrm>
                <a:off x="4865400" y="41601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0" y="19"/>
                    </a:lnTo>
                    <a:lnTo>
                      <a:pt x="0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Freeform 1498"/>
              <p:cNvSpPr/>
              <p:nvPr/>
            </p:nvSpPr>
            <p:spPr>
              <a:xfrm>
                <a:off x="4887720" y="4160160"/>
                <a:ext cx="7920" cy="12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4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14" y="19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Freeform 1499"/>
              <p:cNvSpPr/>
              <p:nvPr/>
            </p:nvSpPr>
            <p:spPr>
              <a:xfrm>
                <a:off x="4890240" y="41601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0" y="0"/>
                    </a:moveTo>
                    <a:lnTo>
                      <a:pt x="19" y="14"/>
                    </a:lnTo>
                    <a:lnTo>
                      <a:pt x="10" y="19"/>
                    </a:lnTo>
                    <a:lnTo>
                      <a:pt x="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Freeform 1500"/>
              <p:cNvSpPr/>
              <p:nvPr/>
            </p:nvSpPr>
            <p:spPr>
              <a:xfrm>
                <a:off x="4907160" y="4135320"/>
                <a:ext cx="38520" cy="306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66" h="47">
                    <a:moveTo>
                      <a:pt x="47" y="0"/>
                    </a:moveTo>
                    <a:lnTo>
                      <a:pt x="47" y="0"/>
                    </a:lnTo>
                    <a:lnTo>
                      <a:pt x="47" y="5"/>
                    </a:lnTo>
                    <a:lnTo>
                      <a:pt x="42" y="9"/>
                    </a:lnTo>
                    <a:lnTo>
                      <a:pt x="33" y="14"/>
                    </a:lnTo>
                    <a:lnTo>
                      <a:pt x="23" y="24"/>
                    </a:lnTo>
                    <a:lnTo>
                      <a:pt x="0" y="28"/>
                    </a:lnTo>
                    <a:lnTo>
                      <a:pt x="4" y="47"/>
                    </a:lnTo>
                    <a:lnTo>
                      <a:pt x="28" y="38"/>
                    </a:lnTo>
                    <a:lnTo>
                      <a:pt x="42" y="33"/>
                    </a:lnTo>
                    <a:lnTo>
                      <a:pt x="52" y="24"/>
                    </a:lnTo>
                    <a:lnTo>
                      <a:pt x="61" y="14"/>
                    </a:lnTo>
                    <a:lnTo>
                      <a:pt x="66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Freeform 1501"/>
              <p:cNvSpPr/>
              <p:nvPr/>
            </p:nvSpPr>
            <p:spPr>
              <a:xfrm>
                <a:off x="4934880" y="4122720"/>
                <a:ext cx="13680" cy="122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5" y="0"/>
                    </a:moveTo>
                    <a:lnTo>
                      <a:pt x="24" y="0"/>
                    </a:lnTo>
                    <a:lnTo>
                      <a:pt x="19" y="19"/>
                    </a:lnTo>
                    <a:lnTo>
                      <a:pt x="0" y="1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Freeform 1502"/>
              <p:cNvSpPr/>
              <p:nvPr/>
            </p:nvSpPr>
            <p:spPr>
              <a:xfrm>
                <a:off x="4939920" y="409788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5" y="0"/>
                    </a:moveTo>
                    <a:lnTo>
                      <a:pt x="0" y="10"/>
                    </a:lnTo>
                    <a:lnTo>
                      <a:pt x="0" y="19"/>
                    </a:lnTo>
                    <a:lnTo>
                      <a:pt x="15" y="19"/>
                    </a:lnTo>
                    <a:lnTo>
                      <a:pt x="19" y="14"/>
                    </a:lnTo>
                    <a:lnTo>
                      <a:pt x="19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Freeform 1503"/>
              <p:cNvSpPr/>
              <p:nvPr/>
            </p:nvSpPr>
            <p:spPr>
              <a:xfrm>
                <a:off x="4951080" y="40795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0"/>
                    </a:moveTo>
                    <a:lnTo>
                      <a:pt x="24" y="19"/>
                    </a:lnTo>
                    <a:lnTo>
                      <a:pt x="5" y="24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Freeform 1504"/>
              <p:cNvSpPr/>
              <p:nvPr/>
            </p:nvSpPr>
            <p:spPr>
              <a:xfrm>
                <a:off x="4970520" y="4070160"/>
                <a:ext cx="21960" cy="180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38" h="28">
                    <a:moveTo>
                      <a:pt x="38" y="0"/>
                    </a:moveTo>
                    <a:lnTo>
                      <a:pt x="33" y="0"/>
                    </a:lnTo>
                    <a:lnTo>
                      <a:pt x="0" y="9"/>
                    </a:lnTo>
                    <a:lnTo>
                      <a:pt x="5" y="28"/>
                    </a:lnTo>
                    <a:lnTo>
                      <a:pt x="38" y="19"/>
                    </a:lnTo>
                    <a:lnTo>
                      <a:pt x="38" y="0"/>
                    </a:lnTo>
                    <a:lnTo>
                      <a:pt x="33" y="0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Freeform 1505"/>
              <p:cNvSpPr/>
              <p:nvPr/>
            </p:nvSpPr>
            <p:spPr>
              <a:xfrm>
                <a:off x="4987440" y="4070160"/>
                <a:ext cx="27360" cy="367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47" h="56">
                    <a:moveTo>
                      <a:pt x="42" y="56"/>
                    </a:moveTo>
                    <a:lnTo>
                      <a:pt x="47" y="38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37" y="52"/>
                    </a:lnTo>
                    <a:lnTo>
                      <a:pt x="42" y="56"/>
                    </a:lnTo>
                    <a:lnTo>
                      <a:pt x="37" y="52"/>
                    </a:lnTo>
                    <a:lnTo>
                      <a:pt x="37" y="56"/>
                    </a:lnTo>
                    <a:lnTo>
                      <a:pt x="42" y="5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Freeform 1506"/>
              <p:cNvSpPr/>
              <p:nvPr/>
            </p:nvSpPr>
            <p:spPr>
              <a:xfrm>
                <a:off x="5011920" y="4091760"/>
                <a:ext cx="5760" cy="1512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0" h="23">
                    <a:moveTo>
                      <a:pt x="5" y="0"/>
                    </a:moveTo>
                    <a:lnTo>
                      <a:pt x="10" y="19"/>
                    </a:lnTo>
                    <a:lnTo>
                      <a:pt x="0" y="23"/>
                    </a:lnTo>
                    <a:lnTo>
                      <a:pt x="0" y="5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Freeform 1507"/>
              <p:cNvSpPr/>
              <p:nvPr/>
            </p:nvSpPr>
            <p:spPr>
              <a:xfrm>
                <a:off x="5025960" y="408852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19" y="0"/>
                    </a:moveTo>
                    <a:lnTo>
                      <a:pt x="23" y="14"/>
                    </a:lnTo>
                    <a:lnTo>
                      <a:pt x="4" y="19"/>
                    </a:lnTo>
                    <a:lnTo>
                      <a:pt x="0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Freeform 1508"/>
              <p:cNvSpPr/>
              <p:nvPr/>
            </p:nvSpPr>
            <p:spPr>
              <a:xfrm>
                <a:off x="5047560" y="40827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0"/>
                    </a:moveTo>
                    <a:lnTo>
                      <a:pt x="19" y="19"/>
                    </a:lnTo>
                    <a:lnTo>
                      <a:pt x="5" y="19"/>
                    </a:lnTo>
                    <a:lnTo>
                      <a:pt x="0" y="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Freeform 1509"/>
              <p:cNvSpPr/>
              <p:nvPr/>
            </p:nvSpPr>
            <p:spPr>
              <a:xfrm>
                <a:off x="5067720" y="4076280"/>
                <a:ext cx="10440" cy="1548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8" h="24">
                    <a:moveTo>
                      <a:pt x="18" y="0"/>
                    </a:moveTo>
                    <a:lnTo>
                      <a:pt x="14" y="0"/>
                    </a:lnTo>
                    <a:lnTo>
                      <a:pt x="0" y="5"/>
                    </a:lnTo>
                    <a:lnTo>
                      <a:pt x="4" y="24"/>
                    </a:lnTo>
                    <a:lnTo>
                      <a:pt x="18" y="19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Rectangle 1510"/>
              <p:cNvSpPr/>
              <p:nvPr/>
            </p:nvSpPr>
            <p:spPr>
              <a:xfrm>
                <a:off x="5078160" y="4076280"/>
                <a:ext cx="4428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Freeform 1511"/>
              <p:cNvSpPr/>
              <p:nvPr/>
            </p:nvSpPr>
            <p:spPr>
              <a:xfrm>
                <a:off x="5133960" y="4076280"/>
                <a:ext cx="2880" cy="1224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5" h="19">
                    <a:moveTo>
                      <a:pt x="5" y="0"/>
                    </a:moveTo>
                    <a:lnTo>
                      <a:pt x="0" y="0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Freeform 1512"/>
              <p:cNvSpPr/>
              <p:nvPr/>
            </p:nvSpPr>
            <p:spPr>
              <a:xfrm>
                <a:off x="5133960" y="40762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5"/>
                    </a:moveTo>
                    <a:lnTo>
                      <a:pt x="19" y="24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Freeform 1513"/>
              <p:cNvSpPr/>
              <p:nvPr/>
            </p:nvSpPr>
            <p:spPr>
              <a:xfrm>
                <a:off x="5153040" y="408276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23" y="0"/>
                    </a:moveTo>
                    <a:lnTo>
                      <a:pt x="19" y="19"/>
                    </a:lnTo>
                    <a:lnTo>
                      <a:pt x="0" y="14"/>
                    </a:lnTo>
                    <a:lnTo>
                      <a:pt x="5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Freeform 1514"/>
              <p:cNvSpPr/>
              <p:nvPr/>
            </p:nvSpPr>
            <p:spPr>
              <a:xfrm>
                <a:off x="4472640" y="2036880"/>
                <a:ext cx="55440" cy="2736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95" h="42">
                    <a:moveTo>
                      <a:pt x="95" y="28"/>
                    </a:moveTo>
                    <a:lnTo>
                      <a:pt x="52" y="14"/>
                    </a:lnTo>
                    <a:lnTo>
                      <a:pt x="5" y="0"/>
                    </a:lnTo>
                    <a:lnTo>
                      <a:pt x="0" y="18"/>
                    </a:lnTo>
                    <a:lnTo>
                      <a:pt x="48" y="33"/>
                    </a:lnTo>
                    <a:lnTo>
                      <a:pt x="85" y="42"/>
                    </a:lnTo>
                    <a:lnTo>
                      <a:pt x="95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Freeform 1515"/>
              <p:cNvSpPr/>
              <p:nvPr/>
            </p:nvSpPr>
            <p:spPr>
              <a:xfrm>
                <a:off x="4533480" y="205848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4"/>
                    </a:moveTo>
                    <a:lnTo>
                      <a:pt x="19" y="23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24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Freeform 1516"/>
              <p:cNvSpPr/>
              <p:nvPr/>
            </p:nvSpPr>
            <p:spPr>
              <a:xfrm>
                <a:off x="4555800" y="206460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5"/>
                    </a:moveTo>
                    <a:lnTo>
                      <a:pt x="14" y="24"/>
                    </a:lnTo>
                    <a:lnTo>
                      <a:pt x="0" y="19"/>
                    </a:lnTo>
                    <a:lnTo>
                      <a:pt x="5" y="0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Freeform 1517"/>
              <p:cNvSpPr/>
              <p:nvPr/>
            </p:nvSpPr>
            <p:spPr>
              <a:xfrm>
                <a:off x="4575240" y="2071080"/>
                <a:ext cx="44280" cy="273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76" h="42">
                    <a:moveTo>
                      <a:pt x="76" y="23"/>
                    </a:moveTo>
                    <a:lnTo>
                      <a:pt x="76" y="23"/>
                    </a:lnTo>
                    <a:lnTo>
                      <a:pt x="43" y="14"/>
                    </a:lnTo>
                    <a:lnTo>
                      <a:pt x="5" y="0"/>
                    </a:lnTo>
                    <a:lnTo>
                      <a:pt x="0" y="18"/>
                    </a:lnTo>
                    <a:lnTo>
                      <a:pt x="33" y="28"/>
                    </a:lnTo>
                    <a:lnTo>
                      <a:pt x="71" y="42"/>
                    </a:lnTo>
                    <a:lnTo>
                      <a:pt x="66" y="42"/>
                    </a:lnTo>
                    <a:lnTo>
                      <a:pt x="76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Freeform 1518"/>
              <p:cNvSpPr/>
              <p:nvPr/>
            </p:nvSpPr>
            <p:spPr>
              <a:xfrm>
                <a:off x="4613760" y="2086200"/>
                <a:ext cx="16920" cy="183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9" h="28">
                    <a:moveTo>
                      <a:pt x="29" y="14"/>
                    </a:moveTo>
                    <a:lnTo>
                      <a:pt x="19" y="5"/>
                    </a:lnTo>
                    <a:lnTo>
                      <a:pt x="10" y="0"/>
                    </a:lnTo>
                    <a:lnTo>
                      <a:pt x="0" y="19"/>
                    </a:lnTo>
                    <a:lnTo>
                      <a:pt x="10" y="24"/>
                    </a:lnTo>
                    <a:lnTo>
                      <a:pt x="19" y="28"/>
                    </a:lnTo>
                    <a:lnTo>
                      <a:pt x="2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Freeform 1519"/>
              <p:cNvSpPr/>
              <p:nvPr/>
            </p:nvSpPr>
            <p:spPr>
              <a:xfrm>
                <a:off x="4633200" y="2102040"/>
                <a:ext cx="13680" cy="1836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24" y="14"/>
                    </a:moveTo>
                    <a:lnTo>
                      <a:pt x="10" y="0"/>
                    </a:lnTo>
                    <a:lnTo>
                      <a:pt x="0" y="14"/>
                    </a:lnTo>
                    <a:lnTo>
                      <a:pt x="10" y="28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Freeform 1520"/>
              <p:cNvSpPr/>
              <p:nvPr/>
            </p:nvSpPr>
            <p:spPr>
              <a:xfrm>
                <a:off x="4647240" y="21204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4"/>
                    </a:moveTo>
                    <a:lnTo>
                      <a:pt x="19" y="5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5" y="14"/>
                    </a:lnTo>
                    <a:lnTo>
                      <a:pt x="9" y="24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Freeform 1521"/>
              <p:cNvSpPr/>
              <p:nvPr/>
            </p:nvSpPr>
            <p:spPr>
              <a:xfrm>
                <a:off x="4658400" y="2138760"/>
                <a:ext cx="16200" cy="18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28" y="19"/>
                    </a:moveTo>
                    <a:lnTo>
                      <a:pt x="28" y="19"/>
                    </a:lnTo>
                    <a:lnTo>
                      <a:pt x="14" y="0"/>
                    </a:lnTo>
                    <a:lnTo>
                      <a:pt x="0" y="15"/>
                    </a:lnTo>
                    <a:lnTo>
                      <a:pt x="14" y="29"/>
                    </a:lnTo>
                    <a:lnTo>
                      <a:pt x="28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Freeform 1522"/>
              <p:cNvSpPr/>
              <p:nvPr/>
            </p:nvSpPr>
            <p:spPr>
              <a:xfrm>
                <a:off x="4666680" y="2151360"/>
                <a:ext cx="27360" cy="4644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47" h="71">
                    <a:moveTo>
                      <a:pt x="47" y="66"/>
                    </a:moveTo>
                    <a:lnTo>
                      <a:pt x="42" y="57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24" y="62"/>
                    </a:lnTo>
                    <a:lnTo>
                      <a:pt x="28" y="71"/>
                    </a:lnTo>
                    <a:lnTo>
                      <a:pt x="47" y="6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Freeform 1523"/>
              <p:cNvSpPr/>
              <p:nvPr/>
            </p:nvSpPr>
            <p:spPr>
              <a:xfrm>
                <a:off x="4685760" y="220716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4"/>
                    </a:moveTo>
                    <a:lnTo>
                      <a:pt x="9" y="24"/>
                    </a:lnTo>
                    <a:lnTo>
                      <a:pt x="0" y="5"/>
                    </a:lnTo>
                    <a:lnTo>
                      <a:pt x="19" y="0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Freeform 1524"/>
              <p:cNvSpPr/>
              <p:nvPr/>
            </p:nvSpPr>
            <p:spPr>
              <a:xfrm>
                <a:off x="4694040" y="222876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9"/>
                    </a:moveTo>
                    <a:lnTo>
                      <a:pt x="5" y="24"/>
                    </a:lnTo>
                    <a:lnTo>
                      <a:pt x="0" y="5"/>
                    </a:lnTo>
                    <a:lnTo>
                      <a:pt x="14" y="0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Freeform 1525"/>
              <p:cNvSpPr/>
              <p:nvPr/>
            </p:nvSpPr>
            <p:spPr>
              <a:xfrm>
                <a:off x="4699800" y="2253600"/>
                <a:ext cx="13320" cy="273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23" h="42">
                    <a:moveTo>
                      <a:pt x="23" y="42"/>
                    </a:moveTo>
                    <a:lnTo>
                      <a:pt x="23" y="42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42"/>
                    </a:lnTo>
                    <a:lnTo>
                      <a:pt x="23" y="4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Freeform 1526"/>
              <p:cNvSpPr/>
              <p:nvPr/>
            </p:nvSpPr>
            <p:spPr>
              <a:xfrm>
                <a:off x="4702320" y="2281320"/>
                <a:ext cx="19080" cy="338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33" h="52">
                    <a:moveTo>
                      <a:pt x="33" y="48"/>
                    </a:moveTo>
                    <a:lnTo>
                      <a:pt x="29" y="38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10" y="43"/>
                    </a:lnTo>
                    <a:lnTo>
                      <a:pt x="14" y="52"/>
                    </a:lnTo>
                    <a:lnTo>
                      <a:pt x="33" y="4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Freeform 1527"/>
              <p:cNvSpPr/>
              <p:nvPr/>
            </p:nvSpPr>
            <p:spPr>
              <a:xfrm>
                <a:off x="4713480" y="2325240"/>
                <a:ext cx="14040" cy="11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24" y="14"/>
                    </a:moveTo>
                    <a:lnTo>
                      <a:pt x="19" y="14"/>
                    </a:lnTo>
                    <a:lnTo>
                      <a:pt x="19" y="0"/>
                    </a:lnTo>
                    <a:lnTo>
                      <a:pt x="0" y="4"/>
                    </a:lnTo>
                    <a:lnTo>
                      <a:pt x="5" y="18"/>
                    </a:lnTo>
                    <a:lnTo>
                      <a:pt x="24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Rectangle 1528"/>
              <p:cNvSpPr/>
              <p:nvPr/>
            </p:nvSpPr>
            <p:spPr>
              <a:xfrm>
                <a:off x="4716360" y="234972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Freeform 1529"/>
              <p:cNvSpPr/>
              <p:nvPr/>
            </p:nvSpPr>
            <p:spPr>
              <a:xfrm>
                <a:off x="4708080" y="2371320"/>
                <a:ext cx="16200" cy="187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8" h="29">
                    <a:moveTo>
                      <a:pt x="14" y="29"/>
                    </a:moveTo>
                    <a:lnTo>
                      <a:pt x="14" y="29"/>
                    </a:lnTo>
                    <a:lnTo>
                      <a:pt x="28" y="10"/>
                    </a:lnTo>
                    <a:lnTo>
                      <a:pt x="28" y="5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14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Freeform 1530"/>
              <p:cNvSpPr/>
              <p:nvPr/>
            </p:nvSpPr>
            <p:spPr>
              <a:xfrm>
                <a:off x="4682880" y="2383560"/>
                <a:ext cx="33120" cy="4320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57" h="66">
                    <a:moveTo>
                      <a:pt x="19" y="66"/>
                    </a:moveTo>
                    <a:lnTo>
                      <a:pt x="29" y="47"/>
                    </a:lnTo>
                    <a:lnTo>
                      <a:pt x="57" y="10"/>
                    </a:lnTo>
                    <a:lnTo>
                      <a:pt x="43" y="0"/>
                    </a:lnTo>
                    <a:lnTo>
                      <a:pt x="14" y="38"/>
                    </a:lnTo>
                    <a:lnTo>
                      <a:pt x="0" y="52"/>
                    </a:lnTo>
                    <a:lnTo>
                      <a:pt x="19" y="6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Freeform 1531"/>
              <p:cNvSpPr/>
              <p:nvPr/>
            </p:nvSpPr>
            <p:spPr>
              <a:xfrm>
                <a:off x="4671720" y="2430360"/>
                <a:ext cx="13680" cy="1548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5" y="24"/>
                    </a:moveTo>
                    <a:lnTo>
                      <a:pt x="24" y="9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15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Freeform 1532"/>
              <p:cNvSpPr/>
              <p:nvPr/>
            </p:nvSpPr>
            <p:spPr>
              <a:xfrm>
                <a:off x="4658400" y="24487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9" y="24"/>
                    </a:moveTo>
                    <a:lnTo>
                      <a:pt x="23" y="15"/>
                    </a:lnTo>
                    <a:lnTo>
                      <a:pt x="23" y="10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Freeform 1533"/>
              <p:cNvSpPr/>
              <p:nvPr/>
            </p:nvSpPr>
            <p:spPr>
              <a:xfrm>
                <a:off x="4644360" y="246132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5" y="24"/>
                    </a:moveTo>
                    <a:lnTo>
                      <a:pt x="5" y="24"/>
                    </a:lnTo>
                    <a:lnTo>
                      <a:pt x="19" y="14"/>
                    </a:lnTo>
                    <a:lnTo>
                      <a:pt x="10" y="0"/>
                    </a:lnTo>
                    <a:lnTo>
                      <a:pt x="0" y="10"/>
                    </a:lnTo>
                    <a:lnTo>
                      <a:pt x="5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Freeform 1534"/>
              <p:cNvSpPr/>
              <p:nvPr/>
            </p:nvSpPr>
            <p:spPr>
              <a:xfrm>
                <a:off x="4602600" y="2467800"/>
                <a:ext cx="44280" cy="30960"/>
              </a:xfrm>
              <a:custGeom>
                <a:avLst/>
                <a:gdLst>
                  <a:gd name="textAreaLeft" fmla="*/ 0 w 44280"/>
                  <a:gd name="textAreaRight" fmla="*/ 44640 w 44280"/>
                  <a:gd name="textAreaTop" fmla="*/ 0 h 30960"/>
                  <a:gd name="textAreaBottom" fmla="*/ 31320 h 30960"/>
                </a:gdLst>
                <a:ahLst/>
                <a:rect l="textAreaLeft" t="textAreaTop" r="textAreaRight" b="textAreaBottom"/>
                <a:pathLst>
                  <a:path w="76" h="47">
                    <a:moveTo>
                      <a:pt x="5" y="47"/>
                    </a:moveTo>
                    <a:lnTo>
                      <a:pt x="33" y="33"/>
                    </a:lnTo>
                    <a:lnTo>
                      <a:pt x="76" y="14"/>
                    </a:lnTo>
                    <a:lnTo>
                      <a:pt x="71" y="0"/>
                    </a:lnTo>
                    <a:lnTo>
                      <a:pt x="24" y="19"/>
                    </a:lnTo>
                    <a:lnTo>
                      <a:pt x="0" y="28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Freeform 1535"/>
              <p:cNvSpPr/>
              <p:nvPr/>
            </p:nvSpPr>
            <p:spPr>
              <a:xfrm>
                <a:off x="4581000" y="248940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4" y="23"/>
                    </a:moveTo>
                    <a:lnTo>
                      <a:pt x="0" y="4"/>
                    </a:lnTo>
                    <a:lnTo>
                      <a:pt x="18" y="0"/>
                    </a:lnTo>
                    <a:lnTo>
                      <a:pt x="23" y="19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Freeform 1536"/>
              <p:cNvSpPr/>
              <p:nvPr/>
            </p:nvSpPr>
            <p:spPr>
              <a:xfrm>
                <a:off x="4561920" y="249516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4" y="24"/>
                    </a:moveTo>
                    <a:lnTo>
                      <a:pt x="18" y="19"/>
                    </a:lnTo>
                    <a:lnTo>
                      <a:pt x="23" y="19"/>
                    </a:lnTo>
                    <a:lnTo>
                      <a:pt x="14" y="0"/>
                    </a:lnTo>
                    <a:lnTo>
                      <a:pt x="18" y="0"/>
                    </a:lnTo>
                    <a:lnTo>
                      <a:pt x="0" y="5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Freeform 1537"/>
              <p:cNvSpPr/>
              <p:nvPr/>
            </p:nvSpPr>
            <p:spPr>
              <a:xfrm>
                <a:off x="4497840" y="2502000"/>
                <a:ext cx="54720" cy="241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24120"/>
                  <a:gd name="textAreaBottom" fmla="*/ 24480 h 24120"/>
                </a:gdLst>
                <a:ahLst/>
                <a:rect l="textAreaLeft" t="textAreaTop" r="textAreaRight" b="textAreaBottom"/>
                <a:pathLst>
                  <a:path w="94" h="37">
                    <a:moveTo>
                      <a:pt x="5" y="37"/>
                    </a:moveTo>
                    <a:lnTo>
                      <a:pt x="9" y="37"/>
                    </a:lnTo>
                    <a:lnTo>
                      <a:pt x="38" y="23"/>
                    </a:lnTo>
                    <a:lnTo>
                      <a:pt x="61" y="18"/>
                    </a:lnTo>
                    <a:lnTo>
                      <a:pt x="94" y="18"/>
                    </a:lnTo>
                    <a:lnTo>
                      <a:pt x="90" y="0"/>
                    </a:lnTo>
                    <a:lnTo>
                      <a:pt x="61" y="0"/>
                    </a:lnTo>
                    <a:lnTo>
                      <a:pt x="28" y="9"/>
                    </a:lnTo>
                    <a:lnTo>
                      <a:pt x="0" y="18"/>
                    </a:lnTo>
                    <a:lnTo>
                      <a:pt x="5" y="3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Freeform 1538"/>
              <p:cNvSpPr/>
              <p:nvPr/>
            </p:nvSpPr>
            <p:spPr>
              <a:xfrm>
                <a:off x="4478400" y="2520360"/>
                <a:ext cx="14040" cy="183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9" y="28"/>
                    </a:moveTo>
                    <a:lnTo>
                      <a:pt x="0" y="14"/>
                    </a:lnTo>
                    <a:lnTo>
                      <a:pt x="14" y="0"/>
                    </a:lnTo>
                    <a:lnTo>
                      <a:pt x="24" y="19"/>
                    </a:lnTo>
                    <a:lnTo>
                      <a:pt x="9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Freeform 1539"/>
              <p:cNvSpPr/>
              <p:nvPr/>
            </p:nvSpPr>
            <p:spPr>
              <a:xfrm>
                <a:off x="4462200" y="253548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9" y="29"/>
                    </a:moveTo>
                    <a:lnTo>
                      <a:pt x="0" y="10"/>
                    </a:lnTo>
                    <a:lnTo>
                      <a:pt x="14" y="0"/>
                    </a:lnTo>
                    <a:lnTo>
                      <a:pt x="23" y="15"/>
                    </a:lnTo>
                    <a:lnTo>
                      <a:pt x="9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Freeform 1540"/>
              <p:cNvSpPr/>
              <p:nvPr/>
            </p:nvSpPr>
            <p:spPr>
              <a:xfrm>
                <a:off x="4428720" y="2550960"/>
                <a:ext cx="30240" cy="496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49680"/>
                  <a:gd name="textAreaBottom" fmla="*/ 50040 h 49680"/>
                </a:gdLst>
                <a:ahLst/>
                <a:rect l="textAreaLeft" t="textAreaTop" r="textAreaRight" b="textAreaBottom"/>
                <a:pathLst>
                  <a:path w="52" h="76">
                    <a:moveTo>
                      <a:pt x="14" y="76"/>
                    </a:moveTo>
                    <a:lnTo>
                      <a:pt x="14" y="76"/>
                    </a:lnTo>
                    <a:lnTo>
                      <a:pt x="28" y="43"/>
                    </a:lnTo>
                    <a:lnTo>
                      <a:pt x="42" y="19"/>
                    </a:lnTo>
                    <a:lnTo>
                      <a:pt x="52" y="14"/>
                    </a:lnTo>
                    <a:lnTo>
                      <a:pt x="42" y="0"/>
                    </a:lnTo>
                    <a:lnTo>
                      <a:pt x="28" y="10"/>
                    </a:lnTo>
                    <a:lnTo>
                      <a:pt x="14" y="33"/>
                    </a:lnTo>
                    <a:lnTo>
                      <a:pt x="0" y="66"/>
                    </a:lnTo>
                    <a:lnTo>
                      <a:pt x="14" y="7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Freeform 1541"/>
              <p:cNvSpPr/>
              <p:nvPr/>
            </p:nvSpPr>
            <p:spPr>
              <a:xfrm>
                <a:off x="4425840" y="259452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4" y="24"/>
                    </a:moveTo>
                    <a:lnTo>
                      <a:pt x="0" y="19"/>
                    </a:lnTo>
                    <a:lnTo>
                      <a:pt x="5" y="0"/>
                    </a:lnTo>
                    <a:lnTo>
                      <a:pt x="19" y="10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Freeform 1542"/>
              <p:cNvSpPr/>
              <p:nvPr/>
            </p:nvSpPr>
            <p:spPr>
              <a:xfrm>
                <a:off x="4417560" y="261612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19" y="24"/>
                    </a:moveTo>
                    <a:lnTo>
                      <a:pt x="24" y="14"/>
                    </a:lnTo>
                    <a:lnTo>
                      <a:pt x="24" y="10"/>
                    </a:lnTo>
                    <a:lnTo>
                      <a:pt x="5" y="0"/>
                    </a:lnTo>
                    <a:lnTo>
                      <a:pt x="5" y="5"/>
                    </a:lnTo>
                    <a:lnTo>
                      <a:pt x="0" y="19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Freeform 1543"/>
              <p:cNvSpPr/>
              <p:nvPr/>
            </p:nvSpPr>
            <p:spPr>
              <a:xfrm>
                <a:off x="4409280" y="264096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9" y="24"/>
                    </a:moveTo>
                    <a:lnTo>
                      <a:pt x="0" y="14"/>
                    </a:lnTo>
                    <a:lnTo>
                      <a:pt x="9" y="0"/>
                    </a:lnTo>
                    <a:lnTo>
                      <a:pt x="28" y="5"/>
                    </a:lnTo>
                    <a:lnTo>
                      <a:pt x="19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Freeform 1544"/>
              <p:cNvSpPr/>
              <p:nvPr/>
            </p:nvSpPr>
            <p:spPr>
              <a:xfrm>
                <a:off x="4401360" y="265968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14" y="24"/>
                    </a:moveTo>
                    <a:lnTo>
                      <a:pt x="14" y="24"/>
                    </a:lnTo>
                    <a:lnTo>
                      <a:pt x="23" y="10"/>
                    </a:lnTo>
                    <a:lnTo>
                      <a:pt x="4" y="0"/>
                    </a:lnTo>
                    <a:lnTo>
                      <a:pt x="0" y="14"/>
                    </a:lnTo>
                    <a:lnTo>
                      <a:pt x="1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Freeform 1545"/>
              <p:cNvSpPr/>
              <p:nvPr/>
            </p:nvSpPr>
            <p:spPr>
              <a:xfrm>
                <a:off x="4381920" y="2668680"/>
                <a:ext cx="27360" cy="52920"/>
              </a:xfrm>
              <a:custGeom>
                <a:avLst/>
                <a:gdLst>
                  <a:gd name="textAreaLeft" fmla="*/ 0 w 27360"/>
                  <a:gd name="textAreaRight" fmla="*/ 27720 w 27360"/>
                  <a:gd name="textAreaTop" fmla="*/ 0 h 52920"/>
                  <a:gd name="textAreaBottom" fmla="*/ 53280 h 52920"/>
                </a:gdLst>
                <a:ahLst/>
                <a:rect l="textAreaLeft" t="textAreaTop" r="textAreaRight" b="textAreaBottom"/>
                <a:pathLst>
                  <a:path w="47" h="81">
                    <a:moveTo>
                      <a:pt x="14" y="81"/>
                    </a:moveTo>
                    <a:lnTo>
                      <a:pt x="19" y="67"/>
                    </a:lnTo>
                    <a:lnTo>
                      <a:pt x="47" y="10"/>
                    </a:lnTo>
                    <a:lnTo>
                      <a:pt x="33" y="0"/>
                    </a:lnTo>
                    <a:lnTo>
                      <a:pt x="0" y="57"/>
                    </a:lnTo>
                    <a:lnTo>
                      <a:pt x="0" y="71"/>
                    </a:lnTo>
                    <a:lnTo>
                      <a:pt x="14" y="81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Freeform 1546"/>
              <p:cNvSpPr/>
              <p:nvPr/>
            </p:nvSpPr>
            <p:spPr>
              <a:xfrm>
                <a:off x="4379040" y="2728080"/>
                <a:ext cx="7920" cy="6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4" h="10">
                    <a:moveTo>
                      <a:pt x="14" y="0"/>
                    </a:moveTo>
                    <a:lnTo>
                      <a:pt x="14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Freeform 1547"/>
              <p:cNvSpPr/>
              <p:nvPr/>
            </p:nvSpPr>
            <p:spPr>
              <a:xfrm>
                <a:off x="4379040" y="272808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4"/>
                    </a:moveTo>
                    <a:lnTo>
                      <a:pt x="5" y="24"/>
                    </a:lnTo>
                    <a:lnTo>
                      <a:pt x="0" y="10"/>
                    </a:lnTo>
                    <a:lnTo>
                      <a:pt x="14" y="0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Freeform 1548"/>
              <p:cNvSpPr/>
              <p:nvPr/>
            </p:nvSpPr>
            <p:spPr>
              <a:xfrm>
                <a:off x="4384080" y="274968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19"/>
                    </a:moveTo>
                    <a:lnTo>
                      <a:pt x="10" y="24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Freeform 1549"/>
              <p:cNvSpPr/>
              <p:nvPr/>
            </p:nvSpPr>
            <p:spPr>
              <a:xfrm>
                <a:off x="4393080" y="2771280"/>
                <a:ext cx="16200" cy="2484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28" h="38">
                    <a:moveTo>
                      <a:pt x="28" y="38"/>
                    </a:moveTo>
                    <a:lnTo>
                      <a:pt x="28" y="33"/>
                    </a:lnTo>
                    <a:lnTo>
                      <a:pt x="18" y="0"/>
                    </a:lnTo>
                    <a:lnTo>
                      <a:pt x="0" y="10"/>
                    </a:lnTo>
                    <a:lnTo>
                      <a:pt x="14" y="38"/>
                    </a:lnTo>
                    <a:lnTo>
                      <a:pt x="28" y="3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Freeform 1550"/>
              <p:cNvSpPr/>
              <p:nvPr/>
            </p:nvSpPr>
            <p:spPr>
              <a:xfrm>
                <a:off x="4398120" y="2792880"/>
                <a:ext cx="24480" cy="4032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40320"/>
                  <a:gd name="textAreaBottom" fmla="*/ 40680 h 40320"/>
                </a:gdLst>
                <a:ahLst/>
                <a:rect l="textAreaLeft" t="textAreaTop" r="textAreaRight" b="textAreaBottom"/>
                <a:pathLst>
                  <a:path w="42" h="62">
                    <a:moveTo>
                      <a:pt x="42" y="47"/>
                    </a:moveTo>
                    <a:lnTo>
                      <a:pt x="42" y="47"/>
                    </a:lnTo>
                    <a:lnTo>
                      <a:pt x="33" y="33"/>
                    </a:lnTo>
                    <a:lnTo>
                      <a:pt x="24" y="24"/>
                    </a:lnTo>
                    <a:lnTo>
                      <a:pt x="19" y="10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9" y="33"/>
                    </a:lnTo>
                    <a:lnTo>
                      <a:pt x="14" y="47"/>
                    </a:lnTo>
                    <a:lnTo>
                      <a:pt x="28" y="62"/>
                    </a:lnTo>
                    <a:lnTo>
                      <a:pt x="42" y="47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Freeform 1551"/>
              <p:cNvSpPr/>
              <p:nvPr/>
            </p:nvSpPr>
            <p:spPr>
              <a:xfrm>
                <a:off x="4422960" y="2833560"/>
                <a:ext cx="16920" cy="1512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9" h="23">
                    <a:moveTo>
                      <a:pt x="29" y="9"/>
                    </a:moveTo>
                    <a:lnTo>
                      <a:pt x="15" y="0"/>
                    </a:lnTo>
                    <a:lnTo>
                      <a:pt x="0" y="14"/>
                    </a:lnTo>
                    <a:lnTo>
                      <a:pt x="15" y="23"/>
                    </a:lnTo>
                    <a:lnTo>
                      <a:pt x="29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Freeform 1552"/>
              <p:cNvSpPr/>
              <p:nvPr/>
            </p:nvSpPr>
            <p:spPr>
              <a:xfrm>
                <a:off x="4442760" y="284544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5"/>
                    </a:moveTo>
                    <a:lnTo>
                      <a:pt x="18" y="24"/>
                    </a:lnTo>
                    <a:lnTo>
                      <a:pt x="0" y="15"/>
                    </a:lnTo>
                    <a:lnTo>
                      <a:pt x="9" y="0"/>
                    </a:lnTo>
                    <a:lnTo>
                      <a:pt x="28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Freeform 1553"/>
              <p:cNvSpPr/>
              <p:nvPr/>
            </p:nvSpPr>
            <p:spPr>
              <a:xfrm>
                <a:off x="4462200" y="2855160"/>
                <a:ext cx="54720" cy="3060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94" h="47">
                    <a:moveTo>
                      <a:pt x="94" y="28"/>
                    </a:moveTo>
                    <a:lnTo>
                      <a:pt x="89" y="23"/>
                    </a:lnTo>
                    <a:lnTo>
                      <a:pt x="70" y="14"/>
                    </a:lnTo>
                    <a:lnTo>
                      <a:pt x="47" y="9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4" y="14"/>
                    </a:lnTo>
                    <a:lnTo>
                      <a:pt x="42" y="28"/>
                    </a:lnTo>
                    <a:lnTo>
                      <a:pt x="61" y="33"/>
                    </a:lnTo>
                    <a:lnTo>
                      <a:pt x="80" y="37"/>
                    </a:lnTo>
                    <a:lnTo>
                      <a:pt x="89" y="47"/>
                    </a:lnTo>
                    <a:lnTo>
                      <a:pt x="94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Freeform 1554"/>
              <p:cNvSpPr/>
              <p:nvPr/>
            </p:nvSpPr>
            <p:spPr>
              <a:xfrm>
                <a:off x="4520160" y="288288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23" y="10"/>
                    </a:moveTo>
                    <a:lnTo>
                      <a:pt x="23" y="10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23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Freeform 1555"/>
              <p:cNvSpPr/>
              <p:nvPr/>
            </p:nvSpPr>
            <p:spPr>
              <a:xfrm>
                <a:off x="4525200" y="288936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19" y="4"/>
                    </a:moveTo>
                    <a:lnTo>
                      <a:pt x="5" y="14"/>
                    </a:lnTo>
                    <a:lnTo>
                      <a:pt x="0" y="9"/>
                    </a:lnTo>
                    <a:lnTo>
                      <a:pt x="14" y="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Freeform 1556"/>
              <p:cNvSpPr/>
              <p:nvPr/>
            </p:nvSpPr>
            <p:spPr>
              <a:xfrm>
                <a:off x="4536360" y="2898720"/>
                <a:ext cx="16200" cy="147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8" h="23">
                    <a:moveTo>
                      <a:pt x="28" y="14"/>
                    </a:moveTo>
                    <a:lnTo>
                      <a:pt x="14" y="23"/>
                    </a:lnTo>
                    <a:lnTo>
                      <a:pt x="0" y="14"/>
                    </a:lnTo>
                    <a:lnTo>
                      <a:pt x="14" y="0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Freeform 1557"/>
              <p:cNvSpPr/>
              <p:nvPr/>
            </p:nvSpPr>
            <p:spPr>
              <a:xfrm>
                <a:off x="4552920" y="2913480"/>
                <a:ext cx="52560" cy="4320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90" h="66">
                    <a:moveTo>
                      <a:pt x="90" y="48"/>
                    </a:moveTo>
                    <a:lnTo>
                      <a:pt x="90" y="48"/>
                    </a:lnTo>
                    <a:lnTo>
                      <a:pt x="48" y="24"/>
                    </a:lnTo>
                    <a:lnTo>
                      <a:pt x="15" y="0"/>
                    </a:lnTo>
                    <a:lnTo>
                      <a:pt x="0" y="14"/>
                    </a:lnTo>
                    <a:lnTo>
                      <a:pt x="38" y="38"/>
                    </a:lnTo>
                    <a:lnTo>
                      <a:pt x="81" y="62"/>
                    </a:lnTo>
                    <a:lnTo>
                      <a:pt x="81" y="66"/>
                    </a:lnTo>
                    <a:lnTo>
                      <a:pt x="90" y="4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Freeform 1558"/>
              <p:cNvSpPr/>
              <p:nvPr/>
            </p:nvSpPr>
            <p:spPr>
              <a:xfrm>
                <a:off x="4608360" y="295128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9"/>
                    </a:moveTo>
                    <a:lnTo>
                      <a:pt x="28" y="9"/>
                    </a:lnTo>
                    <a:lnTo>
                      <a:pt x="9" y="0"/>
                    </a:lnTo>
                    <a:lnTo>
                      <a:pt x="0" y="19"/>
                    </a:lnTo>
                    <a:lnTo>
                      <a:pt x="14" y="24"/>
                    </a:lnTo>
                    <a:lnTo>
                      <a:pt x="28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Freeform 1559"/>
              <p:cNvSpPr/>
              <p:nvPr/>
            </p:nvSpPr>
            <p:spPr>
              <a:xfrm>
                <a:off x="4616640" y="2957040"/>
                <a:ext cx="7920" cy="972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9720"/>
                  <a:gd name="textAreaBottom" fmla="*/ 10080 h 9720"/>
                </a:gdLst>
                <a:ahLst/>
                <a:rect l="textAreaLeft" t="textAreaTop" r="textAreaRight" b="textAreaBottom"/>
                <a:pathLst>
                  <a:path w="14" h="15">
                    <a:moveTo>
                      <a:pt x="14" y="0"/>
                    </a:moveTo>
                    <a:lnTo>
                      <a:pt x="5" y="15"/>
                    </a:lnTo>
                    <a:lnTo>
                      <a:pt x="0" y="15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Freeform 1560"/>
              <p:cNvSpPr/>
              <p:nvPr/>
            </p:nvSpPr>
            <p:spPr>
              <a:xfrm>
                <a:off x="4627800" y="2963520"/>
                <a:ext cx="13320" cy="14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23" y="9"/>
                    </a:moveTo>
                    <a:lnTo>
                      <a:pt x="19" y="5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9" y="19"/>
                    </a:lnTo>
                    <a:lnTo>
                      <a:pt x="14" y="23"/>
                    </a:lnTo>
                    <a:lnTo>
                      <a:pt x="23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Freeform 1561"/>
              <p:cNvSpPr/>
              <p:nvPr/>
            </p:nvSpPr>
            <p:spPr>
              <a:xfrm>
                <a:off x="4647240" y="2976120"/>
                <a:ext cx="33120" cy="3996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57" h="61">
                    <a:moveTo>
                      <a:pt x="57" y="52"/>
                    </a:moveTo>
                    <a:lnTo>
                      <a:pt x="57" y="52"/>
                    </a:lnTo>
                    <a:lnTo>
                      <a:pt x="33" y="19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19" y="33"/>
                    </a:lnTo>
                    <a:lnTo>
                      <a:pt x="42" y="61"/>
                    </a:lnTo>
                    <a:lnTo>
                      <a:pt x="57" y="52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Freeform 1562"/>
              <p:cNvSpPr/>
              <p:nvPr/>
            </p:nvSpPr>
            <p:spPr>
              <a:xfrm>
                <a:off x="4671720" y="3010320"/>
                <a:ext cx="19080" cy="1800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33" h="28">
                    <a:moveTo>
                      <a:pt x="33" y="19"/>
                    </a:moveTo>
                    <a:lnTo>
                      <a:pt x="15" y="28"/>
                    </a:lnTo>
                    <a:lnTo>
                      <a:pt x="0" y="9"/>
                    </a:lnTo>
                    <a:lnTo>
                      <a:pt x="15" y="0"/>
                    </a:lnTo>
                    <a:lnTo>
                      <a:pt x="33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Freeform 1563"/>
              <p:cNvSpPr/>
              <p:nvPr/>
            </p:nvSpPr>
            <p:spPr>
              <a:xfrm>
                <a:off x="4688640" y="3028680"/>
                <a:ext cx="16200" cy="183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8" h="28">
                    <a:moveTo>
                      <a:pt x="28" y="14"/>
                    </a:moveTo>
                    <a:lnTo>
                      <a:pt x="23" y="14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9" y="24"/>
                    </a:lnTo>
                    <a:lnTo>
                      <a:pt x="14" y="28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Freeform 1564"/>
              <p:cNvSpPr/>
              <p:nvPr/>
            </p:nvSpPr>
            <p:spPr>
              <a:xfrm>
                <a:off x="4696920" y="305352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9"/>
                    </a:moveTo>
                    <a:lnTo>
                      <a:pt x="19" y="9"/>
                    </a:lnTo>
                    <a:lnTo>
                      <a:pt x="19" y="0"/>
                    </a:lnTo>
                    <a:lnTo>
                      <a:pt x="5" y="4"/>
                    </a:lnTo>
                    <a:lnTo>
                      <a:pt x="5" y="9"/>
                    </a:lnTo>
                    <a:lnTo>
                      <a:pt x="0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Freeform 1565"/>
              <p:cNvSpPr/>
              <p:nvPr/>
            </p:nvSpPr>
            <p:spPr>
              <a:xfrm>
                <a:off x="4685760" y="3078000"/>
                <a:ext cx="19080" cy="622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33" h="95">
                    <a:moveTo>
                      <a:pt x="19" y="95"/>
                    </a:moveTo>
                    <a:lnTo>
                      <a:pt x="24" y="71"/>
                    </a:lnTo>
                    <a:lnTo>
                      <a:pt x="33" y="0"/>
                    </a:lnTo>
                    <a:lnTo>
                      <a:pt x="14" y="0"/>
                    </a:lnTo>
                    <a:lnTo>
                      <a:pt x="5" y="67"/>
                    </a:lnTo>
                    <a:lnTo>
                      <a:pt x="0" y="90"/>
                    </a:lnTo>
                    <a:lnTo>
                      <a:pt x="19" y="9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Freeform 1566"/>
              <p:cNvSpPr/>
              <p:nvPr/>
            </p:nvSpPr>
            <p:spPr>
              <a:xfrm>
                <a:off x="4682880" y="314964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14" y="0"/>
                    </a:moveTo>
                    <a:lnTo>
                      <a:pt x="19" y="9"/>
                    </a:lnTo>
                    <a:lnTo>
                      <a:pt x="24" y="0"/>
                    </a:lnTo>
                    <a:lnTo>
                      <a:pt x="5" y="0"/>
                    </a:lnTo>
                    <a:lnTo>
                      <a:pt x="0" y="9"/>
                    </a:lnTo>
                    <a:lnTo>
                      <a:pt x="10" y="19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Freeform 1567"/>
              <p:cNvSpPr/>
              <p:nvPr/>
            </p:nvSpPr>
            <p:spPr>
              <a:xfrm>
                <a:off x="4688640" y="3149640"/>
                <a:ext cx="7920" cy="1548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4" h="24">
                    <a:moveTo>
                      <a:pt x="14" y="5"/>
                    </a:moveTo>
                    <a:lnTo>
                      <a:pt x="9" y="24"/>
                    </a:lnTo>
                    <a:lnTo>
                      <a:pt x="0" y="19"/>
                    </a:lnTo>
                    <a:lnTo>
                      <a:pt x="4" y="0"/>
                    </a:lnTo>
                    <a:lnTo>
                      <a:pt x="1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Freeform 1568"/>
              <p:cNvSpPr/>
              <p:nvPr/>
            </p:nvSpPr>
            <p:spPr>
              <a:xfrm>
                <a:off x="4702320" y="315540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24" y="5"/>
                    </a:moveTo>
                    <a:lnTo>
                      <a:pt x="19" y="24"/>
                    </a:lnTo>
                    <a:lnTo>
                      <a:pt x="0" y="19"/>
                    </a:lnTo>
                    <a:lnTo>
                      <a:pt x="10" y="0"/>
                    </a:lnTo>
                    <a:lnTo>
                      <a:pt x="24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Freeform 1569"/>
              <p:cNvSpPr/>
              <p:nvPr/>
            </p:nvSpPr>
            <p:spPr>
              <a:xfrm>
                <a:off x="4724280" y="3165120"/>
                <a:ext cx="30240" cy="2160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52" h="33">
                    <a:moveTo>
                      <a:pt x="47" y="33"/>
                    </a:moveTo>
                    <a:lnTo>
                      <a:pt x="52" y="14"/>
                    </a:lnTo>
                    <a:lnTo>
                      <a:pt x="5" y="0"/>
                    </a:lnTo>
                    <a:lnTo>
                      <a:pt x="0" y="14"/>
                    </a:lnTo>
                    <a:lnTo>
                      <a:pt x="43" y="33"/>
                    </a:lnTo>
                    <a:lnTo>
                      <a:pt x="47" y="33"/>
                    </a:lnTo>
                    <a:lnTo>
                      <a:pt x="43" y="33"/>
                    </a:lnTo>
                    <a:lnTo>
                      <a:pt x="47" y="3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Freeform 1570"/>
              <p:cNvSpPr/>
              <p:nvPr/>
            </p:nvSpPr>
            <p:spPr>
              <a:xfrm>
                <a:off x="4752000" y="3174480"/>
                <a:ext cx="24840" cy="15120"/>
              </a:xfrm>
              <a:custGeom>
                <a:avLst/>
                <a:gdLst>
                  <a:gd name="textAreaLeft" fmla="*/ 0 w 24840"/>
                  <a:gd name="textAreaRight" fmla="*/ 25200 w 248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43" h="23">
                    <a:moveTo>
                      <a:pt x="43" y="5"/>
                    </a:moveTo>
                    <a:lnTo>
                      <a:pt x="43" y="23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43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Rectangle 1571"/>
              <p:cNvSpPr/>
              <p:nvPr/>
            </p:nvSpPr>
            <p:spPr>
              <a:xfrm>
                <a:off x="4788360" y="3177720"/>
                <a:ext cx="10800" cy="1188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Rectangle 1572"/>
              <p:cNvSpPr/>
              <p:nvPr/>
            </p:nvSpPr>
            <p:spPr>
              <a:xfrm>
                <a:off x="4809960" y="318024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Freeform 1573"/>
              <p:cNvSpPr/>
              <p:nvPr/>
            </p:nvSpPr>
            <p:spPr>
              <a:xfrm>
                <a:off x="4826880" y="3187080"/>
                <a:ext cx="41400" cy="399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61" y="61"/>
                    </a:moveTo>
                    <a:lnTo>
                      <a:pt x="71" y="47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61" y="61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Freeform 1574"/>
              <p:cNvSpPr/>
              <p:nvPr/>
            </p:nvSpPr>
            <p:spPr>
              <a:xfrm>
                <a:off x="4862520" y="321768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24" y="9"/>
                    </a:moveTo>
                    <a:lnTo>
                      <a:pt x="19" y="5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5" y="19"/>
                    </a:lnTo>
                    <a:lnTo>
                      <a:pt x="10" y="23"/>
                    </a:lnTo>
                    <a:lnTo>
                      <a:pt x="24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Freeform 1575"/>
              <p:cNvSpPr/>
              <p:nvPr/>
            </p:nvSpPr>
            <p:spPr>
              <a:xfrm>
                <a:off x="4876560" y="323028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23" y="19"/>
                    </a:moveTo>
                    <a:lnTo>
                      <a:pt x="19" y="9"/>
                    </a:lnTo>
                    <a:lnTo>
                      <a:pt x="14" y="0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9" y="28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Freeform 1576"/>
              <p:cNvSpPr/>
              <p:nvPr/>
            </p:nvSpPr>
            <p:spPr>
              <a:xfrm>
                <a:off x="4881960" y="325800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19" y="14"/>
                    </a:moveTo>
                    <a:lnTo>
                      <a:pt x="19" y="14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Freeform 1577"/>
              <p:cNvSpPr/>
              <p:nvPr/>
            </p:nvSpPr>
            <p:spPr>
              <a:xfrm>
                <a:off x="4879080" y="3261240"/>
                <a:ext cx="13680" cy="9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24" h="14">
                    <a:moveTo>
                      <a:pt x="19" y="14"/>
                    </a:moveTo>
                    <a:lnTo>
                      <a:pt x="0" y="9"/>
                    </a:lnTo>
                    <a:lnTo>
                      <a:pt x="5" y="0"/>
                    </a:lnTo>
                    <a:lnTo>
                      <a:pt x="24" y="9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Freeform 1578"/>
              <p:cNvSpPr/>
              <p:nvPr/>
            </p:nvSpPr>
            <p:spPr>
              <a:xfrm>
                <a:off x="4849200" y="3277080"/>
                <a:ext cx="32760" cy="3672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56" h="56">
                    <a:moveTo>
                      <a:pt x="14" y="56"/>
                    </a:moveTo>
                    <a:lnTo>
                      <a:pt x="9" y="56"/>
                    </a:lnTo>
                    <a:lnTo>
                      <a:pt x="37" y="37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3" y="23"/>
                    </a:lnTo>
                    <a:lnTo>
                      <a:pt x="0" y="42"/>
                    </a:lnTo>
                    <a:lnTo>
                      <a:pt x="0" y="47"/>
                    </a:lnTo>
                    <a:lnTo>
                      <a:pt x="14" y="56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Freeform 1579"/>
              <p:cNvSpPr/>
              <p:nvPr/>
            </p:nvSpPr>
            <p:spPr>
              <a:xfrm>
                <a:off x="4843440" y="3307680"/>
                <a:ext cx="13680" cy="216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4" h="33">
                    <a:moveTo>
                      <a:pt x="19" y="33"/>
                    </a:moveTo>
                    <a:lnTo>
                      <a:pt x="19" y="19"/>
                    </a:lnTo>
                    <a:lnTo>
                      <a:pt x="24" y="9"/>
                    </a:lnTo>
                    <a:lnTo>
                      <a:pt x="10" y="0"/>
                    </a:lnTo>
                    <a:lnTo>
                      <a:pt x="0" y="14"/>
                    </a:lnTo>
                    <a:lnTo>
                      <a:pt x="0" y="28"/>
                    </a:lnTo>
                    <a:lnTo>
                      <a:pt x="19" y="3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Freeform 1580"/>
              <p:cNvSpPr/>
              <p:nvPr/>
            </p:nvSpPr>
            <p:spPr>
              <a:xfrm>
                <a:off x="4840560" y="333864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19" y="19"/>
                    </a:moveTo>
                    <a:lnTo>
                      <a:pt x="0" y="19"/>
                    </a:lnTo>
                    <a:lnTo>
                      <a:pt x="5" y="0"/>
                    </a:lnTo>
                    <a:lnTo>
                      <a:pt x="19" y="0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Freeform 1581"/>
              <p:cNvSpPr/>
              <p:nvPr/>
            </p:nvSpPr>
            <p:spPr>
              <a:xfrm>
                <a:off x="4840560" y="3363480"/>
                <a:ext cx="13680" cy="1224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24" y="19"/>
                    </a:moveTo>
                    <a:lnTo>
                      <a:pt x="5" y="19"/>
                    </a:lnTo>
                    <a:lnTo>
                      <a:pt x="0" y="0"/>
                    </a:lnTo>
                    <a:lnTo>
                      <a:pt x="19" y="0"/>
                    </a:lnTo>
                    <a:lnTo>
                      <a:pt x="24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Freeform 1582"/>
              <p:cNvSpPr/>
              <p:nvPr/>
            </p:nvSpPr>
            <p:spPr>
              <a:xfrm>
                <a:off x="4843440" y="3387960"/>
                <a:ext cx="16200" cy="439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43920"/>
                  <a:gd name="textAreaBottom" fmla="*/ 44280 h 43920"/>
                </a:gdLst>
                <a:ahLst/>
                <a:rect l="textAreaLeft" t="textAreaTop" r="textAreaRight" b="textAreaBottom"/>
                <a:pathLst>
                  <a:path w="28" h="67">
                    <a:moveTo>
                      <a:pt x="19" y="48"/>
                    </a:moveTo>
                    <a:lnTo>
                      <a:pt x="28" y="57"/>
                    </a:lnTo>
                    <a:lnTo>
                      <a:pt x="24" y="19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5" y="24"/>
                    </a:lnTo>
                    <a:lnTo>
                      <a:pt x="14" y="62"/>
                    </a:lnTo>
                    <a:lnTo>
                      <a:pt x="19" y="67"/>
                    </a:lnTo>
                    <a:lnTo>
                      <a:pt x="19" y="4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Freeform 1583"/>
              <p:cNvSpPr/>
              <p:nvPr/>
            </p:nvSpPr>
            <p:spPr>
              <a:xfrm>
                <a:off x="4854240" y="3419280"/>
                <a:ext cx="19080" cy="122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33" h="19">
                    <a:moveTo>
                      <a:pt x="33" y="4"/>
                    </a:moveTo>
                    <a:lnTo>
                      <a:pt x="33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1584"/>
              <p:cNvSpPr/>
              <p:nvPr/>
            </p:nvSpPr>
            <p:spPr>
              <a:xfrm>
                <a:off x="4884840" y="34221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Rectangle 1585"/>
              <p:cNvSpPr/>
              <p:nvPr/>
            </p:nvSpPr>
            <p:spPr>
              <a:xfrm>
                <a:off x="4907160" y="34221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Freeform 1586"/>
              <p:cNvSpPr/>
              <p:nvPr/>
            </p:nvSpPr>
            <p:spPr>
              <a:xfrm>
                <a:off x="4928760" y="3422160"/>
                <a:ext cx="52560" cy="1548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0" h="24">
                    <a:moveTo>
                      <a:pt x="90" y="5"/>
                    </a:moveTo>
                    <a:lnTo>
                      <a:pt x="90" y="24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9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Rectangle 1587"/>
              <p:cNvSpPr/>
              <p:nvPr/>
            </p:nvSpPr>
            <p:spPr>
              <a:xfrm>
                <a:off x="4992480" y="342540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Rectangle 1588"/>
              <p:cNvSpPr/>
              <p:nvPr/>
            </p:nvSpPr>
            <p:spPr>
              <a:xfrm>
                <a:off x="5014800" y="342540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Freeform 1589"/>
              <p:cNvSpPr/>
              <p:nvPr/>
            </p:nvSpPr>
            <p:spPr>
              <a:xfrm>
                <a:off x="5037120" y="3425400"/>
                <a:ext cx="51840" cy="1548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89" h="24">
                    <a:moveTo>
                      <a:pt x="89" y="5"/>
                    </a:moveTo>
                    <a:lnTo>
                      <a:pt x="89" y="24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89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Rectangle 1590"/>
              <p:cNvSpPr/>
              <p:nvPr/>
            </p:nvSpPr>
            <p:spPr>
              <a:xfrm>
                <a:off x="5100480" y="342864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Rectangle 1591"/>
              <p:cNvSpPr/>
              <p:nvPr/>
            </p:nvSpPr>
            <p:spPr>
              <a:xfrm>
                <a:off x="5122800" y="342864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Freeform 1592"/>
              <p:cNvSpPr/>
              <p:nvPr/>
            </p:nvSpPr>
            <p:spPr>
              <a:xfrm>
                <a:off x="5144760" y="3431880"/>
                <a:ext cx="16200" cy="11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8" h="18">
                    <a:moveTo>
                      <a:pt x="28" y="14"/>
                    </a:moveTo>
                    <a:lnTo>
                      <a:pt x="19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19" y="18"/>
                    </a:lnTo>
                    <a:lnTo>
                      <a:pt x="28" y="14"/>
                    </a:lnTo>
                    <a:lnTo>
                      <a:pt x="19" y="18"/>
                    </a:lnTo>
                    <a:lnTo>
                      <a:pt x="23" y="18"/>
                    </a:lnTo>
                    <a:lnTo>
                      <a:pt x="28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Freeform 1593"/>
              <p:cNvSpPr/>
              <p:nvPr/>
            </p:nvSpPr>
            <p:spPr>
              <a:xfrm>
                <a:off x="5150160" y="3394440"/>
                <a:ext cx="33120" cy="46440"/>
              </a:xfrm>
              <a:custGeom>
                <a:avLst/>
                <a:gdLst>
                  <a:gd name="textAreaLeft" fmla="*/ 0 w 33120"/>
                  <a:gd name="textAreaRight" fmla="*/ 33480 w 33120"/>
                  <a:gd name="textAreaTop" fmla="*/ 0 h 46440"/>
                  <a:gd name="textAreaBottom" fmla="*/ 46800 h 46440"/>
                </a:gdLst>
                <a:ahLst/>
                <a:rect l="textAreaLeft" t="textAreaTop" r="textAreaRight" b="textAreaBottom"/>
                <a:pathLst>
                  <a:path w="57" h="71">
                    <a:moveTo>
                      <a:pt x="43" y="0"/>
                    </a:moveTo>
                    <a:lnTo>
                      <a:pt x="57" y="9"/>
                    </a:lnTo>
                    <a:lnTo>
                      <a:pt x="19" y="71"/>
                    </a:lnTo>
                    <a:lnTo>
                      <a:pt x="0" y="6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Freeform 1594"/>
              <p:cNvSpPr/>
              <p:nvPr/>
            </p:nvSpPr>
            <p:spPr>
              <a:xfrm>
                <a:off x="5180760" y="3372840"/>
                <a:ext cx="13680" cy="18000"/>
              </a:xfrm>
              <a:custGeom>
                <a:avLst/>
                <a:gdLst>
                  <a:gd name="textAreaLeft" fmla="*/ 0 w 13680"/>
                  <a:gd name="textAreaRight" fmla="*/ 14040 w 1368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10" y="0"/>
                    </a:moveTo>
                    <a:lnTo>
                      <a:pt x="24" y="14"/>
                    </a:lnTo>
                    <a:lnTo>
                      <a:pt x="14" y="28"/>
                    </a:lnTo>
                    <a:lnTo>
                      <a:pt x="0" y="19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Freeform 1595"/>
              <p:cNvSpPr/>
              <p:nvPr/>
            </p:nvSpPr>
            <p:spPr>
              <a:xfrm>
                <a:off x="5191560" y="335448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9" y="0"/>
                    </a:moveTo>
                    <a:lnTo>
                      <a:pt x="24" y="9"/>
                    </a:lnTo>
                    <a:lnTo>
                      <a:pt x="14" y="23"/>
                    </a:lnTo>
                    <a:lnTo>
                      <a:pt x="0" y="14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Freeform 1596"/>
              <p:cNvSpPr/>
              <p:nvPr/>
            </p:nvSpPr>
            <p:spPr>
              <a:xfrm>
                <a:off x="5202720" y="3291840"/>
                <a:ext cx="38520" cy="5904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6" h="90">
                    <a:moveTo>
                      <a:pt x="52" y="0"/>
                    </a:moveTo>
                    <a:lnTo>
                      <a:pt x="66" y="10"/>
                    </a:lnTo>
                    <a:lnTo>
                      <a:pt x="14" y="90"/>
                    </a:lnTo>
                    <a:lnTo>
                      <a:pt x="0" y="80"/>
                    </a:lnTo>
                    <a:lnTo>
                      <a:pt x="52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Freeform 1597"/>
              <p:cNvSpPr/>
              <p:nvPr/>
            </p:nvSpPr>
            <p:spPr>
              <a:xfrm>
                <a:off x="5238720" y="327348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0" y="0"/>
                    </a:moveTo>
                    <a:lnTo>
                      <a:pt x="24" y="9"/>
                    </a:lnTo>
                    <a:lnTo>
                      <a:pt x="14" y="23"/>
                    </a:lnTo>
                    <a:lnTo>
                      <a:pt x="0" y="1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Freeform 1598"/>
              <p:cNvSpPr/>
              <p:nvPr/>
            </p:nvSpPr>
            <p:spPr>
              <a:xfrm>
                <a:off x="5249880" y="325188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10" y="0"/>
                    </a:moveTo>
                    <a:lnTo>
                      <a:pt x="24" y="9"/>
                    </a:lnTo>
                    <a:lnTo>
                      <a:pt x="14" y="23"/>
                    </a:lnTo>
                    <a:lnTo>
                      <a:pt x="0" y="14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Freeform 1599"/>
              <p:cNvSpPr/>
              <p:nvPr/>
            </p:nvSpPr>
            <p:spPr>
              <a:xfrm>
                <a:off x="5268960" y="3242880"/>
                <a:ext cx="52560" cy="14760"/>
              </a:xfrm>
              <a:custGeom>
                <a:avLst/>
                <a:gdLst>
                  <a:gd name="textAreaLeft" fmla="*/ 0 w 52560"/>
                  <a:gd name="textAreaRight" fmla="*/ 52920 w 5256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0" h="23">
                    <a:moveTo>
                      <a:pt x="90" y="0"/>
                    </a:moveTo>
                    <a:lnTo>
                      <a:pt x="90" y="19"/>
                    </a:lnTo>
                    <a:lnTo>
                      <a:pt x="0" y="23"/>
                    </a:lnTo>
                    <a:lnTo>
                      <a:pt x="0" y="4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Rectangle 1600"/>
              <p:cNvSpPr/>
              <p:nvPr/>
            </p:nvSpPr>
            <p:spPr>
              <a:xfrm>
                <a:off x="5332680" y="324288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1601"/>
              <p:cNvSpPr/>
              <p:nvPr/>
            </p:nvSpPr>
            <p:spPr>
              <a:xfrm>
                <a:off x="5355000" y="3242880"/>
                <a:ext cx="1044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Freeform 1602"/>
              <p:cNvSpPr/>
              <p:nvPr/>
            </p:nvSpPr>
            <p:spPr>
              <a:xfrm>
                <a:off x="5376600" y="3242880"/>
                <a:ext cx="5760" cy="9000"/>
              </a:xfrm>
              <a:custGeom>
                <a:avLst/>
                <a:gdLst>
                  <a:gd name="textAreaLeft" fmla="*/ 0 w 5760"/>
                  <a:gd name="textAreaRight" fmla="*/ 6120 w 576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0" h="14">
                    <a:moveTo>
                      <a:pt x="10" y="4"/>
                    </a:moveTo>
                    <a:lnTo>
                      <a:pt x="0" y="0"/>
                    </a:lnTo>
                    <a:lnTo>
                      <a:pt x="0" y="14"/>
                    </a:lnTo>
                    <a:lnTo>
                      <a:pt x="5" y="14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Freeform 1603"/>
              <p:cNvSpPr/>
              <p:nvPr/>
            </p:nvSpPr>
            <p:spPr>
              <a:xfrm>
                <a:off x="5374440" y="3245400"/>
                <a:ext cx="21600" cy="59040"/>
              </a:xfrm>
              <a:custGeom>
                <a:avLst/>
                <a:gdLst>
                  <a:gd name="textAreaLeft" fmla="*/ 0 w 21600"/>
                  <a:gd name="textAreaRight" fmla="*/ 21960 w 2160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37" h="90">
                    <a:moveTo>
                      <a:pt x="37" y="85"/>
                    </a:moveTo>
                    <a:lnTo>
                      <a:pt x="37" y="85"/>
                    </a:lnTo>
                    <a:lnTo>
                      <a:pt x="18" y="33"/>
                    </a:lnTo>
                    <a:lnTo>
                      <a:pt x="14" y="0"/>
                    </a:lnTo>
                    <a:lnTo>
                      <a:pt x="0" y="5"/>
                    </a:lnTo>
                    <a:lnTo>
                      <a:pt x="4" y="33"/>
                    </a:lnTo>
                    <a:lnTo>
                      <a:pt x="18" y="90"/>
                    </a:lnTo>
                    <a:lnTo>
                      <a:pt x="37" y="8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Freeform 1604"/>
              <p:cNvSpPr/>
              <p:nvPr/>
            </p:nvSpPr>
            <p:spPr>
              <a:xfrm>
                <a:off x="5384880" y="3301200"/>
                <a:ext cx="10800" cy="6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6480"/>
                  <a:gd name="textAreaBottom" fmla="*/ 6840 h 6480"/>
                </a:gdLst>
                <a:ahLst/>
                <a:rect l="textAreaLeft" t="textAreaTop" r="textAreaRight" b="textAreaBottom"/>
                <a:pathLst>
                  <a:path w="19" h="10">
                    <a:moveTo>
                      <a:pt x="19" y="0"/>
                    </a:moveTo>
                    <a:lnTo>
                      <a:pt x="0" y="10"/>
                    </a:lnTo>
                    <a:lnTo>
                      <a:pt x="0" y="5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Freeform 1605"/>
              <p:cNvSpPr/>
              <p:nvPr/>
            </p:nvSpPr>
            <p:spPr>
              <a:xfrm>
                <a:off x="5391000" y="331056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28" y="15"/>
                    </a:moveTo>
                    <a:lnTo>
                      <a:pt x="14" y="24"/>
                    </a:lnTo>
                    <a:lnTo>
                      <a:pt x="0" y="10"/>
                    </a:lnTo>
                    <a:lnTo>
                      <a:pt x="19" y="0"/>
                    </a:lnTo>
                    <a:lnTo>
                      <a:pt x="28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Freeform 1606"/>
              <p:cNvSpPr/>
              <p:nvPr/>
            </p:nvSpPr>
            <p:spPr>
              <a:xfrm>
                <a:off x="5405040" y="333216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23" y="15"/>
                    </a:moveTo>
                    <a:lnTo>
                      <a:pt x="14" y="0"/>
                    </a:lnTo>
                    <a:lnTo>
                      <a:pt x="0" y="10"/>
                    </a:lnTo>
                    <a:lnTo>
                      <a:pt x="4" y="24"/>
                    </a:lnTo>
                    <a:lnTo>
                      <a:pt x="23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Freeform 1607"/>
              <p:cNvSpPr/>
              <p:nvPr/>
            </p:nvSpPr>
            <p:spPr>
              <a:xfrm>
                <a:off x="5412960" y="33544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19" y="14"/>
                    </a:moveTo>
                    <a:lnTo>
                      <a:pt x="19" y="14"/>
                    </a:lnTo>
                    <a:lnTo>
                      <a:pt x="14" y="0"/>
                    </a:lnTo>
                    <a:lnTo>
                      <a:pt x="0" y="9"/>
                    </a:lnTo>
                    <a:lnTo>
                      <a:pt x="0" y="14"/>
                    </a:lnTo>
                    <a:lnTo>
                      <a:pt x="19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Freeform 1608"/>
              <p:cNvSpPr/>
              <p:nvPr/>
            </p:nvSpPr>
            <p:spPr>
              <a:xfrm>
                <a:off x="5412960" y="3363480"/>
                <a:ext cx="16200" cy="5256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8" h="80">
                    <a:moveTo>
                      <a:pt x="28" y="75"/>
                    </a:moveTo>
                    <a:lnTo>
                      <a:pt x="23" y="61"/>
                    </a:lnTo>
                    <a:lnTo>
                      <a:pt x="19" y="37"/>
                    </a:lnTo>
                    <a:lnTo>
                      <a:pt x="19" y="19"/>
                    </a:lnTo>
                    <a:lnTo>
                      <a:pt x="19" y="0"/>
                    </a:lnTo>
                    <a:lnTo>
                      <a:pt x="0" y="0"/>
                    </a:lnTo>
                    <a:lnTo>
                      <a:pt x="0" y="19"/>
                    </a:lnTo>
                    <a:lnTo>
                      <a:pt x="0" y="42"/>
                    </a:lnTo>
                    <a:lnTo>
                      <a:pt x="4" y="66"/>
                    </a:lnTo>
                    <a:lnTo>
                      <a:pt x="14" y="80"/>
                    </a:lnTo>
                    <a:lnTo>
                      <a:pt x="28" y="7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Freeform 1609"/>
              <p:cNvSpPr/>
              <p:nvPr/>
            </p:nvSpPr>
            <p:spPr>
              <a:xfrm>
                <a:off x="5424120" y="3422160"/>
                <a:ext cx="13320" cy="187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23" h="29">
                    <a:moveTo>
                      <a:pt x="23" y="19"/>
                    </a:moveTo>
                    <a:lnTo>
                      <a:pt x="9" y="29"/>
                    </a:lnTo>
                    <a:lnTo>
                      <a:pt x="0" y="10"/>
                    </a:lnTo>
                    <a:lnTo>
                      <a:pt x="18" y="0"/>
                    </a:lnTo>
                    <a:lnTo>
                      <a:pt x="23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Freeform 1610"/>
              <p:cNvSpPr/>
              <p:nvPr/>
            </p:nvSpPr>
            <p:spPr>
              <a:xfrm>
                <a:off x="5432400" y="3447000"/>
                <a:ext cx="10800" cy="1548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19" h="24">
                    <a:moveTo>
                      <a:pt x="19" y="19"/>
                    </a:moveTo>
                    <a:lnTo>
                      <a:pt x="19" y="5"/>
                    </a:lnTo>
                    <a:lnTo>
                      <a:pt x="14" y="0"/>
                    </a:lnTo>
                    <a:lnTo>
                      <a:pt x="0" y="10"/>
                    </a:lnTo>
                    <a:lnTo>
                      <a:pt x="0" y="24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Freeform 1611"/>
              <p:cNvSpPr/>
              <p:nvPr/>
            </p:nvSpPr>
            <p:spPr>
              <a:xfrm>
                <a:off x="5434560" y="3472200"/>
                <a:ext cx="16920" cy="615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29" h="94">
                    <a:moveTo>
                      <a:pt x="29" y="94"/>
                    </a:moveTo>
                    <a:lnTo>
                      <a:pt x="29" y="80"/>
                    </a:lnTo>
                    <a:lnTo>
                      <a:pt x="24" y="28"/>
                    </a:lnTo>
                    <a:lnTo>
                      <a:pt x="19" y="0"/>
                    </a:lnTo>
                    <a:lnTo>
                      <a:pt x="0" y="5"/>
                    </a:lnTo>
                    <a:lnTo>
                      <a:pt x="5" y="28"/>
                    </a:lnTo>
                    <a:lnTo>
                      <a:pt x="10" y="80"/>
                    </a:lnTo>
                    <a:lnTo>
                      <a:pt x="10" y="94"/>
                    </a:lnTo>
                    <a:lnTo>
                      <a:pt x="29" y="9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Freeform 1612"/>
              <p:cNvSpPr/>
              <p:nvPr/>
            </p:nvSpPr>
            <p:spPr>
              <a:xfrm>
                <a:off x="7375680" y="2446200"/>
                <a:ext cx="54720" cy="367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94" h="56">
                    <a:moveTo>
                      <a:pt x="0" y="19"/>
                    </a:moveTo>
                    <a:lnTo>
                      <a:pt x="9" y="0"/>
                    </a:lnTo>
                    <a:lnTo>
                      <a:pt x="94" y="37"/>
                    </a:lnTo>
                    <a:lnTo>
                      <a:pt x="85" y="56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Freeform 1613"/>
              <p:cNvSpPr/>
              <p:nvPr/>
            </p:nvSpPr>
            <p:spPr>
              <a:xfrm>
                <a:off x="7356600" y="24361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9" y="0"/>
                    </a:lnTo>
                    <a:lnTo>
                      <a:pt x="23" y="10"/>
                    </a:lnTo>
                    <a:lnTo>
                      <a:pt x="19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Freeform 1614"/>
              <p:cNvSpPr/>
              <p:nvPr/>
            </p:nvSpPr>
            <p:spPr>
              <a:xfrm>
                <a:off x="7337160" y="242712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4"/>
                    </a:moveTo>
                    <a:lnTo>
                      <a:pt x="4" y="0"/>
                    </a:lnTo>
                    <a:lnTo>
                      <a:pt x="23" y="5"/>
                    </a:lnTo>
                    <a:lnTo>
                      <a:pt x="14" y="2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Freeform 1615"/>
              <p:cNvSpPr/>
              <p:nvPr/>
            </p:nvSpPr>
            <p:spPr>
              <a:xfrm>
                <a:off x="7276320" y="2396160"/>
                <a:ext cx="55080" cy="3708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94" h="57">
                    <a:moveTo>
                      <a:pt x="0" y="19"/>
                    </a:moveTo>
                    <a:lnTo>
                      <a:pt x="9" y="0"/>
                    </a:lnTo>
                    <a:lnTo>
                      <a:pt x="94" y="38"/>
                    </a:lnTo>
                    <a:lnTo>
                      <a:pt x="85" y="5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Freeform 1616"/>
              <p:cNvSpPr/>
              <p:nvPr/>
            </p:nvSpPr>
            <p:spPr>
              <a:xfrm>
                <a:off x="7256880" y="238716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9" y="0"/>
                    </a:lnTo>
                    <a:lnTo>
                      <a:pt x="23" y="9"/>
                    </a:lnTo>
                    <a:lnTo>
                      <a:pt x="19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Freeform 1617"/>
              <p:cNvSpPr/>
              <p:nvPr/>
            </p:nvSpPr>
            <p:spPr>
              <a:xfrm>
                <a:off x="7237440" y="237780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9"/>
                    </a:moveTo>
                    <a:lnTo>
                      <a:pt x="9" y="0"/>
                    </a:lnTo>
                    <a:lnTo>
                      <a:pt x="23" y="9"/>
                    </a:lnTo>
                    <a:lnTo>
                      <a:pt x="19" y="2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Freeform 1618"/>
              <p:cNvSpPr/>
              <p:nvPr/>
            </p:nvSpPr>
            <p:spPr>
              <a:xfrm>
                <a:off x="7209360" y="2361960"/>
                <a:ext cx="21960" cy="2160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38" h="33">
                    <a:moveTo>
                      <a:pt x="5" y="0"/>
                    </a:moveTo>
                    <a:lnTo>
                      <a:pt x="0" y="19"/>
                    </a:lnTo>
                    <a:lnTo>
                      <a:pt x="33" y="33"/>
                    </a:lnTo>
                    <a:lnTo>
                      <a:pt x="38" y="14"/>
                    </a:lnTo>
                    <a:lnTo>
                      <a:pt x="10" y="5"/>
                    </a:lnTo>
                    <a:lnTo>
                      <a:pt x="5" y="0"/>
                    </a:lnTo>
                    <a:lnTo>
                      <a:pt x="10" y="5"/>
                    </a:lnTo>
                    <a:lnTo>
                      <a:pt x="10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1619"/>
              <p:cNvSpPr/>
              <p:nvPr/>
            </p:nvSpPr>
            <p:spPr>
              <a:xfrm>
                <a:off x="7176600" y="2361960"/>
                <a:ext cx="3564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1620"/>
              <p:cNvSpPr/>
              <p:nvPr/>
            </p:nvSpPr>
            <p:spPr>
              <a:xfrm>
                <a:off x="7157520" y="23619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Freeform 1621"/>
              <p:cNvSpPr/>
              <p:nvPr/>
            </p:nvSpPr>
            <p:spPr>
              <a:xfrm>
                <a:off x="7143480" y="2356200"/>
                <a:ext cx="14040" cy="1224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4" h="19">
                    <a:moveTo>
                      <a:pt x="5" y="0"/>
                    </a:moveTo>
                    <a:lnTo>
                      <a:pt x="5" y="0"/>
                    </a:lnTo>
                    <a:lnTo>
                      <a:pt x="0" y="14"/>
                    </a:lnTo>
                    <a:lnTo>
                      <a:pt x="14" y="19"/>
                    </a:lnTo>
                    <a:lnTo>
                      <a:pt x="19" y="4"/>
                    </a:lnTo>
                    <a:lnTo>
                      <a:pt x="24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Freeform 1622"/>
              <p:cNvSpPr/>
              <p:nvPr/>
            </p:nvSpPr>
            <p:spPr>
              <a:xfrm>
                <a:off x="7143480" y="2281320"/>
                <a:ext cx="16200" cy="6552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28" h="100">
                    <a:moveTo>
                      <a:pt x="0" y="10"/>
                    </a:moveTo>
                    <a:lnTo>
                      <a:pt x="5" y="15"/>
                    </a:lnTo>
                    <a:lnTo>
                      <a:pt x="10" y="24"/>
                    </a:lnTo>
                    <a:lnTo>
                      <a:pt x="14" y="48"/>
                    </a:lnTo>
                    <a:lnTo>
                      <a:pt x="10" y="71"/>
                    </a:lnTo>
                    <a:lnTo>
                      <a:pt x="5" y="95"/>
                    </a:lnTo>
                    <a:lnTo>
                      <a:pt x="24" y="100"/>
                    </a:lnTo>
                    <a:lnTo>
                      <a:pt x="28" y="71"/>
                    </a:lnTo>
                    <a:lnTo>
                      <a:pt x="28" y="43"/>
                    </a:lnTo>
                    <a:lnTo>
                      <a:pt x="28" y="19"/>
                    </a:lnTo>
                    <a:lnTo>
                      <a:pt x="24" y="5"/>
                    </a:lnTo>
                    <a:lnTo>
                      <a:pt x="19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Freeform 1623"/>
              <p:cNvSpPr/>
              <p:nvPr/>
            </p:nvSpPr>
            <p:spPr>
              <a:xfrm>
                <a:off x="7135200" y="2269440"/>
                <a:ext cx="10800" cy="115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19" h="18">
                    <a:moveTo>
                      <a:pt x="0" y="18"/>
                    </a:moveTo>
                    <a:lnTo>
                      <a:pt x="0" y="18"/>
                    </a:lnTo>
                    <a:lnTo>
                      <a:pt x="5" y="18"/>
                    </a:lnTo>
                    <a:lnTo>
                      <a:pt x="19" y="4"/>
                    </a:lnTo>
                    <a:lnTo>
                      <a:pt x="9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Freeform 1624"/>
              <p:cNvSpPr/>
              <p:nvPr/>
            </p:nvSpPr>
            <p:spPr>
              <a:xfrm>
                <a:off x="7129800" y="2266200"/>
                <a:ext cx="10440" cy="1512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8" h="23">
                    <a:moveTo>
                      <a:pt x="0" y="19"/>
                    </a:moveTo>
                    <a:lnTo>
                      <a:pt x="9" y="0"/>
                    </a:lnTo>
                    <a:lnTo>
                      <a:pt x="18" y="5"/>
                    </a:lnTo>
                    <a:lnTo>
                      <a:pt x="9" y="2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Freeform 1625"/>
              <p:cNvSpPr/>
              <p:nvPr/>
            </p:nvSpPr>
            <p:spPr>
              <a:xfrm>
                <a:off x="7110000" y="2259360"/>
                <a:ext cx="14040" cy="154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4" h="24">
                    <a:moveTo>
                      <a:pt x="0" y="15"/>
                    </a:moveTo>
                    <a:lnTo>
                      <a:pt x="0" y="15"/>
                    </a:lnTo>
                    <a:lnTo>
                      <a:pt x="19" y="24"/>
                    </a:lnTo>
                    <a:lnTo>
                      <a:pt x="24" y="5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Freeform 1626"/>
              <p:cNvSpPr/>
              <p:nvPr/>
            </p:nvSpPr>
            <p:spPr>
              <a:xfrm>
                <a:off x="7049520" y="2232000"/>
                <a:ext cx="51840" cy="338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33840"/>
                  <a:gd name="textAreaBottom" fmla="*/ 34200 h 33840"/>
                </a:gdLst>
                <a:ahLst/>
                <a:rect l="textAreaLeft" t="textAreaTop" r="textAreaRight" b="textAreaBottom"/>
                <a:pathLst>
                  <a:path w="89" h="52">
                    <a:moveTo>
                      <a:pt x="0" y="19"/>
                    </a:moveTo>
                    <a:lnTo>
                      <a:pt x="28" y="28"/>
                    </a:lnTo>
                    <a:lnTo>
                      <a:pt x="66" y="42"/>
                    </a:lnTo>
                    <a:lnTo>
                      <a:pt x="85" y="52"/>
                    </a:lnTo>
                    <a:lnTo>
                      <a:pt x="89" y="33"/>
                    </a:lnTo>
                    <a:lnTo>
                      <a:pt x="70" y="28"/>
                    </a:lnTo>
                    <a:lnTo>
                      <a:pt x="37" y="14"/>
                    </a:lnTo>
                    <a:lnTo>
                      <a:pt x="4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Freeform 1627"/>
              <p:cNvSpPr/>
              <p:nvPr/>
            </p:nvSpPr>
            <p:spPr>
              <a:xfrm>
                <a:off x="7030440" y="222264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9"/>
                    </a:moveTo>
                    <a:lnTo>
                      <a:pt x="4" y="0"/>
                    </a:lnTo>
                    <a:lnTo>
                      <a:pt x="23" y="9"/>
                    </a:lnTo>
                    <a:lnTo>
                      <a:pt x="14" y="2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Freeform 1628"/>
              <p:cNvSpPr/>
              <p:nvPr/>
            </p:nvSpPr>
            <p:spPr>
              <a:xfrm>
                <a:off x="7008120" y="221616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0" y="19"/>
                    </a:moveTo>
                    <a:lnTo>
                      <a:pt x="9" y="0"/>
                    </a:lnTo>
                    <a:lnTo>
                      <a:pt x="23" y="5"/>
                    </a:lnTo>
                    <a:lnTo>
                      <a:pt x="19" y="2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Freeform 1629"/>
              <p:cNvSpPr/>
              <p:nvPr/>
            </p:nvSpPr>
            <p:spPr>
              <a:xfrm>
                <a:off x="6971760" y="2210400"/>
                <a:ext cx="30240" cy="15480"/>
              </a:xfrm>
              <a:custGeom>
                <a:avLst/>
                <a:gdLst>
                  <a:gd name="textAreaLeft" fmla="*/ 0 w 30240"/>
                  <a:gd name="textAreaRight" fmla="*/ 30600 w 3024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52" h="24">
                    <a:moveTo>
                      <a:pt x="0" y="14"/>
                    </a:moveTo>
                    <a:lnTo>
                      <a:pt x="0" y="14"/>
                    </a:lnTo>
                    <a:lnTo>
                      <a:pt x="33" y="19"/>
                    </a:lnTo>
                    <a:lnTo>
                      <a:pt x="48" y="24"/>
                    </a:lnTo>
                    <a:lnTo>
                      <a:pt x="52" y="5"/>
                    </a:lnTo>
                    <a:lnTo>
                      <a:pt x="33" y="5"/>
                    </a:lnTo>
                    <a:lnTo>
                      <a:pt x="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Freeform 1630"/>
              <p:cNvSpPr/>
              <p:nvPr/>
            </p:nvSpPr>
            <p:spPr>
              <a:xfrm>
                <a:off x="6947280" y="2197800"/>
                <a:ext cx="24480" cy="2124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1240"/>
                  <a:gd name="textAreaBottom" fmla="*/ 21600 h 21240"/>
                </a:gdLst>
                <a:ahLst/>
                <a:rect l="textAreaLeft" t="textAreaTop" r="textAreaRight" b="textAreaBottom"/>
                <a:pathLst>
                  <a:path w="42" h="33">
                    <a:moveTo>
                      <a:pt x="0" y="19"/>
                    </a:moveTo>
                    <a:lnTo>
                      <a:pt x="5" y="0"/>
                    </a:lnTo>
                    <a:lnTo>
                      <a:pt x="42" y="19"/>
                    </a:lnTo>
                    <a:lnTo>
                      <a:pt x="42" y="3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Freeform 1631"/>
              <p:cNvSpPr/>
              <p:nvPr/>
            </p:nvSpPr>
            <p:spPr>
              <a:xfrm>
                <a:off x="6927840" y="2188440"/>
                <a:ext cx="13320" cy="1512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3" h="23">
                    <a:moveTo>
                      <a:pt x="0" y="19"/>
                    </a:moveTo>
                    <a:lnTo>
                      <a:pt x="5" y="0"/>
                    </a:lnTo>
                    <a:lnTo>
                      <a:pt x="23" y="5"/>
                    </a:lnTo>
                    <a:lnTo>
                      <a:pt x="14" y="2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Freeform 1632"/>
              <p:cNvSpPr/>
              <p:nvPr/>
            </p:nvSpPr>
            <p:spPr>
              <a:xfrm>
                <a:off x="6908400" y="218196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0" y="15"/>
                    </a:moveTo>
                    <a:lnTo>
                      <a:pt x="0" y="15"/>
                    </a:lnTo>
                    <a:lnTo>
                      <a:pt x="14" y="19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Rectangle 1633"/>
              <p:cNvSpPr/>
              <p:nvPr/>
            </p:nvSpPr>
            <p:spPr>
              <a:xfrm>
                <a:off x="6908400" y="2181960"/>
                <a:ext cx="360" cy="972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2" name="Freeform 1634"/>
              <p:cNvSpPr/>
              <p:nvPr/>
            </p:nvSpPr>
            <p:spPr>
              <a:xfrm>
                <a:off x="6842160" y="2181960"/>
                <a:ext cx="55080" cy="1872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94" h="29">
                    <a:moveTo>
                      <a:pt x="4" y="29"/>
                    </a:moveTo>
                    <a:lnTo>
                      <a:pt x="28" y="29"/>
                    </a:lnTo>
                    <a:lnTo>
                      <a:pt x="75" y="19"/>
                    </a:lnTo>
                    <a:lnTo>
                      <a:pt x="94" y="19"/>
                    </a:lnTo>
                    <a:lnTo>
                      <a:pt x="94" y="0"/>
                    </a:lnTo>
                    <a:lnTo>
                      <a:pt x="70" y="0"/>
                    </a:lnTo>
                    <a:lnTo>
                      <a:pt x="28" y="10"/>
                    </a:lnTo>
                    <a:lnTo>
                      <a:pt x="0" y="15"/>
                    </a:lnTo>
                    <a:lnTo>
                      <a:pt x="4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3" name="Freeform 1635"/>
              <p:cNvSpPr/>
              <p:nvPr/>
            </p:nvSpPr>
            <p:spPr>
              <a:xfrm>
                <a:off x="6822360" y="2192040"/>
                <a:ext cx="10800" cy="1512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0" y="23"/>
                    </a:moveTo>
                    <a:lnTo>
                      <a:pt x="5" y="23"/>
                    </a:lnTo>
                    <a:lnTo>
                      <a:pt x="19" y="18"/>
                    </a:lnTo>
                    <a:lnTo>
                      <a:pt x="19" y="0"/>
                    </a:lnTo>
                    <a:lnTo>
                      <a:pt x="5" y="4"/>
                    </a:lnTo>
                    <a:lnTo>
                      <a:pt x="0" y="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Freeform 1636"/>
              <p:cNvSpPr/>
              <p:nvPr/>
            </p:nvSpPr>
            <p:spPr>
              <a:xfrm>
                <a:off x="6800760" y="219780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4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9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Freeform 1637"/>
              <p:cNvSpPr/>
              <p:nvPr/>
            </p:nvSpPr>
            <p:spPr>
              <a:xfrm>
                <a:off x="6783840" y="2201040"/>
                <a:ext cx="8640" cy="12240"/>
              </a:xfrm>
              <a:custGeom>
                <a:avLst/>
                <a:gdLst>
                  <a:gd name="textAreaLeft" fmla="*/ 0 w 8640"/>
                  <a:gd name="textAreaRight" fmla="*/ 9000 w 86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5" h="19">
                    <a:moveTo>
                      <a:pt x="0" y="19"/>
                    </a:moveTo>
                    <a:lnTo>
                      <a:pt x="0" y="19"/>
                    </a:lnTo>
                    <a:lnTo>
                      <a:pt x="15" y="1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6" name="Freeform 1638"/>
              <p:cNvSpPr/>
              <p:nvPr/>
            </p:nvSpPr>
            <p:spPr>
              <a:xfrm>
                <a:off x="6737040" y="2201040"/>
                <a:ext cx="46440" cy="18000"/>
              </a:xfrm>
              <a:custGeom>
                <a:avLst/>
                <a:gdLst>
                  <a:gd name="textAreaLeft" fmla="*/ 0 w 46440"/>
                  <a:gd name="textAreaRight" fmla="*/ 46800 w 4644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80" h="28">
                    <a:moveTo>
                      <a:pt x="0" y="28"/>
                    </a:moveTo>
                    <a:lnTo>
                      <a:pt x="0" y="9"/>
                    </a:lnTo>
                    <a:lnTo>
                      <a:pt x="80" y="0"/>
                    </a:lnTo>
                    <a:lnTo>
                      <a:pt x="80" y="1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" name="Freeform 1639"/>
              <p:cNvSpPr/>
              <p:nvPr/>
            </p:nvSpPr>
            <p:spPr>
              <a:xfrm>
                <a:off x="6714720" y="2210400"/>
                <a:ext cx="10800" cy="1224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" h="19">
                    <a:moveTo>
                      <a:pt x="5" y="19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9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Freeform 1640"/>
              <p:cNvSpPr/>
              <p:nvPr/>
            </p:nvSpPr>
            <p:spPr>
              <a:xfrm>
                <a:off x="6693120" y="2210400"/>
                <a:ext cx="13320" cy="1548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3" h="24">
                    <a:moveTo>
                      <a:pt x="4" y="24"/>
                    </a:moveTo>
                    <a:lnTo>
                      <a:pt x="0" y="5"/>
                    </a:lnTo>
                    <a:lnTo>
                      <a:pt x="18" y="0"/>
                    </a:lnTo>
                    <a:lnTo>
                      <a:pt x="23" y="19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Freeform 1641"/>
              <p:cNvSpPr/>
              <p:nvPr/>
            </p:nvSpPr>
            <p:spPr>
              <a:xfrm>
                <a:off x="6629040" y="2213640"/>
                <a:ext cx="55080" cy="14760"/>
              </a:xfrm>
              <a:custGeom>
                <a:avLst/>
                <a:gdLst>
                  <a:gd name="textAreaLeft" fmla="*/ 0 w 55080"/>
                  <a:gd name="textAreaRight" fmla="*/ 55440 w 550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94" h="23">
                    <a:moveTo>
                      <a:pt x="0" y="23"/>
                    </a:moveTo>
                    <a:lnTo>
                      <a:pt x="19" y="23"/>
                    </a:lnTo>
                    <a:lnTo>
                      <a:pt x="94" y="19"/>
                    </a:lnTo>
                    <a:lnTo>
                      <a:pt x="94" y="0"/>
                    </a:lnTo>
                    <a:lnTo>
                      <a:pt x="19" y="4"/>
                    </a:lnTo>
                    <a:lnTo>
                      <a:pt x="0" y="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Rectangle 1642"/>
              <p:cNvSpPr/>
              <p:nvPr/>
            </p:nvSpPr>
            <p:spPr>
              <a:xfrm>
                <a:off x="6607080" y="2216160"/>
                <a:ext cx="10800" cy="12240"/>
              </a:xfrm>
              <a:prstGeom prst="rect">
                <a:avLst/>
              </a:pr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Freeform 1643"/>
              <p:cNvSpPr/>
              <p:nvPr/>
            </p:nvSpPr>
            <p:spPr>
              <a:xfrm>
                <a:off x="6587640" y="2213640"/>
                <a:ext cx="7920" cy="1476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4" h="23">
                    <a:moveTo>
                      <a:pt x="0" y="19"/>
                    </a:moveTo>
                    <a:lnTo>
                      <a:pt x="0" y="0"/>
                    </a:lnTo>
                    <a:lnTo>
                      <a:pt x="14" y="4"/>
                    </a:lnTo>
                    <a:lnTo>
                      <a:pt x="14" y="23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Freeform 1644"/>
              <p:cNvSpPr/>
              <p:nvPr/>
            </p:nvSpPr>
            <p:spPr>
              <a:xfrm>
                <a:off x="6521400" y="2207160"/>
                <a:ext cx="54720" cy="18720"/>
              </a:xfrm>
              <a:custGeom>
                <a:avLst/>
                <a:gdLst>
                  <a:gd name="textAreaLeft" fmla="*/ 0 w 54720"/>
                  <a:gd name="textAreaRight" fmla="*/ 55080 w 54720"/>
                  <a:gd name="textAreaTop" fmla="*/ 0 h 18720"/>
                  <a:gd name="textAreaBottom" fmla="*/ 19080 h 18720"/>
                </a:gdLst>
                <a:ahLst/>
                <a:rect l="textAreaLeft" t="textAreaTop" r="textAreaRight" b="textAreaBottom"/>
                <a:pathLst>
                  <a:path w="94" h="29">
                    <a:moveTo>
                      <a:pt x="5" y="29"/>
                    </a:moveTo>
                    <a:lnTo>
                      <a:pt x="14" y="24"/>
                    </a:lnTo>
                    <a:lnTo>
                      <a:pt x="28" y="19"/>
                    </a:lnTo>
                    <a:lnTo>
                      <a:pt x="47" y="19"/>
                    </a:lnTo>
                    <a:lnTo>
                      <a:pt x="61" y="24"/>
                    </a:lnTo>
                    <a:lnTo>
                      <a:pt x="90" y="29"/>
                    </a:lnTo>
                    <a:lnTo>
                      <a:pt x="94" y="10"/>
                    </a:lnTo>
                    <a:lnTo>
                      <a:pt x="61" y="5"/>
                    </a:lnTo>
                    <a:lnTo>
                      <a:pt x="47" y="0"/>
                    </a:lnTo>
                    <a:lnTo>
                      <a:pt x="28" y="0"/>
                    </a:lnTo>
                    <a:lnTo>
                      <a:pt x="9" y="5"/>
                    </a:lnTo>
                    <a:lnTo>
                      <a:pt x="0" y="10"/>
                    </a:lnTo>
                    <a:lnTo>
                      <a:pt x="5" y="2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Freeform 1645"/>
              <p:cNvSpPr/>
              <p:nvPr/>
            </p:nvSpPr>
            <p:spPr>
              <a:xfrm>
                <a:off x="6499080" y="2216160"/>
                <a:ext cx="16200" cy="1548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28" h="24">
                    <a:moveTo>
                      <a:pt x="10" y="24"/>
                    </a:moveTo>
                    <a:lnTo>
                      <a:pt x="0" y="5"/>
                    </a:lnTo>
                    <a:lnTo>
                      <a:pt x="19" y="0"/>
                    </a:lnTo>
                    <a:lnTo>
                      <a:pt x="28" y="19"/>
                    </a:lnTo>
                    <a:lnTo>
                      <a:pt x="10" y="2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Freeform 1646"/>
              <p:cNvSpPr/>
              <p:nvPr/>
            </p:nvSpPr>
            <p:spPr>
              <a:xfrm>
                <a:off x="6480000" y="2225880"/>
                <a:ext cx="14040" cy="1188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1880"/>
                  <a:gd name="textAreaBottom" fmla="*/ 12240 h 11880"/>
                </a:gdLst>
                <a:ahLst/>
                <a:rect l="textAreaLeft" t="textAreaTop" r="textAreaRight" b="textAreaBottom"/>
                <a:pathLst>
                  <a:path w="24" h="18">
                    <a:moveTo>
                      <a:pt x="5" y="18"/>
                    </a:moveTo>
                    <a:lnTo>
                      <a:pt x="0" y="4"/>
                    </a:lnTo>
                    <a:lnTo>
                      <a:pt x="19" y="0"/>
                    </a:lnTo>
                    <a:lnTo>
                      <a:pt x="24" y="14"/>
                    </a:lnTo>
                    <a:lnTo>
                      <a:pt x="5" y="1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Freeform 1647"/>
              <p:cNvSpPr/>
              <p:nvPr/>
            </p:nvSpPr>
            <p:spPr>
              <a:xfrm>
                <a:off x="6415920" y="2232000"/>
                <a:ext cx="55440" cy="24840"/>
              </a:xfrm>
              <a:custGeom>
                <a:avLst/>
                <a:gdLst>
                  <a:gd name="textAreaLeft" fmla="*/ 0 w 55440"/>
                  <a:gd name="textAreaRight" fmla="*/ 55800 w 55440"/>
                  <a:gd name="textAreaTop" fmla="*/ 0 h 24840"/>
                  <a:gd name="textAreaBottom" fmla="*/ 25200 h 24840"/>
                </a:gdLst>
                <a:ahLst/>
                <a:rect l="textAreaLeft" t="textAreaTop" r="textAreaRight" b="textAreaBottom"/>
                <a:pathLst>
                  <a:path w="95" h="38">
                    <a:moveTo>
                      <a:pt x="5" y="38"/>
                    </a:moveTo>
                    <a:lnTo>
                      <a:pt x="15" y="38"/>
                    </a:lnTo>
                    <a:lnTo>
                      <a:pt x="95" y="19"/>
                    </a:lnTo>
                    <a:lnTo>
                      <a:pt x="90" y="0"/>
                    </a:lnTo>
                    <a:lnTo>
                      <a:pt x="10" y="19"/>
                    </a:lnTo>
                    <a:lnTo>
                      <a:pt x="0" y="19"/>
                    </a:lnTo>
                    <a:lnTo>
                      <a:pt x="5" y="38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Freeform 1648"/>
              <p:cNvSpPr/>
              <p:nvPr/>
            </p:nvSpPr>
            <p:spPr>
              <a:xfrm>
                <a:off x="6396840" y="2247840"/>
                <a:ext cx="10800" cy="1476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19" h="23">
                    <a:moveTo>
                      <a:pt x="5" y="23"/>
                    </a:moveTo>
                    <a:lnTo>
                      <a:pt x="0" y="4"/>
                    </a:lnTo>
                    <a:lnTo>
                      <a:pt x="19" y="0"/>
                    </a:lnTo>
                    <a:lnTo>
                      <a:pt x="19" y="18"/>
                    </a:lnTo>
                    <a:lnTo>
                      <a:pt x="5" y="23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Freeform 1649"/>
              <p:cNvSpPr/>
              <p:nvPr/>
            </p:nvSpPr>
            <p:spPr>
              <a:xfrm>
                <a:off x="6374880" y="2253600"/>
                <a:ext cx="13320" cy="1224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23" h="19">
                    <a:moveTo>
                      <a:pt x="4" y="19"/>
                    </a:moveTo>
                    <a:lnTo>
                      <a:pt x="9" y="19"/>
                    </a:lnTo>
                    <a:lnTo>
                      <a:pt x="23" y="14"/>
                    </a:lnTo>
                    <a:lnTo>
                      <a:pt x="19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4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650"/>
              <p:cNvSpPr/>
              <p:nvPr/>
            </p:nvSpPr>
            <p:spPr>
              <a:xfrm>
                <a:off x="6358320" y="2256840"/>
                <a:ext cx="7920" cy="12240"/>
              </a:xfrm>
              <a:custGeom>
                <a:avLst/>
                <a:gdLst>
                  <a:gd name="textAreaLeft" fmla="*/ 0 w 7920"/>
                  <a:gd name="textAreaRight" fmla="*/ 8280 w 792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4" h="19">
                    <a:moveTo>
                      <a:pt x="0" y="19"/>
                    </a:moveTo>
                    <a:lnTo>
                      <a:pt x="5" y="19"/>
                    </a:lnTo>
                    <a:lnTo>
                      <a:pt x="14" y="19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14" y="4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651"/>
              <p:cNvSpPr/>
              <p:nvPr/>
            </p:nvSpPr>
            <p:spPr>
              <a:xfrm>
                <a:off x="6325560" y="2216160"/>
                <a:ext cx="40680" cy="532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53280"/>
                  <a:gd name="textAreaBottom" fmla="*/ 53640 h 53280"/>
                </a:gdLst>
                <a:ahLst/>
                <a:rect l="textAreaLeft" t="textAreaTop" r="textAreaRight" b="textAreaBottom"/>
                <a:pathLst>
                  <a:path w="70" h="81">
                    <a:moveTo>
                      <a:pt x="0" y="15"/>
                    </a:moveTo>
                    <a:lnTo>
                      <a:pt x="14" y="33"/>
                    </a:lnTo>
                    <a:lnTo>
                      <a:pt x="42" y="66"/>
                    </a:lnTo>
                    <a:lnTo>
                      <a:pt x="56" y="81"/>
                    </a:lnTo>
                    <a:lnTo>
                      <a:pt x="70" y="66"/>
                    </a:lnTo>
                    <a:lnTo>
                      <a:pt x="56" y="52"/>
                    </a:lnTo>
                    <a:lnTo>
                      <a:pt x="28" y="19"/>
                    </a:lnTo>
                    <a:lnTo>
                      <a:pt x="14" y="0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Freeform 1652"/>
              <p:cNvSpPr/>
              <p:nvPr/>
            </p:nvSpPr>
            <p:spPr>
              <a:xfrm>
                <a:off x="6314400" y="219780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9"/>
                    </a:moveTo>
                    <a:lnTo>
                      <a:pt x="0" y="14"/>
                    </a:lnTo>
                    <a:lnTo>
                      <a:pt x="9" y="28"/>
                    </a:lnTo>
                    <a:lnTo>
                      <a:pt x="23" y="14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Freeform 1653"/>
              <p:cNvSpPr/>
              <p:nvPr/>
            </p:nvSpPr>
            <p:spPr>
              <a:xfrm>
                <a:off x="6303240" y="2176200"/>
                <a:ext cx="14040" cy="183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8360"/>
                  <a:gd name="textAreaBottom" fmla="*/ 18720 h 18360"/>
                </a:gdLst>
                <a:ahLst/>
                <a:rect l="textAreaLeft" t="textAreaTop" r="textAreaRight" b="textAreaBottom"/>
                <a:pathLst>
                  <a:path w="24" h="28">
                    <a:moveTo>
                      <a:pt x="0" y="9"/>
                    </a:moveTo>
                    <a:lnTo>
                      <a:pt x="19" y="0"/>
                    </a:lnTo>
                    <a:lnTo>
                      <a:pt x="24" y="19"/>
                    </a:lnTo>
                    <a:lnTo>
                      <a:pt x="9" y="2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Freeform 1654"/>
              <p:cNvSpPr/>
              <p:nvPr/>
            </p:nvSpPr>
            <p:spPr>
              <a:xfrm>
                <a:off x="6275520" y="2111040"/>
                <a:ext cx="32760" cy="59040"/>
              </a:xfrm>
              <a:custGeom>
                <a:avLst/>
                <a:gdLst>
                  <a:gd name="textAreaLeft" fmla="*/ 0 w 32760"/>
                  <a:gd name="textAreaRight" fmla="*/ 33120 w 327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56" h="90">
                    <a:moveTo>
                      <a:pt x="0" y="9"/>
                    </a:moveTo>
                    <a:lnTo>
                      <a:pt x="14" y="42"/>
                    </a:lnTo>
                    <a:lnTo>
                      <a:pt x="37" y="90"/>
                    </a:lnTo>
                    <a:lnTo>
                      <a:pt x="56" y="85"/>
                    </a:lnTo>
                    <a:lnTo>
                      <a:pt x="33" y="33"/>
                    </a:lnTo>
                    <a:lnTo>
                      <a:pt x="14" y="0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Freeform 1655"/>
              <p:cNvSpPr/>
              <p:nvPr/>
            </p:nvSpPr>
            <p:spPr>
              <a:xfrm>
                <a:off x="6267240" y="2095200"/>
                <a:ext cx="10440" cy="12240"/>
              </a:xfrm>
              <a:custGeom>
                <a:avLst/>
                <a:gdLst>
                  <a:gd name="textAreaLeft" fmla="*/ 0 w 10440"/>
                  <a:gd name="textAreaRight" fmla="*/ 10800 w 104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8" h="19">
                    <a:moveTo>
                      <a:pt x="0" y="10"/>
                    </a:moveTo>
                    <a:lnTo>
                      <a:pt x="0" y="10"/>
                    </a:lnTo>
                    <a:lnTo>
                      <a:pt x="4" y="19"/>
                    </a:lnTo>
                    <a:lnTo>
                      <a:pt x="18" y="10"/>
                    </a:lnTo>
                    <a:lnTo>
                      <a:pt x="14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Freeform 1656"/>
              <p:cNvSpPr/>
              <p:nvPr/>
            </p:nvSpPr>
            <p:spPr>
              <a:xfrm>
                <a:off x="6264360" y="2092680"/>
                <a:ext cx="10800" cy="9000"/>
              </a:xfrm>
              <a:custGeom>
                <a:avLst/>
                <a:gdLst>
                  <a:gd name="textAreaLeft" fmla="*/ 0 w 10800"/>
                  <a:gd name="textAreaRight" fmla="*/ 11160 w 10800"/>
                  <a:gd name="textAreaTop" fmla="*/ 0 h 9000"/>
                  <a:gd name="textAreaBottom" fmla="*/ 9360 h 9000"/>
                </a:gdLst>
                <a:ahLst/>
                <a:rect l="textAreaLeft" t="textAreaTop" r="textAreaRight" b="textAreaBottom"/>
                <a:pathLst>
                  <a:path w="19" h="14">
                    <a:moveTo>
                      <a:pt x="0" y="4"/>
                    </a:moveTo>
                    <a:lnTo>
                      <a:pt x="14" y="0"/>
                    </a:lnTo>
                    <a:lnTo>
                      <a:pt x="19" y="4"/>
                    </a:lnTo>
                    <a:lnTo>
                      <a:pt x="5" y="1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Freeform 1657"/>
              <p:cNvSpPr/>
              <p:nvPr/>
            </p:nvSpPr>
            <p:spPr>
              <a:xfrm>
                <a:off x="6256080" y="2067840"/>
                <a:ext cx="13320" cy="1800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18000"/>
                  <a:gd name="textAreaBottom" fmla="*/ 18360 h 18000"/>
                </a:gdLst>
                <a:ahLst/>
                <a:rect l="textAreaLeft" t="textAreaTop" r="textAreaRight" b="textAreaBottom"/>
                <a:pathLst>
                  <a:path w="23" h="28">
                    <a:moveTo>
                      <a:pt x="0" y="9"/>
                    </a:moveTo>
                    <a:lnTo>
                      <a:pt x="19" y="0"/>
                    </a:lnTo>
                    <a:lnTo>
                      <a:pt x="23" y="19"/>
                    </a:lnTo>
                    <a:lnTo>
                      <a:pt x="4" y="28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Freeform 1658"/>
              <p:cNvSpPr/>
              <p:nvPr/>
            </p:nvSpPr>
            <p:spPr>
              <a:xfrm>
                <a:off x="6245280" y="2027160"/>
                <a:ext cx="16200" cy="34200"/>
              </a:xfrm>
              <a:custGeom>
                <a:avLst/>
                <a:gdLst>
                  <a:gd name="textAreaLeft" fmla="*/ 0 w 16200"/>
                  <a:gd name="textAreaRight" fmla="*/ 16560 w 16200"/>
                  <a:gd name="textAreaTop" fmla="*/ 0 h 34200"/>
                  <a:gd name="textAreaBottom" fmla="*/ 34560 h 34200"/>
                </a:gdLst>
                <a:ahLst/>
                <a:rect l="textAreaLeft" t="textAreaTop" r="textAreaRight" b="textAreaBottom"/>
                <a:pathLst>
                  <a:path w="28" h="52">
                    <a:moveTo>
                      <a:pt x="0" y="5"/>
                    </a:moveTo>
                    <a:lnTo>
                      <a:pt x="0" y="5"/>
                    </a:lnTo>
                    <a:lnTo>
                      <a:pt x="14" y="52"/>
                    </a:lnTo>
                    <a:lnTo>
                      <a:pt x="28" y="48"/>
                    </a:lnTo>
                    <a:lnTo>
                      <a:pt x="14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Freeform 1659"/>
              <p:cNvSpPr/>
              <p:nvPr/>
            </p:nvSpPr>
            <p:spPr>
              <a:xfrm>
                <a:off x="6231240" y="2002680"/>
                <a:ext cx="21960" cy="27360"/>
              </a:xfrm>
              <a:custGeom>
                <a:avLst/>
                <a:gdLst>
                  <a:gd name="textAreaLeft" fmla="*/ 0 w 21960"/>
                  <a:gd name="textAreaRight" fmla="*/ 22320 w 21960"/>
                  <a:gd name="textAreaTop" fmla="*/ 0 h 27360"/>
                  <a:gd name="textAreaBottom" fmla="*/ 27720 h 27360"/>
                </a:gdLst>
                <a:ahLst/>
                <a:rect l="textAreaLeft" t="textAreaTop" r="textAreaRight" b="textAreaBottom"/>
                <a:pathLst>
                  <a:path w="38" h="42">
                    <a:moveTo>
                      <a:pt x="0" y="9"/>
                    </a:moveTo>
                    <a:lnTo>
                      <a:pt x="14" y="0"/>
                    </a:lnTo>
                    <a:lnTo>
                      <a:pt x="38" y="37"/>
                    </a:lnTo>
                    <a:lnTo>
                      <a:pt x="24" y="42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Freeform 1660"/>
              <p:cNvSpPr/>
              <p:nvPr/>
            </p:nvSpPr>
            <p:spPr>
              <a:xfrm>
                <a:off x="6220080" y="1981080"/>
                <a:ext cx="14040" cy="147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9"/>
                    </a:moveTo>
                    <a:lnTo>
                      <a:pt x="19" y="0"/>
                    </a:lnTo>
                    <a:lnTo>
                      <a:pt x="24" y="19"/>
                    </a:lnTo>
                    <a:lnTo>
                      <a:pt x="10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Freeform 1661"/>
              <p:cNvSpPr/>
              <p:nvPr/>
            </p:nvSpPr>
            <p:spPr>
              <a:xfrm>
                <a:off x="6211800" y="1959480"/>
                <a:ext cx="14040" cy="1512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15120"/>
                  <a:gd name="textAreaBottom" fmla="*/ 15480 h 1512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9"/>
                    </a:moveTo>
                    <a:lnTo>
                      <a:pt x="14" y="0"/>
                    </a:lnTo>
                    <a:lnTo>
                      <a:pt x="24" y="18"/>
                    </a:lnTo>
                    <a:lnTo>
                      <a:pt x="5" y="23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Freeform 1662"/>
              <p:cNvSpPr/>
              <p:nvPr/>
            </p:nvSpPr>
            <p:spPr>
              <a:xfrm>
                <a:off x="6203520" y="1900440"/>
                <a:ext cx="14040" cy="52560"/>
              </a:xfrm>
              <a:custGeom>
                <a:avLst/>
                <a:gdLst>
                  <a:gd name="textAreaLeft" fmla="*/ 0 w 14040"/>
                  <a:gd name="textAreaRight" fmla="*/ 14400 w 1404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24" h="80">
                    <a:moveTo>
                      <a:pt x="5" y="19"/>
                    </a:moveTo>
                    <a:lnTo>
                      <a:pt x="0" y="9"/>
                    </a:lnTo>
                    <a:lnTo>
                      <a:pt x="0" y="33"/>
                    </a:lnTo>
                    <a:lnTo>
                      <a:pt x="9" y="80"/>
                    </a:lnTo>
                    <a:lnTo>
                      <a:pt x="24" y="75"/>
                    </a:lnTo>
                    <a:lnTo>
                      <a:pt x="19" y="33"/>
                    </a:lnTo>
                    <a:lnTo>
                      <a:pt x="19" y="9"/>
                    </a:lnTo>
                    <a:lnTo>
                      <a:pt x="9" y="0"/>
                    </a:lnTo>
                    <a:lnTo>
                      <a:pt x="5" y="19"/>
                    </a:lnTo>
                    <a:close/>
                  </a:path>
                </a:pathLst>
              </a:custGeom>
              <a:solidFill>
                <a:srgbClr val="0092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1" name="Freeform 1663"/>
            <p:cNvSpPr/>
            <p:nvPr/>
          </p:nvSpPr>
          <p:spPr>
            <a:xfrm>
              <a:off x="6192720" y="1897560"/>
              <a:ext cx="16560" cy="162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8" h="24">
                  <a:moveTo>
                    <a:pt x="0" y="19"/>
                  </a:moveTo>
                  <a:lnTo>
                    <a:pt x="5" y="0"/>
                  </a:lnTo>
                  <a:lnTo>
                    <a:pt x="28" y="5"/>
                  </a:lnTo>
                  <a:lnTo>
                    <a:pt x="24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1664"/>
            <p:cNvSpPr/>
            <p:nvPr/>
          </p:nvSpPr>
          <p:spPr>
            <a:xfrm>
              <a:off x="6173280" y="189396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19">
                  <a:moveTo>
                    <a:pt x="0" y="19"/>
                  </a:moveTo>
                  <a:lnTo>
                    <a:pt x="9" y="19"/>
                  </a:lnTo>
                  <a:lnTo>
                    <a:pt x="14" y="19"/>
                  </a:lnTo>
                  <a:lnTo>
                    <a:pt x="19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665"/>
            <p:cNvSpPr/>
            <p:nvPr/>
          </p:nvSpPr>
          <p:spPr>
            <a:xfrm>
              <a:off x="6150960" y="1891800"/>
              <a:ext cx="1152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1666"/>
            <p:cNvSpPr/>
            <p:nvPr/>
          </p:nvSpPr>
          <p:spPr>
            <a:xfrm>
              <a:off x="6126840" y="1885320"/>
              <a:ext cx="16200" cy="1512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" h="24">
                  <a:moveTo>
                    <a:pt x="0" y="19"/>
                  </a:moveTo>
                  <a:lnTo>
                    <a:pt x="0" y="19"/>
                  </a:lnTo>
                  <a:lnTo>
                    <a:pt x="23" y="24"/>
                  </a:lnTo>
                  <a:lnTo>
                    <a:pt x="28" y="5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667"/>
            <p:cNvSpPr/>
            <p:nvPr/>
          </p:nvSpPr>
          <p:spPr>
            <a:xfrm>
              <a:off x="6087960" y="1882800"/>
              <a:ext cx="38520" cy="144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66" h="23">
                  <a:moveTo>
                    <a:pt x="0" y="14"/>
                  </a:moveTo>
                  <a:lnTo>
                    <a:pt x="23" y="18"/>
                  </a:lnTo>
                  <a:lnTo>
                    <a:pt x="66" y="23"/>
                  </a:lnTo>
                  <a:lnTo>
                    <a:pt x="66" y="4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1668"/>
            <p:cNvSpPr/>
            <p:nvPr/>
          </p:nvSpPr>
          <p:spPr>
            <a:xfrm>
              <a:off x="6065640" y="18763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4">
                  <a:moveTo>
                    <a:pt x="0" y="19"/>
                  </a:moveTo>
                  <a:lnTo>
                    <a:pt x="14" y="24"/>
                  </a:lnTo>
                  <a:lnTo>
                    <a:pt x="19" y="24"/>
                  </a:lnTo>
                  <a:lnTo>
                    <a:pt x="19" y="5"/>
                  </a:lnTo>
                  <a:lnTo>
                    <a:pt x="14" y="5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669"/>
            <p:cNvSpPr/>
            <p:nvPr/>
          </p:nvSpPr>
          <p:spPr>
            <a:xfrm>
              <a:off x="6043680" y="1876320"/>
              <a:ext cx="13680" cy="118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19">
                  <a:moveTo>
                    <a:pt x="0" y="14"/>
                  </a:moveTo>
                  <a:lnTo>
                    <a:pt x="5" y="0"/>
                  </a:lnTo>
                  <a:lnTo>
                    <a:pt x="24" y="0"/>
                  </a:lnTo>
                  <a:lnTo>
                    <a:pt x="19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1670"/>
            <p:cNvSpPr/>
            <p:nvPr/>
          </p:nvSpPr>
          <p:spPr>
            <a:xfrm>
              <a:off x="6007320" y="1873080"/>
              <a:ext cx="27720" cy="11880"/>
            </a:xfrm>
            <a:custGeom>
              <a:avLst/>
              <a:gdLst>
                <a:gd name="textAreaLeft" fmla="*/ 0 w 27720"/>
                <a:gd name="textAreaRight" fmla="*/ 28080 w 277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7" h="19">
                  <a:moveTo>
                    <a:pt x="0" y="19"/>
                  </a:moveTo>
                  <a:lnTo>
                    <a:pt x="0" y="19"/>
                  </a:lnTo>
                  <a:lnTo>
                    <a:pt x="42" y="19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Rectangle 1671"/>
            <p:cNvSpPr/>
            <p:nvPr/>
          </p:nvSpPr>
          <p:spPr>
            <a:xfrm>
              <a:off x="5979960" y="1873080"/>
              <a:ext cx="2736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1672"/>
            <p:cNvSpPr/>
            <p:nvPr/>
          </p:nvSpPr>
          <p:spPr>
            <a:xfrm>
              <a:off x="5958000" y="187308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0" y="15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1673"/>
            <p:cNvSpPr/>
            <p:nvPr/>
          </p:nvSpPr>
          <p:spPr>
            <a:xfrm>
              <a:off x="5935680" y="1869840"/>
              <a:ext cx="10800" cy="126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9" h="19">
                  <a:moveTo>
                    <a:pt x="0" y="19"/>
                  </a:moveTo>
                  <a:lnTo>
                    <a:pt x="5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1674"/>
            <p:cNvSpPr/>
            <p:nvPr/>
          </p:nvSpPr>
          <p:spPr>
            <a:xfrm>
              <a:off x="5893560" y="1869840"/>
              <a:ext cx="33480" cy="15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57" h="23">
                  <a:moveTo>
                    <a:pt x="5" y="23"/>
                  </a:moveTo>
                  <a:lnTo>
                    <a:pt x="5" y="23"/>
                  </a:lnTo>
                  <a:lnTo>
                    <a:pt x="57" y="19"/>
                  </a:lnTo>
                  <a:lnTo>
                    <a:pt x="57" y="0"/>
                  </a:lnTo>
                  <a:lnTo>
                    <a:pt x="0" y="4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1675"/>
            <p:cNvSpPr/>
            <p:nvPr/>
          </p:nvSpPr>
          <p:spPr>
            <a:xfrm>
              <a:off x="5871960" y="1873080"/>
              <a:ext cx="24480" cy="1188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3" h="19">
                  <a:moveTo>
                    <a:pt x="0" y="19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43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1676"/>
            <p:cNvSpPr/>
            <p:nvPr/>
          </p:nvSpPr>
          <p:spPr>
            <a:xfrm>
              <a:off x="5850000" y="1876320"/>
              <a:ext cx="11520" cy="11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0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677"/>
            <p:cNvSpPr/>
            <p:nvPr/>
          </p:nvSpPr>
          <p:spPr>
            <a:xfrm>
              <a:off x="5827680" y="1876320"/>
              <a:ext cx="11160" cy="11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5" y="19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678"/>
            <p:cNvSpPr/>
            <p:nvPr/>
          </p:nvSpPr>
          <p:spPr>
            <a:xfrm>
              <a:off x="5813640" y="1876320"/>
              <a:ext cx="5400" cy="118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0" h="19">
                  <a:moveTo>
                    <a:pt x="0" y="19"/>
                  </a:moveTo>
                  <a:lnTo>
                    <a:pt x="0" y="19"/>
                  </a:lnTo>
                  <a:lnTo>
                    <a:pt x="10" y="1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679"/>
            <p:cNvSpPr/>
            <p:nvPr/>
          </p:nvSpPr>
          <p:spPr>
            <a:xfrm>
              <a:off x="5766480" y="1876320"/>
              <a:ext cx="46800" cy="3744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80" h="57">
                  <a:moveTo>
                    <a:pt x="14" y="57"/>
                  </a:moveTo>
                  <a:lnTo>
                    <a:pt x="33" y="33"/>
                  </a:lnTo>
                  <a:lnTo>
                    <a:pt x="57" y="24"/>
                  </a:lnTo>
                  <a:lnTo>
                    <a:pt x="80" y="19"/>
                  </a:lnTo>
                  <a:lnTo>
                    <a:pt x="80" y="0"/>
                  </a:lnTo>
                  <a:lnTo>
                    <a:pt x="52" y="5"/>
                  </a:lnTo>
                  <a:lnTo>
                    <a:pt x="24" y="19"/>
                  </a:lnTo>
                  <a:lnTo>
                    <a:pt x="0" y="38"/>
                  </a:lnTo>
                  <a:lnTo>
                    <a:pt x="14" y="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1680"/>
            <p:cNvSpPr/>
            <p:nvPr/>
          </p:nvSpPr>
          <p:spPr>
            <a:xfrm>
              <a:off x="5752800" y="1913760"/>
              <a:ext cx="17280" cy="1764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29" h="28">
                  <a:moveTo>
                    <a:pt x="15" y="28"/>
                  </a:moveTo>
                  <a:lnTo>
                    <a:pt x="0" y="14"/>
                  </a:lnTo>
                  <a:lnTo>
                    <a:pt x="15" y="0"/>
                  </a:lnTo>
                  <a:lnTo>
                    <a:pt x="29" y="9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681"/>
            <p:cNvSpPr/>
            <p:nvPr/>
          </p:nvSpPr>
          <p:spPr>
            <a:xfrm>
              <a:off x="5742000" y="1931400"/>
              <a:ext cx="13680" cy="183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4" h="28">
                  <a:moveTo>
                    <a:pt x="15" y="28"/>
                  </a:moveTo>
                  <a:lnTo>
                    <a:pt x="0" y="14"/>
                  </a:lnTo>
                  <a:lnTo>
                    <a:pt x="10" y="0"/>
                  </a:lnTo>
                  <a:lnTo>
                    <a:pt x="24" y="10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682"/>
            <p:cNvSpPr/>
            <p:nvPr/>
          </p:nvSpPr>
          <p:spPr>
            <a:xfrm>
              <a:off x="5717160" y="1953360"/>
              <a:ext cx="27000" cy="33840"/>
            </a:xfrm>
            <a:custGeom>
              <a:avLst/>
              <a:gdLst>
                <a:gd name="textAreaLeft" fmla="*/ 0 w 27000"/>
                <a:gd name="textAreaRight" fmla="*/ 27360 w 2700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47" h="52">
                  <a:moveTo>
                    <a:pt x="5" y="52"/>
                  </a:moveTo>
                  <a:lnTo>
                    <a:pt x="9" y="47"/>
                  </a:lnTo>
                  <a:lnTo>
                    <a:pt x="33" y="24"/>
                  </a:lnTo>
                  <a:lnTo>
                    <a:pt x="47" y="10"/>
                  </a:lnTo>
                  <a:lnTo>
                    <a:pt x="28" y="0"/>
                  </a:lnTo>
                  <a:lnTo>
                    <a:pt x="19" y="10"/>
                  </a:lnTo>
                  <a:lnTo>
                    <a:pt x="0" y="33"/>
                  </a:lnTo>
                  <a:lnTo>
                    <a:pt x="5" y="33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83"/>
            <p:cNvSpPr/>
            <p:nvPr/>
          </p:nvSpPr>
          <p:spPr>
            <a:xfrm>
              <a:off x="5694840" y="1968840"/>
              <a:ext cx="25200" cy="18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3" h="28">
                  <a:moveTo>
                    <a:pt x="0" y="19"/>
                  </a:moveTo>
                  <a:lnTo>
                    <a:pt x="5" y="0"/>
                  </a:lnTo>
                  <a:lnTo>
                    <a:pt x="43" y="9"/>
                  </a:lnTo>
                  <a:lnTo>
                    <a:pt x="43" y="28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1684"/>
            <p:cNvSpPr/>
            <p:nvPr/>
          </p:nvSpPr>
          <p:spPr>
            <a:xfrm>
              <a:off x="5672880" y="1965600"/>
              <a:ext cx="13680" cy="12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4" h="19">
                  <a:moveTo>
                    <a:pt x="0" y="19"/>
                  </a:moveTo>
                  <a:lnTo>
                    <a:pt x="5" y="0"/>
                  </a:lnTo>
                  <a:lnTo>
                    <a:pt x="24" y="5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685"/>
            <p:cNvSpPr/>
            <p:nvPr/>
          </p:nvSpPr>
          <p:spPr>
            <a:xfrm>
              <a:off x="5651280" y="1962720"/>
              <a:ext cx="12960" cy="126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19">
                  <a:moveTo>
                    <a:pt x="0" y="19"/>
                  </a:moveTo>
                  <a:lnTo>
                    <a:pt x="4" y="0"/>
                  </a:lnTo>
                  <a:lnTo>
                    <a:pt x="23" y="0"/>
                  </a:lnTo>
                  <a:lnTo>
                    <a:pt x="19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686"/>
            <p:cNvSpPr/>
            <p:nvPr/>
          </p:nvSpPr>
          <p:spPr>
            <a:xfrm>
              <a:off x="5623200" y="1956960"/>
              <a:ext cx="19440" cy="144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4" h="23">
                  <a:moveTo>
                    <a:pt x="0" y="19"/>
                  </a:moveTo>
                  <a:lnTo>
                    <a:pt x="5" y="19"/>
                  </a:lnTo>
                  <a:lnTo>
                    <a:pt x="34" y="23"/>
                  </a:lnTo>
                  <a:lnTo>
                    <a:pt x="34" y="5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687"/>
            <p:cNvSpPr/>
            <p:nvPr/>
          </p:nvSpPr>
          <p:spPr>
            <a:xfrm>
              <a:off x="5590080" y="1935000"/>
              <a:ext cx="38520" cy="338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66" h="52">
                  <a:moveTo>
                    <a:pt x="0" y="19"/>
                  </a:moveTo>
                  <a:lnTo>
                    <a:pt x="9" y="19"/>
                  </a:lnTo>
                  <a:lnTo>
                    <a:pt x="42" y="42"/>
                  </a:lnTo>
                  <a:lnTo>
                    <a:pt x="56" y="52"/>
                  </a:lnTo>
                  <a:lnTo>
                    <a:pt x="66" y="33"/>
                  </a:lnTo>
                  <a:lnTo>
                    <a:pt x="52" y="23"/>
                  </a:lnTo>
                  <a:lnTo>
                    <a:pt x="14" y="5"/>
                  </a:lnTo>
                  <a:lnTo>
                    <a:pt x="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1688"/>
            <p:cNvSpPr/>
            <p:nvPr/>
          </p:nvSpPr>
          <p:spPr>
            <a:xfrm>
              <a:off x="5573520" y="1926000"/>
              <a:ext cx="13320" cy="15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3">
                  <a:moveTo>
                    <a:pt x="0" y="14"/>
                  </a:moveTo>
                  <a:lnTo>
                    <a:pt x="4" y="0"/>
                  </a:lnTo>
                  <a:lnTo>
                    <a:pt x="23" y="9"/>
                  </a:lnTo>
                  <a:lnTo>
                    <a:pt x="14" y="23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1689"/>
            <p:cNvSpPr/>
            <p:nvPr/>
          </p:nvSpPr>
          <p:spPr>
            <a:xfrm>
              <a:off x="5554080" y="1913760"/>
              <a:ext cx="13680" cy="14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3">
                  <a:moveTo>
                    <a:pt x="0" y="19"/>
                  </a:moveTo>
                  <a:lnTo>
                    <a:pt x="5" y="0"/>
                  </a:lnTo>
                  <a:lnTo>
                    <a:pt x="24" y="9"/>
                  </a:lnTo>
                  <a:lnTo>
                    <a:pt x="15" y="23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1690"/>
            <p:cNvSpPr/>
            <p:nvPr/>
          </p:nvSpPr>
          <p:spPr>
            <a:xfrm>
              <a:off x="5534280" y="190404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3">
                  <a:moveTo>
                    <a:pt x="0" y="19"/>
                  </a:moveTo>
                  <a:lnTo>
                    <a:pt x="0" y="19"/>
                  </a:lnTo>
                  <a:lnTo>
                    <a:pt x="15" y="23"/>
                  </a:lnTo>
                  <a:lnTo>
                    <a:pt x="24" y="9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1691"/>
            <p:cNvSpPr/>
            <p:nvPr/>
          </p:nvSpPr>
          <p:spPr>
            <a:xfrm>
              <a:off x="5493600" y="1885320"/>
              <a:ext cx="43920" cy="31680"/>
            </a:xfrm>
            <a:custGeom>
              <a:avLst/>
              <a:gdLst>
                <a:gd name="textAreaLeft" fmla="*/ 0 w 43920"/>
                <a:gd name="textAreaRight" fmla="*/ 43920 w 4392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75" h="48">
                  <a:moveTo>
                    <a:pt x="0" y="19"/>
                  </a:moveTo>
                  <a:lnTo>
                    <a:pt x="18" y="24"/>
                  </a:lnTo>
                  <a:lnTo>
                    <a:pt x="70" y="48"/>
                  </a:lnTo>
                  <a:lnTo>
                    <a:pt x="75" y="29"/>
                  </a:lnTo>
                  <a:lnTo>
                    <a:pt x="23" y="10"/>
                  </a:lnTo>
                  <a:lnTo>
                    <a:pt x="9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1692"/>
            <p:cNvSpPr/>
            <p:nvPr/>
          </p:nvSpPr>
          <p:spPr>
            <a:xfrm>
              <a:off x="5474160" y="187632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4">
                  <a:moveTo>
                    <a:pt x="0" y="19"/>
                  </a:moveTo>
                  <a:lnTo>
                    <a:pt x="4" y="19"/>
                  </a:lnTo>
                  <a:lnTo>
                    <a:pt x="18" y="24"/>
                  </a:lnTo>
                  <a:lnTo>
                    <a:pt x="23" y="10"/>
                  </a:lnTo>
                  <a:lnTo>
                    <a:pt x="9" y="0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1693"/>
            <p:cNvSpPr/>
            <p:nvPr/>
          </p:nvSpPr>
          <p:spPr>
            <a:xfrm>
              <a:off x="5454360" y="186984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3">
                  <a:moveTo>
                    <a:pt x="0" y="19"/>
                  </a:moveTo>
                  <a:lnTo>
                    <a:pt x="15" y="23"/>
                  </a:lnTo>
                  <a:lnTo>
                    <a:pt x="24" y="4"/>
                  </a:lnTo>
                  <a:lnTo>
                    <a:pt x="19" y="4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1694"/>
            <p:cNvSpPr/>
            <p:nvPr/>
          </p:nvSpPr>
          <p:spPr>
            <a:xfrm>
              <a:off x="5418720" y="1869840"/>
              <a:ext cx="24480" cy="18360"/>
            </a:xfrm>
            <a:custGeom>
              <a:avLst/>
              <a:gdLst>
                <a:gd name="textAreaLeft" fmla="*/ 0 w 24480"/>
                <a:gd name="textAreaRight" fmla="*/ 24840 w 2448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43" h="28">
                  <a:moveTo>
                    <a:pt x="5" y="28"/>
                  </a:moveTo>
                  <a:lnTo>
                    <a:pt x="5" y="28"/>
                  </a:lnTo>
                  <a:lnTo>
                    <a:pt x="33" y="19"/>
                  </a:lnTo>
                  <a:lnTo>
                    <a:pt x="43" y="19"/>
                  </a:lnTo>
                  <a:lnTo>
                    <a:pt x="43" y="0"/>
                  </a:lnTo>
                  <a:lnTo>
                    <a:pt x="28" y="4"/>
                  </a:lnTo>
                  <a:lnTo>
                    <a:pt x="0" y="9"/>
                  </a:lnTo>
                  <a:lnTo>
                    <a:pt x="5" y="2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1695"/>
            <p:cNvSpPr/>
            <p:nvPr/>
          </p:nvSpPr>
          <p:spPr>
            <a:xfrm>
              <a:off x="5390640" y="1876320"/>
              <a:ext cx="30240" cy="2088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52" h="33">
                  <a:moveTo>
                    <a:pt x="5" y="33"/>
                  </a:moveTo>
                  <a:lnTo>
                    <a:pt x="0" y="14"/>
                  </a:lnTo>
                  <a:lnTo>
                    <a:pt x="47" y="0"/>
                  </a:lnTo>
                  <a:lnTo>
                    <a:pt x="52" y="19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1696"/>
            <p:cNvSpPr/>
            <p:nvPr/>
          </p:nvSpPr>
          <p:spPr>
            <a:xfrm>
              <a:off x="5368680" y="189180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3">
                  <a:moveTo>
                    <a:pt x="10" y="23"/>
                  </a:moveTo>
                  <a:lnTo>
                    <a:pt x="0" y="4"/>
                  </a:lnTo>
                  <a:lnTo>
                    <a:pt x="19" y="0"/>
                  </a:lnTo>
                  <a:lnTo>
                    <a:pt x="24" y="14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1697"/>
            <p:cNvSpPr/>
            <p:nvPr/>
          </p:nvSpPr>
          <p:spPr>
            <a:xfrm>
              <a:off x="5349600" y="189756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4" h="24">
                  <a:moveTo>
                    <a:pt x="5" y="24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24" y="19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1698"/>
            <p:cNvSpPr/>
            <p:nvPr/>
          </p:nvSpPr>
          <p:spPr>
            <a:xfrm>
              <a:off x="5288400" y="1907280"/>
              <a:ext cx="55800" cy="2736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95" h="43">
                  <a:moveTo>
                    <a:pt x="5" y="43"/>
                  </a:moveTo>
                  <a:lnTo>
                    <a:pt x="33" y="38"/>
                  </a:lnTo>
                  <a:lnTo>
                    <a:pt x="95" y="15"/>
                  </a:lnTo>
                  <a:lnTo>
                    <a:pt x="85" y="0"/>
                  </a:lnTo>
                  <a:lnTo>
                    <a:pt x="29" y="19"/>
                  </a:lnTo>
                  <a:lnTo>
                    <a:pt x="0" y="29"/>
                  </a:lnTo>
                  <a:lnTo>
                    <a:pt x="5" y="4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1699"/>
            <p:cNvSpPr/>
            <p:nvPr/>
          </p:nvSpPr>
          <p:spPr>
            <a:xfrm>
              <a:off x="5275080" y="1928160"/>
              <a:ext cx="5040" cy="1296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9" h="19">
                  <a:moveTo>
                    <a:pt x="4" y="19"/>
                  </a:moveTo>
                  <a:lnTo>
                    <a:pt x="4" y="19"/>
                  </a:lnTo>
                  <a:lnTo>
                    <a:pt x="9" y="15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1700"/>
            <p:cNvSpPr/>
            <p:nvPr/>
          </p:nvSpPr>
          <p:spPr>
            <a:xfrm>
              <a:off x="5266440" y="1928160"/>
              <a:ext cx="10800" cy="1296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19">
                  <a:moveTo>
                    <a:pt x="5" y="19"/>
                  </a:moveTo>
                  <a:lnTo>
                    <a:pt x="0" y="5"/>
                  </a:lnTo>
                  <a:lnTo>
                    <a:pt x="15" y="0"/>
                  </a:lnTo>
                  <a:lnTo>
                    <a:pt x="19" y="19"/>
                  </a:lnTo>
                  <a:lnTo>
                    <a:pt x="5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1701"/>
            <p:cNvSpPr/>
            <p:nvPr/>
          </p:nvSpPr>
          <p:spPr>
            <a:xfrm>
              <a:off x="5247000" y="1931400"/>
              <a:ext cx="10800" cy="16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24">
                  <a:moveTo>
                    <a:pt x="0" y="24"/>
                  </a:moveTo>
                  <a:lnTo>
                    <a:pt x="5" y="24"/>
                  </a:lnTo>
                  <a:lnTo>
                    <a:pt x="19" y="19"/>
                  </a:lnTo>
                  <a:lnTo>
                    <a:pt x="15" y="0"/>
                  </a:lnTo>
                  <a:lnTo>
                    <a:pt x="0" y="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1702"/>
            <p:cNvSpPr/>
            <p:nvPr/>
          </p:nvSpPr>
          <p:spPr>
            <a:xfrm>
              <a:off x="5183640" y="1937880"/>
              <a:ext cx="55080" cy="216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4" h="33">
                  <a:moveTo>
                    <a:pt x="5" y="33"/>
                  </a:moveTo>
                  <a:lnTo>
                    <a:pt x="14" y="33"/>
                  </a:lnTo>
                  <a:lnTo>
                    <a:pt x="66" y="18"/>
                  </a:lnTo>
                  <a:lnTo>
                    <a:pt x="94" y="14"/>
                  </a:lnTo>
                  <a:lnTo>
                    <a:pt x="90" y="0"/>
                  </a:lnTo>
                  <a:lnTo>
                    <a:pt x="61" y="0"/>
                  </a:lnTo>
                  <a:lnTo>
                    <a:pt x="9" y="14"/>
                  </a:lnTo>
                  <a:lnTo>
                    <a:pt x="0" y="14"/>
                  </a:lnTo>
                  <a:lnTo>
                    <a:pt x="5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1703"/>
            <p:cNvSpPr/>
            <p:nvPr/>
          </p:nvSpPr>
          <p:spPr>
            <a:xfrm>
              <a:off x="5161320" y="195336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4">
                  <a:moveTo>
                    <a:pt x="5" y="24"/>
                  </a:moveTo>
                  <a:lnTo>
                    <a:pt x="0" y="5"/>
                  </a:lnTo>
                  <a:lnTo>
                    <a:pt x="19" y="0"/>
                  </a:lnTo>
                  <a:lnTo>
                    <a:pt x="24" y="1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1704"/>
            <p:cNvSpPr/>
            <p:nvPr/>
          </p:nvSpPr>
          <p:spPr>
            <a:xfrm>
              <a:off x="5147640" y="1959840"/>
              <a:ext cx="5760" cy="1116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10" h="18">
                  <a:moveTo>
                    <a:pt x="10" y="18"/>
                  </a:moveTo>
                  <a:lnTo>
                    <a:pt x="10" y="18"/>
                  </a:lnTo>
                  <a:lnTo>
                    <a:pt x="5" y="0"/>
                  </a:lnTo>
                  <a:lnTo>
                    <a:pt x="0" y="0"/>
                  </a:lnTo>
                  <a:lnTo>
                    <a:pt x="10" y="1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1705"/>
            <p:cNvSpPr/>
            <p:nvPr/>
          </p:nvSpPr>
          <p:spPr>
            <a:xfrm>
              <a:off x="5141880" y="1959840"/>
              <a:ext cx="11520" cy="154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3">
                  <a:moveTo>
                    <a:pt x="5" y="23"/>
                  </a:moveTo>
                  <a:lnTo>
                    <a:pt x="0" y="4"/>
                  </a:lnTo>
                  <a:lnTo>
                    <a:pt x="9" y="0"/>
                  </a:lnTo>
                  <a:lnTo>
                    <a:pt x="19" y="18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1706"/>
            <p:cNvSpPr/>
            <p:nvPr/>
          </p:nvSpPr>
          <p:spPr>
            <a:xfrm>
              <a:off x="5081400" y="1968840"/>
              <a:ext cx="52560" cy="306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90" h="47">
                  <a:moveTo>
                    <a:pt x="5" y="47"/>
                  </a:moveTo>
                  <a:lnTo>
                    <a:pt x="24" y="38"/>
                  </a:lnTo>
                  <a:lnTo>
                    <a:pt x="62" y="23"/>
                  </a:lnTo>
                  <a:lnTo>
                    <a:pt x="90" y="14"/>
                  </a:lnTo>
                  <a:lnTo>
                    <a:pt x="85" y="0"/>
                  </a:lnTo>
                  <a:lnTo>
                    <a:pt x="57" y="9"/>
                  </a:lnTo>
                  <a:lnTo>
                    <a:pt x="14" y="23"/>
                  </a:lnTo>
                  <a:lnTo>
                    <a:pt x="0" y="28"/>
                  </a:lnTo>
                  <a:lnTo>
                    <a:pt x="5" y="4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1707"/>
            <p:cNvSpPr/>
            <p:nvPr/>
          </p:nvSpPr>
          <p:spPr>
            <a:xfrm>
              <a:off x="5059080" y="1994400"/>
              <a:ext cx="13680" cy="14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3">
                  <a:moveTo>
                    <a:pt x="10" y="23"/>
                  </a:moveTo>
                  <a:lnTo>
                    <a:pt x="15" y="23"/>
                  </a:lnTo>
                  <a:lnTo>
                    <a:pt x="24" y="18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9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1708"/>
            <p:cNvSpPr/>
            <p:nvPr/>
          </p:nvSpPr>
          <p:spPr>
            <a:xfrm>
              <a:off x="5039640" y="2003040"/>
              <a:ext cx="16920" cy="187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29" h="28">
                  <a:moveTo>
                    <a:pt x="10" y="28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29" y="19"/>
                  </a:lnTo>
                  <a:lnTo>
                    <a:pt x="10" y="2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1709"/>
            <p:cNvSpPr/>
            <p:nvPr/>
          </p:nvSpPr>
          <p:spPr>
            <a:xfrm>
              <a:off x="5023080" y="2016360"/>
              <a:ext cx="13680" cy="144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3">
                  <a:moveTo>
                    <a:pt x="5" y="23"/>
                  </a:moveTo>
                  <a:lnTo>
                    <a:pt x="5" y="23"/>
                  </a:lnTo>
                  <a:lnTo>
                    <a:pt x="24" y="18"/>
                  </a:lnTo>
                  <a:lnTo>
                    <a:pt x="14" y="0"/>
                  </a:lnTo>
                  <a:lnTo>
                    <a:pt x="0" y="9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1710"/>
            <p:cNvSpPr/>
            <p:nvPr/>
          </p:nvSpPr>
          <p:spPr>
            <a:xfrm>
              <a:off x="4981680" y="2022120"/>
              <a:ext cx="44280" cy="306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6" h="47">
                  <a:moveTo>
                    <a:pt x="10" y="47"/>
                  </a:moveTo>
                  <a:lnTo>
                    <a:pt x="33" y="38"/>
                  </a:lnTo>
                  <a:lnTo>
                    <a:pt x="76" y="14"/>
                  </a:lnTo>
                  <a:lnTo>
                    <a:pt x="71" y="0"/>
                  </a:lnTo>
                  <a:lnTo>
                    <a:pt x="24" y="19"/>
                  </a:lnTo>
                  <a:lnTo>
                    <a:pt x="0" y="28"/>
                  </a:lnTo>
                  <a:lnTo>
                    <a:pt x="10" y="4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1711"/>
            <p:cNvSpPr/>
            <p:nvPr/>
          </p:nvSpPr>
          <p:spPr>
            <a:xfrm>
              <a:off x="4961880" y="2046960"/>
              <a:ext cx="15120" cy="14400"/>
            </a:xfrm>
            <a:custGeom>
              <a:avLst/>
              <a:gdLst>
                <a:gd name="textAreaLeft" fmla="*/ 0 w 15120"/>
                <a:gd name="textAreaRight" fmla="*/ 15480 w 151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4" h="23">
                  <a:moveTo>
                    <a:pt x="10" y="23"/>
                  </a:moveTo>
                  <a:lnTo>
                    <a:pt x="24" y="14"/>
                  </a:lnTo>
                  <a:lnTo>
                    <a:pt x="19" y="0"/>
                  </a:lnTo>
                  <a:lnTo>
                    <a:pt x="0" y="4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1712"/>
            <p:cNvSpPr/>
            <p:nvPr/>
          </p:nvSpPr>
          <p:spPr>
            <a:xfrm>
              <a:off x="4943160" y="205272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4">
                  <a:moveTo>
                    <a:pt x="5" y="24"/>
                  </a:moveTo>
                  <a:lnTo>
                    <a:pt x="19" y="19"/>
                  </a:lnTo>
                  <a:lnTo>
                    <a:pt x="24" y="19"/>
                  </a:lnTo>
                  <a:lnTo>
                    <a:pt x="14" y="0"/>
                  </a:lnTo>
                  <a:lnTo>
                    <a:pt x="0" y="5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1713"/>
            <p:cNvSpPr/>
            <p:nvPr/>
          </p:nvSpPr>
          <p:spPr>
            <a:xfrm>
              <a:off x="4879440" y="2059200"/>
              <a:ext cx="55080" cy="144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5" h="23">
                  <a:moveTo>
                    <a:pt x="0" y="19"/>
                  </a:moveTo>
                  <a:lnTo>
                    <a:pt x="10" y="23"/>
                  </a:lnTo>
                  <a:lnTo>
                    <a:pt x="34" y="23"/>
                  </a:lnTo>
                  <a:lnTo>
                    <a:pt x="62" y="23"/>
                  </a:lnTo>
                  <a:lnTo>
                    <a:pt x="95" y="19"/>
                  </a:lnTo>
                  <a:lnTo>
                    <a:pt x="90" y="0"/>
                  </a:lnTo>
                  <a:lnTo>
                    <a:pt x="62" y="4"/>
                  </a:lnTo>
                  <a:lnTo>
                    <a:pt x="34" y="4"/>
                  </a:lnTo>
                  <a:lnTo>
                    <a:pt x="15" y="4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1714"/>
            <p:cNvSpPr/>
            <p:nvPr/>
          </p:nvSpPr>
          <p:spPr>
            <a:xfrm>
              <a:off x="4857480" y="205272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4">
                  <a:moveTo>
                    <a:pt x="0" y="19"/>
                  </a:moveTo>
                  <a:lnTo>
                    <a:pt x="4" y="0"/>
                  </a:lnTo>
                  <a:lnTo>
                    <a:pt x="23" y="5"/>
                  </a:lnTo>
                  <a:lnTo>
                    <a:pt x="19" y="24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1715"/>
            <p:cNvSpPr/>
            <p:nvPr/>
          </p:nvSpPr>
          <p:spPr>
            <a:xfrm>
              <a:off x="4838040" y="2046960"/>
              <a:ext cx="13320" cy="144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3">
                  <a:moveTo>
                    <a:pt x="0" y="19"/>
                  </a:moveTo>
                  <a:lnTo>
                    <a:pt x="14" y="23"/>
                  </a:lnTo>
                  <a:lnTo>
                    <a:pt x="23" y="4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1716"/>
            <p:cNvSpPr/>
            <p:nvPr/>
          </p:nvSpPr>
          <p:spPr>
            <a:xfrm>
              <a:off x="4773960" y="2030760"/>
              <a:ext cx="55800" cy="252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95" h="38">
                  <a:moveTo>
                    <a:pt x="0" y="19"/>
                  </a:moveTo>
                  <a:lnTo>
                    <a:pt x="5" y="19"/>
                  </a:lnTo>
                  <a:lnTo>
                    <a:pt x="61" y="28"/>
                  </a:lnTo>
                  <a:lnTo>
                    <a:pt x="90" y="38"/>
                  </a:lnTo>
                  <a:lnTo>
                    <a:pt x="95" y="19"/>
                  </a:lnTo>
                  <a:lnTo>
                    <a:pt x="66" y="14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1717"/>
            <p:cNvSpPr/>
            <p:nvPr/>
          </p:nvSpPr>
          <p:spPr>
            <a:xfrm>
              <a:off x="4755240" y="2027520"/>
              <a:ext cx="10800" cy="1224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19" h="19">
                  <a:moveTo>
                    <a:pt x="0" y="19"/>
                  </a:moveTo>
                  <a:lnTo>
                    <a:pt x="0" y="19"/>
                  </a:lnTo>
                  <a:lnTo>
                    <a:pt x="14" y="1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1718"/>
            <p:cNvSpPr/>
            <p:nvPr/>
          </p:nvSpPr>
          <p:spPr>
            <a:xfrm>
              <a:off x="4755240" y="2027520"/>
              <a:ext cx="360" cy="1224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1719"/>
            <p:cNvSpPr/>
            <p:nvPr/>
          </p:nvSpPr>
          <p:spPr>
            <a:xfrm>
              <a:off x="4732920" y="2027520"/>
              <a:ext cx="11520" cy="1224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1720"/>
            <p:cNvSpPr/>
            <p:nvPr/>
          </p:nvSpPr>
          <p:spPr>
            <a:xfrm>
              <a:off x="4697280" y="2027520"/>
              <a:ext cx="24120" cy="154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42" h="24">
                  <a:moveTo>
                    <a:pt x="0" y="24"/>
                  </a:moveTo>
                  <a:lnTo>
                    <a:pt x="5" y="24"/>
                  </a:lnTo>
                  <a:lnTo>
                    <a:pt x="42" y="19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5" y="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1721"/>
            <p:cNvSpPr/>
            <p:nvPr/>
          </p:nvSpPr>
          <p:spPr>
            <a:xfrm>
              <a:off x="4669200" y="2018520"/>
              <a:ext cx="30240" cy="241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52" h="38">
                  <a:moveTo>
                    <a:pt x="0" y="5"/>
                  </a:moveTo>
                  <a:lnTo>
                    <a:pt x="4" y="19"/>
                  </a:lnTo>
                  <a:lnTo>
                    <a:pt x="47" y="38"/>
                  </a:lnTo>
                  <a:lnTo>
                    <a:pt x="52" y="19"/>
                  </a:lnTo>
                  <a:lnTo>
                    <a:pt x="9" y="5"/>
                  </a:lnTo>
                  <a:lnTo>
                    <a:pt x="0" y="5"/>
                  </a:lnTo>
                  <a:lnTo>
                    <a:pt x="9" y="5"/>
                  </a:lnTo>
                  <a:lnTo>
                    <a:pt x="4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1722"/>
            <p:cNvSpPr/>
            <p:nvPr/>
          </p:nvSpPr>
          <p:spPr>
            <a:xfrm>
              <a:off x="4666680" y="2022120"/>
              <a:ext cx="10800" cy="11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4" y="19"/>
                  </a:moveTo>
                  <a:lnTo>
                    <a:pt x="0" y="5"/>
                  </a:lnTo>
                  <a:lnTo>
                    <a:pt x="5" y="0"/>
                  </a:lnTo>
                  <a:lnTo>
                    <a:pt x="19" y="14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1723"/>
            <p:cNvSpPr/>
            <p:nvPr/>
          </p:nvSpPr>
          <p:spPr>
            <a:xfrm>
              <a:off x="4650120" y="2030760"/>
              <a:ext cx="16560" cy="183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28" h="28">
                  <a:moveTo>
                    <a:pt x="14" y="28"/>
                  </a:moveTo>
                  <a:lnTo>
                    <a:pt x="0" y="14"/>
                  </a:lnTo>
                  <a:lnTo>
                    <a:pt x="14" y="0"/>
                  </a:lnTo>
                  <a:lnTo>
                    <a:pt x="28" y="14"/>
                  </a:lnTo>
                  <a:lnTo>
                    <a:pt x="14" y="2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1724"/>
            <p:cNvSpPr/>
            <p:nvPr/>
          </p:nvSpPr>
          <p:spPr>
            <a:xfrm>
              <a:off x="4633200" y="2049480"/>
              <a:ext cx="16920" cy="15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9" h="24">
                  <a:moveTo>
                    <a:pt x="14" y="24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9" y="10"/>
                  </a:lnTo>
                  <a:lnTo>
                    <a:pt x="14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1725"/>
            <p:cNvSpPr/>
            <p:nvPr/>
          </p:nvSpPr>
          <p:spPr>
            <a:xfrm>
              <a:off x="4611600" y="206496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33">
                  <a:moveTo>
                    <a:pt x="9" y="33"/>
                  </a:moveTo>
                  <a:lnTo>
                    <a:pt x="37" y="14"/>
                  </a:lnTo>
                  <a:lnTo>
                    <a:pt x="23" y="0"/>
                  </a:lnTo>
                  <a:lnTo>
                    <a:pt x="0" y="19"/>
                  </a:lnTo>
                  <a:lnTo>
                    <a:pt x="9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1726"/>
            <p:cNvSpPr/>
            <p:nvPr/>
          </p:nvSpPr>
          <p:spPr>
            <a:xfrm>
              <a:off x="7224120" y="522000"/>
              <a:ext cx="52560" cy="428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66">
                  <a:moveTo>
                    <a:pt x="14" y="66"/>
                  </a:moveTo>
                  <a:lnTo>
                    <a:pt x="0" y="47"/>
                  </a:lnTo>
                  <a:lnTo>
                    <a:pt x="80" y="0"/>
                  </a:lnTo>
                  <a:lnTo>
                    <a:pt x="90" y="14"/>
                  </a:lnTo>
                  <a:lnTo>
                    <a:pt x="14" y="6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1727"/>
            <p:cNvSpPr/>
            <p:nvPr/>
          </p:nvSpPr>
          <p:spPr>
            <a:xfrm>
              <a:off x="7207560" y="561960"/>
              <a:ext cx="13320" cy="162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3" h="24">
                  <a:moveTo>
                    <a:pt x="9" y="24"/>
                  </a:moveTo>
                  <a:lnTo>
                    <a:pt x="0" y="9"/>
                  </a:lnTo>
                  <a:lnTo>
                    <a:pt x="14" y="0"/>
                  </a:lnTo>
                  <a:lnTo>
                    <a:pt x="23" y="1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1728"/>
            <p:cNvSpPr/>
            <p:nvPr/>
          </p:nvSpPr>
          <p:spPr>
            <a:xfrm>
              <a:off x="7188480" y="574920"/>
              <a:ext cx="15840" cy="14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" h="23">
                  <a:moveTo>
                    <a:pt x="14" y="23"/>
                  </a:moveTo>
                  <a:lnTo>
                    <a:pt x="0" y="9"/>
                  </a:lnTo>
                  <a:lnTo>
                    <a:pt x="19" y="0"/>
                  </a:lnTo>
                  <a:lnTo>
                    <a:pt x="28" y="14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1729"/>
            <p:cNvSpPr/>
            <p:nvPr/>
          </p:nvSpPr>
          <p:spPr>
            <a:xfrm>
              <a:off x="7135920" y="587160"/>
              <a:ext cx="49320" cy="428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85" h="66">
                  <a:moveTo>
                    <a:pt x="9" y="66"/>
                  </a:moveTo>
                  <a:lnTo>
                    <a:pt x="38" y="47"/>
                  </a:lnTo>
                  <a:lnTo>
                    <a:pt x="85" y="19"/>
                  </a:lnTo>
                  <a:lnTo>
                    <a:pt x="76" y="0"/>
                  </a:lnTo>
                  <a:lnTo>
                    <a:pt x="28" y="33"/>
                  </a:lnTo>
                  <a:lnTo>
                    <a:pt x="0" y="52"/>
                  </a:lnTo>
                  <a:lnTo>
                    <a:pt x="9" y="6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1730"/>
            <p:cNvSpPr/>
            <p:nvPr/>
          </p:nvSpPr>
          <p:spPr>
            <a:xfrm>
              <a:off x="7116120" y="627120"/>
              <a:ext cx="16560" cy="162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8" h="24">
                  <a:moveTo>
                    <a:pt x="9" y="24"/>
                  </a:moveTo>
                  <a:lnTo>
                    <a:pt x="0" y="10"/>
                  </a:lnTo>
                  <a:lnTo>
                    <a:pt x="19" y="0"/>
                  </a:lnTo>
                  <a:lnTo>
                    <a:pt x="28" y="1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1731"/>
            <p:cNvSpPr/>
            <p:nvPr/>
          </p:nvSpPr>
          <p:spPr>
            <a:xfrm>
              <a:off x="7099560" y="639720"/>
              <a:ext cx="13320" cy="15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4">
                  <a:moveTo>
                    <a:pt x="9" y="24"/>
                  </a:moveTo>
                  <a:lnTo>
                    <a:pt x="0" y="9"/>
                  </a:lnTo>
                  <a:lnTo>
                    <a:pt x="14" y="0"/>
                  </a:lnTo>
                  <a:lnTo>
                    <a:pt x="23" y="14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1732"/>
            <p:cNvSpPr/>
            <p:nvPr/>
          </p:nvSpPr>
          <p:spPr>
            <a:xfrm>
              <a:off x="7089120" y="652320"/>
              <a:ext cx="5040" cy="11880"/>
            </a:xfrm>
            <a:custGeom>
              <a:avLst/>
              <a:gdLst>
                <a:gd name="textAreaLeft" fmla="*/ 0 w 5040"/>
                <a:gd name="textAreaRight" fmla="*/ 5400 w 50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19">
                  <a:moveTo>
                    <a:pt x="9" y="19"/>
                  </a:moveTo>
                  <a:lnTo>
                    <a:pt x="9" y="19"/>
                  </a:lnTo>
                  <a:lnTo>
                    <a:pt x="9" y="14"/>
                  </a:lnTo>
                  <a:lnTo>
                    <a:pt x="0" y="0"/>
                  </a:lnTo>
                  <a:lnTo>
                    <a:pt x="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1733"/>
            <p:cNvSpPr/>
            <p:nvPr/>
          </p:nvSpPr>
          <p:spPr>
            <a:xfrm>
              <a:off x="7041240" y="652320"/>
              <a:ext cx="52560" cy="363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90" h="56">
                  <a:moveTo>
                    <a:pt x="5" y="56"/>
                  </a:moveTo>
                  <a:lnTo>
                    <a:pt x="29" y="47"/>
                  </a:lnTo>
                  <a:lnTo>
                    <a:pt x="90" y="19"/>
                  </a:lnTo>
                  <a:lnTo>
                    <a:pt x="81" y="0"/>
                  </a:lnTo>
                  <a:lnTo>
                    <a:pt x="19" y="28"/>
                  </a:lnTo>
                  <a:lnTo>
                    <a:pt x="0" y="38"/>
                  </a:lnTo>
                  <a:lnTo>
                    <a:pt x="5" y="5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1734"/>
            <p:cNvSpPr/>
            <p:nvPr/>
          </p:nvSpPr>
          <p:spPr>
            <a:xfrm>
              <a:off x="7021440" y="682920"/>
              <a:ext cx="14400" cy="154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4">
                  <a:moveTo>
                    <a:pt x="5" y="24"/>
                  </a:moveTo>
                  <a:lnTo>
                    <a:pt x="0" y="5"/>
                  </a:lnTo>
                  <a:lnTo>
                    <a:pt x="15" y="0"/>
                  </a:lnTo>
                  <a:lnTo>
                    <a:pt x="24" y="1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1735"/>
            <p:cNvSpPr/>
            <p:nvPr/>
          </p:nvSpPr>
          <p:spPr>
            <a:xfrm>
              <a:off x="7002360" y="691920"/>
              <a:ext cx="13680" cy="151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" h="24">
                  <a:moveTo>
                    <a:pt x="5" y="24"/>
                  </a:moveTo>
                  <a:lnTo>
                    <a:pt x="0" y="10"/>
                  </a:lnTo>
                  <a:lnTo>
                    <a:pt x="15" y="0"/>
                  </a:lnTo>
                  <a:lnTo>
                    <a:pt x="24" y="19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1736"/>
            <p:cNvSpPr/>
            <p:nvPr/>
          </p:nvSpPr>
          <p:spPr>
            <a:xfrm>
              <a:off x="6944760" y="704160"/>
              <a:ext cx="52560" cy="374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90" h="57">
                  <a:moveTo>
                    <a:pt x="5" y="57"/>
                  </a:moveTo>
                  <a:lnTo>
                    <a:pt x="0" y="38"/>
                  </a:lnTo>
                  <a:lnTo>
                    <a:pt x="80" y="0"/>
                  </a:lnTo>
                  <a:lnTo>
                    <a:pt x="90" y="14"/>
                  </a:lnTo>
                  <a:lnTo>
                    <a:pt x="5" y="57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1737"/>
            <p:cNvSpPr/>
            <p:nvPr/>
          </p:nvSpPr>
          <p:spPr>
            <a:xfrm>
              <a:off x="6924960" y="73512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4" h="24">
                  <a:moveTo>
                    <a:pt x="5" y="24"/>
                  </a:moveTo>
                  <a:lnTo>
                    <a:pt x="0" y="10"/>
                  </a:lnTo>
                  <a:lnTo>
                    <a:pt x="14" y="0"/>
                  </a:lnTo>
                  <a:lnTo>
                    <a:pt x="24" y="14"/>
                  </a:lnTo>
                  <a:lnTo>
                    <a:pt x="5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1738"/>
            <p:cNvSpPr/>
            <p:nvPr/>
          </p:nvSpPr>
          <p:spPr>
            <a:xfrm>
              <a:off x="6919920" y="751320"/>
              <a:ext cx="16200" cy="14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8" h="23">
                  <a:moveTo>
                    <a:pt x="28" y="14"/>
                  </a:moveTo>
                  <a:lnTo>
                    <a:pt x="14" y="23"/>
                  </a:lnTo>
                  <a:lnTo>
                    <a:pt x="0" y="9"/>
                  </a:lnTo>
                  <a:lnTo>
                    <a:pt x="19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1739"/>
            <p:cNvSpPr/>
            <p:nvPr/>
          </p:nvSpPr>
          <p:spPr>
            <a:xfrm>
              <a:off x="6933240" y="769320"/>
              <a:ext cx="38520" cy="5904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66" h="90">
                  <a:moveTo>
                    <a:pt x="66" y="76"/>
                  </a:moveTo>
                  <a:lnTo>
                    <a:pt x="52" y="90"/>
                  </a:lnTo>
                  <a:lnTo>
                    <a:pt x="0" y="10"/>
                  </a:lnTo>
                  <a:lnTo>
                    <a:pt x="14" y="0"/>
                  </a:lnTo>
                  <a:lnTo>
                    <a:pt x="66" y="7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1740"/>
            <p:cNvSpPr/>
            <p:nvPr/>
          </p:nvSpPr>
          <p:spPr>
            <a:xfrm>
              <a:off x="6969960" y="831960"/>
              <a:ext cx="12960" cy="1548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4"/>
                  </a:moveTo>
                  <a:lnTo>
                    <a:pt x="9" y="23"/>
                  </a:lnTo>
                  <a:lnTo>
                    <a:pt x="0" y="9"/>
                  </a:lnTo>
                  <a:lnTo>
                    <a:pt x="14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1741"/>
            <p:cNvSpPr/>
            <p:nvPr/>
          </p:nvSpPr>
          <p:spPr>
            <a:xfrm>
              <a:off x="6980760" y="85392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4"/>
                  </a:moveTo>
                  <a:lnTo>
                    <a:pt x="4" y="23"/>
                  </a:lnTo>
                  <a:lnTo>
                    <a:pt x="0" y="4"/>
                  </a:lnTo>
                  <a:lnTo>
                    <a:pt x="14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1742"/>
            <p:cNvSpPr/>
            <p:nvPr/>
          </p:nvSpPr>
          <p:spPr>
            <a:xfrm>
              <a:off x="6989040" y="875160"/>
              <a:ext cx="30240" cy="5832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52" h="89">
                  <a:moveTo>
                    <a:pt x="52" y="85"/>
                  </a:moveTo>
                  <a:lnTo>
                    <a:pt x="33" y="89"/>
                  </a:lnTo>
                  <a:lnTo>
                    <a:pt x="0" y="4"/>
                  </a:lnTo>
                  <a:lnTo>
                    <a:pt x="14" y="0"/>
                  </a:lnTo>
                  <a:lnTo>
                    <a:pt x="52" y="8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1743"/>
            <p:cNvSpPr/>
            <p:nvPr/>
          </p:nvSpPr>
          <p:spPr>
            <a:xfrm>
              <a:off x="7005600" y="942480"/>
              <a:ext cx="13680" cy="1620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4" h="24">
                  <a:moveTo>
                    <a:pt x="19" y="24"/>
                  </a:moveTo>
                  <a:lnTo>
                    <a:pt x="0" y="15"/>
                  </a:lnTo>
                  <a:lnTo>
                    <a:pt x="5" y="0"/>
                  </a:lnTo>
                  <a:lnTo>
                    <a:pt x="24" y="5"/>
                  </a:lnTo>
                  <a:lnTo>
                    <a:pt x="19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1744"/>
            <p:cNvSpPr/>
            <p:nvPr/>
          </p:nvSpPr>
          <p:spPr>
            <a:xfrm>
              <a:off x="7000560" y="965160"/>
              <a:ext cx="12960" cy="14400"/>
            </a:xfrm>
            <a:custGeom>
              <a:avLst/>
              <a:gdLst>
                <a:gd name="textAreaLeft" fmla="*/ 0 w 12960"/>
                <a:gd name="textAreaRight" fmla="*/ 13320 w 12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3" h="23">
                  <a:moveTo>
                    <a:pt x="14" y="23"/>
                  </a:moveTo>
                  <a:lnTo>
                    <a:pt x="0" y="18"/>
                  </a:lnTo>
                  <a:lnTo>
                    <a:pt x="4" y="0"/>
                  </a:lnTo>
                  <a:lnTo>
                    <a:pt x="23" y="4"/>
                  </a:lnTo>
                  <a:lnTo>
                    <a:pt x="14" y="2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1745"/>
            <p:cNvSpPr/>
            <p:nvPr/>
          </p:nvSpPr>
          <p:spPr>
            <a:xfrm>
              <a:off x="6985800" y="987120"/>
              <a:ext cx="19440" cy="396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33" h="61">
                  <a:moveTo>
                    <a:pt x="0" y="61"/>
                  </a:moveTo>
                  <a:lnTo>
                    <a:pt x="19" y="56"/>
                  </a:lnTo>
                  <a:lnTo>
                    <a:pt x="33" y="9"/>
                  </a:lnTo>
                  <a:lnTo>
                    <a:pt x="14" y="0"/>
                  </a:lnTo>
                  <a:lnTo>
                    <a:pt x="0" y="51"/>
                  </a:lnTo>
                  <a:lnTo>
                    <a:pt x="0" y="61"/>
                  </a:lnTo>
                  <a:lnTo>
                    <a:pt x="0" y="51"/>
                  </a:lnTo>
                  <a:lnTo>
                    <a:pt x="0" y="56"/>
                  </a:lnTo>
                  <a:lnTo>
                    <a:pt x="0" y="61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1746"/>
            <p:cNvSpPr/>
            <p:nvPr/>
          </p:nvSpPr>
          <p:spPr>
            <a:xfrm>
              <a:off x="6985800" y="1017360"/>
              <a:ext cx="25200" cy="273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43" h="42">
                  <a:moveTo>
                    <a:pt x="43" y="33"/>
                  </a:moveTo>
                  <a:lnTo>
                    <a:pt x="28" y="42"/>
                  </a:lnTo>
                  <a:lnTo>
                    <a:pt x="0" y="14"/>
                  </a:lnTo>
                  <a:lnTo>
                    <a:pt x="14" y="0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1747"/>
            <p:cNvSpPr/>
            <p:nvPr/>
          </p:nvSpPr>
          <p:spPr>
            <a:xfrm>
              <a:off x="7008120" y="1048320"/>
              <a:ext cx="16560" cy="162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8" h="24">
                  <a:moveTo>
                    <a:pt x="28" y="14"/>
                  </a:moveTo>
                  <a:lnTo>
                    <a:pt x="14" y="24"/>
                  </a:lnTo>
                  <a:lnTo>
                    <a:pt x="0" y="9"/>
                  </a:lnTo>
                  <a:lnTo>
                    <a:pt x="14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1748"/>
            <p:cNvSpPr/>
            <p:nvPr/>
          </p:nvSpPr>
          <p:spPr>
            <a:xfrm>
              <a:off x="7021440" y="1067040"/>
              <a:ext cx="16920" cy="15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9" h="24">
                  <a:moveTo>
                    <a:pt x="29" y="14"/>
                  </a:moveTo>
                  <a:lnTo>
                    <a:pt x="15" y="24"/>
                  </a:lnTo>
                  <a:lnTo>
                    <a:pt x="0" y="10"/>
                  </a:lnTo>
                  <a:lnTo>
                    <a:pt x="15" y="0"/>
                  </a:lnTo>
                  <a:lnTo>
                    <a:pt x="29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1749"/>
            <p:cNvSpPr/>
            <p:nvPr/>
          </p:nvSpPr>
          <p:spPr>
            <a:xfrm>
              <a:off x="7036200" y="1085760"/>
              <a:ext cx="8640" cy="972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4" h="14">
                  <a:moveTo>
                    <a:pt x="9" y="14"/>
                  </a:moveTo>
                  <a:lnTo>
                    <a:pt x="14" y="0"/>
                  </a:lnTo>
                  <a:lnTo>
                    <a:pt x="0" y="9"/>
                  </a:lnTo>
                  <a:lnTo>
                    <a:pt x="9" y="14"/>
                  </a:lnTo>
                  <a:lnTo>
                    <a:pt x="0" y="9"/>
                  </a:lnTo>
                  <a:lnTo>
                    <a:pt x="5" y="14"/>
                  </a:lnTo>
                  <a:lnTo>
                    <a:pt x="9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1750"/>
            <p:cNvSpPr/>
            <p:nvPr/>
          </p:nvSpPr>
          <p:spPr>
            <a:xfrm>
              <a:off x="7041240" y="1082520"/>
              <a:ext cx="52560" cy="154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90" h="23">
                  <a:moveTo>
                    <a:pt x="90" y="5"/>
                  </a:moveTo>
                  <a:lnTo>
                    <a:pt x="90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0" y="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1751"/>
            <p:cNvSpPr/>
            <p:nvPr/>
          </p:nvSpPr>
          <p:spPr>
            <a:xfrm>
              <a:off x="7105320" y="1089000"/>
              <a:ext cx="1080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1752"/>
            <p:cNvSpPr/>
            <p:nvPr/>
          </p:nvSpPr>
          <p:spPr>
            <a:xfrm>
              <a:off x="7126920" y="1089000"/>
              <a:ext cx="11160" cy="1188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9" y="5"/>
                  </a:moveTo>
                  <a:lnTo>
                    <a:pt x="19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1753"/>
            <p:cNvSpPr/>
            <p:nvPr/>
          </p:nvSpPr>
          <p:spPr>
            <a:xfrm>
              <a:off x="7150320" y="1092240"/>
              <a:ext cx="51120" cy="1548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89" h="24">
                  <a:moveTo>
                    <a:pt x="89" y="5"/>
                  </a:moveTo>
                  <a:lnTo>
                    <a:pt x="89" y="2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89" y="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1754"/>
            <p:cNvSpPr/>
            <p:nvPr/>
          </p:nvSpPr>
          <p:spPr>
            <a:xfrm>
              <a:off x="7212600" y="1095480"/>
              <a:ext cx="11520" cy="1440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9" h="23">
                  <a:moveTo>
                    <a:pt x="19" y="4"/>
                  </a:moveTo>
                  <a:lnTo>
                    <a:pt x="19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1755"/>
            <p:cNvSpPr/>
            <p:nvPr/>
          </p:nvSpPr>
          <p:spPr>
            <a:xfrm>
              <a:off x="7234920" y="1098000"/>
              <a:ext cx="1116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1756"/>
            <p:cNvSpPr/>
            <p:nvPr/>
          </p:nvSpPr>
          <p:spPr>
            <a:xfrm>
              <a:off x="7257240" y="1101240"/>
              <a:ext cx="7920" cy="11880"/>
            </a:xfrm>
            <a:custGeom>
              <a:avLst/>
              <a:gdLst>
                <a:gd name="textAreaLeft" fmla="*/ 0 w 7920"/>
                <a:gd name="textAreaRight" fmla="*/ 8280 w 79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4" h="19">
                  <a:moveTo>
                    <a:pt x="14" y="0"/>
                  </a:moveTo>
                  <a:lnTo>
                    <a:pt x="9" y="0"/>
                  </a:lnTo>
                  <a:lnTo>
                    <a:pt x="0" y="0"/>
                  </a:lnTo>
                  <a:lnTo>
                    <a:pt x="0" y="14"/>
                  </a:lnTo>
                  <a:lnTo>
                    <a:pt x="9" y="19"/>
                  </a:lnTo>
                  <a:lnTo>
                    <a:pt x="14" y="0"/>
                  </a:lnTo>
                  <a:lnTo>
                    <a:pt x="9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1757"/>
            <p:cNvSpPr/>
            <p:nvPr/>
          </p:nvSpPr>
          <p:spPr>
            <a:xfrm>
              <a:off x="7262280" y="1101240"/>
              <a:ext cx="46800" cy="18360"/>
            </a:xfrm>
            <a:custGeom>
              <a:avLst/>
              <a:gdLst>
                <a:gd name="textAreaLeft" fmla="*/ 0 w 46800"/>
                <a:gd name="textAreaRight" fmla="*/ 47160 w 46800"/>
                <a:gd name="textAreaTop" fmla="*/ 0 h 18360"/>
                <a:gd name="textAreaBottom" fmla="*/ 18720 h 18360"/>
              </a:gdLst>
              <a:ahLst/>
              <a:rect l="textAreaLeft" t="textAreaTop" r="textAreaRight" b="textAreaBottom"/>
              <a:pathLst>
                <a:path w="80" h="29">
                  <a:moveTo>
                    <a:pt x="80" y="14"/>
                  </a:moveTo>
                  <a:lnTo>
                    <a:pt x="80" y="29"/>
                  </a:lnTo>
                  <a:lnTo>
                    <a:pt x="0" y="19"/>
                  </a:lnTo>
                  <a:lnTo>
                    <a:pt x="5" y="0"/>
                  </a:lnTo>
                  <a:lnTo>
                    <a:pt x="80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1758"/>
            <p:cNvSpPr/>
            <p:nvPr/>
          </p:nvSpPr>
          <p:spPr>
            <a:xfrm>
              <a:off x="7318080" y="1109880"/>
              <a:ext cx="13320" cy="162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23" h="24">
                  <a:moveTo>
                    <a:pt x="23" y="5"/>
                  </a:moveTo>
                  <a:lnTo>
                    <a:pt x="18" y="24"/>
                  </a:lnTo>
                  <a:lnTo>
                    <a:pt x="0" y="19"/>
                  </a:lnTo>
                  <a:lnTo>
                    <a:pt x="4" y="0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1759"/>
            <p:cNvSpPr/>
            <p:nvPr/>
          </p:nvSpPr>
          <p:spPr>
            <a:xfrm>
              <a:off x="7339680" y="1116360"/>
              <a:ext cx="13680" cy="129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24" h="19">
                  <a:moveTo>
                    <a:pt x="24" y="0"/>
                  </a:moveTo>
                  <a:lnTo>
                    <a:pt x="19" y="19"/>
                  </a:lnTo>
                  <a:lnTo>
                    <a:pt x="0" y="14"/>
                  </a:lnTo>
                  <a:lnTo>
                    <a:pt x="5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1760"/>
            <p:cNvSpPr/>
            <p:nvPr/>
          </p:nvSpPr>
          <p:spPr>
            <a:xfrm>
              <a:off x="7362000" y="1119960"/>
              <a:ext cx="50040" cy="216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5" h="33">
                  <a:moveTo>
                    <a:pt x="80" y="33"/>
                  </a:moveTo>
                  <a:lnTo>
                    <a:pt x="85" y="14"/>
                  </a:lnTo>
                  <a:lnTo>
                    <a:pt x="0" y="0"/>
                  </a:lnTo>
                  <a:lnTo>
                    <a:pt x="0" y="18"/>
                  </a:lnTo>
                  <a:lnTo>
                    <a:pt x="8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1761"/>
            <p:cNvSpPr/>
            <p:nvPr/>
          </p:nvSpPr>
          <p:spPr>
            <a:xfrm>
              <a:off x="7408800" y="1129680"/>
              <a:ext cx="8640" cy="118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" h="19">
                  <a:moveTo>
                    <a:pt x="15" y="0"/>
                  </a:moveTo>
                  <a:lnTo>
                    <a:pt x="10" y="19"/>
                  </a:lnTo>
                  <a:lnTo>
                    <a:pt x="0" y="19"/>
                  </a:lnTo>
                  <a:lnTo>
                    <a:pt x="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1762"/>
            <p:cNvSpPr/>
            <p:nvPr/>
          </p:nvSpPr>
          <p:spPr>
            <a:xfrm>
              <a:off x="7426080" y="1129680"/>
              <a:ext cx="10800" cy="11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9" y="4"/>
                  </a:moveTo>
                  <a:lnTo>
                    <a:pt x="19" y="1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1763"/>
            <p:cNvSpPr/>
            <p:nvPr/>
          </p:nvSpPr>
          <p:spPr>
            <a:xfrm>
              <a:off x="7447680" y="1131840"/>
              <a:ext cx="1116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1764"/>
            <p:cNvSpPr/>
            <p:nvPr/>
          </p:nvSpPr>
          <p:spPr>
            <a:xfrm>
              <a:off x="7470000" y="1131840"/>
              <a:ext cx="52560" cy="187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90" h="29">
                  <a:moveTo>
                    <a:pt x="90" y="10"/>
                  </a:moveTo>
                  <a:lnTo>
                    <a:pt x="90" y="29"/>
                  </a:lnTo>
                  <a:lnTo>
                    <a:pt x="0" y="19"/>
                  </a:lnTo>
                  <a:lnTo>
                    <a:pt x="0" y="0"/>
                  </a:lnTo>
                  <a:lnTo>
                    <a:pt x="90" y="1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1765"/>
            <p:cNvSpPr/>
            <p:nvPr/>
          </p:nvSpPr>
          <p:spPr>
            <a:xfrm>
              <a:off x="7527600" y="1147320"/>
              <a:ext cx="11160" cy="1296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2960"/>
                <a:gd name="textAreaBottom" fmla="*/ 13320 h 12960"/>
              </a:gdLst>
              <a:ahLst/>
              <a:rect l="textAreaLeft" t="textAreaTop" r="textAreaRight" b="textAreaBottom"/>
              <a:pathLst>
                <a:path w="19" h="19">
                  <a:moveTo>
                    <a:pt x="15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15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1766"/>
            <p:cNvSpPr/>
            <p:nvPr/>
          </p:nvSpPr>
          <p:spPr>
            <a:xfrm>
              <a:off x="7526520" y="1169280"/>
              <a:ext cx="10080" cy="11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5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1767"/>
            <p:cNvSpPr/>
            <p:nvPr/>
          </p:nvSpPr>
          <p:spPr>
            <a:xfrm>
              <a:off x="7522560" y="1194840"/>
              <a:ext cx="13680" cy="6156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94">
                  <a:moveTo>
                    <a:pt x="19" y="94"/>
                  </a:moveTo>
                  <a:lnTo>
                    <a:pt x="0" y="94"/>
                  </a:lnTo>
                  <a:lnTo>
                    <a:pt x="5" y="0"/>
                  </a:lnTo>
                  <a:lnTo>
                    <a:pt x="24" y="0"/>
                  </a:lnTo>
                  <a:lnTo>
                    <a:pt x="19" y="9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768"/>
            <p:cNvSpPr/>
            <p:nvPr/>
          </p:nvSpPr>
          <p:spPr>
            <a:xfrm>
              <a:off x="7522560" y="1268640"/>
              <a:ext cx="1152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1769"/>
            <p:cNvSpPr/>
            <p:nvPr/>
          </p:nvSpPr>
          <p:spPr>
            <a:xfrm>
              <a:off x="7522560" y="1290600"/>
              <a:ext cx="11520" cy="11880"/>
            </a:xfrm>
            <a:custGeom>
              <a:avLst/>
              <a:gdLst>
                <a:gd name="textAreaLeft" fmla="*/ 0 w 11520"/>
                <a:gd name="textAreaRight" fmla="*/ 11880 w 11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4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5"/>
                  </a:lnTo>
                  <a:lnTo>
                    <a:pt x="1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770"/>
            <p:cNvSpPr/>
            <p:nvPr/>
          </p:nvSpPr>
          <p:spPr>
            <a:xfrm>
              <a:off x="7519320" y="1315080"/>
              <a:ext cx="11520" cy="6192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771"/>
            <p:cNvSpPr/>
            <p:nvPr/>
          </p:nvSpPr>
          <p:spPr>
            <a:xfrm>
              <a:off x="7516800" y="1389240"/>
              <a:ext cx="10800" cy="1260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1772"/>
            <p:cNvSpPr/>
            <p:nvPr/>
          </p:nvSpPr>
          <p:spPr>
            <a:xfrm>
              <a:off x="7516800" y="1411200"/>
              <a:ext cx="10800" cy="11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9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19" y="5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1773"/>
            <p:cNvSpPr/>
            <p:nvPr/>
          </p:nvSpPr>
          <p:spPr>
            <a:xfrm>
              <a:off x="7514280" y="1436400"/>
              <a:ext cx="13320" cy="6156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3" h="94">
                  <a:moveTo>
                    <a:pt x="19" y="94"/>
                  </a:moveTo>
                  <a:lnTo>
                    <a:pt x="0" y="94"/>
                  </a:lnTo>
                  <a:lnTo>
                    <a:pt x="4" y="0"/>
                  </a:lnTo>
                  <a:lnTo>
                    <a:pt x="23" y="0"/>
                  </a:lnTo>
                  <a:lnTo>
                    <a:pt x="19" y="9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774"/>
            <p:cNvSpPr/>
            <p:nvPr/>
          </p:nvSpPr>
          <p:spPr>
            <a:xfrm>
              <a:off x="7514280" y="1510200"/>
              <a:ext cx="11880" cy="11880"/>
            </a:xfrm>
            <a:prstGeom prst="rect">
              <a:avLst/>
            </a:pr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1775"/>
            <p:cNvSpPr/>
            <p:nvPr/>
          </p:nvSpPr>
          <p:spPr>
            <a:xfrm>
              <a:off x="7511760" y="1532160"/>
              <a:ext cx="10800" cy="118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9">
                  <a:moveTo>
                    <a:pt x="19" y="19"/>
                  </a:moveTo>
                  <a:lnTo>
                    <a:pt x="0" y="19"/>
                  </a:lnTo>
                  <a:lnTo>
                    <a:pt x="5" y="0"/>
                  </a:lnTo>
                  <a:lnTo>
                    <a:pt x="19" y="5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1776"/>
            <p:cNvSpPr/>
            <p:nvPr/>
          </p:nvSpPr>
          <p:spPr>
            <a:xfrm>
              <a:off x="7511760" y="1556640"/>
              <a:ext cx="10800" cy="16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24">
                  <a:moveTo>
                    <a:pt x="0" y="24"/>
                  </a:moveTo>
                  <a:lnTo>
                    <a:pt x="19" y="19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1777"/>
            <p:cNvSpPr/>
            <p:nvPr/>
          </p:nvSpPr>
          <p:spPr>
            <a:xfrm>
              <a:off x="7511760" y="1569600"/>
              <a:ext cx="22320" cy="4860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38" h="75">
                  <a:moveTo>
                    <a:pt x="38" y="71"/>
                  </a:moveTo>
                  <a:lnTo>
                    <a:pt x="19" y="75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8" y="71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1778"/>
            <p:cNvSpPr/>
            <p:nvPr/>
          </p:nvSpPr>
          <p:spPr>
            <a:xfrm>
              <a:off x="7526520" y="1628280"/>
              <a:ext cx="10080" cy="118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9" h="18">
                  <a:moveTo>
                    <a:pt x="19" y="18"/>
                  </a:moveTo>
                  <a:lnTo>
                    <a:pt x="4" y="18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9" y="18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1779"/>
            <p:cNvSpPr/>
            <p:nvPr/>
          </p:nvSpPr>
          <p:spPr>
            <a:xfrm>
              <a:off x="7530840" y="1650240"/>
              <a:ext cx="11160" cy="144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9" h="23">
                  <a:moveTo>
                    <a:pt x="19" y="19"/>
                  </a:moveTo>
                  <a:lnTo>
                    <a:pt x="0" y="23"/>
                  </a:lnTo>
                  <a:lnTo>
                    <a:pt x="0" y="4"/>
                  </a:lnTo>
                  <a:lnTo>
                    <a:pt x="14" y="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1780"/>
            <p:cNvSpPr/>
            <p:nvPr/>
          </p:nvSpPr>
          <p:spPr>
            <a:xfrm>
              <a:off x="7534080" y="1674720"/>
              <a:ext cx="23760" cy="615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42" h="95">
                  <a:moveTo>
                    <a:pt x="42" y="90"/>
                  </a:moveTo>
                  <a:lnTo>
                    <a:pt x="23" y="95"/>
                  </a:lnTo>
                  <a:lnTo>
                    <a:pt x="0" y="5"/>
                  </a:lnTo>
                  <a:lnTo>
                    <a:pt x="19" y="0"/>
                  </a:lnTo>
                  <a:lnTo>
                    <a:pt x="42" y="9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1781"/>
            <p:cNvSpPr/>
            <p:nvPr/>
          </p:nvSpPr>
          <p:spPr>
            <a:xfrm>
              <a:off x="7549920" y="1746360"/>
              <a:ext cx="14400" cy="118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19">
                  <a:moveTo>
                    <a:pt x="24" y="14"/>
                  </a:moveTo>
                  <a:lnTo>
                    <a:pt x="5" y="19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4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1782"/>
            <p:cNvSpPr/>
            <p:nvPr/>
          </p:nvSpPr>
          <p:spPr>
            <a:xfrm>
              <a:off x="7555680" y="1767240"/>
              <a:ext cx="10800" cy="162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8" h="24">
                  <a:moveTo>
                    <a:pt x="18" y="19"/>
                  </a:moveTo>
                  <a:lnTo>
                    <a:pt x="4" y="24"/>
                  </a:lnTo>
                  <a:lnTo>
                    <a:pt x="0" y="5"/>
                  </a:lnTo>
                  <a:lnTo>
                    <a:pt x="18" y="0"/>
                  </a:lnTo>
                  <a:lnTo>
                    <a:pt x="18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1783"/>
            <p:cNvSpPr/>
            <p:nvPr/>
          </p:nvSpPr>
          <p:spPr>
            <a:xfrm>
              <a:off x="7561440" y="1792440"/>
              <a:ext cx="22320" cy="6156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38" h="94">
                  <a:moveTo>
                    <a:pt x="38" y="89"/>
                  </a:moveTo>
                  <a:lnTo>
                    <a:pt x="19" y="94"/>
                  </a:lnTo>
                  <a:lnTo>
                    <a:pt x="0" y="4"/>
                  </a:lnTo>
                  <a:lnTo>
                    <a:pt x="14" y="0"/>
                  </a:lnTo>
                  <a:lnTo>
                    <a:pt x="38" y="8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1784"/>
            <p:cNvSpPr/>
            <p:nvPr/>
          </p:nvSpPr>
          <p:spPr>
            <a:xfrm>
              <a:off x="7575120" y="1863360"/>
              <a:ext cx="13320" cy="1260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23" h="19">
                  <a:moveTo>
                    <a:pt x="23" y="14"/>
                  </a:moveTo>
                  <a:lnTo>
                    <a:pt x="4" y="19"/>
                  </a:lnTo>
                  <a:lnTo>
                    <a:pt x="0" y="0"/>
                  </a:lnTo>
                  <a:lnTo>
                    <a:pt x="19" y="0"/>
                  </a:lnTo>
                  <a:lnTo>
                    <a:pt x="23" y="14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1785"/>
            <p:cNvSpPr/>
            <p:nvPr/>
          </p:nvSpPr>
          <p:spPr>
            <a:xfrm>
              <a:off x="7580520" y="1885320"/>
              <a:ext cx="13680" cy="151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9"/>
                  </a:moveTo>
                  <a:lnTo>
                    <a:pt x="5" y="24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1786"/>
            <p:cNvSpPr/>
            <p:nvPr/>
          </p:nvSpPr>
          <p:spPr>
            <a:xfrm>
              <a:off x="7586640" y="1911240"/>
              <a:ext cx="21960" cy="60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37" h="94">
                  <a:moveTo>
                    <a:pt x="37" y="90"/>
                  </a:moveTo>
                  <a:lnTo>
                    <a:pt x="18" y="94"/>
                  </a:lnTo>
                  <a:lnTo>
                    <a:pt x="0" y="5"/>
                  </a:lnTo>
                  <a:lnTo>
                    <a:pt x="18" y="0"/>
                  </a:lnTo>
                  <a:lnTo>
                    <a:pt x="37" y="9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1787"/>
            <p:cNvSpPr/>
            <p:nvPr/>
          </p:nvSpPr>
          <p:spPr>
            <a:xfrm>
              <a:off x="7599960" y="1978920"/>
              <a:ext cx="13680" cy="154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9"/>
                  </a:moveTo>
                  <a:lnTo>
                    <a:pt x="5" y="24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1788"/>
            <p:cNvSpPr/>
            <p:nvPr/>
          </p:nvSpPr>
          <p:spPr>
            <a:xfrm>
              <a:off x="7605720" y="2003040"/>
              <a:ext cx="13320" cy="1548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23">
                  <a:moveTo>
                    <a:pt x="23" y="19"/>
                  </a:moveTo>
                  <a:lnTo>
                    <a:pt x="4" y="23"/>
                  </a:lnTo>
                  <a:lnTo>
                    <a:pt x="0" y="4"/>
                  </a:lnTo>
                  <a:lnTo>
                    <a:pt x="18" y="0"/>
                  </a:lnTo>
                  <a:lnTo>
                    <a:pt x="23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1789"/>
            <p:cNvSpPr/>
            <p:nvPr/>
          </p:nvSpPr>
          <p:spPr>
            <a:xfrm>
              <a:off x="7610760" y="2027520"/>
              <a:ext cx="22320" cy="62640"/>
            </a:xfrm>
            <a:custGeom>
              <a:avLst/>
              <a:gdLst>
                <a:gd name="textAreaLeft" fmla="*/ 0 w 22320"/>
                <a:gd name="textAreaRight" fmla="*/ 22680 w 2232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38" h="95">
                  <a:moveTo>
                    <a:pt x="38" y="90"/>
                  </a:moveTo>
                  <a:lnTo>
                    <a:pt x="24" y="95"/>
                  </a:lnTo>
                  <a:lnTo>
                    <a:pt x="0" y="5"/>
                  </a:lnTo>
                  <a:lnTo>
                    <a:pt x="19" y="0"/>
                  </a:lnTo>
                  <a:lnTo>
                    <a:pt x="38" y="90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1790"/>
            <p:cNvSpPr/>
            <p:nvPr/>
          </p:nvSpPr>
          <p:spPr>
            <a:xfrm>
              <a:off x="7627320" y="209592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4">
                  <a:moveTo>
                    <a:pt x="19" y="19"/>
                  </a:moveTo>
                  <a:lnTo>
                    <a:pt x="0" y="24"/>
                  </a:lnTo>
                  <a:lnTo>
                    <a:pt x="0" y="5"/>
                  </a:lnTo>
                  <a:lnTo>
                    <a:pt x="15" y="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1791"/>
            <p:cNvSpPr/>
            <p:nvPr/>
          </p:nvSpPr>
          <p:spPr>
            <a:xfrm>
              <a:off x="7630560" y="2121120"/>
              <a:ext cx="13680" cy="1512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9"/>
                  </a:moveTo>
                  <a:lnTo>
                    <a:pt x="5" y="24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1792"/>
            <p:cNvSpPr/>
            <p:nvPr/>
          </p:nvSpPr>
          <p:spPr>
            <a:xfrm>
              <a:off x="7636320" y="2145600"/>
              <a:ext cx="25200" cy="5832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42" h="89">
                  <a:moveTo>
                    <a:pt x="42" y="89"/>
                  </a:moveTo>
                  <a:lnTo>
                    <a:pt x="23" y="89"/>
                  </a:lnTo>
                  <a:lnTo>
                    <a:pt x="0" y="5"/>
                  </a:lnTo>
                  <a:lnTo>
                    <a:pt x="18" y="0"/>
                  </a:lnTo>
                  <a:lnTo>
                    <a:pt x="42" y="8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1793"/>
            <p:cNvSpPr/>
            <p:nvPr/>
          </p:nvSpPr>
          <p:spPr>
            <a:xfrm>
              <a:off x="7652880" y="2213640"/>
              <a:ext cx="10800" cy="1548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19" h="23">
                  <a:moveTo>
                    <a:pt x="19" y="19"/>
                  </a:moveTo>
                  <a:lnTo>
                    <a:pt x="5" y="23"/>
                  </a:lnTo>
                  <a:lnTo>
                    <a:pt x="0" y="4"/>
                  </a:lnTo>
                  <a:lnTo>
                    <a:pt x="19" y="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1794"/>
            <p:cNvSpPr/>
            <p:nvPr/>
          </p:nvSpPr>
          <p:spPr>
            <a:xfrm>
              <a:off x="7657920" y="2238480"/>
              <a:ext cx="11160" cy="16200"/>
            </a:xfrm>
            <a:custGeom>
              <a:avLst/>
              <a:gdLst>
                <a:gd name="textAreaLeft" fmla="*/ 0 w 11160"/>
                <a:gd name="textAreaRight" fmla="*/ 11520 w 11160"/>
                <a:gd name="textAreaTop" fmla="*/ 0 h 16200"/>
                <a:gd name="textAreaBottom" fmla="*/ 16560 h 16200"/>
              </a:gdLst>
              <a:ahLst/>
              <a:rect l="textAreaLeft" t="textAreaTop" r="textAreaRight" b="textAreaBottom"/>
              <a:pathLst>
                <a:path w="19" h="24">
                  <a:moveTo>
                    <a:pt x="19" y="19"/>
                  </a:moveTo>
                  <a:lnTo>
                    <a:pt x="5" y="24"/>
                  </a:lnTo>
                  <a:lnTo>
                    <a:pt x="0" y="5"/>
                  </a:lnTo>
                  <a:lnTo>
                    <a:pt x="14" y="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1795"/>
            <p:cNvSpPr/>
            <p:nvPr/>
          </p:nvSpPr>
          <p:spPr>
            <a:xfrm>
              <a:off x="7661520" y="2263320"/>
              <a:ext cx="23400" cy="60120"/>
            </a:xfrm>
            <a:custGeom>
              <a:avLst/>
              <a:gdLst>
                <a:gd name="textAreaLeft" fmla="*/ 0 w 23400"/>
                <a:gd name="textAreaRight" fmla="*/ 23760 w 234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42" h="90">
                  <a:moveTo>
                    <a:pt x="42" y="85"/>
                  </a:moveTo>
                  <a:lnTo>
                    <a:pt x="24" y="90"/>
                  </a:lnTo>
                  <a:lnTo>
                    <a:pt x="0" y="0"/>
                  </a:lnTo>
                  <a:lnTo>
                    <a:pt x="19" y="0"/>
                  </a:lnTo>
                  <a:lnTo>
                    <a:pt x="42" y="85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1796"/>
            <p:cNvSpPr/>
            <p:nvPr/>
          </p:nvSpPr>
          <p:spPr>
            <a:xfrm>
              <a:off x="7677360" y="2331720"/>
              <a:ext cx="13320" cy="151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4" h="24">
                  <a:moveTo>
                    <a:pt x="24" y="19"/>
                  </a:moveTo>
                  <a:lnTo>
                    <a:pt x="5" y="24"/>
                  </a:lnTo>
                  <a:lnTo>
                    <a:pt x="0" y="5"/>
                  </a:lnTo>
                  <a:lnTo>
                    <a:pt x="19" y="0"/>
                  </a:lnTo>
                  <a:lnTo>
                    <a:pt x="24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1797"/>
            <p:cNvSpPr/>
            <p:nvPr/>
          </p:nvSpPr>
          <p:spPr>
            <a:xfrm>
              <a:off x="7683120" y="2356920"/>
              <a:ext cx="10800" cy="14400"/>
            </a:xfrm>
            <a:custGeom>
              <a:avLst/>
              <a:gdLst>
                <a:gd name="textAreaLeft" fmla="*/ 0 w 10800"/>
                <a:gd name="textAreaRight" fmla="*/ 11160 w 10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9" h="23">
                  <a:moveTo>
                    <a:pt x="19" y="19"/>
                  </a:moveTo>
                  <a:lnTo>
                    <a:pt x="4" y="23"/>
                  </a:lnTo>
                  <a:lnTo>
                    <a:pt x="0" y="4"/>
                  </a:lnTo>
                  <a:lnTo>
                    <a:pt x="19" y="0"/>
                  </a:lnTo>
                  <a:lnTo>
                    <a:pt x="19" y="19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1798"/>
            <p:cNvSpPr/>
            <p:nvPr/>
          </p:nvSpPr>
          <p:spPr>
            <a:xfrm>
              <a:off x="7688160" y="2378160"/>
              <a:ext cx="19080" cy="471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3" h="71">
                  <a:moveTo>
                    <a:pt x="33" y="66"/>
                  </a:moveTo>
                  <a:lnTo>
                    <a:pt x="14" y="0"/>
                  </a:lnTo>
                  <a:lnTo>
                    <a:pt x="0" y="5"/>
                  </a:lnTo>
                  <a:lnTo>
                    <a:pt x="14" y="71"/>
                  </a:lnTo>
                  <a:lnTo>
                    <a:pt x="33" y="66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1799"/>
            <p:cNvSpPr/>
            <p:nvPr/>
          </p:nvSpPr>
          <p:spPr>
            <a:xfrm>
              <a:off x="1573920" y="2617200"/>
              <a:ext cx="1595160" cy="950760"/>
            </a:xfrm>
            <a:custGeom>
              <a:avLst/>
              <a:gdLst>
                <a:gd name="textAreaLeft" fmla="*/ 0 w 1595160"/>
                <a:gd name="textAreaRight" fmla="*/ 1595520 w 159516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2724" h="1449">
                  <a:moveTo>
                    <a:pt x="2521" y="723"/>
                  </a:moveTo>
                  <a:lnTo>
                    <a:pt x="2587" y="708"/>
                  </a:lnTo>
                  <a:lnTo>
                    <a:pt x="2620" y="690"/>
                  </a:lnTo>
                  <a:lnTo>
                    <a:pt x="2686" y="661"/>
                  </a:lnTo>
                  <a:lnTo>
                    <a:pt x="2696" y="656"/>
                  </a:lnTo>
                  <a:lnTo>
                    <a:pt x="2705" y="647"/>
                  </a:lnTo>
                  <a:lnTo>
                    <a:pt x="2710" y="633"/>
                  </a:lnTo>
                  <a:lnTo>
                    <a:pt x="2715" y="623"/>
                  </a:lnTo>
                  <a:lnTo>
                    <a:pt x="2719" y="590"/>
                  </a:lnTo>
                  <a:lnTo>
                    <a:pt x="2724" y="557"/>
                  </a:lnTo>
                  <a:lnTo>
                    <a:pt x="2724" y="524"/>
                  </a:lnTo>
                  <a:lnTo>
                    <a:pt x="2715" y="496"/>
                  </a:lnTo>
                  <a:lnTo>
                    <a:pt x="2696" y="468"/>
                  </a:lnTo>
                  <a:lnTo>
                    <a:pt x="2672" y="439"/>
                  </a:lnTo>
                  <a:lnTo>
                    <a:pt x="2653" y="416"/>
                  </a:lnTo>
                  <a:lnTo>
                    <a:pt x="2634" y="402"/>
                  </a:lnTo>
                  <a:lnTo>
                    <a:pt x="2620" y="392"/>
                  </a:lnTo>
                  <a:lnTo>
                    <a:pt x="2601" y="387"/>
                  </a:lnTo>
                  <a:lnTo>
                    <a:pt x="2573" y="378"/>
                  </a:lnTo>
                  <a:lnTo>
                    <a:pt x="2554" y="373"/>
                  </a:lnTo>
                  <a:lnTo>
                    <a:pt x="2530" y="364"/>
                  </a:lnTo>
                  <a:lnTo>
                    <a:pt x="2502" y="340"/>
                  </a:lnTo>
                  <a:lnTo>
                    <a:pt x="2483" y="317"/>
                  </a:lnTo>
                  <a:lnTo>
                    <a:pt x="2474" y="298"/>
                  </a:lnTo>
                  <a:lnTo>
                    <a:pt x="2474" y="274"/>
                  </a:lnTo>
                  <a:lnTo>
                    <a:pt x="2464" y="241"/>
                  </a:lnTo>
                  <a:lnTo>
                    <a:pt x="2460" y="203"/>
                  </a:lnTo>
                  <a:lnTo>
                    <a:pt x="2460" y="180"/>
                  </a:lnTo>
                  <a:lnTo>
                    <a:pt x="2464" y="161"/>
                  </a:lnTo>
                  <a:lnTo>
                    <a:pt x="2464" y="156"/>
                  </a:lnTo>
                  <a:lnTo>
                    <a:pt x="2493" y="137"/>
                  </a:lnTo>
                  <a:lnTo>
                    <a:pt x="2545" y="85"/>
                  </a:lnTo>
                  <a:lnTo>
                    <a:pt x="2554" y="71"/>
                  </a:lnTo>
                  <a:lnTo>
                    <a:pt x="2554" y="62"/>
                  </a:lnTo>
                  <a:lnTo>
                    <a:pt x="2549" y="52"/>
                  </a:lnTo>
                  <a:lnTo>
                    <a:pt x="2540" y="43"/>
                  </a:lnTo>
                  <a:lnTo>
                    <a:pt x="2521" y="33"/>
                  </a:lnTo>
                  <a:lnTo>
                    <a:pt x="2511" y="33"/>
                  </a:lnTo>
                  <a:lnTo>
                    <a:pt x="2497" y="29"/>
                  </a:lnTo>
                  <a:lnTo>
                    <a:pt x="2441" y="5"/>
                  </a:lnTo>
                  <a:lnTo>
                    <a:pt x="2422" y="0"/>
                  </a:lnTo>
                  <a:lnTo>
                    <a:pt x="2408" y="0"/>
                  </a:lnTo>
                  <a:lnTo>
                    <a:pt x="2398" y="0"/>
                  </a:lnTo>
                  <a:lnTo>
                    <a:pt x="2393" y="5"/>
                  </a:lnTo>
                  <a:lnTo>
                    <a:pt x="2379" y="15"/>
                  </a:lnTo>
                  <a:lnTo>
                    <a:pt x="2365" y="19"/>
                  </a:lnTo>
                  <a:lnTo>
                    <a:pt x="2266" y="33"/>
                  </a:lnTo>
                  <a:lnTo>
                    <a:pt x="2200" y="76"/>
                  </a:lnTo>
                  <a:lnTo>
                    <a:pt x="2162" y="85"/>
                  </a:lnTo>
                  <a:lnTo>
                    <a:pt x="2096" y="109"/>
                  </a:lnTo>
                  <a:lnTo>
                    <a:pt x="2072" y="118"/>
                  </a:lnTo>
                  <a:lnTo>
                    <a:pt x="2054" y="142"/>
                  </a:lnTo>
                  <a:lnTo>
                    <a:pt x="2035" y="166"/>
                  </a:lnTo>
                  <a:lnTo>
                    <a:pt x="2011" y="194"/>
                  </a:lnTo>
                  <a:lnTo>
                    <a:pt x="1987" y="222"/>
                  </a:lnTo>
                  <a:lnTo>
                    <a:pt x="1969" y="251"/>
                  </a:lnTo>
                  <a:lnTo>
                    <a:pt x="1954" y="260"/>
                  </a:lnTo>
                  <a:lnTo>
                    <a:pt x="1945" y="269"/>
                  </a:lnTo>
                  <a:lnTo>
                    <a:pt x="1926" y="279"/>
                  </a:lnTo>
                  <a:lnTo>
                    <a:pt x="1907" y="284"/>
                  </a:lnTo>
                  <a:lnTo>
                    <a:pt x="1869" y="293"/>
                  </a:lnTo>
                  <a:lnTo>
                    <a:pt x="1832" y="298"/>
                  </a:lnTo>
                  <a:lnTo>
                    <a:pt x="1789" y="302"/>
                  </a:lnTo>
                  <a:lnTo>
                    <a:pt x="1732" y="307"/>
                  </a:lnTo>
                  <a:lnTo>
                    <a:pt x="1690" y="307"/>
                  </a:lnTo>
                  <a:lnTo>
                    <a:pt x="1676" y="307"/>
                  </a:lnTo>
                  <a:lnTo>
                    <a:pt x="1666" y="307"/>
                  </a:lnTo>
                  <a:lnTo>
                    <a:pt x="1638" y="312"/>
                  </a:lnTo>
                  <a:lnTo>
                    <a:pt x="1614" y="312"/>
                  </a:lnTo>
                  <a:lnTo>
                    <a:pt x="1600" y="317"/>
                  </a:lnTo>
                  <a:lnTo>
                    <a:pt x="1591" y="326"/>
                  </a:lnTo>
                  <a:lnTo>
                    <a:pt x="1581" y="336"/>
                  </a:lnTo>
                  <a:lnTo>
                    <a:pt x="1572" y="345"/>
                  </a:lnTo>
                  <a:lnTo>
                    <a:pt x="1563" y="350"/>
                  </a:lnTo>
                  <a:lnTo>
                    <a:pt x="1548" y="359"/>
                  </a:lnTo>
                  <a:lnTo>
                    <a:pt x="1525" y="369"/>
                  </a:lnTo>
                  <a:lnTo>
                    <a:pt x="1487" y="378"/>
                  </a:lnTo>
                  <a:lnTo>
                    <a:pt x="1463" y="383"/>
                  </a:lnTo>
                  <a:lnTo>
                    <a:pt x="1440" y="383"/>
                  </a:lnTo>
                  <a:lnTo>
                    <a:pt x="1397" y="387"/>
                  </a:lnTo>
                  <a:lnTo>
                    <a:pt x="1350" y="392"/>
                  </a:lnTo>
                  <a:lnTo>
                    <a:pt x="1312" y="392"/>
                  </a:lnTo>
                  <a:lnTo>
                    <a:pt x="1284" y="387"/>
                  </a:lnTo>
                  <a:lnTo>
                    <a:pt x="1251" y="387"/>
                  </a:lnTo>
                  <a:lnTo>
                    <a:pt x="1237" y="387"/>
                  </a:lnTo>
                  <a:lnTo>
                    <a:pt x="1223" y="387"/>
                  </a:lnTo>
                  <a:lnTo>
                    <a:pt x="1213" y="392"/>
                  </a:lnTo>
                  <a:lnTo>
                    <a:pt x="1204" y="402"/>
                  </a:lnTo>
                  <a:lnTo>
                    <a:pt x="1185" y="420"/>
                  </a:lnTo>
                  <a:lnTo>
                    <a:pt x="1166" y="439"/>
                  </a:lnTo>
                  <a:lnTo>
                    <a:pt x="1142" y="487"/>
                  </a:lnTo>
                  <a:lnTo>
                    <a:pt x="1109" y="562"/>
                  </a:lnTo>
                  <a:lnTo>
                    <a:pt x="1076" y="605"/>
                  </a:lnTo>
                  <a:lnTo>
                    <a:pt x="1057" y="638"/>
                  </a:lnTo>
                  <a:lnTo>
                    <a:pt x="1034" y="671"/>
                  </a:lnTo>
                  <a:lnTo>
                    <a:pt x="1010" y="723"/>
                  </a:lnTo>
                  <a:lnTo>
                    <a:pt x="1005" y="741"/>
                  </a:lnTo>
                  <a:lnTo>
                    <a:pt x="1005" y="756"/>
                  </a:lnTo>
                  <a:lnTo>
                    <a:pt x="1010" y="770"/>
                  </a:lnTo>
                  <a:lnTo>
                    <a:pt x="1020" y="779"/>
                  </a:lnTo>
                  <a:lnTo>
                    <a:pt x="1048" y="798"/>
                  </a:lnTo>
                  <a:lnTo>
                    <a:pt x="1086" y="817"/>
                  </a:lnTo>
                  <a:lnTo>
                    <a:pt x="1100" y="831"/>
                  </a:lnTo>
                  <a:lnTo>
                    <a:pt x="1109" y="841"/>
                  </a:lnTo>
                  <a:lnTo>
                    <a:pt x="1114" y="850"/>
                  </a:lnTo>
                  <a:lnTo>
                    <a:pt x="1109" y="855"/>
                  </a:lnTo>
                  <a:lnTo>
                    <a:pt x="1105" y="869"/>
                  </a:lnTo>
                  <a:lnTo>
                    <a:pt x="1095" y="888"/>
                  </a:lnTo>
                  <a:lnTo>
                    <a:pt x="1100" y="944"/>
                  </a:lnTo>
                  <a:lnTo>
                    <a:pt x="1100" y="982"/>
                  </a:lnTo>
                  <a:lnTo>
                    <a:pt x="1048" y="992"/>
                  </a:lnTo>
                  <a:lnTo>
                    <a:pt x="1020" y="968"/>
                  </a:lnTo>
                  <a:lnTo>
                    <a:pt x="963" y="926"/>
                  </a:lnTo>
                  <a:lnTo>
                    <a:pt x="944" y="911"/>
                  </a:lnTo>
                  <a:lnTo>
                    <a:pt x="925" y="907"/>
                  </a:lnTo>
                  <a:lnTo>
                    <a:pt x="916" y="911"/>
                  </a:lnTo>
                  <a:lnTo>
                    <a:pt x="916" y="916"/>
                  </a:lnTo>
                  <a:lnTo>
                    <a:pt x="911" y="930"/>
                  </a:lnTo>
                  <a:lnTo>
                    <a:pt x="887" y="973"/>
                  </a:lnTo>
                  <a:lnTo>
                    <a:pt x="878" y="987"/>
                  </a:lnTo>
                  <a:lnTo>
                    <a:pt x="869" y="992"/>
                  </a:lnTo>
                  <a:lnTo>
                    <a:pt x="854" y="996"/>
                  </a:lnTo>
                  <a:lnTo>
                    <a:pt x="835" y="996"/>
                  </a:lnTo>
                  <a:lnTo>
                    <a:pt x="821" y="992"/>
                  </a:lnTo>
                  <a:lnTo>
                    <a:pt x="802" y="982"/>
                  </a:lnTo>
                  <a:lnTo>
                    <a:pt x="784" y="968"/>
                  </a:lnTo>
                  <a:lnTo>
                    <a:pt x="765" y="954"/>
                  </a:lnTo>
                  <a:lnTo>
                    <a:pt x="750" y="940"/>
                  </a:lnTo>
                  <a:lnTo>
                    <a:pt x="736" y="935"/>
                  </a:lnTo>
                  <a:lnTo>
                    <a:pt x="727" y="940"/>
                  </a:lnTo>
                  <a:lnTo>
                    <a:pt x="722" y="949"/>
                  </a:lnTo>
                  <a:lnTo>
                    <a:pt x="717" y="973"/>
                  </a:lnTo>
                  <a:lnTo>
                    <a:pt x="717" y="982"/>
                  </a:lnTo>
                  <a:lnTo>
                    <a:pt x="694" y="992"/>
                  </a:lnTo>
                  <a:lnTo>
                    <a:pt x="642" y="1001"/>
                  </a:lnTo>
                  <a:lnTo>
                    <a:pt x="632" y="1001"/>
                  </a:lnTo>
                  <a:lnTo>
                    <a:pt x="628" y="1006"/>
                  </a:lnTo>
                  <a:lnTo>
                    <a:pt x="623" y="1010"/>
                  </a:lnTo>
                  <a:lnTo>
                    <a:pt x="628" y="1015"/>
                  </a:lnTo>
                  <a:lnTo>
                    <a:pt x="628" y="1034"/>
                  </a:lnTo>
                  <a:lnTo>
                    <a:pt x="628" y="1058"/>
                  </a:lnTo>
                  <a:lnTo>
                    <a:pt x="604" y="1086"/>
                  </a:lnTo>
                  <a:lnTo>
                    <a:pt x="576" y="1119"/>
                  </a:lnTo>
                  <a:lnTo>
                    <a:pt x="566" y="1143"/>
                  </a:lnTo>
                  <a:lnTo>
                    <a:pt x="566" y="1162"/>
                  </a:lnTo>
                  <a:lnTo>
                    <a:pt x="562" y="1176"/>
                  </a:lnTo>
                  <a:lnTo>
                    <a:pt x="547" y="1199"/>
                  </a:lnTo>
                  <a:lnTo>
                    <a:pt x="533" y="1209"/>
                  </a:lnTo>
                  <a:lnTo>
                    <a:pt x="524" y="1213"/>
                  </a:lnTo>
                  <a:lnTo>
                    <a:pt x="510" y="1218"/>
                  </a:lnTo>
                  <a:lnTo>
                    <a:pt x="500" y="1218"/>
                  </a:lnTo>
                  <a:lnTo>
                    <a:pt x="472" y="1218"/>
                  </a:lnTo>
                  <a:lnTo>
                    <a:pt x="444" y="1218"/>
                  </a:lnTo>
                  <a:lnTo>
                    <a:pt x="425" y="1223"/>
                  </a:lnTo>
                  <a:lnTo>
                    <a:pt x="420" y="1232"/>
                  </a:lnTo>
                  <a:lnTo>
                    <a:pt x="420" y="1242"/>
                  </a:lnTo>
                  <a:lnTo>
                    <a:pt x="411" y="1261"/>
                  </a:lnTo>
                  <a:lnTo>
                    <a:pt x="401" y="1270"/>
                  </a:lnTo>
                  <a:lnTo>
                    <a:pt x="387" y="1279"/>
                  </a:lnTo>
                  <a:lnTo>
                    <a:pt x="373" y="1284"/>
                  </a:lnTo>
                  <a:lnTo>
                    <a:pt x="354" y="1284"/>
                  </a:lnTo>
                  <a:lnTo>
                    <a:pt x="335" y="1284"/>
                  </a:lnTo>
                  <a:lnTo>
                    <a:pt x="321" y="1279"/>
                  </a:lnTo>
                  <a:lnTo>
                    <a:pt x="302" y="1270"/>
                  </a:lnTo>
                  <a:lnTo>
                    <a:pt x="288" y="1261"/>
                  </a:lnTo>
                  <a:lnTo>
                    <a:pt x="278" y="1256"/>
                  </a:lnTo>
                  <a:lnTo>
                    <a:pt x="269" y="1251"/>
                  </a:lnTo>
                  <a:lnTo>
                    <a:pt x="264" y="1251"/>
                  </a:lnTo>
                  <a:lnTo>
                    <a:pt x="259" y="1256"/>
                  </a:lnTo>
                  <a:lnTo>
                    <a:pt x="250" y="1265"/>
                  </a:lnTo>
                  <a:lnTo>
                    <a:pt x="236" y="1284"/>
                  </a:lnTo>
                  <a:lnTo>
                    <a:pt x="217" y="1294"/>
                  </a:lnTo>
                  <a:lnTo>
                    <a:pt x="203" y="1294"/>
                  </a:lnTo>
                  <a:lnTo>
                    <a:pt x="189" y="1294"/>
                  </a:lnTo>
                  <a:lnTo>
                    <a:pt x="170" y="1294"/>
                  </a:lnTo>
                  <a:lnTo>
                    <a:pt x="137" y="1313"/>
                  </a:lnTo>
                  <a:lnTo>
                    <a:pt x="118" y="1327"/>
                  </a:lnTo>
                  <a:lnTo>
                    <a:pt x="104" y="1350"/>
                  </a:lnTo>
                  <a:lnTo>
                    <a:pt x="80" y="1416"/>
                  </a:lnTo>
                  <a:lnTo>
                    <a:pt x="71" y="1435"/>
                  </a:lnTo>
                  <a:lnTo>
                    <a:pt x="61" y="1445"/>
                  </a:lnTo>
                  <a:lnTo>
                    <a:pt x="47" y="1449"/>
                  </a:lnTo>
                  <a:lnTo>
                    <a:pt x="33" y="1449"/>
                  </a:lnTo>
                  <a:lnTo>
                    <a:pt x="9" y="1445"/>
                  </a:lnTo>
                  <a:lnTo>
                    <a:pt x="0" y="144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1800"/>
            <p:cNvSpPr/>
            <p:nvPr/>
          </p:nvSpPr>
          <p:spPr>
            <a:xfrm>
              <a:off x="2783880" y="2526840"/>
              <a:ext cx="785520" cy="898560"/>
            </a:xfrm>
            <a:custGeom>
              <a:avLst/>
              <a:gdLst>
                <a:gd name="textAreaLeft" fmla="*/ 0 w 785520"/>
                <a:gd name="textAreaRight" fmla="*/ 785880 w 785520"/>
                <a:gd name="textAreaTop" fmla="*/ 0 h 898560"/>
                <a:gd name="textAreaBottom" fmla="*/ 898920 h 898560"/>
              </a:gdLst>
              <a:ahLst/>
              <a:rect l="textAreaLeft" t="textAreaTop" r="textAreaRight" b="textAreaBottom"/>
              <a:pathLst>
                <a:path w="1341" h="1369">
                  <a:moveTo>
                    <a:pt x="1232" y="0"/>
                  </a:moveTo>
                  <a:lnTo>
                    <a:pt x="1242" y="5"/>
                  </a:lnTo>
                  <a:lnTo>
                    <a:pt x="1256" y="19"/>
                  </a:lnTo>
                  <a:lnTo>
                    <a:pt x="1265" y="29"/>
                  </a:lnTo>
                  <a:lnTo>
                    <a:pt x="1270" y="38"/>
                  </a:lnTo>
                  <a:lnTo>
                    <a:pt x="1275" y="52"/>
                  </a:lnTo>
                  <a:lnTo>
                    <a:pt x="1275" y="66"/>
                  </a:lnTo>
                  <a:lnTo>
                    <a:pt x="1275" y="95"/>
                  </a:lnTo>
                  <a:lnTo>
                    <a:pt x="1265" y="118"/>
                  </a:lnTo>
                  <a:lnTo>
                    <a:pt x="1265" y="147"/>
                  </a:lnTo>
                  <a:lnTo>
                    <a:pt x="1265" y="189"/>
                  </a:lnTo>
                  <a:lnTo>
                    <a:pt x="1270" y="232"/>
                  </a:lnTo>
                  <a:lnTo>
                    <a:pt x="1275" y="255"/>
                  </a:lnTo>
                  <a:lnTo>
                    <a:pt x="1279" y="279"/>
                  </a:lnTo>
                  <a:lnTo>
                    <a:pt x="1298" y="307"/>
                  </a:lnTo>
                  <a:lnTo>
                    <a:pt x="1322" y="335"/>
                  </a:lnTo>
                  <a:lnTo>
                    <a:pt x="1336" y="354"/>
                  </a:lnTo>
                  <a:lnTo>
                    <a:pt x="1341" y="364"/>
                  </a:lnTo>
                  <a:lnTo>
                    <a:pt x="1341" y="373"/>
                  </a:lnTo>
                  <a:lnTo>
                    <a:pt x="1341" y="383"/>
                  </a:lnTo>
                  <a:lnTo>
                    <a:pt x="1336" y="397"/>
                  </a:lnTo>
                  <a:lnTo>
                    <a:pt x="1322" y="420"/>
                  </a:lnTo>
                  <a:lnTo>
                    <a:pt x="1317" y="439"/>
                  </a:lnTo>
                  <a:lnTo>
                    <a:pt x="1312" y="458"/>
                  </a:lnTo>
                  <a:lnTo>
                    <a:pt x="1317" y="496"/>
                  </a:lnTo>
                  <a:lnTo>
                    <a:pt x="1331" y="534"/>
                  </a:lnTo>
                  <a:lnTo>
                    <a:pt x="1341" y="562"/>
                  </a:lnTo>
                  <a:lnTo>
                    <a:pt x="1341" y="571"/>
                  </a:lnTo>
                  <a:lnTo>
                    <a:pt x="1341" y="586"/>
                  </a:lnTo>
                  <a:lnTo>
                    <a:pt x="1336" y="595"/>
                  </a:lnTo>
                  <a:lnTo>
                    <a:pt x="1326" y="604"/>
                  </a:lnTo>
                  <a:lnTo>
                    <a:pt x="1312" y="619"/>
                  </a:lnTo>
                  <a:lnTo>
                    <a:pt x="1317" y="619"/>
                  </a:lnTo>
                  <a:lnTo>
                    <a:pt x="1322" y="619"/>
                  </a:lnTo>
                  <a:lnTo>
                    <a:pt x="1322" y="628"/>
                  </a:lnTo>
                  <a:lnTo>
                    <a:pt x="1322" y="642"/>
                  </a:lnTo>
                  <a:lnTo>
                    <a:pt x="1317" y="671"/>
                  </a:lnTo>
                  <a:lnTo>
                    <a:pt x="1303" y="727"/>
                  </a:lnTo>
                  <a:lnTo>
                    <a:pt x="1284" y="765"/>
                  </a:lnTo>
                  <a:lnTo>
                    <a:pt x="1275" y="779"/>
                  </a:lnTo>
                  <a:lnTo>
                    <a:pt x="1265" y="789"/>
                  </a:lnTo>
                  <a:lnTo>
                    <a:pt x="1256" y="789"/>
                  </a:lnTo>
                  <a:lnTo>
                    <a:pt x="1246" y="789"/>
                  </a:lnTo>
                  <a:lnTo>
                    <a:pt x="1227" y="774"/>
                  </a:lnTo>
                  <a:lnTo>
                    <a:pt x="1213" y="765"/>
                  </a:lnTo>
                  <a:lnTo>
                    <a:pt x="1208" y="765"/>
                  </a:lnTo>
                  <a:lnTo>
                    <a:pt x="1199" y="770"/>
                  </a:lnTo>
                  <a:lnTo>
                    <a:pt x="1185" y="774"/>
                  </a:lnTo>
                  <a:lnTo>
                    <a:pt x="1171" y="789"/>
                  </a:lnTo>
                  <a:lnTo>
                    <a:pt x="1152" y="798"/>
                  </a:lnTo>
                  <a:lnTo>
                    <a:pt x="1142" y="798"/>
                  </a:lnTo>
                  <a:lnTo>
                    <a:pt x="1133" y="798"/>
                  </a:lnTo>
                  <a:lnTo>
                    <a:pt x="1123" y="793"/>
                  </a:lnTo>
                  <a:lnTo>
                    <a:pt x="1119" y="793"/>
                  </a:lnTo>
                  <a:lnTo>
                    <a:pt x="1114" y="803"/>
                  </a:lnTo>
                  <a:lnTo>
                    <a:pt x="1105" y="822"/>
                  </a:lnTo>
                  <a:lnTo>
                    <a:pt x="1090" y="859"/>
                  </a:lnTo>
                  <a:lnTo>
                    <a:pt x="1076" y="897"/>
                  </a:lnTo>
                  <a:lnTo>
                    <a:pt x="1062" y="925"/>
                  </a:lnTo>
                  <a:lnTo>
                    <a:pt x="1048" y="944"/>
                  </a:lnTo>
                  <a:lnTo>
                    <a:pt x="1038" y="958"/>
                  </a:lnTo>
                  <a:lnTo>
                    <a:pt x="1020" y="968"/>
                  </a:lnTo>
                  <a:lnTo>
                    <a:pt x="1001" y="973"/>
                  </a:lnTo>
                  <a:lnTo>
                    <a:pt x="972" y="982"/>
                  </a:lnTo>
                  <a:lnTo>
                    <a:pt x="944" y="996"/>
                  </a:lnTo>
                  <a:lnTo>
                    <a:pt x="920" y="1010"/>
                  </a:lnTo>
                  <a:lnTo>
                    <a:pt x="897" y="1034"/>
                  </a:lnTo>
                  <a:lnTo>
                    <a:pt x="864" y="1058"/>
                  </a:lnTo>
                  <a:lnTo>
                    <a:pt x="821" y="1081"/>
                  </a:lnTo>
                  <a:lnTo>
                    <a:pt x="779" y="1095"/>
                  </a:lnTo>
                  <a:lnTo>
                    <a:pt x="765" y="1105"/>
                  </a:lnTo>
                  <a:lnTo>
                    <a:pt x="760" y="1091"/>
                  </a:lnTo>
                  <a:lnTo>
                    <a:pt x="755" y="1072"/>
                  </a:lnTo>
                  <a:lnTo>
                    <a:pt x="746" y="1062"/>
                  </a:lnTo>
                  <a:lnTo>
                    <a:pt x="736" y="1058"/>
                  </a:lnTo>
                  <a:lnTo>
                    <a:pt x="722" y="1058"/>
                  </a:lnTo>
                  <a:lnTo>
                    <a:pt x="703" y="1067"/>
                  </a:lnTo>
                  <a:lnTo>
                    <a:pt x="656" y="1072"/>
                  </a:lnTo>
                  <a:lnTo>
                    <a:pt x="618" y="1076"/>
                  </a:lnTo>
                  <a:lnTo>
                    <a:pt x="595" y="1091"/>
                  </a:lnTo>
                  <a:lnTo>
                    <a:pt x="566" y="1100"/>
                  </a:lnTo>
                  <a:lnTo>
                    <a:pt x="552" y="1105"/>
                  </a:lnTo>
                  <a:lnTo>
                    <a:pt x="538" y="1114"/>
                  </a:lnTo>
                  <a:lnTo>
                    <a:pt x="524" y="1128"/>
                  </a:lnTo>
                  <a:lnTo>
                    <a:pt x="500" y="1152"/>
                  </a:lnTo>
                  <a:lnTo>
                    <a:pt x="467" y="1190"/>
                  </a:lnTo>
                  <a:lnTo>
                    <a:pt x="448" y="1213"/>
                  </a:lnTo>
                  <a:lnTo>
                    <a:pt x="444" y="1232"/>
                  </a:lnTo>
                  <a:lnTo>
                    <a:pt x="444" y="1256"/>
                  </a:lnTo>
                  <a:lnTo>
                    <a:pt x="439" y="1275"/>
                  </a:lnTo>
                  <a:lnTo>
                    <a:pt x="429" y="1294"/>
                  </a:lnTo>
                  <a:lnTo>
                    <a:pt x="415" y="1312"/>
                  </a:lnTo>
                  <a:lnTo>
                    <a:pt x="401" y="1327"/>
                  </a:lnTo>
                  <a:lnTo>
                    <a:pt x="387" y="1341"/>
                  </a:lnTo>
                  <a:lnTo>
                    <a:pt x="368" y="1350"/>
                  </a:lnTo>
                  <a:lnTo>
                    <a:pt x="354" y="1355"/>
                  </a:lnTo>
                  <a:lnTo>
                    <a:pt x="340" y="1355"/>
                  </a:lnTo>
                  <a:lnTo>
                    <a:pt x="326" y="1345"/>
                  </a:lnTo>
                  <a:lnTo>
                    <a:pt x="307" y="1331"/>
                  </a:lnTo>
                  <a:lnTo>
                    <a:pt x="297" y="1331"/>
                  </a:lnTo>
                  <a:lnTo>
                    <a:pt x="283" y="1331"/>
                  </a:lnTo>
                  <a:lnTo>
                    <a:pt x="269" y="1336"/>
                  </a:lnTo>
                  <a:lnTo>
                    <a:pt x="250" y="1350"/>
                  </a:lnTo>
                  <a:lnTo>
                    <a:pt x="226" y="1360"/>
                  </a:lnTo>
                  <a:lnTo>
                    <a:pt x="203" y="1369"/>
                  </a:lnTo>
                  <a:lnTo>
                    <a:pt x="175" y="1369"/>
                  </a:lnTo>
                  <a:lnTo>
                    <a:pt x="151" y="1364"/>
                  </a:lnTo>
                  <a:lnTo>
                    <a:pt x="113" y="1355"/>
                  </a:lnTo>
                  <a:lnTo>
                    <a:pt x="99" y="1350"/>
                  </a:lnTo>
                  <a:lnTo>
                    <a:pt x="0" y="1284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801"/>
            <p:cNvSpPr/>
            <p:nvPr/>
          </p:nvSpPr>
          <p:spPr>
            <a:xfrm>
              <a:off x="1459080" y="2616480"/>
              <a:ext cx="345960" cy="71316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13160"/>
                <a:gd name="textAreaBottom" fmla="*/ 713160 h 713160"/>
              </a:gdLst>
              <a:ahLst/>
              <a:rect l="textAreaLeft" t="textAreaTop" r="textAreaRight" b="textAreaBottom"/>
              <a:pathLst>
                <a:path w="591" h="1086">
                  <a:moveTo>
                    <a:pt x="0" y="1086"/>
                  </a:moveTo>
                  <a:lnTo>
                    <a:pt x="10" y="1076"/>
                  </a:lnTo>
                  <a:lnTo>
                    <a:pt x="33" y="1048"/>
                  </a:lnTo>
                  <a:lnTo>
                    <a:pt x="62" y="1010"/>
                  </a:lnTo>
                  <a:lnTo>
                    <a:pt x="85" y="968"/>
                  </a:lnTo>
                  <a:lnTo>
                    <a:pt x="100" y="930"/>
                  </a:lnTo>
                  <a:lnTo>
                    <a:pt x="109" y="906"/>
                  </a:lnTo>
                  <a:lnTo>
                    <a:pt x="118" y="878"/>
                  </a:lnTo>
                  <a:lnTo>
                    <a:pt x="123" y="845"/>
                  </a:lnTo>
                  <a:lnTo>
                    <a:pt x="128" y="798"/>
                  </a:lnTo>
                  <a:lnTo>
                    <a:pt x="133" y="760"/>
                  </a:lnTo>
                  <a:lnTo>
                    <a:pt x="137" y="727"/>
                  </a:lnTo>
                  <a:lnTo>
                    <a:pt x="142" y="689"/>
                  </a:lnTo>
                  <a:lnTo>
                    <a:pt x="151" y="652"/>
                  </a:lnTo>
                  <a:lnTo>
                    <a:pt x="156" y="623"/>
                  </a:lnTo>
                  <a:lnTo>
                    <a:pt x="166" y="585"/>
                  </a:lnTo>
                  <a:lnTo>
                    <a:pt x="175" y="538"/>
                  </a:lnTo>
                  <a:lnTo>
                    <a:pt x="175" y="491"/>
                  </a:lnTo>
                  <a:lnTo>
                    <a:pt x="175" y="463"/>
                  </a:lnTo>
                  <a:lnTo>
                    <a:pt x="175" y="449"/>
                  </a:lnTo>
                  <a:lnTo>
                    <a:pt x="175" y="434"/>
                  </a:lnTo>
                  <a:lnTo>
                    <a:pt x="180" y="420"/>
                  </a:lnTo>
                  <a:lnTo>
                    <a:pt x="194" y="406"/>
                  </a:lnTo>
                  <a:lnTo>
                    <a:pt x="218" y="378"/>
                  </a:lnTo>
                  <a:lnTo>
                    <a:pt x="232" y="359"/>
                  </a:lnTo>
                  <a:lnTo>
                    <a:pt x="241" y="345"/>
                  </a:lnTo>
                  <a:lnTo>
                    <a:pt x="246" y="321"/>
                  </a:lnTo>
                  <a:lnTo>
                    <a:pt x="241" y="293"/>
                  </a:lnTo>
                  <a:lnTo>
                    <a:pt x="236" y="265"/>
                  </a:lnTo>
                  <a:lnTo>
                    <a:pt x="236" y="255"/>
                  </a:lnTo>
                  <a:lnTo>
                    <a:pt x="236" y="246"/>
                  </a:lnTo>
                  <a:lnTo>
                    <a:pt x="246" y="231"/>
                  </a:lnTo>
                  <a:lnTo>
                    <a:pt x="260" y="217"/>
                  </a:lnTo>
                  <a:lnTo>
                    <a:pt x="293" y="184"/>
                  </a:lnTo>
                  <a:lnTo>
                    <a:pt x="321" y="170"/>
                  </a:lnTo>
                  <a:lnTo>
                    <a:pt x="336" y="128"/>
                  </a:lnTo>
                  <a:lnTo>
                    <a:pt x="359" y="90"/>
                  </a:lnTo>
                  <a:lnTo>
                    <a:pt x="392" y="80"/>
                  </a:lnTo>
                  <a:lnTo>
                    <a:pt x="430" y="76"/>
                  </a:lnTo>
                  <a:lnTo>
                    <a:pt x="491" y="52"/>
                  </a:lnTo>
                  <a:lnTo>
                    <a:pt x="510" y="43"/>
                  </a:lnTo>
                  <a:lnTo>
                    <a:pt x="591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1802"/>
            <p:cNvSpPr/>
            <p:nvPr/>
          </p:nvSpPr>
          <p:spPr>
            <a:xfrm>
              <a:off x="1009080" y="3237120"/>
              <a:ext cx="131760" cy="1183320"/>
            </a:xfrm>
            <a:custGeom>
              <a:avLst/>
              <a:gdLst>
                <a:gd name="textAreaLeft" fmla="*/ 0 w 131760"/>
                <a:gd name="textAreaRight" fmla="*/ 132120 w 131760"/>
                <a:gd name="textAreaTop" fmla="*/ 0 h 1183320"/>
                <a:gd name="textAreaBottom" fmla="*/ 1183680 h 1183320"/>
              </a:gdLst>
              <a:ahLst/>
              <a:rect l="textAreaLeft" t="textAreaTop" r="textAreaRight" b="textAreaBottom"/>
              <a:pathLst>
                <a:path w="226" h="1803">
                  <a:moveTo>
                    <a:pt x="28" y="0"/>
                  </a:moveTo>
                  <a:lnTo>
                    <a:pt x="28" y="19"/>
                  </a:lnTo>
                  <a:lnTo>
                    <a:pt x="19" y="33"/>
                  </a:lnTo>
                  <a:lnTo>
                    <a:pt x="19" y="43"/>
                  </a:lnTo>
                  <a:lnTo>
                    <a:pt x="19" y="47"/>
                  </a:lnTo>
                  <a:lnTo>
                    <a:pt x="19" y="57"/>
                  </a:lnTo>
                  <a:lnTo>
                    <a:pt x="23" y="71"/>
                  </a:lnTo>
                  <a:lnTo>
                    <a:pt x="56" y="123"/>
                  </a:lnTo>
                  <a:lnTo>
                    <a:pt x="66" y="151"/>
                  </a:lnTo>
                  <a:lnTo>
                    <a:pt x="90" y="208"/>
                  </a:lnTo>
                  <a:lnTo>
                    <a:pt x="137" y="246"/>
                  </a:lnTo>
                  <a:lnTo>
                    <a:pt x="160" y="279"/>
                  </a:lnTo>
                  <a:lnTo>
                    <a:pt x="156" y="279"/>
                  </a:lnTo>
                  <a:lnTo>
                    <a:pt x="146" y="288"/>
                  </a:lnTo>
                  <a:lnTo>
                    <a:pt x="141" y="293"/>
                  </a:lnTo>
                  <a:lnTo>
                    <a:pt x="137" y="298"/>
                  </a:lnTo>
                  <a:lnTo>
                    <a:pt x="137" y="307"/>
                  </a:lnTo>
                  <a:lnTo>
                    <a:pt x="141" y="321"/>
                  </a:lnTo>
                  <a:lnTo>
                    <a:pt x="156" y="345"/>
                  </a:lnTo>
                  <a:lnTo>
                    <a:pt x="175" y="364"/>
                  </a:lnTo>
                  <a:lnTo>
                    <a:pt x="175" y="373"/>
                  </a:lnTo>
                  <a:lnTo>
                    <a:pt x="175" y="378"/>
                  </a:lnTo>
                  <a:lnTo>
                    <a:pt x="170" y="382"/>
                  </a:lnTo>
                  <a:lnTo>
                    <a:pt x="160" y="392"/>
                  </a:lnTo>
                  <a:lnTo>
                    <a:pt x="132" y="401"/>
                  </a:lnTo>
                  <a:lnTo>
                    <a:pt x="108" y="406"/>
                  </a:lnTo>
                  <a:lnTo>
                    <a:pt x="104" y="406"/>
                  </a:lnTo>
                  <a:lnTo>
                    <a:pt x="94" y="416"/>
                  </a:lnTo>
                  <a:lnTo>
                    <a:pt x="90" y="420"/>
                  </a:lnTo>
                  <a:lnTo>
                    <a:pt x="90" y="434"/>
                  </a:lnTo>
                  <a:lnTo>
                    <a:pt x="80" y="472"/>
                  </a:lnTo>
                  <a:lnTo>
                    <a:pt x="80" y="510"/>
                  </a:lnTo>
                  <a:lnTo>
                    <a:pt x="75" y="529"/>
                  </a:lnTo>
                  <a:lnTo>
                    <a:pt x="71" y="543"/>
                  </a:lnTo>
                  <a:lnTo>
                    <a:pt x="71" y="552"/>
                  </a:lnTo>
                  <a:lnTo>
                    <a:pt x="80" y="576"/>
                  </a:lnTo>
                  <a:lnTo>
                    <a:pt x="90" y="600"/>
                  </a:lnTo>
                  <a:lnTo>
                    <a:pt x="104" y="614"/>
                  </a:lnTo>
                  <a:lnTo>
                    <a:pt x="104" y="618"/>
                  </a:lnTo>
                  <a:lnTo>
                    <a:pt x="104" y="628"/>
                  </a:lnTo>
                  <a:lnTo>
                    <a:pt x="104" y="642"/>
                  </a:lnTo>
                  <a:lnTo>
                    <a:pt x="94" y="656"/>
                  </a:lnTo>
                  <a:lnTo>
                    <a:pt x="80" y="689"/>
                  </a:lnTo>
                  <a:lnTo>
                    <a:pt x="80" y="708"/>
                  </a:lnTo>
                  <a:lnTo>
                    <a:pt x="85" y="718"/>
                  </a:lnTo>
                  <a:lnTo>
                    <a:pt x="99" y="736"/>
                  </a:lnTo>
                  <a:lnTo>
                    <a:pt x="118" y="755"/>
                  </a:lnTo>
                  <a:lnTo>
                    <a:pt x="137" y="770"/>
                  </a:lnTo>
                  <a:lnTo>
                    <a:pt x="146" y="779"/>
                  </a:lnTo>
                  <a:lnTo>
                    <a:pt x="156" y="788"/>
                  </a:lnTo>
                  <a:lnTo>
                    <a:pt x="160" y="798"/>
                  </a:lnTo>
                  <a:lnTo>
                    <a:pt x="165" y="812"/>
                  </a:lnTo>
                  <a:lnTo>
                    <a:pt x="170" y="840"/>
                  </a:lnTo>
                  <a:lnTo>
                    <a:pt x="184" y="854"/>
                  </a:lnTo>
                  <a:lnTo>
                    <a:pt x="193" y="864"/>
                  </a:lnTo>
                  <a:lnTo>
                    <a:pt x="198" y="869"/>
                  </a:lnTo>
                  <a:lnTo>
                    <a:pt x="203" y="892"/>
                  </a:lnTo>
                  <a:lnTo>
                    <a:pt x="212" y="939"/>
                  </a:lnTo>
                  <a:lnTo>
                    <a:pt x="217" y="972"/>
                  </a:lnTo>
                  <a:lnTo>
                    <a:pt x="222" y="1001"/>
                  </a:lnTo>
                  <a:lnTo>
                    <a:pt x="226" y="1029"/>
                  </a:lnTo>
                  <a:lnTo>
                    <a:pt x="217" y="1057"/>
                  </a:lnTo>
                  <a:lnTo>
                    <a:pt x="198" y="1100"/>
                  </a:lnTo>
                  <a:lnTo>
                    <a:pt x="170" y="1142"/>
                  </a:lnTo>
                  <a:lnTo>
                    <a:pt x="146" y="1180"/>
                  </a:lnTo>
                  <a:lnTo>
                    <a:pt x="127" y="1208"/>
                  </a:lnTo>
                  <a:lnTo>
                    <a:pt x="108" y="1237"/>
                  </a:lnTo>
                  <a:lnTo>
                    <a:pt x="80" y="1260"/>
                  </a:lnTo>
                  <a:lnTo>
                    <a:pt x="52" y="1279"/>
                  </a:lnTo>
                  <a:lnTo>
                    <a:pt x="28" y="1289"/>
                  </a:lnTo>
                  <a:lnTo>
                    <a:pt x="23" y="1293"/>
                  </a:lnTo>
                  <a:lnTo>
                    <a:pt x="14" y="1298"/>
                  </a:lnTo>
                  <a:lnTo>
                    <a:pt x="14" y="1308"/>
                  </a:lnTo>
                  <a:lnTo>
                    <a:pt x="9" y="1326"/>
                  </a:lnTo>
                  <a:lnTo>
                    <a:pt x="5" y="1355"/>
                  </a:lnTo>
                  <a:lnTo>
                    <a:pt x="0" y="1374"/>
                  </a:lnTo>
                  <a:lnTo>
                    <a:pt x="0" y="1393"/>
                  </a:lnTo>
                  <a:lnTo>
                    <a:pt x="14" y="1421"/>
                  </a:lnTo>
                  <a:lnTo>
                    <a:pt x="28" y="1492"/>
                  </a:lnTo>
                  <a:lnTo>
                    <a:pt x="47" y="1539"/>
                  </a:lnTo>
                  <a:lnTo>
                    <a:pt x="66" y="1553"/>
                  </a:lnTo>
                  <a:lnTo>
                    <a:pt x="80" y="1562"/>
                  </a:lnTo>
                  <a:lnTo>
                    <a:pt x="85" y="1567"/>
                  </a:lnTo>
                  <a:lnTo>
                    <a:pt x="90" y="1577"/>
                  </a:lnTo>
                  <a:lnTo>
                    <a:pt x="90" y="1586"/>
                  </a:lnTo>
                  <a:lnTo>
                    <a:pt x="90" y="1605"/>
                  </a:lnTo>
                  <a:lnTo>
                    <a:pt x="80" y="1638"/>
                  </a:lnTo>
                  <a:lnTo>
                    <a:pt x="75" y="1657"/>
                  </a:lnTo>
                  <a:lnTo>
                    <a:pt x="71" y="1671"/>
                  </a:lnTo>
                  <a:lnTo>
                    <a:pt x="71" y="1680"/>
                  </a:lnTo>
                  <a:lnTo>
                    <a:pt x="75" y="1690"/>
                  </a:lnTo>
                  <a:lnTo>
                    <a:pt x="85" y="1704"/>
                  </a:lnTo>
                  <a:lnTo>
                    <a:pt x="108" y="1770"/>
                  </a:lnTo>
                  <a:lnTo>
                    <a:pt x="118" y="180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803"/>
            <p:cNvSpPr/>
            <p:nvPr/>
          </p:nvSpPr>
          <p:spPr>
            <a:xfrm>
              <a:off x="1072440" y="3633120"/>
              <a:ext cx="411840" cy="462600"/>
            </a:xfrm>
            <a:custGeom>
              <a:avLst/>
              <a:gdLst>
                <a:gd name="textAreaLeft" fmla="*/ 0 w 411840"/>
                <a:gd name="textAreaRight" fmla="*/ 412200 w 411840"/>
                <a:gd name="textAreaTop" fmla="*/ 0 h 462600"/>
                <a:gd name="textAreaBottom" fmla="*/ 462960 h 462600"/>
              </a:gdLst>
              <a:ahLst/>
              <a:rect l="textAreaLeft" t="textAreaTop" r="textAreaRight" b="textAreaBottom"/>
              <a:pathLst>
                <a:path w="704" h="704">
                  <a:moveTo>
                    <a:pt x="0" y="29"/>
                  </a:moveTo>
                  <a:lnTo>
                    <a:pt x="81" y="38"/>
                  </a:lnTo>
                  <a:lnTo>
                    <a:pt x="123" y="0"/>
                  </a:lnTo>
                  <a:lnTo>
                    <a:pt x="152" y="5"/>
                  </a:lnTo>
                  <a:lnTo>
                    <a:pt x="194" y="14"/>
                  </a:lnTo>
                  <a:lnTo>
                    <a:pt x="208" y="14"/>
                  </a:lnTo>
                  <a:lnTo>
                    <a:pt x="218" y="14"/>
                  </a:lnTo>
                  <a:lnTo>
                    <a:pt x="232" y="14"/>
                  </a:lnTo>
                  <a:lnTo>
                    <a:pt x="260" y="24"/>
                  </a:lnTo>
                  <a:lnTo>
                    <a:pt x="303" y="38"/>
                  </a:lnTo>
                  <a:lnTo>
                    <a:pt x="340" y="62"/>
                  </a:lnTo>
                  <a:lnTo>
                    <a:pt x="392" y="95"/>
                  </a:lnTo>
                  <a:lnTo>
                    <a:pt x="411" y="104"/>
                  </a:lnTo>
                  <a:lnTo>
                    <a:pt x="435" y="147"/>
                  </a:lnTo>
                  <a:lnTo>
                    <a:pt x="439" y="147"/>
                  </a:lnTo>
                  <a:lnTo>
                    <a:pt x="449" y="156"/>
                  </a:lnTo>
                  <a:lnTo>
                    <a:pt x="458" y="170"/>
                  </a:lnTo>
                  <a:lnTo>
                    <a:pt x="463" y="194"/>
                  </a:lnTo>
                  <a:lnTo>
                    <a:pt x="449" y="227"/>
                  </a:lnTo>
                  <a:lnTo>
                    <a:pt x="439" y="241"/>
                  </a:lnTo>
                  <a:lnTo>
                    <a:pt x="444" y="241"/>
                  </a:lnTo>
                  <a:lnTo>
                    <a:pt x="458" y="241"/>
                  </a:lnTo>
                  <a:lnTo>
                    <a:pt x="463" y="241"/>
                  </a:lnTo>
                  <a:lnTo>
                    <a:pt x="468" y="246"/>
                  </a:lnTo>
                  <a:lnTo>
                    <a:pt x="468" y="260"/>
                  </a:lnTo>
                  <a:lnTo>
                    <a:pt x="468" y="274"/>
                  </a:lnTo>
                  <a:lnTo>
                    <a:pt x="458" y="302"/>
                  </a:lnTo>
                  <a:lnTo>
                    <a:pt x="449" y="321"/>
                  </a:lnTo>
                  <a:lnTo>
                    <a:pt x="449" y="331"/>
                  </a:lnTo>
                  <a:lnTo>
                    <a:pt x="449" y="335"/>
                  </a:lnTo>
                  <a:lnTo>
                    <a:pt x="454" y="345"/>
                  </a:lnTo>
                  <a:lnTo>
                    <a:pt x="468" y="354"/>
                  </a:lnTo>
                  <a:lnTo>
                    <a:pt x="496" y="364"/>
                  </a:lnTo>
                  <a:lnTo>
                    <a:pt x="510" y="368"/>
                  </a:lnTo>
                  <a:lnTo>
                    <a:pt x="515" y="373"/>
                  </a:lnTo>
                  <a:lnTo>
                    <a:pt x="520" y="378"/>
                  </a:lnTo>
                  <a:lnTo>
                    <a:pt x="524" y="387"/>
                  </a:lnTo>
                  <a:lnTo>
                    <a:pt x="524" y="402"/>
                  </a:lnTo>
                  <a:lnTo>
                    <a:pt x="539" y="463"/>
                  </a:lnTo>
                  <a:lnTo>
                    <a:pt x="543" y="486"/>
                  </a:lnTo>
                  <a:lnTo>
                    <a:pt x="553" y="496"/>
                  </a:lnTo>
                  <a:lnTo>
                    <a:pt x="567" y="524"/>
                  </a:lnTo>
                  <a:lnTo>
                    <a:pt x="591" y="548"/>
                  </a:lnTo>
                  <a:lnTo>
                    <a:pt x="614" y="586"/>
                  </a:lnTo>
                  <a:lnTo>
                    <a:pt x="614" y="614"/>
                  </a:lnTo>
                  <a:lnTo>
                    <a:pt x="609" y="642"/>
                  </a:lnTo>
                  <a:lnTo>
                    <a:pt x="605" y="656"/>
                  </a:lnTo>
                  <a:lnTo>
                    <a:pt x="600" y="666"/>
                  </a:lnTo>
                  <a:lnTo>
                    <a:pt x="633" y="694"/>
                  </a:lnTo>
                  <a:lnTo>
                    <a:pt x="643" y="699"/>
                  </a:lnTo>
                  <a:lnTo>
                    <a:pt x="657" y="704"/>
                  </a:lnTo>
                  <a:lnTo>
                    <a:pt x="666" y="704"/>
                  </a:lnTo>
                  <a:lnTo>
                    <a:pt x="671" y="699"/>
                  </a:lnTo>
                  <a:lnTo>
                    <a:pt x="676" y="694"/>
                  </a:lnTo>
                  <a:lnTo>
                    <a:pt x="671" y="685"/>
                  </a:lnTo>
                  <a:lnTo>
                    <a:pt x="661" y="638"/>
                  </a:lnTo>
                  <a:lnTo>
                    <a:pt x="661" y="614"/>
                  </a:lnTo>
                  <a:lnTo>
                    <a:pt x="671" y="614"/>
                  </a:lnTo>
                  <a:lnTo>
                    <a:pt x="690" y="604"/>
                  </a:lnTo>
                  <a:lnTo>
                    <a:pt x="699" y="600"/>
                  </a:lnTo>
                  <a:lnTo>
                    <a:pt x="704" y="595"/>
                  </a:lnTo>
                  <a:lnTo>
                    <a:pt x="704" y="586"/>
                  </a:lnTo>
                  <a:lnTo>
                    <a:pt x="699" y="586"/>
                  </a:lnTo>
                  <a:lnTo>
                    <a:pt x="676" y="576"/>
                  </a:lnTo>
                  <a:lnTo>
                    <a:pt x="657" y="562"/>
                  </a:lnTo>
                  <a:lnTo>
                    <a:pt x="643" y="548"/>
                  </a:lnTo>
                  <a:lnTo>
                    <a:pt x="638" y="529"/>
                  </a:lnTo>
                  <a:lnTo>
                    <a:pt x="638" y="501"/>
                  </a:lnTo>
                  <a:lnTo>
                    <a:pt x="638" y="491"/>
                  </a:lnTo>
                  <a:lnTo>
                    <a:pt x="643" y="491"/>
                  </a:lnTo>
                  <a:lnTo>
                    <a:pt x="657" y="486"/>
                  </a:lnTo>
                  <a:lnTo>
                    <a:pt x="657" y="482"/>
                  </a:lnTo>
                  <a:lnTo>
                    <a:pt x="661" y="472"/>
                  </a:lnTo>
                  <a:lnTo>
                    <a:pt x="657" y="468"/>
                  </a:lnTo>
                  <a:lnTo>
                    <a:pt x="643" y="458"/>
                  </a:lnTo>
                  <a:lnTo>
                    <a:pt x="619" y="449"/>
                  </a:lnTo>
                  <a:lnTo>
                    <a:pt x="600" y="435"/>
                  </a:lnTo>
                  <a:lnTo>
                    <a:pt x="595" y="430"/>
                  </a:lnTo>
                  <a:lnTo>
                    <a:pt x="595" y="420"/>
                  </a:lnTo>
                  <a:lnTo>
                    <a:pt x="595" y="411"/>
                  </a:lnTo>
                  <a:lnTo>
                    <a:pt x="595" y="402"/>
                  </a:lnTo>
                  <a:lnTo>
                    <a:pt x="605" y="383"/>
                  </a:lnTo>
                  <a:lnTo>
                    <a:pt x="609" y="368"/>
                  </a:lnTo>
                  <a:lnTo>
                    <a:pt x="605" y="364"/>
                  </a:lnTo>
                  <a:lnTo>
                    <a:pt x="605" y="359"/>
                  </a:lnTo>
                  <a:lnTo>
                    <a:pt x="600" y="359"/>
                  </a:lnTo>
                  <a:lnTo>
                    <a:pt x="591" y="364"/>
                  </a:lnTo>
                  <a:lnTo>
                    <a:pt x="581" y="364"/>
                  </a:lnTo>
                  <a:lnTo>
                    <a:pt x="572" y="364"/>
                  </a:lnTo>
                  <a:lnTo>
                    <a:pt x="567" y="354"/>
                  </a:lnTo>
                  <a:lnTo>
                    <a:pt x="562" y="345"/>
                  </a:lnTo>
                  <a:lnTo>
                    <a:pt x="558" y="331"/>
                  </a:lnTo>
                  <a:lnTo>
                    <a:pt x="553" y="321"/>
                  </a:lnTo>
                  <a:lnTo>
                    <a:pt x="562" y="321"/>
                  </a:lnTo>
                  <a:lnTo>
                    <a:pt x="576" y="312"/>
                  </a:lnTo>
                  <a:lnTo>
                    <a:pt x="581" y="307"/>
                  </a:lnTo>
                  <a:lnTo>
                    <a:pt x="586" y="302"/>
                  </a:lnTo>
                  <a:lnTo>
                    <a:pt x="586" y="298"/>
                  </a:lnTo>
                  <a:lnTo>
                    <a:pt x="581" y="288"/>
                  </a:lnTo>
                  <a:lnTo>
                    <a:pt x="558" y="265"/>
                  </a:lnTo>
                  <a:lnTo>
                    <a:pt x="539" y="232"/>
                  </a:lnTo>
                  <a:lnTo>
                    <a:pt x="534" y="217"/>
                  </a:lnTo>
                  <a:lnTo>
                    <a:pt x="529" y="208"/>
                  </a:lnTo>
                  <a:lnTo>
                    <a:pt x="534" y="203"/>
                  </a:lnTo>
                  <a:lnTo>
                    <a:pt x="543" y="208"/>
                  </a:lnTo>
                  <a:lnTo>
                    <a:pt x="572" y="222"/>
                  </a:lnTo>
                  <a:lnTo>
                    <a:pt x="605" y="227"/>
                  </a:lnTo>
                  <a:lnTo>
                    <a:pt x="619" y="227"/>
                  </a:lnTo>
                  <a:lnTo>
                    <a:pt x="628" y="227"/>
                  </a:lnTo>
                  <a:lnTo>
                    <a:pt x="628" y="222"/>
                  </a:lnTo>
                  <a:lnTo>
                    <a:pt x="624" y="222"/>
                  </a:lnTo>
                  <a:lnTo>
                    <a:pt x="600" y="217"/>
                  </a:lnTo>
                  <a:lnTo>
                    <a:pt x="581" y="217"/>
                  </a:lnTo>
                  <a:lnTo>
                    <a:pt x="572" y="213"/>
                  </a:lnTo>
                  <a:lnTo>
                    <a:pt x="567" y="208"/>
                  </a:lnTo>
                  <a:lnTo>
                    <a:pt x="567" y="194"/>
                  </a:lnTo>
                  <a:lnTo>
                    <a:pt x="562" y="175"/>
                  </a:lnTo>
                  <a:lnTo>
                    <a:pt x="567" y="142"/>
                  </a:lnTo>
                  <a:lnTo>
                    <a:pt x="572" y="114"/>
                  </a:lnTo>
                  <a:lnTo>
                    <a:pt x="572" y="104"/>
                  </a:lnTo>
                  <a:lnTo>
                    <a:pt x="567" y="99"/>
                  </a:lnTo>
                  <a:lnTo>
                    <a:pt x="558" y="95"/>
                  </a:lnTo>
                  <a:lnTo>
                    <a:pt x="543" y="90"/>
                  </a:lnTo>
                  <a:lnTo>
                    <a:pt x="510" y="90"/>
                  </a:lnTo>
                  <a:lnTo>
                    <a:pt x="496" y="95"/>
                  </a:lnTo>
                  <a:lnTo>
                    <a:pt x="491" y="99"/>
                  </a:lnTo>
                  <a:lnTo>
                    <a:pt x="487" y="104"/>
                  </a:lnTo>
                  <a:lnTo>
                    <a:pt x="402" y="9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1804"/>
            <p:cNvSpPr/>
            <p:nvPr/>
          </p:nvSpPr>
          <p:spPr>
            <a:xfrm>
              <a:off x="864720" y="4160160"/>
              <a:ext cx="147240" cy="40212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402120"/>
                <a:gd name="textAreaBottom" fmla="*/ 402480 h 402120"/>
              </a:gdLst>
              <a:ahLst/>
              <a:rect l="textAreaLeft" t="textAreaTop" r="textAreaRight" b="textAreaBottom"/>
              <a:pathLst>
                <a:path w="251" h="613">
                  <a:moveTo>
                    <a:pt x="251" y="0"/>
                  </a:moveTo>
                  <a:lnTo>
                    <a:pt x="218" y="14"/>
                  </a:lnTo>
                  <a:lnTo>
                    <a:pt x="151" y="33"/>
                  </a:lnTo>
                  <a:lnTo>
                    <a:pt x="128" y="37"/>
                  </a:lnTo>
                  <a:lnTo>
                    <a:pt x="109" y="47"/>
                  </a:lnTo>
                  <a:lnTo>
                    <a:pt x="85" y="56"/>
                  </a:lnTo>
                  <a:lnTo>
                    <a:pt x="66" y="75"/>
                  </a:lnTo>
                  <a:lnTo>
                    <a:pt x="52" y="89"/>
                  </a:lnTo>
                  <a:lnTo>
                    <a:pt x="38" y="104"/>
                  </a:lnTo>
                  <a:lnTo>
                    <a:pt x="29" y="118"/>
                  </a:lnTo>
                  <a:lnTo>
                    <a:pt x="19" y="137"/>
                  </a:lnTo>
                  <a:lnTo>
                    <a:pt x="10" y="165"/>
                  </a:lnTo>
                  <a:lnTo>
                    <a:pt x="5" y="188"/>
                  </a:lnTo>
                  <a:lnTo>
                    <a:pt x="0" y="212"/>
                  </a:lnTo>
                  <a:lnTo>
                    <a:pt x="5" y="236"/>
                  </a:lnTo>
                  <a:lnTo>
                    <a:pt x="10" y="255"/>
                  </a:lnTo>
                  <a:lnTo>
                    <a:pt x="14" y="273"/>
                  </a:lnTo>
                  <a:lnTo>
                    <a:pt x="24" y="288"/>
                  </a:lnTo>
                  <a:lnTo>
                    <a:pt x="33" y="311"/>
                  </a:lnTo>
                  <a:lnTo>
                    <a:pt x="52" y="349"/>
                  </a:lnTo>
                  <a:lnTo>
                    <a:pt x="81" y="396"/>
                  </a:lnTo>
                  <a:lnTo>
                    <a:pt x="104" y="420"/>
                  </a:lnTo>
                  <a:lnTo>
                    <a:pt x="123" y="434"/>
                  </a:lnTo>
                  <a:lnTo>
                    <a:pt x="128" y="443"/>
                  </a:lnTo>
                  <a:lnTo>
                    <a:pt x="133" y="453"/>
                  </a:lnTo>
                  <a:lnTo>
                    <a:pt x="137" y="467"/>
                  </a:lnTo>
                  <a:lnTo>
                    <a:pt x="137" y="486"/>
                  </a:lnTo>
                  <a:lnTo>
                    <a:pt x="123" y="571"/>
                  </a:lnTo>
                  <a:lnTo>
                    <a:pt x="109" y="61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1805"/>
            <p:cNvSpPr/>
            <p:nvPr/>
          </p:nvSpPr>
          <p:spPr>
            <a:xfrm>
              <a:off x="688320" y="4144680"/>
              <a:ext cx="196200" cy="990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35" h="151">
                  <a:moveTo>
                    <a:pt x="335" y="151"/>
                  </a:moveTo>
                  <a:lnTo>
                    <a:pt x="269" y="113"/>
                  </a:lnTo>
                  <a:lnTo>
                    <a:pt x="260" y="109"/>
                  </a:lnTo>
                  <a:lnTo>
                    <a:pt x="246" y="99"/>
                  </a:lnTo>
                  <a:lnTo>
                    <a:pt x="222" y="90"/>
                  </a:lnTo>
                  <a:lnTo>
                    <a:pt x="194" y="90"/>
                  </a:lnTo>
                  <a:lnTo>
                    <a:pt x="165" y="90"/>
                  </a:lnTo>
                  <a:lnTo>
                    <a:pt x="147" y="90"/>
                  </a:lnTo>
                  <a:lnTo>
                    <a:pt x="132" y="85"/>
                  </a:lnTo>
                  <a:lnTo>
                    <a:pt x="123" y="80"/>
                  </a:lnTo>
                  <a:lnTo>
                    <a:pt x="118" y="71"/>
                  </a:lnTo>
                  <a:lnTo>
                    <a:pt x="109" y="57"/>
                  </a:lnTo>
                  <a:lnTo>
                    <a:pt x="90" y="28"/>
                  </a:lnTo>
                  <a:lnTo>
                    <a:pt x="66" y="14"/>
                  </a:lnTo>
                  <a:lnTo>
                    <a:pt x="52" y="5"/>
                  </a:lnTo>
                  <a:lnTo>
                    <a:pt x="43" y="0"/>
                  </a:lnTo>
                  <a:lnTo>
                    <a:pt x="0" y="3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1806"/>
            <p:cNvSpPr/>
            <p:nvPr/>
          </p:nvSpPr>
          <p:spPr>
            <a:xfrm>
              <a:off x="273600" y="2526840"/>
              <a:ext cx="1779840" cy="1995840"/>
            </a:xfrm>
            <a:custGeom>
              <a:avLst/>
              <a:gdLst>
                <a:gd name="textAreaLeft" fmla="*/ 0 w 1779840"/>
                <a:gd name="textAreaRight" fmla="*/ 1780200 w 1779840"/>
                <a:gd name="textAreaTop" fmla="*/ 0 h 1995840"/>
                <a:gd name="textAreaBottom" fmla="*/ 1996200 h 1995840"/>
              </a:gdLst>
              <a:ahLst/>
              <a:rect l="textAreaLeft" t="textAreaTop" r="textAreaRight" b="textAreaBottom"/>
              <a:pathLst>
                <a:path w="3040" h="3040">
                  <a:moveTo>
                    <a:pt x="0" y="0"/>
                  </a:moveTo>
                  <a:lnTo>
                    <a:pt x="38" y="33"/>
                  </a:lnTo>
                  <a:lnTo>
                    <a:pt x="104" y="81"/>
                  </a:lnTo>
                  <a:lnTo>
                    <a:pt x="146" y="109"/>
                  </a:lnTo>
                  <a:lnTo>
                    <a:pt x="165" y="118"/>
                  </a:lnTo>
                  <a:lnTo>
                    <a:pt x="297" y="137"/>
                  </a:lnTo>
                  <a:lnTo>
                    <a:pt x="330" y="147"/>
                  </a:lnTo>
                  <a:lnTo>
                    <a:pt x="387" y="161"/>
                  </a:lnTo>
                  <a:lnTo>
                    <a:pt x="411" y="170"/>
                  </a:lnTo>
                  <a:lnTo>
                    <a:pt x="434" y="170"/>
                  </a:lnTo>
                  <a:lnTo>
                    <a:pt x="453" y="180"/>
                  </a:lnTo>
                  <a:lnTo>
                    <a:pt x="467" y="194"/>
                  </a:lnTo>
                  <a:lnTo>
                    <a:pt x="477" y="208"/>
                  </a:lnTo>
                  <a:lnTo>
                    <a:pt x="477" y="217"/>
                  </a:lnTo>
                  <a:lnTo>
                    <a:pt x="486" y="227"/>
                  </a:lnTo>
                  <a:lnTo>
                    <a:pt x="515" y="236"/>
                  </a:lnTo>
                  <a:lnTo>
                    <a:pt x="562" y="250"/>
                  </a:lnTo>
                  <a:lnTo>
                    <a:pt x="590" y="265"/>
                  </a:lnTo>
                  <a:lnTo>
                    <a:pt x="633" y="284"/>
                  </a:lnTo>
                  <a:lnTo>
                    <a:pt x="675" y="312"/>
                  </a:lnTo>
                  <a:lnTo>
                    <a:pt x="718" y="340"/>
                  </a:lnTo>
                  <a:lnTo>
                    <a:pt x="746" y="368"/>
                  </a:lnTo>
                  <a:lnTo>
                    <a:pt x="779" y="411"/>
                  </a:lnTo>
                  <a:lnTo>
                    <a:pt x="807" y="444"/>
                  </a:lnTo>
                  <a:lnTo>
                    <a:pt x="821" y="463"/>
                  </a:lnTo>
                  <a:lnTo>
                    <a:pt x="831" y="472"/>
                  </a:lnTo>
                  <a:lnTo>
                    <a:pt x="840" y="491"/>
                  </a:lnTo>
                  <a:lnTo>
                    <a:pt x="855" y="515"/>
                  </a:lnTo>
                  <a:lnTo>
                    <a:pt x="869" y="581"/>
                  </a:lnTo>
                  <a:lnTo>
                    <a:pt x="878" y="638"/>
                  </a:lnTo>
                  <a:lnTo>
                    <a:pt x="892" y="685"/>
                  </a:lnTo>
                  <a:lnTo>
                    <a:pt x="897" y="708"/>
                  </a:lnTo>
                  <a:lnTo>
                    <a:pt x="897" y="713"/>
                  </a:lnTo>
                  <a:lnTo>
                    <a:pt x="902" y="722"/>
                  </a:lnTo>
                  <a:lnTo>
                    <a:pt x="916" y="737"/>
                  </a:lnTo>
                  <a:lnTo>
                    <a:pt x="940" y="751"/>
                  </a:lnTo>
                  <a:lnTo>
                    <a:pt x="973" y="760"/>
                  </a:lnTo>
                  <a:lnTo>
                    <a:pt x="996" y="779"/>
                  </a:lnTo>
                  <a:lnTo>
                    <a:pt x="1020" y="803"/>
                  </a:lnTo>
                  <a:lnTo>
                    <a:pt x="1043" y="845"/>
                  </a:lnTo>
                  <a:lnTo>
                    <a:pt x="1058" y="878"/>
                  </a:lnTo>
                  <a:lnTo>
                    <a:pt x="1062" y="892"/>
                  </a:lnTo>
                  <a:lnTo>
                    <a:pt x="1062" y="973"/>
                  </a:lnTo>
                  <a:lnTo>
                    <a:pt x="1072" y="977"/>
                  </a:lnTo>
                  <a:lnTo>
                    <a:pt x="1091" y="982"/>
                  </a:lnTo>
                  <a:lnTo>
                    <a:pt x="1114" y="992"/>
                  </a:lnTo>
                  <a:lnTo>
                    <a:pt x="1133" y="1006"/>
                  </a:lnTo>
                  <a:lnTo>
                    <a:pt x="1138" y="1025"/>
                  </a:lnTo>
                  <a:lnTo>
                    <a:pt x="1138" y="1039"/>
                  </a:lnTo>
                  <a:lnTo>
                    <a:pt x="1143" y="1043"/>
                  </a:lnTo>
                  <a:lnTo>
                    <a:pt x="1143" y="1048"/>
                  </a:lnTo>
                  <a:lnTo>
                    <a:pt x="1152" y="1053"/>
                  </a:lnTo>
                  <a:lnTo>
                    <a:pt x="1161" y="1053"/>
                  </a:lnTo>
                  <a:lnTo>
                    <a:pt x="1190" y="1053"/>
                  </a:lnTo>
                  <a:lnTo>
                    <a:pt x="1218" y="1048"/>
                  </a:lnTo>
                  <a:lnTo>
                    <a:pt x="1237" y="1043"/>
                  </a:lnTo>
                  <a:lnTo>
                    <a:pt x="1242" y="1039"/>
                  </a:lnTo>
                  <a:lnTo>
                    <a:pt x="1251" y="1043"/>
                  </a:lnTo>
                  <a:lnTo>
                    <a:pt x="1265" y="1048"/>
                  </a:lnTo>
                  <a:lnTo>
                    <a:pt x="1284" y="1062"/>
                  </a:lnTo>
                  <a:lnTo>
                    <a:pt x="1294" y="1081"/>
                  </a:lnTo>
                  <a:lnTo>
                    <a:pt x="1421" y="1072"/>
                  </a:lnTo>
                  <a:lnTo>
                    <a:pt x="1426" y="1072"/>
                  </a:lnTo>
                  <a:lnTo>
                    <a:pt x="1445" y="1076"/>
                  </a:lnTo>
                  <a:lnTo>
                    <a:pt x="1468" y="1086"/>
                  </a:lnTo>
                  <a:lnTo>
                    <a:pt x="1487" y="1110"/>
                  </a:lnTo>
                  <a:lnTo>
                    <a:pt x="1511" y="1133"/>
                  </a:lnTo>
                  <a:lnTo>
                    <a:pt x="1530" y="1147"/>
                  </a:lnTo>
                  <a:lnTo>
                    <a:pt x="1549" y="1157"/>
                  </a:lnTo>
                  <a:lnTo>
                    <a:pt x="1567" y="1161"/>
                  </a:lnTo>
                  <a:lnTo>
                    <a:pt x="1596" y="1161"/>
                  </a:lnTo>
                  <a:lnTo>
                    <a:pt x="1619" y="1161"/>
                  </a:lnTo>
                  <a:lnTo>
                    <a:pt x="1629" y="1161"/>
                  </a:lnTo>
                  <a:lnTo>
                    <a:pt x="1638" y="1161"/>
                  </a:lnTo>
                  <a:lnTo>
                    <a:pt x="1652" y="1166"/>
                  </a:lnTo>
                  <a:lnTo>
                    <a:pt x="1662" y="1176"/>
                  </a:lnTo>
                  <a:lnTo>
                    <a:pt x="1676" y="1204"/>
                  </a:lnTo>
                  <a:lnTo>
                    <a:pt x="1681" y="1227"/>
                  </a:lnTo>
                  <a:lnTo>
                    <a:pt x="1685" y="1237"/>
                  </a:lnTo>
                  <a:lnTo>
                    <a:pt x="1695" y="1246"/>
                  </a:lnTo>
                  <a:lnTo>
                    <a:pt x="1709" y="1261"/>
                  </a:lnTo>
                  <a:lnTo>
                    <a:pt x="1728" y="1270"/>
                  </a:lnTo>
                  <a:lnTo>
                    <a:pt x="1770" y="1284"/>
                  </a:lnTo>
                  <a:lnTo>
                    <a:pt x="1799" y="1294"/>
                  </a:lnTo>
                  <a:lnTo>
                    <a:pt x="1822" y="1294"/>
                  </a:lnTo>
                  <a:lnTo>
                    <a:pt x="1851" y="1294"/>
                  </a:lnTo>
                  <a:lnTo>
                    <a:pt x="1884" y="1294"/>
                  </a:lnTo>
                  <a:lnTo>
                    <a:pt x="1907" y="1284"/>
                  </a:lnTo>
                  <a:lnTo>
                    <a:pt x="1931" y="1270"/>
                  </a:lnTo>
                  <a:lnTo>
                    <a:pt x="1955" y="1256"/>
                  </a:lnTo>
                  <a:lnTo>
                    <a:pt x="1978" y="1242"/>
                  </a:lnTo>
                  <a:lnTo>
                    <a:pt x="1992" y="1227"/>
                  </a:lnTo>
                  <a:lnTo>
                    <a:pt x="2002" y="1223"/>
                  </a:lnTo>
                  <a:lnTo>
                    <a:pt x="2011" y="1223"/>
                  </a:lnTo>
                  <a:lnTo>
                    <a:pt x="2025" y="1223"/>
                  </a:lnTo>
                  <a:lnTo>
                    <a:pt x="2044" y="1232"/>
                  </a:lnTo>
                  <a:lnTo>
                    <a:pt x="2082" y="1242"/>
                  </a:lnTo>
                  <a:lnTo>
                    <a:pt x="2110" y="1246"/>
                  </a:lnTo>
                  <a:lnTo>
                    <a:pt x="2125" y="1251"/>
                  </a:lnTo>
                  <a:lnTo>
                    <a:pt x="2134" y="1256"/>
                  </a:lnTo>
                  <a:lnTo>
                    <a:pt x="2148" y="1265"/>
                  </a:lnTo>
                  <a:lnTo>
                    <a:pt x="2158" y="1279"/>
                  </a:lnTo>
                  <a:lnTo>
                    <a:pt x="2172" y="1312"/>
                  </a:lnTo>
                  <a:lnTo>
                    <a:pt x="2176" y="1331"/>
                  </a:lnTo>
                  <a:lnTo>
                    <a:pt x="2181" y="1341"/>
                  </a:lnTo>
                  <a:lnTo>
                    <a:pt x="2191" y="1345"/>
                  </a:lnTo>
                  <a:lnTo>
                    <a:pt x="2200" y="1350"/>
                  </a:lnTo>
                  <a:lnTo>
                    <a:pt x="2224" y="1355"/>
                  </a:lnTo>
                  <a:lnTo>
                    <a:pt x="2257" y="1350"/>
                  </a:lnTo>
                  <a:lnTo>
                    <a:pt x="2271" y="1341"/>
                  </a:lnTo>
                  <a:lnTo>
                    <a:pt x="2276" y="1341"/>
                  </a:lnTo>
                  <a:lnTo>
                    <a:pt x="2285" y="1345"/>
                  </a:lnTo>
                  <a:lnTo>
                    <a:pt x="2294" y="1355"/>
                  </a:lnTo>
                  <a:lnTo>
                    <a:pt x="2309" y="1369"/>
                  </a:lnTo>
                  <a:lnTo>
                    <a:pt x="2337" y="1407"/>
                  </a:lnTo>
                  <a:lnTo>
                    <a:pt x="2356" y="1435"/>
                  </a:lnTo>
                  <a:lnTo>
                    <a:pt x="2370" y="1459"/>
                  </a:lnTo>
                  <a:lnTo>
                    <a:pt x="2370" y="1478"/>
                  </a:lnTo>
                  <a:lnTo>
                    <a:pt x="2370" y="1492"/>
                  </a:lnTo>
                  <a:lnTo>
                    <a:pt x="2365" y="1506"/>
                  </a:lnTo>
                  <a:lnTo>
                    <a:pt x="2370" y="1515"/>
                  </a:lnTo>
                  <a:lnTo>
                    <a:pt x="2389" y="1530"/>
                  </a:lnTo>
                  <a:lnTo>
                    <a:pt x="2413" y="1539"/>
                  </a:lnTo>
                  <a:lnTo>
                    <a:pt x="2427" y="1534"/>
                  </a:lnTo>
                  <a:lnTo>
                    <a:pt x="2431" y="1534"/>
                  </a:lnTo>
                  <a:lnTo>
                    <a:pt x="2436" y="1539"/>
                  </a:lnTo>
                  <a:lnTo>
                    <a:pt x="2441" y="1548"/>
                  </a:lnTo>
                  <a:lnTo>
                    <a:pt x="2441" y="1567"/>
                  </a:lnTo>
                  <a:lnTo>
                    <a:pt x="2446" y="1596"/>
                  </a:lnTo>
                  <a:lnTo>
                    <a:pt x="2450" y="1610"/>
                  </a:lnTo>
                  <a:lnTo>
                    <a:pt x="2460" y="1624"/>
                  </a:lnTo>
                  <a:lnTo>
                    <a:pt x="2483" y="1652"/>
                  </a:lnTo>
                  <a:lnTo>
                    <a:pt x="2512" y="1685"/>
                  </a:lnTo>
                  <a:lnTo>
                    <a:pt x="2526" y="1704"/>
                  </a:lnTo>
                  <a:lnTo>
                    <a:pt x="2535" y="1718"/>
                  </a:lnTo>
                  <a:lnTo>
                    <a:pt x="2535" y="1747"/>
                  </a:lnTo>
                  <a:lnTo>
                    <a:pt x="2535" y="1770"/>
                  </a:lnTo>
                  <a:lnTo>
                    <a:pt x="2526" y="1784"/>
                  </a:lnTo>
                  <a:lnTo>
                    <a:pt x="2521" y="1803"/>
                  </a:lnTo>
                  <a:lnTo>
                    <a:pt x="2521" y="1836"/>
                  </a:lnTo>
                  <a:lnTo>
                    <a:pt x="2507" y="1907"/>
                  </a:lnTo>
                  <a:lnTo>
                    <a:pt x="2502" y="1964"/>
                  </a:lnTo>
                  <a:lnTo>
                    <a:pt x="2531" y="2030"/>
                  </a:lnTo>
                  <a:lnTo>
                    <a:pt x="2554" y="2058"/>
                  </a:lnTo>
                  <a:lnTo>
                    <a:pt x="2564" y="2058"/>
                  </a:lnTo>
                  <a:lnTo>
                    <a:pt x="2582" y="2068"/>
                  </a:lnTo>
                  <a:lnTo>
                    <a:pt x="2611" y="2091"/>
                  </a:lnTo>
                  <a:lnTo>
                    <a:pt x="2634" y="2115"/>
                  </a:lnTo>
                  <a:lnTo>
                    <a:pt x="2649" y="2129"/>
                  </a:lnTo>
                  <a:lnTo>
                    <a:pt x="2653" y="2134"/>
                  </a:lnTo>
                  <a:lnTo>
                    <a:pt x="2677" y="2143"/>
                  </a:lnTo>
                  <a:lnTo>
                    <a:pt x="2691" y="2153"/>
                  </a:lnTo>
                  <a:lnTo>
                    <a:pt x="2701" y="2153"/>
                  </a:lnTo>
                  <a:lnTo>
                    <a:pt x="2710" y="2148"/>
                  </a:lnTo>
                  <a:lnTo>
                    <a:pt x="2719" y="2143"/>
                  </a:lnTo>
                  <a:lnTo>
                    <a:pt x="2724" y="2143"/>
                  </a:lnTo>
                  <a:lnTo>
                    <a:pt x="2729" y="2148"/>
                  </a:lnTo>
                  <a:lnTo>
                    <a:pt x="2738" y="2157"/>
                  </a:lnTo>
                  <a:lnTo>
                    <a:pt x="2748" y="2176"/>
                  </a:lnTo>
                  <a:lnTo>
                    <a:pt x="2762" y="2209"/>
                  </a:lnTo>
                  <a:lnTo>
                    <a:pt x="2776" y="2219"/>
                  </a:lnTo>
                  <a:lnTo>
                    <a:pt x="2790" y="2228"/>
                  </a:lnTo>
                  <a:lnTo>
                    <a:pt x="2809" y="2256"/>
                  </a:lnTo>
                  <a:lnTo>
                    <a:pt x="2828" y="2294"/>
                  </a:lnTo>
                  <a:lnTo>
                    <a:pt x="2842" y="2327"/>
                  </a:lnTo>
                  <a:lnTo>
                    <a:pt x="2847" y="2351"/>
                  </a:lnTo>
                  <a:lnTo>
                    <a:pt x="2847" y="2370"/>
                  </a:lnTo>
                  <a:lnTo>
                    <a:pt x="2861" y="2384"/>
                  </a:lnTo>
                  <a:lnTo>
                    <a:pt x="2889" y="2407"/>
                  </a:lnTo>
                  <a:lnTo>
                    <a:pt x="2918" y="2440"/>
                  </a:lnTo>
                  <a:lnTo>
                    <a:pt x="2974" y="2497"/>
                  </a:lnTo>
                  <a:lnTo>
                    <a:pt x="2984" y="2507"/>
                  </a:lnTo>
                  <a:lnTo>
                    <a:pt x="2998" y="2521"/>
                  </a:lnTo>
                  <a:lnTo>
                    <a:pt x="3007" y="2540"/>
                  </a:lnTo>
                  <a:lnTo>
                    <a:pt x="3012" y="2563"/>
                  </a:lnTo>
                  <a:lnTo>
                    <a:pt x="3012" y="2568"/>
                  </a:lnTo>
                  <a:lnTo>
                    <a:pt x="3007" y="2573"/>
                  </a:lnTo>
                  <a:lnTo>
                    <a:pt x="3003" y="2568"/>
                  </a:lnTo>
                  <a:lnTo>
                    <a:pt x="2993" y="2568"/>
                  </a:lnTo>
                  <a:lnTo>
                    <a:pt x="2989" y="2563"/>
                  </a:lnTo>
                  <a:lnTo>
                    <a:pt x="2979" y="2568"/>
                  </a:lnTo>
                  <a:lnTo>
                    <a:pt x="2974" y="2573"/>
                  </a:lnTo>
                  <a:lnTo>
                    <a:pt x="2974" y="2582"/>
                  </a:lnTo>
                  <a:lnTo>
                    <a:pt x="2989" y="2634"/>
                  </a:lnTo>
                  <a:lnTo>
                    <a:pt x="3007" y="2691"/>
                  </a:lnTo>
                  <a:lnTo>
                    <a:pt x="3012" y="2719"/>
                  </a:lnTo>
                  <a:lnTo>
                    <a:pt x="3017" y="2743"/>
                  </a:lnTo>
                  <a:lnTo>
                    <a:pt x="3012" y="2761"/>
                  </a:lnTo>
                  <a:lnTo>
                    <a:pt x="3003" y="2785"/>
                  </a:lnTo>
                  <a:lnTo>
                    <a:pt x="2993" y="2813"/>
                  </a:lnTo>
                  <a:lnTo>
                    <a:pt x="2984" y="2832"/>
                  </a:lnTo>
                  <a:lnTo>
                    <a:pt x="2984" y="2856"/>
                  </a:lnTo>
                  <a:lnTo>
                    <a:pt x="2993" y="2894"/>
                  </a:lnTo>
                  <a:lnTo>
                    <a:pt x="3007" y="2936"/>
                  </a:lnTo>
                  <a:lnTo>
                    <a:pt x="3031" y="2974"/>
                  </a:lnTo>
                  <a:lnTo>
                    <a:pt x="3036" y="2993"/>
                  </a:lnTo>
                  <a:lnTo>
                    <a:pt x="3040" y="3007"/>
                  </a:lnTo>
                  <a:lnTo>
                    <a:pt x="3036" y="3026"/>
                  </a:lnTo>
                  <a:lnTo>
                    <a:pt x="3022" y="3040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1807"/>
            <p:cNvSpPr/>
            <p:nvPr/>
          </p:nvSpPr>
          <p:spPr>
            <a:xfrm>
              <a:off x="707040" y="2145600"/>
              <a:ext cx="956880" cy="622800"/>
            </a:xfrm>
            <a:custGeom>
              <a:avLst/>
              <a:gdLst>
                <a:gd name="textAreaLeft" fmla="*/ 0 w 956880"/>
                <a:gd name="textAreaRight" fmla="*/ 957240 w 956880"/>
                <a:gd name="textAreaTop" fmla="*/ 0 h 622800"/>
                <a:gd name="textAreaBottom" fmla="*/ 623160 h 622800"/>
              </a:gdLst>
              <a:ahLst/>
              <a:rect l="textAreaLeft" t="textAreaTop" r="textAreaRight" b="textAreaBottom"/>
              <a:pathLst>
                <a:path w="1634" h="948">
                  <a:moveTo>
                    <a:pt x="0" y="948"/>
                  </a:moveTo>
                  <a:lnTo>
                    <a:pt x="85" y="911"/>
                  </a:lnTo>
                  <a:lnTo>
                    <a:pt x="123" y="892"/>
                  </a:lnTo>
                  <a:lnTo>
                    <a:pt x="128" y="897"/>
                  </a:lnTo>
                  <a:lnTo>
                    <a:pt x="142" y="906"/>
                  </a:lnTo>
                  <a:lnTo>
                    <a:pt x="147" y="906"/>
                  </a:lnTo>
                  <a:lnTo>
                    <a:pt x="156" y="906"/>
                  </a:lnTo>
                  <a:lnTo>
                    <a:pt x="165" y="901"/>
                  </a:lnTo>
                  <a:lnTo>
                    <a:pt x="170" y="887"/>
                  </a:lnTo>
                  <a:lnTo>
                    <a:pt x="180" y="859"/>
                  </a:lnTo>
                  <a:lnTo>
                    <a:pt x="194" y="840"/>
                  </a:lnTo>
                  <a:lnTo>
                    <a:pt x="208" y="826"/>
                  </a:lnTo>
                  <a:lnTo>
                    <a:pt x="232" y="816"/>
                  </a:lnTo>
                  <a:lnTo>
                    <a:pt x="279" y="807"/>
                  </a:lnTo>
                  <a:lnTo>
                    <a:pt x="321" y="793"/>
                  </a:lnTo>
                  <a:lnTo>
                    <a:pt x="345" y="774"/>
                  </a:lnTo>
                  <a:lnTo>
                    <a:pt x="364" y="755"/>
                  </a:lnTo>
                  <a:lnTo>
                    <a:pt x="368" y="746"/>
                  </a:lnTo>
                  <a:lnTo>
                    <a:pt x="373" y="731"/>
                  </a:lnTo>
                  <a:lnTo>
                    <a:pt x="378" y="722"/>
                  </a:lnTo>
                  <a:lnTo>
                    <a:pt x="373" y="712"/>
                  </a:lnTo>
                  <a:lnTo>
                    <a:pt x="359" y="670"/>
                  </a:lnTo>
                  <a:lnTo>
                    <a:pt x="335" y="632"/>
                  </a:lnTo>
                  <a:lnTo>
                    <a:pt x="326" y="618"/>
                  </a:lnTo>
                  <a:lnTo>
                    <a:pt x="321" y="609"/>
                  </a:lnTo>
                  <a:lnTo>
                    <a:pt x="317" y="590"/>
                  </a:lnTo>
                  <a:lnTo>
                    <a:pt x="317" y="543"/>
                  </a:lnTo>
                  <a:lnTo>
                    <a:pt x="312" y="486"/>
                  </a:lnTo>
                  <a:lnTo>
                    <a:pt x="302" y="434"/>
                  </a:lnTo>
                  <a:lnTo>
                    <a:pt x="302" y="415"/>
                  </a:lnTo>
                  <a:lnTo>
                    <a:pt x="307" y="392"/>
                  </a:lnTo>
                  <a:lnTo>
                    <a:pt x="321" y="377"/>
                  </a:lnTo>
                  <a:lnTo>
                    <a:pt x="335" y="363"/>
                  </a:lnTo>
                  <a:lnTo>
                    <a:pt x="397" y="340"/>
                  </a:lnTo>
                  <a:lnTo>
                    <a:pt x="439" y="325"/>
                  </a:lnTo>
                  <a:lnTo>
                    <a:pt x="468" y="283"/>
                  </a:lnTo>
                  <a:lnTo>
                    <a:pt x="496" y="245"/>
                  </a:lnTo>
                  <a:lnTo>
                    <a:pt x="534" y="236"/>
                  </a:lnTo>
                  <a:lnTo>
                    <a:pt x="581" y="217"/>
                  </a:lnTo>
                  <a:lnTo>
                    <a:pt x="609" y="203"/>
                  </a:lnTo>
                  <a:lnTo>
                    <a:pt x="619" y="189"/>
                  </a:lnTo>
                  <a:lnTo>
                    <a:pt x="638" y="184"/>
                  </a:lnTo>
                  <a:lnTo>
                    <a:pt x="685" y="179"/>
                  </a:lnTo>
                  <a:lnTo>
                    <a:pt x="760" y="184"/>
                  </a:lnTo>
                  <a:lnTo>
                    <a:pt x="826" y="189"/>
                  </a:lnTo>
                  <a:lnTo>
                    <a:pt x="878" y="193"/>
                  </a:lnTo>
                  <a:lnTo>
                    <a:pt x="897" y="198"/>
                  </a:lnTo>
                  <a:lnTo>
                    <a:pt x="1020" y="274"/>
                  </a:lnTo>
                  <a:lnTo>
                    <a:pt x="1029" y="278"/>
                  </a:lnTo>
                  <a:lnTo>
                    <a:pt x="1044" y="288"/>
                  </a:lnTo>
                  <a:lnTo>
                    <a:pt x="1058" y="297"/>
                  </a:lnTo>
                  <a:lnTo>
                    <a:pt x="1072" y="302"/>
                  </a:lnTo>
                  <a:lnTo>
                    <a:pt x="1086" y="302"/>
                  </a:lnTo>
                  <a:lnTo>
                    <a:pt x="1100" y="302"/>
                  </a:lnTo>
                  <a:lnTo>
                    <a:pt x="1129" y="297"/>
                  </a:lnTo>
                  <a:lnTo>
                    <a:pt x="1147" y="288"/>
                  </a:lnTo>
                  <a:lnTo>
                    <a:pt x="1162" y="274"/>
                  </a:lnTo>
                  <a:lnTo>
                    <a:pt x="1181" y="259"/>
                  </a:lnTo>
                  <a:lnTo>
                    <a:pt x="1204" y="255"/>
                  </a:lnTo>
                  <a:lnTo>
                    <a:pt x="1228" y="255"/>
                  </a:lnTo>
                  <a:lnTo>
                    <a:pt x="1242" y="259"/>
                  </a:lnTo>
                  <a:lnTo>
                    <a:pt x="1247" y="259"/>
                  </a:lnTo>
                  <a:lnTo>
                    <a:pt x="1266" y="259"/>
                  </a:lnTo>
                  <a:lnTo>
                    <a:pt x="1317" y="255"/>
                  </a:lnTo>
                  <a:lnTo>
                    <a:pt x="1374" y="250"/>
                  </a:lnTo>
                  <a:lnTo>
                    <a:pt x="1417" y="241"/>
                  </a:lnTo>
                  <a:lnTo>
                    <a:pt x="1445" y="236"/>
                  </a:lnTo>
                  <a:lnTo>
                    <a:pt x="1469" y="241"/>
                  </a:lnTo>
                  <a:lnTo>
                    <a:pt x="1478" y="241"/>
                  </a:lnTo>
                  <a:lnTo>
                    <a:pt x="1487" y="236"/>
                  </a:lnTo>
                  <a:lnTo>
                    <a:pt x="1497" y="226"/>
                  </a:lnTo>
                  <a:lnTo>
                    <a:pt x="1502" y="212"/>
                  </a:lnTo>
                  <a:lnTo>
                    <a:pt x="1506" y="160"/>
                  </a:lnTo>
                  <a:lnTo>
                    <a:pt x="1511" y="127"/>
                  </a:lnTo>
                  <a:lnTo>
                    <a:pt x="1553" y="89"/>
                  </a:lnTo>
                  <a:lnTo>
                    <a:pt x="1577" y="71"/>
                  </a:lnTo>
                  <a:lnTo>
                    <a:pt x="1634" y="0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1808"/>
            <p:cNvSpPr/>
            <p:nvPr/>
          </p:nvSpPr>
          <p:spPr>
            <a:xfrm>
              <a:off x="2082240" y="967680"/>
              <a:ext cx="6120000" cy="4589640"/>
            </a:xfrm>
            <a:custGeom>
              <a:avLst/>
              <a:gdLst>
                <a:gd name="textAreaLeft" fmla="*/ 0 w 6120000"/>
                <a:gd name="textAreaRight" fmla="*/ 6120360 w 6120000"/>
                <a:gd name="textAreaTop" fmla="*/ 0 h 4589640"/>
                <a:gd name="textAreaBottom" fmla="*/ 4590000 h 4589640"/>
              </a:gdLst>
              <a:ahLst/>
              <a:rect l="textAreaLeft" t="textAreaTop" r="textAreaRight" b="textAreaBottom"/>
              <a:pathLst>
                <a:path w="10452" h="6990">
                  <a:moveTo>
                    <a:pt x="56" y="6990"/>
                  </a:moveTo>
                  <a:lnTo>
                    <a:pt x="37" y="6981"/>
                  </a:lnTo>
                  <a:lnTo>
                    <a:pt x="9" y="6976"/>
                  </a:lnTo>
                  <a:lnTo>
                    <a:pt x="0" y="6967"/>
                  </a:lnTo>
                  <a:lnTo>
                    <a:pt x="0" y="6957"/>
                  </a:lnTo>
                  <a:lnTo>
                    <a:pt x="4" y="6943"/>
                  </a:lnTo>
                  <a:lnTo>
                    <a:pt x="9" y="6929"/>
                  </a:lnTo>
                  <a:lnTo>
                    <a:pt x="14" y="6915"/>
                  </a:lnTo>
                  <a:lnTo>
                    <a:pt x="23" y="6905"/>
                  </a:lnTo>
                  <a:lnTo>
                    <a:pt x="37" y="6901"/>
                  </a:lnTo>
                  <a:lnTo>
                    <a:pt x="52" y="6891"/>
                  </a:lnTo>
                  <a:lnTo>
                    <a:pt x="56" y="6882"/>
                  </a:lnTo>
                  <a:lnTo>
                    <a:pt x="61" y="6868"/>
                  </a:lnTo>
                  <a:lnTo>
                    <a:pt x="56" y="6853"/>
                  </a:lnTo>
                  <a:lnTo>
                    <a:pt x="56" y="6849"/>
                  </a:lnTo>
                  <a:lnTo>
                    <a:pt x="23" y="6816"/>
                  </a:lnTo>
                  <a:lnTo>
                    <a:pt x="37" y="6797"/>
                  </a:lnTo>
                  <a:lnTo>
                    <a:pt x="42" y="6797"/>
                  </a:lnTo>
                  <a:lnTo>
                    <a:pt x="52" y="6797"/>
                  </a:lnTo>
                  <a:lnTo>
                    <a:pt x="61" y="6797"/>
                  </a:lnTo>
                  <a:lnTo>
                    <a:pt x="66" y="6792"/>
                  </a:lnTo>
                  <a:lnTo>
                    <a:pt x="70" y="6787"/>
                  </a:lnTo>
                  <a:lnTo>
                    <a:pt x="70" y="6778"/>
                  </a:lnTo>
                  <a:lnTo>
                    <a:pt x="52" y="6750"/>
                  </a:lnTo>
                  <a:lnTo>
                    <a:pt x="37" y="6731"/>
                  </a:lnTo>
                  <a:lnTo>
                    <a:pt x="37" y="6717"/>
                  </a:lnTo>
                  <a:lnTo>
                    <a:pt x="42" y="6707"/>
                  </a:lnTo>
                  <a:lnTo>
                    <a:pt x="47" y="6693"/>
                  </a:lnTo>
                  <a:lnTo>
                    <a:pt x="61" y="6679"/>
                  </a:lnTo>
                  <a:lnTo>
                    <a:pt x="66" y="6669"/>
                  </a:lnTo>
                  <a:lnTo>
                    <a:pt x="66" y="6665"/>
                  </a:lnTo>
                  <a:lnTo>
                    <a:pt x="66" y="6660"/>
                  </a:lnTo>
                  <a:lnTo>
                    <a:pt x="66" y="6655"/>
                  </a:lnTo>
                  <a:lnTo>
                    <a:pt x="56" y="6646"/>
                  </a:lnTo>
                  <a:lnTo>
                    <a:pt x="47" y="6632"/>
                  </a:lnTo>
                  <a:lnTo>
                    <a:pt x="42" y="6622"/>
                  </a:lnTo>
                  <a:lnTo>
                    <a:pt x="47" y="6613"/>
                  </a:lnTo>
                  <a:lnTo>
                    <a:pt x="56" y="6608"/>
                  </a:lnTo>
                  <a:lnTo>
                    <a:pt x="75" y="6599"/>
                  </a:lnTo>
                  <a:lnTo>
                    <a:pt x="85" y="6594"/>
                  </a:lnTo>
                  <a:lnTo>
                    <a:pt x="89" y="6589"/>
                  </a:lnTo>
                  <a:lnTo>
                    <a:pt x="89" y="6584"/>
                  </a:lnTo>
                  <a:lnTo>
                    <a:pt x="89" y="6580"/>
                  </a:lnTo>
                  <a:lnTo>
                    <a:pt x="75" y="6570"/>
                  </a:lnTo>
                  <a:lnTo>
                    <a:pt x="66" y="6561"/>
                  </a:lnTo>
                  <a:lnTo>
                    <a:pt x="56" y="6556"/>
                  </a:lnTo>
                  <a:lnTo>
                    <a:pt x="52" y="6542"/>
                  </a:lnTo>
                  <a:lnTo>
                    <a:pt x="56" y="6523"/>
                  </a:lnTo>
                  <a:lnTo>
                    <a:pt x="80" y="6490"/>
                  </a:lnTo>
                  <a:lnTo>
                    <a:pt x="151" y="6396"/>
                  </a:lnTo>
                  <a:lnTo>
                    <a:pt x="141" y="6372"/>
                  </a:lnTo>
                  <a:lnTo>
                    <a:pt x="122" y="6325"/>
                  </a:lnTo>
                  <a:lnTo>
                    <a:pt x="94" y="6273"/>
                  </a:lnTo>
                  <a:lnTo>
                    <a:pt x="80" y="6245"/>
                  </a:lnTo>
                  <a:lnTo>
                    <a:pt x="80" y="6230"/>
                  </a:lnTo>
                  <a:lnTo>
                    <a:pt x="80" y="6188"/>
                  </a:lnTo>
                  <a:lnTo>
                    <a:pt x="80" y="6164"/>
                  </a:lnTo>
                  <a:lnTo>
                    <a:pt x="80" y="6150"/>
                  </a:lnTo>
                  <a:lnTo>
                    <a:pt x="85" y="6141"/>
                  </a:lnTo>
                  <a:lnTo>
                    <a:pt x="89" y="6136"/>
                  </a:lnTo>
                  <a:lnTo>
                    <a:pt x="94" y="6136"/>
                  </a:lnTo>
                  <a:lnTo>
                    <a:pt x="108" y="6131"/>
                  </a:lnTo>
                  <a:lnTo>
                    <a:pt x="137" y="6131"/>
                  </a:lnTo>
                  <a:lnTo>
                    <a:pt x="165" y="6131"/>
                  </a:lnTo>
                  <a:lnTo>
                    <a:pt x="189" y="6136"/>
                  </a:lnTo>
                  <a:lnTo>
                    <a:pt x="207" y="6136"/>
                  </a:lnTo>
                  <a:lnTo>
                    <a:pt x="231" y="6136"/>
                  </a:lnTo>
                  <a:lnTo>
                    <a:pt x="255" y="6127"/>
                  </a:lnTo>
                  <a:lnTo>
                    <a:pt x="288" y="6122"/>
                  </a:lnTo>
                  <a:lnTo>
                    <a:pt x="325" y="6112"/>
                  </a:lnTo>
                  <a:lnTo>
                    <a:pt x="368" y="6084"/>
                  </a:lnTo>
                  <a:lnTo>
                    <a:pt x="410" y="6051"/>
                  </a:lnTo>
                  <a:lnTo>
                    <a:pt x="443" y="6042"/>
                  </a:lnTo>
                  <a:lnTo>
                    <a:pt x="458" y="6042"/>
                  </a:lnTo>
                  <a:lnTo>
                    <a:pt x="472" y="6032"/>
                  </a:lnTo>
                  <a:lnTo>
                    <a:pt x="491" y="6009"/>
                  </a:lnTo>
                  <a:lnTo>
                    <a:pt x="519" y="5938"/>
                  </a:lnTo>
                  <a:lnTo>
                    <a:pt x="547" y="5881"/>
                  </a:lnTo>
                  <a:lnTo>
                    <a:pt x="595" y="5834"/>
                  </a:lnTo>
                  <a:lnTo>
                    <a:pt x="613" y="5801"/>
                  </a:lnTo>
                  <a:lnTo>
                    <a:pt x="632" y="5787"/>
                  </a:lnTo>
                  <a:lnTo>
                    <a:pt x="675" y="5758"/>
                  </a:lnTo>
                  <a:lnTo>
                    <a:pt x="689" y="5744"/>
                  </a:lnTo>
                  <a:lnTo>
                    <a:pt x="727" y="5735"/>
                  </a:lnTo>
                  <a:lnTo>
                    <a:pt x="774" y="5716"/>
                  </a:lnTo>
                  <a:lnTo>
                    <a:pt x="826" y="5692"/>
                  </a:lnTo>
                  <a:lnTo>
                    <a:pt x="864" y="5678"/>
                  </a:lnTo>
                  <a:lnTo>
                    <a:pt x="878" y="5669"/>
                  </a:lnTo>
                  <a:lnTo>
                    <a:pt x="883" y="5645"/>
                  </a:lnTo>
                  <a:lnTo>
                    <a:pt x="901" y="5593"/>
                  </a:lnTo>
                  <a:lnTo>
                    <a:pt x="925" y="5560"/>
                  </a:lnTo>
                  <a:lnTo>
                    <a:pt x="953" y="5532"/>
                  </a:lnTo>
                  <a:lnTo>
                    <a:pt x="967" y="5508"/>
                  </a:lnTo>
                  <a:lnTo>
                    <a:pt x="977" y="5494"/>
                  </a:lnTo>
                  <a:lnTo>
                    <a:pt x="977" y="5480"/>
                  </a:lnTo>
                  <a:lnTo>
                    <a:pt x="977" y="5461"/>
                  </a:lnTo>
                  <a:lnTo>
                    <a:pt x="977" y="5438"/>
                  </a:lnTo>
                  <a:lnTo>
                    <a:pt x="982" y="5414"/>
                  </a:lnTo>
                  <a:lnTo>
                    <a:pt x="991" y="5390"/>
                  </a:lnTo>
                  <a:lnTo>
                    <a:pt x="1005" y="5376"/>
                  </a:lnTo>
                  <a:lnTo>
                    <a:pt x="1043" y="5348"/>
                  </a:lnTo>
                  <a:lnTo>
                    <a:pt x="1086" y="5320"/>
                  </a:lnTo>
                  <a:lnTo>
                    <a:pt x="1119" y="5296"/>
                  </a:lnTo>
                  <a:lnTo>
                    <a:pt x="1142" y="5277"/>
                  </a:lnTo>
                  <a:lnTo>
                    <a:pt x="1166" y="5258"/>
                  </a:lnTo>
                  <a:lnTo>
                    <a:pt x="1189" y="5239"/>
                  </a:lnTo>
                  <a:lnTo>
                    <a:pt x="1204" y="5216"/>
                  </a:lnTo>
                  <a:lnTo>
                    <a:pt x="1208" y="5187"/>
                  </a:lnTo>
                  <a:lnTo>
                    <a:pt x="1208" y="5140"/>
                  </a:lnTo>
                  <a:lnTo>
                    <a:pt x="1213" y="5093"/>
                  </a:lnTo>
                  <a:lnTo>
                    <a:pt x="1218" y="5069"/>
                  </a:lnTo>
                  <a:lnTo>
                    <a:pt x="1213" y="5050"/>
                  </a:lnTo>
                  <a:lnTo>
                    <a:pt x="1213" y="5041"/>
                  </a:lnTo>
                  <a:lnTo>
                    <a:pt x="1213" y="5032"/>
                  </a:lnTo>
                  <a:lnTo>
                    <a:pt x="1222" y="5017"/>
                  </a:lnTo>
                  <a:lnTo>
                    <a:pt x="1237" y="4999"/>
                  </a:lnTo>
                  <a:lnTo>
                    <a:pt x="1260" y="4975"/>
                  </a:lnTo>
                  <a:lnTo>
                    <a:pt x="1274" y="4970"/>
                  </a:lnTo>
                  <a:lnTo>
                    <a:pt x="1284" y="4966"/>
                  </a:lnTo>
                  <a:lnTo>
                    <a:pt x="1289" y="4961"/>
                  </a:lnTo>
                  <a:lnTo>
                    <a:pt x="1289" y="4951"/>
                  </a:lnTo>
                  <a:lnTo>
                    <a:pt x="1293" y="4937"/>
                  </a:lnTo>
                  <a:lnTo>
                    <a:pt x="1293" y="4918"/>
                  </a:lnTo>
                  <a:lnTo>
                    <a:pt x="1293" y="4909"/>
                  </a:lnTo>
                  <a:lnTo>
                    <a:pt x="1289" y="4904"/>
                  </a:lnTo>
                  <a:lnTo>
                    <a:pt x="1284" y="4899"/>
                  </a:lnTo>
                  <a:lnTo>
                    <a:pt x="1279" y="4895"/>
                  </a:lnTo>
                  <a:lnTo>
                    <a:pt x="1284" y="4890"/>
                  </a:lnTo>
                  <a:lnTo>
                    <a:pt x="1289" y="4876"/>
                  </a:lnTo>
                  <a:lnTo>
                    <a:pt x="1303" y="4862"/>
                  </a:lnTo>
                  <a:lnTo>
                    <a:pt x="1369" y="4796"/>
                  </a:lnTo>
                  <a:lnTo>
                    <a:pt x="1392" y="4767"/>
                  </a:lnTo>
                  <a:lnTo>
                    <a:pt x="1407" y="4763"/>
                  </a:lnTo>
                  <a:lnTo>
                    <a:pt x="1449" y="4758"/>
                  </a:lnTo>
                  <a:lnTo>
                    <a:pt x="1473" y="4767"/>
                  </a:lnTo>
                  <a:lnTo>
                    <a:pt x="1492" y="4781"/>
                  </a:lnTo>
                  <a:lnTo>
                    <a:pt x="1501" y="4786"/>
                  </a:lnTo>
                  <a:lnTo>
                    <a:pt x="1510" y="4786"/>
                  </a:lnTo>
                  <a:lnTo>
                    <a:pt x="1525" y="4791"/>
                  </a:lnTo>
                  <a:lnTo>
                    <a:pt x="1539" y="4786"/>
                  </a:lnTo>
                  <a:lnTo>
                    <a:pt x="1562" y="4781"/>
                  </a:lnTo>
                  <a:lnTo>
                    <a:pt x="1577" y="4777"/>
                  </a:lnTo>
                  <a:lnTo>
                    <a:pt x="1591" y="4767"/>
                  </a:lnTo>
                  <a:lnTo>
                    <a:pt x="1610" y="4748"/>
                  </a:lnTo>
                  <a:lnTo>
                    <a:pt x="1628" y="4720"/>
                  </a:lnTo>
                  <a:lnTo>
                    <a:pt x="1638" y="4697"/>
                  </a:lnTo>
                  <a:lnTo>
                    <a:pt x="1647" y="4682"/>
                  </a:lnTo>
                  <a:lnTo>
                    <a:pt x="1652" y="4673"/>
                  </a:lnTo>
                  <a:lnTo>
                    <a:pt x="1662" y="4663"/>
                  </a:lnTo>
                  <a:lnTo>
                    <a:pt x="1676" y="4659"/>
                  </a:lnTo>
                  <a:lnTo>
                    <a:pt x="1695" y="4649"/>
                  </a:lnTo>
                  <a:lnTo>
                    <a:pt x="1709" y="4645"/>
                  </a:lnTo>
                  <a:lnTo>
                    <a:pt x="1723" y="4630"/>
                  </a:lnTo>
                  <a:lnTo>
                    <a:pt x="1746" y="4612"/>
                  </a:lnTo>
                  <a:lnTo>
                    <a:pt x="1784" y="4574"/>
                  </a:lnTo>
                  <a:lnTo>
                    <a:pt x="1822" y="4545"/>
                  </a:lnTo>
                  <a:lnTo>
                    <a:pt x="1865" y="4494"/>
                  </a:lnTo>
                  <a:lnTo>
                    <a:pt x="1898" y="4465"/>
                  </a:lnTo>
                  <a:lnTo>
                    <a:pt x="1916" y="4461"/>
                  </a:lnTo>
                  <a:lnTo>
                    <a:pt x="1935" y="4461"/>
                  </a:lnTo>
                  <a:lnTo>
                    <a:pt x="1954" y="4451"/>
                  </a:lnTo>
                  <a:lnTo>
                    <a:pt x="1973" y="4437"/>
                  </a:lnTo>
                  <a:lnTo>
                    <a:pt x="2011" y="4409"/>
                  </a:lnTo>
                  <a:lnTo>
                    <a:pt x="2068" y="4357"/>
                  </a:lnTo>
                  <a:lnTo>
                    <a:pt x="2119" y="4314"/>
                  </a:lnTo>
                  <a:lnTo>
                    <a:pt x="2138" y="4295"/>
                  </a:lnTo>
                  <a:lnTo>
                    <a:pt x="2143" y="4286"/>
                  </a:lnTo>
                  <a:lnTo>
                    <a:pt x="2148" y="4272"/>
                  </a:lnTo>
                  <a:lnTo>
                    <a:pt x="2157" y="4262"/>
                  </a:lnTo>
                  <a:lnTo>
                    <a:pt x="2162" y="4253"/>
                  </a:lnTo>
                  <a:lnTo>
                    <a:pt x="2176" y="4243"/>
                  </a:lnTo>
                  <a:lnTo>
                    <a:pt x="2186" y="4243"/>
                  </a:lnTo>
                  <a:lnTo>
                    <a:pt x="2242" y="4229"/>
                  </a:lnTo>
                  <a:lnTo>
                    <a:pt x="2271" y="4220"/>
                  </a:lnTo>
                  <a:lnTo>
                    <a:pt x="2275" y="4210"/>
                  </a:lnTo>
                  <a:lnTo>
                    <a:pt x="2280" y="4191"/>
                  </a:lnTo>
                  <a:lnTo>
                    <a:pt x="2294" y="4173"/>
                  </a:lnTo>
                  <a:lnTo>
                    <a:pt x="2308" y="4154"/>
                  </a:lnTo>
                  <a:lnTo>
                    <a:pt x="2337" y="4140"/>
                  </a:lnTo>
                  <a:lnTo>
                    <a:pt x="2365" y="4121"/>
                  </a:lnTo>
                  <a:lnTo>
                    <a:pt x="2403" y="4083"/>
                  </a:lnTo>
                  <a:lnTo>
                    <a:pt x="2445" y="4050"/>
                  </a:lnTo>
                  <a:lnTo>
                    <a:pt x="2464" y="4036"/>
                  </a:lnTo>
                  <a:lnTo>
                    <a:pt x="2474" y="4026"/>
                  </a:lnTo>
                  <a:lnTo>
                    <a:pt x="2488" y="4017"/>
                  </a:lnTo>
                  <a:lnTo>
                    <a:pt x="2507" y="4017"/>
                  </a:lnTo>
                  <a:lnTo>
                    <a:pt x="2559" y="4012"/>
                  </a:lnTo>
                  <a:lnTo>
                    <a:pt x="2587" y="4007"/>
                  </a:lnTo>
                  <a:lnTo>
                    <a:pt x="2615" y="4003"/>
                  </a:lnTo>
                  <a:lnTo>
                    <a:pt x="2677" y="3993"/>
                  </a:lnTo>
                  <a:lnTo>
                    <a:pt x="2747" y="3984"/>
                  </a:lnTo>
                  <a:lnTo>
                    <a:pt x="2795" y="3979"/>
                  </a:lnTo>
                  <a:lnTo>
                    <a:pt x="2847" y="3974"/>
                  </a:lnTo>
                  <a:lnTo>
                    <a:pt x="2889" y="3974"/>
                  </a:lnTo>
                  <a:lnTo>
                    <a:pt x="2913" y="3974"/>
                  </a:lnTo>
                  <a:lnTo>
                    <a:pt x="2946" y="3979"/>
                  </a:lnTo>
                  <a:lnTo>
                    <a:pt x="2960" y="3989"/>
                  </a:lnTo>
                  <a:lnTo>
                    <a:pt x="2965" y="3998"/>
                  </a:lnTo>
                  <a:lnTo>
                    <a:pt x="2979" y="4003"/>
                  </a:lnTo>
                  <a:lnTo>
                    <a:pt x="3012" y="4003"/>
                  </a:lnTo>
                  <a:lnTo>
                    <a:pt x="3050" y="3998"/>
                  </a:lnTo>
                  <a:lnTo>
                    <a:pt x="3068" y="3993"/>
                  </a:lnTo>
                  <a:lnTo>
                    <a:pt x="3087" y="3989"/>
                  </a:lnTo>
                  <a:lnTo>
                    <a:pt x="3106" y="3979"/>
                  </a:lnTo>
                  <a:lnTo>
                    <a:pt x="3144" y="3960"/>
                  </a:lnTo>
                  <a:lnTo>
                    <a:pt x="3196" y="3937"/>
                  </a:lnTo>
                  <a:lnTo>
                    <a:pt x="3234" y="3913"/>
                  </a:lnTo>
                  <a:lnTo>
                    <a:pt x="3267" y="3889"/>
                  </a:lnTo>
                  <a:lnTo>
                    <a:pt x="3290" y="3871"/>
                  </a:lnTo>
                  <a:lnTo>
                    <a:pt x="3309" y="3861"/>
                  </a:lnTo>
                  <a:lnTo>
                    <a:pt x="3319" y="3847"/>
                  </a:lnTo>
                  <a:lnTo>
                    <a:pt x="3338" y="3828"/>
                  </a:lnTo>
                  <a:lnTo>
                    <a:pt x="3371" y="3781"/>
                  </a:lnTo>
                  <a:lnTo>
                    <a:pt x="3385" y="3762"/>
                  </a:lnTo>
                  <a:lnTo>
                    <a:pt x="3418" y="3696"/>
                  </a:lnTo>
                  <a:lnTo>
                    <a:pt x="3418" y="3686"/>
                  </a:lnTo>
                  <a:lnTo>
                    <a:pt x="3423" y="3663"/>
                  </a:lnTo>
                  <a:lnTo>
                    <a:pt x="3432" y="3649"/>
                  </a:lnTo>
                  <a:lnTo>
                    <a:pt x="3441" y="3639"/>
                  </a:lnTo>
                  <a:lnTo>
                    <a:pt x="3456" y="3625"/>
                  </a:lnTo>
                  <a:lnTo>
                    <a:pt x="3479" y="3616"/>
                  </a:lnTo>
                  <a:lnTo>
                    <a:pt x="3564" y="3639"/>
                  </a:lnTo>
                  <a:lnTo>
                    <a:pt x="3602" y="3653"/>
                  </a:lnTo>
                  <a:lnTo>
                    <a:pt x="3621" y="3658"/>
                  </a:lnTo>
                  <a:lnTo>
                    <a:pt x="3668" y="3658"/>
                  </a:lnTo>
                  <a:lnTo>
                    <a:pt x="3692" y="3658"/>
                  </a:lnTo>
                  <a:lnTo>
                    <a:pt x="3706" y="3658"/>
                  </a:lnTo>
                  <a:lnTo>
                    <a:pt x="3715" y="3658"/>
                  </a:lnTo>
                  <a:lnTo>
                    <a:pt x="3734" y="3639"/>
                  </a:lnTo>
                  <a:lnTo>
                    <a:pt x="3762" y="3592"/>
                  </a:lnTo>
                  <a:lnTo>
                    <a:pt x="3791" y="3564"/>
                  </a:lnTo>
                  <a:lnTo>
                    <a:pt x="3819" y="3540"/>
                  </a:lnTo>
                  <a:lnTo>
                    <a:pt x="3847" y="3521"/>
                  </a:lnTo>
                  <a:lnTo>
                    <a:pt x="3871" y="3507"/>
                  </a:lnTo>
                  <a:lnTo>
                    <a:pt x="3918" y="3488"/>
                  </a:lnTo>
                  <a:lnTo>
                    <a:pt x="3951" y="3474"/>
                  </a:lnTo>
                  <a:lnTo>
                    <a:pt x="3961" y="3465"/>
                  </a:lnTo>
                  <a:lnTo>
                    <a:pt x="3980" y="3460"/>
                  </a:lnTo>
                  <a:lnTo>
                    <a:pt x="4027" y="3455"/>
                  </a:lnTo>
                  <a:lnTo>
                    <a:pt x="4083" y="3450"/>
                  </a:lnTo>
                  <a:lnTo>
                    <a:pt x="4117" y="3441"/>
                  </a:lnTo>
                  <a:lnTo>
                    <a:pt x="4126" y="3436"/>
                  </a:lnTo>
                  <a:lnTo>
                    <a:pt x="4135" y="3432"/>
                  </a:lnTo>
                  <a:lnTo>
                    <a:pt x="4135" y="3422"/>
                  </a:lnTo>
                  <a:lnTo>
                    <a:pt x="4131" y="3413"/>
                  </a:lnTo>
                  <a:lnTo>
                    <a:pt x="4126" y="3394"/>
                  </a:lnTo>
                  <a:lnTo>
                    <a:pt x="4121" y="3375"/>
                  </a:lnTo>
                  <a:lnTo>
                    <a:pt x="4126" y="3366"/>
                  </a:lnTo>
                  <a:lnTo>
                    <a:pt x="4131" y="3361"/>
                  </a:lnTo>
                  <a:lnTo>
                    <a:pt x="4140" y="3361"/>
                  </a:lnTo>
                  <a:lnTo>
                    <a:pt x="4154" y="3361"/>
                  </a:lnTo>
                  <a:lnTo>
                    <a:pt x="4192" y="3361"/>
                  </a:lnTo>
                  <a:lnTo>
                    <a:pt x="4239" y="3366"/>
                  </a:lnTo>
                  <a:lnTo>
                    <a:pt x="4286" y="3366"/>
                  </a:lnTo>
                  <a:lnTo>
                    <a:pt x="4320" y="3370"/>
                  </a:lnTo>
                  <a:lnTo>
                    <a:pt x="4343" y="3370"/>
                  </a:lnTo>
                  <a:lnTo>
                    <a:pt x="4367" y="3361"/>
                  </a:lnTo>
                  <a:lnTo>
                    <a:pt x="4371" y="3356"/>
                  </a:lnTo>
                  <a:lnTo>
                    <a:pt x="4381" y="3347"/>
                  </a:lnTo>
                  <a:lnTo>
                    <a:pt x="4386" y="3337"/>
                  </a:lnTo>
                  <a:lnTo>
                    <a:pt x="4390" y="3328"/>
                  </a:lnTo>
                  <a:lnTo>
                    <a:pt x="4390" y="3309"/>
                  </a:lnTo>
                  <a:lnTo>
                    <a:pt x="4386" y="3295"/>
                  </a:lnTo>
                  <a:lnTo>
                    <a:pt x="4390" y="3281"/>
                  </a:lnTo>
                  <a:lnTo>
                    <a:pt x="4409" y="3257"/>
                  </a:lnTo>
                  <a:lnTo>
                    <a:pt x="4438" y="3233"/>
                  </a:lnTo>
                  <a:lnTo>
                    <a:pt x="4452" y="3219"/>
                  </a:lnTo>
                  <a:lnTo>
                    <a:pt x="4471" y="3210"/>
                  </a:lnTo>
                  <a:lnTo>
                    <a:pt x="4494" y="3205"/>
                  </a:lnTo>
                  <a:lnTo>
                    <a:pt x="4523" y="3200"/>
                  </a:lnTo>
                  <a:lnTo>
                    <a:pt x="4532" y="3196"/>
                  </a:lnTo>
                  <a:lnTo>
                    <a:pt x="4556" y="3200"/>
                  </a:lnTo>
                  <a:lnTo>
                    <a:pt x="4603" y="3200"/>
                  </a:lnTo>
                  <a:lnTo>
                    <a:pt x="4659" y="3196"/>
                  </a:lnTo>
                  <a:lnTo>
                    <a:pt x="4693" y="3186"/>
                  </a:lnTo>
                  <a:lnTo>
                    <a:pt x="4716" y="3172"/>
                  </a:lnTo>
                  <a:lnTo>
                    <a:pt x="4744" y="3163"/>
                  </a:lnTo>
                  <a:lnTo>
                    <a:pt x="4787" y="3144"/>
                  </a:lnTo>
                  <a:lnTo>
                    <a:pt x="4834" y="3125"/>
                  </a:lnTo>
                  <a:lnTo>
                    <a:pt x="4867" y="3106"/>
                  </a:lnTo>
                  <a:lnTo>
                    <a:pt x="4896" y="3092"/>
                  </a:lnTo>
                  <a:lnTo>
                    <a:pt x="4919" y="3078"/>
                  </a:lnTo>
                  <a:lnTo>
                    <a:pt x="4924" y="3073"/>
                  </a:lnTo>
                  <a:lnTo>
                    <a:pt x="4933" y="3068"/>
                  </a:lnTo>
                  <a:lnTo>
                    <a:pt x="4962" y="3059"/>
                  </a:lnTo>
                  <a:lnTo>
                    <a:pt x="4995" y="3049"/>
                  </a:lnTo>
                  <a:lnTo>
                    <a:pt x="5014" y="3035"/>
                  </a:lnTo>
                  <a:lnTo>
                    <a:pt x="5023" y="3030"/>
                  </a:lnTo>
                  <a:lnTo>
                    <a:pt x="5032" y="3030"/>
                  </a:lnTo>
                  <a:lnTo>
                    <a:pt x="5042" y="3030"/>
                  </a:lnTo>
                  <a:lnTo>
                    <a:pt x="5056" y="3040"/>
                  </a:lnTo>
                  <a:lnTo>
                    <a:pt x="5084" y="3054"/>
                  </a:lnTo>
                  <a:lnTo>
                    <a:pt x="5099" y="3059"/>
                  </a:lnTo>
                  <a:lnTo>
                    <a:pt x="5113" y="3063"/>
                  </a:lnTo>
                  <a:lnTo>
                    <a:pt x="5136" y="3063"/>
                  </a:lnTo>
                  <a:lnTo>
                    <a:pt x="5155" y="3063"/>
                  </a:lnTo>
                  <a:lnTo>
                    <a:pt x="5169" y="3059"/>
                  </a:lnTo>
                  <a:lnTo>
                    <a:pt x="5184" y="3054"/>
                  </a:lnTo>
                  <a:lnTo>
                    <a:pt x="5193" y="3045"/>
                  </a:lnTo>
                  <a:lnTo>
                    <a:pt x="5212" y="3030"/>
                  </a:lnTo>
                  <a:lnTo>
                    <a:pt x="5217" y="3021"/>
                  </a:lnTo>
                  <a:lnTo>
                    <a:pt x="5287" y="2960"/>
                  </a:lnTo>
                  <a:lnTo>
                    <a:pt x="5401" y="2851"/>
                  </a:lnTo>
                  <a:lnTo>
                    <a:pt x="5448" y="2785"/>
                  </a:lnTo>
                  <a:lnTo>
                    <a:pt x="5476" y="2747"/>
                  </a:lnTo>
                  <a:lnTo>
                    <a:pt x="5486" y="2738"/>
                  </a:lnTo>
                  <a:lnTo>
                    <a:pt x="5500" y="2733"/>
                  </a:lnTo>
                  <a:lnTo>
                    <a:pt x="5505" y="2719"/>
                  </a:lnTo>
                  <a:lnTo>
                    <a:pt x="5514" y="2700"/>
                  </a:lnTo>
                  <a:lnTo>
                    <a:pt x="5519" y="2658"/>
                  </a:lnTo>
                  <a:lnTo>
                    <a:pt x="5523" y="2601"/>
                  </a:lnTo>
                  <a:lnTo>
                    <a:pt x="5542" y="2577"/>
                  </a:lnTo>
                  <a:lnTo>
                    <a:pt x="5575" y="2549"/>
                  </a:lnTo>
                  <a:lnTo>
                    <a:pt x="5590" y="2530"/>
                  </a:lnTo>
                  <a:lnTo>
                    <a:pt x="5594" y="2511"/>
                  </a:lnTo>
                  <a:lnTo>
                    <a:pt x="5599" y="2488"/>
                  </a:lnTo>
                  <a:lnTo>
                    <a:pt x="5594" y="2459"/>
                  </a:lnTo>
                  <a:lnTo>
                    <a:pt x="5594" y="2450"/>
                  </a:lnTo>
                  <a:lnTo>
                    <a:pt x="5594" y="2440"/>
                  </a:lnTo>
                  <a:lnTo>
                    <a:pt x="5599" y="2431"/>
                  </a:lnTo>
                  <a:lnTo>
                    <a:pt x="5608" y="2422"/>
                  </a:lnTo>
                  <a:lnTo>
                    <a:pt x="5627" y="2412"/>
                  </a:lnTo>
                  <a:lnTo>
                    <a:pt x="5646" y="2398"/>
                  </a:lnTo>
                  <a:lnTo>
                    <a:pt x="5698" y="2365"/>
                  </a:lnTo>
                  <a:lnTo>
                    <a:pt x="5755" y="2337"/>
                  </a:lnTo>
                  <a:lnTo>
                    <a:pt x="5764" y="2327"/>
                  </a:lnTo>
                  <a:lnTo>
                    <a:pt x="5774" y="2318"/>
                  </a:lnTo>
                  <a:lnTo>
                    <a:pt x="5778" y="2304"/>
                  </a:lnTo>
                  <a:lnTo>
                    <a:pt x="5788" y="2289"/>
                  </a:lnTo>
                  <a:lnTo>
                    <a:pt x="5793" y="2256"/>
                  </a:lnTo>
                  <a:lnTo>
                    <a:pt x="5802" y="2223"/>
                  </a:lnTo>
                  <a:lnTo>
                    <a:pt x="5802" y="2204"/>
                  </a:lnTo>
                  <a:lnTo>
                    <a:pt x="5802" y="2195"/>
                  </a:lnTo>
                  <a:lnTo>
                    <a:pt x="5797" y="2181"/>
                  </a:lnTo>
                  <a:lnTo>
                    <a:pt x="5793" y="2171"/>
                  </a:lnTo>
                  <a:lnTo>
                    <a:pt x="5778" y="2153"/>
                  </a:lnTo>
                  <a:lnTo>
                    <a:pt x="5759" y="2134"/>
                  </a:lnTo>
                  <a:lnTo>
                    <a:pt x="5741" y="2115"/>
                  </a:lnTo>
                  <a:lnTo>
                    <a:pt x="5736" y="2101"/>
                  </a:lnTo>
                  <a:lnTo>
                    <a:pt x="5736" y="2082"/>
                  </a:lnTo>
                  <a:lnTo>
                    <a:pt x="5741" y="2068"/>
                  </a:lnTo>
                  <a:lnTo>
                    <a:pt x="5731" y="2049"/>
                  </a:lnTo>
                  <a:lnTo>
                    <a:pt x="5722" y="2016"/>
                  </a:lnTo>
                  <a:lnTo>
                    <a:pt x="5731" y="1987"/>
                  </a:lnTo>
                  <a:lnTo>
                    <a:pt x="5741" y="1964"/>
                  </a:lnTo>
                  <a:lnTo>
                    <a:pt x="5745" y="1945"/>
                  </a:lnTo>
                  <a:lnTo>
                    <a:pt x="5741" y="1926"/>
                  </a:lnTo>
                  <a:lnTo>
                    <a:pt x="5741" y="1912"/>
                  </a:lnTo>
                  <a:lnTo>
                    <a:pt x="5736" y="1907"/>
                  </a:lnTo>
                  <a:lnTo>
                    <a:pt x="5731" y="1902"/>
                  </a:lnTo>
                  <a:lnTo>
                    <a:pt x="5722" y="1902"/>
                  </a:lnTo>
                  <a:lnTo>
                    <a:pt x="5703" y="1898"/>
                  </a:lnTo>
                  <a:lnTo>
                    <a:pt x="5689" y="1893"/>
                  </a:lnTo>
                  <a:lnTo>
                    <a:pt x="5641" y="1874"/>
                  </a:lnTo>
                  <a:lnTo>
                    <a:pt x="5613" y="1865"/>
                  </a:lnTo>
                  <a:lnTo>
                    <a:pt x="5613" y="1855"/>
                  </a:lnTo>
                  <a:lnTo>
                    <a:pt x="5604" y="1841"/>
                  </a:lnTo>
                  <a:lnTo>
                    <a:pt x="5599" y="1836"/>
                  </a:lnTo>
                  <a:lnTo>
                    <a:pt x="5590" y="1827"/>
                  </a:lnTo>
                  <a:lnTo>
                    <a:pt x="5580" y="1827"/>
                  </a:lnTo>
                  <a:lnTo>
                    <a:pt x="5566" y="1827"/>
                  </a:lnTo>
                  <a:lnTo>
                    <a:pt x="5542" y="1832"/>
                  </a:lnTo>
                  <a:lnTo>
                    <a:pt x="5523" y="1832"/>
                  </a:lnTo>
                  <a:lnTo>
                    <a:pt x="5509" y="1832"/>
                  </a:lnTo>
                  <a:lnTo>
                    <a:pt x="5490" y="1822"/>
                  </a:lnTo>
                  <a:lnTo>
                    <a:pt x="5472" y="1799"/>
                  </a:lnTo>
                  <a:lnTo>
                    <a:pt x="5457" y="1780"/>
                  </a:lnTo>
                  <a:lnTo>
                    <a:pt x="5453" y="1775"/>
                  </a:lnTo>
                  <a:lnTo>
                    <a:pt x="5443" y="1770"/>
                  </a:lnTo>
                  <a:lnTo>
                    <a:pt x="5438" y="1770"/>
                  </a:lnTo>
                  <a:lnTo>
                    <a:pt x="5434" y="1780"/>
                  </a:lnTo>
                  <a:lnTo>
                    <a:pt x="5429" y="1761"/>
                  </a:lnTo>
                  <a:lnTo>
                    <a:pt x="5415" y="1761"/>
                  </a:lnTo>
                  <a:lnTo>
                    <a:pt x="5391" y="1709"/>
                  </a:lnTo>
                  <a:lnTo>
                    <a:pt x="5387" y="1709"/>
                  </a:lnTo>
                  <a:lnTo>
                    <a:pt x="5372" y="1709"/>
                  </a:lnTo>
                  <a:lnTo>
                    <a:pt x="5368" y="1704"/>
                  </a:lnTo>
                  <a:lnTo>
                    <a:pt x="5358" y="1695"/>
                  </a:lnTo>
                  <a:lnTo>
                    <a:pt x="5353" y="1685"/>
                  </a:lnTo>
                  <a:lnTo>
                    <a:pt x="5349" y="1666"/>
                  </a:lnTo>
                  <a:lnTo>
                    <a:pt x="5330" y="1600"/>
                  </a:lnTo>
                  <a:lnTo>
                    <a:pt x="5325" y="1558"/>
                  </a:lnTo>
                  <a:lnTo>
                    <a:pt x="5320" y="1534"/>
                  </a:lnTo>
                  <a:lnTo>
                    <a:pt x="5311" y="1511"/>
                  </a:lnTo>
                  <a:lnTo>
                    <a:pt x="5306" y="1496"/>
                  </a:lnTo>
                  <a:lnTo>
                    <a:pt x="5311" y="1487"/>
                  </a:lnTo>
                  <a:lnTo>
                    <a:pt x="5316" y="1478"/>
                  </a:lnTo>
                  <a:lnTo>
                    <a:pt x="5330" y="1468"/>
                  </a:lnTo>
                  <a:lnTo>
                    <a:pt x="5363" y="1454"/>
                  </a:lnTo>
                  <a:lnTo>
                    <a:pt x="5391" y="1445"/>
                  </a:lnTo>
                  <a:lnTo>
                    <a:pt x="5415" y="1435"/>
                  </a:lnTo>
                  <a:lnTo>
                    <a:pt x="5434" y="1421"/>
                  </a:lnTo>
                  <a:lnTo>
                    <a:pt x="5443" y="1402"/>
                  </a:lnTo>
                  <a:lnTo>
                    <a:pt x="5453" y="1383"/>
                  </a:lnTo>
                  <a:lnTo>
                    <a:pt x="5453" y="1369"/>
                  </a:lnTo>
                  <a:lnTo>
                    <a:pt x="5453" y="1350"/>
                  </a:lnTo>
                  <a:lnTo>
                    <a:pt x="5453" y="1331"/>
                  </a:lnTo>
                  <a:lnTo>
                    <a:pt x="5462" y="1308"/>
                  </a:lnTo>
                  <a:lnTo>
                    <a:pt x="5472" y="1289"/>
                  </a:lnTo>
                  <a:lnTo>
                    <a:pt x="5490" y="1270"/>
                  </a:lnTo>
                  <a:lnTo>
                    <a:pt x="5509" y="1251"/>
                  </a:lnTo>
                  <a:lnTo>
                    <a:pt x="5519" y="1232"/>
                  </a:lnTo>
                  <a:lnTo>
                    <a:pt x="5523" y="1227"/>
                  </a:lnTo>
                  <a:lnTo>
                    <a:pt x="5533" y="1227"/>
                  </a:lnTo>
                  <a:lnTo>
                    <a:pt x="5547" y="1232"/>
                  </a:lnTo>
                  <a:lnTo>
                    <a:pt x="5561" y="1242"/>
                  </a:lnTo>
                  <a:lnTo>
                    <a:pt x="5590" y="1270"/>
                  </a:lnTo>
                  <a:lnTo>
                    <a:pt x="5608" y="1279"/>
                  </a:lnTo>
                  <a:lnTo>
                    <a:pt x="5627" y="1284"/>
                  </a:lnTo>
                  <a:lnTo>
                    <a:pt x="5656" y="1279"/>
                  </a:lnTo>
                  <a:lnTo>
                    <a:pt x="5712" y="1265"/>
                  </a:lnTo>
                  <a:lnTo>
                    <a:pt x="5731" y="1260"/>
                  </a:lnTo>
                  <a:lnTo>
                    <a:pt x="5741" y="1199"/>
                  </a:lnTo>
                  <a:lnTo>
                    <a:pt x="5793" y="1161"/>
                  </a:lnTo>
                  <a:lnTo>
                    <a:pt x="5844" y="1119"/>
                  </a:lnTo>
                  <a:lnTo>
                    <a:pt x="5849" y="1119"/>
                  </a:lnTo>
                  <a:lnTo>
                    <a:pt x="5878" y="1095"/>
                  </a:lnTo>
                  <a:lnTo>
                    <a:pt x="5896" y="1058"/>
                  </a:lnTo>
                  <a:lnTo>
                    <a:pt x="5915" y="1029"/>
                  </a:lnTo>
                  <a:lnTo>
                    <a:pt x="5929" y="1015"/>
                  </a:lnTo>
                  <a:lnTo>
                    <a:pt x="5939" y="1006"/>
                  </a:lnTo>
                  <a:lnTo>
                    <a:pt x="5944" y="1006"/>
                  </a:lnTo>
                  <a:lnTo>
                    <a:pt x="5963" y="1006"/>
                  </a:lnTo>
                  <a:lnTo>
                    <a:pt x="6019" y="1010"/>
                  </a:lnTo>
                  <a:lnTo>
                    <a:pt x="6057" y="1006"/>
                  </a:lnTo>
                  <a:lnTo>
                    <a:pt x="6076" y="996"/>
                  </a:lnTo>
                  <a:lnTo>
                    <a:pt x="6132" y="977"/>
                  </a:lnTo>
                  <a:lnTo>
                    <a:pt x="6184" y="977"/>
                  </a:lnTo>
                  <a:lnTo>
                    <a:pt x="6227" y="982"/>
                  </a:lnTo>
                  <a:lnTo>
                    <a:pt x="6250" y="982"/>
                  </a:lnTo>
                  <a:lnTo>
                    <a:pt x="6265" y="987"/>
                  </a:lnTo>
                  <a:lnTo>
                    <a:pt x="6269" y="991"/>
                  </a:lnTo>
                  <a:lnTo>
                    <a:pt x="6274" y="991"/>
                  </a:lnTo>
                  <a:lnTo>
                    <a:pt x="6279" y="987"/>
                  </a:lnTo>
                  <a:lnTo>
                    <a:pt x="6284" y="977"/>
                  </a:lnTo>
                  <a:lnTo>
                    <a:pt x="6298" y="949"/>
                  </a:lnTo>
                  <a:lnTo>
                    <a:pt x="6321" y="916"/>
                  </a:lnTo>
                  <a:lnTo>
                    <a:pt x="6326" y="892"/>
                  </a:lnTo>
                  <a:lnTo>
                    <a:pt x="6321" y="878"/>
                  </a:lnTo>
                  <a:lnTo>
                    <a:pt x="6321" y="869"/>
                  </a:lnTo>
                  <a:lnTo>
                    <a:pt x="6326" y="864"/>
                  </a:lnTo>
                  <a:lnTo>
                    <a:pt x="6326" y="859"/>
                  </a:lnTo>
                  <a:lnTo>
                    <a:pt x="6335" y="855"/>
                  </a:lnTo>
                  <a:lnTo>
                    <a:pt x="6369" y="836"/>
                  </a:lnTo>
                  <a:lnTo>
                    <a:pt x="6383" y="831"/>
                  </a:lnTo>
                  <a:lnTo>
                    <a:pt x="6387" y="836"/>
                  </a:lnTo>
                  <a:lnTo>
                    <a:pt x="6397" y="845"/>
                  </a:lnTo>
                  <a:lnTo>
                    <a:pt x="6406" y="845"/>
                  </a:lnTo>
                  <a:lnTo>
                    <a:pt x="6411" y="845"/>
                  </a:lnTo>
                  <a:lnTo>
                    <a:pt x="6416" y="845"/>
                  </a:lnTo>
                  <a:lnTo>
                    <a:pt x="6420" y="836"/>
                  </a:lnTo>
                  <a:lnTo>
                    <a:pt x="6425" y="822"/>
                  </a:lnTo>
                  <a:lnTo>
                    <a:pt x="6425" y="807"/>
                  </a:lnTo>
                  <a:lnTo>
                    <a:pt x="6420" y="793"/>
                  </a:lnTo>
                  <a:lnTo>
                    <a:pt x="6416" y="774"/>
                  </a:lnTo>
                  <a:lnTo>
                    <a:pt x="6411" y="755"/>
                  </a:lnTo>
                  <a:lnTo>
                    <a:pt x="6406" y="737"/>
                  </a:lnTo>
                  <a:lnTo>
                    <a:pt x="6420" y="732"/>
                  </a:lnTo>
                  <a:lnTo>
                    <a:pt x="6444" y="722"/>
                  </a:lnTo>
                  <a:lnTo>
                    <a:pt x="6468" y="718"/>
                  </a:lnTo>
                  <a:lnTo>
                    <a:pt x="6472" y="718"/>
                  </a:lnTo>
                  <a:lnTo>
                    <a:pt x="6477" y="713"/>
                  </a:lnTo>
                  <a:lnTo>
                    <a:pt x="6487" y="713"/>
                  </a:lnTo>
                  <a:lnTo>
                    <a:pt x="6496" y="713"/>
                  </a:lnTo>
                  <a:lnTo>
                    <a:pt x="6501" y="718"/>
                  </a:lnTo>
                  <a:lnTo>
                    <a:pt x="6515" y="699"/>
                  </a:lnTo>
                  <a:lnTo>
                    <a:pt x="6524" y="670"/>
                  </a:lnTo>
                  <a:lnTo>
                    <a:pt x="6520" y="661"/>
                  </a:lnTo>
                  <a:lnTo>
                    <a:pt x="6515" y="652"/>
                  </a:lnTo>
                  <a:lnTo>
                    <a:pt x="6515" y="647"/>
                  </a:lnTo>
                  <a:lnTo>
                    <a:pt x="6515" y="642"/>
                  </a:lnTo>
                  <a:lnTo>
                    <a:pt x="6520" y="637"/>
                  </a:lnTo>
                  <a:lnTo>
                    <a:pt x="6529" y="633"/>
                  </a:lnTo>
                  <a:lnTo>
                    <a:pt x="6557" y="619"/>
                  </a:lnTo>
                  <a:lnTo>
                    <a:pt x="6581" y="600"/>
                  </a:lnTo>
                  <a:lnTo>
                    <a:pt x="6595" y="586"/>
                  </a:lnTo>
                  <a:lnTo>
                    <a:pt x="6605" y="567"/>
                  </a:lnTo>
                  <a:lnTo>
                    <a:pt x="6609" y="562"/>
                  </a:lnTo>
                  <a:lnTo>
                    <a:pt x="6609" y="557"/>
                  </a:lnTo>
                  <a:lnTo>
                    <a:pt x="6614" y="562"/>
                  </a:lnTo>
                  <a:lnTo>
                    <a:pt x="6623" y="571"/>
                  </a:lnTo>
                  <a:lnTo>
                    <a:pt x="6623" y="557"/>
                  </a:lnTo>
                  <a:lnTo>
                    <a:pt x="6623" y="534"/>
                  </a:lnTo>
                  <a:lnTo>
                    <a:pt x="6623" y="515"/>
                  </a:lnTo>
                  <a:lnTo>
                    <a:pt x="6633" y="501"/>
                  </a:lnTo>
                  <a:lnTo>
                    <a:pt x="6657" y="491"/>
                  </a:lnTo>
                  <a:lnTo>
                    <a:pt x="6675" y="477"/>
                  </a:lnTo>
                  <a:lnTo>
                    <a:pt x="6690" y="468"/>
                  </a:lnTo>
                  <a:lnTo>
                    <a:pt x="6699" y="463"/>
                  </a:lnTo>
                  <a:lnTo>
                    <a:pt x="6708" y="458"/>
                  </a:lnTo>
                  <a:lnTo>
                    <a:pt x="6727" y="463"/>
                  </a:lnTo>
                  <a:lnTo>
                    <a:pt x="6746" y="472"/>
                  </a:lnTo>
                  <a:lnTo>
                    <a:pt x="6756" y="486"/>
                  </a:lnTo>
                  <a:lnTo>
                    <a:pt x="6765" y="491"/>
                  </a:lnTo>
                  <a:lnTo>
                    <a:pt x="6770" y="491"/>
                  </a:lnTo>
                  <a:lnTo>
                    <a:pt x="6779" y="491"/>
                  </a:lnTo>
                  <a:lnTo>
                    <a:pt x="6789" y="482"/>
                  </a:lnTo>
                  <a:lnTo>
                    <a:pt x="6822" y="463"/>
                  </a:lnTo>
                  <a:lnTo>
                    <a:pt x="6850" y="439"/>
                  </a:lnTo>
                  <a:lnTo>
                    <a:pt x="6874" y="420"/>
                  </a:lnTo>
                  <a:lnTo>
                    <a:pt x="6897" y="416"/>
                  </a:lnTo>
                  <a:lnTo>
                    <a:pt x="6926" y="411"/>
                  </a:lnTo>
                  <a:lnTo>
                    <a:pt x="6973" y="392"/>
                  </a:lnTo>
                  <a:lnTo>
                    <a:pt x="7006" y="383"/>
                  </a:lnTo>
                  <a:lnTo>
                    <a:pt x="7015" y="373"/>
                  </a:lnTo>
                  <a:lnTo>
                    <a:pt x="7029" y="364"/>
                  </a:lnTo>
                  <a:lnTo>
                    <a:pt x="7063" y="364"/>
                  </a:lnTo>
                  <a:lnTo>
                    <a:pt x="7105" y="359"/>
                  </a:lnTo>
                  <a:lnTo>
                    <a:pt x="7133" y="350"/>
                  </a:lnTo>
                  <a:lnTo>
                    <a:pt x="7148" y="345"/>
                  </a:lnTo>
                  <a:lnTo>
                    <a:pt x="7157" y="345"/>
                  </a:lnTo>
                  <a:lnTo>
                    <a:pt x="7171" y="345"/>
                  </a:lnTo>
                  <a:lnTo>
                    <a:pt x="7185" y="350"/>
                  </a:lnTo>
                  <a:lnTo>
                    <a:pt x="7204" y="364"/>
                  </a:lnTo>
                  <a:lnTo>
                    <a:pt x="7223" y="364"/>
                  </a:lnTo>
                  <a:lnTo>
                    <a:pt x="7237" y="359"/>
                  </a:lnTo>
                  <a:lnTo>
                    <a:pt x="7256" y="350"/>
                  </a:lnTo>
                  <a:lnTo>
                    <a:pt x="7275" y="326"/>
                  </a:lnTo>
                  <a:lnTo>
                    <a:pt x="7294" y="321"/>
                  </a:lnTo>
                  <a:lnTo>
                    <a:pt x="7322" y="312"/>
                  </a:lnTo>
                  <a:lnTo>
                    <a:pt x="7360" y="302"/>
                  </a:lnTo>
                  <a:lnTo>
                    <a:pt x="7398" y="293"/>
                  </a:lnTo>
                  <a:lnTo>
                    <a:pt x="7421" y="293"/>
                  </a:lnTo>
                  <a:lnTo>
                    <a:pt x="7431" y="302"/>
                  </a:lnTo>
                  <a:lnTo>
                    <a:pt x="7440" y="307"/>
                  </a:lnTo>
                  <a:lnTo>
                    <a:pt x="7450" y="307"/>
                  </a:lnTo>
                  <a:lnTo>
                    <a:pt x="7469" y="302"/>
                  </a:lnTo>
                  <a:lnTo>
                    <a:pt x="7487" y="307"/>
                  </a:lnTo>
                  <a:lnTo>
                    <a:pt x="7516" y="298"/>
                  </a:lnTo>
                  <a:lnTo>
                    <a:pt x="7554" y="279"/>
                  </a:lnTo>
                  <a:lnTo>
                    <a:pt x="7572" y="265"/>
                  </a:lnTo>
                  <a:lnTo>
                    <a:pt x="7591" y="255"/>
                  </a:lnTo>
                  <a:lnTo>
                    <a:pt x="7601" y="246"/>
                  </a:lnTo>
                  <a:lnTo>
                    <a:pt x="7615" y="246"/>
                  </a:lnTo>
                  <a:lnTo>
                    <a:pt x="7634" y="250"/>
                  </a:lnTo>
                  <a:lnTo>
                    <a:pt x="7648" y="265"/>
                  </a:lnTo>
                  <a:lnTo>
                    <a:pt x="7653" y="274"/>
                  </a:lnTo>
                  <a:lnTo>
                    <a:pt x="7657" y="279"/>
                  </a:lnTo>
                  <a:lnTo>
                    <a:pt x="7672" y="274"/>
                  </a:lnTo>
                  <a:lnTo>
                    <a:pt x="7681" y="269"/>
                  </a:lnTo>
                  <a:lnTo>
                    <a:pt x="7690" y="265"/>
                  </a:lnTo>
                  <a:lnTo>
                    <a:pt x="7690" y="255"/>
                  </a:lnTo>
                  <a:lnTo>
                    <a:pt x="7695" y="250"/>
                  </a:lnTo>
                  <a:lnTo>
                    <a:pt x="7695" y="246"/>
                  </a:lnTo>
                  <a:lnTo>
                    <a:pt x="7700" y="241"/>
                  </a:lnTo>
                  <a:lnTo>
                    <a:pt x="7709" y="241"/>
                  </a:lnTo>
                  <a:lnTo>
                    <a:pt x="7719" y="241"/>
                  </a:lnTo>
                  <a:lnTo>
                    <a:pt x="7733" y="255"/>
                  </a:lnTo>
                  <a:lnTo>
                    <a:pt x="7742" y="265"/>
                  </a:lnTo>
                  <a:lnTo>
                    <a:pt x="7747" y="269"/>
                  </a:lnTo>
                  <a:lnTo>
                    <a:pt x="7752" y="274"/>
                  </a:lnTo>
                  <a:lnTo>
                    <a:pt x="7761" y="274"/>
                  </a:lnTo>
                  <a:lnTo>
                    <a:pt x="7780" y="269"/>
                  </a:lnTo>
                  <a:lnTo>
                    <a:pt x="7808" y="265"/>
                  </a:lnTo>
                  <a:lnTo>
                    <a:pt x="7823" y="255"/>
                  </a:lnTo>
                  <a:lnTo>
                    <a:pt x="7832" y="246"/>
                  </a:lnTo>
                  <a:lnTo>
                    <a:pt x="7842" y="232"/>
                  </a:lnTo>
                  <a:lnTo>
                    <a:pt x="7875" y="208"/>
                  </a:lnTo>
                  <a:lnTo>
                    <a:pt x="7884" y="203"/>
                  </a:lnTo>
                  <a:lnTo>
                    <a:pt x="7898" y="198"/>
                  </a:lnTo>
                  <a:lnTo>
                    <a:pt x="7931" y="180"/>
                  </a:lnTo>
                  <a:lnTo>
                    <a:pt x="7964" y="170"/>
                  </a:lnTo>
                  <a:lnTo>
                    <a:pt x="7983" y="170"/>
                  </a:lnTo>
                  <a:lnTo>
                    <a:pt x="7993" y="175"/>
                  </a:lnTo>
                  <a:lnTo>
                    <a:pt x="8002" y="180"/>
                  </a:lnTo>
                  <a:lnTo>
                    <a:pt x="8016" y="180"/>
                  </a:lnTo>
                  <a:lnTo>
                    <a:pt x="8040" y="170"/>
                  </a:lnTo>
                  <a:lnTo>
                    <a:pt x="8063" y="165"/>
                  </a:lnTo>
                  <a:lnTo>
                    <a:pt x="8073" y="165"/>
                  </a:lnTo>
                  <a:lnTo>
                    <a:pt x="8082" y="165"/>
                  </a:lnTo>
                  <a:lnTo>
                    <a:pt x="8092" y="151"/>
                  </a:lnTo>
                  <a:lnTo>
                    <a:pt x="8106" y="137"/>
                  </a:lnTo>
                  <a:lnTo>
                    <a:pt x="8111" y="128"/>
                  </a:lnTo>
                  <a:lnTo>
                    <a:pt x="8115" y="118"/>
                  </a:lnTo>
                  <a:lnTo>
                    <a:pt x="8125" y="118"/>
                  </a:lnTo>
                  <a:lnTo>
                    <a:pt x="8139" y="123"/>
                  </a:lnTo>
                  <a:lnTo>
                    <a:pt x="8153" y="137"/>
                  </a:lnTo>
                  <a:lnTo>
                    <a:pt x="8158" y="147"/>
                  </a:lnTo>
                  <a:lnTo>
                    <a:pt x="8167" y="151"/>
                  </a:lnTo>
                  <a:lnTo>
                    <a:pt x="8172" y="151"/>
                  </a:lnTo>
                  <a:lnTo>
                    <a:pt x="8181" y="147"/>
                  </a:lnTo>
                  <a:lnTo>
                    <a:pt x="8191" y="132"/>
                  </a:lnTo>
                  <a:lnTo>
                    <a:pt x="8191" y="118"/>
                  </a:lnTo>
                  <a:lnTo>
                    <a:pt x="8196" y="109"/>
                  </a:lnTo>
                  <a:lnTo>
                    <a:pt x="8200" y="104"/>
                  </a:lnTo>
                  <a:lnTo>
                    <a:pt x="8205" y="99"/>
                  </a:lnTo>
                  <a:lnTo>
                    <a:pt x="8219" y="95"/>
                  </a:lnTo>
                  <a:lnTo>
                    <a:pt x="8257" y="80"/>
                  </a:lnTo>
                  <a:lnTo>
                    <a:pt x="8304" y="71"/>
                  </a:lnTo>
                  <a:lnTo>
                    <a:pt x="8342" y="71"/>
                  </a:lnTo>
                  <a:lnTo>
                    <a:pt x="8389" y="66"/>
                  </a:lnTo>
                  <a:lnTo>
                    <a:pt x="8441" y="57"/>
                  </a:lnTo>
                  <a:lnTo>
                    <a:pt x="8465" y="47"/>
                  </a:lnTo>
                  <a:lnTo>
                    <a:pt x="8498" y="52"/>
                  </a:lnTo>
                  <a:lnTo>
                    <a:pt x="8550" y="66"/>
                  </a:lnTo>
                  <a:lnTo>
                    <a:pt x="8578" y="71"/>
                  </a:lnTo>
                  <a:lnTo>
                    <a:pt x="8597" y="80"/>
                  </a:lnTo>
                  <a:lnTo>
                    <a:pt x="8616" y="80"/>
                  </a:lnTo>
                  <a:lnTo>
                    <a:pt x="8644" y="71"/>
                  </a:lnTo>
                  <a:lnTo>
                    <a:pt x="8687" y="43"/>
                  </a:lnTo>
                  <a:lnTo>
                    <a:pt x="8710" y="19"/>
                  </a:lnTo>
                  <a:lnTo>
                    <a:pt x="8734" y="10"/>
                  </a:lnTo>
                  <a:lnTo>
                    <a:pt x="8753" y="5"/>
                  </a:lnTo>
                  <a:lnTo>
                    <a:pt x="8762" y="0"/>
                  </a:lnTo>
                  <a:lnTo>
                    <a:pt x="8776" y="5"/>
                  </a:lnTo>
                  <a:lnTo>
                    <a:pt x="8786" y="10"/>
                  </a:lnTo>
                  <a:lnTo>
                    <a:pt x="8805" y="19"/>
                  </a:lnTo>
                  <a:lnTo>
                    <a:pt x="8814" y="33"/>
                  </a:lnTo>
                  <a:lnTo>
                    <a:pt x="8824" y="47"/>
                  </a:lnTo>
                  <a:lnTo>
                    <a:pt x="8828" y="62"/>
                  </a:lnTo>
                  <a:lnTo>
                    <a:pt x="8828" y="71"/>
                  </a:lnTo>
                  <a:lnTo>
                    <a:pt x="8833" y="80"/>
                  </a:lnTo>
                  <a:lnTo>
                    <a:pt x="8842" y="90"/>
                  </a:lnTo>
                  <a:lnTo>
                    <a:pt x="8857" y="90"/>
                  </a:lnTo>
                  <a:lnTo>
                    <a:pt x="8880" y="90"/>
                  </a:lnTo>
                  <a:lnTo>
                    <a:pt x="8942" y="76"/>
                  </a:lnTo>
                  <a:lnTo>
                    <a:pt x="8965" y="66"/>
                  </a:lnTo>
                  <a:lnTo>
                    <a:pt x="9008" y="66"/>
                  </a:lnTo>
                  <a:lnTo>
                    <a:pt x="9031" y="71"/>
                  </a:lnTo>
                  <a:lnTo>
                    <a:pt x="9130" y="66"/>
                  </a:lnTo>
                  <a:lnTo>
                    <a:pt x="9154" y="76"/>
                  </a:lnTo>
                  <a:lnTo>
                    <a:pt x="9187" y="95"/>
                  </a:lnTo>
                  <a:lnTo>
                    <a:pt x="9201" y="104"/>
                  </a:lnTo>
                  <a:lnTo>
                    <a:pt x="9230" y="128"/>
                  </a:lnTo>
                  <a:lnTo>
                    <a:pt x="9258" y="147"/>
                  </a:lnTo>
                  <a:lnTo>
                    <a:pt x="9277" y="161"/>
                  </a:lnTo>
                  <a:lnTo>
                    <a:pt x="9286" y="165"/>
                  </a:lnTo>
                  <a:lnTo>
                    <a:pt x="9300" y="170"/>
                  </a:lnTo>
                  <a:lnTo>
                    <a:pt x="9310" y="165"/>
                  </a:lnTo>
                  <a:lnTo>
                    <a:pt x="9324" y="161"/>
                  </a:lnTo>
                  <a:lnTo>
                    <a:pt x="9352" y="147"/>
                  </a:lnTo>
                  <a:lnTo>
                    <a:pt x="9376" y="137"/>
                  </a:lnTo>
                  <a:lnTo>
                    <a:pt x="9414" y="132"/>
                  </a:lnTo>
                  <a:lnTo>
                    <a:pt x="9461" y="132"/>
                  </a:lnTo>
                  <a:lnTo>
                    <a:pt x="9494" y="132"/>
                  </a:lnTo>
                  <a:lnTo>
                    <a:pt x="9532" y="137"/>
                  </a:lnTo>
                  <a:lnTo>
                    <a:pt x="9555" y="142"/>
                  </a:lnTo>
                  <a:lnTo>
                    <a:pt x="9574" y="142"/>
                  </a:lnTo>
                  <a:lnTo>
                    <a:pt x="9584" y="142"/>
                  </a:lnTo>
                  <a:lnTo>
                    <a:pt x="9593" y="151"/>
                  </a:lnTo>
                  <a:lnTo>
                    <a:pt x="9603" y="161"/>
                  </a:lnTo>
                  <a:lnTo>
                    <a:pt x="9612" y="175"/>
                  </a:lnTo>
                  <a:lnTo>
                    <a:pt x="9631" y="236"/>
                  </a:lnTo>
                  <a:lnTo>
                    <a:pt x="9650" y="283"/>
                  </a:lnTo>
                  <a:lnTo>
                    <a:pt x="9673" y="307"/>
                  </a:lnTo>
                  <a:lnTo>
                    <a:pt x="9702" y="340"/>
                  </a:lnTo>
                  <a:lnTo>
                    <a:pt x="9725" y="373"/>
                  </a:lnTo>
                  <a:lnTo>
                    <a:pt x="9744" y="401"/>
                  </a:lnTo>
                  <a:lnTo>
                    <a:pt x="9749" y="416"/>
                  </a:lnTo>
                  <a:lnTo>
                    <a:pt x="9758" y="430"/>
                  </a:lnTo>
                  <a:lnTo>
                    <a:pt x="9763" y="444"/>
                  </a:lnTo>
                  <a:lnTo>
                    <a:pt x="9763" y="463"/>
                  </a:lnTo>
                  <a:lnTo>
                    <a:pt x="9758" y="496"/>
                  </a:lnTo>
                  <a:lnTo>
                    <a:pt x="9754" y="519"/>
                  </a:lnTo>
                  <a:lnTo>
                    <a:pt x="9754" y="529"/>
                  </a:lnTo>
                  <a:lnTo>
                    <a:pt x="9754" y="538"/>
                  </a:lnTo>
                  <a:lnTo>
                    <a:pt x="9763" y="548"/>
                  </a:lnTo>
                  <a:lnTo>
                    <a:pt x="9782" y="562"/>
                  </a:lnTo>
                  <a:lnTo>
                    <a:pt x="9815" y="586"/>
                  </a:lnTo>
                  <a:lnTo>
                    <a:pt x="9839" y="600"/>
                  </a:lnTo>
                  <a:lnTo>
                    <a:pt x="9857" y="614"/>
                  </a:lnTo>
                  <a:lnTo>
                    <a:pt x="9876" y="637"/>
                  </a:lnTo>
                  <a:lnTo>
                    <a:pt x="9891" y="666"/>
                  </a:lnTo>
                  <a:lnTo>
                    <a:pt x="9905" y="689"/>
                  </a:lnTo>
                  <a:lnTo>
                    <a:pt x="9909" y="718"/>
                  </a:lnTo>
                  <a:lnTo>
                    <a:pt x="9914" y="741"/>
                  </a:lnTo>
                  <a:lnTo>
                    <a:pt x="9914" y="788"/>
                  </a:lnTo>
                  <a:lnTo>
                    <a:pt x="9924" y="831"/>
                  </a:lnTo>
                  <a:lnTo>
                    <a:pt x="9947" y="869"/>
                  </a:lnTo>
                  <a:lnTo>
                    <a:pt x="9985" y="921"/>
                  </a:lnTo>
                  <a:lnTo>
                    <a:pt x="10023" y="968"/>
                  </a:lnTo>
                  <a:lnTo>
                    <a:pt x="10065" y="1015"/>
                  </a:lnTo>
                  <a:lnTo>
                    <a:pt x="10089" y="1039"/>
                  </a:lnTo>
                  <a:lnTo>
                    <a:pt x="10103" y="1053"/>
                  </a:lnTo>
                  <a:lnTo>
                    <a:pt x="10112" y="1072"/>
                  </a:lnTo>
                  <a:lnTo>
                    <a:pt x="10117" y="1091"/>
                  </a:lnTo>
                  <a:lnTo>
                    <a:pt x="10136" y="1133"/>
                  </a:lnTo>
                  <a:lnTo>
                    <a:pt x="10183" y="1194"/>
                  </a:lnTo>
                  <a:lnTo>
                    <a:pt x="10226" y="1251"/>
                  </a:lnTo>
                  <a:lnTo>
                    <a:pt x="10254" y="1289"/>
                  </a:lnTo>
                  <a:lnTo>
                    <a:pt x="10254" y="1298"/>
                  </a:lnTo>
                  <a:lnTo>
                    <a:pt x="10259" y="1308"/>
                  </a:lnTo>
                  <a:lnTo>
                    <a:pt x="10268" y="1317"/>
                  </a:lnTo>
                  <a:lnTo>
                    <a:pt x="10282" y="1336"/>
                  </a:lnTo>
                  <a:lnTo>
                    <a:pt x="10311" y="1369"/>
                  </a:lnTo>
                  <a:lnTo>
                    <a:pt x="10344" y="1407"/>
                  </a:lnTo>
                  <a:lnTo>
                    <a:pt x="10372" y="1430"/>
                  </a:lnTo>
                  <a:lnTo>
                    <a:pt x="10405" y="1454"/>
                  </a:lnTo>
                  <a:lnTo>
                    <a:pt x="10419" y="1463"/>
                  </a:lnTo>
                  <a:lnTo>
                    <a:pt x="10424" y="1468"/>
                  </a:lnTo>
                  <a:lnTo>
                    <a:pt x="10424" y="1478"/>
                  </a:lnTo>
                  <a:lnTo>
                    <a:pt x="10424" y="1482"/>
                  </a:lnTo>
                  <a:lnTo>
                    <a:pt x="10424" y="1487"/>
                  </a:lnTo>
                  <a:lnTo>
                    <a:pt x="10424" y="1492"/>
                  </a:lnTo>
                  <a:lnTo>
                    <a:pt x="10433" y="1496"/>
                  </a:lnTo>
                  <a:lnTo>
                    <a:pt x="10452" y="1501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809"/>
            <p:cNvSpPr/>
            <p:nvPr/>
          </p:nvSpPr>
          <p:spPr>
            <a:xfrm>
              <a:off x="7998120" y="580320"/>
              <a:ext cx="215280" cy="93276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932760"/>
                <a:gd name="textAreaBottom" fmla="*/ 933120 h 932760"/>
              </a:gdLst>
              <a:ahLst/>
              <a:rect l="textAreaLeft" t="textAreaTop" r="textAreaRight" b="textAreaBottom"/>
              <a:pathLst>
                <a:path w="368" h="1421">
                  <a:moveTo>
                    <a:pt x="14" y="1421"/>
                  </a:moveTo>
                  <a:lnTo>
                    <a:pt x="14" y="1407"/>
                  </a:lnTo>
                  <a:lnTo>
                    <a:pt x="9" y="1374"/>
                  </a:lnTo>
                  <a:lnTo>
                    <a:pt x="0" y="1350"/>
                  </a:lnTo>
                  <a:lnTo>
                    <a:pt x="0" y="1327"/>
                  </a:lnTo>
                  <a:lnTo>
                    <a:pt x="5" y="1312"/>
                  </a:lnTo>
                  <a:lnTo>
                    <a:pt x="14" y="1294"/>
                  </a:lnTo>
                  <a:lnTo>
                    <a:pt x="28" y="1275"/>
                  </a:lnTo>
                  <a:lnTo>
                    <a:pt x="42" y="1251"/>
                  </a:lnTo>
                  <a:lnTo>
                    <a:pt x="66" y="1223"/>
                  </a:lnTo>
                  <a:lnTo>
                    <a:pt x="80" y="1204"/>
                  </a:lnTo>
                  <a:lnTo>
                    <a:pt x="85" y="1190"/>
                  </a:lnTo>
                  <a:lnTo>
                    <a:pt x="90" y="1180"/>
                  </a:lnTo>
                  <a:lnTo>
                    <a:pt x="90" y="1166"/>
                  </a:lnTo>
                  <a:lnTo>
                    <a:pt x="85" y="1147"/>
                  </a:lnTo>
                  <a:lnTo>
                    <a:pt x="85" y="1128"/>
                  </a:lnTo>
                  <a:lnTo>
                    <a:pt x="80" y="1119"/>
                  </a:lnTo>
                  <a:lnTo>
                    <a:pt x="71" y="1114"/>
                  </a:lnTo>
                  <a:lnTo>
                    <a:pt x="61" y="1105"/>
                  </a:lnTo>
                  <a:lnTo>
                    <a:pt x="52" y="1091"/>
                  </a:lnTo>
                  <a:lnTo>
                    <a:pt x="47" y="1076"/>
                  </a:lnTo>
                  <a:lnTo>
                    <a:pt x="42" y="1058"/>
                  </a:lnTo>
                  <a:lnTo>
                    <a:pt x="42" y="1039"/>
                  </a:lnTo>
                  <a:lnTo>
                    <a:pt x="42" y="1015"/>
                  </a:lnTo>
                  <a:lnTo>
                    <a:pt x="38" y="1001"/>
                  </a:lnTo>
                  <a:lnTo>
                    <a:pt x="38" y="991"/>
                  </a:lnTo>
                  <a:lnTo>
                    <a:pt x="38" y="982"/>
                  </a:lnTo>
                  <a:lnTo>
                    <a:pt x="42" y="973"/>
                  </a:lnTo>
                  <a:lnTo>
                    <a:pt x="52" y="968"/>
                  </a:lnTo>
                  <a:lnTo>
                    <a:pt x="66" y="958"/>
                  </a:lnTo>
                  <a:lnTo>
                    <a:pt x="85" y="954"/>
                  </a:lnTo>
                  <a:lnTo>
                    <a:pt x="90" y="949"/>
                  </a:lnTo>
                  <a:lnTo>
                    <a:pt x="94" y="944"/>
                  </a:lnTo>
                  <a:lnTo>
                    <a:pt x="94" y="935"/>
                  </a:lnTo>
                  <a:lnTo>
                    <a:pt x="99" y="925"/>
                  </a:lnTo>
                  <a:lnTo>
                    <a:pt x="99" y="888"/>
                  </a:lnTo>
                  <a:lnTo>
                    <a:pt x="104" y="845"/>
                  </a:lnTo>
                  <a:lnTo>
                    <a:pt x="104" y="812"/>
                  </a:lnTo>
                  <a:lnTo>
                    <a:pt x="99" y="788"/>
                  </a:lnTo>
                  <a:lnTo>
                    <a:pt x="99" y="779"/>
                  </a:lnTo>
                  <a:lnTo>
                    <a:pt x="99" y="770"/>
                  </a:lnTo>
                  <a:lnTo>
                    <a:pt x="104" y="760"/>
                  </a:lnTo>
                  <a:lnTo>
                    <a:pt x="113" y="746"/>
                  </a:lnTo>
                  <a:lnTo>
                    <a:pt x="132" y="732"/>
                  </a:lnTo>
                  <a:lnTo>
                    <a:pt x="146" y="722"/>
                  </a:lnTo>
                  <a:lnTo>
                    <a:pt x="151" y="713"/>
                  </a:lnTo>
                  <a:lnTo>
                    <a:pt x="156" y="699"/>
                  </a:lnTo>
                  <a:lnTo>
                    <a:pt x="160" y="652"/>
                  </a:lnTo>
                  <a:lnTo>
                    <a:pt x="160" y="604"/>
                  </a:lnTo>
                  <a:lnTo>
                    <a:pt x="151" y="576"/>
                  </a:lnTo>
                  <a:lnTo>
                    <a:pt x="146" y="562"/>
                  </a:lnTo>
                  <a:lnTo>
                    <a:pt x="123" y="496"/>
                  </a:lnTo>
                  <a:lnTo>
                    <a:pt x="99" y="406"/>
                  </a:lnTo>
                  <a:lnTo>
                    <a:pt x="94" y="406"/>
                  </a:lnTo>
                  <a:lnTo>
                    <a:pt x="85" y="401"/>
                  </a:lnTo>
                  <a:lnTo>
                    <a:pt x="76" y="387"/>
                  </a:lnTo>
                  <a:lnTo>
                    <a:pt x="61" y="359"/>
                  </a:lnTo>
                  <a:lnTo>
                    <a:pt x="52" y="317"/>
                  </a:lnTo>
                  <a:lnTo>
                    <a:pt x="52" y="283"/>
                  </a:lnTo>
                  <a:lnTo>
                    <a:pt x="52" y="255"/>
                  </a:lnTo>
                  <a:lnTo>
                    <a:pt x="47" y="232"/>
                  </a:lnTo>
                  <a:lnTo>
                    <a:pt x="38" y="217"/>
                  </a:lnTo>
                  <a:lnTo>
                    <a:pt x="28" y="203"/>
                  </a:lnTo>
                  <a:lnTo>
                    <a:pt x="24" y="199"/>
                  </a:lnTo>
                  <a:lnTo>
                    <a:pt x="24" y="189"/>
                  </a:lnTo>
                  <a:lnTo>
                    <a:pt x="24" y="184"/>
                  </a:lnTo>
                  <a:lnTo>
                    <a:pt x="33" y="180"/>
                  </a:lnTo>
                  <a:lnTo>
                    <a:pt x="52" y="161"/>
                  </a:lnTo>
                  <a:lnTo>
                    <a:pt x="57" y="156"/>
                  </a:lnTo>
                  <a:lnTo>
                    <a:pt x="24" y="123"/>
                  </a:lnTo>
                  <a:lnTo>
                    <a:pt x="24" y="104"/>
                  </a:lnTo>
                  <a:lnTo>
                    <a:pt x="24" y="66"/>
                  </a:lnTo>
                  <a:lnTo>
                    <a:pt x="24" y="47"/>
                  </a:lnTo>
                  <a:lnTo>
                    <a:pt x="24" y="33"/>
                  </a:lnTo>
                  <a:lnTo>
                    <a:pt x="24" y="24"/>
                  </a:lnTo>
                  <a:lnTo>
                    <a:pt x="33" y="14"/>
                  </a:lnTo>
                  <a:lnTo>
                    <a:pt x="42" y="5"/>
                  </a:lnTo>
                  <a:lnTo>
                    <a:pt x="52" y="0"/>
                  </a:lnTo>
                  <a:lnTo>
                    <a:pt x="57" y="5"/>
                  </a:lnTo>
                  <a:lnTo>
                    <a:pt x="61" y="19"/>
                  </a:lnTo>
                  <a:lnTo>
                    <a:pt x="57" y="43"/>
                  </a:lnTo>
                  <a:lnTo>
                    <a:pt x="47" y="66"/>
                  </a:lnTo>
                  <a:lnTo>
                    <a:pt x="42" y="76"/>
                  </a:lnTo>
                  <a:lnTo>
                    <a:pt x="42" y="81"/>
                  </a:lnTo>
                  <a:lnTo>
                    <a:pt x="47" y="90"/>
                  </a:lnTo>
                  <a:lnTo>
                    <a:pt x="57" y="90"/>
                  </a:lnTo>
                  <a:lnTo>
                    <a:pt x="94" y="81"/>
                  </a:lnTo>
                  <a:lnTo>
                    <a:pt x="123" y="81"/>
                  </a:lnTo>
                  <a:lnTo>
                    <a:pt x="132" y="90"/>
                  </a:lnTo>
                  <a:lnTo>
                    <a:pt x="137" y="99"/>
                  </a:lnTo>
                  <a:lnTo>
                    <a:pt x="132" y="114"/>
                  </a:lnTo>
                  <a:lnTo>
                    <a:pt x="118" y="123"/>
                  </a:lnTo>
                  <a:lnTo>
                    <a:pt x="94" y="137"/>
                  </a:lnTo>
                  <a:lnTo>
                    <a:pt x="76" y="151"/>
                  </a:lnTo>
                  <a:lnTo>
                    <a:pt x="71" y="161"/>
                  </a:lnTo>
                  <a:lnTo>
                    <a:pt x="66" y="170"/>
                  </a:lnTo>
                  <a:lnTo>
                    <a:pt x="66" y="184"/>
                  </a:lnTo>
                  <a:lnTo>
                    <a:pt x="71" y="203"/>
                  </a:lnTo>
                  <a:lnTo>
                    <a:pt x="90" y="265"/>
                  </a:lnTo>
                  <a:lnTo>
                    <a:pt x="104" y="321"/>
                  </a:lnTo>
                  <a:lnTo>
                    <a:pt x="113" y="359"/>
                  </a:lnTo>
                  <a:lnTo>
                    <a:pt x="118" y="387"/>
                  </a:lnTo>
                  <a:lnTo>
                    <a:pt x="127" y="416"/>
                  </a:lnTo>
                  <a:lnTo>
                    <a:pt x="142" y="444"/>
                  </a:lnTo>
                  <a:lnTo>
                    <a:pt x="165" y="472"/>
                  </a:lnTo>
                  <a:lnTo>
                    <a:pt x="184" y="496"/>
                  </a:lnTo>
                  <a:lnTo>
                    <a:pt x="189" y="505"/>
                  </a:lnTo>
                  <a:lnTo>
                    <a:pt x="194" y="519"/>
                  </a:lnTo>
                  <a:lnTo>
                    <a:pt x="198" y="534"/>
                  </a:lnTo>
                  <a:lnTo>
                    <a:pt x="198" y="548"/>
                  </a:lnTo>
                  <a:lnTo>
                    <a:pt x="194" y="581"/>
                  </a:lnTo>
                  <a:lnTo>
                    <a:pt x="179" y="604"/>
                  </a:lnTo>
                  <a:lnTo>
                    <a:pt x="175" y="614"/>
                  </a:lnTo>
                  <a:lnTo>
                    <a:pt x="175" y="628"/>
                  </a:lnTo>
                  <a:lnTo>
                    <a:pt x="179" y="652"/>
                  </a:lnTo>
                  <a:lnTo>
                    <a:pt x="194" y="675"/>
                  </a:lnTo>
                  <a:lnTo>
                    <a:pt x="236" y="755"/>
                  </a:lnTo>
                  <a:lnTo>
                    <a:pt x="255" y="788"/>
                  </a:lnTo>
                  <a:lnTo>
                    <a:pt x="274" y="798"/>
                  </a:lnTo>
                  <a:lnTo>
                    <a:pt x="297" y="803"/>
                  </a:lnTo>
                  <a:lnTo>
                    <a:pt x="307" y="807"/>
                  </a:lnTo>
                  <a:lnTo>
                    <a:pt x="312" y="812"/>
                  </a:lnTo>
                  <a:lnTo>
                    <a:pt x="312" y="817"/>
                  </a:lnTo>
                  <a:lnTo>
                    <a:pt x="302" y="822"/>
                  </a:lnTo>
                  <a:lnTo>
                    <a:pt x="288" y="836"/>
                  </a:lnTo>
                  <a:lnTo>
                    <a:pt x="274" y="845"/>
                  </a:lnTo>
                  <a:lnTo>
                    <a:pt x="260" y="845"/>
                  </a:lnTo>
                  <a:lnTo>
                    <a:pt x="245" y="840"/>
                  </a:lnTo>
                  <a:lnTo>
                    <a:pt x="231" y="826"/>
                  </a:lnTo>
                  <a:lnTo>
                    <a:pt x="212" y="817"/>
                  </a:lnTo>
                  <a:lnTo>
                    <a:pt x="208" y="817"/>
                  </a:lnTo>
                  <a:lnTo>
                    <a:pt x="203" y="822"/>
                  </a:lnTo>
                  <a:lnTo>
                    <a:pt x="198" y="826"/>
                  </a:lnTo>
                  <a:lnTo>
                    <a:pt x="194" y="840"/>
                  </a:lnTo>
                  <a:lnTo>
                    <a:pt x="179" y="892"/>
                  </a:lnTo>
                  <a:lnTo>
                    <a:pt x="175" y="935"/>
                  </a:lnTo>
                  <a:lnTo>
                    <a:pt x="165" y="958"/>
                  </a:lnTo>
                  <a:lnTo>
                    <a:pt x="160" y="977"/>
                  </a:lnTo>
                  <a:lnTo>
                    <a:pt x="146" y="991"/>
                  </a:lnTo>
                  <a:lnTo>
                    <a:pt x="137" y="996"/>
                  </a:lnTo>
                  <a:lnTo>
                    <a:pt x="118" y="996"/>
                  </a:lnTo>
                  <a:lnTo>
                    <a:pt x="99" y="1001"/>
                  </a:lnTo>
                  <a:lnTo>
                    <a:pt x="94" y="1001"/>
                  </a:lnTo>
                  <a:lnTo>
                    <a:pt x="90" y="1006"/>
                  </a:lnTo>
                  <a:lnTo>
                    <a:pt x="90" y="1015"/>
                  </a:lnTo>
                  <a:lnTo>
                    <a:pt x="99" y="1024"/>
                  </a:lnTo>
                  <a:lnTo>
                    <a:pt x="113" y="1043"/>
                  </a:lnTo>
                  <a:lnTo>
                    <a:pt x="123" y="1053"/>
                  </a:lnTo>
                  <a:lnTo>
                    <a:pt x="137" y="1058"/>
                  </a:lnTo>
                  <a:lnTo>
                    <a:pt x="156" y="1048"/>
                  </a:lnTo>
                  <a:lnTo>
                    <a:pt x="198" y="1029"/>
                  </a:lnTo>
                  <a:lnTo>
                    <a:pt x="222" y="1010"/>
                  </a:lnTo>
                  <a:lnTo>
                    <a:pt x="250" y="996"/>
                  </a:lnTo>
                  <a:lnTo>
                    <a:pt x="283" y="982"/>
                  </a:lnTo>
                  <a:lnTo>
                    <a:pt x="312" y="973"/>
                  </a:lnTo>
                  <a:lnTo>
                    <a:pt x="335" y="968"/>
                  </a:lnTo>
                  <a:lnTo>
                    <a:pt x="340" y="968"/>
                  </a:lnTo>
                  <a:lnTo>
                    <a:pt x="359" y="973"/>
                  </a:lnTo>
                  <a:lnTo>
                    <a:pt x="364" y="977"/>
                  </a:lnTo>
                  <a:lnTo>
                    <a:pt x="368" y="977"/>
                  </a:lnTo>
                  <a:lnTo>
                    <a:pt x="364" y="982"/>
                  </a:lnTo>
                  <a:lnTo>
                    <a:pt x="354" y="987"/>
                  </a:lnTo>
                  <a:lnTo>
                    <a:pt x="330" y="991"/>
                  </a:lnTo>
                  <a:lnTo>
                    <a:pt x="307" y="991"/>
                  </a:lnTo>
                  <a:lnTo>
                    <a:pt x="297" y="991"/>
                  </a:lnTo>
                  <a:lnTo>
                    <a:pt x="288" y="991"/>
                  </a:lnTo>
                  <a:lnTo>
                    <a:pt x="279" y="996"/>
                  </a:lnTo>
                  <a:lnTo>
                    <a:pt x="264" y="1006"/>
                  </a:lnTo>
                  <a:lnTo>
                    <a:pt x="245" y="1024"/>
                  </a:lnTo>
                  <a:lnTo>
                    <a:pt x="227" y="1043"/>
                  </a:lnTo>
                  <a:lnTo>
                    <a:pt x="208" y="1062"/>
                  </a:lnTo>
                  <a:lnTo>
                    <a:pt x="198" y="1091"/>
                  </a:lnTo>
                  <a:lnTo>
                    <a:pt x="189" y="1119"/>
                  </a:lnTo>
                  <a:lnTo>
                    <a:pt x="179" y="1142"/>
                  </a:lnTo>
                  <a:lnTo>
                    <a:pt x="165" y="1166"/>
                  </a:lnTo>
                  <a:lnTo>
                    <a:pt x="151" y="1180"/>
                  </a:lnTo>
                  <a:lnTo>
                    <a:pt x="123" y="1213"/>
                  </a:lnTo>
                  <a:lnTo>
                    <a:pt x="99" y="1242"/>
                  </a:lnTo>
                  <a:lnTo>
                    <a:pt x="76" y="1270"/>
                  </a:lnTo>
                  <a:lnTo>
                    <a:pt x="57" y="1284"/>
                  </a:lnTo>
                  <a:lnTo>
                    <a:pt x="42" y="1303"/>
                  </a:lnTo>
                  <a:lnTo>
                    <a:pt x="24" y="1289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1810"/>
            <p:cNvSpPr/>
            <p:nvPr/>
          </p:nvSpPr>
          <p:spPr>
            <a:xfrm>
              <a:off x="7929000" y="1308600"/>
              <a:ext cx="284400" cy="26100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261000"/>
                <a:gd name="textAreaBottom" fmla="*/ 261360 h 261000"/>
              </a:gdLst>
              <a:ahLst/>
              <a:rect l="textAreaLeft" t="textAreaTop" r="textAreaRight" b="textAreaBottom"/>
              <a:pathLst>
                <a:path w="486" h="397">
                  <a:moveTo>
                    <a:pt x="0" y="397"/>
                  </a:moveTo>
                  <a:lnTo>
                    <a:pt x="28" y="397"/>
                  </a:lnTo>
                  <a:lnTo>
                    <a:pt x="61" y="392"/>
                  </a:lnTo>
                  <a:lnTo>
                    <a:pt x="75" y="387"/>
                  </a:lnTo>
                  <a:lnTo>
                    <a:pt x="90" y="387"/>
                  </a:lnTo>
                  <a:lnTo>
                    <a:pt x="99" y="383"/>
                  </a:lnTo>
                  <a:lnTo>
                    <a:pt x="109" y="369"/>
                  </a:lnTo>
                  <a:lnTo>
                    <a:pt x="123" y="331"/>
                  </a:lnTo>
                  <a:lnTo>
                    <a:pt x="132" y="307"/>
                  </a:lnTo>
                  <a:lnTo>
                    <a:pt x="142" y="307"/>
                  </a:lnTo>
                  <a:lnTo>
                    <a:pt x="151" y="307"/>
                  </a:lnTo>
                  <a:lnTo>
                    <a:pt x="156" y="307"/>
                  </a:lnTo>
                  <a:lnTo>
                    <a:pt x="156" y="284"/>
                  </a:lnTo>
                  <a:lnTo>
                    <a:pt x="156" y="260"/>
                  </a:lnTo>
                  <a:lnTo>
                    <a:pt x="146" y="251"/>
                  </a:lnTo>
                  <a:lnTo>
                    <a:pt x="146" y="246"/>
                  </a:lnTo>
                  <a:lnTo>
                    <a:pt x="151" y="241"/>
                  </a:lnTo>
                  <a:lnTo>
                    <a:pt x="156" y="236"/>
                  </a:lnTo>
                  <a:lnTo>
                    <a:pt x="170" y="236"/>
                  </a:lnTo>
                  <a:lnTo>
                    <a:pt x="189" y="227"/>
                  </a:lnTo>
                  <a:lnTo>
                    <a:pt x="198" y="218"/>
                  </a:lnTo>
                  <a:lnTo>
                    <a:pt x="208" y="203"/>
                  </a:lnTo>
                  <a:lnTo>
                    <a:pt x="217" y="185"/>
                  </a:lnTo>
                  <a:lnTo>
                    <a:pt x="231" y="170"/>
                  </a:lnTo>
                  <a:lnTo>
                    <a:pt x="241" y="161"/>
                  </a:lnTo>
                  <a:lnTo>
                    <a:pt x="255" y="156"/>
                  </a:lnTo>
                  <a:lnTo>
                    <a:pt x="278" y="151"/>
                  </a:lnTo>
                  <a:lnTo>
                    <a:pt x="302" y="147"/>
                  </a:lnTo>
                  <a:lnTo>
                    <a:pt x="316" y="137"/>
                  </a:lnTo>
                  <a:lnTo>
                    <a:pt x="321" y="128"/>
                  </a:lnTo>
                  <a:lnTo>
                    <a:pt x="326" y="114"/>
                  </a:lnTo>
                  <a:lnTo>
                    <a:pt x="326" y="100"/>
                  </a:lnTo>
                  <a:lnTo>
                    <a:pt x="326" y="85"/>
                  </a:lnTo>
                  <a:lnTo>
                    <a:pt x="335" y="76"/>
                  </a:lnTo>
                  <a:lnTo>
                    <a:pt x="363" y="62"/>
                  </a:lnTo>
                  <a:lnTo>
                    <a:pt x="406" y="48"/>
                  </a:lnTo>
                  <a:lnTo>
                    <a:pt x="425" y="38"/>
                  </a:lnTo>
                  <a:lnTo>
                    <a:pt x="444" y="29"/>
                  </a:lnTo>
                  <a:lnTo>
                    <a:pt x="486" y="0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1811"/>
            <p:cNvSpPr/>
            <p:nvPr/>
          </p:nvSpPr>
          <p:spPr>
            <a:xfrm>
              <a:off x="7367760" y="1491480"/>
              <a:ext cx="102240" cy="180360"/>
            </a:xfrm>
            <a:custGeom>
              <a:avLst/>
              <a:gdLst>
                <a:gd name="textAreaLeft" fmla="*/ 0 w 102240"/>
                <a:gd name="textAreaRight" fmla="*/ 102600 w 10224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174" h="274">
                  <a:moveTo>
                    <a:pt x="28" y="33"/>
                  </a:moveTo>
                  <a:lnTo>
                    <a:pt x="33" y="24"/>
                  </a:lnTo>
                  <a:lnTo>
                    <a:pt x="33" y="9"/>
                  </a:lnTo>
                  <a:lnTo>
                    <a:pt x="37" y="5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7" y="5"/>
                  </a:lnTo>
                  <a:lnTo>
                    <a:pt x="51" y="19"/>
                  </a:lnTo>
                  <a:lnTo>
                    <a:pt x="56" y="33"/>
                  </a:lnTo>
                  <a:lnTo>
                    <a:pt x="56" y="42"/>
                  </a:lnTo>
                  <a:lnTo>
                    <a:pt x="56" y="57"/>
                  </a:lnTo>
                  <a:lnTo>
                    <a:pt x="51" y="71"/>
                  </a:lnTo>
                  <a:lnTo>
                    <a:pt x="51" y="75"/>
                  </a:lnTo>
                  <a:lnTo>
                    <a:pt x="51" y="85"/>
                  </a:lnTo>
                  <a:lnTo>
                    <a:pt x="61" y="94"/>
                  </a:lnTo>
                  <a:lnTo>
                    <a:pt x="70" y="104"/>
                  </a:lnTo>
                  <a:lnTo>
                    <a:pt x="75" y="113"/>
                  </a:lnTo>
                  <a:lnTo>
                    <a:pt x="85" y="123"/>
                  </a:lnTo>
                  <a:lnTo>
                    <a:pt x="99" y="123"/>
                  </a:lnTo>
                  <a:lnTo>
                    <a:pt x="113" y="118"/>
                  </a:lnTo>
                  <a:lnTo>
                    <a:pt x="127" y="108"/>
                  </a:lnTo>
                  <a:lnTo>
                    <a:pt x="132" y="104"/>
                  </a:lnTo>
                  <a:lnTo>
                    <a:pt x="136" y="104"/>
                  </a:lnTo>
                  <a:lnTo>
                    <a:pt x="141" y="104"/>
                  </a:lnTo>
                  <a:lnTo>
                    <a:pt x="141" y="108"/>
                  </a:lnTo>
                  <a:lnTo>
                    <a:pt x="146" y="123"/>
                  </a:lnTo>
                  <a:lnTo>
                    <a:pt x="151" y="132"/>
                  </a:lnTo>
                  <a:lnTo>
                    <a:pt x="151" y="137"/>
                  </a:lnTo>
                  <a:lnTo>
                    <a:pt x="141" y="146"/>
                  </a:lnTo>
                  <a:lnTo>
                    <a:pt x="127" y="156"/>
                  </a:lnTo>
                  <a:lnTo>
                    <a:pt x="113" y="160"/>
                  </a:lnTo>
                  <a:lnTo>
                    <a:pt x="113" y="165"/>
                  </a:lnTo>
                  <a:lnTo>
                    <a:pt x="118" y="175"/>
                  </a:lnTo>
                  <a:lnTo>
                    <a:pt x="146" y="175"/>
                  </a:lnTo>
                  <a:lnTo>
                    <a:pt x="165" y="175"/>
                  </a:lnTo>
                  <a:lnTo>
                    <a:pt x="170" y="184"/>
                  </a:lnTo>
                  <a:lnTo>
                    <a:pt x="174" y="203"/>
                  </a:lnTo>
                  <a:lnTo>
                    <a:pt x="174" y="212"/>
                  </a:lnTo>
                  <a:lnTo>
                    <a:pt x="174" y="222"/>
                  </a:lnTo>
                  <a:lnTo>
                    <a:pt x="170" y="226"/>
                  </a:lnTo>
                  <a:lnTo>
                    <a:pt x="160" y="231"/>
                  </a:lnTo>
                  <a:lnTo>
                    <a:pt x="136" y="231"/>
                  </a:lnTo>
                  <a:lnTo>
                    <a:pt x="118" y="236"/>
                  </a:lnTo>
                  <a:lnTo>
                    <a:pt x="99" y="236"/>
                  </a:lnTo>
                  <a:lnTo>
                    <a:pt x="89" y="245"/>
                  </a:lnTo>
                  <a:lnTo>
                    <a:pt x="85" y="255"/>
                  </a:lnTo>
                  <a:lnTo>
                    <a:pt x="80" y="269"/>
                  </a:lnTo>
                  <a:lnTo>
                    <a:pt x="70" y="274"/>
                  </a:lnTo>
                  <a:lnTo>
                    <a:pt x="66" y="274"/>
                  </a:lnTo>
                  <a:lnTo>
                    <a:pt x="61" y="274"/>
                  </a:lnTo>
                  <a:lnTo>
                    <a:pt x="56" y="269"/>
                  </a:lnTo>
                  <a:lnTo>
                    <a:pt x="42" y="255"/>
                  </a:lnTo>
                  <a:lnTo>
                    <a:pt x="33" y="231"/>
                  </a:lnTo>
                  <a:lnTo>
                    <a:pt x="28" y="212"/>
                  </a:lnTo>
                  <a:lnTo>
                    <a:pt x="28" y="193"/>
                  </a:lnTo>
                  <a:lnTo>
                    <a:pt x="33" y="160"/>
                  </a:lnTo>
                  <a:lnTo>
                    <a:pt x="28" y="142"/>
                  </a:lnTo>
                  <a:lnTo>
                    <a:pt x="0" y="108"/>
                  </a:lnTo>
                  <a:lnTo>
                    <a:pt x="0" y="80"/>
                  </a:lnTo>
                  <a:lnTo>
                    <a:pt x="23" y="57"/>
                  </a:lnTo>
                  <a:lnTo>
                    <a:pt x="28" y="33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1812"/>
            <p:cNvSpPr/>
            <p:nvPr/>
          </p:nvSpPr>
          <p:spPr>
            <a:xfrm>
              <a:off x="7071840" y="1293840"/>
              <a:ext cx="161280" cy="234720"/>
            </a:xfrm>
            <a:custGeom>
              <a:avLst/>
              <a:gdLst>
                <a:gd name="textAreaLeft" fmla="*/ 0 w 161280"/>
                <a:gd name="textAreaRight" fmla="*/ 161640 w 1612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274" h="359">
                  <a:moveTo>
                    <a:pt x="5" y="0"/>
                  </a:moveTo>
                  <a:lnTo>
                    <a:pt x="15" y="0"/>
                  </a:lnTo>
                  <a:lnTo>
                    <a:pt x="38" y="14"/>
                  </a:lnTo>
                  <a:lnTo>
                    <a:pt x="48" y="23"/>
                  </a:lnTo>
                  <a:lnTo>
                    <a:pt x="62" y="33"/>
                  </a:lnTo>
                  <a:lnTo>
                    <a:pt x="71" y="38"/>
                  </a:lnTo>
                  <a:lnTo>
                    <a:pt x="76" y="47"/>
                  </a:lnTo>
                  <a:lnTo>
                    <a:pt x="81" y="52"/>
                  </a:lnTo>
                  <a:lnTo>
                    <a:pt x="81" y="61"/>
                  </a:lnTo>
                  <a:lnTo>
                    <a:pt x="81" y="85"/>
                  </a:lnTo>
                  <a:lnTo>
                    <a:pt x="76" y="99"/>
                  </a:lnTo>
                  <a:lnTo>
                    <a:pt x="81" y="113"/>
                  </a:lnTo>
                  <a:lnTo>
                    <a:pt x="85" y="127"/>
                  </a:lnTo>
                  <a:lnTo>
                    <a:pt x="95" y="141"/>
                  </a:lnTo>
                  <a:lnTo>
                    <a:pt x="104" y="151"/>
                  </a:lnTo>
                  <a:lnTo>
                    <a:pt x="109" y="160"/>
                  </a:lnTo>
                  <a:lnTo>
                    <a:pt x="114" y="160"/>
                  </a:lnTo>
                  <a:lnTo>
                    <a:pt x="118" y="165"/>
                  </a:lnTo>
                  <a:lnTo>
                    <a:pt x="128" y="160"/>
                  </a:lnTo>
                  <a:lnTo>
                    <a:pt x="142" y="156"/>
                  </a:lnTo>
                  <a:lnTo>
                    <a:pt x="147" y="146"/>
                  </a:lnTo>
                  <a:lnTo>
                    <a:pt x="151" y="151"/>
                  </a:lnTo>
                  <a:lnTo>
                    <a:pt x="161" y="160"/>
                  </a:lnTo>
                  <a:lnTo>
                    <a:pt x="166" y="179"/>
                  </a:lnTo>
                  <a:lnTo>
                    <a:pt x="170" y="189"/>
                  </a:lnTo>
                  <a:lnTo>
                    <a:pt x="180" y="193"/>
                  </a:lnTo>
                  <a:lnTo>
                    <a:pt x="189" y="198"/>
                  </a:lnTo>
                  <a:lnTo>
                    <a:pt x="208" y="198"/>
                  </a:lnTo>
                  <a:lnTo>
                    <a:pt x="227" y="198"/>
                  </a:lnTo>
                  <a:lnTo>
                    <a:pt x="236" y="198"/>
                  </a:lnTo>
                  <a:lnTo>
                    <a:pt x="241" y="198"/>
                  </a:lnTo>
                  <a:lnTo>
                    <a:pt x="241" y="203"/>
                  </a:lnTo>
                  <a:lnTo>
                    <a:pt x="241" y="208"/>
                  </a:lnTo>
                  <a:lnTo>
                    <a:pt x="208" y="231"/>
                  </a:lnTo>
                  <a:lnTo>
                    <a:pt x="189" y="241"/>
                  </a:lnTo>
                  <a:lnTo>
                    <a:pt x="189" y="245"/>
                  </a:lnTo>
                  <a:lnTo>
                    <a:pt x="189" y="255"/>
                  </a:lnTo>
                  <a:lnTo>
                    <a:pt x="194" y="264"/>
                  </a:lnTo>
                  <a:lnTo>
                    <a:pt x="203" y="264"/>
                  </a:lnTo>
                  <a:lnTo>
                    <a:pt x="218" y="269"/>
                  </a:lnTo>
                  <a:lnTo>
                    <a:pt x="232" y="269"/>
                  </a:lnTo>
                  <a:lnTo>
                    <a:pt x="236" y="274"/>
                  </a:lnTo>
                  <a:lnTo>
                    <a:pt x="232" y="278"/>
                  </a:lnTo>
                  <a:lnTo>
                    <a:pt x="222" y="283"/>
                  </a:lnTo>
                  <a:lnTo>
                    <a:pt x="199" y="288"/>
                  </a:lnTo>
                  <a:lnTo>
                    <a:pt x="180" y="292"/>
                  </a:lnTo>
                  <a:lnTo>
                    <a:pt x="175" y="297"/>
                  </a:lnTo>
                  <a:lnTo>
                    <a:pt x="170" y="297"/>
                  </a:lnTo>
                  <a:lnTo>
                    <a:pt x="175" y="302"/>
                  </a:lnTo>
                  <a:lnTo>
                    <a:pt x="185" y="307"/>
                  </a:lnTo>
                  <a:lnTo>
                    <a:pt x="227" y="321"/>
                  </a:lnTo>
                  <a:lnTo>
                    <a:pt x="246" y="316"/>
                  </a:lnTo>
                  <a:lnTo>
                    <a:pt x="251" y="321"/>
                  </a:lnTo>
                  <a:lnTo>
                    <a:pt x="265" y="335"/>
                  </a:lnTo>
                  <a:lnTo>
                    <a:pt x="274" y="344"/>
                  </a:lnTo>
                  <a:lnTo>
                    <a:pt x="274" y="349"/>
                  </a:lnTo>
                  <a:lnTo>
                    <a:pt x="269" y="354"/>
                  </a:lnTo>
                  <a:lnTo>
                    <a:pt x="260" y="359"/>
                  </a:lnTo>
                  <a:lnTo>
                    <a:pt x="232" y="359"/>
                  </a:lnTo>
                  <a:lnTo>
                    <a:pt x="203" y="359"/>
                  </a:lnTo>
                  <a:lnTo>
                    <a:pt x="180" y="349"/>
                  </a:lnTo>
                  <a:lnTo>
                    <a:pt x="151" y="330"/>
                  </a:lnTo>
                  <a:lnTo>
                    <a:pt x="128" y="307"/>
                  </a:lnTo>
                  <a:lnTo>
                    <a:pt x="114" y="288"/>
                  </a:lnTo>
                  <a:lnTo>
                    <a:pt x="109" y="264"/>
                  </a:lnTo>
                  <a:lnTo>
                    <a:pt x="104" y="250"/>
                  </a:lnTo>
                  <a:lnTo>
                    <a:pt x="104" y="236"/>
                  </a:lnTo>
                  <a:lnTo>
                    <a:pt x="104" y="226"/>
                  </a:lnTo>
                  <a:lnTo>
                    <a:pt x="100" y="217"/>
                  </a:lnTo>
                  <a:lnTo>
                    <a:pt x="85" y="212"/>
                  </a:lnTo>
                  <a:lnTo>
                    <a:pt x="66" y="208"/>
                  </a:lnTo>
                  <a:lnTo>
                    <a:pt x="48" y="198"/>
                  </a:lnTo>
                  <a:lnTo>
                    <a:pt x="43" y="189"/>
                  </a:lnTo>
                  <a:lnTo>
                    <a:pt x="38" y="184"/>
                  </a:lnTo>
                  <a:lnTo>
                    <a:pt x="38" y="174"/>
                  </a:lnTo>
                  <a:lnTo>
                    <a:pt x="43" y="165"/>
                  </a:lnTo>
                  <a:lnTo>
                    <a:pt x="52" y="156"/>
                  </a:lnTo>
                  <a:lnTo>
                    <a:pt x="57" y="146"/>
                  </a:lnTo>
                  <a:lnTo>
                    <a:pt x="62" y="132"/>
                  </a:lnTo>
                  <a:lnTo>
                    <a:pt x="57" y="118"/>
                  </a:lnTo>
                  <a:lnTo>
                    <a:pt x="38" y="75"/>
                  </a:lnTo>
                  <a:lnTo>
                    <a:pt x="38" y="61"/>
                  </a:lnTo>
                  <a:lnTo>
                    <a:pt x="0" y="42"/>
                  </a:lnTo>
                  <a:lnTo>
                    <a:pt x="5" y="19"/>
                  </a:lnTo>
                  <a:lnTo>
                    <a:pt x="5" y="0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1813"/>
            <p:cNvSpPr/>
            <p:nvPr/>
          </p:nvSpPr>
          <p:spPr>
            <a:xfrm>
              <a:off x="7143480" y="1550880"/>
              <a:ext cx="129960" cy="73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22" h="113">
                  <a:moveTo>
                    <a:pt x="5" y="33"/>
                  </a:moveTo>
                  <a:lnTo>
                    <a:pt x="5" y="28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0"/>
                  </a:lnTo>
                  <a:lnTo>
                    <a:pt x="5" y="0"/>
                  </a:lnTo>
                  <a:lnTo>
                    <a:pt x="33" y="18"/>
                  </a:lnTo>
                  <a:lnTo>
                    <a:pt x="62" y="37"/>
                  </a:lnTo>
                  <a:lnTo>
                    <a:pt x="76" y="47"/>
                  </a:lnTo>
                  <a:lnTo>
                    <a:pt x="90" y="52"/>
                  </a:lnTo>
                  <a:lnTo>
                    <a:pt x="99" y="56"/>
                  </a:lnTo>
                  <a:lnTo>
                    <a:pt x="113" y="47"/>
                  </a:lnTo>
                  <a:lnTo>
                    <a:pt x="128" y="33"/>
                  </a:lnTo>
                  <a:lnTo>
                    <a:pt x="142" y="14"/>
                  </a:lnTo>
                  <a:lnTo>
                    <a:pt x="146" y="9"/>
                  </a:lnTo>
                  <a:lnTo>
                    <a:pt x="151" y="9"/>
                  </a:lnTo>
                  <a:lnTo>
                    <a:pt x="156" y="18"/>
                  </a:lnTo>
                  <a:lnTo>
                    <a:pt x="156" y="37"/>
                  </a:lnTo>
                  <a:lnTo>
                    <a:pt x="161" y="56"/>
                  </a:lnTo>
                  <a:lnTo>
                    <a:pt x="170" y="61"/>
                  </a:lnTo>
                  <a:lnTo>
                    <a:pt x="180" y="66"/>
                  </a:lnTo>
                  <a:lnTo>
                    <a:pt x="194" y="66"/>
                  </a:lnTo>
                  <a:lnTo>
                    <a:pt x="213" y="61"/>
                  </a:lnTo>
                  <a:lnTo>
                    <a:pt x="217" y="66"/>
                  </a:lnTo>
                  <a:lnTo>
                    <a:pt x="222" y="66"/>
                  </a:lnTo>
                  <a:lnTo>
                    <a:pt x="217" y="70"/>
                  </a:lnTo>
                  <a:lnTo>
                    <a:pt x="208" y="80"/>
                  </a:lnTo>
                  <a:lnTo>
                    <a:pt x="189" y="94"/>
                  </a:lnTo>
                  <a:lnTo>
                    <a:pt x="170" y="108"/>
                  </a:lnTo>
                  <a:lnTo>
                    <a:pt x="151" y="113"/>
                  </a:lnTo>
                  <a:lnTo>
                    <a:pt x="132" y="113"/>
                  </a:lnTo>
                  <a:lnTo>
                    <a:pt x="71" y="94"/>
                  </a:lnTo>
                  <a:lnTo>
                    <a:pt x="28" y="75"/>
                  </a:lnTo>
                  <a:lnTo>
                    <a:pt x="5" y="33"/>
                  </a:lnTo>
                </a:path>
              </a:pathLst>
            </a:custGeom>
            <a:noFill/>
            <a:ln w="576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1814"/>
            <p:cNvSpPr/>
            <p:nvPr/>
          </p:nvSpPr>
          <p:spPr>
            <a:xfrm>
              <a:off x="2576880" y="4565880"/>
              <a:ext cx="276120" cy="68148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681480"/>
                <a:gd name="textAreaBottom" fmla="*/ 681840 h 681480"/>
              </a:gdLst>
              <a:ahLst/>
              <a:rect l="textAreaLeft" t="textAreaTop" r="textAreaRight" b="textAreaBottom"/>
              <a:pathLst>
                <a:path w="472" h="1038">
                  <a:moveTo>
                    <a:pt x="132" y="0"/>
                  </a:moveTo>
                  <a:lnTo>
                    <a:pt x="151" y="5"/>
                  </a:lnTo>
                  <a:lnTo>
                    <a:pt x="189" y="19"/>
                  </a:lnTo>
                  <a:lnTo>
                    <a:pt x="207" y="28"/>
                  </a:lnTo>
                  <a:lnTo>
                    <a:pt x="226" y="42"/>
                  </a:lnTo>
                  <a:lnTo>
                    <a:pt x="241" y="57"/>
                  </a:lnTo>
                  <a:lnTo>
                    <a:pt x="250" y="71"/>
                  </a:lnTo>
                  <a:lnTo>
                    <a:pt x="278" y="113"/>
                  </a:lnTo>
                  <a:lnTo>
                    <a:pt x="292" y="156"/>
                  </a:lnTo>
                  <a:lnTo>
                    <a:pt x="307" y="222"/>
                  </a:lnTo>
                  <a:lnTo>
                    <a:pt x="311" y="288"/>
                  </a:lnTo>
                  <a:lnTo>
                    <a:pt x="307" y="312"/>
                  </a:lnTo>
                  <a:lnTo>
                    <a:pt x="302" y="330"/>
                  </a:lnTo>
                  <a:lnTo>
                    <a:pt x="292" y="345"/>
                  </a:lnTo>
                  <a:lnTo>
                    <a:pt x="278" y="359"/>
                  </a:lnTo>
                  <a:lnTo>
                    <a:pt x="269" y="363"/>
                  </a:lnTo>
                  <a:lnTo>
                    <a:pt x="264" y="363"/>
                  </a:lnTo>
                  <a:lnTo>
                    <a:pt x="259" y="368"/>
                  </a:lnTo>
                  <a:lnTo>
                    <a:pt x="259" y="396"/>
                  </a:lnTo>
                  <a:lnTo>
                    <a:pt x="259" y="430"/>
                  </a:lnTo>
                  <a:lnTo>
                    <a:pt x="255" y="453"/>
                  </a:lnTo>
                  <a:lnTo>
                    <a:pt x="255" y="458"/>
                  </a:lnTo>
                  <a:lnTo>
                    <a:pt x="255" y="467"/>
                  </a:lnTo>
                  <a:lnTo>
                    <a:pt x="259" y="467"/>
                  </a:lnTo>
                  <a:lnTo>
                    <a:pt x="269" y="467"/>
                  </a:lnTo>
                  <a:lnTo>
                    <a:pt x="283" y="467"/>
                  </a:lnTo>
                  <a:lnTo>
                    <a:pt x="297" y="463"/>
                  </a:lnTo>
                  <a:lnTo>
                    <a:pt x="307" y="467"/>
                  </a:lnTo>
                  <a:lnTo>
                    <a:pt x="311" y="477"/>
                  </a:lnTo>
                  <a:lnTo>
                    <a:pt x="316" y="486"/>
                  </a:lnTo>
                  <a:lnTo>
                    <a:pt x="316" y="496"/>
                  </a:lnTo>
                  <a:lnTo>
                    <a:pt x="321" y="510"/>
                  </a:lnTo>
                  <a:lnTo>
                    <a:pt x="335" y="529"/>
                  </a:lnTo>
                  <a:lnTo>
                    <a:pt x="359" y="547"/>
                  </a:lnTo>
                  <a:lnTo>
                    <a:pt x="373" y="557"/>
                  </a:lnTo>
                  <a:lnTo>
                    <a:pt x="377" y="562"/>
                  </a:lnTo>
                  <a:lnTo>
                    <a:pt x="382" y="571"/>
                  </a:lnTo>
                  <a:lnTo>
                    <a:pt x="377" y="576"/>
                  </a:lnTo>
                  <a:lnTo>
                    <a:pt x="373" y="585"/>
                  </a:lnTo>
                  <a:lnTo>
                    <a:pt x="359" y="609"/>
                  </a:lnTo>
                  <a:lnTo>
                    <a:pt x="349" y="623"/>
                  </a:lnTo>
                  <a:lnTo>
                    <a:pt x="344" y="628"/>
                  </a:lnTo>
                  <a:lnTo>
                    <a:pt x="344" y="637"/>
                  </a:lnTo>
                  <a:lnTo>
                    <a:pt x="349" y="637"/>
                  </a:lnTo>
                  <a:lnTo>
                    <a:pt x="354" y="642"/>
                  </a:lnTo>
                  <a:lnTo>
                    <a:pt x="373" y="651"/>
                  </a:lnTo>
                  <a:lnTo>
                    <a:pt x="387" y="656"/>
                  </a:lnTo>
                  <a:lnTo>
                    <a:pt x="396" y="656"/>
                  </a:lnTo>
                  <a:lnTo>
                    <a:pt x="406" y="647"/>
                  </a:lnTo>
                  <a:lnTo>
                    <a:pt x="415" y="637"/>
                  </a:lnTo>
                  <a:lnTo>
                    <a:pt x="429" y="628"/>
                  </a:lnTo>
                  <a:lnTo>
                    <a:pt x="434" y="623"/>
                  </a:lnTo>
                  <a:lnTo>
                    <a:pt x="439" y="623"/>
                  </a:lnTo>
                  <a:lnTo>
                    <a:pt x="444" y="628"/>
                  </a:lnTo>
                  <a:lnTo>
                    <a:pt x="448" y="637"/>
                  </a:lnTo>
                  <a:lnTo>
                    <a:pt x="458" y="651"/>
                  </a:lnTo>
                  <a:lnTo>
                    <a:pt x="467" y="670"/>
                  </a:lnTo>
                  <a:lnTo>
                    <a:pt x="472" y="680"/>
                  </a:lnTo>
                  <a:lnTo>
                    <a:pt x="467" y="689"/>
                  </a:lnTo>
                  <a:lnTo>
                    <a:pt x="462" y="694"/>
                  </a:lnTo>
                  <a:lnTo>
                    <a:pt x="453" y="703"/>
                  </a:lnTo>
                  <a:lnTo>
                    <a:pt x="410" y="732"/>
                  </a:lnTo>
                  <a:lnTo>
                    <a:pt x="396" y="746"/>
                  </a:lnTo>
                  <a:lnTo>
                    <a:pt x="392" y="741"/>
                  </a:lnTo>
                  <a:lnTo>
                    <a:pt x="382" y="736"/>
                  </a:lnTo>
                  <a:lnTo>
                    <a:pt x="373" y="736"/>
                  </a:lnTo>
                  <a:lnTo>
                    <a:pt x="373" y="741"/>
                  </a:lnTo>
                  <a:lnTo>
                    <a:pt x="368" y="750"/>
                  </a:lnTo>
                  <a:lnTo>
                    <a:pt x="368" y="769"/>
                  </a:lnTo>
                  <a:lnTo>
                    <a:pt x="368" y="807"/>
                  </a:lnTo>
                  <a:lnTo>
                    <a:pt x="363" y="831"/>
                  </a:lnTo>
                  <a:lnTo>
                    <a:pt x="354" y="850"/>
                  </a:lnTo>
                  <a:lnTo>
                    <a:pt x="349" y="859"/>
                  </a:lnTo>
                  <a:lnTo>
                    <a:pt x="335" y="892"/>
                  </a:lnTo>
                  <a:lnTo>
                    <a:pt x="330" y="916"/>
                  </a:lnTo>
                  <a:lnTo>
                    <a:pt x="326" y="939"/>
                  </a:lnTo>
                  <a:lnTo>
                    <a:pt x="326" y="972"/>
                  </a:lnTo>
                  <a:lnTo>
                    <a:pt x="330" y="991"/>
                  </a:lnTo>
                  <a:lnTo>
                    <a:pt x="330" y="1010"/>
                  </a:lnTo>
                  <a:lnTo>
                    <a:pt x="326" y="1024"/>
                  </a:lnTo>
                  <a:lnTo>
                    <a:pt x="311" y="1034"/>
                  </a:lnTo>
                  <a:lnTo>
                    <a:pt x="307" y="1038"/>
                  </a:lnTo>
                  <a:lnTo>
                    <a:pt x="297" y="1038"/>
                  </a:lnTo>
                  <a:lnTo>
                    <a:pt x="292" y="1034"/>
                  </a:lnTo>
                  <a:lnTo>
                    <a:pt x="288" y="1024"/>
                  </a:lnTo>
                  <a:lnTo>
                    <a:pt x="283" y="1005"/>
                  </a:lnTo>
                  <a:lnTo>
                    <a:pt x="274" y="991"/>
                  </a:lnTo>
                  <a:lnTo>
                    <a:pt x="269" y="977"/>
                  </a:lnTo>
                  <a:lnTo>
                    <a:pt x="274" y="944"/>
                  </a:lnTo>
                  <a:lnTo>
                    <a:pt x="278" y="892"/>
                  </a:lnTo>
                  <a:lnTo>
                    <a:pt x="278" y="850"/>
                  </a:lnTo>
                  <a:lnTo>
                    <a:pt x="278" y="802"/>
                  </a:lnTo>
                  <a:lnTo>
                    <a:pt x="274" y="769"/>
                  </a:lnTo>
                  <a:lnTo>
                    <a:pt x="274" y="755"/>
                  </a:lnTo>
                  <a:lnTo>
                    <a:pt x="269" y="746"/>
                  </a:lnTo>
                  <a:lnTo>
                    <a:pt x="274" y="736"/>
                  </a:lnTo>
                  <a:lnTo>
                    <a:pt x="288" y="727"/>
                  </a:lnTo>
                  <a:lnTo>
                    <a:pt x="307" y="713"/>
                  </a:lnTo>
                  <a:lnTo>
                    <a:pt x="321" y="703"/>
                  </a:lnTo>
                  <a:lnTo>
                    <a:pt x="326" y="699"/>
                  </a:lnTo>
                  <a:lnTo>
                    <a:pt x="326" y="694"/>
                  </a:lnTo>
                  <a:lnTo>
                    <a:pt x="321" y="689"/>
                  </a:lnTo>
                  <a:lnTo>
                    <a:pt x="311" y="680"/>
                  </a:lnTo>
                  <a:lnTo>
                    <a:pt x="297" y="656"/>
                  </a:lnTo>
                  <a:lnTo>
                    <a:pt x="283" y="642"/>
                  </a:lnTo>
                  <a:lnTo>
                    <a:pt x="278" y="637"/>
                  </a:lnTo>
                  <a:lnTo>
                    <a:pt x="274" y="637"/>
                  </a:lnTo>
                  <a:lnTo>
                    <a:pt x="264" y="637"/>
                  </a:lnTo>
                  <a:lnTo>
                    <a:pt x="255" y="647"/>
                  </a:lnTo>
                  <a:lnTo>
                    <a:pt x="236" y="670"/>
                  </a:lnTo>
                  <a:lnTo>
                    <a:pt x="226" y="684"/>
                  </a:lnTo>
                  <a:lnTo>
                    <a:pt x="217" y="699"/>
                  </a:lnTo>
                  <a:lnTo>
                    <a:pt x="217" y="717"/>
                  </a:lnTo>
                  <a:lnTo>
                    <a:pt x="217" y="746"/>
                  </a:lnTo>
                  <a:lnTo>
                    <a:pt x="217" y="774"/>
                  </a:lnTo>
                  <a:lnTo>
                    <a:pt x="217" y="788"/>
                  </a:lnTo>
                  <a:lnTo>
                    <a:pt x="212" y="798"/>
                  </a:lnTo>
                  <a:lnTo>
                    <a:pt x="203" y="812"/>
                  </a:lnTo>
                  <a:lnTo>
                    <a:pt x="193" y="817"/>
                  </a:lnTo>
                  <a:lnTo>
                    <a:pt x="170" y="831"/>
                  </a:lnTo>
                  <a:lnTo>
                    <a:pt x="122" y="859"/>
                  </a:lnTo>
                  <a:lnTo>
                    <a:pt x="75" y="883"/>
                  </a:lnTo>
                  <a:lnTo>
                    <a:pt x="33" y="897"/>
                  </a:lnTo>
                  <a:lnTo>
                    <a:pt x="19" y="901"/>
                  </a:lnTo>
                  <a:lnTo>
                    <a:pt x="9" y="897"/>
                  </a:lnTo>
                  <a:lnTo>
                    <a:pt x="0" y="887"/>
                  </a:lnTo>
                  <a:lnTo>
                    <a:pt x="4" y="873"/>
                  </a:lnTo>
                  <a:lnTo>
                    <a:pt x="9" y="840"/>
                  </a:lnTo>
                  <a:lnTo>
                    <a:pt x="19" y="817"/>
                  </a:lnTo>
                  <a:lnTo>
                    <a:pt x="23" y="807"/>
                  </a:lnTo>
                  <a:lnTo>
                    <a:pt x="28" y="802"/>
                  </a:lnTo>
                  <a:lnTo>
                    <a:pt x="38" y="798"/>
                  </a:lnTo>
                  <a:lnTo>
                    <a:pt x="52" y="793"/>
                  </a:lnTo>
                  <a:lnTo>
                    <a:pt x="75" y="788"/>
                  </a:lnTo>
                  <a:lnTo>
                    <a:pt x="99" y="788"/>
                  </a:lnTo>
                  <a:lnTo>
                    <a:pt x="118" y="783"/>
                  </a:lnTo>
                  <a:lnTo>
                    <a:pt x="137" y="769"/>
                  </a:lnTo>
                  <a:lnTo>
                    <a:pt x="151" y="755"/>
                  </a:lnTo>
                  <a:lnTo>
                    <a:pt x="160" y="741"/>
                  </a:lnTo>
                  <a:lnTo>
                    <a:pt x="170" y="732"/>
                  </a:lnTo>
                  <a:lnTo>
                    <a:pt x="170" y="717"/>
                  </a:lnTo>
                  <a:lnTo>
                    <a:pt x="165" y="699"/>
                  </a:lnTo>
                  <a:lnTo>
                    <a:pt x="156" y="670"/>
                  </a:lnTo>
                  <a:lnTo>
                    <a:pt x="151" y="656"/>
                  </a:lnTo>
                  <a:lnTo>
                    <a:pt x="151" y="642"/>
                  </a:lnTo>
                  <a:lnTo>
                    <a:pt x="151" y="632"/>
                  </a:lnTo>
                  <a:lnTo>
                    <a:pt x="156" y="618"/>
                  </a:lnTo>
                  <a:lnTo>
                    <a:pt x="174" y="599"/>
                  </a:lnTo>
                  <a:lnTo>
                    <a:pt x="184" y="590"/>
                  </a:lnTo>
                  <a:lnTo>
                    <a:pt x="198" y="585"/>
                  </a:lnTo>
                  <a:lnTo>
                    <a:pt x="207" y="585"/>
                  </a:lnTo>
                  <a:lnTo>
                    <a:pt x="222" y="581"/>
                  </a:lnTo>
                  <a:lnTo>
                    <a:pt x="236" y="576"/>
                  </a:lnTo>
                  <a:lnTo>
                    <a:pt x="241" y="571"/>
                  </a:lnTo>
                  <a:lnTo>
                    <a:pt x="245" y="566"/>
                  </a:lnTo>
                  <a:lnTo>
                    <a:pt x="245" y="557"/>
                  </a:lnTo>
                  <a:lnTo>
                    <a:pt x="245" y="552"/>
                  </a:lnTo>
                  <a:lnTo>
                    <a:pt x="236" y="538"/>
                  </a:lnTo>
                  <a:lnTo>
                    <a:pt x="231" y="524"/>
                  </a:lnTo>
                  <a:lnTo>
                    <a:pt x="236" y="514"/>
                  </a:lnTo>
                  <a:lnTo>
                    <a:pt x="236" y="510"/>
                  </a:lnTo>
                  <a:lnTo>
                    <a:pt x="241" y="505"/>
                  </a:lnTo>
                  <a:lnTo>
                    <a:pt x="245" y="505"/>
                  </a:lnTo>
                  <a:lnTo>
                    <a:pt x="255" y="496"/>
                  </a:lnTo>
                  <a:lnTo>
                    <a:pt x="255" y="486"/>
                  </a:lnTo>
                  <a:lnTo>
                    <a:pt x="255" y="477"/>
                  </a:lnTo>
                  <a:lnTo>
                    <a:pt x="255" y="472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1815"/>
            <p:cNvSpPr/>
            <p:nvPr/>
          </p:nvSpPr>
          <p:spPr>
            <a:xfrm>
              <a:off x="3002400" y="4139640"/>
              <a:ext cx="798480" cy="1604880"/>
            </a:xfrm>
            <a:custGeom>
              <a:avLst/>
              <a:gdLst>
                <a:gd name="textAreaLeft" fmla="*/ 0 w 798480"/>
                <a:gd name="textAreaRight" fmla="*/ 798840 w 798480"/>
                <a:gd name="textAreaTop" fmla="*/ 0 h 1604880"/>
                <a:gd name="textAreaBottom" fmla="*/ 1605240 h 1604880"/>
              </a:gdLst>
              <a:ahLst/>
              <a:rect l="textAreaLeft" t="textAreaTop" r="textAreaRight" b="textAreaBottom"/>
              <a:pathLst>
                <a:path w="1364" h="2445">
                  <a:moveTo>
                    <a:pt x="1364" y="75"/>
                  </a:moveTo>
                  <a:lnTo>
                    <a:pt x="1350" y="85"/>
                  </a:lnTo>
                  <a:lnTo>
                    <a:pt x="1331" y="94"/>
                  </a:lnTo>
                  <a:lnTo>
                    <a:pt x="1312" y="99"/>
                  </a:lnTo>
                  <a:lnTo>
                    <a:pt x="1298" y="99"/>
                  </a:lnTo>
                  <a:lnTo>
                    <a:pt x="1289" y="89"/>
                  </a:lnTo>
                  <a:lnTo>
                    <a:pt x="1284" y="85"/>
                  </a:lnTo>
                  <a:lnTo>
                    <a:pt x="1279" y="80"/>
                  </a:lnTo>
                  <a:lnTo>
                    <a:pt x="1270" y="80"/>
                  </a:lnTo>
                  <a:lnTo>
                    <a:pt x="1260" y="85"/>
                  </a:lnTo>
                  <a:lnTo>
                    <a:pt x="1241" y="94"/>
                  </a:lnTo>
                  <a:lnTo>
                    <a:pt x="1213" y="118"/>
                  </a:lnTo>
                  <a:lnTo>
                    <a:pt x="1185" y="132"/>
                  </a:lnTo>
                  <a:lnTo>
                    <a:pt x="1175" y="137"/>
                  </a:lnTo>
                  <a:lnTo>
                    <a:pt x="1171" y="137"/>
                  </a:lnTo>
                  <a:lnTo>
                    <a:pt x="1161" y="137"/>
                  </a:lnTo>
                  <a:lnTo>
                    <a:pt x="1156" y="127"/>
                  </a:lnTo>
                  <a:lnTo>
                    <a:pt x="1147" y="113"/>
                  </a:lnTo>
                  <a:lnTo>
                    <a:pt x="1133" y="103"/>
                  </a:lnTo>
                  <a:lnTo>
                    <a:pt x="1123" y="103"/>
                  </a:lnTo>
                  <a:lnTo>
                    <a:pt x="1114" y="103"/>
                  </a:lnTo>
                  <a:lnTo>
                    <a:pt x="1105" y="108"/>
                  </a:lnTo>
                  <a:lnTo>
                    <a:pt x="1095" y="113"/>
                  </a:lnTo>
                  <a:lnTo>
                    <a:pt x="1086" y="118"/>
                  </a:lnTo>
                  <a:lnTo>
                    <a:pt x="1072" y="122"/>
                  </a:lnTo>
                  <a:lnTo>
                    <a:pt x="1057" y="122"/>
                  </a:lnTo>
                  <a:lnTo>
                    <a:pt x="1043" y="118"/>
                  </a:lnTo>
                  <a:lnTo>
                    <a:pt x="1020" y="113"/>
                  </a:lnTo>
                  <a:lnTo>
                    <a:pt x="1001" y="99"/>
                  </a:lnTo>
                  <a:lnTo>
                    <a:pt x="991" y="89"/>
                  </a:lnTo>
                  <a:lnTo>
                    <a:pt x="977" y="85"/>
                  </a:lnTo>
                  <a:lnTo>
                    <a:pt x="958" y="80"/>
                  </a:lnTo>
                  <a:lnTo>
                    <a:pt x="944" y="80"/>
                  </a:lnTo>
                  <a:lnTo>
                    <a:pt x="930" y="75"/>
                  </a:lnTo>
                  <a:lnTo>
                    <a:pt x="916" y="66"/>
                  </a:lnTo>
                  <a:lnTo>
                    <a:pt x="902" y="52"/>
                  </a:lnTo>
                  <a:lnTo>
                    <a:pt x="873" y="37"/>
                  </a:lnTo>
                  <a:lnTo>
                    <a:pt x="854" y="23"/>
                  </a:lnTo>
                  <a:lnTo>
                    <a:pt x="840" y="9"/>
                  </a:lnTo>
                  <a:lnTo>
                    <a:pt x="831" y="4"/>
                  </a:lnTo>
                  <a:lnTo>
                    <a:pt x="826" y="0"/>
                  </a:lnTo>
                  <a:lnTo>
                    <a:pt x="817" y="0"/>
                  </a:lnTo>
                  <a:lnTo>
                    <a:pt x="812" y="0"/>
                  </a:lnTo>
                  <a:lnTo>
                    <a:pt x="798" y="9"/>
                  </a:lnTo>
                  <a:lnTo>
                    <a:pt x="784" y="19"/>
                  </a:lnTo>
                  <a:lnTo>
                    <a:pt x="784" y="23"/>
                  </a:lnTo>
                  <a:lnTo>
                    <a:pt x="784" y="28"/>
                  </a:lnTo>
                  <a:lnTo>
                    <a:pt x="784" y="33"/>
                  </a:lnTo>
                  <a:lnTo>
                    <a:pt x="793" y="37"/>
                  </a:lnTo>
                  <a:lnTo>
                    <a:pt x="812" y="42"/>
                  </a:lnTo>
                  <a:lnTo>
                    <a:pt x="840" y="52"/>
                  </a:lnTo>
                  <a:lnTo>
                    <a:pt x="850" y="56"/>
                  </a:lnTo>
                  <a:lnTo>
                    <a:pt x="854" y="61"/>
                  </a:lnTo>
                  <a:lnTo>
                    <a:pt x="859" y="70"/>
                  </a:lnTo>
                  <a:lnTo>
                    <a:pt x="854" y="85"/>
                  </a:lnTo>
                  <a:lnTo>
                    <a:pt x="840" y="108"/>
                  </a:lnTo>
                  <a:lnTo>
                    <a:pt x="826" y="127"/>
                  </a:lnTo>
                  <a:lnTo>
                    <a:pt x="817" y="137"/>
                  </a:lnTo>
                  <a:lnTo>
                    <a:pt x="798" y="146"/>
                  </a:lnTo>
                  <a:lnTo>
                    <a:pt x="760" y="170"/>
                  </a:lnTo>
                  <a:lnTo>
                    <a:pt x="736" y="184"/>
                  </a:lnTo>
                  <a:lnTo>
                    <a:pt x="732" y="188"/>
                  </a:lnTo>
                  <a:lnTo>
                    <a:pt x="717" y="198"/>
                  </a:lnTo>
                  <a:lnTo>
                    <a:pt x="708" y="217"/>
                  </a:lnTo>
                  <a:lnTo>
                    <a:pt x="708" y="231"/>
                  </a:lnTo>
                  <a:lnTo>
                    <a:pt x="713" y="255"/>
                  </a:lnTo>
                  <a:lnTo>
                    <a:pt x="717" y="283"/>
                  </a:lnTo>
                  <a:lnTo>
                    <a:pt x="722" y="316"/>
                  </a:lnTo>
                  <a:lnTo>
                    <a:pt x="717" y="344"/>
                  </a:lnTo>
                  <a:lnTo>
                    <a:pt x="713" y="368"/>
                  </a:lnTo>
                  <a:lnTo>
                    <a:pt x="713" y="391"/>
                  </a:lnTo>
                  <a:lnTo>
                    <a:pt x="717" y="415"/>
                  </a:lnTo>
                  <a:lnTo>
                    <a:pt x="727" y="443"/>
                  </a:lnTo>
                  <a:lnTo>
                    <a:pt x="741" y="481"/>
                  </a:lnTo>
                  <a:lnTo>
                    <a:pt x="741" y="524"/>
                  </a:lnTo>
                  <a:lnTo>
                    <a:pt x="741" y="561"/>
                  </a:lnTo>
                  <a:lnTo>
                    <a:pt x="732" y="609"/>
                  </a:lnTo>
                  <a:lnTo>
                    <a:pt x="732" y="632"/>
                  </a:lnTo>
                  <a:lnTo>
                    <a:pt x="732" y="646"/>
                  </a:lnTo>
                  <a:lnTo>
                    <a:pt x="732" y="660"/>
                  </a:lnTo>
                  <a:lnTo>
                    <a:pt x="741" y="684"/>
                  </a:lnTo>
                  <a:lnTo>
                    <a:pt x="750" y="708"/>
                  </a:lnTo>
                  <a:lnTo>
                    <a:pt x="765" y="722"/>
                  </a:lnTo>
                  <a:lnTo>
                    <a:pt x="765" y="731"/>
                  </a:lnTo>
                  <a:lnTo>
                    <a:pt x="765" y="736"/>
                  </a:lnTo>
                  <a:lnTo>
                    <a:pt x="760" y="745"/>
                  </a:lnTo>
                  <a:lnTo>
                    <a:pt x="750" y="755"/>
                  </a:lnTo>
                  <a:lnTo>
                    <a:pt x="727" y="793"/>
                  </a:lnTo>
                  <a:lnTo>
                    <a:pt x="713" y="821"/>
                  </a:lnTo>
                  <a:lnTo>
                    <a:pt x="699" y="830"/>
                  </a:lnTo>
                  <a:lnTo>
                    <a:pt x="684" y="830"/>
                  </a:lnTo>
                  <a:lnTo>
                    <a:pt x="680" y="835"/>
                  </a:lnTo>
                  <a:lnTo>
                    <a:pt x="680" y="854"/>
                  </a:lnTo>
                  <a:lnTo>
                    <a:pt x="684" y="863"/>
                  </a:lnTo>
                  <a:lnTo>
                    <a:pt x="689" y="873"/>
                  </a:lnTo>
                  <a:lnTo>
                    <a:pt x="699" y="882"/>
                  </a:lnTo>
                  <a:lnTo>
                    <a:pt x="708" y="887"/>
                  </a:lnTo>
                  <a:lnTo>
                    <a:pt x="722" y="896"/>
                  </a:lnTo>
                  <a:lnTo>
                    <a:pt x="732" y="901"/>
                  </a:lnTo>
                  <a:lnTo>
                    <a:pt x="732" y="934"/>
                  </a:lnTo>
                  <a:lnTo>
                    <a:pt x="736" y="996"/>
                  </a:lnTo>
                  <a:lnTo>
                    <a:pt x="741" y="1019"/>
                  </a:lnTo>
                  <a:lnTo>
                    <a:pt x="741" y="1033"/>
                  </a:lnTo>
                  <a:lnTo>
                    <a:pt x="736" y="1038"/>
                  </a:lnTo>
                  <a:lnTo>
                    <a:pt x="732" y="1038"/>
                  </a:lnTo>
                  <a:lnTo>
                    <a:pt x="722" y="1033"/>
                  </a:lnTo>
                  <a:lnTo>
                    <a:pt x="713" y="1019"/>
                  </a:lnTo>
                  <a:lnTo>
                    <a:pt x="699" y="1005"/>
                  </a:lnTo>
                  <a:lnTo>
                    <a:pt x="694" y="1000"/>
                  </a:lnTo>
                  <a:lnTo>
                    <a:pt x="684" y="996"/>
                  </a:lnTo>
                  <a:lnTo>
                    <a:pt x="675" y="996"/>
                  </a:lnTo>
                  <a:lnTo>
                    <a:pt x="661" y="996"/>
                  </a:lnTo>
                  <a:lnTo>
                    <a:pt x="637" y="1005"/>
                  </a:lnTo>
                  <a:lnTo>
                    <a:pt x="618" y="1010"/>
                  </a:lnTo>
                  <a:lnTo>
                    <a:pt x="609" y="1019"/>
                  </a:lnTo>
                  <a:lnTo>
                    <a:pt x="599" y="1029"/>
                  </a:lnTo>
                  <a:lnTo>
                    <a:pt x="595" y="1033"/>
                  </a:lnTo>
                  <a:lnTo>
                    <a:pt x="609" y="1062"/>
                  </a:lnTo>
                  <a:lnTo>
                    <a:pt x="614" y="1076"/>
                  </a:lnTo>
                  <a:lnTo>
                    <a:pt x="614" y="1085"/>
                  </a:lnTo>
                  <a:lnTo>
                    <a:pt x="614" y="1095"/>
                  </a:lnTo>
                  <a:lnTo>
                    <a:pt x="609" y="1099"/>
                  </a:lnTo>
                  <a:lnTo>
                    <a:pt x="595" y="1109"/>
                  </a:lnTo>
                  <a:lnTo>
                    <a:pt x="571" y="1109"/>
                  </a:lnTo>
                  <a:lnTo>
                    <a:pt x="543" y="1104"/>
                  </a:lnTo>
                  <a:lnTo>
                    <a:pt x="519" y="1099"/>
                  </a:lnTo>
                  <a:lnTo>
                    <a:pt x="505" y="1099"/>
                  </a:lnTo>
                  <a:lnTo>
                    <a:pt x="500" y="1104"/>
                  </a:lnTo>
                  <a:lnTo>
                    <a:pt x="496" y="1109"/>
                  </a:lnTo>
                  <a:lnTo>
                    <a:pt x="496" y="1118"/>
                  </a:lnTo>
                  <a:lnTo>
                    <a:pt x="496" y="1142"/>
                  </a:lnTo>
                  <a:lnTo>
                    <a:pt x="500" y="1161"/>
                  </a:lnTo>
                  <a:lnTo>
                    <a:pt x="500" y="1165"/>
                  </a:lnTo>
                  <a:lnTo>
                    <a:pt x="510" y="1170"/>
                  </a:lnTo>
                  <a:lnTo>
                    <a:pt x="519" y="1170"/>
                  </a:lnTo>
                  <a:lnTo>
                    <a:pt x="529" y="1170"/>
                  </a:lnTo>
                  <a:lnTo>
                    <a:pt x="557" y="1170"/>
                  </a:lnTo>
                  <a:lnTo>
                    <a:pt x="585" y="1175"/>
                  </a:lnTo>
                  <a:lnTo>
                    <a:pt x="590" y="1180"/>
                  </a:lnTo>
                  <a:lnTo>
                    <a:pt x="590" y="1184"/>
                  </a:lnTo>
                  <a:lnTo>
                    <a:pt x="585" y="1189"/>
                  </a:lnTo>
                  <a:lnTo>
                    <a:pt x="571" y="1198"/>
                  </a:lnTo>
                  <a:lnTo>
                    <a:pt x="533" y="1208"/>
                  </a:lnTo>
                  <a:lnTo>
                    <a:pt x="505" y="1213"/>
                  </a:lnTo>
                  <a:lnTo>
                    <a:pt x="496" y="1213"/>
                  </a:lnTo>
                  <a:lnTo>
                    <a:pt x="486" y="1217"/>
                  </a:lnTo>
                  <a:lnTo>
                    <a:pt x="481" y="1227"/>
                  </a:lnTo>
                  <a:lnTo>
                    <a:pt x="486" y="1241"/>
                  </a:lnTo>
                  <a:lnTo>
                    <a:pt x="486" y="1269"/>
                  </a:lnTo>
                  <a:lnTo>
                    <a:pt x="481" y="1283"/>
                  </a:lnTo>
                  <a:lnTo>
                    <a:pt x="481" y="1288"/>
                  </a:lnTo>
                  <a:lnTo>
                    <a:pt x="486" y="1293"/>
                  </a:lnTo>
                  <a:lnTo>
                    <a:pt x="491" y="1298"/>
                  </a:lnTo>
                  <a:lnTo>
                    <a:pt x="500" y="1302"/>
                  </a:lnTo>
                  <a:lnTo>
                    <a:pt x="533" y="1321"/>
                  </a:lnTo>
                  <a:lnTo>
                    <a:pt x="562" y="1335"/>
                  </a:lnTo>
                  <a:lnTo>
                    <a:pt x="571" y="1345"/>
                  </a:lnTo>
                  <a:lnTo>
                    <a:pt x="571" y="1350"/>
                  </a:lnTo>
                  <a:lnTo>
                    <a:pt x="566" y="1354"/>
                  </a:lnTo>
                  <a:lnTo>
                    <a:pt x="552" y="1354"/>
                  </a:lnTo>
                  <a:lnTo>
                    <a:pt x="514" y="1354"/>
                  </a:lnTo>
                  <a:lnTo>
                    <a:pt x="486" y="1354"/>
                  </a:lnTo>
                  <a:lnTo>
                    <a:pt x="462" y="1359"/>
                  </a:lnTo>
                  <a:lnTo>
                    <a:pt x="448" y="1368"/>
                  </a:lnTo>
                  <a:lnTo>
                    <a:pt x="406" y="1378"/>
                  </a:lnTo>
                  <a:lnTo>
                    <a:pt x="373" y="1383"/>
                  </a:lnTo>
                  <a:lnTo>
                    <a:pt x="359" y="1392"/>
                  </a:lnTo>
                  <a:lnTo>
                    <a:pt x="340" y="1397"/>
                  </a:lnTo>
                  <a:lnTo>
                    <a:pt x="335" y="1401"/>
                  </a:lnTo>
                  <a:lnTo>
                    <a:pt x="326" y="1406"/>
                  </a:lnTo>
                  <a:lnTo>
                    <a:pt x="321" y="1411"/>
                  </a:lnTo>
                  <a:lnTo>
                    <a:pt x="321" y="1420"/>
                  </a:lnTo>
                  <a:lnTo>
                    <a:pt x="326" y="1439"/>
                  </a:lnTo>
                  <a:lnTo>
                    <a:pt x="326" y="1458"/>
                  </a:lnTo>
                  <a:lnTo>
                    <a:pt x="326" y="1463"/>
                  </a:lnTo>
                  <a:lnTo>
                    <a:pt x="326" y="1468"/>
                  </a:lnTo>
                  <a:lnTo>
                    <a:pt x="316" y="1472"/>
                  </a:lnTo>
                  <a:lnTo>
                    <a:pt x="307" y="1472"/>
                  </a:lnTo>
                  <a:lnTo>
                    <a:pt x="283" y="1458"/>
                  </a:lnTo>
                  <a:lnTo>
                    <a:pt x="269" y="1449"/>
                  </a:lnTo>
                  <a:lnTo>
                    <a:pt x="264" y="1444"/>
                  </a:lnTo>
                  <a:lnTo>
                    <a:pt x="255" y="1444"/>
                  </a:lnTo>
                  <a:lnTo>
                    <a:pt x="250" y="1449"/>
                  </a:lnTo>
                  <a:lnTo>
                    <a:pt x="241" y="1458"/>
                  </a:lnTo>
                  <a:lnTo>
                    <a:pt x="222" y="1472"/>
                  </a:lnTo>
                  <a:lnTo>
                    <a:pt x="208" y="1482"/>
                  </a:lnTo>
                  <a:lnTo>
                    <a:pt x="203" y="1486"/>
                  </a:lnTo>
                  <a:lnTo>
                    <a:pt x="198" y="1496"/>
                  </a:lnTo>
                  <a:lnTo>
                    <a:pt x="193" y="1505"/>
                  </a:lnTo>
                  <a:lnTo>
                    <a:pt x="193" y="1519"/>
                  </a:lnTo>
                  <a:lnTo>
                    <a:pt x="189" y="1586"/>
                  </a:lnTo>
                  <a:lnTo>
                    <a:pt x="189" y="1628"/>
                  </a:lnTo>
                  <a:lnTo>
                    <a:pt x="193" y="1642"/>
                  </a:lnTo>
                  <a:lnTo>
                    <a:pt x="198" y="1661"/>
                  </a:lnTo>
                  <a:lnTo>
                    <a:pt x="198" y="1670"/>
                  </a:lnTo>
                  <a:lnTo>
                    <a:pt x="193" y="1680"/>
                  </a:lnTo>
                  <a:lnTo>
                    <a:pt x="189" y="1689"/>
                  </a:lnTo>
                  <a:lnTo>
                    <a:pt x="179" y="1699"/>
                  </a:lnTo>
                  <a:lnTo>
                    <a:pt x="160" y="1708"/>
                  </a:lnTo>
                  <a:lnTo>
                    <a:pt x="146" y="1713"/>
                  </a:lnTo>
                  <a:lnTo>
                    <a:pt x="141" y="1718"/>
                  </a:lnTo>
                  <a:lnTo>
                    <a:pt x="137" y="1722"/>
                  </a:lnTo>
                  <a:lnTo>
                    <a:pt x="137" y="1732"/>
                  </a:lnTo>
                  <a:lnTo>
                    <a:pt x="141" y="1746"/>
                  </a:lnTo>
                  <a:lnTo>
                    <a:pt x="146" y="1807"/>
                  </a:lnTo>
                  <a:lnTo>
                    <a:pt x="156" y="1836"/>
                  </a:lnTo>
                  <a:lnTo>
                    <a:pt x="184" y="1859"/>
                  </a:lnTo>
                  <a:lnTo>
                    <a:pt x="203" y="1883"/>
                  </a:lnTo>
                  <a:lnTo>
                    <a:pt x="203" y="1888"/>
                  </a:lnTo>
                  <a:lnTo>
                    <a:pt x="198" y="1902"/>
                  </a:lnTo>
                  <a:lnTo>
                    <a:pt x="203" y="1911"/>
                  </a:lnTo>
                  <a:lnTo>
                    <a:pt x="208" y="1916"/>
                  </a:lnTo>
                  <a:lnTo>
                    <a:pt x="217" y="1925"/>
                  </a:lnTo>
                  <a:lnTo>
                    <a:pt x="231" y="1930"/>
                  </a:lnTo>
                  <a:lnTo>
                    <a:pt x="259" y="1940"/>
                  </a:lnTo>
                  <a:lnTo>
                    <a:pt x="283" y="1949"/>
                  </a:lnTo>
                  <a:lnTo>
                    <a:pt x="288" y="1954"/>
                  </a:lnTo>
                  <a:lnTo>
                    <a:pt x="288" y="1958"/>
                  </a:lnTo>
                  <a:lnTo>
                    <a:pt x="283" y="1963"/>
                  </a:lnTo>
                  <a:lnTo>
                    <a:pt x="269" y="1973"/>
                  </a:lnTo>
                  <a:lnTo>
                    <a:pt x="255" y="1977"/>
                  </a:lnTo>
                  <a:lnTo>
                    <a:pt x="241" y="1977"/>
                  </a:lnTo>
                  <a:lnTo>
                    <a:pt x="231" y="1973"/>
                  </a:lnTo>
                  <a:lnTo>
                    <a:pt x="226" y="1968"/>
                  </a:lnTo>
                  <a:lnTo>
                    <a:pt x="222" y="1968"/>
                  </a:lnTo>
                  <a:lnTo>
                    <a:pt x="217" y="1973"/>
                  </a:lnTo>
                  <a:lnTo>
                    <a:pt x="212" y="1982"/>
                  </a:lnTo>
                  <a:lnTo>
                    <a:pt x="203" y="2006"/>
                  </a:lnTo>
                  <a:lnTo>
                    <a:pt x="189" y="2053"/>
                  </a:lnTo>
                  <a:lnTo>
                    <a:pt x="179" y="2086"/>
                  </a:lnTo>
                  <a:lnTo>
                    <a:pt x="174" y="2095"/>
                  </a:lnTo>
                  <a:lnTo>
                    <a:pt x="165" y="2100"/>
                  </a:lnTo>
                  <a:lnTo>
                    <a:pt x="160" y="2105"/>
                  </a:lnTo>
                  <a:lnTo>
                    <a:pt x="151" y="2105"/>
                  </a:lnTo>
                  <a:lnTo>
                    <a:pt x="132" y="2105"/>
                  </a:lnTo>
                  <a:lnTo>
                    <a:pt x="113" y="2105"/>
                  </a:lnTo>
                  <a:lnTo>
                    <a:pt x="104" y="2105"/>
                  </a:lnTo>
                  <a:lnTo>
                    <a:pt x="94" y="2114"/>
                  </a:lnTo>
                  <a:lnTo>
                    <a:pt x="90" y="2119"/>
                  </a:lnTo>
                  <a:lnTo>
                    <a:pt x="85" y="2133"/>
                  </a:lnTo>
                  <a:lnTo>
                    <a:pt x="75" y="2166"/>
                  </a:lnTo>
                  <a:lnTo>
                    <a:pt x="66" y="2199"/>
                  </a:lnTo>
                  <a:lnTo>
                    <a:pt x="56" y="2227"/>
                  </a:lnTo>
                  <a:lnTo>
                    <a:pt x="42" y="2246"/>
                  </a:lnTo>
                  <a:lnTo>
                    <a:pt x="23" y="2251"/>
                  </a:lnTo>
                  <a:lnTo>
                    <a:pt x="9" y="2256"/>
                  </a:lnTo>
                  <a:lnTo>
                    <a:pt x="0" y="2260"/>
                  </a:lnTo>
                  <a:lnTo>
                    <a:pt x="0" y="2265"/>
                  </a:lnTo>
                  <a:lnTo>
                    <a:pt x="0" y="2275"/>
                  </a:lnTo>
                  <a:lnTo>
                    <a:pt x="5" y="2284"/>
                  </a:lnTo>
                  <a:lnTo>
                    <a:pt x="19" y="2327"/>
                  </a:lnTo>
                  <a:lnTo>
                    <a:pt x="47" y="2374"/>
                  </a:lnTo>
                  <a:lnTo>
                    <a:pt x="80" y="2421"/>
                  </a:lnTo>
                  <a:lnTo>
                    <a:pt x="104" y="2445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1816"/>
            <p:cNvSpPr/>
            <p:nvPr/>
          </p:nvSpPr>
          <p:spPr>
            <a:xfrm>
              <a:off x="2949480" y="4284000"/>
              <a:ext cx="467280" cy="604080"/>
            </a:xfrm>
            <a:custGeom>
              <a:avLst/>
              <a:gdLst>
                <a:gd name="textAreaLeft" fmla="*/ 0 w 467280"/>
                <a:gd name="textAreaRight" fmla="*/ 467640 w 46728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798" h="921">
                  <a:moveTo>
                    <a:pt x="798" y="0"/>
                  </a:moveTo>
                  <a:lnTo>
                    <a:pt x="789" y="5"/>
                  </a:lnTo>
                  <a:lnTo>
                    <a:pt x="765" y="29"/>
                  </a:lnTo>
                  <a:lnTo>
                    <a:pt x="741" y="48"/>
                  </a:lnTo>
                  <a:lnTo>
                    <a:pt x="737" y="48"/>
                  </a:lnTo>
                  <a:lnTo>
                    <a:pt x="732" y="48"/>
                  </a:lnTo>
                  <a:lnTo>
                    <a:pt x="708" y="52"/>
                  </a:lnTo>
                  <a:lnTo>
                    <a:pt x="671" y="62"/>
                  </a:lnTo>
                  <a:lnTo>
                    <a:pt x="647" y="62"/>
                  </a:lnTo>
                  <a:lnTo>
                    <a:pt x="642" y="67"/>
                  </a:lnTo>
                  <a:lnTo>
                    <a:pt x="628" y="71"/>
                  </a:lnTo>
                  <a:lnTo>
                    <a:pt x="619" y="81"/>
                  </a:lnTo>
                  <a:lnTo>
                    <a:pt x="609" y="100"/>
                  </a:lnTo>
                  <a:lnTo>
                    <a:pt x="604" y="114"/>
                  </a:lnTo>
                  <a:lnTo>
                    <a:pt x="609" y="123"/>
                  </a:lnTo>
                  <a:lnTo>
                    <a:pt x="609" y="133"/>
                  </a:lnTo>
                  <a:lnTo>
                    <a:pt x="619" y="142"/>
                  </a:lnTo>
                  <a:lnTo>
                    <a:pt x="623" y="161"/>
                  </a:lnTo>
                  <a:lnTo>
                    <a:pt x="628" y="180"/>
                  </a:lnTo>
                  <a:lnTo>
                    <a:pt x="633" y="189"/>
                  </a:lnTo>
                  <a:lnTo>
                    <a:pt x="628" y="199"/>
                  </a:lnTo>
                  <a:lnTo>
                    <a:pt x="628" y="208"/>
                  </a:lnTo>
                  <a:lnTo>
                    <a:pt x="623" y="213"/>
                  </a:lnTo>
                  <a:lnTo>
                    <a:pt x="609" y="218"/>
                  </a:lnTo>
                  <a:lnTo>
                    <a:pt x="581" y="232"/>
                  </a:lnTo>
                  <a:lnTo>
                    <a:pt x="562" y="251"/>
                  </a:lnTo>
                  <a:lnTo>
                    <a:pt x="552" y="260"/>
                  </a:lnTo>
                  <a:lnTo>
                    <a:pt x="543" y="270"/>
                  </a:lnTo>
                  <a:lnTo>
                    <a:pt x="519" y="274"/>
                  </a:lnTo>
                  <a:lnTo>
                    <a:pt x="477" y="284"/>
                  </a:lnTo>
                  <a:lnTo>
                    <a:pt x="449" y="293"/>
                  </a:lnTo>
                  <a:lnTo>
                    <a:pt x="430" y="303"/>
                  </a:lnTo>
                  <a:lnTo>
                    <a:pt x="416" y="312"/>
                  </a:lnTo>
                  <a:lnTo>
                    <a:pt x="406" y="321"/>
                  </a:lnTo>
                  <a:lnTo>
                    <a:pt x="401" y="340"/>
                  </a:lnTo>
                  <a:lnTo>
                    <a:pt x="406" y="378"/>
                  </a:lnTo>
                  <a:lnTo>
                    <a:pt x="416" y="411"/>
                  </a:lnTo>
                  <a:lnTo>
                    <a:pt x="420" y="425"/>
                  </a:lnTo>
                  <a:lnTo>
                    <a:pt x="425" y="435"/>
                  </a:lnTo>
                  <a:lnTo>
                    <a:pt x="430" y="439"/>
                  </a:lnTo>
                  <a:lnTo>
                    <a:pt x="425" y="444"/>
                  </a:lnTo>
                  <a:lnTo>
                    <a:pt x="420" y="449"/>
                  </a:lnTo>
                  <a:lnTo>
                    <a:pt x="411" y="454"/>
                  </a:lnTo>
                  <a:lnTo>
                    <a:pt x="378" y="463"/>
                  </a:lnTo>
                  <a:lnTo>
                    <a:pt x="354" y="477"/>
                  </a:lnTo>
                  <a:lnTo>
                    <a:pt x="335" y="487"/>
                  </a:lnTo>
                  <a:lnTo>
                    <a:pt x="321" y="501"/>
                  </a:lnTo>
                  <a:lnTo>
                    <a:pt x="316" y="506"/>
                  </a:lnTo>
                  <a:lnTo>
                    <a:pt x="312" y="510"/>
                  </a:lnTo>
                  <a:lnTo>
                    <a:pt x="312" y="515"/>
                  </a:lnTo>
                  <a:lnTo>
                    <a:pt x="316" y="524"/>
                  </a:lnTo>
                  <a:lnTo>
                    <a:pt x="326" y="539"/>
                  </a:lnTo>
                  <a:lnTo>
                    <a:pt x="335" y="553"/>
                  </a:lnTo>
                  <a:lnTo>
                    <a:pt x="345" y="567"/>
                  </a:lnTo>
                  <a:lnTo>
                    <a:pt x="345" y="590"/>
                  </a:lnTo>
                  <a:lnTo>
                    <a:pt x="345" y="614"/>
                  </a:lnTo>
                  <a:lnTo>
                    <a:pt x="349" y="633"/>
                  </a:lnTo>
                  <a:lnTo>
                    <a:pt x="349" y="642"/>
                  </a:lnTo>
                  <a:lnTo>
                    <a:pt x="349" y="652"/>
                  </a:lnTo>
                  <a:lnTo>
                    <a:pt x="345" y="661"/>
                  </a:lnTo>
                  <a:lnTo>
                    <a:pt x="335" y="666"/>
                  </a:lnTo>
                  <a:lnTo>
                    <a:pt x="288" y="694"/>
                  </a:lnTo>
                  <a:lnTo>
                    <a:pt x="255" y="708"/>
                  </a:lnTo>
                  <a:lnTo>
                    <a:pt x="241" y="708"/>
                  </a:lnTo>
                  <a:lnTo>
                    <a:pt x="231" y="708"/>
                  </a:lnTo>
                  <a:lnTo>
                    <a:pt x="217" y="708"/>
                  </a:lnTo>
                  <a:lnTo>
                    <a:pt x="203" y="727"/>
                  </a:lnTo>
                  <a:lnTo>
                    <a:pt x="184" y="746"/>
                  </a:lnTo>
                  <a:lnTo>
                    <a:pt x="170" y="760"/>
                  </a:lnTo>
                  <a:lnTo>
                    <a:pt x="156" y="770"/>
                  </a:lnTo>
                  <a:lnTo>
                    <a:pt x="137" y="779"/>
                  </a:lnTo>
                  <a:lnTo>
                    <a:pt x="104" y="793"/>
                  </a:lnTo>
                  <a:lnTo>
                    <a:pt x="76" y="803"/>
                  </a:lnTo>
                  <a:lnTo>
                    <a:pt x="66" y="798"/>
                  </a:lnTo>
                  <a:lnTo>
                    <a:pt x="61" y="793"/>
                  </a:lnTo>
                  <a:lnTo>
                    <a:pt x="57" y="798"/>
                  </a:lnTo>
                  <a:lnTo>
                    <a:pt x="38" y="822"/>
                  </a:lnTo>
                  <a:lnTo>
                    <a:pt x="10" y="888"/>
                  </a:lnTo>
                  <a:lnTo>
                    <a:pt x="0" y="921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1817"/>
            <p:cNvSpPr/>
            <p:nvPr/>
          </p:nvSpPr>
          <p:spPr>
            <a:xfrm>
              <a:off x="3784680" y="3717000"/>
              <a:ext cx="663480" cy="17845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1784520"/>
                <a:gd name="textAreaBottom" fmla="*/ 1784880 h 1784520"/>
              </a:gdLst>
              <a:ahLst/>
              <a:rect l="textAreaLeft" t="textAreaTop" r="textAreaRight" b="textAreaBottom"/>
              <a:pathLst>
                <a:path w="1133" h="2718">
                  <a:moveTo>
                    <a:pt x="1133" y="23"/>
                  </a:moveTo>
                  <a:lnTo>
                    <a:pt x="1081" y="28"/>
                  </a:lnTo>
                  <a:lnTo>
                    <a:pt x="1039" y="28"/>
                  </a:lnTo>
                  <a:lnTo>
                    <a:pt x="1034" y="19"/>
                  </a:lnTo>
                  <a:lnTo>
                    <a:pt x="1029" y="9"/>
                  </a:lnTo>
                  <a:lnTo>
                    <a:pt x="1029" y="4"/>
                  </a:lnTo>
                  <a:lnTo>
                    <a:pt x="1024" y="4"/>
                  </a:lnTo>
                  <a:lnTo>
                    <a:pt x="1020" y="4"/>
                  </a:lnTo>
                  <a:lnTo>
                    <a:pt x="1015" y="4"/>
                  </a:lnTo>
                  <a:lnTo>
                    <a:pt x="1001" y="19"/>
                  </a:lnTo>
                  <a:lnTo>
                    <a:pt x="1001" y="33"/>
                  </a:lnTo>
                  <a:lnTo>
                    <a:pt x="996" y="42"/>
                  </a:lnTo>
                  <a:lnTo>
                    <a:pt x="991" y="47"/>
                  </a:lnTo>
                  <a:lnTo>
                    <a:pt x="982" y="52"/>
                  </a:lnTo>
                  <a:lnTo>
                    <a:pt x="968" y="47"/>
                  </a:lnTo>
                  <a:lnTo>
                    <a:pt x="902" y="42"/>
                  </a:lnTo>
                  <a:lnTo>
                    <a:pt x="854" y="38"/>
                  </a:lnTo>
                  <a:lnTo>
                    <a:pt x="836" y="28"/>
                  </a:lnTo>
                  <a:lnTo>
                    <a:pt x="793" y="14"/>
                  </a:lnTo>
                  <a:lnTo>
                    <a:pt x="760" y="4"/>
                  </a:lnTo>
                  <a:lnTo>
                    <a:pt x="727" y="0"/>
                  </a:lnTo>
                  <a:lnTo>
                    <a:pt x="718" y="0"/>
                  </a:lnTo>
                  <a:lnTo>
                    <a:pt x="703" y="0"/>
                  </a:lnTo>
                  <a:lnTo>
                    <a:pt x="694" y="4"/>
                  </a:lnTo>
                  <a:lnTo>
                    <a:pt x="684" y="14"/>
                  </a:lnTo>
                  <a:lnTo>
                    <a:pt x="651" y="42"/>
                  </a:lnTo>
                  <a:lnTo>
                    <a:pt x="614" y="80"/>
                  </a:lnTo>
                  <a:lnTo>
                    <a:pt x="585" y="104"/>
                  </a:lnTo>
                  <a:lnTo>
                    <a:pt x="571" y="122"/>
                  </a:lnTo>
                  <a:lnTo>
                    <a:pt x="552" y="141"/>
                  </a:lnTo>
                  <a:lnTo>
                    <a:pt x="529" y="156"/>
                  </a:lnTo>
                  <a:lnTo>
                    <a:pt x="496" y="160"/>
                  </a:lnTo>
                  <a:lnTo>
                    <a:pt x="472" y="160"/>
                  </a:lnTo>
                  <a:lnTo>
                    <a:pt x="448" y="165"/>
                  </a:lnTo>
                  <a:lnTo>
                    <a:pt x="425" y="179"/>
                  </a:lnTo>
                  <a:lnTo>
                    <a:pt x="373" y="198"/>
                  </a:lnTo>
                  <a:lnTo>
                    <a:pt x="321" y="212"/>
                  </a:lnTo>
                  <a:lnTo>
                    <a:pt x="293" y="231"/>
                  </a:lnTo>
                  <a:lnTo>
                    <a:pt x="274" y="250"/>
                  </a:lnTo>
                  <a:lnTo>
                    <a:pt x="260" y="269"/>
                  </a:lnTo>
                  <a:lnTo>
                    <a:pt x="250" y="288"/>
                  </a:lnTo>
                  <a:lnTo>
                    <a:pt x="245" y="307"/>
                  </a:lnTo>
                  <a:lnTo>
                    <a:pt x="245" y="330"/>
                  </a:lnTo>
                  <a:lnTo>
                    <a:pt x="241" y="349"/>
                  </a:lnTo>
                  <a:lnTo>
                    <a:pt x="245" y="363"/>
                  </a:lnTo>
                  <a:lnTo>
                    <a:pt x="255" y="368"/>
                  </a:lnTo>
                  <a:lnTo>
                    <a:pt x="269" y="368"/>
                  </a:lnTo>
                  <a:lnTo>
                    <a:pt x="274" y="368"/>
                  </a:lnTo>
                  <a:lnTo>
                    <a:pt x="278" y="373"/>
                  </a:lnTo>
                  <a:lnTo>
                    <a:pt x="278" y="382"/>
                  </a:lnTo>
                  <a:lnTo>
                    <a:pt x="274" y="401"/>
                  </a:lnTo>
                  <a:lnTo>
                    <a:pt x="274" y="429"/>
                  </a:lnTo>
                  <a:lnTo>
                    <a:pt x="278" y="453"/>
                  </a:lnTo>
                  <a:lnTo>
                    <a:pt x="278" y="458"/>
                  </a:lnTo>
                  <a:lnTo>
                    <a:pt x="278" y="467"/>
                  </a:lnTo>
                  <a:lnTo>
                    <a:pt x="274" y="472"/>
                  </a:lnTo>
                  <a:lnTo>
                    <a:pt x="264" y="476"/>
                  </a:lnTo>
                  <a:lnTo>
                    <a:pt x="231" y="491"/>
                  </a:lnTo>
                  <a:lnTo>
                    <a:pt x="193" y="510"/>
                  </a:lnTo>
                  <a:lnTo>
                    <a:pt x="151" y="533"/>
                  </a:lnTo>
                  <a:lnTo>
                    <a:pt x="104" y="552"/>
                  </a:lnTo>
                  <a:lnTo>
                    <a:pt x="52" y="599"/>
                  </a:lnTo>
                  <a:lnTo>
                    <a:pt x="24" y="632"/>
                  </a:lnTo>
                  <a:lnTo>
                    <a:pt x="14" y="646"/>
                  </a:lnTo>
                  <a:lnTo>
                    <a:pt x="14" y="675"/>
                  </a:lnTo>
                  <a:lnTo>
                    <a:pt x="19" y="689"/>
                  </a:lnTo>
                  <a:lnTo>
                    <a:pt x="24" y="703"/>
                  </a:lnTo>
                  <a:lnTo>
                    <a:pt x="24" y="722"/>
                  </a:lnTo>
                  <a:lnTo>
                    <a:pt x="19" y="755"/>
                  </a:lnTo>
                  <a:lnTo>
                    <a:pt x="14" y="774"/>
                  </a:lnTo>
                  <a:lnTo>
                    <a:pt x="14" y="788"/>
                  </a:lnTo>
                  <a:lnTo>
                    <a:pt x="14" y="797"/>
                  </a:lnTo>
                  <a:lnTo>
                    <a:pt x="19" y="812"/>
                  </a:lnTo>
                  <a:lnTo>
                    <a:pt x="33" y="826"/>
                  </a:lnTo>
                  <a:lnTo>
                    <a:pt x="47" y="840"/>
                  </a:lnTo>
                  <a:lnTo>
                    <a:pt x="57" y="854"/>
                  </a:lnTo>
                  <a:lnTo>
                    <a:pt x="66" y="868"/>
                  </a:lnTo>
                  <a:lnTo>
                    <a:pt x="71" y="882"/>
                  </a:lnTo>
                  <a:lnTo>
                    <a:pt x="71" y="897"/>
                  </a:lnTo>
                  <a:lnTo>
                    <a:pt x="75" y="901"/>
                  </a:lnTo>
                  <a:lnTo>
                    <a:pt x="80" y="906"/>
                  </a:lnTo>
                  <a:lnTo>
                    <a:pt x="90" y="925"/>
                  </a:lnTo>
                  <a:lnTo>
                    <a:pt x="99" y="972"/>
                  </a:lnTo>
                  <a:lnTo>
                    <a:pt x="104" y="1024"/>
                  </a:lnTo>
                  <a:lnTo>
                    <a:pt x="113" y="1062"/>
                  </a:lnTo>
                  <a:lnTo>
                    <a:pt x="118" y="1071"/>
                  </a:lnTo>
                  <a:lnTo>
                    <a:pt x="123" y="1081"/>
                  </a:lnTo>
                  <a:lnTo>
                    <a:pt x="132" y="1085"/>
                  </a:lnTo>
                  <a:lnTo>
                    <a:pt x="142" y="1085"/>
                  </a:lnTo>
                  <a:lnTo>
                    <a:pt x="165" y="1081"/>
                  </a:lnTo>
                  <a:lnTo>
                    <a:pt x="189" y="1076"/>
                  </a:lnTo>
                  <a:lnTo>
                    <a:pt x="203" y="1071"/>
                  </a:lnTo>
                  <a:lnTo>
                    <a:pt x="212" y="1071"/>
                  </a:lnTo>
                  <a:lnTo>
                    <a:pt x="222" y="1076"/>
                  </a:lnTo>
                  <a:lnTo>
                    <a:pt x="227" y="1085"/>
                  </a:lnTo>
                  <a:lnTo>
                    <a:pt x="241" y="1123"/>
                  </a:lnTo>
                  <a:lnTo>
                    <a:pt x="255" y="1156"/>
                  </a:lnTo>
                  <a:lnTo>
                    <a:pt x="269" y="1180"/>
                  </a:lnTo>
                  <a:lnTo>
                    <a:pt x="283" y="1203"/>
                  </a:lnTo>
                  <a:lnTo>
                    <a:pt x="283" y="1217"/>
                  </a:lnTo>
                  <a:lnTo>
                    <a:pt x="288" y="1227"/>
                  </a:lnTo>
                  <a:lnTo>
                    <a:pt x="283" y="1236"/>
                  </a:lnTo>
                  <a:lnTo>
                    <a:pt x="269" y="1251"/>
                  </a:lnTo>
                  <a:lnTo>
                    <a:pt x="241" y="1298"/>
                  </a:lnTo>
                  <a:lnTo>
                    <a:pt x="227" y="1317"/>
                  </a:lnTo>
                  <a:lnTo>
                    <a:pt x="222" y="1317"/>
                  </a:lnTo>
                  <a:lnTo>
                    <a:pt x="212" y="1321"/>
                  </a:lnTo>
                  <a:lnTo>
                    <a:pt x="208" y="1326"/>
                  </a:lnTo>
                  <a:lnTo>
                    <a:pt x="203" y="1335"/>
                  </a:lnTo>
                  <a:lnTo>
                    <a:pt x="203" y="1345"/>
                  </a:lnTo>
                  <a:lnTo>
                    <a:pt x="208" y="1354"/>
                  </a:lnTo>
                  <a:lnTo>
                    <a:pt x="212" y="1378"/>
                  </a:lnTo>
                  <a:lnTo>
                    <a:pt x="222" y="1392"/>
                  </a:lnTo>
                  <a:lnTo>
                    <a:pt x="222" y="1406"/>
                  </a:lnTo>
                  <a:lnTo>
                    <a:pt x="217" y="1435"/>
                  </a:lnTo>
                  <a:lnTo>
                    <a:pt x="189" y="1491"/>
                  </a:lnTo>
                  <a:lnTo>
                    <a:pt x="175" y="1529"/>
                  </a:lnTo>
                  <a:lnTo>
                    <a:pt x="179" y="1538"/>
                  </a:lnTo>
                  <a:lnTo>
                    <a:pt x="179" y="1553"/>
                  </a:lnTo>
                  <a:lnTo>
                    <a:pt x="179" y="1567"/>
                  </a:lnTo>
                  <a:lnTo>
                    <a:pt x="170" y="1581"/>
                  </a:lnTo>
                  <a:lnTo>
                    <a:pt x="160" y="1609"/>
                  </a:lnTo>
                  <a:lnTo>
                    <a:pt x="146" y="1642"/>
                  </a:lnTo>
                  <a:lnTo>
                    <a:pt x="127" y="1656"/>
                  </a:lnTo>
                  <a:lnTo>
                    <a:pt x="113" y="1661"/>
                  </a:lnTo>
                  <a:lnTo>
                    <a:pt x="108" y="1661"/>
                  </a:lnTo>
                  <a:lnTo>
                    <a:pt x="104" y="1671"/>
                  </a:lnTo>
                  <a:lnTo>
                    <a:pt x="99" y="1680"/>
                  </a:lnTo>
                  <a:lnTo>
                    <a:pt x="99" y="1699"/>
                  </a:lnTo>
                  <a:lnTo>
                    <a:pt x="99" y="1713"/>
                  </a:lnTo>
                  <a:lnTo>
                    <a:pt x="94" y="1727"/>
                  </a:lnTo>
                  <a:lnTo>
                    <a:pt x="90" y="1732"/>
                  </a:lnTo>
                  <a:lnTo>
                    <a:pt x="85" y="1737"/>
                  </a:lnTo>
                  <a:lnTo>
                    <a:pt x="66" y="1746"/>
                  </a:lnTo>
                  <a:lnTo>
                    <a:pt x="42" y="1770"/>
                  </a:lnTo>
                  <a:lnTo>
                    <a:pt x="19" y="1798"/>
                  </a:lnTo>
                  <a:lnTo>
                    <a:pt x="5" y="1831"/>
                  </a:lnTo>
                  <a:lnTo>
                    <a:pt x="0" y="1859"/>
                  </a:lnTo>
                  <a:lnTo>
                    <a:pt x="5" y="1883"/>
                  </a:lnTo>
                  <a:lnTo>
                    <a:pt x="14" y="1958"/>
                  </a:lnTo>
                  <a:lnTo>
                    <a:pt x="24" y="2015"/>
                  </a:lnTo>
                  <a:lnTo>
                    <a:pt x="38" y="2029"/>
                  </a:lnTo>
                  <a:lnTo>
                    <a:pt x="66" y="2043"/>
                  </a:lnTo>
                  <a:lnTo>
                    <a:pt x="90" y="2043"/>
                  </a:lnTo>
                  <a:lnTo>
                    <a:pt x="108" y="2048"/>
                  </a:lnTo>
                  <a:lnTo>
                    <a:pt x="113" y="2058"/>
                  </a:lnTo>
                  <a:lnTo>
                    <a:pt x="118" y="2062"/>
                  </a:lnTo>
                  <a:lnTo>
                    <a:pt x="118" y="2072"/>
                  </a:lnTo>
                  <a:lnTo>
                    <a:pt x="108" y="2081"/>
                  </a:lnTo>
                  <a:lnTo>
                    <a:pt x="75" y="2114"/>
                  </a:lnTo>
                  <a:lnTo>
                    <a:pt x="52" y="2143"/>
                  </a:lnTo>
                  <a:lnTo>
                    <a:pt x="42" y="2161"/>
                  </a:lnTo>
                  <a:lnTo>
                    <a:pt x="28" y="2180"/>
                  </a:lnTo>
                  <a:lnTo>
                    <a:pt x="24" y="2185"/>
                  </a:lnTo>
                  <a:lnTo>
                    <a:pt x="24" y="2190"/>
                  </a:lnTo>
                  <a:lnTo>
                    <a:pt x="33" y="2190"/>
                  </a:lnTo>
                  <a:lnTo>
                    <a:pt x="42" y="2190"/>
                  </a:lnTo>
                  <a:lnTo>
                    <a:pt x="90" y="2171"/>
                  </a:lnTo>
                  <a:lnTo>
                    <a:pt x="113" y="2157"/>
                  </a:lnTo>
                  <a:lnTo>
                    <a:pt x="127" y="2157"/>
                  </a:lnTo>
                  <a:lnTo>
                    <a:pt x="146" y="2161"/>
                  </a:lnTo>
                  <a:lnTo>
                    <a:pt x="156" y="2171"/>
                  </a:lnTo>
                  <a:lnTo>
                    <a:pt x="160" y="2176"/>
                  </a:lnTo>
                  <a:lnTo>
                    <a:pt x="165" y="2180"/>
                  </a:lnTo>
                  <a:lnTo>
                    <a:pt x="165" y="2190"/>
                  </a:lnTo>
                  <a:lnTo>
                    <a:pt x="160" y="2204"/>
                  </a:lnTo>
                  <a:lnTo>
                    <a:pt x="151" y="2209"/>
                  </a:lnTo>
                  <a:lnTo>
                    <a:pt x="146" y="2223"/>
                  </a:lnTo>
                  <a:lnTo>
                    <a:pt x="151" y="2251"/>
                  </a:lnTo>
                  <a:lnTo>
                    <a:pt x="156" y="2284"/>
                  </a:lnTo>
                  <a:lnTo>
                    <a:pt x="151" y="2308"/>
                  </a:lnTo>
                  <a:lnTo>
                    <a:pt x="151" y="2317"/>
                  </a:lnTo>
                  <a:lnTo>
                    <a:pt x="151" y="2327"/>
                  </a:lnTo>
                  <a:lnTo>
                    <a:pt x="160" y="2336"/>
                  </a:lnTo>
                  <a:lnTo>
                    <a:pt x="175" y="2341"/>
                  </a:lnTo>
                  <a:lnTo>
                    <a:pt x="208" y="2350"/>
                  </a:lnTo>
                  <a:lnTo>
                    <a:pt x="231" y="2350"/>
                  </a:lnTo>
                  <a:lnTo>
                    <a:pt x="241" y="2355"/>
                  </a:lnTo>
                  <a:lnTo>
                    <a:pt x="250" y="2360"/>
                  </a:lnTo>
                  <a:lnTo>
                    <a:pt x="255" y="2369"/>
                  </a:lnTo>
                  <a:lnTo>
                    <a:pt x="255" y="2383"/>
                  </a:lnTo>
                  <a:lnTo>
                    <a:pt x="264" y="2416"/>
                  </a:lnTo>
                  <a:lnTo>
                    <a:pt x="269" y="2435"/>
                  </a:lnTo>
                  <a:lnTo>
                    <a:pt x="274" y="2445"/>
                  </a:lnTo>
                  <a:lnTo>
                    <a:pt x="283" y="2449"/>
                  </a:lnTo>
                  <a:lnTo>
                    <a:pt x="288" y="2449"/>
                  </a:lnTo>
                  <a:lnTo>
                    <a:pt x="302" y="2449"/>
                  </a:lnTo>
                  <a:lnTo>
                    <a:pt x="316" y="2449"/>
                  </a:lnTo>
                  <a:lnTo>
                    <a:pt x="326" y="2449"/>
                  </a:lnTo>
                  <a:lnTo>
                    <a:pt x="335" y="2454"/>
                  </a:lnTo>
                  <a:lnTo>
                    <a:pt x="349" y="2468"/>
                  </a:lnTo>
                  <a:lnTo>
                    <a:pt x="354" y="2478"/>
                  </a:lnTo>
                  <a:lnTo>
                    <a:pt x="363" y="2482"/>
                  </a:lnTo>
                  <a:lnTo>
                    <a:pt x="373" y="2482"/>
                  </a:lnTo>
                  <a:lnTo>
                    <a:pt x="378" y="2482"/>
                  </a:lnTo>
                  <a:lnTo>
                    <a:pt x="387" y="2482"/>
                  </a:lnTo>
                  <a:lnTo>
                    <a:pt x="392" y="2487"/>
                  </a:lnTo>
                  <a:lnTo>
                    <a:pt x="396" y="2492"/>
                  </a:lnTo>
                  <a:lnTo>
                    <a:pt x="401" y="2506"/>
                  </a:lnTo>
                  <a:lnTo>
                    <a:pt x="392" y="2544"/>
                  </a:lnTo>
                  <a:lnTo>
                    <a:pt x="392" y="2582"/>
                  </a:lnTo>
                  <a:lnTo>
                    <a:pt x="396" y="2596"/>
                  </a:lnTo>
                  <a:lnTo>
                    <a:pt x="411" y="2600"/>
                  </a:lnTo>
                  <a:lnTo>
                    <a:pt x="420" y="2605"/>
                  </a:lnTo>
                  <a:lnTo>
                    <a:pt x="430" y="2605"/>
                  </a:lnTo>
                  <a:lnTo>
                    <a:pt x="444" y="2610"/>
                  </a:lnTo>
                  <a:lnTo>
                    <a:pt x="453" y="2615"/>
                  </a:lnTo>
                  <a:lnTo>
                    <a:pt x="458" y="2624"/>
                  </a:lnTo>
                  <a:lnTo>
                    <a:pt x="463" y="2643"/>
                  </a:lnTo>
                  <a:lnTo>
                    <a:pt x="444" y="2690"/>
                  </a:lnTo>
                  <a:lnTo>
                    <a:pt x="430" y="271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1818"/>
            <p:cNvSpPr/>
            <p:nvPr/>
          </p:nvSpPr>
          <p:spPr>
            <a:xfrm>
              <a:off x="3897720" y="4076280"/>
              <a:ext cx="630360" cy="684720"/>
            </a:xfrm>
            <a:custGeom>
              <a:avLst/>
              <a:gdLst>
                <a:gd name="textAreaLeft" fmla="*/ 0 w 630360"/>
                <a:gd name="textAreaRight" fmla="*/ 630720 w 630360"/>
                <a:gd name="textAreaTop" fmla="*/ 0 h 684720"/>
                <a:gd name="textAreaBottom" fmla="*/ 685080 h 684720"/>
              </a:gdLst>
              <a:ahLst/>
              <a:rect l="textAreaLeft" t="textAreaTop" r="textAreaRight" b="textAreaBottom"/>
              <a:pathLst>
                <a:path w="1077" h="1043">
                  <a:moveTo>
                    <a:pt x="10" y="0"/>
                  </a:moveTo>
                  <a:lnTo>
                    <a:pt x="15" y="5"/>
                  </a:lnTo>
                  <a:lnTo>
                    <a:pt x="10" y="24"/>
                  </a:lnTo>
                  <a:lnTo>
                    <a:pt x="5" y="38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0" y="66"/>
                  </a:lnTo>
                  <a:lnTo>
                    <a:pt x="10" y="80"/>
                  </a:lnTo>
                  <a:lnTo>
                    <a:pt x="19" y="99"/>
                  </a:lnTo>
                  <a:lnTo>
                    <a:pt x="48" y="118"/>
                  </a:lnTo>
                  <a:lnTo>
                    <a:pt x="76" y="132"/>
                  </a:lnTo>
                  <a:lnTo>
                    <a:pt x="95" y="142"/>
                  </a:lnTo>
                  <a:lnTo>
                    <a:pt x="123" y="156"/>
                  </a:lnTo>
                  <a:lnTo>
                    <a:pt x="147" y="156"/>
                  </a:lnTo>
                  <a:lnTo>
                    <a:pt x="166" y="151"/>
                  </a:lnTo>
                  <a:lnTo>
                    <a:pt x="175" y="151"/>
                  </a:lnTo>
                  <a:lnTo>
                    <a:pt x="180" y="156"/>
                  </a:lnTo>
                  <a:lnTo>
                    <a:pt x="180" y="170"/>
                  </a:lnTo>
                  <a:lnTo>
                    <a:pt x="175" y="189"/>
                  </a:lnTo>
                  <a:lnTo>
                    <a:pt x="166" y="227"/>
                  </a:lnTo>
                  <a:lnTo>
                    <a:pt x="161" y="250"/>
                  </a:lnTo>
                  <a:lnTo>
                    <a:pt x="161" y="269"/>
                  </a:lnTo>
                  <a:lnTo>
                    <a:pt x="166" y="279"/>
                  </a:lnTo>
                  <a:lnTo>
                    <a:pt x="194" y="312"/>
                  </a:lnTo>
                  <a:lnTo>
                    <a:pt x="241" y="345"/>
                  </a:lnTo>
                  <a:lnTo>
                    <a:pt x="265" y="359"/>
                  </a:lnTo>
                  <a:lnTo>
                    <a:pt x="279" y="364"/>
                  </a:lnTo>
                  <a:lnTo>
                    <a:pt x="288" y="373"/>
                  </a:lnTo>
                  <a:lnTo>
                    <a:pt x="293" y="383"/>
                  </a:lnTo>
                  <a:lnTo>
                    <a:pt x="298" y="397"/>
                  </a:lnTo>
                  <a:lnTo>
                    <a:pt x="312" y="416"/>
                  </a:lnTo>
                  <a:lnTo>
                    <a:pt x="345" y="449"/>
                  </a:lnTo>
                  <a:lnTo>
                    <a:pt x="369" y="463"/>
                  </a:lnTo>
                  <a:lnTo>
                    <a:pt x="388" y="453"/>
                  </a:lnTo>
                  <a:lnTo>
                    <a:pt x="416" y="449"/>
                  </a:lnTo>
                  <a:lnTo>
                    <a:pt x="430" y="444"/>
                  </a:lnTo>
                  <a:lnTo>
                    <a:pt x="440" y="444"/>
                  </a:lnTo>
                  <a:lnTo>
                    <a:pt x="449" y="444"/>
                  </a:lnTo>
                  <a:lnTo>
                    <a:pt x="458" y="453"/>
                  </a:lnTo>
                  <a:lnTo>
                    <a:pt x="458" y="468"/>
                  </a:lnTo>
                  <a:lnTo>
                    <a:pt x="458" y="477"/>
                  </a:lnTo>
                  <a:lnTo>
                    <a:pt x="468" y="486"/>
                  </a:lnTo>
                  <a:lnTo>
                    <a:pt x="496" y="505"/>
                  </a:lnTo>
                  <a:lnTo>
                    <a:pt x="534" y="534"/>
                  </a:lnTo>
                  <a:lnTo>
                    <a:pt x="562" y="548"/>
                  </a:lnTo>
                  <a:lnTo>
                    <a:pt x="600" y="571"/>
                  </a:lnTo>
                  <a:lnTo>
                    <a:pt x="619" y="581"/>
                  </a:lnTo>
                  <a:lnTo>
                    <a:pt x="624" y="581"/>
                  </a:lnTo>
                  <a:lnTo>
                    <a:pt x="643" y="590"/>
                  </a:lnTo>
                  <a:lnTo>
                    <a:pt x="652" y="595"/>
                  </a:lnTo>
                  <a:lnTo>
                    <a:pt x="657" y="600"/>
                  </a:lnTo>
                  <a:lnTo>
                    <a:pt x="661" y="609"/>
                  </a:lnTo>
                  <a:lnTo>
                    <a:pt x="661" y="619"/>
                  </a:lnTo>
                  <a:lnTo>
                    <a:pt x="666" y="628"/>
                  </a:lnTo>
                  <a:lnTo>
                    <a:pt x="676" y="637"/>
                  </a:lnTo>
                  <a:lnTo>
                    <a:pt x="676" y="642"/>
                  </a:lnTo>
                  <a:lnTo>
                    <a:pt x="676" y="652"/>
                  </a:lnTo>
                  <a:lnTo>
                    <a:pt x="666" y="656"/>
                  </a:lnTo>
                  <a:lnTo>
                    <a:pt x="652" y="666"/>
                  </a:lnTo>
                  <a:lnTo>
                    <a:pt x="619" y="685"/>
                  </a:lnTo>
                  <a:lnTo>
                    <a:pt x="591" y="699"/>
                  </a:lnTo>
                  <a:lnTo>
                    <a:pt x="586" y="708"/>
                  </a:lnTo>
                  <a:lnTo>
                    <a:pt x="586" y="718"/>
                  </a:lnTo>
                  <a:lnTo>
                    <a:pt x="591" y="722"/>
                  </a:lnTo>
                  <a:lnTo>
                    <a:pt x="605" y="727"/>
                  </a:lnTo>
                  <a:lnTo>
                    <a:pt x="647" y="732"/>
                  </a:lnTo>
                  <a:lnTo>
                    <a:pt x="685" y="741"/>
                  </a:lnTo>
                  <a:lnTo>
                    <a:pt x="742" y="765"/>
                  </a:lnTo>
                  <a:lnTo>
                    <a:pt x="794" y="779"/>
                  </a:lnTo>
                  <a:lnTo>
                    <a:pt x="813" y="788"/>
                  </a:lnTo>
                  <a:lnTo>
                    <a:pt x="817" y="798"/>
                  </a:lnTo>
                  <a:lnTo>
                    <a:pt x="827" y="807"/>
                  </a:lnTo>
                  <a:lnTo>
                    <a:pt x="860" y="826"/>
                  </a:lnTo>
                  <a:lnTo>
                    <a:pt x="879" y="831"/>
                  </a:lnTo>
                  <a:lnTo>
                    <a:pt x="893" y="836"/>
                  </a:lnTo>
                  <a:lnTo>
                    <a:pt x="902" y="836"/>
                  </a:lnTo>
                  <a:lnTo>
                    <a:pt x="907" y="831"/>
                  </a:lnTo>
                  <a:lnTo>
                    <a:pt x="916" y="836"/>
                  </a:lnTo>
                  <a:lnTo>
                    <a:pt x="940" y="859"/>
                  </a:lnTo>
                  <a:lnTo>
                    <a:pt x="968" y="888"/>
                  </a:lnTo>
                  <a:lnTo>
                    <a:pt x="992" y="906"/>
                  </a:lnTo>
                  <a:lnTo>
                    <a:pt x="997" y="911"/>
                  </a:lnTo>
                  <a:lnTo>
                    <a:pt x="1001" y="916"/>
                  </a:lnTo>
                  <a:lnTo>
                    <a:pt x="1001" y="921"/>
                  </a:lnTo>
                  <a:lnTo>
                    <a:pt x="997" y="930"/>
                  </a:lnTo>
                  <a:lnTo>
                    <a:pt x="992" y="944"/>
                  </a:lnTo>
                  <a:lnTo>
                    <a:pt x="992" y="949"/>
                  </a:lnTo>
                  <a:lnTo>
                    <a:pt x="1001" y="958"/>
                  </a:lnTo>
                  <a:lnTo>
                    <a:pt x="1025" y="973"/>
                  </a:lnTo>
                  <a:lnTo>
                    <a:pt x="1034" y="982"/>
                  </a:lnTo>
                  <a:lnTo>
                    <a:pt x="1044" y="996"/>
                  </a:lnTo>
                  <a:lnTo>
                    <a:pt x="1049" y="1006"/>
                  </a:lnTo>
                  <a:lnTo>
                    <a:pt x="1049" y="1020"/>
                  </a:lnTo>
                  <a:lnTo>
                    <a:pt x="1053" y="1029"/>
                  </a:lnTo>
                  <a:lnTo>
                    <a:pt x="1058" y="1039"/>
                  </a:lnTo>
                  <a:lnTo>
                    <a:pt x="1063" y="1043"/>
                  </a:lnTo>
                  <a:lnTo>
                    <a:pt x="1077" y="1039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1819"/>
            <p:cNvSpPr/>
            <p:nvPr/>
          </p:nvSpPr>
          <p:spPr>
            <a:xfrm>
              <a:off x="4382280" y="2814840"/>
              <a:ext cx="942120" cy="1639440"/>
            </a:xfrm>
            <a:custGeom>
              <a:avLst/>
              <a:gdLst>
                <a:gd name="textAreaLeft" fmla="*/ 0 w 942120"/>
                <a:gd name="textAreaRight" fmla="*/ 942480 w 942120"/>
                <a:gd name="textAreaTop" fmla="*/ 0 h 1639440"/>
                <a:gd name="textAreaBottom" fmla="*/ 1639800 h 1639440"/>
              </a:gdLst>
              <a:ahLst/>
              <a:rect l="textAreaLeft" t="textAreaTop" r="textAreaRight" b="textAreaBottom"/>
              <a:pathLst>
                <a:path w="1610" h="2497">
                  <a:moveTo>
                    <a:pt x="1520" y="0"/>
                  </a:moveTo>
                  <a:lnTo>
                    <a:pt x="1515" y="10"/>
                  </a:lnTo>
                  <a:lnTo>
                    <a:pt x="1510" y="57"/>
                  </a:lnTo>
                  <a:lnTo>
                    <a:pt x="1510" y="109"/>
                  </a:lnTo>
                  <a:lnTo>
                    <a:pt x="1501" y="142"/>
                  </a:lnTo>
                  <a:lnTo>
                    <a:pt x="1492" y="156"/>
                  </a:lnTo>
                  <a:lnTo>
                    <a:pt x="1487" y="170"/>
                  </a:lnTo>
                  <a:lnTo>
                    <a:pt x="1487" y="180"/>
                  </a:lnTo>
                  <a:lnTo>
                    <a:pt x="1487" y="184"/>
                  </a:lnTo>
                  <a:lnTo>
                    <a:pt x="1496" y="194"/>
                  </a:lnTo>
                  <a:lnTo>
                    <a:pt x="1506" y="199"/>
                  </a:lnTo>
                  <a:lnTo>
                    <a:pt x="1529" y="208"/>
                  </a:lnTo>
                  <a:lnTo>
                    <a:pt x="1548" y="217"/>
                  </a:lnTo>
                  <a:lnTo>
                    <a:pt x="1562" y="227"/>
                  </a:lnTo>
                  <a:lnTo>
                    <a:pt x="1572" y="246"/>
                  </a:lnTo>
                  <a:lnTo>
                    <a:pt x="1591" y="260"/>
                  </a:lnTo>
                  <a:lnTo>
                    <a:pt x="1605" y="269"/>
                  </a:lnTo>
                  <a:lnTo>
                    <a:pt x="1610" y="269"/>
                  </a:lnTo>
                  <a:lnTo>
                    <a:pt x="1610" y="279"/>
                  </a:lnTo>
                  <a:lnTo>
                    <a:pt x="1610" y="288"/>
                  </a:lnTo>
                  <a:lnTo>
                    <a:pt x="1605" y="307"/>
                  </a:lnTo>
                  <a:lnTo>
                    <a:pt x="1595" y="340"/>
                  </a:lnTo>
                  <a:lnTo>
                    <a:pt x="1586" y="359"/>
                  </a:lnTo>
                  <a:lnTo>
                    <a:pt x="1572" y="378"/>
                  </a:lnTo>
                  <a:lnTo>
                    <a:pt x="1548" y="397"/>
                  </a:lnTo>
                  <a:lnTo>
                    <a:pt x="1525" y="411"/>
                  </a:lnTo>
                  <a:lnTo>
                    <a:pt x="1515" y="425"/>
                  </a:lnTo>
                  <a:lnTo>
                    <a:pt x="1506" y="439"/>
                  </a:lnTo>
                  <a:lnTo>
                    <a:pt x="1501" y="472"/>
                  </a:lnTo>
                  <a:lnTo>
                    <a:pt x="1496" y="510"/>
                  </a:lnTo>
                  <a:lnTo>
                    <a:pt x="1492" y="538"/>
                  </a:lnTo>
                  <a:lnTo>
                    <a:pt x="1487" y="543"/>
                  </a:lnTo>
                  <a:lnTo>
                    <a:pt x="1482" y="553"/>
                  </a:lnTo>
                  <a:lnTo>
                    <a:pt x="1473" y="557"/>
                  </a:lnTo>
                  <a:lnTo>
                    <a:pt x="1459" y="562"/>
                  </a:lnTo>
                  <a:lnTo>
                    <a:pt x="1392" y="586"/>
                  </a:lnTo>
                  <a:lnTo>
                    <a:pt x="1350" y="604"/>
                  </a:lnTo>
                  <a:lnTo>
                    <a:pt x="1331" y="600"/>
                  </a:lnTo>
                  <a:lnTo>
                    <a:pt x="1307" y="590"/>
                  </a:lnTo>
                  <a:lnTo>
                    <a:pt x="1298" y="590"/>
                  </a:lnTo>
                  <a:lnTo>
                    <a:pt x="1289" y="590"/>
                  </a:lnTo>
                  <a:lnTo>
                    <a:pt x="1279" y="595"/>
                  </a:lnTo>
                  <a:lnTo>
                    <a:pt x="1279" y="604"/>
                  </a:lnTo>
                  <a:lnTo>
                    <a:pt x="1279" y="623"/>
                  </a:lnTo>
                  <a:lnTo>
                    <a:pt x="1284" y="642"/>
                  </a:lnTo>
                  <a:lnTo>
                    <a:pt x="1289" y="647"/>
                  </a:lnTo>
                  <a:lnTo>
                    <a:pt x="1284" y="652"/>
                  </a:lnTo>
                  <a:lnTo>
                    <a:pt x="1284" y="656"/>
                  </a:lnTo>
                  <a:lnTo>
                    <a:pt x="1274" y="661"/>
                  </a:lnTo>
                  <a:lnTo>
                    <a:pt x="1251" y="661"/>
                  </a:lnTo>
                  <a:lnTo>
                    <a:pt x="1232" y="666"/>
                  </a:lnTo>
                  <a:lnTo>
                    <a:pt x="1218" y="671"/>
                  </a:lnTo>
                  <a:lnTo>
                    <a:pt x="1213" y="680"/>
                  </a:lnTo>
                  <a:lnTo>
                    <a:pt x="1213" y="713"/>
                  </a:lnTo>
                  <a:lnTo>
                    <a:pt x="1218" y="737"/>
                  </a:lnTo>
                  <a:lnTo>
                    <a:pt x="1222" y="807"/>
                  </a:lnTo>
                  <a:lnTo>
                    <a:pt x="1222" y="822"/>
                  </a:lnTo>
                  <a:lnTo>
                    <a:pt x="1204" y="850"/>
                  </a:lnTo>
                  <a:lnTo>
                    <a:pt x="1185" y="864"/>
                  </a:lnTo>
                  <a:lnTo>
                    <a:pt x="1147" y="892"/>
                  </a:lnTo>
                  <a:lnTo>
                    <a:pt x="1114" y="911"/>
                  </a:lnTo>
                  <a:lnTo>
                    <a:pt x="1081" y="921"/>
                  </a:lnTo>
                  <a:lnTo>
                    <a:pt x="1062" y="925"/>
                  </a:lnTo>
                  <a:lnTo>
                    <a:pt x="1048" y="930"/>
                  </a:lnTo>
                  <a:lnTo>
                    <a:pt x="1038" y="944"/>
                  </a:lnTo>
                  <a:lnTo>
                    <a:pt x="1024" y="958"/>
                  </a:lnTo>
                  <a:lnTo>
                    <a:pt x="996" y="1010"/>
                  </a:lnTo>
                  <a:lnTo>
                    <a:pt x="977" y="1053"/>
                  </a:lnTo>
                  <a:lnTo>
                    <a:pt x="953" y="1091"/>
                  </a:lnTo>
                  <a:lnTo>
                    <a:pt x="916" y="1128"/>
                  </a:lnTo>
                  <a:lnTo>
                    <a:pt x="897" y="1157"/>
                  </a:lnTo>
                  <a:lnTo>
                    <a:pt x="883" y="1176"/>
                  </a:lnTo>
                  <a:lnTo>
                    <a:pt x="873" y="1185"/>
                  </a:lnTo>
                  <a:lnTo>
                    <a:pt x="859" y="1190"/>
                  </a:lnTo>
                  <a:lnTo>
                    <a:pt x="840" y="1199"/>
                  </a:lnTo>
                  <a:lnTo>
                    <a:pt x="812" y="1209"/>
                  </a:lnTo>
                  <a:lnTo>
                    <a:pt x="750" y="1218"/>
                  </a:lnTo>
                  <a:lnTo>
                    <a:pt x="708" y="1227"/>
                  </a:lnTo>
                  <a:lnTo>
                    <a:pt x="670" y="1237"/>
                  </a:lnTo>
                  <a:lnTo>
                    <a:pt x="637" y="1246"/>
                  </a:lnTo>
                  <a:lnTo>
                    <a:pt x="609" y="1251"/>
                  </a:lnTo>
                  <a:lnTo>
                    <a:pt x="580" y="1251"/>
                  </a:lnTo>
                  <a:lnTo>
                    <a:pt x="566" y="1251"/>
                  </a:lnTo>
                  <a:lnTo>
                    <a:pt x="552" y="1256"/>
                  </a:lnTo>
                  <a:lnTo>
                    <a:pt x="538" y="1260"/>
                  </a:lnTo>
                  <a:lnTo>
                    <a:pt x="519" y="1275"/>
                  </a:lnTo>
                  <a:lnTo>
                    <a:pt x="486" y="1298"/>
                  </a:lnTo>
                  <a:lnTo>
                    <a:pt x="453" y="1312"/>
                  </a:lnTo>
                  <a:lnTo>
                    <a:pt x="420" y="1327"/>
                  </a:lnTo>
                  <a:lnTo>
                    <a:pt x="392" y="1331"/>
                  </a:lnTo>
                  <a:lnTo>
                    <a:pt x="330" y="1331"/>
                  </a:lnTo>
                  <a:lnTo>
                    <a:pt x="292" y="1331"/>
                  </a:lnTo>
                  <a:lnTo>
                    <a:pt x="288" y="1336"/>
                  </a:lnTo>
                  <a:lnTo>
                    <a:pt x="264" y="1350"/>
                  </a:lnTo>
                  <a:lnTo>
                    <a:pt x="245" y="1364"/>
                  </a:lnTo>
                  <a:lnTo>
                    <a:pt x="222" y="1378"/>
                  </a:lnTo>
                  <a:lnTo>
                    <a:pt x="198" y="1378"/>
                  </a:lnTo>
                  <a:lnTo>
                    <a:pt x="170" y="1374"/>
                  </a:lnTo>
                  <a:lnTo>
                    <a:pt x="155" y="1374"/>
                  </a:lnTo>
                  <a:lnTo>
                    <a:pt x="137" y="1378"/>
                  </a:lnTo>
                  <a:lnTo>
                    <a:pt x="122" y="1383"/>
                  </a:lnTo>
                  <a:lnTo>
                    <a:pt x="108" y="1397"/>
                  </a:lnTo>
                  <a:lnTo>
                    <a:pt x="85" y="1416"/>
                  </a:lnTo>
                  <a:lnTo>
                    <a:pt x="70" y="1435"/>
                  </a:lnTo>
                  <a:lnTo>
                    <a:pt x="56" y="1454"/>
                  </a:lnTo>
                  <a:lnTo>
                    <a:pt x="42" y="1487"/>
                  </a:lnTo>
                  <a:lnTo>
                    <a:pt x="23" y="1520"/>
                  </a:lnTo>
                  <a:lnTo>
                    <a:pt x="4" y="1544"/>
                  </a:lnTo>
                  <a:lnTo>
                    <a:pt x="0" y="1553"/>
                  </a:lnTo>
                  <a:lnTo>
                    <a:pt x="0" y="1563"/>
                  </a:lnTo>
                  <a:lnTo>
                    <a:pt x="9" y="1572"/>
                  </a:lnTo>
                  <a:lnTo>
                    <a:pt x="28" y="1581"/>
                  </a:lnTo>
                  <a:lnTo>
                    <a:pt x="61" y="1605"/>
                  </a:lnTo>
                  <a:lnTo>
                    <a:pt x="89" y="1619"/>
                  </a:lnTo>
                  <a:lnTo>
                    <a:pt x="118" y="1629"/>
                  </a:lnTo>
                  <a:lnTo>
                    <a:pt x="141" y="1638"/>
                  </a:lnTo>
                  <a:lnTo>
                    <a:pt x="189" y="1643"/>
                  </a:lnTo>
                  <a:lnTo>
                    <a:pt x="240" y="1643"/>
                  </a:lnTo>
                  <a:lnTo>
                    <a:pt x="269" y="1648"/>
                  </a:lnTo>
                  <a:lnTo>
                    <a:pt x="297" y="1648"/>
                  </a:lnTo>
                  <a:lnTo>
                    <a:pt x="316" y="1652"/>
                  </a:lnTo>
                  <a:lnTo>
                    <a:pt x="330" y="1657"/>
                  </a:lnTo>
                  <a:lnTo>
                    <a:pt x="344" y="1676"/>
                  </a:lnTo>
                  <a:lnTo>
                    <a:pt x="363" y="1695"/>
                  </a:lnTo>
                  <a:lnTo>
                    <a:pt x="373" y="1699"/>
                  </a:lnTo>
                  <a:lnTo>
                    <a:pt x="382" y="1699"/>
                  </a:lnTo>
                  <a:lnTo>
                    <a:pt x="392" y="1704"/>
                  </a:lnTo>
                  <a:lnTo>
                    <a:pt x="406" y="1723"/>
                  </a:lnTo>
                  <a:lnTo>
                    <a:pt x="425" y="1756"/>
                  </a:lnTo>
                  <a:lnTo>
                    <a:pt x="448" y="1780"/>
                  </a:lnTo>
                  <a:lnTo>
                    <a:pt x="472" y="1803"/>
                  </a:lnTo>
                  <a:lnTo>
                    <a:pt x="500" y="1832"/>
                  </a:lnTo>
                  <a:lnTo>
                    <a:pt x="524" y="1846"/>
                  </a:lnTo>
                  <a:lnTo>
                    <a:pt x="538" y="1855"/>
                  </a:lnTo>
                  <a:lnTo>
                    <a:pt x="547" y="1865"/>
                  </a:lnTo>
                  <a:lnTo>
                    <a:pt x="557" y="1888"/>
                  </a:lnTo>
                  <a:lnTo>
                    <a:pt x="571" y="1912"/>
                  </a:lnTo>
                  <a:lnTo>
                    <a:pt x="576" y="1926"/>
                  </a:lnTo>
                  <a:lnTo>
                    <a:pt x="580" y="1945"/>
                  </a:lnTo>
                  <a:lnTo>
                    <a:pt x="580" y="1968"/>
                  </a:lnTo>
                  <a:lnTo>
                    <a:pt x="585" y="2016"/>
                  </a:lnTo>
                  <a:lnTo>
                    <a:pt x="585" y="2058"/>
                  </a:lnTo>
                  <a:lnTo>
                    <a:pt x="580" y="2077"/>
                  </a:lnTo>
                  <a:lnTo>
                    <a:pt x="585" y="2091"/>
                  </a:lnTo>
                  <a:lnTo>
                    <a:pt x="590" y="2105"/>
                  </a:lnTo>
                  <a:lnTo>
                    <a:pt x="595" y="2115"/>
                  </a:lnTo>
                  <a:lnTo>
                    <a:pt x="609" y="2138"/>
                  </a:lnTo>
                  <a:lnTo>
                    <a:pt x="618" y="2167"/>
                  </a:lnTo>
                  <a:lnTo>
                    <a:pt x="628" y="2190"/>
                  </a:lnTo>
                  <a:lnTo>
                    <a:pt x="637" y="2223"/>
                  </a:lnTo>
                  <a:lnTo>
                    <a:pt x="642" y="2280"/>
                  </a:lnTo>
                  <a:lnTo>
                    <a:pt x="642" y="2332"/>
                  </a:lnTo>
                  <a:lnTo>
                    <a:pt x="646" y="2355"/>
                  </a:lnTo>
                  <a:lnTo>
                    <a:pt x="651" y="2370"/>
                  </a:lnTo>
                  <a:lnTo>
                    <a:pt x="656" y="2374"/>
                  </a:lnTo>
                  <a:lnTo>
                    <a:pt x="651" y="2384"/>
                  </a:lnTo>
                  <a:lnTo>
                    <a:pt x="651" y="2389"/>
                  </a:lnTo>
                  <a:lnTo>
                    <a:pt x="642" y="2398"/>
                  </a:lnTo>
                  <a:lnTo>
                    <a:pt x="618" y="2422"/>
                  </a:lnTo>
                  <a:lnTo>
                    <a:pt x="595" y="2440"/>
                  </a:lnTo>
                  <a:lnTo>
                    <a:pt x="557" y="2473"/>
                  </a:lnTo>
                  <a:lnTo>
                    <a:pt x="543" y="2497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1820"/>
            <p:cNvSpPr/>
            <p:nvPr/>
          </p:nvSpPr>
          <p:spPr>
            <a:xfrm>
              <a:off x="5299920" y="2278800"/>
              <a:ext cx="93960" cy="32508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325080"/>
                <a:gd name="textAreaBottom" fmla="*/ 325440 h 325080"/>
              </a:gdLst>
              <a:ahLst/>
              <a:rect l="textAreaLeft" t="textAreaTop" r="textAreaRight" b="textAreaBottom"/>
              <a:pathLst>
                <a:path w="161" h="495">
                  <a:moveTo>
                    <a:pt x="161" y="0"/>
                  </a:moveTo>
                  <a:lnTo>
                    <a:pt x="142" y="19"/>
                  </a:lnTo>
                  <a:lnTo>
                    <a:pt x="109" y="38"/>
                  </a:lnTo>
                  <a:lnTo>
                    <a:pt x="90" y="38"/>
                  </a:lnTo>
                  <a:lnTo>
                    <a:pt x="76" y="42"/>
                  </a:lnTo>
                  <a:lnTo>
                    <a:pt x="71" y="47"/>
                  </a:lnTo>
                  <a:lnTo>
                    <a:pt x="66" y="52"/>
                  </a:lnTo>
                  <a:lnTo>
                    <a:pt x="66" y="56"/>
                  </a:lnTo>
                  <a:lnTo>
                    <a:pt x="66" y="71"/>
                  </a:lnTo>
                  <a:lnTo>
                    <a:pt x="66" y="89"/>
                  </a:lnTo>
                  <a:lnTo>
                    <a:pt x="71" y="108"/>
                  </a:lnTo>
                  <a:lnTo>
                    <a:pt x="66" y="127"/>
                  </a:lnTo>
                  <a:lnTo>
                    <a:pt x="52" y="141"/>
                  </a:lnTo>
                  <a:lnTo>
                    <a:pt x="33" y="151"/>
                  </a:lnTo>
                  <a:lnTo>
                    <a:pt x="24" y="160"/>
                  </a:lnTo>
                  <a:lnTo>
                    <a:pt x="14" y="170"/>
                  </a:lnTo>
                  <a:lnTo>
                    <a:pt x="10" y="193"/>
                  </a:lnTo>
                  <a:lnTo>
                    <a:pt x="19" y="255"/>
                  </a:lnTo>
                  <a:lnTo>
                    <a:pt x="19" y="288"/>
                  </a:lnTo>
                  <a:lnTo>
                    <a:pt x="19" y="297"/>
                  </a:lnTo>
                  <a:lnTo>
                    <a:pt x="24" y="316"/>
                  </a:lnTo>
                  <a:lnTo>
                    <a:pt x="24" y="340"/>
                  </a:lnTo>
                  <a:lnTo>
                    <a:pt x="19" y="358"/>
                  </a:lnTo>
                  <a:lnTo>
                    <a:pt x="10" y="368"/>
                  </a:lnTo>
                  <a:lnTo>
                    <a:pt x="5" y="377"/>
                  </a:lnTo>
                  <a:lnTo>
                    <a:pt x="0" y="391"/>
                  </a:lnTo>
                  <a:lnTo>
                    <a:pt x="0" y="406"/>
                  </a:lnTo>
                  <a:lnTo>
                    <a:pt x="10" y="462"/>
                  </a:lnTo>
                  <a:lnTo>
                    <a:pt x="19" y="495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1821"/>
            <p:cNvSpPr/>
            <p:nvPr/>
          </p:nvSpPr>
          <p:spPr>
            <a:xfrm>
              <a:off x="5305680" y="2289240"/>
              <a:ext cx="123840" cy="39492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394920"/>
                <a:gd name="textAreaBottom" fmla="*/ 395280 h 394920"/>
              </a:gdLst>
              <a:ahLst/>
              <a:rect l="textAreaLeft" t="textAreaTop" r="textAreaRight" b="textAreaBottom"/>
              <a:pathLst>
                <a:path w="212" h="604">
                  <a:moveTo>
                    <a:pt x="18" y="604"/>
                  </a:moveTo>
                  <a:lnTo>
                    <a:pt x="9" y="566"/>
                  </a:lnTo>
                  <a:lnTo>
                    <a:pt x="0" y="524"/>
                  </a:lnTo>
                  <a:lnTo>
                    <a:pt x="0" y="505"/>
                  </a:lnTo>
                  <a:lnTo>
                    <a:pt x="0" y="491"/>
                  </a:lnTo>
                  <a:lnTo>
                    <a:pt x="4" y="481"/>
                  </a:lnTo>
                  <a:lnTo>
                    <a:pt x="14" y="462"/>
                  </a:lnTo>
                  <a:lnTo>
                    <a:pt x="33" y="439"/>
                  </a:lnTo>
                  <a:lnTo>
                    <a:pt x="51" y="406"/>
                  </a:lnTo>
                  <a:lnTo>
                    <a:pt x="66" y="373"/>
                  </a:lnTo>
                  <a:lnTo>
                    <a:pt x="75" y="349"/>
                  </a:lnTo>
                  <a:lnTo>
                    <a:pt x="85" y="321"/>
                  </a:lnTo>
                  <a:lnTo>
                    <a:pt x="89" y="297"/>
                  </a:lnTo>
                  <a:lnTo>
                    <a:pt x="89" y="274"/>
                  </a:lnTo>
                  <a:lnTo>
                    <a:pt x="99" y="255"/>
                  </a:lnTo>
                  <a:lnTo>
                    <a:pt x="108" y="241"/>
                  </a:lnTo>
                  <a:lnTo>
                    <a:pt x="122" y="236"/>
                  </a:lnTo>
                  <a:lnTo>
                    <a:pt x="136" y="226"/>
                  </a:lnTo>
                  <a:lnTo>
                    <a:pt x="151" y="217"/>
                  </a:lnTo>
                  <a:lnTo>
                    <a:pt x="155" y="203"/>
                  </a:lnTo>
                  <a:lnTo>
                    <a:pt x="160" y="184"/>
                  </a:lnTo>
                  <a:lnTo>
                    <a:pt x="160" y="165"/>
                  </a:lnTo>
                  <a:lnTo>
                    <a:pt x="170" y="146"/>
                  </a:lnTo>
                  <a:lnTo>
                    <a:pt x="179" y="127"/>
                  </a:lnTo>
                  <a:lnTo>
                    <a:pt x="188" y="113"/>
                  </a:lnTo>
                  <a:lnTo>
                    <a:pt x="207" y="47"/>
                  </a:lnTo>
                  <a:lnTo>
                    <a:pt x="212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1822"/>
            <p:cNvSpPr/>
            <p:nvPr/>
          </p:nvSpPr>
          <p:spPr>
            <a:xfrm>
              <a:off x="4760280" y="2220120"/>
              <a:ext cx="561960" cy="848160"/>
            </a:xfrm>
            <a:custGeom>
              <a:avLst/>
              <a:gdLst>
                <a:gd name="textAreaLeft" fmla="*/ 0 w 561960"/>
                <a:gd name="textAreaRight" fmla="*/ 562320 w 561960"/>
                <a:gd name="textAreaTop" fmla="*/ 0 h 848160"/>
                <a:gd name="textAreaBottom" fmla="*/ 848520 h 848160"/>
              </a:gdLst>
              <a:ahLst/>
              <a:rect l="textAreaLeft" t="textAreaTop" r="textAreaRight" b="textAreaBottom"/>
              <a:pathLst>
                <a:path w="959" h="1293">
                  <a:moveTo>
                    <a:pt x="0" y="1293"/>
                  </a:moveTo>
                  <a:lnTo>
                    <a:pt x="5" y="1274"/>
                  </a:lnTo>
                  <a:lnTo>
                    <a:pt x="24" y="1232"/>
                  </a:lnTo>
                  <a:lnTo>
                    <a:pt x="38" y="1199"/>
                  </a:lnTo>
                  <a:lnTo>
                    <a:pt x="62" y="1171"/>
                  </a:lnTo>
                  <a:lnTo>
                    <a:pt x="85" y="1133"/>
                  </a:lnTo>
                  <a:lnTo>
                    <a:pt x="109" y="1105"/>
                  </a:lnTo>
                  <a:lnTo>
                    <a:pt x="133" y="1086"/>
                  </a:lnTo>
                  <a:lnTo>
                    <a:pt x="147" y="1067"/>
                  </a:lnTo>
                  <a:lnTo>
                    <a:pt x="156" y="1053"/>
                  </a:lnTo>
                  <a:lnTo>
                    <a:pt x="156" y="1029"/>
                  </a:lnTo>
                  <a:lnTo>
                    <a:pt x="156" y="1010"/>
                  </a:lnTo>
                  <a:lnTo>
                    <a:pt x="156" y="996"/>
                  </a:lnTo>
                  <a:lnTo>
                    <a:pt x="166" y="982"/>
                  </a:lnTo>
                  <a:lnTo>
                    <a:pt x="189" y="963"/>
                  </a:lnTo>
                  <a:lnTo>
                    <a:pt x="222" y="944"/>
                  </a:lnTo>
                  <a:lnTo>
                    <a:pt x="241" y="939"/>
                  </a:lnTo>
                  <a:lnTo>
                    <a:pt x="246" y="935"/>
                  </a:lnTo>
                  <a:lnTo>
                    <a:pt x="251" y="925"/>
                  </a:lnTo>
                  <a:lnTo>
                    <a:pt x="255" y="916"/>
                  </a:lnTo>
                  <a:lnTo>
                    <a:pt x="255" y="897"/>
                  </a:lnTo>
                  <a:lnTo>
                    <a:pt x="251" y="864"/>
                  </a:lnTo>
                  <a:lnTo>
                    <a:pt x="246" y="840"/>
                  </a:lnTo>
                  <a:lnTo>
                    <a:pt x="246" y="821"/>
                  </a:lnTo>
                  <a:lnTo>
                    <a:pt x="255" y="788"/>
                  </a:lnTo>
                  <a:lnTo>
                    <a:pt x="265" y="755"/>
                  </a:lnTo>
                  <a:lnTo>
                    <a:pt x="270" y="736"/>
                  </a:lnTo>
                  <a:lnTo>
                    <a:pt x="284" y="722"/>
                  </a:lnTo>
                  <a:lnTo>
                    <a:pt x="303" y="708"/>
                  </a:lnTo>
                  <a:lnTo>
                    <a:pt x="326" y="699"/>
                  </a:lnTo>
                  <a:lnTo>
                    <a:pt x="340" y="689"/>
                  </a:lnTo>
                  <a:lnTo>
                    <a:pt x="350" y="675"/>
                  </a:lnTo>
                  <a:lnTo>
                    <a:pt x="355" y="661"/>
                  </a:lnTo>
                  <a:lnTo>
                    <a:pt x="373" y="609"/>
                  </a:lnTo>
                  <a:lnTo>
                    <a:pt x="388" y="576"/>
                  </a:lnTo>
                  <a:lnTo>
                    <a:pt x="402" y="566"/>
                  </a:lnTo>
                  <a:lnTo>
                    <a:pt x="435" y="552"/>
                  </a:lnTo>
                  <a:lnTo>
                    <a:pt x="482" y="552"/>
                  </a:lnTo>
                  <a:lnTo>
                    <a:pt x="510" y="548"/>
                  </a:lnTo>
                  <a:lnTo>
                    <a:pt x="647" y="491"/>
                  </a:lnTo>
                  <a:lnTo>
                    <a:pt x="713" y="486"/>
                  </a:lnTo>
                  <a:lnTo>
                    <a:pt x="718" y="481"/>
                  </a:lnTo>
                  <a:lnTo>
                    <a:pt x="732" y="472"/>
                  </a:lnTo>
                  <a:lnTo>
                    <a:pt x="742" y="467"/>
                  </a:lnTo>
                  <a:lnTo>
                    <a:pt x="746" y="458"/>
                  </a:lnTo>
                  <a:lnTo>
                    <a:pt x="751" y="448"/>
                  </a:lnTo>
                  <a:lnTo>
                    <a:pt x="751" y="439"/>
                  </a:lnTo>
                  <a:lnTo>
                    <a:pt x="751" y="397"/>
                  </a:lnTo>
                  <a:lnTo>
                    <a:pt x="756" y="382"/>
                  </a:lnTo>
                  <a:lnTo>
                    <a:pt x="765" y="382"/>
                  </a:lnTo>
                  <a:lnTo>
                    <a:pt x="779" y="378"/>
                  </a:lnTo>
                  <a:lnTo>
                    <a:pt x="784" y="373"/>
                  </a:lnTo>
                  <a:lnTo>
                    <a:pt x="789" y="368"/>
                  </a:lnTo>
                  <a:lnTo>
                    <a:pt x="794" y="359"/>
                  </a:lnTo>
                  <a:lnTo>
                    <a:pt x="794" y="349"/>
                  </a:lnTo>
                  <a:lnTo>
                    <a:pt x="789" y="335"/>
                  </a:lnTo>
                  <a:lnTo>
                    <a:pt x="779" y="326"/>
                  </a:lnTo>
                  <a:lnTo>
                    <a:pt x="775" y="321"/>
                  </a:lnTo>
                  <a:lnTo>
                    <a:pt x="770" y="312"/>
                  </a:lnTo>
                  <a:lnTo>
                    <a:pt x="770" y="307"/>
                  </a:lnTo>
                  <a:lnTo>
                    <a:pt x="775" y="293"/>
                  </a:lnTo>
                  <a:lnTo>
                    <a:pt x="798" y="241"/>
                  </a:lnTo>
                  <a:lnTo>
                    <a:pt x="817" y="217"/>
                  </a:lnTo>
                  <a:lnTo>
                    <a:pt x="808" y="212"/>
                  </a:lnTo>
                  <a:lnTo>
                    <a:pt x="794" y="203"/>
                  </a:lnTo>
                  <a:lnTo>
                    <a:pt x="789" y="198"/>
                  </a:lnTo>
                  <a:lnTo>
                    <a:pt x="784" y="189"/>
                  </a:lnTo>
                  <a:lnTo>
                    <a:pt x="779" y="179"/>
                  </a:lnTo>
                  <a:lnTo>
                    <a:pt x="784" y="165"/>
                  </a:lnTo>
                  <a:lnTo>
                    <a:pt x="798" y="113"/>
                  </a:lnTo>
                  <a:lnTo>
                    <a:pt x="803" y="90"/>
                  </a:lnTo>
                  <a:lnTo>
                    <a:pt x="808" y="85"/>
                  </a:lnTo>
                  <a:lnTo>
                    <a:pt x="813" y="71"/>
                  </a:lnTo>
                  <a:lnTo>
                    <a:pt x="831" y="52"/>
                  </a:lnTo>
                  <a:lnTo>
                    <a:pt x="855" y="43"/>
                  </a:lnTo>
                  <a:lnTo>
                    <a:pt x="888" y="33"/>
                  </a:lnTo>
                  <a:lnTo>
                    <a:pt x="916" y="19"/>
                  </a:lnTo>
                  <a:lnTo>
                    <a:pt x="949" y="5"/>
                  </a:lnTo>
                  <a:lnTo>
                    <a:pt x="959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1823"/>
            <p:cNvSpPr/>
            <p:nvPr/>
          </p:nvSpPr>
          <p:spPr>
            <a:xfrm>
              <a:off x="5252760" y="2136600"/>
              <a:ext cx="168120" cy="138960"/>
            </a:xfrm>
            <a:custGeom>
              <a:avLst/>
              <a:gdLst>
                <a:gd name="textAreaLeft" fmla="*/ 0 w 168120"/>
                <a:gd name="textAreaRight" fmla="*/ 168480 w 16812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88" h="212">
                  <a:moveTo>
                    <a:pt x="19" y="0"/>
                  </a:moveTo>
                  <a:lnTo>
                    <a:pt x="5" y="14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14" y="52"/>
                  </a:lnTo>
                  <a:lnTo>
                    <a:pt x="33" y="61"/>
                  </a:lnTo>
                  <a:lnTo>
                    <a:pt x="47" y="66"/>
                  </a:lnTo>
                  <a:lnTo>
                    <a:pt x="57" y="66"/>
                  </a:lnTo>
                  <a:lnTo>
                    <a:pt x="66" y="70"/>
                  </a:lnTo>
                  <a:lnTo>
                    <a:pt x="75" y="80"/>
                  </a:lnTo>
                  <a:lnTo>
                    <a:pt x="85" y="94"/>
                  </a:lnTo>
                  <a:lnTo>
                    <a:pt x="108" y="118"/>
                  </a:lnTo>
                  <a:lnTo>
                    <a:pt x="127" y="132"/>
                  </a:lnTo>
                  <a:lnTo>
                    <a:pt x="141" y="141"/>
                  </a:lnTo>
                  <a:lnTo>
                    <a:pt x="146" y="141"/>
                  </a:lnTo>
                  <a:lnTo>
                    <a:pt x="184" y="170"/>
                  </a:lnTo>
                  <a:lnTo>
                    <a:pt x="189" y="174"/>
                  </a:lnTo>
                  <a:lnTo>
                    <a:pt x="203" y="184"/>
                  </a:lnTo>
                  <a:lnTo>
                    <a:pt x="226" y="207"/>
                  </a:lnTo>
                  <a:lnTo>
                    <a:pt x="236" y="212"/>
                  </a:lnTo>
                  <a:lnTo>
                    <a:pt x="241" y="203"/>
                  </a:lnTo>
                  <a:lnTo>
                    <a:pt x="241" y="165"/>
                  </a:lnTo>
                  <a:lnTo>
                    <a:pt x="274" y="151"/>
                  </a:lnTo>
                  <a:lnTo>
                    <a:pt x="283" y="141"/>
                  </a:lnTo>
                  <a:lnTo>
                    <a:pt x="288" y="127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1824"/>
            <p:cNvSpPr/>
            <p:nvPr/>
          </p:nvSpPr>
          <p:spPr>
            <a:xfrm>
              <a:off x="5014800" y="2343960"/>
              <a:ext cx="204480" cy="237960"/>
            </a:xfrm>
            <a:custGeom>
              <a:avLst/>
              <a:gdLst>
                <a:gd name="textAreaLeft" fmla="*/ 0 w 204480"/>
                <a:gd name="textAreaRight" fmla="*/ 204840 w 204480"/>
                <a:gd name="textAreaTop" fmla="*/ 0 h 237960"/>
                <a:gd name="textAreaBottom" fmla="*/ 238320 h 237960"/>
              </a:gdLst>
              <a:ahLst/>
              <a:rect l="textAreaLeft" t="textAreaTop" r="textAreaRight" b="textAreaBottom"/>
              <a:pathLst>
                <a:path w="349" h="363">
                  <a:moveTo>
                    <a:pt x="28" y="363"/>
                  </a:moveTo>
                  <a:lnTo>
                    <a:pt x="19" y="344"/>
                  </a:lnTo>
                  <a:lnTo>
                    <a:pt x="5" y="292"/>
                  </a:lnTo>
                  <a:lnTo>
                    <a:pt x="5" y="264"/>
                  </a:lnTo>
                  <a:lnTo>
                    <a:pt x="0" y="250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9" y="236"/>
                  </a:lnTo>
                  <a:lnTo>
                    <a:pt x="23" y="231"/>
                  </a:lnTo>
                  <a:lnTo>
                    <a:pt x="56" y="231"/>
                  </a:lnTo>
                  <a:lnTo>
                    <a:pt x="80" y="226"/>
                  </a:lnTo>
                  <a:lnTo>
                    <a:pt x="104" y="222"/>
                  </a:lnTo>
                  <a:lnTo>
                    <a:pt x="127" y="222"/>
                  </a:lnTo>
                  <a:lnTo>
                    <a:pt x="137" y="217"/>
                  </a:lnTo>
                  <a:lnTo>
                    <a:pt x="146" y="212"/>
                  </a:lnTo>
                  <a:lnTo>
                    <a:pt x="151" y="203"/>
                  </a:lnTo>
                  <a:lnTo>
                    <a:pt x="156" y="193"/>
                  </a:lnTo>
                  <a:lnTo>
                    <a:pt x="160" y="175"/>
                  </a:lnTo>
                  <a:lnTo>
                    <a:pt x="160" y="156"/>
                  </a:lnTo>
                  <a:lnTo>
                    <a:pt x="175" y="146"/>
                  </a:lnTo>
                  <a:lnTo>
                    <a:pt x="193" y="141"/>
                  </a:lnTo>
                  <a:lnTo>
                    <a:pt x="217" y="137"/>
                  </a:lnTo>
                  <a:lnTo>
                    <a:pt x="236" y="137"/>
                  </a:lnTo>
                  <a:lnTo>
                    <a:pt x="241" y="132"/>
                  </a:lnTo>
                  <a:lnTo>
                    <a:pt x="245" y="127"/>
                  </a:lnTo>
                  <a:lnTo>
                    <a:pt x="245" y="123"/>
                  </a:lnTo>
                  <a:lnTo>
                    <a:pt x="245" y="113"/>
                  </a:lnTo>
                  <a:lnTo>
                    <a:pt x="241" y="94"/>
                  </a:lnTo>
                  <a:lnTo>
                    <a:pt x="236" y="80"/>
                  </a:lnTo>
                  <a:lnTo>
                    <a:pt x="236" y="75"/>
                  </a:lnTo>
                  <a:lnTo>
                    <a:pt x="236" y="71"/>
                  </a:lnTo>
                  <a:lnTo>
                    <a:pt x="241" y="71"/>
                  </a:lnTo>
                  <a:lnTo>
                    <a:pt x="250" y="66"/>
                  </a:lnTo>
                  <a:lnTo>
                    <a:pt x="274" y="57"/>
                  </a:lnTo>
                  <a:lnTo>
                    <a:pt x="288" y="42"/>
                  </a:lnTo>
                  <a:lnTo>
                    <a:pt x="297" y="28"/>
                  </a:lnTo>
                  <a:lnTo>
                    <a:pt x="302" y="23"/>
                  </a:lnTo>
                  <a:lnTo>
                    <a:pt x="349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1825"/>
            <p:cNvSpPr/>
            <p:nvPr/>
          </p:nvSpPr>
          <p:spPr>
            <a:xfrm>
              <a:off x="4978440" y="2736000"/>
              <a:ext cx="105120" cy="215280"/>
            </a:xfrm>
            <a:custGeom>
              <a:avLst/>
              <a:gdLst>
                <a:gd name="textAreaLeft" fmla="*/ 0 w 105120"/>
                <a:gd name="textAreaRight" fmla="*/ 105480 w 10512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180" h="330">
                  <a:moveTo>
                    <a:pt x="81" y="330"/>
                  </a:moveTo>
                  <a:lnTo>
                    <a:pt x="85" y="330"/>
                  </a:lnTo>
                  <a:lnTo>
                    <a:pt x="95" y="325"/>
                  </a:lnTo>
                  <a:lnTo>
                    <a:pt x="100" y="321"/>
                  </a:lnTo>
                  <a:lnTo>
                    <a:pt x="104" y="316"/>
                  </a:lnTo>
                  <a:lnTo>
                    <a:pt x="109" y="302"/>
                  </a:lnTo>
                  <a:lnTo>
                    <a:pt x="109" y="287"/>
                  </a:lnTo>
                  <a:lnTo>
                    <a:pt x="109" y="264"/>
                  </a:lnTo>
                  <a:lnTo>
                    <a:pt x="104" y="250"/>
                  </a:lnTo>
                  <a:lnTo>
                    <a:pt x="104" y="240"/>
                  </a:lnTo>
                  <a:lnTo>
                    <a:pt x="109" y="226"/>
                  </a:lnTo>
                  <a:lnTo>
                    <a:pt x="133" y="198"/>
                  </a:lnTo>
                  <a:lnTo>
                    <a:pt x="142" y="165"/>
                  </a:lnTo>
                  <a:lnTo>
                    <a:pt x="152" y="118"/>
                  </a:lnTo>
                  <a:lnTo>
                    <a:pt x="152" y="99"/>
                  </a:lnTo>
                  <a:lnTo>
                    <a:pt x="156" y="94"/>
                  </a:lnTo>
                  <a:lnTo>
                    <a:pt x="170" y="85"/>
                  </a:lnTo>
                  <a:lnTo>
                    <a:pt x="180" y="66"/>
                  </a:lnTo>
                  <a:lnTo>
                    <a:pt x="180" y="47"/>
                  </a:lnTo>
                  <a:lnTo>
                    <a:pt x="170" y="33"/>
                  </a:lnTo>
                  <a:lnTo>
                    <a:pt x="161" y="18"/>
                  </a:lnTo>
                  <a:lnTo>
                    <a:pt x="147" y="9"/>
                  </a:lnTo>
                  <a:lnTo>
                    <a:pt x="142" y="4"/>
                  </a:lnTo>
                  <a:lnTo>
                    <a:pt x="100" y="0"/>
                  </a:lnTo>
                  <a:lnTo>
                    <a:pt x="0" y="2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1826"/>
            <p:cNvSpPr/>
            <p:nvPr/>
          </p:nvSpPr>
          <p:spPr>
            <a:xfrm>
              <a:off x="4832640" y="2641680"/>
              <a:ext cx="165600" cy="414720"/>
            </a:xfrm>
            <a:custGeom>
              <a:avLst/>
              <a:gdLst>
                <a:gd name="textAreaLeft" fmla="*/ 0 w 165600"/>
                <a:gd name="textAreaRight" fmla="*/ 165960 w 165600"/>
                <a:gd name="textAreaTop" fmla="*/ 0 h 414720"/>
                <a:gd name="textAreaBottom" fmla="*/ 415080 h 414720"/>
              </a:gdLst>
              <a:ahLst/>
              <a:rect l="textAreaLeft" t="textAreaTop" r="textAreaRight" b="textAreaBottom"/>
              <a:pathLst>
                <a:path w="283" h="632">
                  <a:moveTo>
                    <a:pt x="241" y="0"/>
                  </a:moveTo>
                  <a:lnTo>
                    <a:pt x="269" y="80"/>
                  </a:lnTo>
                  <a:lnTo>
                    <a:pt x="274" y="80"/>
                  </a:lnTo>
                  <a:lnTo>
                    <a:pt x="279" y="90"/>
                  </a:lnTo>
                  <a:lnTo>
                    <a:pt x="283" y="104"/>
                  </a:lnTo>
                  <a:lnTo>
                    <a:pt x="279" y="132"/>
                  </a:lnTo>
                  <a:lnTo>
                    <a:pt x="255" y="160"/>
                  </a:lnTo>
                  <a:lnTo>
                    <a:pt x="236" y="193"/>
                  </a:lnTo>
                  <a:lnTo>
                    <a:pt x="236" y="222"/>
                  </a:lnTo>
                  <a:lnTo>
                    <a:pt x="236" y="231"/>
                  </a:lnTo>
                  <a:lnTo>
                    <a:pt x="236" y="245"/>
                  </a:lnTo>
                  <a:lnTo>
                    <a:pt x="236" y="274"/>
                  </a:lnTo>
                  <a:lnTo>
                    <a:pt x="236" y="297"/>
                  </a:lnTo>
                  <a:lnTo>
                    <a:pt x="232" y="311"/>
                  </a:lnTo>
                  <a:lnTo>
                    <a:pt x="227" y="321"/>
                  </a:lnTo>
                  <a:lnTo>
                    <a:pt x="222" y="330"/>
                  </a:lnTo>
                  <a:lnTo>
                    <a:pt x="203" y="335"/>
                  </a:lnTo>
                  <a:lnTo>
                    <a:pt x="180" y="345"/>
                  </a:lnTo>
                  <a:lnTo>
                    <a:pt x="151" y="359"/>
                  </a:lnTo>
                  <a:lnTo>
                    <a:pt x="123" y="368"/>
                  </a:lnTo>
                  <a:lnTo>
                    <a:pt x="114" y="378"/>
                  </a:lnTo>
                  <a:lnTo>
                    <a:pt x="104" y="387"/>
                  </a:lnTo>
                  <a:lnTo>
                    <a:pt x="99" y="396"/>
                  </a:lnTo>
                  <a:lnTo>
                    <a:pt x="95" y="411"/>
                  </a:lnTo>
                  <a:lnTo>
                    <a:pt x="71" y="477"/>
                  </a:lnTo>
                  <a:lnTo>
                    <a:pt x="57" y="510"/>
                  </a:lnTo>
                  <a:lnTo>
                    <a:pt x="52" y="514"/>
                  </a:lnTo>
                  <a:lnTo>
                    <a:pt x="38" y="519"/>
                  </a:lnTo>
                  <a:lnTo>
                    <a:pt x="29" y="529"/>
                  </a:lnTo>
                  <a:lnTo>
                    <a:pt x="24" y="533"/>
                  </a:lnTo>
                  <a:lnTo>
                    <a:pt x="19" y="543"/>
                  </a:lnTo>
                  <a:lnTo>
                    <a:pt x="19" y="552"/>
                  </a:lnTo>
                  <a:lnTo>
                    <a:pt x="10" y="604"/>
                  </a:lnTo>
                  <a:lnTo>
                    <a:pt x="0" y="632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1827"/>
            <p:cNvSpPr/>
            <p:nvPr/>
          </p:nvSpPr>
          <p:spPr>
            <a:xfrm>
              <a:off x="5471280" y="1931400"/>
              <a:ext cx="310320" cy="164160"/>
            </a:xfrm>
            <a:custGeom>
              <a:avLst/>
              <a:gdLst>
                <a:gd name="textAreaLeft" fmla="*/ 0 w 310320"/>
                <a:gd name="textAreaRight" fmla="*/ 310680 w 310320"/>
                <a:gd name="textAreaTop" fmla="*/ 0 h 164160"/>
                <a:gd name="textAreaBottom" fmla="*/ 164520 h 164160"/>
              </a:gdLst>
              <a:ahLst/>
              <a:rect l="textAreaLeft" t="textAreaTop" r="textAreaRight" b="textAreaBottom"/>
              <a:pathLst>
                <a:path w="529" h="250">
                  <a:moveTo>
                    <a:pt x="326" y="38"/>
                  </a:moveTo>
                  <a:lnTo>
                    <a:pt x="344" y="38"/>
                  </a:lnTo>
                  <a:lnTo>
                    <a:pt x="368" y="43"/>
                  </a:lnTo>
                  <a:lnTo>
                    <a:pt x="378" y="43"/>
                  </a:lnTo>
                  <a:lnTo>
                    <a:pt x="387" y="47"/>
                  </a:lnTo>
                  <a:lnTo>
                    <a:pt x="392" y="52"/>
                  </a:lnTo>
                  <a:lnTo>
                    <a:pt x="392" y="57"/>
                  </a:lnTo>
                  <a:lnTo>
                    <a:pt x="382" y="76"/>
                  </a:lnTo>
                  <a:lnTo>
                    <a:pt x="373" y="90"/>
                  </a:lnTo>
                  <a:lnTo>
                    <a:pt x="359" y="99"/>
                  </a:lnTo>
                  <a:lnTo>
                    <a:pt x="340" y="113"/>
                  </a:lnTo>
                  <a:lnTo>
                    <a:pt x="326" y="132"/>
                  </a:lnTo>
                  <a:lnTo>
                    <a:pt x="316" y="156"/>
                  </a:lnTo>
                  <a:lnTo>
                    <a:pt x="293" y="165"/>
                  </a:lnTo>
                  <a:lnTo>
                    <a:pt x="274" y="165"/>
                  </a:lnTo>
                  <a:lnTo>
                    <a:pt x="255" y="165"/>
                  </a:lnTo>
                  <a:lnTo>
                    <a:pt x="236" y="165"/>
                  </a:lnTo>
                  <a:lnTo>
                    <a:pt x="226" y="165"/>
                  </a:lnTo>
                  <a:lnTo>
                    <a:pt x="222" y="165"/>
                  </a:lnTo>
                  <a:lnTo>
                    <a:pt x="222" y="170"/>
                  </a:lnTo>
                  <a:lnTo>
                    <a:pt x="226" y="175"/>
                  </a:lnTo>
                  <a:lnTo>
                    <a:pt x="236" y="189"/>
                  </a:lnTo>
                  <a:lnTo>
                    <a:pt x="245" y="198"/>
                  </a:lnTo>
                  <a:lnTo>
                    <a:pt x="259" y="198"/>
                  </a:lnTo>
                  <a:lnTo>
                    <a:pt x="283" y="203"/>
                  </a:lnTo>
                  <a:lnTo>
                    <a:pt x="321" y="208"/>
                  </a:lnTo>
                  <a:lnTo>
                    <a:pt x="359" y="203"/>
                  </a:lnTo>
                  <a:lnTo>
                    <a:pt x="420" y="203"/>
                  </a:lnTo>
                  <a:lnTo>
                    <a:pt x="462" y="213"/>
                  </a:lnTo>
                  <a:lnTo>
                    <a:pt x="481" y="213"/>
                  </a:lnTo>
                  <a:lnTo>
                    <a:pt x="510" y="217"/>
                  </a:lnTo>
                  <a:lnTo>
                    <a:pt x="519" y="217"/>
                  </a:lnTo>
                  <a:lnTo>
                    <a:pt x="529" y="222"/>
                  </a:lnTo>
                  <a:lnTo>
                    <a:pt x="529" y="227"/>
                  </a:lnTo>
                  <a:lnTo>
                    <a:pt x="524" y="231"/>
                  </a:lnTo>
                  <a:lnTo>
                    <a:pt x="500" y="236"/>
                  </a:lnTo>
                  <a:lnTo>
                    <a:pt x="467" y="246"/>
                  </a:lnTo>
                  <a:lnTo>
                    <a:pt x="434" y="246"/>
                  </a:lnTo>
                  <a:lnTo>
                    <a:pt x="411" y="246"/>
                  </a:lnTo>
                  <a:lnTo>
                    <a:pt x="359" y="250"/>
                  </a:lnTo>
                  <a:lnTo>
                    <a:pt x="293" y="241"/>
                  </a:lnTo>
                  <a:lnTo>
                    <a:pt x="236" y="236"/>
                  </a:lnTo>
                  <a:lnTo>
                    <a:pt x="179" y="231"/>
                  </a:lnTo>
                  <a:lnTo>
                    <a:pt x="127" y="227"/>
                  </a:lnTo>
                  <a:lnTo>
                    <a:pt x="80" y="222"/>
                  </a:lnTo>
                  <a:lnTo>
                    <a:pt x="42" y="213"/>
                  </a:lnTo>
                  <a:lnTo>
                    <a:pt x="14" y="203"/>
                  </a:lnTo>
                  <a:lnTo>
                    <a:pt x="5" y="198"/>
                  </a:lnTo>
                  <a:lnTo>
                    <a:pt x="0" y="189"/>
                  </a:lnTo>
                  <a:lnTo>
                    <a:pt x="9" y="184"/>
                  </a:lnTo>
                  <a:lnTo>
                    <a:pt x="28" y="184"/>
                  </a:lnTo>
                  <a:lnTo>
                    <a:pt x="42" y="184"/>
                  </a:lnTo>
                  <a:lnTo>
                    <a:pt x="52" y="184"/>
                  </a:lnTo>
                  <a:lnTo>
                    <a:pt x="56" y="179"/>
                  </a:lnTo>
                  <a:lnTo>
                    <a:pt x="61" y="175"/>
                  </a:lnTo>
                  <a:lnTo>
                    <a:pt x="66" y="165"/>
                  </a:lnTo>
                  <a:lnTo>
                    <a:pt x="61" y="142"/>
                  </a:lnTo>
                  <a:lnTo>
                    <a:pt x="56" y="123"/>
                  </a:lnTo>
                  <a:lnTo>
                    <a:pt x="56" y="118"/>
                  </a:lnTo>
                  <a:lnTo>
                    <a:pt x="61" y="113"/>
                  </a:lnTo>
                  <a:lnTo>
                    <a:pt x="66" y="113"/>
                  </a:lnTo>
                  <a:lnTo>
                    <a:pt x="75" y="113"/>
                  </a:lnTo>
                  <a:lnTo>
                    <a:pt x="104" y="118"/>
                  </a:lnTo>
                  <a:lnTo>
                    <a:pt x="127" y="118"/>
                  </a:lnTo>
                  <a:lnTo>
                    <a:pt x="137" y="118"/>
                  </a:lnTo>
                  <a:lnTo>
                    <a:pt x="146" y="113"/>
                  </a:lnTo>
                  <a:lnTo>
                    <a:pt x="146" y="109"/>
                  </a:lnTo>
                  <a:lnTo>
                    <a:pt x="146" y="99"/>
                  </a:lnTo>
                  <a:lnTo>
                    <a:pt x="132" y="90"/>
                  </a:lnTo>
                  <a:lnTo>
                    <a:pt x="123" y="85"/>
                  </a:lnTo>
                  <a:lnTo>
                    <a:pt x="108" y="80"/>
                  </a:lnTo>
                  <a:lnTo>
                    <a:pt x="90" y="85"/>
                  </a:lnTo>
                  <a:lnTo>
                    <a:pt x="66" y="85"/>
                  </a:lnTo>
                  <a:lnTo>
                    <a:pt x="47" y="76"/>
                  </a:lnTo>
                  <a:lnTo>
                    <a:pt x="42" y="66"/>
                  </a:lnTo>
                  <a:lnTo>
                    <a:pt x="42" y="61"/>
                  </a:lnTo>
                  <a:lnTo>
                    <a:pt x="47" y="57"/>
                  </a:lnTo>
                  <a:lnTo>
                    <a:pt x="61" y="52"/>
                  </a:lnTo>
                  <a:lnTo>
                    <a:pt x="137" y="43"/>
                  </a:lnTo>
                  <a:lnTo>
                    <a:pt x="175" y="43"/>
                  </a:lnTo>
                  <a:lnTo>
                    <a:pt x="179" y="38"/>
                  </a:lnTo>
                  <a:lnTo>
                    <a:pt x="179" y="24"/>
                  </a:lnTo>
                  <a:lnTo>
                    <a:pt x="189" y="5"/>
                  </a:lnTo>
                  <a:lnTo>
                    <a:pt x="203" y="0"/>
                  </a:lnTo>
                  <a:lnTo>
                    <a:pt x="241" y="0"/>
                  </a:lnTo>
                  <a:lnTo>
                    <a:pt x="269" y="5"/>
                  </a:lnTo>
                  <a:lnTo>
                    <a:pt x="293" y="38"/>
                  </a:lnTo>
                  <a:lnTo>
                    <a:pt x="326" y="3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1828"/>
            <p:cNvSpPr/>
            <p:nvPr/>
          </p:nvSpPr>
          <p:spPr>
            <a:xfrm>
              <a:off x="5506920" y="2183040"/>
              <a:ext cx="57600" cy="5832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9" h="90">
                  <a:moveTo>
                    <a:pt x="5" y="52"/>
                  </a:moveTo>
                  <a:lnTo>
                    <a:pt x="0" y="62"/>
                  </a:lnTo>
                  <a:lnTo>
                    <a:pt x="0" y="71"/>
                  </a:lnTo>
                  <a:lnTo>
                    <a:pt x="5" y="81"/>
                  </a:lnTo>
                  <a:lnTo>
                    <a:pt x="10" y="85"/>
                  </a:lnTo>
                  <a:lnTo>
                    <a:pt x="29" y="90"/>
                  </a:lnTo>
                  <a:lnTo>
                    <a:pt x="57" y="90"/>
                  </a:lnTo>
                  <a:lnTo>
                    <a:pt x="76" y="85"/>
                  </a:lnTo>
                  <a:lnTo>
                    <a:pt x="90" y="81"/>
                  </a:lnTo>
                  <a:lnTo>
                    <a:pt x="99" y="76"/>
                  </a:lnTo>
                  <a:lnTo>
                    <a:pt x="99" y="67"/>
                  </a:lnTo>
                  <a:lnTo>
                    <a:pt x="99" y="29"/>
                  </a:lnTo>
                  <a:lnTo>
                    <a:pt x="95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1829"/>
            <p:cNvSpPr/>
            <p:nvPr/>
          </p:nvSpPr>
          <p:spPr>
            <a:xfrm>
              <a:off x="5249880" y="1857600"/>
              <a:ext cx="52560" cy="2566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256680"/>
                <a:gd name="textAreaBottom" fmla="*/ 257040 h 256680"/>
              </a:gdLst>
              <a:ahLst/>
              <a:rect l="textAreaLeft" t="textAreaTop" r="textAreaRight" b="textAreaBottom"/>
              <a:pathLst>
                <a:path w="90" h="392">
                  <a:moveTo>
                    <a:pt x="0" y="392"/>
                  </a:moveTo>
                  <a:lnTo>
                    <a:pt x="33" y="359"/>
                  </a:lnTo>
                  <a:lnTo>
                    <a:pt x="38" y="344"/>
                  </a:lnTo>
                  <a:lnTo>
                    <a:pt x="43" y="316"/>
                  </a:lnTo>
                  <a:lnTo>
                    <a:pt x="47" y="302"/>
                  </a:lnTo>
                  <a:lnTo>
                    <a:pt x="47" y="288"/>
                  </a:lnTo>
                  <a:lnTo>
                    <a:pt x="52" y="278"/>
                  </a:lnTo>
                  <a:lnTo>
                    <a:pt x="66" y="269"/>
                  </a:lnTo>
                  <a:lnTo>
                    <a:pt x="76" y="255"/>
                  </a:lnTo>
                  <a:lnTo>
                    <a:pt x="85" y="245"/>
                  </a:lnTo>
                  <a:lnTo>
                    <a:pt x="90" y="231"/>
                  </a:lnTo>
                  <a:lnTo>
                    <a:pt x="90" y="217"/>
                  </a:lnTo>
                  <a:lnTo>
                    <a:pt x="85" y="189"/>
                  </a:lnTo>
                  <a:lnTo>
                    <a:pt x="71" y="156"/>
                  </a:lnTo>
                  <a:lnTo>
                    <a:pt x="62" y="127"/>
                  </a:lnTo>
                  <a:lnTo>
                    <a:pt x="57" y="94"/>
                  </a:lnTo>
                  <a:lnTo>
                    <a:pt x="57" y="56"/>
                  </a:lnTo>
                  <a:lnTo>
                    <a:pt x="52" y="33"/>
                  </a:lnTo>
                  <a:lnTo>
                    <a:pt x="43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1830"/>
            <p:cNvSpPr/>
            <p:nvPr/>
          </p:nvSpPr>
          <p:spPr>
            <a:xfrm>
              <a:off x="5341320" y="1650240"/>
              <a:ext cx="406080" cy="517320"/>
            </a:xfrm>
            <a:custGeom>
              <a:avLst/>
              <a:gdLst>
                <a:gd name="textAreaLeft" fmla="*/ 0 w 406080"/>
                <a:gd name="textAreaRight" fmla="*/ 406440 w 406080"/>
                <a:gd name="textAreaTop" fmla="*/ 0 h 517320"/>
                <a:gd name="textAreaBottom" fmla="*/ 517680 h 517320"/>
              </a:gdLst>
              <a:ahLst/>
              <a:rect l="textAreaLeft" t="textAreaTop" r="textAreaRight" b="textAreaBottom"/>
              <a:pathLst>
                <a:path w="694" h="788">
                  <a:moveTo>
                    <a:pt x="9" y="788"/>
                  </a:moveTo>
                  <a:lnTo>
                    <a:pt x="5" y="745"/>
                  </a:lnTo>
                  <a:lnTo>
                    <a:pt x="0" y="722"/>
                  </a:lnTo>
                  <a:lnTo>
                    <a:pt x="5" y="722"/>
                  </a:lnTo>
                  <a:lnTo>
                    <a:pt x="14" y="726"/>
                  </a:lnTo>
                  <a:lnTo>
                    <a:pt x="19" y="726"/>
                  </a:lnTo>
                  <a:lnTo>
                    <a:pt x="24" y="726"/>
                  </a:lnTo>
                  <a:lnTo>
                    <a:pt x="28" y="722"/>
                  </a:lnTo>
                  <a:lnTo>
                    <a:pt x="33" y="717"/>
                  </a:lnTo>
                  <a:lnTo>
                    <a:pt x="33" y="689"/>
                  </a:lnTo>
                  <a:lnTo>
                    <a:pt x="28" y="656"/>
                  </a:lnTo>
                  <a:lnTo>
                    <a:pt x="24" y="618"/>
                  </a:lnTo>
                  <a:lnTo>
                    <a:pt x="28" y="585"/>
                  </a:lnTo>
                  <a:lnTo>
                    <a:pt x="42" y="552"/>
                  </a:lnTo>
                  <a:lnTo>
                    <a:pt x="52" y="533"/>
                  </a:lnTo>
                  <a:lnTo>
                    <a:pt x="57" y="533"/>
                  </a:lnTo>
                  <a:lnTo>
                    <a:pt x="61" y="528"/>
                  </a:lnTo>
                  <a:lnTo>
                    <a:pt x="61" y="519"/>
                  </a:lnTo>
                  <a:lnTo>
                    <a:pt x="52" y="505"/>
                  </a:lnTo>
                  <a:lnTo>
                    <a:pt x="33" y="486"/>
                  </a:lnTo>
                  <a:lnTo>
                    <a:pt x="14" y="457"/>
                  </a:lnTo>
                  <a:lnTo>
                    <a:pt x="9" y="448"/>
                  </a:lnTo>
                  <a:lnTo>
                    <a:pt x="5" y="434"/>
                  </a:lnTo>
                  <a:lnTo>
                    <a:pt x="9" y="424"/>
                  </a:lnTo>
                  <a:lnTo>
                    <a:pt x="19" y="415"/>
                  </a:lnTo>
                  <a:lnTo>
                    <a:pt x="61" y="391"/>
                  </a:lnTo>
                  <a:lnTo>
                    <a:pt x="90" y="382"/>
                  </a:lnTo>
                  <a:lnTo>
                    <a:pt x="118" y="372"/>
                  </a:lnTo>
                  <a:lnTo>
                    <a:pt x="146" y="363"/>
                  </a:lnTo>
                  <a:lnTo>
                    <a:pt x="189" y="363"/>
                  </a:lnTo>
                  <a:lnTo>
                    <a:pt x="255" y="372"/>
                  </a:lnTo>
                  <a:lnTo>
                    <a:pt x="316" y="391"/>
                  </a:lnTo>
                  <a:lnTo>
                    <a:pt x="368" y="396"/>
                  </a:lnTo>
                  <a:lnTo>
                    <a:pt x="397" y="396"/>
                  </a:lnTo>
                  <a:lnTo>
                    <a:pt x="415" y="387"/>
                  </a:lnTo>
                  <a:lnTo>
                    <a:pt x="425" y="372"/>
                  </a:lnTo>
                  <a:lnTo>
                    <a:pt x="425" y="358"/>
                  </a:lnTo>
                  <a:lnTo>
                    <a:pt x="415" y="330"/>
                  </a:lnTo>
                  <a:lnTo>
                    <a:pt x="415" y="292"/>
                  </a:lnTo>
                  <a:lnTo>
                    <a:pt x="420" y="273"/>
                  </a:lnTo>
                  <a:lnTo>
                    <a:pt x="425" y="259"/>
                  </a:lnTo>
                  <a:lnTo>
                    <a:pt x="434" y="254"/>
                  </a:lnTo>
                  <a:lnTo>
                    <a:pt x="463" y="245"/>
                  </a:lnTo>
                  <a:lnTo>
                    <a:pt x="491" y="236"/>
                  </a:lnTo>
                  <a:lnTo>
                    <a:pt x="515" y="226"/>
                  </a:lnTo>
                  <a:lnTo>
                    <a:pt x="529" y="212"/>
                  </a:lnTo>
                  <a:lnTo>
                    <a:pt x="538" y="188"/>
                  </a:lnTo>
                  <a:lnTo>
                    <a:pt x="543" y="170"/>
                  </a:lnTo>
                  <a:lnTo>
                    <a:pt x="548" y="160"/>
                  </a:lnTo>
                  <a:lnTo>
                    <a:pt x="552" y="151"/>
                  </a:lnTo>
                  <a:lnTo>
                    <a:pt x="552" y="136"/>
                  </a:lnTo>
                  <a:lnTo>
                    <a:pt x="552" y="118"/>
                  </a:lnTo>
                  <a:lnTo>
                    <a:pt x="557" y="94"/>
                  </a:lnTo>
                  <a:lnTo>
                    <a:pt x="566" y="75"/>
                  </a:lnTo>
                  <a:lnTo>
                    <a:pt x="581" y="56"/>
                  </a:lnTo>
                  <a:lnTo>
                    <a:pt x="614" y="33"/>
                  </a:lnTo>
                  <a:lnTo>
                    <a:pt x="637" y="14"/>
                  </a:lnTo>
                  <a:lnTo>
                    <a:pt x="675" y="4"/>
                  </a:lnTo>
                  <a:lnTo>
                    <a:pt x="694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1831"/>
            <p:cNvSpPr/>
            <p:nvPr/>
          </p:nvSpPr>
          <p:spPr>
            <a:xfrm>
              <a:off x="5938560" y="1785960"/>
              <a:ext cx="212040" cy="102240"/>
            </a:xfrm>
            <a:custGeom>
              <a:avLst/>
              <a:gdLst>
                <a:gd name="textAreaLeft" fmla="*/ 0 w 212040"/>
                <a:gd name="textAreaRight" fmla="*/ 212400 w 212040"/>
                <a:gd name="textAreaTop" fmla="*/ 0 h 102240"/>
                <a:gd name="textAreaBottom" fmla="*/ 102600 h 102240"/>
              </a:gdLst>
              <a:ahLst/>
              <a:rect l="textAreaLeft" t="textAreaTop" r="textAreaRight" b="textAreaBottom"/>
              <a:pathLst>
                <a:path w="363" h="156">
                  <a:moveTo>
                    <a:pt x="0" y="128"/>
                  </a:moveTo>
                  <a:lnTo>
                    <a:pt x="0" y="118"/>
                  </a:lnTo>
                  <a:lnTo>
                    <a:pt x="14" y="104"/>
                  </a:lnTo>
                  <a:lnTo>
                    <a:pt x="28" y="85"/>
                  </a:lnTo>
                  <a:lnTo>
                    <a:pt x="47" y="76"/>
                  </a:lnTo>
                  <a:lnTo>
                    <a:pt x="89" y="57"/>
                  </a:lnTo>
                  <a:lnTo>
                    <a:pt x="122" y="52"/>
                  </a:lnTo>
                  <a:lnTo>
                    <a:pt x="155" y="52"/>
                  </a:lnTo>
                  <a:lnTo>
                    <a:pt x="198" y="43"/>
                  </a:lnTo>
                  <a:lnTo>
                    <a:pt x="240" y="29"/>
                  </a:lnTo>
                  <a:lnTo>
                    <a:pt x="274" y="14"/>
                  </a:lnTo>
                  <a:lnTo>
                    <a:pt x="288" y="5"/>
                  </a:lnTo>
                  <a:lnTo>
                    <a:pt x="302" y="0"/>
                  </a:lnTo>
                  <a:lnTo>
                    <a:pt x="307" y="0"/>
                  </a:lnTo>
                  <a:lnTo>
                    <a:pt x="316" y="0"/>
                  </a:lnTo>
                  <a:lnTo>
                    <a:pt x="321" y="5"/>
                  </a:lnTo>
                  <a:lnTo>
                    <a:pt x="325" y="14"/>
                  </a:lnTo>
                  <a:lnTo>
                    <a:pt x="340" y="33"/>
                  </a:lnTo>
                  <a:lnTo>
                    <a:pt x="354" y="52"/>
                  </a:lnTo>
                  <a:lnTo>
                    <a:pt x="359" y="71"/>
                  </a:lnTo>
                  <a:lnTo>
                    <a:pt x="363" y="95"/>
                  </a:lnTo>
                  <a:lnTo>
                    <a:pt x="363" y="114"/>
                  </a:lnTo>
                  <a:lnTo>
                    <a:pt x="354" y="132"/>
                  </a:lnTo>
                  <a:lnTo>
                    <a:pt x="344" y="137"/>
                  </a:lnTo>
                  <a:lnTo>
                    <a:pt x="335" y="142"/>
                  </a:lnTo>
                  <a:lnTo>
                    <a:pt x="321" y="147"/>
                  </a:lnTo>
                  <a:lnTo>
                    <a:pt x="302" y="151"/>
                  </a:lnTo>
                  <a:lnTo>
                    <a:pt x="236" y="142"/>
                  </a:lnTo>
                  <a:lnTo>
                    <a:pt x="179" y="132"/>
                  </a:lnTo>
                  <a:lnTo>
                    <a:pt x="146" y="128"/>
                  </a:lnTo>
                  <a:lnTo>
                    <a:pt x="113" y="128"/>
                  </a:lnTo>
                  <a:lnTo>
                    <a:pt x="85" y="132"/>
                  </a:lnTo>
                  <a:lnTo>
                    <a:pt x="56" y="137"/>
                  </a:lnTo>
                  <a:lnTo>
                    <a:pt x="28" y="151"/>
                  </a:lnTo>
                  <a:lnTo>
                    <a:pt x="19" y="156"/>
                  </a:lnTo>
                  <a:lnTo>
                    <a:pt x="9" y="142"/>
                  </a:lnTo>
                  <a:lnTo>
                    <a:pt x="0" y="12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1832"/>
            <p:cNvSpPr/>
            <p:nvPr/>
          </p:nvSpPr>
          <p:spPr>
            <a:xfrm>
              <a:off x="5808600" y="1860840"/>
              <a:ext cx="96480" cy="1177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17720"/>
                <a:gd name="textAreaBottom" fmla="*/ 118080 h 117720"/>
              </a:gdLst>
              <a:ahLst/>
              <a:rect l="textAreaLeft" t="textAreaTop" r="textAreaRight" b="textAreaBottom"/>
              <a:pathLst>
                <a:path w="165" h="179">
                  <a:moveTo>
                    <a:pt x="61" y="0"/>
                  </a:moveTo>
                  <a:lnTo>
                    <a:pt x="75" y="18"/>
                  </a:lnTo>
                  <a:lnTo>
                    <a:pt x="90" y="47"/>
                  </a:lnTo>
                  <a:lnTo>
                    <a:pt x="104" y="70"/>
                  </a:lnTo>
                  <a:lnTo>
                    <a:pt x="123" y="99"/>
                  </a:lnTo>
                  <a:lnTo>
                    <a:pt x="141" y="118"/>
                  </a:lnTo>
                  <a:lnTo>
                    <a:pt x="160" y="132"/>
                  </a:lnTo>
                  <a:lnTo>
                    <a:pt x="165" y="151"/>
                  </a:lnTo>
                  <a:lnTo>
                    <a:pt x="160" y="169"/>
                  </a:lnTo>
                  <a:lnTo>
                    <a:pt x="156" y="174"/>
                  </a:lnTo>
                  <a:lnTo>
                    <a:pt x="146" y="179"/>
                  </a:lnTo>
                  <a:lnTo>
                    <a:pt x="141" y="179"/>
                  </a:lnTo>
                  <a:lnTo>
                    <a:pt x="127" y="179"/>
                  </a:lnTo>
                  <a:lnTo>
                    <a:pt x="113" y="165"/>
                  </a:lnTo>
                  <a:lnTo>
                    <a:pt x="99" y="151"/>
                  </a:lnTo>
                  <a:lnTo>
                    <a:pt x="90" y="141"/>
                  </a:lnTo>
                  <a:lnTo>
                    <a:pt x="75" y="141"/>
                  </a:lnTo>
                  <a:lnTo>
                    <a:pt x="52" y="146"/>
                  </a:lnTo>
                  <a:lnTo>
                    <a:pt x="23" y="146"/>
                  </a:lnTo>
                  <a:lnTo>
                    <a:pt x="14" y="141"/>
                  </a:lnTo>
                  <a:lnTo>
                    <a:pt x="5" y="136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" y="103"/>
                  </a:lnTo>
                  <a:lnTo>
                    <a:pt x="19" y="89"/>
                  </a:lnTo>
                  <a:lnTo>
                    <a:pt x="23" y="75"/>
                  </a:lnTo>
                  <a:lnTo>
                    <a:pt x="23" y="66"/>
                  </a:lnTo>
                  <a:lnTo>
                    <a:pt x="19" y="37"/>
                  </a:lnTo>
                  <a:lnTo>
                    <a:pt x="14" y="23"/>
                  </a:lnTo>
                  <a:lnTo>
                    <a:pt x="61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1833"/>
            <p:cNvSpPr/>
            <p:nvPr/>
          </p:nvSpPr>
          <p:spPr>
            <a:xfrm>
              <a:off x="5446080" y="1739520"/>
              <a:ext cx="209880" cy="49320"/>
            </a:xfrm>
            <a:custGeom>
              <a:avLst/>
              <a:gdLst>
                <a:gd name="textAreaLeft" fmla="*/ 0 w 209880"/>
                <a:gd name="textAreaRight" fmla="*/ 210240 w 2098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359" h="76">
                  <a:moveTo>
                    <a:pt x="0" y="76"/>
                  </a:moveTo>
                  <a:lnTo>
                    <a:pt x="24" y="76"/>
                  </a:lnTo>
                  <a:lnTo>
                    <a:pt x="48" y="76"/>
                  </a:lnTo>
                  <a:lnTo>
                    <a:pt x="71" y="71"/>
                  </a:lnTo>
                  <a:lnTo>
                    <a:pt x="95" y="62"/>
                  </a:lnTo>
                  <a:lnTo>
                    <a:pt x="104" y="48"/>
                  </a:lnTo>
                  <a:lnTo>
                    <a:pt x="114" y="34"/>
                  </a:lnTo>
                  <a:lnTo>
                    <a:pt x="128" y="24"/>
                  </a:lnTo>
                  <a:lnTo>
                    <a:pt x="142" y="24"/>
                  </a:lnTo>
                  <a:lnTo>
                    <a:pt x="166" y="29"/>
                  </a:lnTo>
                  <a:lnTo>
                    <a:pt x="184" y="34"/>
                  </a:lnTo>
                  <a:lnTo>
                    <a:pt x="203" y="34"/>
                  </a:lnTo>
                  <a:lnTo>
                    <a:pt x="222" y="29"/>
                  </a:lnTo>
                  <a:lnTo>
                    <a:pt x="236" y="15"/>
                  </a:lnTo>
                  <a:lnTo>
                    <a:pt x="251" y="5"/>
                  </a:lnTo>
                  <a:lnTo>
                    <a:pt x="255" y="0"/>
                  </a:lnTo>
                  <a:lnTo>
                    <a:pt x="265" y="0"/>
                  </a:lnTo>
                  <a:lnTo>
                    <a:pt x="269" y="0"/>
                  </a:lnTo>
                  <a:lnTo>
                    <a:pt x="279" y="5"/>
                  </a:lnTo>
                  <a:lnTo>
                    <a:pt x="317" y="29"/>
                  </a:lnTo>
                  <a:lnTo>
                    <a:pt x="336" y="34"/>
                  </a:lnTo>
                  <a:lnTo>
                    <a:pt x="359" y="52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1834"/>
            <p:cNvSpPr/>
            <p:nvPr/>
          </p:nvSpPr>
          <p:spPr>
            <a:xfrm>
              <a:off x="5421240" y="2064960"/>
              <a:ext cx="141480" cy="1584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241" h="241">
                  <a:moveTo>
                    <a:pt x="94" y="0"/>
                  </a:moveTo>
                  <a:lnTo>
                    <a:pt x="90" y="10"/>
                  </a:lnTo>
                  <a:lnTo>
                    <a:pt x="85" y="14"/>
                  </a:lnTo>
                  <a:lnTo>
                    <a:pt x="75" y="24"/>
                  </a:lnTo>
                  <a:lnTo>
                    <a:pt x="61" y="24"/>
                  </a:lnTo>
                  <a:lnTo>
                    <a:pt x="47" y="19"/>
                  </a:lnTo>
                  <a:lnTo>
                    <a:pt x="28" y="14"/>
                  </a:lnTo>
                  <a:lnTo>
                    <a:pt x="19" y="14"/>
                  </a:lnTo>
                  <a:lnTo>
                    <a:pt x="14" y="19"/>
                  </a:lnTo>
                  <a:lnTo>
                    <a:pt x="19" y="28"/>
                  </a:lnTo>
                  <a:lnTo>
                    <a:pt x="28" y="38"/>
                  </a:lnTo>
                  <a:lnTo>
                    <a:pt x="38" y="43"/>
                  </a:lnTo>
                  <a:lnTo>
                    <a:pt x="47" y="43"/>
                  </a:lnTo>
                  <a:lnTo>
                    <a:pt x="56" y="43"/>
                  </a:lnTo>
                  <a:lnTo>
                    <a:pt x="66" y="43"/>
                  </a:lnTo>
                  <a:lnTo>
                    <a:pt x="71" y="47"/>
                  </a:lnTo>
                  <a:lnTo>
                    <a:pt x="75" y="52"/>
                  </a:lnTo>
                  <a:lnTo>
                    <a:pt x="80" y="61"/>
                  </a:lnTo>
                  <a:lnTo>
                    <a:pt x="80" y="85"/>
                  </a:lnTo>
                  <a:lnTo>
                    <a:pt x="75" y="99"/>
                  </a:lnTo>
                  <a:lnTo>
                    <a:pt x="80" y="104"/>
                  </a:lnTo>
                  <a:lnTo>
                    <a:pt x="85" y="104"/>
                  </a:lnTo>
                  <a:lnTo>
                    <a:pt x="94" y="99"/>
                  </a:lnTo>
                  <a:lnTo>
                    <a:pt x="118" y="94"/>
                  </a:lnTo>
                  <a:lnTo>
                    <a:pt x="137" y="85"/>
                  </a:lnTo>
                  <a:lnTo>
                    <a:pt x="156" y="85"/>
                  </a:lnTo>
                  <a:lnTo>
                    <a:pt x="175" y="90"/>
                  </a:lnTo>
                  <a:lnTo>
                    <a:pt x="184" y="94"/>
                  </a:lnTo>
                  <a:lnTo>
                    <a:pt x="193" y="99"/>
                  </a:lnTo>
                  <a:lnTo>
                    <a:pt x="198" y="109"/>
                  </a:lnTo>
                  <a:lnTo>
                    <a:pt x="208" y="123"/>
                  </a:lnTo>
                  <a:lnTo>
                    <a:pt x="222" y="142"/>
                  </a:lnTo>
                  <a:lnTo>
                    <a:pt x="236" y="156"/>
                  </a:lnTo>
                  <a:lnTo>
                    <a:pt x="241" y="161"/>
                  </a:lnTo>
                  <a:lnTo>
                    <a:pt x="241" y="170"/>
                  </a:lnTo>
                  <a:lnTo>
                    <a:pt x="241" y="175"/>
                  </a:lnTo>
                  <a:lnTo>
                    <a:pt x="241" y="184"/>
                  </a:lnTo>
                  <a:lnTo>
                    <a:pt x="226" y="198"/>
                  </a:lnTo>
                  <a:lnTo>
                    <a:pt x="217" y="212"/>
                  </a:lnTo>
                  <a:lnTo>
                    <a:pt x="198" y="222"/>
                  </a:lnTo>
                  <a:lnTo>
                    <a:pt x="179" y="222"/>
                  </a:lnTo>
                  <a:lnTo>
                    <a:pt x="151" y="227"/>
                  </a:lnTo>
                  <a:lnTo>
                    <a:pt x="123" y="227"/>
                  </a:lnTo>
                  <a:lnTo>
                    <a:pt x="71" y="227"/>
                  </a:lnTo>
                  <a:lnTo>
                    <a:pt x="33" y="231"/>
                  </a:lnTo>
                  <a:lnTo>
                    <a:pt x="0" y="241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1835"/>
            <p:cNvSpPr/>
            <p:nvPr/>
          </p:nvSpPr>
          <p:spPr>
            <a:xfrm>
              <a:off x="6178680" y="1767240"/>
              <a:ext cx="74880" cy="781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8120"/>
                <a:gd name="textAreaBottom" fmla="*/ 78480 h 78120"/>
              </a:gdLst>
              <a:ahLst/>
              <a:rect l="textAreaLeft" t="textAreaTop" r="textAreaRight" b="textAreaBottom"/>
              <a:pathLst>
                <a:path w="128" h="118">
                  <a:moveTo>
                    <a:pt x="38" y="104"/>
                  </a:moveTo>
                  <a:lnTo>
                    <a:pt x="33" y="109"/>
                  </a:lnTo>
                  <a:lnTo>
                    <a:pt x="19" y="113"/>
                  </a:lnTo>
                  <a:lnTo>
                    <a:pt x="15" y="118"/>
                  </a:lnTo>
                  <a:lnTo>
                    <a:pt x="5" y="118"/>
                  </a:lnTo>
                  <a:lnTo>
                    <a:pt x="0" y="113"/>
                  </a:lnTo>
                  <a:lnTo>
                    <a:pt x="0" y="104"/>
                  </a:lnTo>
                  <a:lnTo>
                    <a:pt x="0" y="85"/>
                  </a:lnTo>
                  <a:lnTo>
                    <a:pt x="0" y="71"/>
                  </a:lnTo>
                  <a:lnTo>
                    <a:pt x="5" y="57"/>
                  </a:lnTo>
                  <a:lnTo>
                    <a:pt x="10" y="47"/>
                  </a:lnTo>
                  <a:lnTo>
                    <a:pt x="10" y="33"/>
                  </a:lnTo>
                  <a:lnTo>
                    <a:pt x="15" y="14"/>
                  </a:lnTo>
                  <a:lnTo>
                    <a:pt x="15" y="9"/>
                  </a:lnTo>
                  <a:lnTo>
                    <a:pt x="19" y="5"/>
                  </a:lnTo>
                  <a:lnTo>
                    <a:pt x="19" y="0"/>
                  </a:lnTo>
                  <a:lnTo>
                    <a:pt x="29" y="5"/>
                  </a:lnTo>
                  <a:lnTo>
                    <a:pt x="43" y="19"/>
                  </a:lnTo>
                  <a:lnTo>
                    <a:pt x="62" y="38"/>
                  </a:lnTo>
                  <a:lnTo>
                    <a:pt x="81" y="42"/>
                  </a:lnTo>
                  <a:lnTo>
                    <a:pt x="95" y="42"/>
                  </a:lnTo>
                  <a:lnTo>
                    <a:pt x="104" y="42"/>
                  </a:lnTo>
                  <a:lnTo>
                    <a:pt x="109" y="42"/>
                  </a:lnTo>
                  <a:lnTo>
                    <a:pt x="114" y="47"/>
                  </a:lnTo>
                  <a:lnTo>
                    <a:pt x="118" y="57"/>
                  </a:lnTo>
                  <a:lnTo>
                    <a:pt x="123" y="80"/>
                  </a:lnTo>
                  <a:lnTo>
                    <a:pt x="128" y="94"/>
                  </a:lnTo>
                  <a:lnTo>
                    <a:pt x="128" y="99"/>
                  </a:lnTo>
                  <a:lnTo>
                    <a:pt x="128" y="109"/>
                  </a:lnTo>
                  <a:lnTo>
                    <a:pt x="123" y="113"/>
                  </a:lnTo>
                  <a:lnTo>
                    <a:pt x="118" y="118"/>
                  </a:lnTo>
                  <a:lnTo>
                    <a:pt x="100" y="118"/>
                  </a:lnTo>
                  <a:lnTo>
                    <a:pt x="81" y="118"/>
                  </a:lnTo>
                  <a:lnTo>
                    <a:pt x="71" y="113"/>
                  </a:lnTo>
                  <a:lnTo>
                    <a:pt x="67" y="109"/>
                  </a:lnTo>
                  <a:lnTo>
                    <a:pt x="38" y="104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1836"/>
            <p:cNvSpPr/>
            <p:nvPr/>
          </p:nvSpPr>
          <p:spPr>
            <a:xfrm>
              <a:off x="5841000" y="1816920"/>
              <a:ext cx="129960" cy="46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46440"/>
                <a:gd name="textAreaBottom" fmla="*/ 46800 h 46440"/>
              </a:gdLst>
              <a:ahLst/>
              <a:rect l="textAreaLeft" t="textAreaTop" r="textAreaRight" b="textAreaBottom"/>
              <a:pathLst>
                <a:path w="222" h="71">
                  <a:moveTo>
                    <a:pt x="0" y="71"/>
                  </a:moveTo>
                  <a:lnTo>
                    <a:pt x="0" y="62"/>
                  </a:lnTo>
                  <a:lnTo>
                    <a:pt x="5" y="48"/>
                  </a:lnTo>
                  <a:lnTo>
                    <a:pt x="10" y="29"/>
                  </a:lnTo>
                  <a:lnTo>
                    <a:pt x="24" y="19"/>
                  </a:lnTo>
                  <a:lnTo>
                    <a:pt x="38" y="15"/>
                  </a:lnTo>
                  <a:lnTo>
                    <a:pt x="62" y="5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85" y="15"/>
                  </a:lnTo>
                  <a:lnTo>
                    <a:pt x="81" y="29"/>
                  </a:lnTo>
                  <a:lnTo>
                    <a:pt x="81" y="34"/>
                  </a:lnTo>
                  <a:lnTo>
                    <a:pt x="85" y="34"/>
                  </a:lnTo>
                  <a:lnTo>
                    <a:pt x="90" y="38"/>
                  </a:lnTo>
                  <a:lnTo>
                    <a:pt x="104" y="34"/>
                  </a:lnTo>
                  <a:lnTo>
                    <a:pt x="152" y="29"/>
                  </a:lnTo>
                  <a:lnTo>
                    <a:pt x="166" y="24"/>
                  </a:lnTo>
                  <a:lnTo>
                    <a:pt x="222" y="24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1837"/>
            <p:cNvSpPr/>
            <p:nvPr/>
          </p:nvSpPr>
          <p:spPr>
            <a:xfrm>
              <a:off x="6148800" y="1845360"/>
              <a:ext cx="40320" cy="24120"/>
            </a:xfrm>
            <a:custGeom>
              <a:avLst/>
              <a:gdLst>
                <a:gd name="textAreaLeft" fmla="*/ 0 w 40320"/>
                <a:gd name="textAreaRight" fmla="*/ 40680 w 403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70" h="38">
                  <a:moveTo>
                    <a:pt x="70" y="0"/>
                  </a:moveTo>
                  <a:lnTo>
                    <a:pt x="37" y="28"/>
                  </a:lnTo>
                  <a:lnTo>
                    <a:pt x="0" y="3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1838"/>
            <p:cNvSpPr/>
            <p:nvPr/>
          </p:nvSpPr>
          <p:spPr>
            <a:xfrm>
              <a:off x="5742000" y="1441800"/>
              <a:ext cx="179640" cy="226800"/>
            </a:xfrm>
            <a:custGeom>
              <a:avLst/>
              <a:gdLst>
                <a:gd name="textAreaLeft" fmla="*/ 0 w 179640"/>
                <a:gd name="textAreaRight" fmla="*/ 180000 w 17964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307" h="345">
                  <a:moveTo>
                    <a:pt x="255" y="0"/>
                  </a:moveTo>
                  <a:lnTo>
                    <a:pt x="265" y="24"/>
                  </a:lnTo>
                  <a:lnTo>
                    <a:pt x="270" y="52"/>
                  </a:lnTo>
                  <a:lnTo>
                    <a:pt x="288" y="85"/>
                  </a:lnTo>
                  <a:lnTo>
                    <a:pt x="307" y="114"/>
                  </a:lnTo>
                  <a:lnTo>
                    <a:pt x="288" y="137"/>
                  </a:lnTo>
                  <a:lnTo>
                    <a:pt x="279" y="161"/>
                  </a:lnTo>
                  <a:lnTo>
                    <a:pt x="279" y="170"/>
                  </a:lnTo>
                  <a:lnTo>
                    <a:pt x="284" y="180"/>
                  </a:lnTo>
                  <a:lnTo>
                    <a:pt x="279" y="189"/>
                  </a:lnTo>
                  <a:lnTo>
                    <a:pt x="270" y="199"/>
                  </a:lnTo>
                  <a:lnTo>
                    <a:pt x="241" y="213"/>
                  </a:lnTo>
                  <a:lnTo>
                    <a:pt x="213" y="222"/>
                  </a:lnTo>
                  <a:lnTo>
                    <a:pt x="194" y="227"/>
                  </a:lnTo>
                  <a:lnTo>
                    <a:pt x="180" y="222"/>
                  </a:lnTo>
                  <a:lnTo>
                    <a:pt x="170" y="222"/>
                  </a:lnTo>
                  <a:lnTo>
                    <a:pt x="166" y="227"/>
                  </a:lnTo>
                  <a:lnTo>
                    <a:pt x="166" y="236"/>
                  </a:lnTo>
                  <a:lnTo>
                    <a:pt x="166" y="251"/>
                  </a:lnTo>
                  <a:lnTo>
                    <a:pt x="170" y="279"/>
                  </a:lnTo>
                  <a:lnTo>
                    <a:pt x="170" y="298"/>
                  </a:lnTo>
                  <a:lnTo>
                    <a:pt x="166" y="312"/>
                  </a:lnTo>
                  <a:lnTo>
                    <a:pt x="152" y="321"/>
                  </a:lnTo>
                  <a:lnTo>
                    <a:pt x="133" y="331"/>
                  </a:lnTo>
                  <a:lnTo>
                    <a:pt x="114" y="340"/>
                  </a:lnTo>
                  <a:lnTo>
                    <a:pt x="95" y="345"/>
                  </a:lnTo>
                  <a:lnTo>
                    <a:pt x="67" y="345"/>
                  </a:lnTo>
                  <a:lnTo>
                    <a:pt x="43" y="345"/>
                  </a:lnTo>
                  <a:lnTo>
                    <a:pt x="24" y="345"/>
                  </a:lnTo>
                  <a:lnTo>
                    <a:pt x="15" y="340"/>
                  </a:lnTo>
                  <a:lnTo>
                    <a:pt x="10" y="326"/>
                  </a:lnTo>
                  <a:lnTo>
                    <a:pt x="0" y="293"/>
                  </a:lnTo>
                  <a:lnTo>
                    <a:pt x="0" y="274"/>
                  </a:lnTo>
                  <a:lnTo>
                    <a:pt x="0" y="26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1839"/>
            <p:cNvSpPr/>
            <p:nvPr/>
          </p:nvSpPr>
          <p:spPr>
            <a:xfrm>
              <a:off x="4893480" y="1860840"/>
              <a:ext cx="115560" cy="6732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198" h="103">
                  <a:moveTo>
                    <a:pt x="24" y="103"/>
                  </a:moveTo>
                  <a:lnTo>
                    <a:pt x="14" y="99"/>
                  </a:lnTo>
                  <a:lnTo>
                    <a:pt x="0" y="80"/>
                  </a:lnTo>
                  <a:lnTo>
                    <a:pt x="0" y="70"/>
                  </a:lnTo>
                  <a:lnTo>
                    <a:pt x="5" y="61"/>
                  </a:lnTo>
                  <a:lnTo>
                    <a:pt x="10" y="56"/>
                  </a:lnTo>
                  <a:lnTo>
                    <a:pt x="10" y="51"/>
                  </a:lnTo>
                  <a:lnTo>
                    <a:pt x="47" y="37"/>
                  </a:lnTo>
                  <a:lnTo>
                    <a:pt x="104" y="9"/>
                  </a:lnTo>
                  <a:lnTo>
                    <a:pt x="123" y="4"/>
                  </a:lnTo>
                  <a:lnTo>
                    <a:pt x="142" y="0"/>
                  </a:lnTo>
                  <a:lnTo>
                    <a:pt x="156" y="0"/>
                  </a:lnTo>
                  <a:lnTo>
                    <a:pt x="170" y="0"/>
                  </a:lnTo>
                  <a:lnTo>
                    <a:pt x="184" y="0"/>
                  </a:lnTo>
                  <a:lnTo>
                    <a:pt x="194" y="9"/>
                  </a:lnTo>
                  <a:lnTo>
                    <a:pt x="198" y="18"/>
                  </a:lnTo>
                  <a:lnTo>
                    <a:pt x="198" y="28"/>
                  </a:lnTo>
                  <a:lnTo>
                    <a:pt x="198" y="37"/>
                  </a:lnTo>
                  <a:lnTo>
                    <a:pt x="189" y="42"/>
                  </a:lnTo>
                  <a:lnTo>
                    <a:pt x="175" y="42"/>
                  </a:lnTo>
                  <a:lnTo>
                    <a:pt x="161" y="47"/>
                  </a:lnTo>
                  <a:lnTo>
                    <a:pt x="146" y="56"/>
                  </a:lnTo>
                  <a:lnTo>
                    <a:pt x="128" y="66"/>
                  </a:lnTo>
                  <a:lnTo>
                    <a:pt x="99" y="75"/>
                  </a:lnTo>
                  <a:lnTo>
                    <a:pt x="90" y="75"/>
                  </a:lnTo>
                  <a:lnTo>
                    <a:pt x="80" y="85"/>
                  </a:lnTo>
                  <a:lnTo>
                    <a:pt x="66" y="99"/>
                  </a:lnTo>
                  <a:lnTo>
                    <a:pt x="43" y="103"/>
                  </a:lnTo>
                  <a:lnTo>
                    <a:pt x="24" y="10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1840"/>
            <p:cNvSpPr/>
            <p:nvPr/>
          </p:nvSpPr>
          <p:spPr>
            <a:xfrm>
              <a:off x="4818600" y="1917000"/>
              <a:ext cx="77400" cy="828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82800"/>
                <a:gd name="textAreaBottom" fmla="*/ 83160 h 82800"/>
              </a:gdLst>
              <a:ahLst/>
              <a:rect l="textAreaLeft" t="textAreaTop" r="textAreaRight" b="textAreaBottom"/>
              <a:pathLst>
                <a:path w="132" h="127">
                  <a:moveTo>
                    <a:pt x="132" y="0"/>
                  </a:moveTo>
                  <a:lnTo>
                    <a:pt x="70" y="0"/>
                  </a:lnTo>
                  <a:lnTo>
                    <a:pt x="66" y="0"/>
                  </a:lnTo>
                  <a:lnTo>
                    <a:pt x="47" y="4"/>
                  </a:lnTo>
                  <a:lnTo>
                    <a:pt x="33" y="9"/>
                  </a:lnTo>
                  <a:lnTo>
                    <a:pt x="23" y="23"/>
                  </a:lnTo>
                  <a:lnTo>
                    <a:pt x="19" y="33"/>
                  </a:lnTo>
                  <a:lnTo>
                    <a:pt x="19" y="42"/>
                  </a:lnTo>
                  <a:lnTo>
                    <a:pt x="19" y="51"/>
                  </a:lnTo>
                  <a:lnTo>
                    <a:pt x="28" y="61"/>
                  </a:lnTo>
                  <a:lnTo>
                    <a:pt x="42" y="66"/>
                  </a:lnTo>
                  <a:lnTo>
                    <a:pt x="52" y="75"/>
                  </a:lnTo>
                  <a:lnTo>
                    <a:pt x="56" y="84"/>
                  </a:lnTo>
                  <a:lnTo>
                    <a:pt x="52" y="99"/>
                  </a:lnTo>
                  <a:lnTo>
                    <a:pt x="37" y="113"/>
                  </a:lnTo>
                  <a:lnTo>
                    <a:pt x="19" y="122"/>
                  </a:lnTo>
                  <a:lnTo>
                    <a:pt x="4" y="127"/>
                  </a:lnTo>
                  <a:lnTo>
                    <a:pt x="0" y="127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1841"/>
            <p:cNvSpPr/>
            <p:nvPr/>
          </p:nvSpPr>
          <p:spPr>
            <a:xfrm>
              <a:off x="5053320" y="1816920"/>
              <a:ext cx="30240" cy="9036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52" h="137">
                  <a:moveTo>
                    <a:pt x="5" y="118"/>
                  </a:moveTo>
                  <a:lnTo>
                    <a:pt x="9" y="109"/>
                  </a:lnTo>
                  <a:lnTo>
                    <a:pt x="14" y="100"/>
                  </a:lnTo>
                  <a:lnTo>
                    <a:pt x="14" y="90"/>
                  </a:lnTo>
                  <a:lnTo>
                    <a:pt x="14" y="81"/>
                  </a:lnTo>
                  <a:lnTo>
                    <a:pt x="5" y="71"/>
                  </a:lnTo>
                  <a:lnTo>
                    <a:pt x="5" y="57"/>
                  </a:lnTo>
                  <a:lnTo>
                    <a:pt x="0" y="48"/>
                  </a:lnTo>
                  <a:lnTo>
                    <a:pt x="5" y="34"/>
                  </a:lnTo>
                  <a:lnTo>
                    <a:pt x="9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4" y="0"/>
                  </a:lnTo>
                  <a:lnTo>
                    <a:pt x="28" y="5"/>
                  </a:lnTo>
                  <a:lnTo>
                    <a:pt x="33" y="10"/>
                  </a:lnTo>
                  <a:lnTo>
                    <a:pt x="42" y="19"/>
                  </a:lnTo>
                  <a:lnTo>
                    <a:pt x="52" y="29"/>
                  </a:lnTo>
                  <a:lnTo>
                    <a:pt x="52" y="43"/>
                  </a:lnTo>
                  <a:lnTo>
                    <a:pt x="52" y="57"/>
                  </a:lnTo>
                  <a:lnTo>
                    <a:pt x="42" y="85"/>
                  </a:lnTo>
                  <a:lnTo>
                    <a:pt x="42" y="104"/>
                  </a:lnTo>
                  <a:lnTo>
                    <a:pt x="47" y="114"/>
                  </a:lnTo>
                  <a:lnTo>
                    <a:pt x="47" y="128"/>
                  </a:lnTo>
                  <a:lnTo>
                    <a:pt x="42" y="133"/>
                  </a:lnTo>
                  <a:lnTo>
                    <a:pt x="33" y="137"/>
                  </a:lnTo>
                  <a:lnTo>
                    <a:pt x="14" y="128"/>
                  </a:lnTo>
                  <a:lnTo>
                    <a:pt x="5" y="11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1842"/>
            <p:cNvSpPr/>
            <p:nvPr/>
          </p:nvSpPr>
          <p:spPr>
            <a:xfrm>
              <a:off x="5219280" y="1566360"/>
              <a:ext cx="74880" cy="738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28" h="113">
                  <a:moveTo>
                    <a:pt x="19" y="113"/>
                  </a:moveTo>
                  <a:lnTo>
                    <a:pt x="0" y="99"/>
                  </a:lnTo>
                  <a:lnTo>
                    <a:pt x="0" y="90"/>
                  </a:lnTo>
                  <a:lnTo>
                    <a:pt x="10" y="85"/>
                  </a:lnTo>
                  <a:lnTo>
                    <a:pt x="24" y="76"/>
                  </a:lnTo>
                  <a:lnTo>
                    <a:pt x="43" y="76"/>
                  </a:lnTo>
                  <a:lnTo>
                    <a:pt x="62" y="66"/>
                  </a:lnTo>
                  <a:lnTo>
                    <a:pt x="76" y="38"/>
                  </a:lnTo>
                  <a:lnTo>
                    <a:pt x="80" y="24"/>
                  </a:lnTo>
                  <a:lnTo>
                    <a:pt x="85" y="19"/>
                  </a:lnTo>
                  <a:lnTo>
                    <a:pt x="95" y="5"/>
                  </a:lnTo>
                  <a:lnTo>
                    <a:pt x="104" y="0"/>
                  </a:lnTo>
                  <a:lnTo>
                    <a:pt x="109" y="0"/>
                  </a:lnTo>
                  <a:lnTo>
                    <a:pt x="114" y="5"/>
                  </a:lnTo>
                  <a:lnTo>
                    <a:pt x="118" y="10"/>
                  </a:lnTo>
                  <a:lnTo>
                    <a:pt x="123" y="29"/>
                  </a:lnTo>
                  <a:lnTo>
                    <a:pt x="128" y="43"/>
                  </a:lnTo>
                  <a:lnTo>
                    <a:pt x="128" y="52"/>
                  </a:lnTo>
                  <a:lnTo>
                    <a:pt x="123" y="66"/>
                  </a:lnTo>
                  <a:lnTo>
                    <a:pt x="99" y="80"/>
                  </a:lnTo>
                  <a:lnTo>
                    <a:pt x="71" y="95"/>
                  </a:lnTo>
                  <a:lnTo>
                    <a:pt x="38" y="109"/>
                  </a:lnTo>
                  <a:lnTo>
                    <a:pt x="19" y="11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1843"/>
            <p:cNvSpPr/>
            <p:nvPr/>
          </p:nvSpPr>
          <p:spPr>
            <a:xfrm>
              <a:off x="5169600" y="1547640"/>
              <a:ext cx="49320" cy="46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85" h="71">
                  <a:moveTo>
                    <a:pt x="0" y="42"/>
                  </a:moveTo>
                  <a:lnTo>
                    <a:pt x="10" y="28"/>
                  </a:lnTo>
                  <a:lnTo>
                    <a:pt x="29" y="14"/>
                  </a:lnTo>
                  <a:lnTo>
                    <a:pt x="47" y="5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76" y="5"/>
                  </a:lnTo>
                  <a:lnTo>
                    <a:pt x="80" y="5"/>
                  </a:lnTo>
                  <a:lnTo>
                    <a:pt x="85" y="9"/>
                  </a:lnTo>
                  <a:lnTo>
                    <a:pt x="85" y="19"/>
                  </a:lnTo>
                  <a:lnTo>
                    <a:pt x="80" y="33"/>
                  </a:lnTo>
                  <a:lnTo>
                    <a:pt x="71" y="42"/>
                  </a:lnTo>
                  <a:lnTo>
                    <a:pt x="62" y="52"/>
                  </a:lnTo>
                  <a:lnTo>
                    <a:pt x="47" y="57"/>
                  </a:lnTo>
                  <a:lnTo>
                    <a:pt x="24" y="66"/>
                  </a:lnTo>
                  <a:lnTo>
                    <a:pt x="14" y="71"/>
                  </a:lnTo>
                  <a:lnTo>
                    <a:pt x="0" y="57"/>
                  </a:lnTo>
                  <a:lnTo>
                    <a:pt x="0" y="42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1844"/>
            <p:cNvSpPr/>
            <p:nvPr/>
          </p:nvSpPr>
          <p:spPr>
            <a:xfrm>
              <a:off x="5562720" y="1476000"/>
              <a:ext cx="54360" cy="1144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4" h="175">
                  <a:moveTo>
                    <a:pt x="23" y="175"/>
                  </a:moveTo>
                  <a:lnTo>
                    <a:pt x="28" y="175"/>
                  </a:lnTo>
                  <a:lnTo>
                    <a:pt x="52" y="170"/>
                  </a:lnTo>
                  <a:lnTo>
                    <a:pt x="66" y="170"/>
                  </a:lnTo>
                  <a:lnTo>
                    <a:pt x="75" y="166"/>
                  </a:lnTo>
                  <a:lnTo>
                    <a:pt x="80" y="156"/>
                  </a:lnTo>
                  <a:lnTo>
                    <a:pt x="80" y="142"/>
                  </a:lnTo>
                  <a:lnTo>
                    <a:pt x="80" y="128"/>
                  </a:lnTo>
                  <a:lnTo>
                    <a:pt x="80" y="118"/>
                  </a:lnTo>
                  <a:lnTo>
                    <a:pt x="80" y="109"/>
                  </a:lnTo>
                  <a:lnTo>
                    <a:pt x="89" y="99"/>
                  </a:lnTo>
                  <a:lnTo>
                    <a:pt x="94" y="85"/>
                  </a:lnTo>
                  <a:lnTo>
                    <a:pt x="94" y="62"/>
                  </a:lnTo>
                  <a:lnTo>
                    <a:pt x="89" y="48"/>
                  </a:lnTo>
                  <a:lnTo>
                    <a:pt x="89" y="38"/>
                  </a:lnTo>
                  <a:lnTo>
                    <a:pt x="89" y="33"/>
                  </a:lnTo>
                  <a:lnTo>
                    <a:pt x="80" y="19"/>
                  </a:lnTo>
                  <a:lnTo>
                    <a:pt x="70" y="5"/>
                  </a:lnTo>
                  <a:lnTo>
                    <a:pt x="56" y="0"/>
                  </a:lnTo>
                  <a:lnTo>
                    <a:pt x="37" y="5"/>
                  </a:lnTo>
                  <a:lnTo>
                    <a:pt x="19" y="14"/>
                  </a:lnTo>
                  <a:lnTo>
                    <a:pt x="9" y="24"/>
                  </a:lnTo>
                  <a:lnTo>
                    <a:pt x="4" y="33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14" y="85"/>
                  </a:lnTo>
                  <a:lnTo>
                    <a:pt x="23" y="109"/>
                  </a:lnTo>
                  <a:lnTo>
                    <a:pt x="23" y="118"/>
                  </a:lnTo>
                  <a:lnTo>
                    <a:pt x="23" y="132"/>
                  </a:lnTo>
                  <a:lnTo>
                    <a:pt x="19" y="137"/>
                  </a:lnTo>
                  <a:lnTo>
                    <a:pt x="9" y="147"/>
                  </a:lnTo>
                  <a:lnTo>
                    <a:pt x="4" y="161"/>
                  </a:lnTo>
                  <a:lnTo>
                    <a:pt x="4" y="170"/>
                  </a:lnTo>
                  <a:lnTo>
                    <a:pt x="23" y="175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1845"/>
            <p:cNvSpPr/>
            <p:nvPr/>
          </p:nvSpPr>
          <p:spPr>
            <a:xfrm>
              <a:off x="5908320" y="1340280"/>
              <a:ext cx="65880" cy="15120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151200"/>
                <a:gd name="textAreaBottom" fmla="*/ 151560 h 151200"/>
              </a:gdLst>
              <a:ahLst/>
              <a:rect l="textAreaLeft" t="textAreaTop" r="textAreaRight" b="textAreaBottom"/>
              <a:pathLst>
                <a:path w="113" h="231">
                  <a:moveTo>
                    <a:pt x="85" y="0"/>
                  </a:moveTo>
                  <a:lnTo>
                    <a:pt x="99" y="14"/>
                  </a:lnTo>
                  <a:lnTo>
                    <a:pt x="108" y="28"/>
                  </a:lnTo>
                  <a:lnTo>
                    <a:pt x="113" y="33"/>
                  </a:lnTo>
                  <a:lnTo>
                    <a:pt x="113" y="42"/>
                  </a:lnTo>
                  <a:lnTo>
                    <a:pt x="108" y="47"/>
                  </a:lnTo>
                  <a:lnTo>
                    <a:pt x="99" y="56"/>
                  </a:lnTo>
                  <a:lnTo>
                    <a:pt x="61" y="85"/>
                  </a:lnTo>
                  <a:lnTo>
                    <a:pt x="38" y="103"/>
                  </a:lnTo>
                  <a:lnTo>
                    <a:pt x="28" y="137"/>
                  </a:lnTo>
                  <a:lnTo>
                    <a:pt x="23" y="165"/>
                  </a:lnTo>
                  <a:lnTo>
                    <a:pt x="28" y="188"/>
                  </a:lnTo>
                  <a:lnTo>
                    <a:pt x="23" y="207"/>
                  </a:lnTo>
                  <a:lnTo>
                    <a:pt x="9" y="221"/>
                  </a:lnTo>
                  <a:lnTo>
                    <a:pt x="0" y="231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1846"/>
            <p:cNvSpPr/>
            <p:nvPr/>
          </p:nvSpPr>
          <p:spPr>
            <a:xfrm>
              <a:off x="5559840" y="1064520"/>
              <a:ext cx="345240" cy="387000"/>
            </a:xfrm>
            <a:custGeom>
              <a:avLst/>
              <a:gdLst>
                <a:gd name="textAreaLeft" fmla="*/ 0 w 345240"/>
                <a:gd name="textAreaRight" fmla="*/ 345600 w 34524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590" h="590">
                  <a:moveTo>
                    <a:pt x="94" y="519"/>
                  </a:moveTo>
                  <a:lnTo>
                    <a:pt x="9" y="505"/>
                  </a:lnTo>
                  <a:lnTo>
                    <a:pt x="9" y="490"/>
                  </a:lnTo>
                  <a:lnTo>
                    <a:pt x="9" y="443"/>
                  </a:lnTo>
                  <a:lnTo>
                    <a:pt x="14" y="415"/>
                  </a:lnTo>
                  <a:lnTo>
                    <a:pt x="9" y="396"/>
                  </a:lnTo>
                  <a:lnTo>
                    <a:pt x="5" y="382"/>
                  </a:lnTo>
                  <a:lnTo>
                    <a:pt x="0" y="382"/>
                  </a:lnTo>
                  <a:lnTo>
                    <a:pt x="0" y="349"/>
                  </a:lnTo>
                  <a:lnTo>
                    <a:pt x="0" y="287"/>
                  </a:lnTo>
                  <a:lnTo>
                    <a:pt x="14" y="240"/>
                  </a:lnTo>
                  <a:lnTo>
                    <a:pt x="38" y="193"/>
                  </a:lnTo>
                  <a:lnTo>
                    <a:pt x="61" y="141"/>
                  </a:lnTo>
                  <a:lnTo>
                    <a:pt x="90" y="89"/>
                  </a:lnTo>
                  <a:lnTo>
                    <a:pt x="104" y="61"/>
                  </a:lnTo>
                  <a:lnTo>
                    <a:pt x="118" y="42"/>
                  </a:lnTo>
                  <a:lnTo>
                    <a:pt x="132" y="23"/>
                  </a:lnTo>
                  <a:lnTo>
                    <a:pt x="151" y="4"/>
                  </a:lnTo>
                  <a:lnTo>
                    <a:pt x="160" y="0"/>
                  </a:lnTo>
                  <a:lnTo>
                    <a:pt x="165" y="4"/>
                  </a:lnTo>
                  <a:lnTo>
                    <a:pt x="165" y="9"/>
                  </a:lnTo>
                  <a:lnTo>
                    <a:pt x="170" y="23"/>
                  </a:lnTo>
                  <a:lnTo>
                    <a:pt x="170" y="47"/>
                  </a:lnTo>
                  <a:lnTo>
                    <a:pt x="165" y="61"/>
                  </a:lnTo>
                  <a:lnTo>
                    <a:pt x="160" y="85"/>
                  </a:lnTo>
                  <a:lnTo>
                    <a:pt x="156" y="132"/>
                  </a:lnTo>
                  <a:lnTo>
                    <a:pt x="156" y="141"/>
                  </a:lnTo>
                  <a:lnTo>
                    <a:pt x="156" y="146"/>
                  </a:lnTo>
                  <a:lnTo>
                    <a:pt x="151" y="151"/>
                  </a:lnTo>
                  <a:lnTo>
                    <a:pt x="146" y="151"/>
                  </a:lnTo>
                  <a:lnTo>
                    <a:pt x="132" y="146"/>
                  </a:lnTo>
                  <a:lnTo>
                    <a:pt x="108" y="151"/>
                  </a:lnTo>
                  <a:lnTo>
                    <a:pt x="99" y="155"/>
                  </a:lnTo>
                  <a:lnTo>
                    <a:pt x="94" y="160"/>
                  </a:lnTo>
                  <a:lnTo>
                    <a:pt x="90" y="169"/>
                  </a:lnTo>
                  <a:lnTo>
                    <a:pt x="94" y="179"/>
                  </a:lnTo>
                  <a:lnTo>
                    <a:pt x="104" y="193"/>
                  </a:lnTo>
                  <a:lnTo>
                    <a:pt x="108" y="198"/>
                  </a:lnTo>
                  <a:lnTo>
                    <a:pt x="71" y="212"/>
                  </a:lnTo>
                  <a:lnTo>
                    <a:pt x="47" y="245"/>
                  </a:lnTo>
                  <a:lnTo>
                    <a:pt x="33" y="287"/>
                  </a:lnTo>
                  <a:lnTo>
                    <a:pt x="28" y="302"/>
                  </a:lnTo>
                  <a:lnTo>
                    <a:pt x="28" y="335"/>
                  </a:lnTo>
                  <a:lnTo>
                    <a:pt x="33" y="382"/>
                  </a:lnTo>
                  <a:lnTo>
                    <a:pt x="33" y="410"/>
                  </a:lnTo>
                  <a:lnTo>
                    <a:pt x="75" y="509"/>
                  </a:lnTo>
                  <a:lnTo>
                    <a:pt x="90" y="505"/>
                  </a:lnTo>
                  <a:lnTo>
                    <a:pt x="127" y="500"/>
                  </a:lnTo>
                  <a:lnTo>
                    <a:pt x="151" y="500"/>
                  </a:lnTo>
                  <a:lnTo>
                    <a:pt x="170" y="490"/>
                  </a:lnTo>
                  <a:lnTo>
                    <a:pt x="184" y="486"/>
                  </a:lnTo>
                  <a:lnTo>
                    <a:pt x="193" y="476"/>
                  </a:lnTo>
                  <a:lnTo>
                    <a:pt x="198" y="467"/>
                  </a:lnTo>
                  <a:lnTo>
                    <a:pt x="208" y="462"/>
                  </a:lnTo>
                  <a:lnTo>
                    <a:pt x="212" y="462"/>
                  </a:lnTo>
                  <a:lnTo>
                    <a:pt x="217" y="462"/>
                  </a:lnTo>
                  <a:lnTo>
                    <a:pt x="227" y="467"/>
                  </a:lnTo>
                  <a:lnTo>
                    <a:pt x="231" y="472"/>
                  </a:lnTo>
                  <a:lnTo>
                    <a:pt x="255" y="448"/>
                  </a:lnTo>
                  <a:lnTo>
                    <a:pt x="302" y="415"/>
                  </a:lnTo>
                  <a:lnTo>
                    <a:pt x="349" y="405"/>
                  </a:lnTo>
                  <a:lnTo>
                    <a:pt x="373" y="405"/>
                  </a:lnTo>
                  <a:lnTo>
                    <a:pt x="382" y="401"/>
                  </a:lnTo>
                  <a:lnTo>
                    <a:pt x="406" y="391"/>
                  </a:lnTo>
                  <a:lnTo>
                    <a:pt x="415" y="382"/>
                  </a:lnTo>
                  <a:lnTo>
                    <a:pt x="425" y="368"/>
                  </a:lnTo>
                  <a:lnTo>
                    <a:pt x="434" y="354"/>
                  </a:lnTo>
                  <a:lnTo>
                    <a:pt x="439" y="335"/>
                  </a:lnTo>
                  <a:lnTo>
                    <a:pt x="444" y="321"/>
                  </a:lnTo>
                  <a:lnTo>
                    <a:pt x="448" y="311"/>
                  </a:lnTo>
                  <a:lnTo>
                    <a:pt x="463" y="306"/>
                  </a:lnTo>
                  <a:lnTo>
                    <a:pt x="472" y="306"/>
                  </a:lnTo>
                  <a:lnTo>
                    <a:pt x="491" y="306"/>
                  </a:lnTo>
                  <a:lnTo>
                    <a:pt x="500" y="311"/>
                  </a:lnTo>
                  <a:lnTo>
                    <a:pt x="581" y="321"/>
                  </a:lnTo>
                  <a:lnTo>
                    <a:pt x="581" y="325"/>
                  </a:lnTo>
                  <a:lnTo>
                    <a:pt x="585" y="339"/>
                  </a:lnTo>
                  <a:lnTo>
                    <a:pt x="590" y="354"/>
                  </a:lnTo>
                  <a:lnTo>
                    <a:pt x="585" y="372"/>
                  </a:lnTo>
                  <a:lnTo>
                    <a:pt x="566" y="401"/>
                  </a:lnTo>
                  <a:lnTo>
                    <a:pt x="562" y="410"/>
                  </a:lnTo>
                  <a:lnTo>
                    <a:pt x="548" y="424"/>
                  </a:lnTo>
                  <a:lnTo>
                    <a:pt x="524" y="453"/>
                  </a:lnTo>
                  <a:lnTo>
                    <a:pt x="519" y="472"/>
                  </a:lnTo>
                  <a:lnTo>
                    <a:pt x="510" y="476"/>
                  </a:lnTo>
                  <a:lnTo>
                    <a:pt x="496" y="486"/>
                  </a:lnTo>
                  <a:lnTo>
                    <a:pt x="467" y="505"/>
                  </a:lnTo>
                  <a:lnTo>
                    <a:pt x="448" y="514"/>
                  </a:lnTo>
                  <a:lnTo>
                    <a:pt x="439" y="523"/>
                  </a:lnTo>
                  <a:lnTo>
                    <a:pt x="439" y="533"/>
                  </a:lnTo>
                  <a:lnTo>
                    <a:pt x="439" y="538"/>
                  </a:lnTo>
                  <a:lnTo>
                    <a:pt x="453" y="552"/>
                  </a:lnTo>
                  <a:lnTo>
                    <a:pt x="463" y="557"/>
                  </a:lnTo>
                  <a:lnTo>
                    <a:pt x="463" y="566"/>
                  </a:lnTo>
                  <a:lnTo>
                    <a:pt x="467" y="59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Freeform 1847"/>
            <p:cNvSpPr/>
            <p:nvPr/>
          </p:nvSpPr>
          <p:spPr>
            <a:xfrm>
              <a:off x="4918320" y="1079280"/>
              <a:ext cx="655200" cy="228960"/>
            </a:xfrm>
            <a:custGeom>
              <a:avLst/>
              <a:gdLst>
                <a:gd name="textAreaLeft" fmla="*/ 0 w 655200"/>
                <a:gd name="textAreaRight" fmla="*/ 655560 w 655200"/>
                <a:gd name="textAreaTop" fmla="*/ 0 h 228960"/>
                <a:gd name="textAreaBottom" fmla="*/ 229320 h 228960"/>
              </a:gdLst>
              <a:ahLst/>
              <a:rect l="textAreaLeft" t="textAreaTop" r="textAreaRight" b="textAreaBottom"/>
              <a:pathLst>
                <a:path w="1119" h="349">
                  <a:moveTo>
                    <a:pt x="0" y="349"/>
                  </a:moveTo>
                  <a:lnTo>
                    <a:pt x="28" y="349"/>
                  </a:lnTo>
                  <a:lnTo>
                    <a:pt x="80" y="349"/>
                  </a:lnTo>
                  <a:lnTo>
                    <a:pt x="151" y="349"/>
                  </a:lnTo>
                  <a:lnTo>
                    <a:pt x="198" y="349"/>
                  </a:lnTo>
                  <a:lnTo>
                    <a:pt x="250" y="335"/>
                  </a:lnTo>
                  <a:lnTo>
                    <a:pt x="325" y="321"/>
                  </a:lnTo>
                  <a:lnTo>
                    <a:pt x="349" y="302"/>
                  </a:lnTo>
                  <a:lnTo>
                    <a:pt x="391" y="279"/>
                  </a:lnTo>
                  <a:lnTo>
                    <a:pt x="443" y="255"/>
                  </a:lnTo>
                  <a:lnTo>
                    <a:pt x="509" y="227"/>
                  </a:lnTo>
                  <a:lnTo>
                    <a:pt x="552" y="208"/>
                  </a:lnTo>
                  <a:lnTo>
                    <a:pt x="604" y="189"/>
                  </a:lnTo>
                  <a:lnTo>
                    <a:pt x="642" y="180"/>
                  </a:lnTo>
                  <a:lnTo>
                    <a:pt x="675" y="170"/>
                  </a:lnTo>
                  <a:lnTo>
                    <a:pt x="698" y="156"/>
                  </a:lnTo>
                  <a:lnTo>
                    <a:pt x="727" y="142"/>
                  </a:lnTo>
                  <a:lnTo>
                    <a:pt x="750" y="128"/>
                  </a:lnTo>
                  <a:lnTo>
                    <a:pt x="764" y="113"/>
                  </a:lnTo>
                  <a:lnTo>
                    <a:pt x="779" y="104"/>
                  </a:lnTo>
                  <a:lnTo>
                    <a:pt x="807" y="99"/>
                  </a:lnTo>
                  <a:lnTo>
                    <a:pt x="835" y="99"/>
                  </a:lnTo>
                  <a:lnTo>
                    <a:pt x="859" y="95"/>
                  </a:lnTo>
                  <a:lnTo>
                    <a:pt x="878" y="90"/>
                  </a:lnTo>
                  <a:lnTo>
                    <a:pt x="915" y="80"/>
                  </a:lnTo>
                  <a:lnTo>
                    <a:pt x="967" y="52"/>
                  </a:lnTo>
                  <a:lnTo>
                    <a:pt x="1000" y="28"/>
                  </a:lnTo>
                  <a:lnTo>
                    <a:pt x="1019" y="19"/>
                  </a:lnTo>
                  <a:lnTo>
                    <a:pt x="1043" y="5"/>
                  </a:lnTo>
                  <a:lnTo>
                    <a:pt x="1052" y="0"/>
                  </a:lnTo>
                  <a:lnTo>
                    <a:pt x="1057" y="0"/>
                  </a:lnTo>
                  <a:lnTo>
                    <a:pt x="1062" y="0"/>
                  </a:lnTo>
                  <a:lnTo>
                    <a:pt x="1062" y="10"/>
                  </a:lnTo>
                  <a:lnTo>
                    <a:pt x="1062" y="52"/>
                  </a:lnTo>
                  <a:lnTo>
                    <a:pt x="1057" y="80"/>
                  </a:lnTo>
                  <a:lnTo>
                    <a:pt x="1071" y="85"/>
                  </a:lnTo>
                  <a:lnTo>
                    <a:pt x="1100" y="99"/>
                  </a:lnTo>
                  <a:lnTo>
                    <a:pt x="1114" y="109"/>
                  </a:lnTo>
                  <a:lnTo>
                    <a:pt x="1119" y="118"/>
                  </a:lnTo>
                  <a:lnTo>
                    <a:pt x="1119" y="128"/>
                  </a:lnTo>
                  <a:lnTo>
                    <a:pt x="1114" y="132"/>
                  </a:lnTo>
                  <a:lnTo>
                    <a:pt x="1062" y="128"/>
                  </a:lnTo>
                  <a:lnTo>
                    <a:pt x="1005" y="128"/>
                  </a:lnTo>
                  <a:lnTo>
                    <a:pt x="949" y="151"/>
                  </a:lnTo>
                  <a:lnTo>
                    <a:pt x="887" y="170"/>
                  </a:lnTo>
                  <a:lnTo>
                    <a:pt x="864" y="170"/>
                  </a:lnTo>
                  <a:lnTo>
                    <a:pt x="849" y="170"/>
                  </a:lnTo>
                  <a:lnTo>
                    <a:pt x="826" y="175"/>
                  </a:lnTo>
                  <a:lnTo>
                    <a:pt x="769" y="198"/>
                  </a:lnTo>
                  <a:lnTo>
                    <a:pt x="698" y="217"/>
                  </a:lnTo>
                  <a:lnTo>
                    <a:pt x="646" y="231"/>
                  </a:lnTo>
                  <a:lnTo>
                    <a:pt x="604" y="236"/>
                  </a:lnTo>
                  <a:lnTo>
                    <a:pt x="576" y="246"/>
                  </a:lnTo>
                  <a:lnTo>
                    <a:pt x="519" y="260"/>
                  </a:lnTo>
                  <a:lnTo>
                    <a:pt x="472" y="283"/>
                  </a:lnTo>
                  <a:lnTo>
                    <a:pt x="462" y="293"/>
                  </a:lnTo>
                  <a:lnTo>
                    <a:pt x="453" y="302"/>
                  </a:lnTo>
                  <a:lnTo>
                    <a:pt x="443" y="307"/>
                  </a:lnTo>
                  <a:lnTo>
                    <a:pt x="429" y="307"/>
                  </a:lnTo>
                  <a:lnTo>
                    <a:pt x="387" y="302"/>
                  </a:lnTo>
                  <a:lnTo>
                    <a:pt x="363" y="29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Freeform 1848"/>
            <p:cNvSpPr/>
            <p:nvPr/>
          </p:nvSpPr>
          <p:spPr>
            <a:xfrm>
              <a:off x="4616640" y="2319480"/>
              <a:ext cx="85680" cy="716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146" h="109">
                  <a:moveTo>
                    <a:pt x="71" y="28"/>
                  </a:moveTo>
                  <a:lnTo>
                    <a:pt x="38" y="47"/>
                  </a:lnTo>
                  <a:lnTo>
                    <a:pt x="33" y="43"/>
                  </a:lnTo>
                  <a:lnTo>
                    <a:pt x="19" y="43"/>
                  </a:lnTo>
                  <a:lnTo>
                    <a:pt x="14" y="43"/>
                  </a:lnTo>
                  <a:lnTo>
                    <a:pt x="5" y="47"/>
                  </a:lnTo>
                  <a:lnTo>
                    <a:pt x="0" y="52"/>
                  </a:lnTo>
                  <a:lnTo>
                    <a:pt x="0" y="57"/>
                  </a:lnTo>
                  <a:lnTo>
                    <a:pt x="0" y="80"/>
                  </a:lnTo>
                  <a:lnTo>
                    <a:pt x="0" y="99"/>
                  </a:lnTo>
                  <a:lnTo>
                    <a:pt x="5" y="104"/>
                  </a:lnTo>
                  <a:lnTo>
                    <a:pt x="9" y="109"/>
                  </a:lnTo>
                  <a:lnTo>
                    <a:pt x="14" y="109"/>
                  </a:lnTo>
                  <a:lnTo>
                    <a:pt x="24" y="109"/>
                  </a:lnTo>
                  <a:lnTo>
                    <a:pt x="52" y="80"/>
                  </a:lnTo>
                  <a:lnTo>
                    <a:pt x="76" y="66"/>
                  </a:lnTo>
                  <a:lnTo>
                    <a:pt x="99" y="57"/>
                  </a:lnTo>
                  <a:lnTo>
                    <a:pt x="118" y="52"/>
                  </a:lnTo>
                  <a:lnTo>
                    <a:pt x="123" y="47"/>
                  </a:lnTo>
                  <a:lnTo>
                    <a:pt x="137" y="33"/>
                  </a:lnTo>
                  <a:lnTo>
                    <a:pt x="142" y="19"/>
                  </a:lnTo>
                  <a:lnTo>
                    <a:pt x="146" y="5"/>
                  </a:lnTo>
                  <a:lnTo>
                    <a:pt x="146" y="0"/>
                  </a:lnTo>
                  <a:lnTo>
                    <a:pt x="142" y="0"/>
                  </a:lnTo>
                  <a:lnTo>
                    <a:pt x="137" y="0"/>
                  </a:lnTo>
                  <a:lnTo>
                    <a:pt x="113" y="10"/>
                  </a:lnTo>
                  <a:lnTo>
                    <a:pt x="99" y="14"/>
                  </a:lnTo>
                  <a:lnTo>
                    <a:pt x="85" y="24"/>
                  </a:lnTo>
                  <a:lnTo>
                    <a:pt x="71" y="2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1849"/>
            <p:cNvSpPr/>
            <p:nvPr/>
          </p:nvSpPr>
          <p:spPr>
            <a:xfrm>
              <a:off x="4431960" y="2315520"/>
              <a:ext cx="88200" cy="6264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51" h="95">
                  <a:moveTo>
                    <a:pt x="47" y="38"/>
                  </a:moveTo>
                  <a:lnTo>
                    <a:pt x="70" y="33"/>
                  </a:lnTo>
                  <a:lnTo>
                    <a:pt x="89" y="24"/>
                  </a:lnTo>
                  <a:lnTo>
                    <a:pt x="118" y="10"/>
                  </a:lnTo>
                  <a:lnTo>
                    <a:pt x="132" y="0"/>
                  </a:lnTo>
                  <a:lnTo>
                    <a:pt x="137" y="0"/>
                  </a:lnTo>
                  <a:lnTo>
                    <a:pt x="146" y="5"/>
                  </a:lnTo>
                  <a:lnTo>
                    <a:pt x="151" y="5"/>
                  </a:lnTo>
                  <a:lnTo>
                    <a:pt x="151" y="10"/>
                  </a:lnTo>
                  <a:lnTo>
                    <a:pt x="151" y="15"/>
                  </a:lnTo>
                  <a:lnTo>
                    <a:pt x="146" y="24"/>
                  </a:lnTo>
                  <a:lnTo>
                    <a:pt x="108" y="48"/>
                  </a:lnTo>
                  <a:lnTo>
                    <a:pt x="75" y="66"/>
                  </a:lnTo>
                  <a:lnTo>
                    <a:pt x="42" y="85"/>
                  </a:lnTo>
                  <a:lnTo>
                    <a:pt x="23" y="95"/>
                  </a:lnTo>
                  <a:lnTo>
                    <a:pt x="0" y="81"/>
                  </a:lnTo>
                  <a:lnTo>
                    <a:pt x="4" y="62"/>
                  </a:lnTo>
                  <a:lnTo>
                    <a:pt x="23" y="48"/>
                  </a:lnTo>
                  <a:lnTo>
                    <a:pt x="47" y="3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1850"/>
            <p:cNvSpPr/>
            <p:nvPr/>
          </p:nvSpPr>
          <p:spPr>
            <a:xfrm>
              <a:off x="4451040" y="2247840"/>
              <a:ext cx="60840" cy="41400"/>
            </a:xfrm>
            <a:custGeom>
              <a:avLst/>
              <a:gdLst>
                <a:gd name="textAreaLeft" fmla="*/ 0 w 60840"/>
                <a:gd name="textAreaRight" fmla="*/ 61200 w 6084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104" h="61">
                  <a:moveTo>
                    <a:pt x="0" y="33"/>
                  </a:moveTo>
                  <a:lnTo>
                    <a:pt x="0" y="33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14" y="14"/>
                  </a:lnTo>
                  <a:lnTo>
                    <a:pt x="28" y="4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71" y="9"/>
                  </a:lnTo>
                  <a:lnTo>
                    <a:pt x="85" y="9"/>
                  </a:lnTo>
                  <a:lnTo>
                    <a:pt x="99" y="14"/>
                  </a:lnTo>
                  <a:lnTo>
                    <a:pt x="104" y="23"/>
                  </a:lnTo>
                  <a:lnTo>
                    <a:pt x="80" y="51"/>
                  </a:lnTo>
                  <a:lnTo>
                    <a:pt x="61" y="61"/>
                  </a:lnTo>
                  <a:lnTo>
                    <a:pt x="14" y="56"/>
                  </a:lnTo>
                  <a:lnTo>
                    <a:pt x="4" y="42"/>
                  </a:lnTo>
                  <a:lnTo>
                    <a:pt x="0" y="3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1851"/>
            <p:cNvSpPr/>
            <p:nvPr/>
          </p:nvSpPr>
          <p:spPr>
            <a:xfrm>
              <a:off x="4107960" y="2778480"/>
              <a:ext cx="77400" cy="198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32" h="302">
                  <a:moveTo>
                    <a:pt x="57" y="273"/>
                  </a:moveTo>
                  <a:lnTo>
                    <a:pt x="71" y="278"/>
                  </a:lnTo>
                  <a:lnTo>
                    <a:pt x="95" y="288"/>
                  </a:lnTo>
                  <a:lnTo>
                    <a:pt x="109" y="297"/>
                  </a:lnTo>
                  <a:lnTo>
                    <a:pt x="118" y="302"/>
                  </a:lnTo>
                  <a:lnTo>
                    <a:pt x="123" y="302"/>
                  </a:lnTo>
                  <a:lnTo>
                    <a:pt x="128" y="302"/>
                  </a:lnTo>
                  <a:lnTo>
                    <a:pt x="128" y="297"/>
                  </a:lnTo>
                  <a:lnTo>
                    <a:pt x="128" y="288"/>
                  </a:lnTo>
                  <a:lnTo>
                    <a:pt x="123" y="245"/>
                  </a:lnTo>
                  <a:lnTo>
                    <a:pt x="109" y="217"/>
                  </a:lnTo>
                  <a:lnTo>
                    <a:pt x="99" y="207"/>
                  </a:lnTo>
                  <a:lnTo>
                    <a:pt x="90" y="198"/>
                  </a:lnTo>
                  <a:lnTo>
                    <a:pt x="85" y="193"/>
                  </a:lnTo>
                  <a:lnTo>
                    <a:pt x="85" y="188"/>
                  </a:lnTo>
                  <a:lnTo>
                    <a:pt x="95" y="184"/>
                  </a:lnTo>
                  <a:lnTo>
                    <a:pt x="123" y="165"/>
                  </a:lnTo>
                  <a:lnTo>
                    <a:pt x="132" y="155"/>
                  </a:lnTo>
                  <a:lnTo>
                    <a:pt x="128" y="151"/>
                  </a:lnTo>
                  <a:lnTo>
                    <a:pt x="114" y="146"/>
                  </a:lnTo>
                  <a:lnTo>
                    <a:pt x="99" y="137"/>
                  </a:lnTo>
                  <a:lnTo>
                    <a:pt x="95" y="122"/>
                  </a:lnTo>
                  <a:lnTo>
                    <a:pt x="104" y="99"/>
                  </a:lnTo>
                  <a:lnTo>
                    <a:pt x="114" y="75"/>
                  </a:lnTo>
                  <a:lnTo>
                    <a:pt x="118" y="33"/>
                  </a:lnTo>
                  <a:lnTo>
                    <a:pt x="114" y="0"/>
                  </a:lnTo>
                  <a:lnTo>
                    <a:pt x="109" y="4"/>
                  </a:lnTo>
                  <a:lnTo>
                    <a:pt x="90" y="4"/>
                  </a:lnTo>
                  <a:lnTo>
                    <a:pt x="76" y="14"/>
                  </a:lnTo>
                  <a:lnTo>
                    <a:pt x="66" y="23"/>
                  </a:lnTo>
                  <a:lnTo>
                    <a:pt x="38" y="28"/>
                  </a:lnTo>
                  <a:lnTo>
                    <a:pt x="14" y="33"/>
                  </a:lnTo>
                  <a:lnTo>
                    <a:pt x="10" y="47"/>
                  </a:lnTo>
                  <a:lnTo>
                    <a:pt x="10" y="61"/>
                  </a:lnTo>
                  <a:lnTo>
                    <a:pt x="19" y="75"/>
                  </a:lnTo>
                  <a:lnTo>
                    <a:pt x="33" y="94"/>
                  </a:lnTo>
                  <a:lnTo>
                    <a:pt x="47" y="113"/>
                  </a:lnTo>
                  <a:lnTo>
                    <a:pt x="62" y="137"/>
                  </a:lnTo>
                  <a:lnTo>
                    <a:pt x="66" y="146"/>
                  </a:lnTo>
                  <a:lnTo>
                    <a:pt x="66" y="155"/>
                  </a:lnTo>
                  <a:lnTo>
                    <a:pt x="62" y="165"/>
                  </a:lnTo>
                  <a:lnTo>
                    <a:pt x="52" y="170"/>
                  </a:lnTo>
                  <a:lnTo>
                    <a:pt x="33" y="174"/>
                  </a:lnTo>
                  <a:lnTo>
                    <a:pt x="14" y="170"/>
                  </a:lnTo>
                  <a:lnTo>
                    <a:pt x="10" y="170"/>
                  </a:lnTo>
                  <a:lnTo>
                    <a:pt x="5" y="174"/>
                  </a:lnTo>
                  <a:lnTo>
                    <a:pt x="0" y="179"/>
                  </a:lnTo>
                  <a:lnTo>
                    <a:pt x="0" y="188"/>
                  </a:lnTo>
                  <a:lnTo>
                    <a:pt x="0" y="212"/>
                  </a:lnTo>
                  <a:lnTo>
                    <a:pt x="5" y="231"/>
                  </a:lnTo>
                  <a:lnTo>
                    <a:pt x="10" y="245"/>
                  </a:lnTo>
                  <a:lnTo>
                    <a:pt x="19" y="255"/>
                  </a:lnTo>
                  <a:lnTo>
                    <a:pt x="43" y="269"/>
                  </a:lnTo>
                  <a:lnTo>
                    <a:pt x="57" y="273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1852"/>
            <p:cNvSpPr/>
            <p:nvPr/>
          </p:nvSpPr>
          <p:spPr>
            <a:xfrm>
              <a:off x="4008240" y="2951640"/>
              <a:ext cx="124920" cy="394200"/>
            </a:xfrm>
            <a:custGeom>
              <a:avLst/>
              <a:gdLst>
                <a:gd name="textAreaLeft" fmla="*/ 0 w 124920"/>
                <a:gd name="textAreaRight" fmla="*/ 125280 w 124920"/>
                <a:gd name="textAreaTop" fmla="*/ 0 h 394200"/>
                <a:gd name="textAreaBottom" fmla="*/ 394560 h 394200"/>
              </a:gdLst>
              <a:ahLst/>
              <a:rect l="textAreaLeft" t="textAreaTop" r="textAreaRight" b="textAreaBottom"/>
              <a:pathLst>
                <a:path w="213" h="599">
                  <a:moveTo>
                    <a:pt x="175" y="599"/>
                  </a:moveTo>
                  <a:lnTo>
                    <a:pt x="142" y="576"/>
                  </a:lnTo>
                  <a:lnTo>
                    <a:pt x="109" y="543"/>
                  </a:lnTo>
                  <a:lnTo>
                    <a:pt x="85" y="524"/>
                  </a:lnTo>
                  <a:lnTo>
                    <a:pt x="48" y="505"/>
                  </a:lnTo>
                  <a:lnTo>
                    <a:pt x="24" y="486"/>
                  </a:lnTo>
                  <a:lnTo>
                    <a:pt x="5" y="472"/>
                  </a:lnTo>
                  <a:lnTo>
                    <a:pt x="0" y="463"/>
                  </a:lnTo>
                  <a:lnTo>
                    <a:pt x="5" y="453"/>
                  </a:lnTo>
                  <a:lnTo>
                    <a:pt x="10" y="444"/>
                  </a:lnTo>
                  <a:lnTo>
                    <a:pt x="24" y="434"/>
                  </a:lnTo>
                  <a:lnTo>
                    <a:pt x="52" y="415"/>
                  </a:lnTo>
                  <a:lnTo>
                    <a:pt x="71" y="401"/>
                  </a:lnTo>
                  <a:lnTo>
                    <a:pt x="85" y="392"/>
                  </a:lnTo>
                  <a:lnTo>
                    <a:pt x="95" y="373"/>
                  </a:lnTo>
                  <a:lnTo>
                    <a:pt x="104" y="349"/>
                  </a:lnTo>
                  <a:lnTo>
                    <a:pt x="114" y="316"/>
                  </a:lnTo>
                  <a:lnTo>
                    <a:pt x="123" y="283"/>
                  </a:lnTo>
                  <a:lnTo>
                    <a:pt x="123" y="255"/>
                  </a:lnTo>
                  <a:lnTo>
                    <a:pt x="123" y="241"/>
                  </a:lnTo>
                  <a:lnTo>
                    <a:pt x="118" y="227"/>
                  </a:lnTo>
                  <a:lnTo>
                    <a:pt x="114" y="212"/>
                  </a:lnTo>
                  <a:lnTo>
                    <a:pt x="118" y="193"/>
                  </a:lnTo>
                  <a:lnTo>
                    <a:pt x="123" y="175"/>
                  </a:lnTo>
                  <a:lnTo>
                    <a:pt x="128" y="160"/>
                  </a:lnTo>
                  <a:lnTo>
                    <a:pt x="133" y="151"/>
                  </a:lnTo>
                  <a:lnTo>
                    <a:pt x="147" y="132"/>
                  </a:lnTo>
                  <a:lnTo>
                    <a:pt x="166" y="113"/>
                  </a:lnTo>
                  <a:lnTo>
                    <a:pt x="184" y="99"/>
                  </a:lnTo>
                  <a:lnTo>
                    <a:pt x="194" y="85"/>
                  </a:lnTo>
                  <a:lnTo>
                    <a:pt x="194" y="71"/>
                  </a:lnTo>
                  <a:lnTo>
                    <a:pt x="203" y="28"/>
                  </a:lnTo>
                  <a:lnTo>
                    <a:pt x="213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1853"/>
            <p:cNvSpPr/>
            <p:nvPr/>
          </p:nvSpPr>
          <p:spPr>
            <a:xfrm>
              <a:off x="4116240" y="2409120"/>
              <a:ext cx="508320" cy="387000"/>
            </a:xfrm>
            <a:custGeom>
              <a:avLst/>
              <a:gdLst>
                <a:gd name="textAreaLeft" fmla="*/ 0 w 508320"/>
                <a:gd name="textAreaRight" fmla="*/ 508680 w 508320"/>
                <a:gd name="textAreaTop" fmla="*/ 0 h 387000"/>
                <a:gd name="textAreaBottom" fmla="*/ 387360 h 387000"/>
              </a:gdLst>
              <a:ahLst/>
              <a:rect l="textAreaLeft" t="textAreaTop" r="textAreaRight" b="textAreaBottom"/>
              <a:pathLst>
                <a:path w="869" h="590">
                  <a:moveTo>
                    <a:pt x="48" y="590"/>
                  </a:moveTo>
                  <a:lnTo>
                    <a:pt x="43" y="576"/>
                  </a:lnTo>
                  <a:lnTo>
                    <a:pt x="43" y="557"/>
                  </a:lnTo>
                  <a:lnTo>
                    <a:pt x="38" y="538"/>
                  </a:lnTo>
                  <a:lnTo>
                    <a:pt x="29" y="524"/>
                  </a:lnTo>
                  <a:lnTo>
                    <a:pt x="19" y="514"/>
                  </a:lnTo>
                  <a:lnTo>
                    <a:pt x="10" y="505"/>
                  </a:lnTo>
                  <a:lnTo>
                    <a:pt x="10" y="500"/>
                  </a:lnTo>
                  <a:lnTo>
                    <a:pt x="10" y="496"/>
                  </a:lnTo>
                  <a:lnTo>
                    <a:pt x="19" y="496"/>
                  </a:lnTo>
                  <a:lnTo>
                    <a:pt x="29" y="491"/>
                  </a:lnTo>
                  <a:lnTo>
                    <a:pt x="38" y="491"/>
                  </a:lnTo>
                  <a:lnTo>
                    <a:pt x="38" y="481"/>
                  </a:lnTo>
                  <a:lnTo>
                    <a:pt x="43" y="467"/>
                  </a:lnTo>
                  <a:lnTo>
                    <a:pt x="43" y="434"/>
                  </a:lnTo>
                  <a:lnTo>
                    <a:pt x="48" y="406"/>
                  </a:lnTo>
                  <a:lnTo>
                    <a:pt x="48" y="392"/>
                  </a:lnTo>
                  <a:lnTo>
                    <a:pt x="43" y="382"/>
                  </a:lnTo>
                  <a:lnTo>
                    <a:pt x="33" y="368"/>
                  </a:lnTo>
                  <a:lnTo>
                    <a:pt x="19" y="349"/>
                  </a:lnTo>
                  <a:lnTo>
                    <a:pt x="10" y="326"/>
                  </a:lnTo>
                  <a:lnTo>
                    <a:pt x="0" y="307"/>
                  </a:lnTo>
                  <a:lnTo>
                    <a:pt x="0" y="288"/>
                  </a:lnTo>
                  <a:lnTo>
                    <a:pt x="5" y="274"/>
                  </a:lnTo>
                  <a:lnTo>
                    <a:pt x="15" y="250"/>
                  </a:lnTo>
                  <a:lnTo>
                    <a:pt x="38" y="222"/>
                  </a:lnTo>
                  <a:lnTo>
                    <a:pt x="57" y="165"/>
                  </a:lnTo>
                  <a:lnTo>
                    <a:pt x="71" y="118"/>
                  </a:lnTo>
                  <a:lnTo>
                    <a:pt x="109" y="113"/>
                  </a:lnTo>
                  <a:lnTo>
                    <a:pt x="133" y="113"/>
                  </a:lnTo>
                  <a:lnTo>
                    <a:pt x="137" y="109"/>
                  </a:lnTo>
                  <a:lnTo>
                    <a:pt x="152" y="104"/>
                  </a:lnTo>
                  <a:lnTo>
                    <a:pt x="175" y="109"/>
                  </a:lnTo>
                  <a:lnTo>
                    <a:pt x="203" y="123"/>
                  </a:lnTo>
                  <a:lnTo>
                    <a:pt x="222" y="142"/>
                  </a:lnTo>
                  <a:lnTo>
                    <a:pt x="232" y="151"/>
                  </a:lnTo>
                  <a:lnTo>
                    <a:pt x="246" y="151"/>
                  </a:lnTo>
                  <a:lnTo>
                    <a:pt x="274" y="146"/>
                  </a:lnTo>
                  <a:lnTo>
                    <a:pt x="340" y="109"/>
                  </a:lnTo>
                  <a:lnTo>
                    <a:pt x="378" y="80"/>
                  </a:lnTo>
                  <a:lnTo>
                    <a:pt x="421" y="80"/>
                  </a:lnTo>
                  <a:lnTo>
                    <a:pt x="477" y="90"/>
                  </a:lnTo>
                  <a:lnTo>
                    <a:pt x="529" y="99"/>
                  </a:lnTo>
                  <a:lnTo>
                    <a:pt x="558" y="99"/>
                  </a:lnTo>
                  <a:lnTo>
                    <a:pt x="619" y="85"/>
                  </a:lnTo>
                  <a:lnTo>
                    <a:pt x="690" y="61"/>
                  </a:lnTo>
                  <a:lnTo>
                    <a:pt x="723" y="47"/>
                  </a:lnTo>
                  <a:lnTo>
                    <a:pt x="751" y="33"/>
                  </a:lnTo>
                  <a:lnTo>
                    <a:pt x="789" y="19"/>
                  </a:lnTo>
                  <a:lnTo>
                    <a:pt x="812" y="9"/>
                  </a:lnTo>
                  <a:lnTo>
                    <a:pt x="869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1854"/>
            <p:cNvSpPr/>
            <p:nvPr/>
          </p:nvSpPr>
          <p:spPr>
            <a:xfrm>
              <a:off x="4102920" y="2741040"/>
              <a:ext cx="618480" cy="597600"/>
            </a:xfrm>
            <a:custGeom>
              <a:avLst/>
              <a:gdLst>
                <a:gd name="textAreaLeft" fmla="*/ 0 w 618480"/>
                <a:gd name="textAreaRight" fmla="*/ 618840 w 618480"/>
                <a:gd name="textAreaTop" fmla="*/ 0 h 597600"/>
                <a:gd name="textAreaBottom" fmla="*/ 597960 h 597600"/>
              </a:gdLst>
              <a:ahLst/>
              <a:rect l="textAreaLeft" t="textAreaTop" r="textAreaRight" b="textAreaBottom"/>
              <a:pathLst>
                <a:path w="1057" h="911">
                  <a:moveTo>
                    <a:pt x="0" y="911"/>
                  </a:moveTo>
                  <a:lnTo>
                    <a:pt x="42" y="878"/>
                  </a:lnTo>
                  <a:lnTo>
                    <a:pt x="61" y="864"/>
                  </a:lnTo>
                  <a:lnTo>
                    <a:pt x="75" y="854"/>
                  </a:lnTo>
                  <a:lnTo>
                    <a:pt x="108" y="831"/>
                  </a:lnTo>
                  <a:lnTo>
                    <a:pt x="132" y="821"/>
                  </a:lnTo>
                  <a:lnTo>
                    <a:pt x="151" y="812"/>
                  </a:lnTo>
                  <a:lnTo>
                    <a:pt x="175" y="807"/>
                  </a:lnTo>
                  <a:lnTo>
                    <a:pt x="189" y="802"/>
                  </a:lnTo>
                  <a:lnTo>
                    <a:pt x="226" y="807"/>
                  </a:lnTo>
                  <a:lnTo>
                    <a:pt x="260" y="807"/>
                  </a:lnTo>
                  <a:lnTo>
                    <a:pt x="278" y="817"/>
                  </a:lnTo>
                  <a:lnTo>
                    <a:pt x="283" y="821"/>
                  </a:lnTo>
                  <a:lnTo>
                    <a:pt x="293" y="821"/>
                  </a:lnTo>
                  <a:lnTo>
                    <a:pt x="311" y="817"/>
                  </a:lnTo>
                  <a:lnTo>
                    <a:pt x="340" y="802"/>
                  </a:lnTo>
                  <a:lnTo>
                    <a:pt x="363" y="784"/>
                  </a:lnTo>
                  <a:lnTo>
                    <a:pt x="382" y="769"/>
                  </a:lnTo>
                  <a:lnTo>
                    <a:pt x="392" y="746"/>
                  </a:lnTo>
                  <a:lnTo>
                    <a:pt x="401" y="722"/>
                  </a:lnTo>
                  <a:lnTo>
                    <a:pt x="411" y="703"/>
                  </a:lnTo>
                  <a:lnTo>
                    <a:pt x="429" y="684"/>
                  </a:lnTo>
                  <a:lnTo>
                    <a:pt x="453" y="666"/>
                  </a:lnTo>
                  <a:lnTo>
                    <a:pt x="472" y="647"/>
                  </a:lnTo>
                  <a:lnTo>
                    <a:pt x="491" y="628"/>
                  </a:lnTo>
                  <a:lnTo>
                    <a:pt x="514" y="614"/>
                  </a:lnTo>
                  <a:lnTo>
                    <a:pt x="552" y="599"/>
                  </a:lnTo>
                  <a:lnTo>
                    <a:pt x="599" y="595"/>
                  </a:lnTo>
                  <a:lnTo>
                    <a:pt x="637" y="590"/>
                  </a:lnTo>
                  <a:lnTo>
                    <a:pt x="656" y="585"/>
                  </a:lnTo>
                  <a:lnTo>
                    <a:pt x="666" y="581"/>
                  </a:lnTo>
                  <a:lnTo>
                    <a:pt x="680" y="571"/>
                  </a:lnTo>
                  <a:lnTo>
                    <a:pt x="689" y="562"/>
                  </a:lnTo>
                  <a:lnTo>
                    <a:pt x="713" y="514"/>
                  </a:lnTo>
                  <a:lnTo>
                    <a:pt x="717" y="496"/>
                  </a:lnTo>
                  <a:lnTo>
                    <a:pt x="717" y="472"/>
                  </a:lnTo>
                  <a:lnTo>
                    <a:pt x="732" y="430"/>
                  </a:lnTo>
                  <a:lnTo>
                    <a:pt x="751" y="392"/>
                  </a:lnTo>
                  <a:lnTo>
                    <a:pt x="788" y="340"/>
                  </a:lnTo>
                  <a:lnTo>
                    <a:pt x="817" y="293"/>
                  </a:lnTo>
                  <a:lnTo>
                    <a:pt x="831" y="269"/>
                  </a:lnTo>
                  <a:lnTo>
                    <a:pt x="873" y="198"/>
                  </a:lnTo>
                  <a:lnTo>
                    <a:pt x="939" y="175"/>
                  </a:lnTo>
                  <a:lnTo>
                    <a:pt x="996" y="146"/>
                  </a:lnTo>
                  <a:lnTo>
                    <a:pt x="1057" y="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1855"/>
            <p:cNvSpPr/>
            <p:nvPr/>
          </p:nvSpPr>
          <p:spPr>
            <a:xfrm>
              <a:off x="3754080" y="5254200"/>
              <a:ext cx="138240" cy="32832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28320"/>
                <a:gd name="textAreaBottom" fmla="*/ 328680 h 328320"/>
              </a:gdLst>
              <a:ahLst/>
              <a:rect l="textAreaLeft" t="textAreaTop" r="textAreaRight" b="textAreaBottom"/>
              <a:pathLst>
                <a:path w="236" h="500">
                  <a:moveTo>
                    <a:pt x="227" y="0"/>
                  </a:moveTo>
                  <a:lnTo>
                    <a:pt x="203" y="47"/>
                  </a:lnTo>
                  <a:lnTo>
                    <a:pt x="198" y="52"/>
                  </a:lnTo>
                  <a:lnTo>
                    <a:pt x="189" y="56"/>
                  </a:lnTo>
                  <a:lnTo>
                    <a:pt x="184" y="66"/>
                  </a:lnTo>
                  <a:lnTo>
                    <a:pt x="184" y="71"/>
                  </a:lnTo>
                  <a:lnTo>
                    <a:pt x="184" y="75"/>
                  </a:lnTo>
                  <a:lnTo>
                    <a:pt x="194" y="80"/>
                  </a:lnTo>
                  <a:lnTo>
                    <a:pt x="217" y="85"/>
                  </a:lnTo>
                  <a:lnTo>
                    <a:pt x="231" y="85"/>
                  </a:lnTo>
                  <a:lnTo>
                    <a:pt x="236" y="89"/>
                  </a:lnTo>
                  <a:lnTo>
                    <a:pt x="236" y="94"/>
                  </a:lnTo>
                  <a:lnTo>
                    <a:pt x="227" y="104"/>
                  </a:lnTo>
                  <a:lnTo>
                    <a:pt x="194" y="127"/>
                  </a:lnTo>
                  <a:lnTo>
                    <a:pt x="160" y="146"/>
                  </a:lnTo>
                  <a:lnTo>
                    <a:pt x="127" y="170"/>
                  </a:lnTo>
                  <a:lnTo>
                    <a:pt x="104" y="189"/>
                  </a:lnTo>
                  <a:lnTo>
                    <a:pt x="94" y="198"/>
                  </a:lnTo>
                  <a:lnTo>
                    <a:pt x="85" y="198"/>
                  </a:lnTo>
                  <a:lnTo>
                    <a:pt x="80" y="203"/>
                  </a:lnTo>
                  <a:lnTo>
                    <a:pt x="76" y="212"/>
                  </a:lnTo>
                  <a:lnTo>
                    <a:pt x="80" y="222"/>
                  </a:lnTo>
                  <a:lnTo>
                    <a:pt x="85" y="245"/>
                  </a:lnTo>
                  <a:lnTo>
                    <a:pt x="85" y="264"/>
                  </a:lnTo>
                  <a:lnTo>
                    <a:pt x="80" y="274"/>
                  </a:lnTo>
                  <a:lnTo>
                    <a:pt x="71" y="283"/>
                  </a:lnTo>
                  <a:lnTo>
                    <a:pt x="52" y="292"/>
                  </a:lnTo>
                  <a:lnTo>
                    <a:pt x="33" y="307"/>
                  </a:lnTo>
                  <a:lnTo>
                    <a:pt x="14" y="325"/>
                  </a:lnTo>
                  <a:lnTo>
                    <a:pt x="9" y="344"/>
                  </a:lnTo>
                  <a:lnTo>
                    <a:pt x="5" y="377"/>
                  </a:lnTo>
                  <a:lnTo>
                    <a:pt x="0" y="420"/>
                  </a:lnTo>
                  <a:lnTo>
                    <a:pt x="5" y="458"/>
                  </a:lnTo>
                  <a:lnTo>
                    <a:pt x="5" y="50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1856"/>
            <p:cNvSpPr/>
            <p:nvPr/>
          </p:nvSpPr>
          <p:spPr>
            <a:xfrm>
              <a:off x="2673360" y="5250960"/>
              <a:ext cx="187920" cy="607320"/>
            </a:xfrm>
            <a:custGeom>
              <a:avLst/>
              <a:gdLst>
                <a:gd name="textAreaLeft" fmla="*/ 0 w 187920"/>
                <a:gd name="textAreaRight" fmla="*/ 188280 w 187920"/>
                <a:gd name="textAreaTop" fmla="*/ 0 h 607320"/>
                <a:gd name="textAreaBottom" fmla="*/ 607680 h 607320"/>
              </a:gdLst>
              <a:ahLst/>
              <a:rect l="textAreaLeft" t="textAreaTop" r="textAreaRight" b="textAreaBottom"/>
              <a:pathLst>
                <a:path w="321" h="925">
                  <a:moveTo>
                    <a:pt x="142" y="0"/>
                  </a:moveTo>
                  <a:lnTo>
                    <a:pt x="137" y="10"/>
                  </a:lnTo>
                  <a:lnTo>
                    <a:pt x="127" y="24"/>
                  </a:lnTo>
                  <a:lnTo>
                    <a:pt x="123" y="28"/>
                  </a:lnTo>
                  <a:lnTo>
                    <a:pt x="123" y="33"/>
                  </a:lnTo>
                  <a:lnTo>
                    <a:pt x="127" y="38"/>
                  </a:lnTo>
                  <a:lnTo>
                    <a:pt x="132" y="43"/>
                  </a:lnTo>
                  <a:lnTo>
                    <a:pt x="161" y="43"/>
                  </a:lnTo>
                  <a:lnTo>
                    <a:pt x="189" y="43"/>
                  </a:lnTo>
                  <a:lnTo>
                    <a:pt x="198" y="38"/>
                  </a:lnTo>
                  <a:lnTo>
                    <a:pt x="208" y="43"/>
                  </a:lnTo>
                  <a:lnTo>
                    <a:pt x="208" y="47"/>
                  </a:lnTo>
                  <a:lnTo>
                    <a:pt x="198" y="57"/>
                  </a:lnTo>
                  <a:lnTo>
                    <a:pt x="170" y="80"/>
                  </a:lnTo>
                  <a:lnTo>
                    <a:pt x="142" y="94"/>
                  </a:lnTo>
                  <a:lnTo>
                    <a:pt x="132" y="99"/>
                  </a:lnTo>
                  <a:lnTo>
                    <a:pt x="127" y="109"/>
                  </a:lnTo>
                  <a:lnTo>
                    <a:pt x="127" y="118"/>
                  </a:lnTo>
                  <a:lnTo>
                    <a:pt x="132" y="132"/>
                  </a:lnTo>
                  <a:lnTo>
                    <a:pt x="165" y="184"/>
                  </a:lnTo>
                  <a:lnTo>
                    <a:pt x="184" y="227"/>
                  </a:lnTo>
                  <a:lnTo>
                    <a:pt x="194" y="250"/>
                  </a:lnTo>
                  <a:lnTo>
                    <a:pt x="208" y="269"/>
                  </a:lnTo>
                  <a:lnTo>
                    <a:pt x="227" y="288"/>
                  </a:lnTo>
                  <a:lnTo>
                    <a:pt x="245" y="293"/>
                  </a:lnTo>
                  <a:lnTo>
                    <a:pt x="269" y="302"/>
                  </a:lnTo>
                  <a:lnTo>
                    <a:pt x="293" y="312"/>
                  </a:lnTo>
                  <a:lnTo>
                    <a:pt x="297" y="321"/>
                  </a:lnTo>
                  <a:lnTo>
                    <a:pt x="302" y="335"/>
                  </a:lnTo>
                  <a:lnTo>
                    <a:pt x="307" y="349"/>
                  </a:lnTo>
                  <a:lnTo>
                    <a:pt x="302" y="364"/>
                  </a:lnTo>
                  <a:lnTo>
                    <a:pt x="293" y="382"/>
                  </a:lnTo>
                  <a:lnTo>
                    <a:pt x="293" y="397"/>
                  </a:lnTo>
                  <a:lnTo>
                    <a:pt x="297" y="406"/>
                  </a:lnTo>
                  <a:lnTo>
                    <a:pt x="302" y="415"/>
                  </a:lnTo>
                  <a:lnTo>
                    <a:pt x="312" y="430"/>
                  </a:lnTo>
                  <a:lnTo>
                    <a:pt x="316" y="444"/>
                  </a:lnTo>
                  <a:lnTo>
                    <a:pt x="316" y="453"/>
                  </a:lnTo>
                  <a:lnTo>
                    <a:pt x="321" y="467"/>
                  </a:lnTo>
                  <a:lnTo>
                    <a:pt x="321" y="496"/>
                  </a:lnTo>
                  <a:lnTo>
                    <a:pt x="316" y="548"/>
                  </a:lnTo>
                  <a:lnTo>
                    <a:pt x="316" y="581"/>
                  </a:lnTo>
                  <a:lnTo>
                    <a:pt x="321" y="595"/>
                  </a:lnTo>
                  <a:lnTo>
                    <a:pt x="321" y="604"/>
                  </a:lnTo>
                  <a:lnTo>
                    <a:pt x="321" y="614"/>
                  </a:lnTo>
                  <a:lnTo>
                    <a:pt x="316" y="623"/>
                  </a:lnTo>
                  <a:lnTo>
                    <a:pt x="307" y="637"/>
                  </a:lnTo>
                  <a:lnTo>
                    <a:pt x="283" y="661"/>
                  </a:lnTo>
                  <a:lnTo>
                    <a:pt x="274" y="670"/>
                  </a:lnTo>
                  <a:lnTo>
                    <a:pt x="264" y="680"/>
                  </a:lnTo>
                  <a:lnTo>
                    <a:pt x="250" y="708"/>
                  </a:lnTo>
                  <a:lnTo>
                    <a:pt x="236" y="746"/>
                  </a:lnTo>
                  <a:lnTo>
                    <a:pt x="222" y="765"/>
                  </a:lnTo>
                  <a:lnTo>
                    <a:pt x="203" y="779"/>
                  </a:lnTo>
                  <a:lnTo>
                    <a:pt x="184" y="788"/>
                  </a:lnTo>
                  <a:lnTo>
                    <a:pt x="165" y="788"/>
                  </a:lnTo>
                  <a:lnTo>
                    <a:pt x="146" y="784"/>
                  </a:lnTo>
                  <a:lnTo>
                    <a:pt x="142" y="784"/>
                  </a:lnTo>
                  <a:lnTo>
                    <a:pt x="137" y="793"/>
                  </a:lnTo>
                  <a:lnTo>
                    <a:pt x="132" y="807"/>
                  </a:lnTo>
                  <a:lnTo>
                    <a:pt x="127" y="826"/>
                  </a:lnTo>
                  <a:lnTo>
                    <a:pt x="123" y="873"/>
                  </a:lnTo>
                  <a:lnTo>
                    <a:pt x="118" y="902"/>
                  </a:lnTo>
                  <a:lnTo>
                    <a:pt x="113" y="911"/>
                  </a:lnTo>
                  <a:lnTo>
                    <a:pt x="109" y="920"/>
                  </a:lnTo>
                  <a:lnTo>
                    <a:pt x="104" y="925"/>
                  </a:lnTo>
                  <a:lnTo>
                    <a:pt x="90" y="925"/>
                  </a:lnTo>
                  <a:lnTo>
                    <a:pt x="33" y="911"/>
                  </a:lnTo>
                  <a:lnTo>
                    <a:pt x="0" y="897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1857"/>
            <p:cNvSpPr/>
            <p:nvPr/>
          </p:nvSpPr>
          <p:spPr>
            <a:xfrm>
              <a:off x="2465640" y="5882760"/>
              <a:ext cx="243000" cy="121320"/>
            </a:xfrm>
            <a:custGeom>
              <a:avLst/>
              <a:gdLst>
                <a:gd name="textAreaLeft" fmla="*/ 0 w 243000"/>
                <a:gd name="textAreaRight" fmla="*/ 243360 w 243000"/>
                <a:gd name="textAreaTop" fmla="*/ 0 h 121320"/>
                <a:gd name="textAreaBottom" fmla="*/ 121680 h 121320"/>
              </a:gdLst>
              <a:ahLst/>
              <a:rect l="textAreaLeft" t="textAreaTop" r="textAreaRight" b="textAreaBottom"/>
              <a:pathLst>
                <a:path w="415" h="184">
                  <a:moveTo>
                    <a:pt x="0" y="0"/>
                  </a:moveTo>
                  <a:lnTo>
                    <a:pt x="0" y="5"/>
                  </a:lnTo>
                  <a:lnTo>
                    <a:pt x="0" y="14"/>
                  </a:lnTo>
                  <a:lnTo>
                    <a:pt x="9" y="28"/>
                  </a:lnTo>
                  <a:lnTo>
                    <a:pt x="19" y="38"/>
                  </a:lnTo>
                  <a:lnTo>
                    <a:pt x="47" y="52"/>
                  </a:lnTo>
                  <a:lnTo>
                    <a:pt x="80" y="57"/>
                  </a:lnTo>
                  <a:lnTo>
                    <a:pt x="99" y="57"/>
                  </a:lnTo>
                  <a:lnTo>
                    <a:pt x="108" y="57"/>
                  </a:lnTo>
                  <a:lnTo>
                    <a:pt x="123" y="61"/>
                  </a:lnTo>
                  <a:lnTo>
                    <a:pt x="142" y="75"/>
                  </a:lnTo>
                  <a:lnTo>
                    <a:pt x="170" y="104"/>
                  </a:lnTo>
                  <a:lnTo>
                    <a:pt x="198" y="113"/>
                  </a:lnTo>
                  <a:lnTo>
                    <a:pt x="335" y="137"/>
                  </a:lnTo>
                  <a:lnTo>
                    <a:pt x="382" y="165"/>
                  </a:lnTo>
                  <a:lnTo>
                    <a:pt x="387" y="165"/>
                  </a:lnTo>
                  <a:lnTo>
                    <a:pt x="415" y="184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1858"/>
            <p:cNvSpPr/>
            <p:nvPr/>
          </p:nvSpPr>
          <p:spPr>
            <a:xfrm>
              <a:off x="2355120" y="5346720"/>
              <a:ext cx="182880" cy="641880"/>
            </a:xfrm>
            <a:custGeom>
              <a:avLst/>
              <a:gdLst>
                <a:gd name="textAreaLeft" fmla="*/ 0 w 182880"/>
                <a:gd name="textAreaRight" fmla="*/ 183240 w 182880"/>
                <a:gd name="textAreaTop" fmla="*/ 0 h 641880"/>
                <a:gd name="textAreaBottom" fmla="*/ 642240 h 641880"/>
              </a:gdLst>
              <a:ahLst/>
              <a:rect l="textAreaLeft" t="textAreaTop" r="textAreaRight" b="textAreaBottom"/>
              <a:pathLst>
                <a:path w="312" h="977">
                  <a:moveTo>
                    <a:pt x="260" y="0"/>
                  </a:moveTo>
                  <a:lnTo>
                    <a:pt x="250" y="15"/>
                  </a:lnTo>
                  <a:lnTo>
                    <a:pt x="241" y="38"/>
                  </a:lnTo>
                  <a:lnTo>
                    <a:pt x="236" y="48"/>
                  </a:lnTo>
                  <a:lnTo>
                    <a:pt x="231" y="57"/>
                  </a:lnTo>
                  <a:lnTo>
                    <a:pt x="222" y="62"/>
                  </a:lnTo>
                  <a:lnTo>
                    <a:pt x="213" y="62"/>
                  </a:lnTo>
                  <a:lnTo>
                    <a:pt x="189" y="57"/>
                  </a:lnTo>
                  <a:lnTo>
                    <a:pt x="170" y="52"/>
                  </a:lnTo>
                  <a:lnTo>
                    <a:pt x="161" y="52"/>
                  </a:lnTo>
                  <a:lnTo>
                    <a:pt x="156" y="52"/>
                  </a:lnTo>
                  <a:lnTo>
                    <a:pt x="151" y="57"/>
                  </a:lnTo>
                  <a:lnTo>
                    <a:pt x="146" y="62"/>
                  </a:lnTo>
                  <a:lnTo>
                    <a:pt x="146" y="71"/>
                  </a:lnTo>
                  <a:lnTo>
                    <a:pt x="142" y="81"/>
                  </a:lnTo>
                  <a:lnTo>
                    <a:pt x="142" y="90"/>
                  </a:lnTo>
                  <a:lnTo>
                    <a:pt x="151" y="95"/>
                  </a:lnTo>
                  <a:lnTo>
                    <a:pt x="165" y="100"/>
                  </a:lnTo>
                  <a:lnTo>
                    <a:pt x="184" y="100"/>
                  </a:lnTo>
                  <a:lnTo>
                    <a:pt x="189" y="104"/>
                  </a:lnTo>
                  <a:lnTo>
                    <a:pt x="198" y="109"/>
                  </a:lnTo>
                  <a:lnTo>
                    <a:pt x="203" y="114"/>
                  </a:lnTo>
                  <a:lnTo>
                    <a:pt x="208" y="123"/>
                  </a:lnTo>
                  <a:lnTo>
                    <a:pt x="217" y="147"/>
                  </a:lnTo>
                  <a:lnTo>
                    <a:pt x="227" y="166"/>
                  </a:lnTo>
                  <a:lnTo>
                    <a:pt x="231" y="170"/>
                  </a:lnTo>
                  <a:lnTo>
                    <a:pt x="231" y="180"/>
                  </a:lnTo>
                  <a:lnTo>
                    <a:pt x="227" y="189"/>
                  </a:lnTo>
                  <a:lnTo>
                    <a:pt x="222" y="199"/>
                  </a:lnTo>
                  <a:lnTo>
                    <a:pt x="203" y="213"/>
                  </a:lnTo>
                  <a:lnTo>
                    <a:pt x="189" y="218"/>
                  </a:lnTo>
                  <a:lnTo>
                    <a:pt x="179" y="222"/>
                  </a:lnTo>
                  <a:lnTo>
                    <a:pt x="175" y="222"/>
                  </a:lnTo>
                  <a:lnTo>
                    <a:pt x="170" y="227"/>
                  </a:lnTo>
                  <a:lnTo>
                    <a:pt x="170" y="236"/>
                  </a:lnTo>
                  <a:lnTo>
                    <a:pt x="165" y="255"/>
                  </a:lnTo>
                  <a:lnTo>
                    <a:pt x="165" y="269"/>
                  </a:lnTo>
                  <a:lnTo>
                    <a:pt x="165" y="284"/>
                  </a:lnTo>
                  <a:lnTo>
                    <a:pt x="175" y="288"/>
                  </a:lnTo>
                  <a:lnTo>
                    <a:pt x="184" y="293"/>
                  </a:lnTo>
                  <a:lnTo>
                    <a:pt x="194" y="298"/>
                  </a:lnTo>
                  <a:lnTo>
                    <a:pt x="203" y="307"/>
                  </a:lnTo>
                  <a:lnTo>
                    <a:pt x="213" y="317"/>
                  </a:lnTo>
                  <a:lnTo>
                    <a:pt x="222" y="331"/>
                  </a:lnTo>
                  <a:lnTo>
                    <a:pt x="231" y="345"/>
                  </a:lnTo>
                  <a:lnTo>
                    <a:pt x="236" y="350"/>
                  </a:lnTo>
                  <a:lnTo>
                    <a:pt x="231" y="350"/>
                  </a:lnTo>
                  <a:lnTo>
                    <a:pt x="227" y="354"/>
                  </a:lnTo>
                  <a:lnTo>
                    <a:pt x="217" y="359"/>
                  </a:lnTo>
                  <a:lnTo>
                    <a:pt x="194" y="354"/>
                  </a:lnTo>
                  <a:lnTo>
                    <a:pt x="179" y="354"/>
                  </a:lnTo>
                  <a:lnTo>
                    <a:pt x="175" y="350"/>
                  </a:lnTo>
                  <a:lnTo>
                    <a:pt x="170" y="354"/>
                  </a:lnTo>
                  <a:lnTo>
                    <a:pt x="170" y="359"/>
                  </a:lnTo>
                  <a:lnTo>
                    <a:pt x="170" y="369"/>
                  </a:lnTo>
                  <a:lnTo>
                    <a:pt x="170" y="392"/>
                  </a:lnTo>
                  <a:lnTo>
                    <a:pt x="175" y="406"/>
                  </a:lnTo>
                  <a:lnTo>
                    <a:pt x="179" y="416"/>
                  </a:lnTo>
                  <a:lnTo>
                    <a:pt x="189" y="416"/>
                  </a:lnTo>
                  <a:lnTo>
                    <a:pt x="198" y="411"/>
                  </a:lnTo>
                  <a:lnTo>
                    <a:pt x="231" y="387"/>
                  </a:lnTo>
                  <a:lnTo>
                    <a:pt x="246" y="378"/>
                  </a:lnTo>
                  <a:lnTo>
                    <a:pt x="250" y="378"/>
                  </a:lnTo>
                  <a:lnTo>
                    <a:pt x="264" y="383"/>
                  </a:lnTo>
                  <a:lnTo>
                    <a:pt x="269" y="387"/>
                  </a:lnTo>
                  <a:lnTo>
                    <a:pt x="269" y="392"/>
                  </a:lnTo>
                  <a:lnTo>
                    <a:pt x="269" y="397"/>
                  </a:lnTo>
                  <a:lnTo>
                    <a:pt x="264" y="406"/>
                  </a:lnTo>
                  <a:lnTo>
                    <a:pt x="250" y="416"/>
                  </a:lnTo>
                  <a:lnTo>
                    <a:pt x="241" y="420"/>
                  </a:lnTo>
                  <a:lnTo>
                    <a:pt x="236" y="425"/>
                  </a:lnTo>
                  <a:lnTo>
                    <a:pt x="231" y="439"/>
                  </a:lnTo>
                  <a:lnTo>
                    <a:pt x="231" y="463"/>
                  </a:lnTo>
                  <a:lnTo>
                    <a:pt x="246" y="491"/>
                  </a:lnTo>
                  <a:lnTo>
                    <a:pt x="255" y="510"/>
                  </a:lnTo>
                  <a:lnTo>
                    <a:pt x="260" y="529"/>
                  </a:lnTo>
                  <a:lnTo>
                    <a:pt x="260" y="538"/>
                  </a:lnTo>
                  <a:lnTo>
                    <a:pt x="260" y="543"/>
                  </a:lnTo>
                  <a:lnTo>
                    <a:pt x="255" y="548"/>
                  </a:lnTo>
                  <a:lnTo>
                    <a:pt x="246" y="548"/>
                  </a:lnTo>
                  <a:lnTo>
                    <a:pt x="227" y="553"/>
                  </a:lnTo>
                  <a:lnTo>
                    <a:pt x="217" y="553"/>
                  </a:lnTo>
                  <a:lnTo>
                    <a:pt x="213" y="553"/>
                  </a:lnTo>
                  <a:lnTo>
                    <a:pt x="213" y="557"/>
                  </a:lnTo>
                  <a:lnTo>
                    <a:pt x="213" y="567"/>
                  </a:lnTo>
                  <a:lnTo>
                    <a:pt x="231" y="586"/>
                  </a:lnTo>
                  <a:lnTo>
                    <a:pt x="246" y="590"/>
                  </a:lnTo>
                  <a:lnTo>
                    <a:pt x="255" y="595"/>
                  </a:lnTo>
                  <a:lnTo>
                    <a:pt x="269" y="595"/>
                  </a:lnTo>
                  <a:lnTo>
                    <a:pt x="279" y="595"/>
                  </a:lnTo>
                  <a:lnTo>
                    <a:pt x="283" y="609"/>
                  </a:lnTo>
                  <a:lnTo>
                    <a:pt x="288" y="619"/>
                  </a:lnTo>
                  <a:lnTo>
                    <a:pt x="302" y="623"/>
                  </a:lnTo>
                  <a:lnTo>
                    <a:pt x="307" y="628"/>
                  </a:lnTo>
                  <a:lnTo>
                    <a:pt x="312" y="628"/>
                  </a:lnTo>
                  <a:lnTo>
                    <a:pt x="312" y="638"/>
                  </a:lnTo>
                  <a:lnTo>
                    <a:pt x="312" y="647"/>
                  </a:lnTo>
                  <a:lnTo>
                    <a:pt x="279" y="699"/>
                  </a:lnTo>
                  <a:lnTo>
                    <a:pt x="255" y="751"/>
                  </a:lnTo>
                  <a:lnTo>
                    <a:pt x="255" y="770"/>
                  </a:lnTo>
                  <a:lnTo>
                    <a:pt x="250" y="784"/>
                  </a:lnTo>
                  <a:lnTo>
                    <a:pt x="241" y="798"/>
                  </a:lnTo>
                  <a:lnTo>
                    <a:pt x="227" y="807"/>
                  </a:lnTo>
                  <a:lnTo>
                    <a:pt x="208" y="812"/>
                  </a:lnTo>
                  <a:lnTo>
                    <a:pt x="189" y="817"/>
                  </a:lnTo>
                  <a:lnTo>
                    <a:pt x="184" y="817"/>
                  </a:lnTo>
                  <a:lnTo>
                    <a:pt x="175" y="822"/>
                  </a:lnTo>
                  <a:lnTo>
                    <a:pt x="165" y="831"/>
                  </a:lnTo>
                  <a:lnTo>
                    <a:pt x="161" y="841"/>
                  </a:lnTo>
                  <a:lnTo>
                    <a:pt x="151" y="855"/>
                  </a:lnTo>
                  <a:lnTo>
                    <a:pt x="151" y="869"/>
                  </a:lnTo>
                  <a:lnTo>
                    <a:pt x="156" y="883"/>
                  </a:lnTo>
                  <a:lnTo>
                    <a:pt x="156" y="892"/>
                  </a:lnTo>
                  <a:lnTo>
                    <a:pt x="156" y="902"/>
                  </a:lnTo>
                  <a:lnTo>
                    <a:pt x="156" y="911"/>
                  </a:lnTo>
                  <a:lnTo>
                    <a:pt x="146" y="916"/>
                  </a:lnTo>
                  <a:lnTo>
                    <a:pt x="132" y="921"/>
                  </a:lnTo>
                  <a:lnTo>
                    <a:pt x="99" y="916"/>
                  </a:lnTo>
                  <a:lnTo>
                    <a:pt x="76" y="911"/>
                  </a:lnTo>
                  <a:lnTo>
                    <a:pt x="66" y="907"/>
                  </a:lnTo>
                  <a:lnTo>
                    <a:pt x="57" y="907"/>
                  </a:lnTo>
                  <a:lnTo>
                    <a:pt x="47" y="911"/>
                  </a:lnTo>
                  <a:lnTo>
                    <a:pt x="38" y="916"/>
                  </a:lnTo>
                  <a:lnTo>
                    <a:pt x="19" y="930"/>
                  </a:lnTo>
                  <a:lnTo>
                    <a:pt x="5" y="944"/>
                  </a:lnTo>
                  <a:lnTo>
                    <a:pt x="0" y="959"/>
                  </a:lnTo>
                  <a:lnTo>
                    <a:pt x="0" y="977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1859"/>
            <p:cNvSpPr/>
            <p:nvPr/>
          </p:nvSpPr>
          <p:spPr>
            <a:xfrm>
              <a:off x="1240560" y="5220000"/>
              <a:ext cx="893520" cy="498960"/>
            </a:xfrm>
            <a:custGeom>
              <a:avLst/>
              <a:gdLst>
                <a:gd name="textAreaLeft" fmla="*/ 0 w 893520"/>
                <a:gd name="textAreaRight" fmla="*/ 893880 w 893520"/>
                <a:gd name="textAreaTop" fmla="*/ 0 h 498960"/>
                <a:gd name="textAreaBottom" fmla="*/ 499320 h 498960"/>
              </a:gdLst>
              <a:ahLst/>
              <a:rect l="textAreaLeft" t="textAreaTop" r="textAreaRight" b="textAreaBottom"/>
              <a:pathLst>
                <a:path w="1525" h="760">
                  <a:moveTo>
                    <a:pt x="1525" y="0"/>
                  </a:moveTo>
                  <a:lnTo>
                    <a:pt x="1511" y="9"/>
                  </a:lnTo>
                  <a:lnTo>
                    <a:pt x="1464" y="33"/>
                  </a:lnTo>
                  <a:lnTo>
                    <a:pt x="1407" y="47"/>
                  </a:lnTo>
                  <a:lnTo>
                    <a:pt x="1384" y="52"/>
                  </a:lnTo>
                  <a:lnTo>
                    <a:pt x="1379" y="52"/>
                  </a:lnTo>
                  <a:lnTo>
                    <a:pt x="1365" y="47"/>
                  </a:lnTo>
                  <a:lnTo>
                    <a:pt x="1346" y="42"/>
                  </a:lnTo>
                  <a:lnTo>
                    <a:pt x="1322" y="52"/>
                  </a:lnTo>
                  <a:lnTo>
                    <a:pt x="1308" y="66"/>
                  </a:lnTo>
                  <a:lnTo>
                    <a:pt x="1303" y="71"/>
                  </a:lnTo>
                  <a:lnTo>
                    <a:pt x="1303" y="85"/>
                  </a:lnTo>
                  <a:lnTo>
                    <a:pt x="1294" y="108"/>
                  </a:lnTo>
                  <a:lnTo>
                    <a:pt x="1270" y="137"/>
                  </a:lnTo>
                  <a:lnTo>
                    <a:pt x="1242" y="156"/>
                  </a:lnTo>
                  <a:lnTo>
                    <a:pt x="1218" y="170"/>
                  </a:lnTo>
                  <a:lnTo>
                    <a:pt x="1204" y="175"/>
                  </a:lnTo>
                  <a:lnTo>
                    <a:pt x="1204" y="198"/>
                  </a:lnTo>
                  <a:lnTo>
                    <a:pt x="1195" y="250"/>
                  </a:lnTo>
                  <a:lnTo>
                    <a:pt x="1176" y="321"/>
                  </a:lnTo>
                  <a:lnTo>
                    <a:pt x="1157" y="363"/>
                  </a:lnTo>
                  <a:lnTo>
                    <a:pt x="1148" y="382"/>
                  </a:lnTo>
                  <a:lnTo>
                    <a:pt x="1124" y="411"/>
                  </a:lnTo>
                  <a:lnTo>
                    <a:pt x="1100" y="434"/>
                  </a:lnTo>
                  <a:lnTo>
                    <a:pt x="1082" y="458"/>
                  </a:lnTo>
                  <a:lnTo>
                    <a:pt x="1058" y="477"/>
                  </a:lnTo>
                  <a:lnTo>
                    <a:pt x="1049" y="481"/>
                  </a:lnTo>
                  <a:lnTo>
                    <a:pt x="1044" y="477"/>
                  </a:lnTo>
                  <a:lnTo>
                    <a:pt x="1020" y="472"/>
                  </a:lnTo>
                  <a:lnTo>
                    <a:pt x="997" y="472"/>
                  </a:lnTo>
                  <a:lnTo>
                    <a:pt x="978" y="467"/>
                  </a:lnTo>
                  <a:lnTo>
                    <a:pt x="959" y="467"/>
                  </a:lnTo>
                  <a:lnTo>
                    <a:pt x="954" y="477"/>
                  </a:lnTo>
                  <a:lnTo>
                    <a:pt x="959" y="495"/>
                  </a:lnTo>
                  <a:lnTo>
                    <a:pt x="964" y="500"/>
                  </a:lnTo>
                  <a:lnTo>
                    <a:pt x="968" y="500"/>
                  </a:lnTo>
                  <a:lnTo>
                    <a:pt x="982" y="505"/>
                  </a:lnTo>
                  <a:lnTo>
                    <a:pt x="992" y="510"/>
                  </a:lnTo>
                  <a:lnTo>
                    <a:pt x="997" y="519"/>
                  </a:lnTo>
                  <a:lnTo>
                    <a:pt x="997" y="533"/>
                  </a:lnTo>
                  <a:lnTo>
                    <a:pt x="997" y="547"/>
                  </a:lnTo>
                  <a:lnTo>
                    <a:pt x="992" y="552"/>
                  </a:lnTo>
                  <a:lnTo>
                    <a:pt x="973" y="557"/>
                  </a:lnTo>
                  <a:lnTo>
                    <a:pt x="949" y="557"/>
                  </a:lnTo>
                  <a:lnTo>
                    <a:pt x="935" y="552"/>
                  </a:lnTo>
                  <a:lnTo>
                    <a:pt x="926" y="547"/>
                  </a:lnTo>
                  <a:lnTo>
                    <a:pt x="916" y="538"/>
                  </a:lnTo>
                  <a:lnTo>
                    <a:pt x="912" y="529"/>
                  </a:lnTo>
                  <a:lnTo>
                    <a:pt x="897" y="519"/>
                  </a:lnTo>
                  <a:lnTo>
                    <a:pt x="883" y="510"/>
                  </a:lnTo>
                  <a:lnTo>
                    <a:pt x="869" y="505"/>
                  </a:lnTo>
                  <a:lnTo>
                    <a:pt x="850" y="500"/>
                  </a:lnTo>
                  <a:lnTo>
                    <a:pt x="836" y="495"/>
                  </a:lnTo>
                  <a:lnTo>
                    <a:pt x="817" y="495"/>
                  </a:lnTo>
                  <a:lnTo>
                    <a:pt x="798" y="505"/>
                  </a:lnTo>
                  <a:lnTo>
                    <a:pt x="789" y="519"/>
                  </a:lnTo>
                  <a:lnTo>
                    <a:pt x="789" y="533"/>
                  </a:lnTo>
                  <a:lnTo>
                    <a:pt x="789" y="538"/>
                  </a:lnTo>
                  <a:lnTo>
                    <a:pt x="789" y="543"/>
                  </a:lnTo>
                  <a:lnTo>
                    <a:pt x="784" y="547"/>
                  </a:lnTo>
                  <a:lnTo>
                    <a:pt x="775" y="552"/>
                  </a:lnTo>
                  <a:lnTo>
                    <a:pt x="751" y="547"/>
                  </a:lnTo>
                  <a:lnTo>
                    <a:pt x="737" y="538"/>
                  </a:lnTo>
                  <a:lnTo>
                    <a:pt x="727" y="533"/>
                  </a:lnTo>
                  <a:lnTo>
                    <a:pt x="723" y="533"/>
                  </a:lnTo>
                  <a:lnTo>
                    <a:pt x="713" y="533"/>
                  </a:lnTo>
                  <a:lnTo>
                    <a:pt x="709" y="543"/>
                  </a:lnTo>
                  <a:lnTo>
                    <a:pt x="699" y="562"/>
                  </a:lnTo>
                  <a:lnTo>
                    <a:pt x="685" y="576"/>
                  </a:lnTo>
                  <a:lnTo>
                    <a:pt x="680" y="580"/>
                  </a:lnTo>
                  <a:lnTo>
                    <a:pt x="671" y="580"/>
                  </a:lnTo>
                  <a:lnTo>
                    <a:pt x="666" y="580"/>
                  </a:lnTo>
                  <a:lnTo>
                    <a:pt x="661" y="576"/>
                  </a:lnTo>
                  <a:lnTo>
                    <a:pt x="642" y="557"/>
                  </a:lnTo>
                  <a:lnTo>
                    <a:pt x="624" y="547"/>
                  </a:lnTo>
                  <a:lnTo>
                    <a:pt x="614" y="543"/>
                  </a:lnTo>
                  <a:lnTo>
                    <a:pt x="605" y="538"/>
                  </a:lnTo>
                  <a:lnTo>
                    <a:pt x="595" y="543"/>
                  </a:lnTo>
                  <a:lnTo>
                    <a:pt x="591" y="552"/>
                  </a:lnTo>
                  <a:lnTo>
                    <a:pt x="581" y="571"/>
                  </a:lnTo>
                  <a:lnTo>
                    <a:pt x="572" y="590"/>
                  </a:lnTo>
                  <a:lnTo>
                    <a:pt x="558" y="609"/>
                  </a:lnTo>
                  <a:lnTo>
                    <a:pt x="548" y="618"/>
                  </a:lnTo>
                  <a:lnTo>
                    <a:pt x="529" y="618"/>
                  </a:lnTo>
                  <a:lnTo>
                    <a:pt x="515" y="613"/>
                  </a:lnTo>
                  <a:lnTo>
                    <a:pt x="506" y="613"/>
                  </a:lnTo>
                  <a:lnTo>
                    <a:pt x="501" y="613"/>
                  </a:lnTo>
                  <a:lnTo>
                    <a:pt x="491" y="618"/>
                  </a:lnTo>
                  <a:lnTo>
                    <a:pt x="482" y="632"/>
                  </a:lnTo>
                  <a:lnTo>
                    <a:pt x="463" y="670"/>
                  </a:lnTo>
                  <a:lnTo>
                    <a:pt x="439" y="698"/>
                  </a:lnTo>
                  <a:lnTo>
                    <a:pt x="421" y="717"/>
                  </a:lnTo>
                  <a:lnTo>
                    <a:pt x="402" y="731"/>
                  </a:lnTo>
                  <a:lnTo>
                    <a:pt x="392" y="736"/>
                  </a:lnTo>
                  <a:lnTo>
                    <a:pt x="388" y="731"/>
                  </a:lnTo>
                  <a:lnTo>
                    <a:pt x="378" y="727"/>
                  </a:lnTo>
                  <a:lnTo>
                    <a:pt x="373" y="717"/>
                  </a:lnTo>
                  <a:lnTo>
                    <a:pt x="369" y="689"/>
                  </a:lnTo>
                  <a:lnTo>
                    <a:pt x="364" y="675"/>
                  </a:lnTo>
                  <a:lnTo>
                    <a:pt x="359" y="661"/>
                  </a:lnTo>
                  <a:lnTo>
                    <a:pt x="350" y="661"/>
                  </a:lnTo>
                  <a:lnTo>
                    <a:pt x="312" y="651"/>
                  </a:lnTo>
                  <a:lnTo>
                    <a:pt x="288" y="642"/>
                  </a:lnTo>
                  <a:lnTo>
                    <a:pt x="284" y="647"/>
                  </a:lnTo>
                  <a:lnTo>
                    <a:pt x="241" y="647"/>
                  </a:lnTo>
                  <a:lnTo>
                    <a:pt x="208" y="642"/>
                  </a:lnTo>
                  <a:lnTo>
                    <a:pt x="194" y="632"/>
                  </a:lnTo>
                  <a:lnTo>
                    <a:pt x="185" y="632"/>
                  </a:lnTo>
                  <a:lnTo>
                    <a:pt x="175" y="637"/>
                  </a:lnTo>
                  <a:lnTo>
                    <a:pt x="166" y="642"/>
                  </a:lnTo>
                  <a:lnTo>
                    <a:pt x="151" y="656"/>
                  </a:lnTo>
                  <a:lnTo>
                    <a:pt x="104" y="698"/>
                  </a:lnTo>
                  <a:lnTo>
                    <a:pt x="67" y="731"/>
                  </a:lnTo>
                  <a:lnTo>
                    <a:pt x="19" y="750"/>
                  </a:lnTo>
                  <a:lnTo>
                    <a:pt x="0" y="76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1860"/>
            <p:cNvSpPr/>
            <p:nvPr/>
          </p:nvSpPr>
          <p:spPr>
            <a:xfrm>
              <a:off x="1755720" y="5579640"/>
              <a:ext cx="54360" cy="4186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418680"/>
                <a:gd name="textAreaBottom" fmla="*/ 419040 h 418680"/>
              </a:gdLst>
              <a:ahLst/>
              <a:rect l="textAreaLeft" t="textAreaTop" r="textAreaRight" b="textAreaBottom"/>
              <a:pathLst>
                <a:path w="94" h="638">
                  <a:moveTo>
                    <a:pt x="47" y="0"/>
                  </a:moveTo>
                  <a:lnTo>
                    <a:pt x="37" y="5"/>
                  </a:lnTo>
                  <a:lnTo>
                    <a:pt x="28" y="15"/>
                  </a:lnTo>
                  <a:lnTo>
                    <a:pt x="23" y="19"/>
                  </a:lnTo>
                  <a:lnTo>
                    <a:pt x="18" y="29"/>
                  </a:lnTo>
                  <a:lnTo>
                    <a:pt x="18" y="33"/>
                  </a:lnTo>
                  <a:lnTo>
                    <a:pt x="23" y="43"/>
                  </a:lnTo>
                  <a:lnTo>
                    <a:pt x="37" y="48"/>
                  </a:lnTo>
                  <a:lnTo>
                    <a:pt x="51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1" y="57"/>
                  </a:lnTo>
                  <a:lnTo>
                    <a:pt x="61" y="66"/>
                  </a:lnTo>
                  <a:lnTo>
                    <a:pt x="51" y="90"/>
                  </a:lnTo>
                  <a:lnTo>
                    <a:pt x="42" y="104"/>
                  </a:lnTo>
                  <a:lnTo>
                    <a:pt x="33" y="118"/>
                  </a:lnTo>
                  <a:lnTo>
                    <a:pt x="18" y="128"/>
                  </a:lnTo>
                  <a:lnTo>
                    <a:pt x="23" y="147"/>
                  </a:lnTo>
                  <a:lnTo>
                    <a:pt x="28" y="175"/>
                  </a:lnTo>
                  <a:lnTo>
                    <a:pt x="14" y="199"/>
                  </a:lnTo>
                  <a:lnTo>
                    <a:pt x="4" y="208"/>
                  </a:lnTo>
                  <a:lnTo>
                    <a:pt x="0" y="208"/>
                  </a:lnTo>
                  <a:lnTo>
                    <a:pt x="0" y="213"/>
                  </a:lnTo>
                  <a:lnTo>
                    <a:pt x="0" y="217"/>
                  </a:lnTo>
                  <a:lnTo>
                    <a:pt x="4" y="227"/>
                  </a:lnTo>
                  <a:lnTo>
                    <a:pt x="14" y="246"/>
                  </a:lnTo>
                  <a:lnTo>
                    <a:pt x="18" y="255"/>
                  </a:lnTo>
                  <a:lnTo>
                    <a:pt x="28" y="265"/>
                  </a:lnTo>
                  <a:lnTo>
                    <a:pt x="42" y="274"/>
                  </a:lnTo>
                  <a:lnTo>
                    <a:pt x="51" y="279"/>
                  </a:lnTo>
                  <a:lnTo>
                    <a:pt x="61" y="288"/>
                  </a:lnTo>
                  <a:lnTo>
                    <a:pt x="61" y="293"/>
                  </a:lnTo>
                  <a:lnTo>
                    <a:pt x="61" y="298"/>
                  </a:lnTo>
                  <a:lnTo>
                    <a:pt x="61" y="302"/>
                  </a:lnTo>
                  <a:lnTo>
                    <a:pt x="56" y="302"/>
                  </a:lnTo>
                  <a:lnTo>
                    <a:pt x="37" y="302"/>
                  </a:lnTo>
                  <a:lnTo>
                    <a:pt x="23" y="302"/>
                  </a:lnTo>
                  <a:lnTo>
                    <a:pt x="14" y="302"/>
                  </a:lnTo>
                  <a:lnTo>
                    <a:pt x="9" y="307"/>
                  </a:lnTo>
                  <a:lnTo>
                    <a:pt x="9" y="317"/>
                  </a:lnTo>
                  <a:lnTo>
                    <a:pt x="9" y="326"/>
                  </a:lnTo>
                  <a:lnTo>
                    <a:pt x="33" y="364"/>
                  </a:lnTo>
                  <a:lnTo>
                    <a:pt x="51" y="383"/>
                  </a:lnTo>
                  <a:lnTo>
                    <a:pt x="66" y="406"/>
                  </a:lnTo>
                  <a:lnTo>
                    <a:pt x="75" y="435"/>
                  </a:lnTo>
                  <a:lnTo>
                    <a:pt x="56" y="472"/>
                  </a:lnTo>
                  <a:lnTo>
                    <a:pt x="33" y="505"/>
                  </a:lnTo>
                  <a:lnTo>
                    <a:pt x="33" y="524"/>
                  </a:lnTo>
                  <a:lnTo>
                    <a:pt x="37" y="543"/>
                  </a:lnTo>
                  <a:lnTo>
                    <a:pt x="47" y="557"/>
                  </a:lnTo>
                  <a:lnTo>
                    <a:pt x="61" y="557"/>
                  </a:lnTo>
                  <a:lnTo>
                    <a:pt x="75" y="557"/>
                  </a:lnTo>
                  <a:lnTo>
                    <a:pt x="89" y="557"/>
                  </a:lnTo>
                  <a:lnTo>
                    <a:pt x="94" y="557"/>
                  </a:lnTo>
                  <a:lnTo>
                    <a:pt x="94" y="562"/>
                  </a:lnTo>
                  <a:lnTo>
                    <a:pt x="94" y="567"/>
                  </a:lnTo>
                  <a:lnTo>
                    <a:pt x="94" y="576"/>
                  </a:lnTo>
                  <a:lnTo>
                    <a:pt x="85" y="590"/>
                  </a:lnTo>
                  <a:lnTo>
                    <a:pt x="75" y="605"/>
                  </a:lnTo>
                  <a:lnTo>
                    <a:pt x="75" y="619"/>
                  </a:lnTo>
                  <a:lnTo>
                    <a:pt x="80" y="638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1861"/>
            <p:cNvSpPr/>
            <p:nvPr/>
          </p:nvSpPr>
          <p:spPr>
            <a:xfrm>
              <a:off x="1699920" y="4523040"/>
              <a:ext cx="343440" cy="291960"/>
            </a:xfrm>
            <a:custGeom>
              <a:avLst/>
              <a:gdLst>
                <a:gd name="textAreaLeft" fmla="*/ 0 w 343440"/>
                <a:gd name="textAreaRight" fmla="*/ 343800 w 34344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86" h="444">
                  <a:moveTo>
                    <a:pt x="586" y="0"/>
                  </a:moveTo>
                  <a:lnTo>
                    <a:pt x="562" y="14"/>
                  </a:lnTo>
                  <a:lnTo>
                    <a:pt x="538" y="19"/>
                  </a:lnTo>
                  <a:lnTo>
                    <a:pt x="529" y="24"/>
                  </a:lnTo>
                  <a:lnTo>
                    <a:pt x="519" y="28"/>
                  </a:lnTo>
                  <a:lnTo>
                    <a:pt x="510" y="42"/>
                  </a:lnTo>
                  <a:lnTo>
                    <a:pt x="496" y="61"/>
                  </a:lnTo>
                  <a:lnTo>
                    <a:pt x="472" y="99"/>
                  </a:lnTo>
                  <a:lnTo>
                    <a:pt x="453" y="118"/>
                  </a:lnTo>
                  <a:lnTo>
                    <a:pt x="430" y="142"/>
                  </a:lnTo>
                  <a:lnTo>
                    <a:pt x="406" y="184"/>
                  </a:lnTo>
                  <a:lnTo>
                    <a:pt x="387" y="231"/>
                  </a:lnTo>
                  <a:lnTo>
                    <a:pt x="383" y="264"/>
                  </a:lnTo>
                  <a:lnTo>
                    <a:pt x="373" y="297"/>
                  </a:lnTo>
                  <a:lnTo>
                    <a:pt x="340" y="344"/>
                  </a:lnTo>
                  <a:lnTo>
                    <a:pt x="307" y="396"/>
                  </a:lnTo>
                  <a:lnTo>
                    <a:pt x="283" y="429"/>
                  </a:lnTo>
                  <a:lnTo>
                    <a:pt x="274" y="439"/>
                  </a:lnTo>
                  <a:lnTo>
                    <a:pt x="265" y="444"/>
                  </a:lnTo>
                  <a:lnTo>
                    <a:pt x="255" y="444"/>
                  </a:lnTo>
                  <a:lnTo>
                    <a:pt x="241" y="444"/>
                  </a:lnTo>
                  <a:lnTo>
                    <a:pt x="198" y="429"/>
                  </a:lnTo>
                  <a:lnTo>
                    <a:pt x="151" y="411"/>
                  </a:lnTo>
                  <a:lnTo>
                    <a:pt x="109" y="392"/>
                  </a:lnTo>
                  <a:lnTo>
                    <a:pt x="57" y="368"/>
                  </a:lnTo>
                  <a:lnTo>
                    <a:pt x="19" y="349"/>
                  </a:lnTo>
                  <a:lnTo>
                    <a:pt x="0" y="340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1862"/>
            <p:cNvSpPr/>
            <p:nvPr/>
          </p:nvSpPr>
          <p:spPr>
            <a:xfrm>
              <a:off x="1971000" y="5557680"/>
              <a:ext cx="151560" cy="43092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430920"/>
                <a:gd name="textAreaBottom" fmla="*/ 431280 h 430920"/>
              </a:gdLst>
              <a:ahLst/>
              <a:rect l="textAreaLeft" t="textAreaTop" r="textAreaRight" b="textAreaBottom"/>
              <a:pathLst>
                <a:path w="259" h="656">
                  <a:moveTo>
                    <a:pt x="245" y="0"/>
                  </a:moveTo>
                  <a:lnTo>
                    <a:pt x="231" y="33"/>
                  </a:lnTo>
                  <a:lnTo>
                    <a:pt x="217" y="57"/>
                  </a:lnTo>
                  <a:lnTo>
                    <a:pt x="241" y="95"/>
                  </a:lnTo>
                  <a:lnTo>
                    <a:pt x="241" y="109"/>
                  </a:lnTo>
                  <a:lnTo>
                    <a:pt x="250" y="137"/>
                  </a:lnTo>
                  <a:lnTo>
                    <a:pt x="255" y="151"/>
                  </a:lnTo>
                  <a:lnTo>
                    <a:pt x="259" y="170"/>
                  </a:lnTo>
                  <a:lnTo>
                    <a:pt x="259" y="184"/>
                  </a:lnTo>
                  <a:lnTo>
                    <a:pt x="250" y="189"/>
                  </a:lnTo>
                  <a:lnTo>
                    <a:pt x="241" y="199"/>
                  </a:lnTo>
                  <a:lnTo>
                    <a:pt x="236" y="203"/>
                  </a:lnTo>
                  <a:lnTo>
                    <a:pt x="236" y="213"/>
                  </a:lnTo>
                  <a:lnTo>
                    <a:pt x="241" y="227"/>
                  </a:lnTo>
                  <a:lnTo>
                    <a:pt x="241" y="241"/>
                  </a:lnTo>
                  <a:lnTo>
                    <a:pt x="236" y="255"/>
                  </a:lnTo>
                  <a:lnTo>
                    <a:pt x="226" y="260"/>
                  </a:lnTo>
                  <a:lnTo>
                    <a:pt x="212" y="265"/>
                  </a:lnTo>
                  <a:lnTo>
                    <a:pt x="193" y="265"/>
                  </a:lnTo>
                  <a:lnTo>
                    <a:pt x="179" y="265"/>
                  </a:lnTo>
                  <a:lnTo>
                    <a:pt x="174" y="269"/>
                  </a:lnTo>
                  <a:lnTo>
                    <a:pt x="174" y="279"/>
                  </a:lnTo>
                  <a:lnTo>
                    <a:pt x="179" y="288"/>
                  </a:lnTo>
                  <a:lnTo>
                    <a:pt x="184" y="307"/>
                  </a:lnTo>
                  <a:lnTo>
                    <a:pt x="184" y="326"/>
                  </a:lnTo>
                  <a:lnTo>
                    <a:pt x="184" y="331"/>
                  </a:lnTo>
                  <a:lnTo>
                    <a:pt x="179" y="331"/>
                  </a:lnTo>
                  <a:lnTo>
                    <a:pt x="174" y="335"/>
                  </a:lnTo>
                  <a:lnTo>
                    <a:pt x="170" y="331"/>
                  </a:lnTo>
                  <a:lnTo>
                    <a:pt x="156" y="326"/>
                  </a:lnTo>
                  <a:lnTo>
                    <a:pt x="137" y="317"/>
                  </a:lnTo>
                  <a:lnTo>
                    <a:pt x="132" y="317"/>
                  </a:lnTo>
                  <a:lnTo>
                    <a:pt x="123" y="312"/>
                  </a:lnTo>
                  <a:lnTo>
                    <a:pt x="118" y="317"/>
                  </a:lnTo>
                  <a:lnTo>
                    <a:pt x="113" y="326"/>
                  </a:lnTo>
                  <a:lnTo>
                    <a:pt x="94" y="368"/>
                  </a:lnTo>
                  <a:lnTo>
                    <a:pt x="80" y="411"/>
                  </a:lnTo>
                  <a:lnTo>
                    <a:pt x="71" y="430"/>
                  </a:lnTo>
                  <a:lnTo>
                    <a:pt x="56" y="444"/>
                  </a:lnTo>
                  <a:lnTo>
                    <a:pt x="52" y="449"/>
                  </a:lnTo>
                  <a:lnTo>
                    <a:pt x="52" y="458"/>
                  </a:lnTo>
                  <a:lnTo>
                    <a:pt x="52" y="468"/>
                  </a:lnTo>
                  <a:lnTo>
                    <a:pt x="56" y="477"/>
                  </a:lnTo>
                  <a:lnTo>
                    <a:pt x="71" y="496"/>
                  </a:lnTo>
                  <a:lnTo>
                    <a:pt x="80" y="515"/>
                  </a:lnTo>
                  <a:lnTo>
                    <a:pt x="80" y="524"/>
                  </a:lnTo>
                  <a:lnTo>
                    <a:pt x="80" y="529"/>
                  </a:lnTo>
                  <a:lnTo>
                    <a:pt x="75" y="538"/>
                  </a:lnTo>
                  <a:lnTo>
                    <a:pt x="71" y="548"/>
                  </a:lnTo>
                  <a:lnTo>
                    <a:pt x="47" y="557"/>
                  </a:lnTo>
                  <a:lnTo>
                    <a:pt x="33" y="562"/>
                  </a:lnTo>
                  <a:lnTo>
                    <a:pt x="28" y="562"/>
                  </a:lnTo>
                  <a:lnTo>
                    <a:pt x="19" y="567"/>
                  </a:lnTo>
                  <a:lnTo>
                    <a:pt x="14" y="576"/>
                  </a:lnTo>
                  <a:lnTo>
                    <a:pt x="14" y="586"/>
                  </a:lnTo>
                  <a:lnTo>
                    <a:pt x="5" y="614"/>
                  </a:lnTo>
                  <a:lnTo>
                    <a:pt x="0" y="633"/>
                  </a:lnTo>
                  <a:lnTo>
                    <a:pt x="0" y="638"/>
                  </a:lnTo>
                  <a:lnTo>
                    <a:pt x="0" y="647"/>
                  </a:lnTo>
                  <a:lnTo>
                    <a:pt x="5" y="652"/>
                  </a:lnTo>
                  <a:lnTo>
                    <a:pt x="9" y="656"/>
                  </a:lnTo>
                </a:path>
              </a:pathLst>
            </a:custGeom>
            <a:noFill/>
            <a:ln w="3240">
              <a:solidFill>
                <a:srgbClr val="0093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1863"/>
            <p:cNvSpPr/>
            <p:nvPr/>
          </p:nvSpPr>
          <p:spPr>
            <a:xfrm>
              <a:off x="754200" y="389088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85">
                  <a:moveTo>
                    <a:pt x="0" y="43"/>
                  </a:moveTo>
                  <a:lnTo>
                    <a:pt x="0" y="28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1" y="19"/>
                  </a:lnTo>
                  <a:lnTo>
                    <a:pt x="85" y="28"/>
                  </a:lnTo>
                  <a:lnTo>
                    <a:pt x="90" y="43"/>
                  </a:lnTo>
                  <a:lnTo>
                    <a:pt x="85" y="52"/>
                  </a:lnTo>
                  <a:lnTo>
                    <a:pt x="81" y="66"/>
                  </a:lnTo>
                  <a:lnTo>
                    <a:pt x="76" y="76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85"/>
                  </a:lnTo>
                  <a:lnTo>
                    <a:pt x="34" y="85"/>
                  </a:lnTo>
                  <a:lnTo>
                    <a:pt x="24" y="80"/>
                  </a:lnTo>
                  <a:lnTo>
                    <a:pt x="15" y="76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1864"/>
            <p:cNvSpPr/>
            <p:nvPr/>
          </p:nvSpPr>
          <p:spPr>
            <a:xfrm>
              <a:off x="754200" y="389088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85">
                  <a:moveTo>
                    <a:pt x="0" y="43"/>
                  </a:moveTo>
                  <a:lnTo>
                    <a:pt x="0" y="28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4" y="5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7" y="5"/>
                  </a:lnTo>
                  <a:lnTo>
                    <a:pt x="76" y="10"/>
                  </a:lnTo>
                  <a:lnTo>
                    <a:pt x="81" y="19"/>
                  </a:lnTo>
                  <a:lnTo>
                    <a:pt x="85" y="28"/>
                  </a:lnTo>
                  <a:lnTo>
                    <a:pt x="90" y="43"/>
                  </a:lnTo>
                  <a:lnTo>
                    <a:pt x="85" y="52"/>
                  </a:lnTo>
                  <a:lnTo>
                    <a:pt x="81" y="66"/>
                  </a:lnTo>
                  <a:lnTo>
                    <a:pt x="76" y="76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85"/>
                  </a:lnTo>
                  <a:lnTo>
                    <a:pt x="34" y="85"/>
                  </a:lnTo>
                  <a:lnTo>
                    <a:pt x="24" y="80"/>
                  </a:lnTo>
                  <a:lnTo>
                    <a:pt x="15" y="76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865"/>
            <p:cNvSpPr/>
            <p:nvPr/>
          </p:nvSpPr>
          <p:spPr>
            <a:xfrm>
              <a:off x="1028520" y="317844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5" h="84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1" y="9"/>
                  </a:lnTo>
                  <a:lnTo>
                    <a:pt x="80" y="18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4"/>
                  </a:lnTo>
                  <a:lnTo>
                    <a:pt x="42" y="84"/>
                  </a:lnTo>
                  <a:lnTo>
                    <a:pt x="33" y="84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1866"/>
            <p:cNvSpPr/>
            <p:nvPr/>
          </p:nvSpPr>
          <p:spPr>
            <a:xfrm>
              <a:off x="1028520" y="317844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5" h="84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1" y="9"/>
                  </a:lnTo>
                  <a:lnTo>
                    <a:pt x="80" y="18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4"/>
                  </a:lnTo>
                  <a:lnTo>
                    <a:pt x="42" y="84"/>
                  </a:lnTo>
                  <a:lnTo>
                    <a:pt x="33" y="84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1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1867"/>
            <p:cNvSpPr/>
            <p:nvPr/>
          </p:nvSpPr>
          <p:spPr>
            <a:xfrm>
              <a:off x="1028520" y="317844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5" h="84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1" y="9"/>
                  </a:lnTo>
                  <a:lnTo>
                    <a:pt x="80" y="18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4"/>
                  </a:lnTo>
                  <a:lnTo>
                    <a:pt x="42" y="84"/>
                  </a:lnTo>
                  <a:lnTo>
                    <a:pt x="33" y="84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1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1868"/>
            <p:cNvSpPr/>
            <p:nvPr/>
          </p:nvSpPr>
          <p:spPr>
            <a:xfrm>
              <a:off x="1028520" y="317844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5" h="84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1" y="9"/>
                  </a:lnTo>
                  <a:lnTo>
                    <a:pt x="80" y="18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4"/>
                  </a:lnTo>
                  <a:lnTo>
                    <a:pt x="42" y="84"/>
                  </a:lnTo>
                  <a:lnTo>
                    <a:pt x="33" y="84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1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1869"/>
            <p:cNvSpPr/>
            <p:nvPr/>
          </p:nvSpPr>
          <p:spPr>
            <a:xfrm>
              <a:off x="2819520" y="344772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3"/>
                  </a:moveTo>
                  <a:lnTo>
                    <a:pt x="5" y="33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4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5" y="19"/>
                  </a:lnTo>
                  <a:lnTo>
                    <a:pt x="90" y="33"/>
                  </a:lnTo>
                  <a:lnTo>
                    <a:pt x="90" y="43"/>
                  </a:lnTo>
                  <a:lnTo>
                    <a:pt x="90" y="57"/>
                  </a:lnTo>
                  <a:lnTo>
                    <a:pt x="85" y="66"/>
                  </a:lnTo>
                  <a:lnTo>
                    <a:pt x="76" y="76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90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1870"/>
            <p:cNvSpPr/>
            <p:nvPr/>
          </p:nvSpPr>
          <p:spPr>
            <a:xfrm>
              <a:off x="2819520" y="344772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3"/>
                  </a:moveTo>
                  <a:lnTo>
                    <a:pt x="5" y="33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4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5" y="19"/>
                  </a:lnTo>
                  <a:lnTo>
                    <a:pt x="90" y="33"/>
                  </a:lnTo>
                  <a:lnTo>
                    <a:pt x="90" y="43"/>
                  </a:lnTo>
                  <a:lnTo>
                    <a:pt x="90" y="57"/>
                  </a:lnTo>
                  <a:lnTo>
                    <a:pt x="85" y="66"/>
                  </a:lnTo>
                  <a:lnTo>
                    <a:pt x="76" y="76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90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1871"/>
            <p:cNvSpPr/>
            <p:nvPr/>
          </p:nvSpPr>
          <p:spPr>
            <a:xfrm>
              <a:off x="2067480" y="2753280"/>
              <a:ext cx="50040" cy="55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1872"/>
            <p:cNvSpPr/>
            <p:nvPr/>
          </p:nvSpPr>
          <p:spPr>
            <a:xfrm>
              <a:off x="2067480" y="2753280"/>
              <a:ext cx="50040" cy="55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1873"/>
            <p:cNvSpPr/>
            <p:nvPr/>
          </p:nvSpPr>
          <p:spPr>
            <a:xfrm>
              <a:off x="2067480" y="2753280"/>
              <a:ext cx="50040" cy="55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1874"/>
            <p:cNvSpPr/>
            <p:nvPr/>
          </p:nvSpPr>
          <p:spPr>
            <a:xfrm>
              <a:off x="2067480" y="2753280"/>
              <a:ext cx="50040" cy="558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1875"/>
            <p:cNvSpPr/>
            <p:nvPr/>
          </p:nvSpPr>
          <p:spPr>
            <a:xfrm>
              <a:off x="1857240" y="374436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5"/>
                  </a:lnTo>
                  <a:lnTo>
                    <a:pt x="62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2" y="85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1876"/>
            <p:cNvSpPr/>
            <p:nvPr/>
          </p:nvSpPr>
          <p:spPr>
            <a:xfrm>
              <a:off x="1857240" y="374436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5"/>
                  </a:lnTo>
                  <a:lnTo>
                    <a:pt x="62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2" y="85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1877"/>
            <p:cNvSpPr/>
            <p:nvPr/>
          </p:nvSpPr>
          <p:spPr>
            <a:xfrm>
              <a:off x="3638160" y="425052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2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7" y="4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6" y="9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9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9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1878"/>
            <p:cNvSpPr/>
            <p:nvPr/>
          </p:nvSpPr>
          <p:spPr>
            <a:xfrm>
              <a:off x="3638160" y="425052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2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7" y="4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6" y="9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9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9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1879"/>
            <p:cNvSpPr/>
            <p:nvPr/>
          </p:nvSpPr>
          <p:spPr>
            <a:xfrm>
              <a:off x="3638160" y="425052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2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7" y="4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6" y="9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9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9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1880"/>
            <p:cNvSpPr/>
            <p:nvPr/>
          </p:nvSpPr>
          <p:spPr>
            <a:xfrm>
              <a:off x="3638160" y="425052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9" h="89">
                  <a:moveTo>
                    <a:pt x="0" y="42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9" y="18"/>
                  </a:lnTo>
                  <a:lnTo>
                    <a:pt x="14" y="14"/>
                  </a:lnTo>
                  <a:lnTo>
                    <a:pt x="23" y="9"/>
                  </a:lnTo>
                  <a:lnTo>
                    <a:pt x="28" y="4"/>
                  </a:lnTo>
                  <a:lnTo>
                    <a:pt x="37" y="4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6" y="9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9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9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1881"/>
            <p:cNvSpPr/>
            <p:nvPr/>
          </p:nvSpPr>
          <p:spPr>
            <a:xfrm>
              <a:off x="4412880" y="433116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1" y="10"/>
                  </a:lnTo>
                  <a:lnTo>
                    <a:pt x="70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7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6"/>
                  </a:lnTo>
                  <a:lnTo>
                    <a:pt x="66" y="85"/>
                  </a:lnTo>
                  <a:lnTo>
                    <a:pt x="52" y="90"/>
                  </a:lnTo>
                  <a:lnTo>
                    <a:pt x="42" y="90"/>
                  </a:lnTo>
                  <a:lnTo>
                    <a:pt x="33" y="90"/>
                  </a:lnTo>
                  <a:lnTo>
                    <a:pt x="23" y="85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1882"/>
            <p:cNvSpPr/>
            <p:nvPr/>
          </p:nvSpPr>
          <p:spPr>
            <a:xfrm>
              <a:off x="4412880" y="433116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1" y="10"/>
                  </a:lnTo>
                  <a:lnTo>
                    <a:pt x="70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7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6"/>
                  </a:lnTo>
                  <a:lnTo>
                    <a:pt x="66" y="85"/>
                  </a:lnTo>
                  <a:lnTo>
                    <a:pt x="52" y="90"/>
                  </a:lnTo>
                  <a:lnTo>
                    <a:pt x="42" y="90"/>
                  </a:lnTo>
                  <a:lnTo>
                    <a:pt x="33" y="90"/>
                  </a:lnTo>
                  <a:lnTo>
                    <a:pt x="23" y="85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1883"/>
            <p:cNvSpPr/>
            <p:nvPr/>
          </p:nvSpPr>
          <p:spPr>
            <a:xfrm>
              <a:off x="4412880" y="433116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1" y="10"/>
                  </a:lnTo>
                  <a:lnTo>
                    <a:pt x="70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7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6"/>
                  </a:lnTo>
                  <a:lnTo>
                    <a:pt x="66" y="85"/>
                  </a:lnTo>
                  <a:lnTo>
                    <a:pt x="52" y="90"/>
                  </a:lnTo>
                  <a:lnTo>
                    <a:pt x="42" y="90"/>
                  </a:lnTo>
                  <a:lnTo>
                    <a:pt x="33" y="90"/>
                  </a:lnTo>
                  <a:lnTo>
                    <a:pt x="23" y="85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1884"/>
            <p:cNvSpPr/>
            <p:nvPr/>
          </p:nvSpPr>
          <p:spPr>
            <a:xfrm>
              <a:off x="4412880" y="433116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8" y="10"/>
                  </a:lnTo>
                  <a:lnTo>
                    <a:pt x="28" y="5"/>
                  </a:lnTo>
                  <a:lnTo>
                    <a:pt x="33" y="5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1" y="10"/>
                  </a:lnTo>
                  <a:lnTo>
                    <a:pt x="70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7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6"/>
                  </a:lnTo>
                  <a:lnTo>
                    <a:pt x="66" y="85"/>
                  </a:lnTo>
                  <a:lnTo>
                    <a:pt x="52" y="90"/>
                  </a:lnTo>
                  <a:lnTo>
                    <a:pt x="42" y="90"/>
                  </a:lnTo>
                  <a:lnTo>
                    <a:pt x="33" y="90"/>
                  </a:lnTo>
                  <a:lnTo>
                    <a:pt x="23" y="85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1885"/>
            <p:cNvSpPr/>
            <p:nvPr/>
          </p:nvSpPr>
          <p:spPr>
            <a:xfrm>
              <a:off x="3210120" y="347544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6" y="4"/>
                  </a:lnTo>
                  <a:lnTo>
                    <a:pt x="75" y="14"/>
                  </a:lnTo>
                  <a:lnTo>
                    <a:pt x="80" y="18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2" y="89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1886"/>
            <p:cNvSpPr/>
            <p:nvPr/>
          </p:nvSpPr>
          <p:spPr>
            <a:xfrm>
              <a:off x="3210120" y="347544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8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6" y="4"/>
                  </a:lnTo>
                  <a:lnTo>
                    <a:pt x="75" y="14"/>
                  </a:lnTo>
                  <a:lnTo>
                    <a:pt x="80" y="18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2" y="89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1887"/>
            <p:cNvSpPr/>
            <p:nvPr/>
          </p:nvSpPr>
          <p:spPr>
            <a:xfrm>
              <a:off x="4083120" y="302904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9" y="1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6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1888"/>
            <p:cNvSpPr/>
            <p:nvPr/>
          </p:nvSpPr>
          <p:spPr>
            <a:xfrm>
              <a:off x="4083120" y="302904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9" y="1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6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1889"/>
            <p:cNvSpPr/>
            <p:nvPr/>
          </p:nvSpPr>
          <p:spPr>
            <a:xfrm>
              <a:off x="4083120" y="302904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9" y="1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6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1890"/>
            <p:cNvSpPr/>
            <p:nvPr/>
          </p:nvSpPr>
          <p:spPr>
            <a:xfrm>
              <a:off x="4083120" y="302904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9" y="1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6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6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1891"/>
            <p:cNvSpPr/>
            <p:nvPr/>
          </p:nvSpPr>
          <p:spPr>
            <a:xfrm>
              <a:off x="4862880" y="4405680"/>
              <a:ext cx="49320" cy="57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10" y="18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4"/>
                  </a:lnTo>
                  <a:lnTo>
                    <a:pt x="71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3" y="89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1892"/>
            <p:cNvSpPr/>
            <p:nvPr/>
          </p:nvSpPr>
          <p:spPr>
            <a:xfrm>
              <a:off x="4862880" y="4405680"/>
              <a:ext cx="49320" cy="576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10" y="18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4"/>
                  </a:lnTo>
                  <a:lnTo>
                    <a:pt x="71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3" y="89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1893"/>
            <p:cNvSpPr/>
            <p:nvPr/>
          </p:nvSpPr>
          <p:spPr>
            <a:xfrm>
              <a:off x="6049440" y="548352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5" h="85">
                  <a:moveTo>
                    <a:pt x="0" y="3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6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3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5" y="76"/>
                  </a:lnTo>
                  <a:lnTo>
                    <a:pt x="66" y="80"/>
                  </a:lnTo>
                  <a:lnTo>
                    <a:pt x="56" y="85"/>
                  </a:lnTo>
                  <a:lnTo>
                    <a:pt x="47" y="85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1894"/>
            <p:cNvSpPr/>
            <p:nvPr/>
          </p:nvSpPr>
          <p:spPr>
            <a:xfrm>
              <a:off x="6049440" y="5483520"/>
              <a:ext cx="49320" cy="55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85" h="85">
                  <a:moveTo>
                    <a:pt x="0" y="38"/>
                  </a:moveTo>
                  <a:lnTo>
                    <a:pt x="0" y="28"/>
                  </a:lnTo>
                  <a:lnTo>
                    <a:pt x="4" y="24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23" y="5"/>
                  </a:lnTo>
                  <a:lnTo>
                    <a:pt x="28" y="0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6" y="5"/>
                  </a:lnTo>
                  <a:lnTo>
                    <a:pt x="75" y="10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3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5" y="76"/>
                  </a:lnTo>
                  <a:lnTo>
                    <a:pt x="66" y="80"/>
                  </a:lnTo>
                  <a:lnTo>
                    <a:pt x="56" y="85"/>
                  </a:lnTo>
                  <a:lnTo>
                    <a:pt x="47" y="85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38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1895"/>
            <p:cNvSpPr/>
            <p:nvPr/>
          </p:nvSpPr>
          <p:spPr>
            <a:xfrm>
              <a:off x="4788720" y="368604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1" y="14"/>
                  </a:lnTo>
                  <a:lnTo>
                    <a:pt x="80" y="18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89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1896"/>
            <p:cNvSpPr/>
            <p:nvPr/>
          </p:nvSpPr>
          <p:spPr>
            <a:xfrm>
              <a:off x="4788720" y="368604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4"/>
                  </a:lnTo>
                  <a:lnTo>
                    <a:pt x="28" y="4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4"/>
                  </a:lnTo>
                  <a:lnTo>
                    <a:pt x="71" y="14"/>
                  </a:lnTo>
                  <a:lnTo>
                    <a:pt x="80" y="18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89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1897"/>
            <p:cNvSpPr/>
            <p:nvPr/>
          </p:nvSpPr>
          <p:spPr>
            <a:xfrm>
              <a:off x="5051160" y="366732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3" y="5"/>
                  </a:lnTo>
                  <a:lnTo>
                    <a:pt x="43" y="0"/>
                  </a:lnTo>
                  <a:lnTo>
                    <a:pt x="52" y="5"/>
                  </a:lnTo>
                  <a:lnTo>
                    <a:pt x="62" y="10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5"/>
                  </a:lnTo>
                  <a:lnTo>
                    <a:pt x="52" y="90"/>
                  </a:lnTo>
                  <a:lnTo>
                    <a:pt x="43" y="90"/>
                  </a:lnTo>
                  <a:lnTo>
                    <a:pt x="33" y="90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1898"/>
            <p:cNvSpPr/>
            <p:nvPr/>
          </p:nvSpPr>
          <p:spPr>
            <a:xfrm>
              <a:off x="5051160" y="366732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9" y="5"/>
                  </a:lnTo>
                  <a:lnTo>
                    <a:pt x="33" y="5"/>
                  </a:lnTo>
                  <a:lnTo>
                    <a:pt x="43" y="0"/>
                  </a:lnTo>
                  <a:lnTo>
                    <a:pt x="52" y="5"/>
                  </a:lnTo>
                  <a:lnTo>
                    <a:pt x="62" y="10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5"/>
                  </a:lnTo>
                  <a:lnTo>
                    <a:pt x="52" y="90"/>
                  </a:lnTo>
                  <a:lnTo>
                    <a:pt x="43" y="90"/>
                  </a:lnTo>
                  <a:lnTo>
                    <a:pt x="33" y="90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1899"/>
            <p:cNvSpPr/>
            <p:nvPr/>
          </p:nvSpPr>
          <p:spPr>
            <a:xfrm>
              <a:off x="4934880" y="321516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9" y="19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6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5" y="76"/>
                  </a:lnTo>
                  <a:lnTo>
                    <a:pt x="66" y="85"/>
                  </a:lnTo>
                  <a:lnTo>
                    <a:pt x="57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1900"/>
            <p:cNvSpPr/>
            <p:nvPr/>
          </p:nvSpPr>
          <p:spPr>
            <a:xfrm>
              <a:off x="4934880" y="3215160"/>
              <a:ext cx="50040" cy="590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9" y="19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5"/>
                  </a:lnTo>
                  <a:lnTo>
                    <a:pt x="66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5" y="76"/>
                  </a:lnTo>
                  <a:lnTo>
                    <a:pt x="66" y="85"/>
                  </a:lnTo>
                  <a:lnTo>
                    <a:pt x="57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1901"/>
            <p:cNvSpPr/>
            <p:nvPr/>
          </p:nvSpPr>
          <p:spPr>
            <a:xfrm>
              <a:off x="5643000" y="291420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3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1" y="5"/>
                  </a:lnTo>
                  <a:lnTo>
                    <a:pt x="70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6"/>
                  </a:lnTo>
                  <a:lnTo>
                    <a:pt x="66" y="81"/>
                  </a:lnTo>
                  <a:lnTo>
                    <a:pt x="51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3" y="81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1902"/>
            <p:cNvSpPr/>
            <p:nvPr/>
          </p:nvSpPr>
          <p:spPr>
            <a:xfrm>
              <a:off x="5643000" y="291420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3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18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61" y="5"/>
                  </a:lnTo>
                  <a:lnTo>
                    <a:pt x="70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6"/>
                  </a:lnTo>
                  <a:lnTo>
                    <a:pt x="66" y="81"/>
                  </a:lnTo>
                  <a:lnTo>
                    <a:pt x="51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3" y="81"/>
                  </a:lnTo>
                  <a:lnTo>
                    <a:pt x="14" y="76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1903"/>
            <p:cNvSpPr/>
            <p:nvPr/>
          </p:nvSpPr>
          <p:spPr>
            <a:xfrm>
              <a:off x="5684040" y="3180960"/>
              <a:ext cx="49320" cy="56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5" h="85">
                  <a:moveTo>
                    <a:pt x="0" y="4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5" y="10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71" y="10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1" y="76"/>
                  </a:lnTo>
                  <a:lnTo>
                    <a:pt x="62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19" y="80"/>
                  </a:lnTo>
                  <a:lnTo>
                    <a:pt x="10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1904"/>
            <p:cNvSpPr/>
            <p:nvPr/>
          </p:nvSpPr>
          <p:spPr>
            <a:xfrm>
              <a:off x="5684040" y="3180960"/>
              <a:ext cx="49320" cy="56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5" h="85">
                  <a:moveTo>
                    <a:pt x="0" y="4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5" y="10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71" y="10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1" y="76"/>
                  </a:lnTo>
                  <a:lnTo>
                    <a:pt x="62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19" y="80"/>
                  </a:lnTo>
                  <a:lnTo>
                    <a:pt x="10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1905"/>
            <p:cNvSpPr/>
            <p:nvPr/>
          </p:nvSpPr>
          <p:spPr>
            <a:xfrm>
              <a:off x="5684040" y="3180960"/>
              <a:ext cx="49320" cy="56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5" h="85">
                  <a:moveTo>
                    <a:pt x="0" y="4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5" y="10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71" y="10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1" y="76"/>
                  </a:lnTo>
                  <a:lnTo>
                    <a:pt x="62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19" y="80"/>
                  </a:lnTo>
                  <a:lnTo>
                    <a:pt x="10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1906"/>
            <p:cNvSpPr/>
            <p:nvPr/>
          </p:nvSpPr>
          <p:spPr>
            <a:xfrm>
              <a:off x="5684040" y="3180960"/>
              <a:ext cx="49320" cy="5616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85" h="85">
                  <a:moveTo>
                    <a:pt x="0" y="4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15" y="10"/>
                  </a:lnTo>
                  <a:lnTo>
                    <a:pt x="19" y="5"/>
                  </a:lnTo>
                  <a:lnTo>
                    <a:pt x="29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2" y="5"/>
                  </a:lnTo>
                  <a:lnTo>
                    <a:pt x="71" y="10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1" y="76"/>
                  </a:lnTo>
                  <a:lnTo>
                    <a:pt x="62" y="80"/>
                  </a:lnTo>
                  <a:lnTo>
                    <a:pt x="52" y="85"/>
                  </a:lnTo>
                  <a:lnTo>
                    <a:pt x="43" y="85"/>
                  </a:lnTo>
                  <a:lnTo>
                    <a:pt x="33" y="85"/>
                  </a:lnTo>
                  <a:lnTo>
                    <a:pt x="19" y="80"/>
                  </a:lnTo>
                  <a:lnTo>
                    <a:pt x="10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1907"/>
            <p:cNvSpPr/>
            <p:nvPr/>
          </p:nvSpPr>
          <p:spPr>
            <a:xfrm>
              <a:off x="5200200" y="2173320"/>
              <a:ext cx="52560" cy="55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0" h="85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90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6" y="76"/>
                  </a:lnTo>
                  <a:lnTo>
                    <a:pt x="66" y="81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3" y="85"/>
                  </a:lnTo>
                  <a:lnTo>
                    <a:pt x="24" y="81"/>
                  </a:lnTo>
                  <a:lnTo>
                    <a:pt x="14" y="76"/>
                  </a:lnTo>
                  <a:lnTo>
                    <a:pt x="10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1908"/>
            <p:cNvSpPr/>
            <p:nvPr/>
          </p:nvSpPr>
          <p:spPr>
            <a:xfrm>
              <a:off x="5200200" y="2173320"/>
              <a:ext cx="52560" cy="55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0" h="85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90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6" y="76"/>
                  </a:lnTo>
                  <a:lnTo>
                    <a:pt x="66" y="81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3" y="85"/>
                  </a:lnTo>
                  <a:lnTo>
                    <a:pt x="24" y="81"/>
                  </a:lnTo>
                  <a:lnTo>
                    <a:pt x="14" y="76"/>
                  </a:lnTo>
                  <a:lnTo>
                    <a:pt x="10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1909"/>
            <p:cNvSpPr/>
            <p:nvPr/>
          </p:nvSpPr>
          <p:spPr>
            <a:xfrm>
              <a:off x="5200200" y="2173320"/>
              <a:ext cx="52560" cy="55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0" h="85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90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6" y="76"/>
                  </a:lnTo>
                  <a:lnTo>
                    <a:pt x="66" y="81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3" y="85"/>
                  </a:lnTo>
                  <a:lnTo>
                    <a:pt x="24" y="81"/>
                  </a:lnTo>
                  <a:lnTo>
                    <a:pt x="14" y="76"/>
                  </a:lnTo>
                  <a:lnTo>
                    <a:pt x="10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1910"/>
            <p:cNvSpPr/>
            <p:nvPr/>
          </p:nvSpPr>
          <p:spPr>
            <a:xfrm>
              <a:off x="5200200" y="2173320"/>
              <a:ext cx="52560" cy="5580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90" h="85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4" y="10"/>
                  </a:lnTo>
                  <a:lnTo>
                    <a:pt x="24" y="5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90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6" y="76"/>
                  </a:lnTo>
                  <a:lnTo>
                    <a:pt x="66" y="81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3" y="85"/>
                  </a:lnTo>
                  <a:lnTo>
                    <a:pt x="24" y="81"/>
                  </a:lnTo>
                  <a:lnTo>
                    <a:pt x="14" y="76"/>
                  </a:lnTo>
                  <a:lnTo>
                    <a:pt x="10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1911"/>
            <p:cNvSpPr/>
            <p:nvPr/>
          </p:nvSpPr>
          <p:spPr>
            <a:xfrm>
              <a:off x="5947200" y="316548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1" y="9"/>
                  </a:lnTo>
                  <a:lnTo>
                    <a:pt x="71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5" y="47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  <a:lnTo>
                    <a:pt x="33" y="89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1912"/>
            <p:cNvSpPr/>
            <p:nvPr/>
          </p:nvSpPr>
          <p:spPr>
            <a:xfrm>
              <a:off x="5947200" y="3165480"/>
              <a:ext cx="49320" cy="583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9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42" y="0"/>
                  </a:lnTo>
                  <a:lnTo>
                    <a:pt x="52" y="4"/>
                  </a:lnTo>
                  <a:lnTo>
                    <a:pt x="61" y="9"/>
                  </a:lnTo>
                  <a:lnTo>
                    <a:pt x="71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85" y="47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5"/>
                  </a:lnTo>
                  <a:lnTo>
                    <a:pt x="52" y="89"/>
                  </a:lnTo>
                  <a:lnTo>
                    <a:pt x="42" y="89"/>
                  </a:lnTo>
                  <a:lnTo>
                    <a:pt x="33" y="89"/>
                  </a:lnTo>
                  <a:lnTo>
                    <a:pt x="23" y="85"/>
                  </a:lnTo>
                  <a:lnTo>
                    <a:pt x="14" y="75"/>
                  </a:lnTo>
                  <a:lnTo>
                    <a:pt x="5" y="66"/>
                  </a:lnTo>
                  <a:lnTo>
                    <a:pt x="0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1913"/>
            <p:cNvSpPr/>
            <p:nvPr/>
          </p:nvSpPr>
          <p:spPr>
            <a:xfrm>
              <a:off x="6043680" y="249588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4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0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1914"/>
            <p:cNvSpPr/>
            <p:nvPr/>
          </p:nvSpPr>
          <p:spPr>
            <a:xfrm>
              <a:off x="6043680" y="249588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4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0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1915"/>
            <p:cNvSpPr/>
            <p:nvPr/>
          </p:nvSpPr>
          <p:spPr>
            <a:xfrm>
              <a:off x="6043680" y="249588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4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0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1916"/>
            <p:cNvSpPr/>
            <p:nvPr/>
          </p:nvSpPr>
          <p:spPr>
            <a:xfrm>
              <a:off x="6043680" y="249588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4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0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1917"/>
            <p:cNvSpPr/>
            <p:nvPr/>
          </p:nvSpPr>
          <p:spPr>
            <a:xfrm>
              <a:off x="6009840" y="1175040"/>
              <a:ext cx="88920" cy="99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52" h="152">
                  <a:moveTo>
                    <a:pt x="0" y="67"/>
                  </a:moveTo>
                  <a:lnTo>
                    <a:pt x="0" y="52"/>
                  </a:lnTo>
                  <a:lnTo>
                    <a:pt x="10" y="38"/>
                  </a:lnTo>
                  <a:lnTo>
                    <a:pt x="15" y="29"/>
                  </a:lnTo>
                  <a:lnTo>
                    <a:pt x="24" y="19"/>
                  </a:lnTo>
                  <a:lnTo>
                    <a:pt x="38" y="10"/>
                  </a:lnTo>
                  <a:lnTo>
                    <a:pt x="48" y="5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10"/>
                  </a:lnTo>
                  <a:lnTo>
                    <a:pt x="128" y="19"/>
                  </a:lnTo>
                  <a:lnTo>
                    <a:pt x="137" y="29"/>
                  </a:lnTo>
                  <a:lnTo>
                    <a:pt x="147" y="43"/>
                  </a:lnTo>
                  <a:lnTo>
                    <a:pt x="152" y="57"/>
                  </a:lnTo>
                  <a:lnTo>
                    <a:pt x="152" y="71"/>
                  </a:lnTo>
                  <a:lnTo>
                    <a:pt x="152" y="85"/>
                  </a:lnTo>
                  <a:lnTo>
                    <a:pt x="147" y="104"/>
                  </a:lnTo>
                  <a:lnTo>
                    <a:pt x="142" y="118"/>
                  </a:lnTo>
                  <a:lnTo>
                    <a:pt x="133" y="128"/>
                  </a:lnTo>
                  <a:lnTo>
                    <a:pt x="118" y="137"/>
                  </a:lnTo>
                  <a:lnTo>
                    <a:pt x="104" y="142"/>
                  </a:lnTo>
                  <a:lnTo>
                    <a:pt x="95" y="147"/>
                  </a:lnTo>
                  <a:lnTo>
                    <a:pt x="81" y="152"/>
                  </a:lnTo>
                  <a:lnTo>
                    <a:pt x="62" y="147"/>
                  </a:lnTo>
                  <a:lnTo>
                    <a:pt x="48" y="147"/>
                  </a:lnTo>
                  <a:lnTo>
                    <a:pt x="33" y="137"/>
                  </a:lnTo>
                  <a:lnTo>
                    <a:pt x="24" y="128"/>
                  </a:lnTo>
                  <a:lnTo>
                    <a:pt x="15" y="118"/>
                  </a:lnTo>
                  <a:lnTo>
                    <a:pt x="5" y="104"/>
                  </a:lnTo>
                  <a:lnTo>
                    <a:pt x="0" y="85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1918"/>
            <p:cNvSpPr/>
            <p:nvPr/>
          </p:nvSpPr>
          <p:spPr>
            <a:xfrm>
              <a:off x="6009840" y="1175040"/>
              <a:ext cx="88920" cy="997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9720"/>
                <a:gd name="textAreaBottom" fmla="*/ 100080 h 99720"/>
              </a:gdLst>
              <a:ahLst/>
              <a:rect l="textAreaLeft" t="textAreaTop" r="textAreaRight" b="textAreaBottom"/>
              <a:pathLst>
                <a:path w="152" h="152">
                  <a:moveTo>
                    <a:pt x="0" y="67"/>
                  </a:moveTo>
                  <a:lnTo>
                    <a:pt x="0" y="52"/>
                  </a:lnTo>
                  <a:lnTo>
                    <a:pt x="10" y="38"/>
                  </a:lnTo>
                  <a:lnTo>
                    <a:pt x="15" y="29"/>
                  </a:lnTo>
                  <a:lnTo>
                    <a:pt x="24" y="19"/>
                  </a:lnTo>
                  <a:lnTo>
                    <a:pt x="38" y="10"/>
                  </a:lnTo>
                  <a:lnTo>
                    <a:pt x="48" y="5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10"/>
                  </a:lnTo>
                  <a:lnTo>
                    <a:pt x="128" y="19"/>
                  </a:lnTo>
                  <a:lnTo>
                    <a:pt x="137" y="29"/>
                  </a:lnTo>
                  <a:lnTo>
                    <a:pt x="147" y="43"/>
                  </a:lnTo>
                  <a:lnTo>
                    <a:pt x="152" y="57"/>
                  </a:lnTo>
                  <a:lnTo>
                    <a:pt x="152" y="71"/>
                  </a:lnTo>
                  <a:lnTo>
                    <a:pt x="152" y="85"/>
                  </a:lnTo>
                  <a:lnTo>
                    <a:pt x="147" y="104"/>
                  </a:lnTo>
                  <a:lnTo>
                    <a:pt x="142" y="118"/>
                  </a:lnTo>
                  <a:lnTo>
                    <a:pt x="133" y="128"/>
                  </a:lnTo>
                  <a:lnTo>
                    <a:pt x="118" y="137"/>
                  </a:lnTo>
                  <a:lnTo>
                    <a:pt x="104" y="142"/>
                  </a:lnTo>
                  <a:lnTo>
                    <a:pt x="95" y="147"/>
                  </a:lnTo>
                  <a:lnTo>
                    <a:pt x="81" y="152"/>
                  </a:lnTo>
                  <a:lnTo>
                    <a:pt x="62" y="147"/>
                  </a:lnTo>
                  <a:lnTo>
                    <a:pt x="48" y="147"/>
                  </a:lnTo>
                  <a:lnTo>
                    <a:pt x="33" y="137"/>
                  </a:lnTo>
                  <a:lnTo>
                    <a:pt x="24" y="128"/>
                  </a:lnTo>
                  <a:lnTo>
                    <a:pt x="15" y="118"/>
                  </a:lnTo>
                  <a:lnTo>
                    <a:pt x="5" y="104"/>
                  </a:lnTo>
                  <a:lnTo>
                    <a:pt x="0" y="85"/>
                  </a:lnTo>
                  <a:lnTo>
                    <a:pt x="0" y="67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1919"/>
            <p:cNvSpPr/>
            <p:nvPr/>
          </p:nvSpPr>
          <p:spPr>
            <a:xfrm>
              <a:off x="6031440" y="1200600"/>
              <a:ext cx="45000" cy="493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6" h="76">
                  <a:moveTo>
                    <a:pt x="0" y="33"/>
                  </a:moveTo>
                  <a:lnTo>
                    <a:pt x="5" y="47"/>
                  </a:lnTo>
                  <a:lnTo>
                    <a:pt x="5" y="57"/>
                  </a:lnTo>
                  <a:lnTo>
                    <a:pt x="14" y="62"/>
                  </a:lnTo>
                  <a:lnTo>
                    <a:pt x="19" y="71"/>
                  </a:lnTo>
                  <a:lnTo>
                    <a:pt x="29" y="71"/>
                  </a:lnTo>
                  <a:lnTo>
                    <a:pt x="38" y="76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66" y="62"/>
                  </a:lnTo>
                  <a:lnTo>
                    <a:pt x="71" y="57"/>
                  </a:lnTo>
                  <a:lnTo>
                    <a:pt x="76" y="47"/>
                  </a:lnTo>
                  <a:lnTo>
                    <a:pt x="76" y="33"/>
                  </a:lnTo>
                  <a:lnTo>
                    <a:pt x="76" y="24"/>
                  </a:lnTo>
                  <a:lnTo>
                    <a:pt x="71" y="14"/>
                  </a:lnTo>
                  <a:lnTo>
                    <a:pt x="66" y="10"/>
                  </a:lnTo>
                  <a:lnTo>
                    <a:pt x="57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4" y="10"/>
                  </a:lnTo>
                  <a:lnTo>
                    <a:pt x="5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1920"/>
            <p:cNvSpPr/>
            <p:nvPr/>
          </p:nvSpPr>
          <p:spPr>
            <a:xfrm>
              <a:off x="7887600" y="1600560"/>
              <a:ext cx="88200" cy="99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2"/>
                  </a:lnTo>
                  <a:lnTo>
                    <a:pt x="5" y="43"/>
                  </a:lnTo>
                  <a:lnTo>
                    <a:pt x="14" y="28"/>
                  </a:lnTo>
                  <a:lnTo>
                    <a:pt x="24" y="19"/>
                  </a:lnTo>
                  <a:lnTo>
                    <a:pt x="33" y="10"/>
                  </a:lnTo>
                  <a:lnTo>
                    <a:pt x="47" y="5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9" y="5"/>
                  </a:lnTo>
                  <a:lnTo>
                    <a:pt x="113" y="10"/>
                  </a:lnTo>
                  <a:lnTo>
                    <a:pt x="128" y="19"/>
                  </a:lnTo>
                  <a:lnTo>
                    <a:pt x="137" y="28"/>
                  </a:lnTo>
                  <a:lnTo>
                    <a:pt x="142" y="43"/>
                  </a:lnTo>
                  <a:lnTo>
                    <a:pt x="146" y="57"/>
                  </a:lnTo>
                  <a:lnTo>
                    <a:pt x="151" y="71"/>
                  </a:lnTo>
                  <a:lnTo>
                    <a:pt x="146" y="90"/>
                  </a:lnTo>
                  <a:lnTo>
                    <a:pt x="142" y="104"/>
                  </a:lnTo>
                  <a:lnTo>
                    <a:pt x="137" y="118"/>
                  </a:lnTo>
                  <a:lnTo>
                    <a:pt x="128" y="128"/>
                  </a:lnTo>
                  <a:lnTo>
                    <a:pt x="118" y="137"/>
                  </a:lnTo>
                  <a:lnTo>
                    <a:pt x="104" y="146"/>
                  </a:lnTo>
                  <a:lnTo>
                    <a:pt x="90" y="146"/>
                  </a:lnTo>
                  <a:lnTo>
                    <a:pt x="76" y="151"/>
                  </a:lnTo>
                  <a:lnTo>
                    <a:pt x="62" y="151"/>
                  </a:lnTo>
                  <a:lnTo>
                    <a:pt x="47" y="146"/>
                  </a:lnTo>
                  <a:lnTo>
                    <a:pt x="33" y="137"/>
                  </a:lnTo>
                  <a:lnTo>
                    <a:pt x="19" y="132"/>
                  </a:lnTo>
                  <a:lnTo>
                    <a:pt x="10" y="118"/>
                  </a:lnTo>
                  <a:lnTo>
                    <a:pt x="5" y="104"/>
                  </a:lnTo>
                  <a:lnTo>
                    <a:pt x="0" y="9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1921"/>
            <p:cNvSpPr/>
            <p:nvPr/>
          </p:nvSpPr>
          <p:spPr>
            <a:xfrm>
              <a:off x="7887600" y="1600560"/>
              <a:ext cx="88200" cy="9900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2"/>
                  </a:lnTo>
                  <a:lnTo>
                    <a:pt x="5" y="43"/>
                  </a:lnTo>
                  <a:lnTo>
                    <a:pt x="14" y="28"/>
                  </a:lnTo>
                  <a:lnTo>
                    <a:pt x="24" y="19"/>
                  </a:lnTo>
                  <a:lnTo>
                    <a:pt x="33" y="10"/>
                  </a:lnTo>
                  <a:lnTo>
                    <a:pt x="47" y="5"/>
                  </a:lnTo>
                  <a:lnTo>
                    <a:pt x="62" y="0"/>
                  </a:lnTo>
                  <a:lnTo>
                    <a:pt x="71" y="0"/>
                  </a:lnTo>
                  <a:lnTo>
                    <a:pt x="85" y="0"/>
                  </a:lnTo>
                  <a:lnTo>
                    <a:pt x="99" y="5"/>
                  </a:lnTo>
                  <a:lnTo>
                    <a:pt x="113" y="10"/>
                  </a:lnTo>
                  <a:lnTo>
                    <a:pt x="128" y="19"/>
                  </a:lnTo>
                  <a:lnTo>
                    <a:pt x="137" y="28"/>
                  </a:lnTo>
                  <a:lnTo>
                    <a:pt x="142" y="43"/>
                  </a:lnTo>
                  <a:lnTo>
                    <a:pt x="146" y="57"/>
                  </a:lnTo>
                  <a:lnTo>
                    <a:pt x="151" y="71"/>
                  </a:lnTo>
                  <a:lnTo>
                    <a:pt x="146" y="90"/>
                  </a:lnTo>
                  <a:lnTo>
                    <a:pt x="142" y="104"/>
                  </a:lnTo>
                  <a:lnTo>
                    <a:pt x="137" y="118"/>
                  </a:lnTo>
                  <a:lnTo>
                    <a:pt x="128" y="128"/>
                  </a:lnTo>
                  <a:lnTo>
                    <a:pt x="118" y="137"/>
                  </a:lnTo>
                  <a:lnTo>
                    <a:pt x="104" y="146"/>
                  </a:lnTo>
                  <a:lnTo>
                    <a:pt x="90" y="146"/>
                  </a:lnTo>
                  <a:lnTo>
                    <a:pt x="76" y="151"/>
                  </a:lnTo>
                  <a:lnTo>
                    <a:pt x="62" y="151"/>
                  </a:lnTo>
                  <a:lnTo>
                    <a:pt x="47" y="146"/>
                  </a:lnTo>
                  <a:lnTo>
                    <a:pt x="33" y="137"/>
                  </a:lnTo>
                  <a:lnTo>
                    <a:pt x="19" y="132"/>
                  </a:lnTo>
                  <a:lnTo>
                    <a:pt x="10" y="118"/>
                  </a:lnTo>
                  <a:lnTo>
                    <a:pt x="5" y="104"/>
                  </a:lnTo>
                  <a:lnTo>
                    <a:pt x="0" y="90"/>
                  </a:lnTo>
                  <a:lnTo>
                    <a:pt x="0" y="71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1922"/>
            <p:cNvSpPr/>
            <p:nvPr/>
          </p:nvSpPr>
          <p:spPr>
            <a:xfrm>
              <a:off x="7909920" y="1625040"/>
              <a:ext cx="41040" cy="49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1" h="75">
                  <a:moveTo>
                    <a:pt x="0" y="33"/>
                  </a:moveTo>
                  <a:lnTo>
                    <a:pt x="0" y="47"/>
                  </a:lnTo>
                  <a:lnTo>
                    <a:pt x="5" y="57"/>
                  </a:lnTo>
                  <a:lnTo>
                    <a:pt x="9" y="66"/>
                  </a:lnTo>
                  <a:lnTo>
                    <a:pt x="19" y="71"/>
                  </a:lnTo>
                  <a:lnTo>
                    <a:pt x="28" y="71"/>
                  </a:lnTo>
                  <a:lnTo>
                    <a:pt x="38" y="75"/>
                  </a:lnTo>
                  <a:lnTo>
                    <a:pt x="47" y="71"/>
                  </a:lnTo>
                  <a:lnTo>
                    <a:pt x="52" y="71"/>
                  </a:lnTo>
                  <a:lnTo>
                    <a:pt x="61" y="66"/>
                  </a:lnTo>
                  <a:lnTo>
                    <a:pt x="66" y="57"/>
                  </a:lnTo>
                  <a:lnTo>
                    <a:pt x="71" y="47"/>
                  </a:lnTo>
                  <a:lnTo>
                    <a:pt x="71" y="38"/>
                  </a:lnTo>
                  <a:lnTo>
                    <a:pt x="71" y="23"/>
                  </a:lnTo>
                  <a:lnTo>
                    <a:pt x="66" y="19"/>
                  </a:lnTo>
                  <a:lnTo>
                    <a:pt x="61" y="9"/>
                  </a:lnTo>
                  <a:lnTo>
                    <a:pt x="52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4" y="5"/>
                  </a:lnTo>
                  <a:lnTo>
                    <a:pt x="9" y="9"/>
                  </a:lnTo>
                  <a:lnTo>
                    <a:pt x="0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1923"/>
            <p:cNvSpPr/>
            <p:nvPr/>
          </p:nvSpPr>
          <p:spPr>
            <a:xfrm>
              <a:off x="5241960" y="2814840"/>
              <a:ext cx="90720" cy="99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6" h="151">
                  <a:moveTo>
                    <a:pt x="0" y="71"/>
                  </a:moveTo>
                  <a:lnTo>
                    <a:pt x="5" y="52"/>
                  </a:lnTo>
                  <a:lnTo>
                    <a:pt x="9" y="43"/>
                  </a:lnTo>
                  <a:lnTo>
                    <a:pt x="19" y="29"/>
                  </a:lnTo>
                  <a:lnTo>
                    <a:pt x="28" y="19"/>
                  </a:lnTo>
                  <a:lnTo>
                    <a:pt x="38" y="10"/>
                  </a:lnTo>
                  <a:lnTo>
                    <a:pt x="52" y="5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10"/>
                  </a:lnTo>
                  <a:lnTo>
                    <a:pt x="132" y="19"/>
                  </a:lnTo>
                  <a:lnTo>
                    <a:pt x="142" y="29"/>
                  </a:lnTo>
                  <a:lnTo>
                    <a:pt x="146" y="43"/>
                  </a:lnTo>
                  <a:lnTo>
                    <a:pt x="151" y="57"/>
                  </a:lnTo>
                  <a:lnTo>
                    <a:pt x="156" y="71"/>
                  </a:lnTo>
                  <a:lnTo>
                    <a:pt x="151" y="90"/>
                  </a:lnTo>
                  <a:lnTo>
                    <a:pt x="146" y="104"/>
                  </a:lnTo>
                  <a:lnTo>
                    <a:pt x="142" y="118"/>
                  </a:lnTo>
                  <a:lnTo>
                    <a:pt x="132" y="128"/>
                  </a:lnTo>
                  <a:lnTo>
                    <a:pt x="123" y="137"/>
                  </a:lnTo>
                  <a:lnTo>
                    <a:pt x="109" y="147"/>
                  </a:lnTo>
                  <a:lnTo>
                    <a:pt x="94" y="147"/>
                  </a:lnTo>
                  <a:lnTo>
                    <a:pt x="80" y="151"/>
                  </a:lnTo>
                  <a:lnTo>
                    <a:pt x="66" y="151"/>
                  </a:lnTo>
                  <a:lnTo>
                    <a:pt x="52" y="147"/>
                  </a:lnTo>
                  <a:lnTo>
                    <a:pt x="38" y="137"/>
                  </a:lnTo>
                  <a:lnTo>
                    <a:pt x="24" y="132"/>
                  </a:lnTo>
                  <a:lnTo>
                    <a:pt x="14" y="118"/>
                  </a:lnTo>
                  <a:lnTo>
                    <a:pt x="9" y="104"/>
                  </a:lnTo>
                  <a:lnTo>
                    <a:pt x="5" y="9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1924"/>
            <p:cNvSpPr/>
            <p:nvPr/>
          </p:nvSpPr>
          <p:spPr>
            <a:xfrm>
              <a:off x="5241960" y="2814840"/>
              <a:ext cx="90720" cy="990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6" h="151">
                  <a:moveTo>
                    <a:pt x="0" y="71"/>
                  </a:moveTo>
                  <a:lnTo>
                    <a:pt x="5" y="52"/>
                  </a:lnTo>
                  <a:lnTo>
                    <a:pt x="9" y="43"/>
                  </a:lnTo>
                  <a:lnTo>
                    <a:pt x="19" y="29"/>
                  </a:lnTo>
                  <a:lnTo>
                    <a:pt x="28" y="19"/>
                  </a:lnTo>
                  <a:lnTo>
                    <a:pt x="38" y="10"/>
                  </a:lnTo>
                  <a:lnTo>
                    <a:pt x="52" y="5"/>
                  </a:lnTo>
                  <a:lnTo>
                    <a:pt x="61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10"/>
                  </a:lnTo>
                  <a:lnTo>
                    <a:pt x="132" y="19"/>
                  </a:lnTo>
                  <a:lnTo>
                    <a:pt x="142" y="29"/>
                  </a:lnTo>
                  <a:lnTo>
                    <a:pt x="146" y="43"/>
                  </a:lnTo>
                  <a:lnTo>
                    <a:pt x="151" y="57"/>
                  </a:lnTo>
                  <a:lnTo>
                    <a:pt x="156" y="71"/>
                  </a:lnTo>
                  <a:lnTo>
                    <a:pt x="151" y="90"/>
                  </a:lnTo>
                  <a:lnTo>
                    <a:pt x="146" y="104"/>
                  </a:lnTo>
                  <a:lnTo>
                    <a:pt x="142" y="118"/>
                  </a:lnTo>
                  <a:lnTo>
                    <a:pt x="132" y="128"/>
                  </a:lnTo>
                  <a:lnTo>
                    <a:pt x="123" y="137"/>
                  </a:lnTo>
                  <a:lnTo>
                    <a:pt x="109" y="147"/>
                  </a:lnTo>
                  <a:lnTo>
                    <a:pt x="94" y="147"/>
                  </a:lnTo>
                  <a:lnTo>
                    <a:pt x="80" y="151"/>
                  </a:lnTo>
                  <a:lnTo>
                    <a:pt x="66" y="151"/>
                  </a:lnTo>
                  <a:lnTo>
                    <a:pt x="52" y="147"/>
                  </a:lnTo>
                  <a:lnTo>
                    <a:pt x="38" y="137"/>
                  </a:lnTo>
                  <a:lnTo>
                    <a:pt x="24" y="132"/>
                  </a:lnTo>
                  <a:lnTo>
                    <a:pt x="14" y="118"/>
                  </a:lnTo>
                  <a:lnTo>
                    <a:pt x="9" y="104"/>
                  </a:lnTo>
                  <a:lnTo>
                    <a:pt x="5" y="90"/>
                  </a:lnTo>
                  <a:lnTo>
                    <a:pt x="0" y="71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1925"/>
            <p:cNvSpPr/>
            <p:nvPr/>
          </p:nvSpPr>
          <p:spPr>
            <a:xfrm>
              <a:off x="5266440" y="2840040"/>
              <a:ext cx="41760" cy="4932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1" h="76">
                  <a:moveTo>
                    <a:pt x="0" y="33"/>
                  </a:moveTo>
                  <a:lnTo>
                    <a:pt x="0" y="47"/>
                  </a:lnTo>
                  <a:lnTo>
                    <a:pt x="5" y="57"/>
                  </a:lnTo>
                  <a:lnTo>
                    <a:pt x="10" y="66"/>
                  </a:lnTo>
                  <a:lnTo>
                    <a:pt x="19" y="71"/>
                  </a:lnTo>
                  <a:lnTo>
                    <a:pt x="29" y="71"/>
                  </a:lnTo>
                  <a:lnTo>
                    <a:pt x="38" y="76"/>
                  </a:lnTo>
                  <a:lnTo>
                    <a:pt x="48" y="71"/>
                  </a:lnTo>
                  <a:lnTo>
                    <a:pt x="52" y="71"/>
                  </a:lnTo>
                  <a:lnTo>
                    <a:pt x="62" y="66"/>
                  </a:lnTo>
                  <a:lnTo>
                    <a:pt x="67" y="57"/>
                  </a:lnTo>
                  <a:lnTo>
                    <a:pt x="71" y="47"/>
                  </a:lnTo>
                  <a:lnTo>
                    <a:pt x="71" y="38"/>
                  </a:lnTo>
                  <a:lnTo>
                    <a:pt x="71" y="24"/>
                  </a:lnTo>
                  <a:lnTo>
                    <a:pt x="67" y="19"/>
                  </a:lnTo>
                  <a:lnTo>
                    <a:pt x="62" y="9"/>
                  </a:lnTo>
                  <a:lnTo>
                    <a:pt x="52" y="5"/>
                  </a:lnTo>
                  <a:lnTo>
                    <a:pt x="43" y="0"/>
                  </a:lnTo>
                  <a:lnTo>
                    <a:pt x="34" y="0"/>
                  </a:lnTo>
                  <a:lnTo>
                    <a:pt x="24" y="5"/>
                  </a:lnTo>
                  <a:lnTo>
                    <a:pt x="10" y="9"/>
                  </a:lnTo>
                  <a:lnTo>
                    <a:pt x="0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1926"/>
            <p:cNvSpPr/>
            <p:nvPr/>
          </p:nvSpPr>
          <p:spPr>
            <a:xfrm>
              <a:off x="6029640" y="5056560"/>
              <a:ext cx="88560" cy="99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2" h="151">
                  <a:moveTo>
                    <a:pt x="0" y="71"/>
                  </a:moveTo>
                  <a:lnTo>
                    <a:pt x="0" y="56"/>
                  </a:lnTo>
                  <a:lnTo>
                    <a:pt x="5" y="42"/>
                  </a:lnTo>
                  <a:lnTo>
                    <a:pt x="15" y="33"/>
                  </a:lnTo>
                  <a:lnTo>
                    <a:pt x="24" y="23"/>
                  </a:lnTo>
                  <a:lnTo>
                    <a:pt x="34" y="14"/>
                  </a:lnTo>
                  <a:lnTo>
                    <a:pt x="48" y="4"/>
                  </a:lnTo>
                  <a:lnTo>
                    <a:pt x="62" y="4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104" y="4"/>
                  </a:lnTo>
                  <a:lnTo>
                    <a:pt x="114" y="14"/>
                  </a:lnTo>
                  <a:lnTo>
                    <a:pt x="128" y="23"/>
                  </a:lnTo>
                  <a:lnTo>
                    <a:pt x="137" y="33"/>
                  </a:lnTo>
                  <a:lnTo>
                    <a:pt x="142" y="42"/>
                  </a:lnTo>
                  <a:lnTo>
                    <a:pt x="152" y="56"/>
                  </a:lnTo>
                  <a:lnTo>
                    <a:pt x="152" y="71"/>
                  </a:lnTo>
                  <a:lnTo>
                    <a:pt x="152" y="89"/>
                  </a:lnTo>
                  <a:lnTo>
                    <a:pt x="147" y="108"/>
                  </a:lnTo>
                  <a:lnTo>
                    <a:pt x="137" y="122"/>
                  </a:lnTo>
                  <a:lnTo>
                    <a:pt x="128" y="132"/>
                  </a:lnTo>
                  <a:lnTo>
                    <a:pt x="119" y="141"/>
                  </a:lnTo>
                  <a:lnTo>
                    <a:pt x="104" y="146"/>
                  </a:lnTo>
                  <a:lnTo>
                    <a:pt x="90" y="151"/>
                  </a:lnTo>
                  <a:lnTo>
                    <a:pt x="76" y="151"/>
                  </a:lnTo>
                  <a:lnTo>
                    <a:pt x="62" y="151"/>
                  </a:lnTo>
                  <a:lnTo>
                    <a:pt x="48" y="146"/>
                  </a:lnTo>
                  <a:lnTo>
                    <a:pt x="34" y="141"/>
                  </a:lnTo>
                  <a:lnTo>
                    <a:pt x="24" y="132"/>
                  </a:lnTo>
                  <a:lnTo>
                    <a:pt x="15" y="122"/>
                  </a:lnTo>
                  <a:lnTo>
                    <a:pt x="5" y="108"/>
                  </a:lnTo>
                  <a:lnTo>
                    <a:pt x="0" y="8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1927"/>
            <p:cNvSpPr/>
            <p:nvPr/>
          </p:nvSpPr>
          <p:spPr>
            <a:xfrm>
              <a:off x="6029640" y="5056560"/>
              <a:ext cx="88560" cy="99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2" h="151">
                  <a:moveTo>
                    <a:pt x="0" y="71"/>
                  </a:moveTo>
                  <a:lnTo>
                    <a:pt x="0" y="56"/>
                  </a:lnTo>
                  <a:lnTo>
                    <a:pt x="5" y="42"/>
                  </a:lnTo>
                  <a:lnTo>
                    <a:pt x="15" y="33"/>
                  </a:lnTo>
                  <a:lnTo>
                    <a:pt x="24" y="23"/>
                  </a:lnTo>
                  <a:lnTo>
                    <a:pt x="34" y="14"/>
                  </a:lnTo>
                  <a:lnTo>
                    <a:pt x="48" y="4"/>
                  </a:lnTo>
                  <a:lnTo>
                    <a:pt x="62" y="4"/>
                  </a:lnTo>
                  <a:lnTo>
                    <a:pt x="76" y="0"/>
                  </a:lnTo>
                  <a:lnTo>
                    <a:pt x="90" y="4"/>
                  </a:lnTo>
                  <a:lnTo>
                    <a:pt x="104" y="4"/>
                  </a:lnTo>
                  <a:lnTo>
                    <a:pt x="114" y="14"/>
                  </a:lnTo>
                  <a:lnTo>
                    <a:pt x="128" y="23"/>
                  </a:lnTo>
                  <a:lnTo>
                    <a:pt x="137" y="33"/>
                  </a:lnTo>
                  <a:lnTo>
                    <a:pt x="142" y="42"/>
                  </a:lnTo>
                  <a:lnTo>
                    <a:pt x="152" y="56"/>
                  </a:lnTo>
                  <a:lnTo>
                    <a:pt x="152" y="71"/>
                  </a:lnTo>
                  <a:lnTo>
                    <a:pt x="152" y="89"/>
                  </a:lnTo>
                  <a:lnTo>
                    <a:pt x="147" y="108"/>
                  </a:lnTo>
                  <a:lnTo>
                    <a:pt x="137" y="122"/>
                  </a:lnTo>
                  <a:lnTo>
                    <a:pt x="128" y="132"/>
                  </a:lnTo>
                  <a:lnTo>
                    <a:pt x="119" y="141"/>
                  </a:lnTo>
                  <a:lnTo>
                    <a:pt x="104" y="146"/>
                  </a:lnTo>
                  <a:lnTo>
                    <a:pt x="90" y="151"/>
                  </a:lnTo>
                  <a:lnTo>
                    <a:pt x="76" y="151"/>
                  </a:lnTo>
                  <a:lnTo>
                    <a:pt x="62" y="151"/>
                  </a:lnTo>
                  <a:lnTo>
                    <a:pt x="48" y="146"/>
                  </a:lnTo>
                  <a:lnTo>
                    <a:pt x="34" y="141"/>
                  </a:lnTo>
                  <a:lnTo>
                    <a:pt x="24" y="132"/>
                  </a:lnTo>
                  <a:lnTo>
                    <a:pt x="15" y="122"/>
                  </a:lnTo>
                  <a:lnTo>
                    <a:pt x="5" y="108"/>
                  </a:lnTo>
                  <a:lnTo>
                    <a:pt x="0" y="89"/>
                  </a:lnTo>
                  <a:lnTo>
                    <a:pt x="0" y="71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1928"/>
            <p:cNvSpPr/>
            <p:nvPr/>
          </p:nvSpPr>
          <p:spPr>
            <a:xfrm>
              <a:off x="6051600" y="5084280"/>
              <a:ext cx="44280" cy="4716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76" h="71">
                  <a:moveTo>
                    <a:pt x="0" y="33"/>
                  </a:moveTo>
                  <a:lnTo>
                    <a:pt x="0" y="43"/>
                  </a:lnTo>
                  <a:lnTo>
                    <a:pt x="5" y="52"/>
                  </a:lnTo>
                  <a:lnTo>
                    <a:pt x="10" y="62"/>
                  </a:lnTo>
                  <a:lnTo>
                    <a:pt x="19" y="66"/>
                  </a:lnTo>
                  <a:lnTo>
                    <a:pt x="29" y="71"/>
                  </a:lnTo>
                  <a:lnTo>
                    <a:pt x="38" y="71"/>
                  </a:lnTo>
                  <a:lnTo>
                    <a:pt x="47" y="71"/>
                  </a:lnTo>
                  <a:lnTo>
                    <a:pt x="57" y="66"/>
                  </a:lnTo>
                  <a:lnTo>
                    <a:pt x="62" y="62"/>
                  </a:lnTo>
                  <a:lnTo>
                    <a:pt x="66" y="57"/>
                  </a:lnTo>
                  <a:lnTo>
                    <a:pt x="71" y="47"/>
                  </a:lnTo>
                  <a:lnTo>
                    <a:pt x="76" y="33"/>
                  </a:lnTo>
                  <a:lnTo>
                    <a:pt x="71" y="24"/>
                  </a:lnTo>
                  <a:lnTo>
                    <a:pt x="66" y="14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0" y="10"/>
                  </a:lnTo>
                  <a:lnTo>
                    <a:pt x="5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1929"/>
            <p:cNvSpPr/>
            <p:nvPr/>
          </p:nvSpPr>
          <p:spPr>
            <a:xfrm>
              <a:off x="613440" y="2732040"/>
              <a:ext cx="88560" cy="99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6"/>
                  </a:lnTo>
                  <a:lnTo>
                    <a:pt x="4" y="42"/>
                  </a:lnTo>
                  <a:lnTo>
                    <a:pt x="14" y="33"/>
                  </a:lnTo>
                  <a:lnTo>
                    <a:pt x="23" y="23"/>
                  </a:lnTo>
                  <a:lnTo>
                    <a:pt x="33" y="14"/>
                  </a:lnTo>
                  <a:lnTo>
                    <a:pt x="47" y="9"/>
                  </a:lnTo>
                  <a:lnTo>
                    <a:pt x="61" y="5"/>
                  </a:lnTo>
                  <a:lnTo>
                    <a:pt x="75" y="0"/>
                  </a:lnTo>
                  <a:lnTo>
                    <a:pt x="89" y="5"/>
                  </a:lnTo>
                  <a:lnTo>
                    <a:pt x="104" y="9"/>
                  </a:lnTo>
                  <a:lnTo>
                    <a:pt x="118" y="14"/>
                  </a:lnTo>
                  <a:lnTo>
                    <a:pt x="127" y="23"/>
                  </a:lnTo>
                  <a:lnTo>
                    <a:pt x="137" y="33"/>
                  </a:lnTo>
                  <a:lnTo>
                    <a:pt x="146" y="47"/>
                  </a:lnTo>
                  <a:lnTo>
                    <a:pt x="151" y="56"/>
                  </a:lnTo>
                  <a:lnTo>
                    <a:pt x="151" y="75"/>
                  </a:lnTo>
                  <a:lnTo>
                    <a:pt x="151" y="90"/>
                  </a:lnTo>
                  <a:lnTo>
                    <a:pt x="146" y="108"/>
                  </a:lnTo>
                  <a:lnTo>
                    <a:pt x="137" y="123"/>
                  </a:lnTo>
                  <a:lnTo>
                    <a:pt x="127" y="132"/>
                  </a:lnTo>
                  <a:lnTo>
                    <a:pt x="118" y="141"/>
                  </a:lnTo>
                  <a:lnTo>
                    <a:pt x="104" y="146"/>
                  </a:lnTo>
                  <a:lnTo>
                    <a:pt x="89" y="151"/>
                  </a:lnTo>
                  <a:lnTo>
                    <a:pt x="75" y="151"/>
                  </a:lnTo>
                  <a:lnTo>
                    <a:pt x="61" y="151"/>
                  </a:lnTo>
                  <a:lnTo>
                    <a:pt x="47" y="146"/>
                  </a:lnTo>
                  <a:lnTo>
                    <a:pt x="33" y="141"/>
                  </a:lnTo>
                  <a:lnTo>
                    <a:pt x="23" y="132"/>
                  </a:lnTo>
                  <a:lnTo>
                    <a:pt x="14" y="123"/>
                  </a:lnTo>
                  <a:lnTo>
                    <a:pt x="4" y="108"/>
                  </a:lnTo>
                  <a:lnTo>
                    <a:pt x="0" y="9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1930"/>
            <p:cNvSpPr/>
            <p:nvPr/>
          </p:nvSpPr>
          <p:spPr>
            <a:xfrm>
              <a:off x="613440" y="2732040"/>
              <a:ext cx="88560" cy="9900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6"/>
                  </a:lnTo>
                  <a:lnTo>
                    <a:pt x="4" y="42"/>
                  </a:lnTo>
                  <a:lnTo>
                    <a:pt x="14" y="33"/>
                  </a:lnTo>
                  <a:lnTo>
                    <a:pt x="23" y="23"/>
                  </a:lnTo>
                  <a:lnTo>
                    <a:pt x="33" y="14"/>
                  </a:lnTo>
                  <a:lnTo>
                    <a:pt x="47" y="9"/>
                  </a:lnTo>
                  <a:lnTo>
                    <a:pt x="61" y="5"/>
                  </a:lnTo>
                  <a:lnTo>
                    <a:pt x="75" y="0"/>
                  </a:lnTo>
                  <a:lnTo>
                    <a:pt x="89" y="5"/>
                  </a:lnTo>
                  <a:lnTo>
                    <a:pt x="104" y="9"/>
                  </a:lnTo>
                  <a:lnTo>
                    <a:pt x="118" y="14"/>
                  </a:lnTo>
                  <a:lnTo>
                    <a:pt x="127" y="23"/>
                  </a:lnTo>
                  <a:lnTo>
                    <a:pt x="137" y="33"/>
                  </a:lnTo>
                  <a:lnTo>
                    <a:pt x="146" y="47"/>
                  </a:lnTo>
                  <a:lnTo>
                    <a:pt x="151" y="56"/>
                  </a:lnTo>
                  <a:lnTo>
                    <a:pt x="151" y="75"/>
                  </a:lnTo>
                  <a:lnTo>
                    <a:pt x="151" y="90"/>
                  </a:lnTo>
                  <a:lnTo>
                    <a:pt x="146" y="108"/>
                  </a:lnTo>
                  <a:lnTo>
                    <a:pt x="137" y="123"/>
                  </a:lnTo>
                  <a:lnTo>
                    <a:pt x="127" y="132"/>
                  </a:lnTo>
                  <a:lnTo>
                    <a:pt x="118" y="141"/>
                  </a:lnTo>
                  <a:lnTo>
                    <a:pt x="104" y="146"/>
                  </a:lnTo>
                  <a:lnTo>
                    <a:pt x="89" y="151"/>
                  </a:lnTo>
                  <a:lnTo>
                    <a:pt x="75" y="151"/>
                  </a:lnTo>
                  <a:lnTo>
                    <a:pt x="61" y="151"/>
                  </a:lnTo>
                  <a:lnTo>
                    <a:pt x="47" y="146"/>
                  </a:lnTo>
                  <a:lnTo>
                    <a:pt x="33" y="141"/>
                  </a:lnTo>
                  <a:lnTo>
                    <a:pt x="23" y="132"/>
                  </a:lnTo>
                  <a:lnTo>
                    <a:pt x="14" y="123"/>
                  </a:lnTo>
                  <a:lnTo>
                    <a:pt x="4" y="108"/>
                  </a:lnTo>
                  <a:lnTo>
                    <a:pt x="0" y="90"/>
                  </a:lnTo>
                  <a:lnTo>
                    <a:pt x="0" y="71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1931"/>
            <p:cNvSpPr/>
            <p:nvPr/>
          </p:nvSpPr>
          <p:spPr>
            <a:xfrm>
              <a:off x="635400" y="2759400"/>
              <a:ext cx="44280" cy="4608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6" h="71">
                  <a:moveTo>
                    <a:pt x="0" y="33"/>
                  </a:moveTo>
                  <a:lnTo>
                    <a:pt x="0" y="43"/>
                  </a:lnTo>
                  <a:lnTo>
                    <a:pt x="5" y="57"/>
                  </a:lnTo>
                  <a:lnTo>
                    <a:pt x="15" y="62"/>
                  </a:lnTo>
                  <a:lnTo>
                    <a:pt x="19" y="66"/>
                  </a:lnTo>
                  <a:lnTo>
                    <a:pt x="29" y="71"/>
                  </a:lnTo>
                  <a:lnTo>
                    <a:pt x="38" y="71"/>
                  </a:lnTo>
                  <a:lnTo>
                    <a:pt x="48" y="71"/>
                  </a:lnTo>
                  <a:lnTo>
                    <a:pt x="57" y="66"/>
                  </a:lnTo>
                  <a:lnTo>
                    <a:pt x="62" y="62"/>
                  </a:lnTo>
                  <a:lnTo>
                    <a:pt x="71" y="57"/>
                  </a:lnTo>
                  <a:lnTo>
                    <a:pt x="76" y="48"/>
                  </a:lnTo>
                  <a:lnTo>
                    <a:pt x="76" y="33"/>
                  </a:lnTo>
                  <a:lnTo>
                    <a:pt x="76" y="24"/>
                  </a:lnTo>
                  <a:lnTo>
                    <a:pt x="71" y="14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5" y="10"/>
                  </a:lnTo>
                  <a:lnTo>
                    <a:pt x="5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1932"/>
            <p:cNvSpPr/>
            <p:nvPr/>
          </p:nvSpPr>
          <p:spPr>
            <a:xfrm>
              <a:off x="3917520" y="3576960"/>
              <a:ext cx="88920" cy="99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66"/>
                  </a:moveTo>
                  <a:lnTo>
                    <a:pt x="0" y="52"/>
                  </a:lnTo>
                  <a:lnTo>
                    <a:pt x="4" y="38"/>
                  </a:lnTo>
                  <a:lnTo>
                    <a:pt x="14" y="29"/>
                  </a:lnTo>
                  <a:lnTo>
                    <a:pt x="23" y="19"/>
                  </a:lnTo>
                  <a:lnTo>
                    <a:pt x="33" y="10"/>
                  </a:lnTo>
                  <a:lnTo>
                    <a:pt x="47" y="5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9" y="5"/>
                  </a:lnTo>
                  <a:lnTo>
                    <a:pt x="113" y="10"/>
                  </a:lnTo>
                  <a:lnTo>
                    <a:pt x="127" y="19"/>
                  </a:lnTo>
                  <a:lnTo>
                    <a:pt x="136" y="29"/>
                  </a:lnTo>
                  <a:lnTo>
                    <a:pt x="141" y="43"/>
                  </a:lnTo>
                  <a:lnTo>
                    <a:pt x="146" y="57"/>
                  </a:lnTo>
                  <a:lnTo>
                    <a:pt x="151" y="71"/>
                  </a:lnTo>
                  <a:lnTo>
                    <a:pt x="146" y="85"/>
                  </a:lnTo>
                  <a:lnTo>
                    <a:pt x="141" y="104"/>
                  </a:lnTo>
                  <a:lnTo>
                    <a:pt x="136" y="118"/>
                  </a:lnTo>
                  <a:lnTo>
                    <a:pt x="127" y="128"/>
                  </a:lnTo>
                  <a:lnTo>
                    <a:pt x="118" y="137"/>
                  </a:lnTo>
                  <a:lnTo>
                    <a:pt x="103" y="142"/>
                  </a:lnTo>
                  <a:lnTo>
                    <a:pt x="89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7" y="142"/>
                  </a:lnTo>
                  <a:lnTo>
                    <a:pt x="33" y="137"/>
                  </a:lnTo>
                  <a:lnTo>
                    <a:pt x="18" y="128"/>
                  </a:lnTo>
                  <a:lnTo>
                    <a:pt x="9" y="118"/>
                  </a:lnTo>
                  <a:lnTo>
                    <a:pt x="4" y="104"/>
                  </a:lnTo>
                  <a:lnTo>
                    <a:pt x="0" y="85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1933"/>
            <p:cNvSpPr/>
            <p:nvPr/>
          </p:nvSpPr>
          <p:spPr>
            <a:xfrm>
              <a:off x="3917520" y="3576960"/>
              <a:ext cx="88920" cy="99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66"/>
                  </a:moveTo>
                  <a:lnTo>
                    <a:pt x="0" y="52"/>
                  </a:lnTo>
                  <a:lnTo>
                    <a:pt x="4" y="38"/>
                  </a:lnTo>
                  <a:lnTo>
                    <a:pt x="14" y="29"/>
                  </a:lnTo>
                  <a:lnTo>
                    <a:pt x="23" y="19"/>
                  </a:lnTo>
                  <a:lnTo>
                    <a:pt x="33" y="10"/>
                  </a:lnTo>
                  <a:lnTo>
                    <a:pt x="47" y="5"/>
                  </a:lnTo>
                  <a:lnTo>
                    <a:pt x="61" y="0"/>
                  </a:lnTo>
                  <a:lnTo>
                    <a:pt x="70" y="0"/>
                  </a:lnTo>
                  <a:lnTo>
                    <a:pt x="84" y="0"/>
                  </a:lnTo>
                  <a:lnTo>
                    <a:pt x="99" y="5"/>
                  </a:lnTo>
                  <a:lnTo>
                    <a:pt x="113" y="10"/>
                  </a:lnTo>
                  <a:lnTo>
                    <a:pt x="127" y="19"/>
                  </a:lnTo>
                  <a:lnTo>
                    <a:pt x="136" y="29"/>
                  </a:lnTo>
                  <a:lnTo>
                    <a:pt x="141" y="43"/>
                  </a:lnTo>
                  <a:lnTo>
                    <a:pt x="146" y="57"/>
                  </a:lnTo>
                  <a:lnTo>
                    <a:pt x="151" y="71"/>
                  </a:lnTo>
                  <a:lnTo>
                    <a:pt x="146" y="85"/>
                  </a:lnTo>
                  <a:lnTo>
                    <a:pt x="141" y="104"/>
                  </a:lnTo>
                  <a:lnTo>
                    <a:pt x="136" y="118"/>
                  </a:lnTo>
                  <a:lnTo>
                    <a:pt x="127" y="128"/>
                  </a:lnTo>
                  <a:lnTo>
                    <a:pt x="118" y="137"/>
                  </a:lnTo>
                  <a:lnTo>
                    <a:pt x="103" y="142"/>
                  </a:lnTo>
                  <a:lnTo>
                    <a:pt x="89" y="147"/>
                  </a:lnTo>
                  <a:lnTo>
                    <a:pt x="75" y="151"/>
                  </a:lnTo>
                  <a:lnTo>
                    <a:pt x="61" y="147"/>
                  </a:lnTo>
                  <a:lnTo>
                    <a:pt x="47" y="142"/>
                  </a:lnTo>
                  <a:lnTo>
                    <a:pt x="33" y="137"/>
                  </a:lnTo>
                  <a:lnTo>
                    <a:pt x="18" y="128"/>
                  </a:lnTo>
                  <a:lnTo>
                    <a:pt x="9" y="118"/>
                  </a:lnTo>
                  <a:lnTo>
                    <a:pt x="4" y="104"/>
                  </a:lnTo>
                  <a:lnTo>
                    <a:pt x="0" y="85"/>
                  </a:lnTo>
                  <a:lnTo>
                    <a:pt x="0" y="66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1934"/>
            <p:cNvSpPr/>
            <p:nvPr/>
          </p:nvSpPr>
          <p:spPr>
            <a:xfrm>
              <a:off x="3939120" y="3602160"/>
              <a:ext cx="41760" cy="4608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71" h="71">
                  <a:moveTo>
                    <a:pt x="0" y="33"/>
                  </a:moveTo>
                  <a:lnTo>
                    <a:pt x="0" y="43"/>
                  </a:lnTo>
                  <a:lnTo>
                    <a:pt x="5" y="57"/>
                  </a:lnTo>
                  <a:lnTo>
                    <a:pt x="10" y="61"/>
                  </a:lnTo>
                  <a:lnTo>
                    <a:pt x="19" y="66"/>
                  </a:lnTo>
                  <a:lnTo>
                    <a:pt x="29" y="71"/>
                  </a:lnTo>
                  <a:lnTo>
                    <a:pt x="38" y="71"/>
                  </a:lnTo>
                  <a:lnTo>
                    <a:pt x="47" y="71"/>
                  </a:lnTo>
                  <a:lnTo>
                    <a:pt x="52" y="66"/>
                  </a:lnTo>
                  <a:lnTo>
                    <a:pt x="62" y="61"/>
                  </a:lnTo>
                  <a:lnTo>
                    <a:pt x="66" y="57"/>
                  </a:lnTo>
                  <a:lnTo>
                    <a:pt x="71" y="47"/>
                  </a:lnTo>
                  <a:lnTo>
                    <a:pt x="71" y="33"/>
                  </a:lnTo>
                  <a:lnTo>
                    <a:pt x="71" y="24"/>
                  </a:lnTo>
                  <a:lnTo>
                    <a:pt x="66" y="14"/>
                  </a:lnTo>
                  <a:lnTo>
                    <a:pt x="62" y="10"/>
                  </a:lnTo>
                  <a:lnTo>
                    <a:pt x="52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4" y="0"/>
                  </a:lnTo>
                  <a:lnTo>
                    <a:pt x="10" y="10"/>
                  </a:lnTo>
                  <a:lnTo>
                    <a:pt x="0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935"/>
            <p:cNvSpPr/>
            <p:nvPr/>
          </p:nvSpPr>
          <p:spPr>
            <a:xfrm>
              <a:off x="3060000" y="3958560"/>
              <a:ext cx="88920" cy="99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2"/>
                  </a:lnTo>
                  <a:lnTo>
                    <a:pt x="5" y="42"/>
                  </a:lnTo>
                  <a:lnTo>
                    <a:pt x="14" y="28"/>
                  </a:lnTo>
                  <a:lnTo>
                    <a:pt x="24" y="19"/>
                  </a:lnTo>
                  <a:lnTo>
                    <a:pt x="38" y="9"/>
                  </a:lnTo>
                  <a:lnTo>
                    <a:pt x="47" y="5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9"/>
                  </a:lnTo>
                  <a:lnTo>
                    <a:pt x="127" y="19"/>
                  </a:lnTo>
                  <a:lnTo>
                    <a:pt x="137" y="28"/>
                  </a:lnTo>
                  <a:lnTo>
                    <a:pt x="146" y="42"/>
                  </a:lnTo>
                  <a:lnTo>
                    <a:pt x="151" y="57"/>
                  </a:lnTo>
                  <a:lnTo>
                    <a:pt x="151" y="71"/>
                  </a:lnTo>
                  <a:lnTo>
                    <a:pt x="151" y="90"/>
                  </a:lnTo>
                  <a:lnTo>
                    <a:pt x="146" y="104"/>
                  </a:lnTo>
                  <a:lnTo>
                    <a:pt x="137" y="118"/>
                  </a:lnTo>
                  <a:lnTo>
                    <a:pt x="127" y="127"/>
                  </a:lnTo>
                  <a:lnTo>
                    <a:pt x="118" y="137"/>
                  </a:lnTo>
                  <a:lnTo>
                    <a:pt x="104" y="146"/>
                  </a:lnTo>
                  <a:lnTo>
                    <a:pt x="90" y="146"/>
                  </a:lnTo>
                  <a:lnTo>
                    <a:pt x="75" y="151"/>
                  </a:lnTo>
                  <a:lnTo>
                    <a:pt x="61" y="151"/>
                  </a:lnTo>
                  <a:lnTo>
                    <a:pt x="47" y="146"/>
                  </a:lnTo>
                  <a:lnTo>
                    <a:pt x="33" y="137"/>
                  </a:lnTo>
                  <a:lnTo>
                    <a:pt x="24" y="127"/>
                  </a:lnTo>
                  <a:lnTo>
                    <a:pt x="14" y="118"/>
                  </a:lnTo>
                  <a:lnTo>
                    <a:pt x="5" y="104"/>
                  </a:lnTo>
                  <a:lnTo>
                    <a:pt x="0" y="9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1936"/>
            <p:cNvSpPr/>
            <p:nvPr/>
          </p:nvSpPr>
          <p:spPr>
            <a:xfrm>
              <a:off x="3060000" y="3958560"/>
              <a:ext cx="88920" cy="9900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2"/>
                  </a:lnTo>
                  <a:lnTo>
                    <a:pt x="5" y="42"/>
                  </a:lnTo>
                  <a:lnTo>
                    <a:pt x="14" y="28"/>
                  </a:lnTo>
                  <a:lnTo>
                    <a:pt x="24" y="19"/>
                  </a:lnTo>
                  <a:lnTo>
                    <a:pt x="38" y="9"/>
                  </a:lnTo>
                  <a:lnTo>
                    <a:pt x="47" y="5"/>
                  </a:lnTo>
                  <a:lnTo>
                    <a:pt x="61" y="0"/>
                  </a:lnTo>
                  <a:lnTo>
                    <a:pt x="75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9"/>
                  </a:lnTo>
                  <a:lnTo>
                    <a:pt x="127" y="19"/>
                  </a:lnTo>
                  <a:lnTo>
                    <a:pt x="137" y="28"/>
                  </a:lnTo>
                  <a:lnTo>
                    <a:pt x="146" y="42"/>
                  </a:lnTo>
                  <a:lnTo>
                    <a:pt x="151" y="57"/>
                  </a:lnTo>
                  <a:lnTo>
                    <a:pt x="151" y="71"/>
                  </a:lnTo>
                  <a:lnTo>
                    <a:pt x="151" y="90"/>
                  </a:lnTo>
                  <a:lnTo>
                    <a:pt x="146" y="104"/>
                  </a:lnTo>
                  <a:lnTo>
                    <a:pt x="137" y="118"/>
                  </a:lnTo>
                  <a:lnTo>
                    <a:pt x="127" y="127"/>
                  </a:lnTo>
                  <a:lnTo>
                    <a:pt x="118" y="137"/>
                  </a:lnTo>
                  <a:lnTo>
                    <a:pt x="104" y="146"/>
                  </a:lnTo>
                  <a:lnTo>
                    <a:pt x="90" y="146"/>
                  </a:lnTo>
                  <a:lnTo>
                    <a:pt x="75" y="151"/>
                  </a:lnTo>
                  <a:lnTo>
                    <a:pt x="61" y="151"/>
                  </a:lnTo>
                  <a:lnTo>
                    <a:pt x="47" y="146"/>
                  </a:lnTo>
                  <a:lnTo>
                    <a:pt x="33" y="137"/>
                  </a:lnTo>
                  <a:lnTo>
                    <a:pt x="24" y="127"/>
                  </a:lnTo>
                  <a:lnTo>
                    <a:pt x="14" y="118"/>
                  </a:lnTo>
                  <a:lnTo>
                    <a:pt x="5" y="104"/>
                  </a:lnTo>
                  <a:lnTo>
                    <a:pt x="0" y="90"/>
                  </a:lnTo>
                  <a:lnTo>
                    <a:pt x="0" y="71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937"/>
            <p:cNvSpPr/>
            <p:nvPr/>
          </p:nvSpPr>
          <p:spPr>
            <a:xfrm>
              <a:off x="3082320" y="3983760"/>
              <a:ext cx="44280" cy="4932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75" h="75">
                  <a:moveTo>
                    <a:pt x="0" y="33"/>
                  </a:moveTo>
                  <a:lnTo>
                    <a:pt x="4" y="47"/>
                  </a:lnTo>
                  <a:lnTo>
                    <a:pt x="4" y="56"/>
                  </a:lnTo>
                  <a:lnTo>
                    <a:pt x="14" y="61"/>
                  </a:lnTo>
                  <a:lnTo>
                    <a:pt x="19" y="70"/>
                  </a:lnTo>
                  <a:lnTo>
                    <a:pt x="28" y="70"/>
                  </a:lnTo>
                  <a:lnTo>
                    <a:pt x="37" y="75"/>
                  </a:lnTo>
                  <a:lnTo>
                    <a:pt x="47" y="70"/>
                  </a:lnTo>
                  <a:lnTo>
                    <a:pt x="56" y="70"/>
                  </a:lnTo>
                  <a:lnTo>
                    <a:pt x="61" y="66"/>
                  </a:lnTo>
                  <a:lnTo>
                    <a:pt x="71" y="56"/>
                  </a:lnTo>
                  <a:lnTo>
                    <a:pt x="75" y="47"/>
                  </a:lnTo>
                  <a:lnTo>
                    <a:pt x="75" y="37"/>
                  </a:lnTo>
                  <a:lnTo>
                    <a:pt x="75" y="23"/>
                  </a:lnTo>
                  <a:lnTo>
                    <a:pt x="71" y="14"/>
                  </a:lnTo>
                  <a:lnTo>
                    <a:pt x="61" y="9"/>
                  </a:lnTo>
                  <a:lnTo>
                    <a:pt x="56" y="4"/>
                  </a:lnTo>
                  <a:lnTo>
                    <a:pt x="47" y="0"/>
                  </a:lnTo>
                  <a:lnTo>
                    <a:pt x="37" y="0"/>
                  </a:lnTo>
                  <a:lnTo>
                    <a:pt x="23" y="4"/>
                  </a:lnTo>
                  <a:lnTo>
                    <a:pt x="14" y="9"/>
                  </a:lnTo>
                  <a:lnTo>
                    <a:pt x="4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1938"/>
            <p:cNvSpPr/>
            <p:nvPr/>
          </p:nvSpPr>
          <p:spPr>
            <a:xfrm>
              <a:off x="4334760" y="5148360"/>
              <a:ext cx="87840" cy="990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7"/>
                  </a:lnTo>
                  <a:lnTo>
                    <a:pt x="5" y="43"/>
                  </a:lnTo>
                  <a:lnTo>
                    <a:pt x="15" y="29"/>
                  </a:lnTo>
                  <a:lnTo>
                    <a:pt x="24" y="19"/>
                  </a:lnTo>
                  <a:lnTo>
                    <a:pt x="38" y="10"/>
                  </a:lnTo>
                  <a:lnTo>
                    <a:pt x="48" y="5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10"/>
                  </a:lnTo>
                  <a:lnTo>
                    <a:pt x="128" y="19"/>
                  </a:lnTo>
                  <a:lnTo>
                    <a:pt x="137" y="29"/>
                  </a:lnTo>
                  <a:lnTo>
                    <a:pt x="147" y="43"/>
                  </a:lnTo>
                  <a:lnTo>
                    <a:pt x="151" y="57"/>
                  </a:lnTo>
                  <a:lnTo>
                    <a:pt x="151" y="71"/>
                  </a:lnTo>
                  <a:lnTo>
                    <a:pt x="151" y="90"/>
                  </a:lnTo>
                  <a:lnTo>
                    <a:pt x="147" y="104"/>
                  </a:lnTo>
                  <a:lnTo>
                    <a:pt x="137" y="118"/>
                  </a:lnTo>
                  <a:lnTo>
                    <a:pt x="128" y="128"/>
                  </a:lnTo>
                  <a:lnTo>
                    <a:pt x="118" y="137"/>
                  </a:lnTo>
                  <a:lnTo>
                    <a:pt x="104" y="147"/>
                  </a:lnTo>
                  <a:lnTo>
                    <a:pt x="90" y="151"/>
                  </a:lnTo>
                  <a:lnTo>
                    <a:pt x="76" y="151"/>
                  </a:lnTo>
                  <a:lnTo>
                    <a:pt x="62" y="151"/>
                  </a:lnTo>
                  <a:lnTo>
                    <a:pt x="48" y="147"/>
                  </a:lnTo>
                  <a:lnTo>
                    <a:pt x="33" y="137"/>
                  </a:lnTo>
                  <a:lnTo>
                    <a:pt x="24" y="132"/>
                  </a:lnTo>
                  <a:lnTo>
                    <a:pt x="15" y="118"/>
                  </a:lnTo>
                  <a:lnTo>
                    <a:pt x="5" y="104"/>
                  </a:lnTo>
                  <a:lnTo>
                    <a:pt x="0" y="90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1939"/>
            <p:cNvSpPr/>
            <p:nvPr/>
          </p:nvSpPr>
          <p:spPr>
            <a:xfrm>
              <a:off x="4334760" y="5148360"/>
              <a:ext cx="87840" cy="990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151" h="151">
                  <a:moveTo>
                    <a:pt x="0" y="71"/>
                  </a:moveTo>
                  <a:lnTo>
                    <a:pt x="0" y="57"/>
                  </a:lnTo>
                  <a:lnTo>
                    <a:pt x="5" y="43"/>
                  </a:lnTo>
                  <a:lnTo>
                    <a:pt x="15" y="29"/>
                  </a:lnTo>
                  <a:lnTo>
                    <a:pt x="24" y="19"/>
                  </a:lnTo>
                  <a:lnTo>
                    <a:pt x="38" y="10"/>
                  </a:lnTo>
                  <a:lnTo>
                    <a:pt x="48" y="5"/>
                  </a:lnTo>
                  <a:lnTo>
                    <a:pt x="62" y="0"/>
                  </a:lnTo>
                  <a:lnTo>
                    <a:pt x="76" y="0"/>
                  </a:lnTo>
                  <a:lnTo>
                    <a:pt x="90" y="0"/>
                  </a:lnTo>
                  <a:lnTo>
                    <a:pt x="104" y="5"/>
                  </a:lnTo>
                  <a:lnTo>
                    <a:pt x="118" y="10"/>
                  </a:lnTo>
                  <a:lnTo>
                    <a:pt x="128" y="19"/>
                  </a:lnTo>
                  <a:lnTo>
                    <a:pt x="137" y="29"/>
                  </a:lnTo>
                  <a:lnTo>
                    <a:pt x="147" y="43"/>
                  </a:lnTo>
                  <a:lnTo>
                    <a:pt x="151" y="57"/>
                  </a:lnTo>
                  <a:lnTo>
                    <a:pt x="151" y="71"/>
                  </a:lnTo>
                  <a:lnTo>
                    <a:pt x="151" y="90"/>
                  </a:lnTo>
                  <a:lnTo>
                    <a:pt x="147" y="104"/>
                  </a:lnTo>
                  <a:lnTo>
                    <a:pt x="137" y="118"/>
                  </a:lnTo>
                  <a:lnTo>
                    <a:pt x="128" y="128"/>
                  </a:lnTo>
                  <a:lnTo>
                    <a:pt x="118" y="137"/>
                  </a:lnTo>
                  <a:lnTo>
                    <a:pt x="104" y="147"/>
                  </a:lnTo>
                  <a:lnTo>
                    <a:pt x="90" y="151"/>
                  </a:lnTo>
                  <a:lnTo>
                    <a:pt x="76" y="151"/>
                  </a:lnTo>
                  <a:lnTo>
                    <a:pt x="62" y="151"/>
                  </a:lnTo>
                  <a:lnTo>
                    <a:pt x="48" y="147"/>
                  </a:lnTo>
                  <a:lnTo>
                    <a:pt x="33" y="137"/>
                  </a:lnTo>
                  <a:lnTo>
                    <a:pt x="24" y="132"/>
                  </a:lnTo>
                  <a:lnTo>
                    <a:pt x="15" y="118"/>
                  </a:lnTo>
                  <a:lnTo>
                    <a:pt x="5" y="104"/>
                  </a:lnTo>
                  <a:lnTo>
                    <a:pt x="0" y="90"/>
                  </a:lnTo>
                  <a:lnTo>
                    <a:pt x="0" y="71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1940"/>
            <p:cNvSpPr/>
            <p:nvPr/>
          </p:nvSpPr>
          <p:spPr>
            <a:xfrm>
              <a:off x="4356720" y="5173560"/>
              <a:ext cx="44280" cy="50400"/>
            </a:xfrm>
            <a:custGeom>
              <a:avLst/>
              <a:gdLst>
                <a:gd name="textAreaLeft" fmla="*/ 0 w 44280"/>
                <a:gd name="textAreaRight" fmla="*/ 44640 w 4428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76" h="76">
                  <a:moveTo>
                    <a:pt x="0" y="33"/>
                  </a:moveTo>
                  <a:lnTo>
                    <a:pt x="5" y="47"/>
                  </a:lnTo>
                  <a:lnTo>
                    <a:pt x="5" y="57"/>
                  </a:lnTo>
                  <a:lnTo>
                    <a:pt x="14" y="66"/>
                  </a:lnTo>
                  <a:lnTo>
                    <a:pt x="19" y="71"/>
                  </a:lnTo>
                  <a:lnTo>
                    <a:pt x="29" y="76"/>
                  </a:lnTo>
                  <a:lnTo>
                    <a:pt x="38" y="76"/>
                  </a:lnTo>
                  <a:lnTo>
                    <a:pt x="47" y="71"/>
                  </a:lnTo>
                  <a:lnTo>
                    <a:pt x="57" y="71"/>
                  </a:lnTo>
                  <a:lnTo>
                    <a:pt x="62" y="66"/>
                  </a:lnTo>
                  <a:lnTo>
                    <a:pt x="71" y="57"/>
                  </a:lnTo>
                  <a:lnTo>
                    <a:pt x="76" y="47"/>
                  </a:lnTo>
                  <a:lnTo>
                    <a:pt x="76" y="38"/>
                  </a:lnTo>
                  <a:lnTo>
                    <a:pt x="76" y="28"/>
                  </a:lnTo>
                  <a:lnTo>
                    <a:pt x="71" y="19"/>
                  </a:lnTo>
                  <a:lnTo>
                    <a:pt x="62" y="10"/>
                  </a:lnTo>
                  <a:lnTo>
                    <a:pt x="57" y="5"/>
                  </a:lnTo>
                  <a:lnTo>
                    <a:pt x="47" y="0"/>
                  </a:lnTo>
                  <a:lnTo>
                    <a:pt x="38" y="0"/>
                  </a:lnTo>
                  <a:lnTo>
                    <a:pt x="24" y="5"/>
                  </a:lnTo>
                  <a:lnTo>
                    <a:pt x="14" y="10"/>
                  </a:lnTo>
                  <a:lnTo>
                    <a:pt x="5" y="19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92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1941"/>
            <p:cNvSpPr/>
            <p:nvPr/>
          </p:nvSpPr>
          <p:spPr>
            <a:xfrm>
              <a:off x="5603400" y="1396440"/>
              <a:ext cx="52560" cy="56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0" h="85">
                  <a:moveTo>
                    <a:pt x="0" y="37"/>
                  </a:moveTo>
                  <a:lnTo>
                    <a:pt x="5" y="28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4"/>
                  </a:lnTo>
                  <a:lnTo>
                    <a:pt x="76" y="9"/>
                  </a:lnTo>
                  <a:lnTo>
                    <a:pt x="81" y="18"/>
                  </a:lnTo>
                  <a:lnTo>
                    <a:pt x="85" y="28"/>
                  </a:lnTo>
                  <a:lnTo>
                    <a:pt x="90" y="42"/>
                  </a:lnTo>
                  <a:lnTo>
                    <a:pt x="85" y="52"/>
                  </a:lnTo>
                  <a:lnTo>
                    <a:pt x="81" y="66"/>
                  </a:lnTo>
                  <a:lnTo>
                    <a:pt x="76" y="70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5" y="70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1942"/>
            <p:cNvSpPr/>
            <p:nvPr/>
          </p:nvSpPr>
          <p:spPr>
            <a:xfrm>
              <a:off x="5603400" y="1396440"/>
              <a:ext cx="52560" cy="56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0" h="85">
                  <a:moveTo>
                    <a:pt x="0" y="37"/>
                  </a:moveTo>
                  <a:lnTo>
                    <a:pt x="5" y="28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4"/>
                  </a:lnTo>
                  <a:lnTo>
                    <a:pt x="76" y="9"/>
                  </a:lnTo>
                  <a:lnTo>
                    <a:pt x="81" y="18"/>
                  </a:lnTo>
                  <a:lnTo>
                    <a:pt x="85" y="28"/>
                  </a:lnTo>
                  <a:lnTo>
                    <a:pt x="90" y="42"/>
                  </a:lnTo>
                  <a:lnTo>
                    <a:pt x="85" y="52"/>
                  </a:lnTo>
                  <a:lnTo>
                    <a:pt x="81" y="66"/>
                  </a:lnTo>
                  <a:lnTo>
                    <a:pt x="76" y="70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5" y="70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7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1943"/>
            <p:cNvSpPr/>
            <p:nvPr/>
          </p:nvSpPr>
          <p:spPr>
            <a:xfrm>
              <a:off x="5603400" y="1396440"/>
              <a:ext cx="52560" cy="56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0" h="85">
                  <a:moveTo>
                    <a:pt x="0" y="37"/>
                  </a:moveTo>
                  <a:lnTo>
                    <a:pt x="5" y="28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4"/>
                  </a:lnTo>
                  <a:lnTo>
                    <a:pt x="76" y="9"/>
                  </a:lnTo>
                  <a:lnTo>
                    <a:pt x="81" y="18"/>
                  </a:lnTo>
                  <a:lnTo>
                    <a:pt x="85" y="28"/>
                  </a:lnTo>
                  <a:lnTo>
                    <a:pt x="90" y="42"/>
                  </a:lnTo>
                  <a:lnTo>
                    <a:pt x="85" y="52"/>
                  </a:lnTo>
                  <a:lnTo>
                    <a:pt x="81" y="66"/>
                  </a:lnTo>
                  <a:lnTo>
                    <a:pt x="76" y="70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5" y="70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1944"/>
            <p:cNvSpPr/>
            <p:nvPr/>
          </p:nvSpPr>
          <p:spPr>
            <a:xfrm>
              <a:off x="5603400" y="1396440"/>
              <a:ext cx="52560" cy="5616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90" h="85">
                  <a:moveTo>
                    <a:pt x="0" y="37"/>
                  </a:moveTo>
                  <a:lnTo>
                    <a:pt x="5" y="28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5" y="9"/>
                  </a:lnTo>
                  <a:lnTo>
                    <a:pt x="24" y="4"/>
                  </a:lnTo>
                  <a:lnTo>
                    <a:pt x="29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4"/>
                  </a:lnTo>
                  <a:lnTo>
                    <a:pt x="76" y="9"/>
                  </a:lnTo>
                  <a:lnTo>
                    <a:pt x="81" y="18"/>
                  </a:lnTo>
                  <a:lnTo>
                    <a:pt x="85" y="28"/>
                  </a:lnTo>
                  <a:lnTo>
                    <a:pt x="90" y="42"/>
                  </a:lnTo>
                  <a:lnTo>
                    <a:pt x="85" y="52"/>
                  </a:lnTo>
                  <a:lnTo>
                    <a:pt x="81" y="66"/>
                  </a:lnTo>
                  <a:lnTo>
                    <a:pt x="76" y="70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5" y="70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7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1945"/>
            <p:cNvSpPr/>
            <p:nvPr/>
          </p:nvSpPr>
          <p:spPr>
            <a:xfrm>
              <a:off x="5791320" y="156960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5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90"/>
                  </a:lnTo>
                  <a:lnTo>
                    <a:pt x="34" y="85"/>
                  </a:lnTo>
                  <a:lnTo>
                    <a:pt x="24" y="80"/>
                  </a:lnTo>
                  <a:lnTo>
                    <a:pt x="15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1946"/>
            <p:cNvSpPr/>
            <p:nvPr/>
          </p:nvSpPr>
          <p:spPr>
            <a:xfrm>
              <a:off x="5791320" y="156960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5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90"/>
                  </a:lnTo>
                  <a:lnTo>
                    <a:pt x="34" y="85"/>
                  </a:lnTo>
                  <a:lnTo>
                    <a:pt x="24" y="80"/>
                  </a:lnTo>
                  <a:lnTo>
                    <a:pt x="15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1947"/>
            <p:cNvSpPr/>
            <p:nvPr/>
          </p:nvSpPr>
          <p:spPr>
            <a:xfrm>
              <a:off x="5791320" y="156960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5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90"/>
                  </a:lnTo>
                  <a:lnTo>
                    <a:pt x="34" y="85"/>
                  </a:lnTo>
                  <a:lnTo>
                    <a:pt x="24" y="80"/>
                  </a:lnTo>
                  <a:lnTo>
                    <a:pt x="15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1948"/>
            <p:cNvSpPr/>
            <p:nvPr/>
          </p:nvSpPr>
          <p:spPr>
            <a:xfrm>
              <a:off x="5791320" y="1569600"/>
              <a:ext cx="52560" cy="583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5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7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7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7" y="80"/>
                  </a:lnTo>
                  <a:lnTo>
                    <a:pt x="57" y="85"/>
                  </a:lnTo>
                  <a:lnTo>
                    <a:pt x="48" y="90"/>
                  </a:lnTo>
                  <a:lnTo>
                    <a:pt x="34" y="85"/>
                  </a:lnTo>
                  <a:lnTo>
                    <a:pt x="24" y="80"/>
                  </a:lnTo>
                  <a:lnTo>
                    <a:pt x="15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1949"/>
            <p:cNvSpPr/>
            <p:nvPr/>
          </p:nvSpPr>
          <p:spPr>
            <a:xfrm>
              <a:off x="5390640" y="1757520"/>
              <a:ext cx="52560" cy="59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24" y="9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57" y="5"/>
                  </a:lnTo>
                  <a:lnTo>
                    <a:pt x="66" y="5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4" y="85"/>
                  </a:lnTo>
                  <a:lnTo>
                    <a:pt x="14" y="75"/>
                  </a:lnTo>
                  <a:lnTo>
                    <a:pt x="9" y="66"/>
                  </a:lnTo>
                  <a:lnTo>
                    <a:pt x="5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1950"/>
            <p:cNvSpPr/>
            <p:nvPr/>
          </p:nvSpPr>
          <p:spPr>
            <a:xfrm>
              <a:off x="5390640" y="1757520"/>
              <a:ext cx="52560" cy="59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24" y="9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57" y="5"/>
                  </a:lnTo>
                  <a:lnTo>
                    <a:pt x="66" y="5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4" y="85"/>
                  </a:lnTo>
                  <a:lnTo>
                    <a:pt x="14" y="75"/>
                  </a:lnTo>
                  <a:lnTo>
                    <a:pt x="9" y="66"/>
                  </a:lnTo>
                  <a:lnTo>
                    <a:pt x="5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1951"/>
            <p:cNvSpPr/>
            <p:nvPr/>
          </p:nvSpPr>
          <p:spPr>
            <a:xfrm>
              <a:off x="5390640" y="1757520"/>
              <a:ext cx="52560" cy="59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24" y="9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57" y="5"/>
                  </a:lnTo>
                  <a:lnTo>
                    <a:pt x="66" y="5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4" y="85"/>
                  </a:lnTo>
                  <a:lnTo>
                    <a:pt x="14" y="75"/>
                  </a:lnTo>
                  <a:lnTo>
                    <a:pt x="9" y="66"/>
                  </a:lnTo>
                  <a:lnTo>
                    <a:pt x="5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1952"/>
            <p:cNvSpPr/>
            <p:nvPr/>
          </p:nvSpPr>
          <p:spPr>
            <a:xfrm>
              <a:off x="5390640" y="1757520"/>
              <a:ext cx="52560" cy="5904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24" y="9"/>
                  </a:lnTo>
                  <a:lnTo>
                    <a:pt x="28" y="5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57" y="5"/>
                  </a:lnTo>
                  <a:lnTo>
                    <a:pt x="66" y="5"/>
                  </a:lnTo>
                  <a:lnTo>
                    <a:pt x="75" y="14"/>
                  </a:lnTo>
                  <a:lnTo>
                    <a:pt x="80" y="23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0" y="66"/>
                  </a:lnTo>
                  <a:lnTo>
                    <a:pt x="75" y="75"/>
                  </a:lnTo>
                  <a:lnTo>
                    <a:pt x="66" y="85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9"/>
                  </a:lnTo>
                  <a:lnTo>
                    <a:pt x="24" y="85"/>
                  </a:lnTo>
                  <a:lnTo>
                    <a:pt x="14" y="75"/>
                  </a:lnTo>
                  <a:lnTo>
                    <a:pt x="9" y="66"/>
                  </a:lnTo>
                  <a:lnTo>
                    <a:pt x="5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1953"/>
            <p:cNvSpPr/>
            <p:nvPr/>
          </p:nvSpPr>
          <p:spPr>
            <a:xfrm>
              <a:off x="6717960" y="115740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85">
                  <a:moveTo>
                    <a:pt x="0" y="38"/>
                  </a:moveTo>
                  <a:lnTo>
                    <a:pt x="5" y="28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4" y="5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90" y="43"/>
                  </a:lnTo>
                  <a:lnTo>
                    <a:pt x="85" y="52"/>
                  </a:lnTo>
                  <a:lnTo>
                    <a:pt x="85" y="66"/>
                  </a:lnTo>
                  <a:lnTo>
                    <a:pt x="76" y="71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1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1954"/>
            <p:cNvSpPr/>
            <p:nvPr/>
          </p:nvSpPr>
          <p:spPr>
            <a:xfrm>
              <a:off x="6717960" y="115740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85">
                  <a:moveTo>
                    <a:pt x="0" y="38"/>
                  </a:moveTo>
                  <a:lnTo>
                    <a:pt x="5" y="28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4" y="5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90" y="43"/>
                  </a:lnTo>
                  <a:lnTo>
                    <a:pt x="85" y="52"/>
                  </a:lnTo>
                  <a:lnTo>
                    <a:pt x="85" y="66"/>
                  </a:lnTo>
                  <a:lnTo>
                    <a:pt x="76" y="71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1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8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1955"/>
            <p:cNvSpPr/>
            <p:nvPr/>
          </p:nvSpPr>
          <p:spPr>
            <a:xfrm>
              <a:off x="6717960" y="115740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85">
                  <a:moveTo>
                    <a:pt x="0" y="38"/>
                  </a:moveTo>
                  <a:lnTo>
                    <a:pt x="5" y="28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4" y="5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90" y="43"/>
                  </a:lnTo>
                  <a:lnTo>
                    <a:pt x="85" y="52"/>
                  </a:lnTo>
                  <a:lnTo>
                    <a:pt x="85" y="66"/>
                  </a:lnTo>
                  <a:lnTo>
                    <a:pt x="76" y="71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1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1956"/>
            <p:cNvSpPr/>
            <p:nvPr/>
          </p:nvSpPr>
          <p:spPr>
            <a:xfrm>
              <a:off x="6717960" y="1157400"/>
              <a:ext cx="52560" cy="550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90" h="85">
                  <a:moveTo>
                    <a:pt x="0" y="38"/>
                  </a:moveTo>
                  <a:lnTo>
                    <a:pt x="5" y="28"/>
                  </a:lnTo>
                  <a:lnTo>
                    <a:pt x="5" y="24"/>
                  </a:lnTo>
                  <a:lnTo>
                    <a:pt x="10" y="14"/>
                  </a:lnTo>
                  <a:lnTo>
                    <a:pt x="19" y="10"/>
                  </a:lnTo>
                  <a:lnTo>
                    <a:pt x="24" y="5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0"/>
                  </a:lnTo>
                  <a:lnTo>
                    <a:pt x="85" y="19"/>
                  </a:lnTo>
                  <a:lnTo>
                    <a:pt x="85" y="28"/>
                  </a:lnTo>
                  <a:lnTo>
                    <a:pt x="90" y="43"/>
                  </a:lnTo>
                  <a:lnTo>
                    <a:pt x="85" y="52"/>
                  </a:lnTo>
                  <a:lnTo>
                    <a:pt x="85" y="66"/>
                  </a:lnTo>
                  <a:lnTo>
                    <a:pt x="76" y="71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5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1"/>
                  </a:lnTo>
                  <a:lnTo>
                    <a:pt x="10" y="66"/>
                  </a:lnTo>
                  <a:lnTo>
                    <a:pt x="5" y="52"/>
                  </a:lnTo>
                  <a:lnTo>
                    <a:pt x="0" y="38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1957"/>
            <p:cNvSpPr/>
            <p:nvPr/>
          </p:nvSpPr>
          <p:spPr>
            <a:xfrm>
              <a:off x="7707600" y="1040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10" y="19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1958"/>
            <p:cNvSpPr/>
            <p:nvPr/>
          </p:nvSpPr>
          <p:spPr>
            <a:xfrm>
              <a:off x="7707600" y="1040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10" y="19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1959"/>
            <p:cNvSpPr/>
            <p:nvPr/>
          </p:nvSpPr>
          <p:spPr>
            <a:xfrm>
              <a:off x="7707600" y="1040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10" y="19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6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1960"/>
            <p:cNvSpPr/>
            <p:nvPr/>
          </p:nvSpPr>
          <p:spPr>
            <a:xfrm>
              <a:off x="7707600" y="1040040"/>
              <a:ext cx="52560" cy="5688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89">
                  <a:moveTo>
                    <a:pt x="0" y="42"/>
                  </a:moveTo>
                  <a:lnTo>
                    <a:pt x="0" y="33"/>
                  </a:lnTo>
                  <a:lnTo>
                    <a:pt x="5" y="23"/>
                  </a:lnTo>
                  <a:lnTo>
                    <a:pt x="10" y="19"/>
                  </a:lnTo>
                  <a:lnTo>
                    <a:pt x="14" y="9"/>
                  </a:lnTo>
                  <a:lnTo>
                    <a:pt x="24" y="5"/>
                  </a:lnTo>
                  <a:lnTo>
                    <a:pt x="29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1" y="19"/>
                  </a:lnTo>
                  <a:lnTo>
                    <a:pt x="85" y="33"/>
                  </a:lnTo>
                  <a:lnTo>
                    <a:pt x="90" y="42"/>
                  </a:lnTo>
                  <a:lnTo>
                    <a:pt x="85" y="56"/>
                  </a:lnTo>
                  <a:lnTo>
                    <a:pt x="81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89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6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1961"/>
            <p:cNvSpPr/>
            <p:nvPr/>
          </p:nvSpPr>
          <p:spPr>
            <a:xfrm>
              <a:off x="4362480" y="5673240"/>
              <a:ext cx="50040" cy="58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2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0" y="14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1962"/>
            <p:cNvSpPr/>
            <p:nvPr/>
          </p:nvSpPr>
          <p:spPr>
            <a:xfrm>
              <a:off x="4362480" y="5673240"/>
              <a:ext cx="50040" cy="583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8320"/>
                <a:gd name="textAreaBottom" fmla="*/ 58680 h 583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2"/>
                  </a:moveTo>
                  <a:lnTo>
                    <a:pt x="0" y="33"/>
                  </a:lnTo>
                  <a:lnTo>
                    <a:pt x="4" y="24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0" y="14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2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0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1963"/>
            <p:cNvSpPr/>
            <p:nvPr/>
          </p:nvSpPr>
          <p:spPr>
            <a:xfrm>
              <a:off x="3585960" y="523872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38"/>
                  </a:moveTo>
                  <a:lnTo>
                    <a:pt x="0" y="29"/>
                  </a:lnTo>
                  <a:lnTo>
                    <a:pt x="5" y="24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85" y="43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0"/>
                  </a:lnTo>
                  <a:lnTo>
                    <a:pt x="52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1964"/>
            <p:cNvSpPr/>
            <p:nvPr/>
          </p:nvSpPr>
          <p:spPr>
            <a:xfrm>
              <a:off x="3585960" y="523872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38"/>
                  </a:moveTo>
                  <a:lnTo>
                    <a:pt x="0" y="29"/>
                  </a:lnTo>
                  <a:lnTo>
                    <a:pt x="5" y="24"/>
                  </a:lnTo>
                  <a:lnTo>
                    <a:pt x="9" y="14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0"/>
                  </a:lnTo>
                  <a:lnTo>
                    <a:pt x="80" y="19"/>
                  </a:lnTo>
                  <a:lnTo>
                    <a:pt x="85" y="29"/>
                  </a:lnTo>
                  <a:lnTo>
                    <a:pt x="85" y="43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6" y="80"/>
                  </a:lnTo>
                  <a:lnTo>
                    <a:pt x="52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4" y="80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2"/>
                  </a:lnTo>
                  <a:lnTo>
                    <a:pt x="0" y="38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1965"/>
            <p:cNvSpPr/>
            <p:nvPr/>
          </p:nvSpPr>
          <p:spPr>
            <a:xfrm>
              <a:off x="3201840" y="5037120"/>
              <a:ext cx="49320" cy="60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4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5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1" y="81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19" y="81"/>
                  </a:lnTo>
                  <a:lnTo>
                    <a:pt x="9" y="76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1966"/>
            <p:cNvSpPr/>
            <p:nvPr/>
          </p:nvSpPr>
          <p:spPr>
            <a:xfrm>
              <a:off x="3201840" y="5037120"/>
              <a:ext cx="49320" cy="6012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0" y="24"/>
                  </a:lnTo>
                  <a:lnTo>
                    <a:pt x="4" y="19"/>
                  </a:lnTo>
                  <a:lnTo>
                    <a:pt x="14" y="10"/>
                  </a:lnTo>
                  <a:lnTo>
                    <a:pt x="19" y="5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15"/>
                  </a:lnTo>
                  <a:lnTo>
                    <a:pt x="80" y="19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1" y="81"/>
                  </a:lnTo>
                  <a:lnTo>
                    <a:pt x="52" y="85"/>
                  </a:lnTo>
                  <a:lnTo>
                    <a:pt x="42" y="90"/>
                  </a:lnTo>
                  <a:lnTo>
                    <a:pt x="33" y="85"/>
                  </a:lnTo>
                  <a:lnTo>
                    <a:pt x="19" y="81"/>
                  </a:lnTo>
                  <a:lnTo>
                    <a:pt x="9" y="76"/>
                  </a:lnTo>
                  <a:lnTo>
                    <a:pt x="4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1967"/>
            <p:cNvSpPr/>
            <p:nvPr/>
          </p:nvSpPr>
          <p:spPr>
            <a:xfrm>
              <a:off x="2700720" y="5142960"/>
              <a:ext cx="52560" cy="60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5" y="33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5" y="19"/>
                  </a:lnTo>
                  <a:lnTo>
                    <a:pt x="90" y="33"/>
                  </a:lnTo>
                  <a:lnTo>
                    <a:pt x="90" y="42"/>
                  </a:lnTo>
                  <a:lnTo>
                    <a:pt x="90" y="57"/>
                  </a:lnTo>
                  <a:lnTo>
                    <a:pt x="85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90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1968"/>
            <p:cNvSpPr/>
            <p:nvPr/>
          </p:nvSpPr>
          <p:spPr>
            <a:xfrm>
              <a:off x="2700720" y="5142960"/>
              <a:ext cx="52560" cy="60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5" y="33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5" y="19"/>
                  </a:lnTo>
                  <a:lnTo>
                    <a:pt x="90" y="33"/>
                  </a:lnTo>
                  <a:lnTo>
                    <a:pt x="90" y="42"/>
                  </a:lnTo>
                  <a:lnTo>
                    <a:pt x="90" y="57"/>
                  </a:lnTo>
                  <a:lnTo>
                    <a:pt x="85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90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1969"/>
            <p:cNvSpPr/>
            <p:nvPr/>
          </p:nvSpPr>
          <p:spPr>
            <a:xfrm>
              <a:off x="2700720" y="5142960"/>
              <a:ext cx="52560" cy="60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5" y="33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5" y="19"/>
                  </a:lnTo>
                  <a:lnTo>
                    <a:pt x="90" y="33"/>
                  </a:lnTo>
                  <a:lnTo>
                    <a:pt x="90" y="42"/>
                  </a:lnTo>
                  <a:lnTo>
                    <a:pt x="90" y="57"/>
                  </a:lnTo>
                  <a:lnTo>
                    <a:pt x="85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90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1970"/>
            <p:cNvSpPr/>
            <p:nvPr/>
          </p:nvSpPr>
          <p:spPr>
            <a:xfrm>
              <a:off x="2700720" y="5142960"/>
              <a:ext cx="52560" cy="60120"/>
            </a:xfrm>
            <a:custGeom>
              <a:avLst/>
              <a:gdLst>
                <a:gd name="textAreaLeft" fmla="*/ 0 w 52560"/>
                <a:gd name="textAreaRight" fmla="*/ 52920 w 525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90" h="90">
                  <a:moveTo>
                    <a:pt x="0" y="42"/>
                  </a:moveTo>
                  <a:lnTo>
                    <a:pt x="5" y="33"/>
                  </a:lnTo>
                  <a:lnTo>
                    <a:pt x="5" y="23"/>
                  </a:lnTo>
                  <a:lnTo>
                    <a:pt x="10" y="14"/>
                  </a:lnTo>
                  <a:lnTo>
                    <a:pt x="19" y="9"/>
                  </a:lnTo>
                  <a:lnTo>
                    <a:pt x="24" y="5"/>
                  </a:lnTo>
                  <a:lnTo>
                    <a:pt x="33" y="5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5"/>
                  </a:lnTo>
                  <a:lnTo>
                    <a:pt x="76" y="14"/>
                  </a:lnTo>
                  <a:lnTo>
                    <a:pt x="85" y="19"/>
                  </a:lnTo>
                  <a:lnTo>
                    <a:pt x="90" y="33"/>
                  </a:lnTo>
                  <a:lnTo>
                    <a:pt x="90" y="42"/>
                  </a:lnTo>
                  <a:lnTo>
                    <a:pt x="90" y="57"/>
                  </a:lnTo>
                  <a:lnTo>
                    <a:pt x="85" y="66"/>
                  </a:lnTo>
                  <a:lnTo>
                    <a:pt x="76" y="75"/>
                  </a:lnTo>
                  <a:lnTo>
                    <a:pt x="66" y="80"/>
                  </a:lnTo>
                  <a:lnTo>
                    <a:pt x="57" y="85"/>
                  </a:lnTo>
                  <a:lnTo>
                    <a:pt x="47" y="90"/>
                  </a:lnTo>
                  <a:lnTo>
                    <a:pt x="38" y="85"/>
                  </a:lnTo>
                  <a:lnTo>
                    <a:pt x="24" y="80"/>
                  </a:lnTo>
                  <a:lnTo>
                    <a:pt x="14" y="75"/>
                  </a:lnTo>
                  <a:lnTo>
                    <a:pt x="10" y="66"/>
                  </a:lnTo>
                  <a:lnTo>
                    <a:pt x="5" y="57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1971"/>
            <p:cNvSpPr/>
            <p:nvPr/>
          </p:nvSpPr>
          <p:spPr>
            <a:xfrm>
              <a:off x="2424240" y="461916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5"/>
                  </a:lnTo>
                  <a:lnTo>
                    <a:pt x="61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1" y="85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1972"/>
            <p:cNvSpPr/>
            <p:nvPr/>
          </p:nvSpPr>
          <p:spPr>
            <a:xfrm>
              <a:off x="2424240" y="4619160"/>
              <a:ext cx="49320" cy="5904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85" h="90">
                  <a:moveTo>
                    <a:pt x="0" y="43"/>
                  </a:moveTo>
                  <a:lnTo>
                    <a:pt x="0" y="33"/>
                  </a:lnTo>
                  <a:lnTo>
                    <a:pt x="5" y="24"/>
                  </a:lnTo>
                  <a:lnTo>
                    <a:pt x="10" y="19"/>
                  </a:lnTo>
                  <a:lnTo>
                    <a:pt x="14" y="10"/>
                  </a:lnTo>
                  <a:lnTo>
                    <a:pt x="19" y="10"/>
                  </a:lnTo>
                  <a:lnTo>
                    <a:pt x="28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2" y="5"/>
                  </a:lnTo>
                  <a:lnTo>
                    <a:pt x="61" y="5"/>
                  </a:lnTo>
                  <a:lnTo>
                    <a:pt x="71" y="14"/>
                  </a:lnTo>
                  <a:lnTo>
                    <a:pt x="80" y="24"/>
                  </a:lnTo>
                  <a:lnTo>
                    <a:pt x="85" y="33"/>
                  </a:lnTo>
                  <a:lnTo>
                    <a:pt x="85" y="43"/>
                  </a:lnTo>
                  <a:lnTo>
                    <a:pt x="85" y="57"/>
                  </a:lnTo>
                  <a:lnTo>
                    <a:pt x="80" y="66"/>
                  </a:lnTo>
                  <a:lnTo>
                    <a:pt x="71" y="76"/>
                  </a:lnTo>
                  <a:lnTo>
                    <a:pt x="61" y="85"/>
                  </a:lnTo>
                  <a:lnTo>
                    <a:pt x="52" y="85"/>
                  </a:lnTo>
                  <a:lnTo>
                    <a:pt x="43" y="90"/>
                  </a:lnTo>
                  <a:lnTo>
                    <a:pt x="33" y="85"/>
                  </a:lnTo>
                  <a:lnTo>
                    <a:pt x="24" y="85"/>
                  </a:lnTo>
                  <a:lnTo>
                    <a:pt x="14" y="76"/>
                  </a:lnTo>
                  <a:lnTo>
                    <a:pt x="5" y="66"/>
                  </a:lnTo>
                  <a:lnTo>
                    <a:pt x="0" y="57"/>
                  </a:lnTo>
                  <a:lnTo>
                    <a:pt x="0" y="43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1973"/>
            <p:cNvSpPr/>
            <p:nvPr/>
          </p:nvSpPr>
          <p:spPr>
            <a:xfrm>
              <a:off x="2783880" y="4036680"/>
              <a:ext cx="129960" cy="145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22" h="222">
                  <a:moveTo>
                    <a:pt x="0" y="118"/>
                  </a:moveTo>
                  <a:lnTo>
                    <a:pt x="5" y="90"/>
                  </a:lnTo>
                  <a:lnTo>
                    <a:pt x="9" y="66"/>
                  </a:lnTo>
                  <a:lnTo>
                    <a:pt x="19" y="47"/>
                  </a:lnTo>
                  <a:lnTo>
                    <a:pt x="33" y="33"/>
                  </a:lnTo>
                  <a:lnTo>
                    <a:pt x="52" y="19"/>
                  </a:lnTo>
                  <a:lnTo>
                    <a:pt x="71" y="9"/>
                  </a:lnTo>
                  <a:lnTo>
                    <a:pt x="90" y="5"/>
                  </a:lnTo>
                  <a:lnTo>
                    <a:pt x="113" y="0"/>
                  </a:lnTo>
                  <a:lnTo>
                    <a:pt x="132" y="5"/>
                  </a:lnTo>
                  <a:lnTo>
                    <a:pt x="156" y="9"/>
                  </a:lnTo>
                  <a:lnTo>
                    <a:pt x="175" y="19"/>
                  </a:lnTo>
                  <a:lnTo>
                    <a:pt x="189" y="33"/>
                  </a:lnTo>
                  <a:lnTo>
                    <a:pt x="203" y="47"/>
                  </a:lnTo>
                  <a:lnTo>
                    <a:pt x="212" y="66"/>
                  </a:lnTo>
                  <a:lnTo>
                    <a:pt x="222" y="90"/>
                  </a:lnTo>
                  <a:lnTo>
                    <a:pt x="222" y="113"/>
                  </a:lnTo>
                  <a:lnTo>
                    <a:pt x="222" y="137"/>
                  </a:lnTo>
                  <a:lnTo>
                    <a:pt x="212" y="156"/>
                  </a:lnTo>
                  <a:lnTo>
                    <a:pt x="203" y="175"/>
                  </a:lnTo>
                  <a:lnTo>
                    <a:pt x="189" y="193"/>
                  </a:lnTo>
                  <a:lnTo>
                    <a:pt x="170" y="208"/>
                  </a:lnTo>
                  <a:lnTo>
                    <a:pt x="151" y="217"/>
                  </a:lnTo>
                  <a:lnTo>
                    <a:pt x="132" y="222"/>
                  </a:lnTo>
                  <a:lnTo>
                    <a:pt x="108" y="222"/>
                  </a:lnTo>
                  <a:lnTo>
                    <a:pt x="90" y="222"/>
                  </a:lnTo>
                  <a:lnTo>
                    <a:pt x="71" y="217"/>
                  </a:lnTo>
                  <a:lnTo>
                    <a:pt x="52" y="208"/>
                  </a:lnTo>
                  <a:lnTo>
                    <a:pt x="33" y="193"/>
                  </a:lnTo>
                  <a:lnTo>
                    <a:pt x="19" y="179"/>
                  </a:lnTo>
                  <a:lnTo>
                    <a:pt x="9" y="160"/>
                  </a:lnTo>
                  <a:lnTo>
                    <a:pt x="5" y="137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1974"/>
            <p:cNvSpPr/>
            <p:nvPr/>
          </p:nvSpPr>
          <p:spPr>
            <a:xfrm>
              <a:off x="2783880" y="4036680"/>
              <a:ext cx="129960" cy="14544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145440"/>
                <a:gd name="textAreaBottom" fmla="*/ 145800 h 145440"/>
              </a:gdLst>
              <a:ahLst/>
              <a:rect l="textAreaLeft" t="textAreaTop" r="textAreaRight" b="textAreaBottom"/>
              <a:pathLst>
                <a:path w="222" h="222">
                  <a:moveTo>
                    <a:pt x="0" y="118"/>
                  </a:moveTo>
                  <a:lnTo>
                    <a:pt x="5" y="90"/>
                  </a:lnTo>
                  <a:lnTo>
                    <a:pt x="9" y="66"/>
                  </a:lnTo>
                  <a:lnTo>
                    <a:pt x="19" y="47"/>
                  </a:lnTo>
                  <a:lnTo>
                    <a:pt x="33" y="33"/>
                  </a:lnTo>
                  <a:lnTo>
                    <a:pt x="52" y="19"/>
                  </a:lnTo>
                  <a:lnTo>
                    <a:pt x="71" y="9"/>
                  </a:lnTo>
                  <a:lnTo>
                    <a:pt x="90" y="5"/>
                  </a:lnTo>
                  <a:lnTo>
                    <a:pt x="113" y="0"/>
                  </a:lnTo>
                  <a:lnTo>
                    <a:pt x="132" y="5"/>
                  </a:lnTo>
                  <a:lnTo>
                    <a:pt x="156" y="9"/>
                  </a:lnTo>
                  <a:lnTo>
                    <a:pt x="175" y="19"/>
                  </a:lnTo>
                  <a:lnTo>
                    <a:pt x="189" y="33"/>
                  </a:lnTo>
                  <a:lnTo>
                    <a:pt x="203" y="47"/>
                  </a:lnTo>
                  <a:lnTo>
                    <a:pt x="212" y="66"/>
                  </a:lnTo>
                  <a:lnTo>
                    <a:pt x="222" y="90"/>
                  </a:lnTo>
                  <a:lnTo>
                    <a:pt x="222" y="113"/>
                  </a:lnTo>
                  <a:lnTo>
                    <a:pt x="222" y="137"/>
                  </a:lnTo>
                  <a:lnTo>
                    <a:pt x="212" y="156"/>
                  </a:lnTo>
                  <a:lnTo>
                    <a:pt x="203" y="175"/>
                  </a:lnTo>
                  <a:lnTo>
                    <a:pt x="189" y="193"/>
                  </a:lnTo>
                  <a:lnTo>
                    <a:pt x="170" y="208"/>
                  </a:lnTo>
                  <a:lnTo>
                    <a:pt x="151" y="217"/>
                  </a:lnTo>
                  <a:lnTo>
                    <a:pt x="132" y="222"/>
                  </a:lnTo>
                  <a:lnTo>
                    <a:pt x="108" y="222"/>
                  </a:lnTo>
                  <a:lnTo>
                    <a:pt x="90" y="222"/>
                  </a:lnTo>
                  <a:lnTo>
                    <a:pt x="71" y="217"/>
                  </a:lnTo>
                  <a:lnTo>
                    <a:pt x="52" y="208"/>
                  </a:lnTo>
                  <a:lnTo>
                    <a:pt x="33" y="193"/>
                  </a:lnTo>
                  <a:lnTo>
                    <a:pt x="19" y="179"/>
                  </a:lnTo>
                  <a:lnTo>
                    <a:pt x="9" y="160"/>
                  </a:lnTo>
                  <a:lnTo>
                    <a:pt x="5" y="137"/>
                  </a:lnTo>
                  <a:lnTo>
                    <a:pt x="0" y="118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1975"/>
            <p:cNvSpPr/>
            <p:nvPr/>
          </p:nvSpPr>
          <p:spPr>
            <a:xfrm>
              <a:off x="2792160" y="4042080"/>
              <a:ext cx="113760" cy="124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94" h="189">
                  <a:moveTo>
                    <a:pt x="99" y="0"/>
                  </a:moveTo>
                  <a:lnTo>
                    <a:pt x="76" y="71"/>
                  </a:lnTo>
                  <a:lnTo>
                    <a:pt x="0" y="71"/>
                  </a:lnTo>
                  <a:lnTo>
                    <a:pt x="61" y="114"/>
                  </a:lnTo>
                  <a:lnTo>
                    <a:pt x="42" y="189"/>
                  </a:lnTo>
                  <a:lnTo>
                    <a:pt x="99" y="142"/>
                  </a:lnTo>
                  <a:lnTo>
                    <a:pt x="156" y="189"/>
                  </a:lnTo>
                  <a:lnTo>
                    <a:pt x="137" y="114"/>
                  </a:lnTo>
                  <a:lnTo>
                    <a:pt x="194" y="71"/>
                  </a:lnTo>
                  <a:lnTo>
                    <a:pt x="123" y="7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1976"/>
            <p:cNvSpPr/>
            <p:nvPr/>
          </p:nvSpPr>
          <p:spPr>
            <a:xfrm>
              <a:off x="2792160" y="4042080"/>
              <a:ext cx="113760" cy="12492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94" h="189">
                  <a:moveTo>
                    <a:pt x="99" y="0"/>
                  </a:moveTo>
                  <a:lnTo>
                    <a:pt x="76" y="71"/>
                  </a:lnTo>
                  <a:lnTo>
                    <a:pt x="0" y="71"/>
                  </a:lnTo>
                  <a:lnTo>
                    <a:pt x="61" y="114"/>
                  </a:lnTo>
                  <a:lnTo>
                    <a:pt x="42" y="189"/>
                  </a:lnTo>
                  <a:lnTo>
                    <a:pt x="99" y="142"/>
                  </a:lnTo>
                  <a:lnTo>
                    <a:pt x="156" y="189"/>
                  </a:lnTo>
                  <a:lnTo>
                    <a:pt x="137" y="114"/>
                  </a:lnTo>
                  <a:lnTo>
                    <a:pt x="194" y="71"/>
                  </a:lnTo>
                  <a:lnTo>
                    <a:pt x="123" y="71"/>
                  </a:lnTo>
                  <a:lnTo>
                    <a:pt x="99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1977"/>
            <p:cNvSpPr/>
            <p:nvPr/>
          </p:nvSpPr>
          <p:spPr>
            <a:xfrm>
              <a:off x="3251160" y="230076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28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1978"/>
            <p:cNvSpPr/>
            <p:nvPr/>
          </p:nvSpPr>
          <p:spPr>
            <a:xfrm>
              <a:off x="3251160" y="230076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28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1979"/>
            <p:cNvSpPr/>
            <p:nvPr/>
          </p:nvSpPr>
          <p:spPr>
            <a:xfrm>
              <a:off x="3251160" y="230076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28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1980"/>
            <p:cNvSpPr/>
            <p:nvPr/>
          </p:nvSpPr>
          <p:spPr>
            <a:xfrm>
              <a:off x="3251160" y="2300760"/>
              <a:ext cx="49320" cy="558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85" h="85">
                  <a:moveTo>
                    <a:pt x="0" y="42"/>
                  </a:moveTo>
                  <a:lnTo>
                    <a:pt x="0" y="28"/>
                  </a:lnTo>
                  <a:lnTo>
                    <a:pt x="4" y="23"/>
                  </a:lnTo>
                  <a:lnTo>
                    <a:pt x="9" y="14"/>
                  </a:lnTo>
                  <a:lnTo>
                    <a:pt x="14" y="9"/>
                  </a:lnTo>
                  <a:lnTo>
                    <a:pt x="19" y="5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61" y="5"/>
                  </a:lnTo>
                  <a:lnTo>
                    <a:pt x="71" y="9"/>
                  </a:lnTo>
                  <a:lnTo>
                    <a:pt x="80" y="19"/>
                  </a:lnTo>
                  <a:lnTo>
                    <a:pt x="85" y="28"/>
                  </a:lnTo>
                  <a:lnTo>
                    <a:pt x="85" y="42"/>
                  </a:lnTo>
                  <a:lnTo>
                    <a:pt x="85" y="52"/>
                  </a:lnTo>
                  <a:lnTo>
                    <a:pt x="80" y="66"/>
                  </a:lnTo>
                  <a:lnTo>
                    <a:pt x="71" y="75"/>
                  </a:lnTo>
                  <a:lnTo>
                    <a:pt x="61" y="80"/>
                  </a:lnTo>
                  <a:lnTo>
                    <a:pt x="52" y="85"/>
                  </a:lnTo>
                  <a:lnTo>
                    <a:pt x="42" y="85"/>
                  </a:lnTo>
                  <a:lnTo>
                    <a:pt x="33" y="85"/>
                  </a:lnTo>
                  <a:lnTo>
                    <a:pt x="23" y="80"/>
                  </a:lnTo>
                  <a:lnTo>
                    <a:pt x="14" y="75"/>
                  </a:lnTo>
                  <a:lnTo>
                    <a:pt x="4" y="66"/>
                  </a:lnTo>
                  <a:lnTo>
                    <a:pt x="0" y="52"/>
                  </a:lnTo>
                  <a:lnTo>
                    <a:pt x="0" y="42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1981"/>
            <p:cNvSpPr/>
            <p:nvPr/>
          </p:nvSpPr>
          <p:spPr>
            <a:xfrm>
              <a:off x="1799640" y="2189520"/>
              <a:ext cx="69120" cy="73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18" h="113">
                  <a:moveTo>
                    <a:pt x="0" y="52"/>
                  </a:moveTo>
                  <a:lnTo>
                    <a:pt x="5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19" y="14"/>
                  </a:lnTo>
                  <a:lnTo>
                    <a:pt x="28" y="9"/>
                  </a:lnTo>
                  <a:lnTo>
                    <a:pt x="38" y="5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0" y="5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9" y="23"/>
                  </a:lnTo>
                  <a:lnTo>
                    <a:pt x="113" y="33"/>
                  </a:lnTo>
                  <a:lnTo>
                    <a:pt x="118" y="42"/>
                  </a:lnTo>
                  <a:lnTo>
                    <a:pt x="118" y="52"/>
                  </a:lnTo>
                  <a:lnTo>
                    <a:pt x="118" y="66"/>
                  </a:lnTo>
                  <a:lnTo>
                    <a:pt x="113" y="80"/>
                  </a:lnTo>
                  <a:lnTo>
                    <a:pt x="109" y="90"/>
                  </a:lnTo>
                  <a:lnTo>
                    <a:pt x="99" y="99"/>
                  </a:lnTo>
                  <a:lnTo>
                    <a:pt x="90" y="104"/>
                  </a:lnTo>
                  <a:lnTo>
                    <a:pt x="80" y="108"/>
                  </a:lnTo>
                  <a:lnTo>
                    <a:pt x="71" y="113"/>
                  </a:lnTo>
                  <a:lnTo>
                    <a:pt x="61" y="113"/>
                  </a:lnTo>
                  <a:lnTo>
                    <a:pt x="47" y="113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9" y="99"/>
                  </a:lnTo>
                  <a:lnTo>
                    <a:pt x="10" y="90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1982"/>
            <p:cNvSpPr/>
            <p:nvPr/>
          </p:nvSpPr>
          <p:spPr>
            <a:xfrm>
              <a:off x="1799640" y="2189520"/>
              <a:ext cx="69120" cy="7380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18" h="113">
                  <a:moveTo>
                    <a:pt x="0" y="52"/>
                  </a:moveTo>
                  <a:lnTo>
                    <a:pt x="5" y="42"/>
                  </a:lnTo>
                  <a:lnTo>
                    <a:pt x="5" y="33"/>
                  </a:lnTo>
                  <a:lnTo>
                    <a:pt x="14" y="23"/>
                  </a:lnTo>
                  <a:lnTo>
                    <a:pt x="19" y="14"/>
                  </a:lnTo>
                  <a:lnTo>
                    <a:pt x="28" y="9"/>
                  </a:lnTo>
                  <a:lnTo>
                    <a:pt x="38" y="5"/>
                  </a:lnTo>
                  <a:lnTo>
                    <a:pt x="47" y="0"/>
                  </a:lnTo>
                  <a:lnTo>
                    <a:pt x="57" y="0"/>
                  </a:lnTo>
                  <a:lnTo>
                    <a:pt x="71" y="0"/>
                  </a:lnTo>
                  <a:lnTo>
                    <a:pt x="80" y="5"/>
                  </a:lnTo>
                  <a:lnTo>
                    <a:pt x="90" y="9"/>
                  </a:lnTo>
                  <a:lnTo>
                    <a:pt x="99" y="14"/>
                  </a:lnTo>
                  <a:lnTo>
                    <a:pt x="109" y="23"/>
                  </a:lnTo>
                  <a:lnTo>
                    <a:pt x="113" y="33"/>
                  </a:lnTo>
                  <a:lnTo>
                    <a:pt x="118" y="42"/>
                  </a:lnTo>
                  <a:lnTo>
                    <a:pt x="118" y="52"/>
                  </a:lnTo>
                  <a:lnTo>
                    <a:pt x="118" y="66"/>
                  </a:lnTo>
                  <a:lnTo>
                    <a:pt x="113" y="80"/>
                  </a:lnTo>
                  <a:lnTo>
                    <a:pt x="109" y="90"/>
                  </a:lnTo>
                  <a:lnTo>
                    <a:pt x="99" y="99"/>
                  </a:lnTo>
                  <a:lnTo>
                    <a:pt x="90" y="104"/>
                  </a:lnTo>
                  <a:lnTo>
                    <a:pt x="80" y="108"/>
                  </a:lnTo>
                  <a:lnTo>
                    <a:pt x="71" y="113"/>
                  </a:lnTo>
                  <a:lnTo>
                    <a:pt x="61" y="113"/>
                  </a:lnTo>
                  <a:lnTo>
                    <a:pt x="47" y="113"/>
                  </a:lnTo>
                  <a:lnTo>
                    <a:pt x="38" y="113"/>
                  </a:lnTo>
                  <a:lnTo>
                    <a:pt x="28" y="108"/>
                  </a:lnTo>
                  <a:lnTo>
                    <a:pt x="19" y="99"/>
                  </a:lnTo>
                  <a:lnTo>
                    <a:pt x="10" y="90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0" y="52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1983"/>
            <p:cNvSpPr/>
            <p:nvPr/>
          </p:nvSpPr>
          <p:spPr>
            <a:xfrm>
              <a:off x="1818720" y="2207160"/>
              <a:ext cx="30240" cy="37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2" h="57">
                  <a:moveTo>
                    <a:pt x="0" y="29"/>
                  </a:moveTo>
                  <a:lnTo>
                    <a:pt x="0" y="38"/>
                  </a:lnTo>
                  <a:lnTo>
                    <a:pt x="0" y="43"/>
                  </a:lnTo>
                  <a:lnTo>
                    <a:pt x="5" y="47"/>
                  </a:lnTo>
                  <a:lnTo>
                    <a:pt x="14" y="52"/>
                  </a:lnTo>
                  <a:lnTo>
                    <a:pt x="19" y="57"/>
                  </a:lnTo>
                  <a:lnTo>
                    <a:pt x="28" y="57"/>
                  </a:lnTo>
                  <a:lnTo>
                    <a:pt x="33" y="57"/>
                  </a:lnTo>
                  <a:lnTo>
                    <a:pt x="38" y="52"/>
                  </a:lnTo>
                  <a:lnTo>
                    <a:pt x="47" y="52"/>
                  </a:lnTo>
                  <a:lnTo>
                    <a:pt x="52" y="43"/>
                  </a:lnTo>
                  <a:lnTo>
                    <a:pt x="52" y="38"/>
                  </a:lnTo>
                  <a:lnTo>
                    <a:pt x="52" y="2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47" y="10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4" y="5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1984"/>
            <p:cNvSpPr/>
            <p:nvPr/>
          </p:nvSpPr>
          <p:spPr>
            <a:xfrm>
              <a:off x="1818720" y="2207160"/>
              <a:ext cx="30240" cy="3744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2" h="57">
                  <a:moveTo>
                    <a:pt x="0" y="29"/>
                  </a:moveTo>
                  <a:lnTo>
                    <a:pt x="0" y="38"/>
                  </a:lnTo>
                  <a:lnTo>
                    <a:pt x="0" y="43"/>
                  </a:lnTo>
                  <a:lnTo>
                    <a:pt x="5" y="47"/>
                  </a:lnTo>
                  <a:lnTo>
                    <a:pt x="14" y="52"/>
                  </a:lnTo>
                  <a:lnTo>
                    <a:pt x="19" y="57"/>
                  </a:lnTo>
                  <a:lnTo>
                    <a:pt x="28" y="57"/>
                  </a:lnTo>
                  <a:lnTo>
                    <a:pt x="33" y="57"/>
                  </a:lnTo>
                  <a:lnTo>
                    <a:pt x="38" y="52"/>
                  </a:lnTo>
                  <a:lnTo>
                    <a:pt x="47" y="52"/>
                  </a:lnTo>
                  <a:lnTo>
                    <a:pt x="52" y="43"/>
                  </a:lnTo>
                  <a:lnTo>
                    <a:pt x="52" y="38"/>
                  </a:lnTo>
                  <a:lnTo>
                    <a:pt x="52" y="29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47" y="10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4" y="5"/>
                  </a:lnTo>
                  <a:lnTo>
                    <a:pt x="5" y="10"/>
                  </a:lnTo>
                  <a:lnTo>
                    <a:pt x="0" y="19"/>
                  </a:lnTo>
                  <a:lnTo>
                    <a:pt x="0" y="29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1985"/>
            <p:cNvSpPr/>
            <p:nvPr/>
          </p:nvSpPr>
          <p:spPr>
            <a:xfrm>
              <a:off x="2056680" y="2746800"/>
              <a:ext cx="65880" cy="74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3" h="114">
                  <a:moveTo>
                    <a:pt x="0" y="52"/>
                  </a:moveTo>
                  <a:lnTo>
                    <a:pt x="0" y="38"/>
                  </a:lnTo>
                  <a:lnTo>
                    <a:pt x="5" y="29"/>
                  </a:lnTo>
                  <a:lnTo>
                    <a:pt x="10" y="19"/>
                  </a:lnTo>
                  <a:lnTo>
                    <a:pt x="14" y="15"/>
                  </a:lnTo>
                  <a:lnTo>
                    <a:pt x="24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5" y="15"/>
                  </a:lnTo>
                  <a:lnTo>
                    <a:pt x="104" y="24"/>
                  </a:lnTo>
                  <a:lnTo>
                    <a:pt x="109" y="33"/>
                  </a:lnTo>
                  <a:lnTo>
                    <a:pt x="113" y="43"/>
                  </a:lnTo>
                  <a:lnTo>
                    <a:pt x="113" y="52"/>
                  </a:lnTo>
                  <a:lnTo>
                    <a:pt x="113" y="67"/>
                  </a:lnTo>
                  <a:lnTo>
                    <a:pt x="109" y="81"/>
                  </a:lnTo>
                  <a:lnTo>
                    <a:pt x="104" y="90"/>
                  </a:lnTo>
                  <a:lnTo>
                    <a:pt x="95" y="100"/>
                  </a:lnTo>
                  <a:lnTo>
                    <a:pt x="90" y="104"/>
                  </a:lnTo>
                  <a:lnTo>
                    <a:pt x="80" y="109"/>
                  </a:lnTo>
                  <a:lnTo>
                    <a:pt x="66" y="114"/>
                  </a:lnTo>
                  <a:lnTo>
                    <a:pt x="57" y="114"/>
                  </a:lnTo>
                  <a:lnTo>
                    <a:pt x="47" y="114"/>
                  </a:lnTo>
                  <a:lnTo>
                    <a:pt x="33" y="109"/>
                  </a:lnTo>
                  <a:lnTo>
                    <a:pt x="24" y="104"/>
                  </a:lnTo>
                  <a:lnTo>
                    <a:pt x="14" y="100"/>
                  </a:lnTo>
                  <a:lnTo>
                    <a:pt x="10" y="90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1986"/>
            <p:cNvSpPr/>
            <p:nvPr/>
          </p:nvSpPr>
          <p:spPr>
            <a:xfrm>
              <a:off x="2056680" y="2746800"/>
              <a:ext cx="65880" cy="74520"/>
            </a:xfrm>
            <a:custGeom>
              <a:avLst/>
              <a:gdLst>
                <a:gd name="textAreaLeft" fmla="*/ 0 w 65880"/>
                <a:gd name="textAreaRight" fmla="*/ 66240 w 6588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113" h="114">
                  <a:moveTo>
                    <a:pt x="0" y="52"/>
                  </a:moveTo>
                  <a:lnTo>
                    <a:pt x="0" y="38"/>
                  </a:lnTo>
                  <a:lnTo>
                    <a:pt x="5" y="29"/>
                  </a:lnTo>
                  <a:lnTo>
                    <a:pt x="10" y="19"/>
                  </a:lnTo>
                  <a:lnTo>
                    <a:pt x="14" y="15"/>
                  </a:lnTo>
                  <a:lnTo>
                    <a:pt x="24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5" y="15"/>
                  </a:lnTo>
                  <a:lnTo>
                    <a:pt x="104" y="24"/>
                  </a:lnTo>
                  <a:lnTo>
                    <a:pt x="109" y="33"/>
                  </a:lnTo>
                  <a:lnTo>
                    <a:pt x="113" y="43"/>
                  </a:lnTo>
                  <a:lnTo>
                    <a:pt x="113" y="52"/>
                  </a:lnTo>
                  <a:lnTo>
                    <a:pt x="113" y="67"/>
                  </a:lnTo>
                  <a:lnTo>
                    <a:pt x="109" y="81"/>
                  </a:lnTo>
                  <a:lnTo>
                    <a:pt x="104" y="90"/>
                  </a:lnTo>
                  <a:lnTo>
                    <a:pt x="95" y="100"/>
                  </a:lnTo>
                  <a:lnTo>
                    <a:pt x="90" y="104"/>
                  </a:lnTo>
                  <a:lnTo>
                    <a:pt x="80" y="109"/>
                  </a:lnTo>
                  <a:lnTo>
                    <a:pt x="66" y="114"/>
                  </a:lnTo>
                  <a:lnTo>
                    <a:pt x="57" y="114"/>
                  </a:lnTo>
                  <a:lnTo>
                    <a:pt x="47" y="114"/>
                  </a:lnTo>
                  <a:lnTo>
                    <a:pt x="33" y="109"/>
                  </a:lnTo>
                  <a:lnTo>
                    <a:pt x="24" y="104"/>
                  </a:lnTo>
                  <a:lnTo>
                    <a:pt x="14" y="100"/>
                  </a:lnTo>
                  <a:lnTo>
                    <a:pt x="10" y="90"/>
                  </a:lnTo>
                  <a:lnTo>
                    <a:pt x="0" y="81"/>
                  </a:lnTo>
                  <a:lnTo>
                    <a:pt x="0" y="67"/>
                  </a:lnTo>
                  <a:lnTo>
                    <a:pt x="0" y="52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1987"/>
            <p:cNvSpPr/>
            <p:nvPr/>
          </p:nvSpPr>
          <p:spPr>
            <a:xfrm>
              <a:off x="2073240" y="2765880"/>
              <a:ext cx="32760" cy="363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7" h="56">
                  <a:moveTo>
                    <a:pt x="0" y="23"/>
                  </a:moveTo>
                  <a:lnTo>
                    <a:pt x="0" y="33"/>
                  </a:lnTo>
                  <a:lnTo>
                    <a:pt x="5" y="42"/>
                  </a:lnTo>
                  <a:lnTo>
                    <a:pt x="10" y="47"/>
                  </a:lnTo>
                  <a:lnTo>
                    <a:pt x="15" y="52"/>
                  </a:lnTo>
                  <a:lnTo>
                    <a:pt x="19" y="56"/>
                  </a:lnTo>
                  <a:lnTo>
                    <a:pt x="29" y="56"/>
                  </a:lnTo>
                  <a:lnTo>
                    <a:pt x="34" y="56"/>
                  </a:lnTo>
                  <a:lnTo>
                    <a:pt x="43" y="52"/>
                  </a:lnTo>
                  <a:lnTo>
                    <a:pt x="48" y="47"/>
                  </a:lnTo>
                  <a:lnTo>
                    <a:pt x="52" y="42"/>
                  </a:lnTo>
                  <a:lnTo>
                    <a:pt x="57" y="33"/>
                  </a:lnTo>
                  <a:lnTo>
                    <a:pt x="57" y="28"/>
                  </a:lnTo>
                  <a:lnTo>
                    <a:pt x="57" y="19"/>
                  </a:lnTo>
                  <a:lnTo>
                    <a:pt x="52" y="14"/>
                  </a:lnTo>
                  <a:lnTo>
                    <a:pt x="48" y="4"/>
                  </a:lnTo>
                  <a:lnTo>
                    <a:pt x="43" y="4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1988"/>
            <p:cNvSpPr/>
            <p:nvPr/>
          </p:nvSpPr>
          <p:spPr>
            <a:xfrm>
              <a:off x="2073240" y="2765880"/>
              <a:ext cx="32760" cy="3636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7" h="56">
                  <a:moveTo>
                    <a:pt x="0" y="23"/>
                  </a:moveTo>
                  <a:lnTo>
                    <a:pt x="0" y="33"/>
                  </a:lnTo>
                  <a:lnTo>
                    <a:pt x="5" y="42"/>
                  </a:lnTo>
                  <a:lnTo>
                    <a:pt x="10" y="47"/>
                  </a:lnTo>
                  <a:lnTo>
                    <a:pt x="15" y="52"/>
                  </a:lnTo>
                  <a:lnTo>
                    <a:pt x="19" y="56"/>
                  </a:lnTo>
                  <a:lnTo>
                    <a:pt x="29" y="56"/>
                  </a:lnTo>
                  <a:lnTo>
                    <a:pt x="34" y="56"/>
                  </a:lnTo>
                  <a:lnTo>
                    <a:pt x="43" y="52"/>
                  </a:lnTo>
                  <a:lnTo>
                    <a:pt x="48" y="47"/>
                  </a:lnTo>
                  <a:lnTo>
                    <a:pt x="52" y="42"/>
                  </a:lnTo>
                  <a:lnTo>
                    <a:pt x="57" y="33"/>
                  </a:lnTo>
                  <a:lnTo>
                    <a:pt x="57" y="28"/>
                  </a:lnTo>
                  <a:lnTo>
                    <a:pt x="57" y="19"/>
                  </a:lnTo>
                  <a:lnTo>
                    <a:pt x="52" y="14"/>
                  </a:lnTo>
                  <a:lnTo>
                    <a:pt x="48" y="4"/>
                  </a:lnTo>
                  <a:lnTo>
                    <a:pt x="43" y="4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4"/>
                  </a:lnTo>
                  <a:lnTo>
                    <a:pt x="0" y="14"/>
                  </a:lnTo>
                  <a:lnTo>
                    <a:pt x="0" y="23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1989"/>
            <p:cNvSpPr/>
            <p:nvPr/>
          </p:nvSpPr>
          <p:spPr>
            <a:xfrm>
              <a:off x="1019880" y="3162240"/>
              <a:ext cx="66600" cy="74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3" h="113">
                  <a:moveTo>
                    <a:pt x="0" y="52"/>
                  </a:moveTo>
                  <a:lnTo>
                    <a:pt x="0" y="42"/>
                  </a:lnTo>
                  <a:lnTo>
                    <a:pt x="4" y="28"/>
                  </a:lnTo>
                  <a:lnTo>
                    <a:pt x="9" y="24"/>
                  </a:lnTo>
                  <a:lnTo>
                    <a:pt x="19" y="14"/>
                  </a:lnTo>
                  <a:lnTo>
                    <a:pt x="28" y="9"/>
                  </a:lnTo>
                  <a:lnTo>
                    <a:pt x="37" y="5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5" y="5"/>
                  </a:lnTo>
                  <a:lnTo>
                    <a:pt x="89" y="9"/>
                  </a:lnTo>
                  <a:lnTo>
                    <a:pt x="94" y="14"/>
                  </a:lnTo>
                  <a:lnTo>
                    <a:pt x="104" y="24"/>
                  </a:lnTo>
                  <a:lnTo>
                    <a:pt x="108" y="33"/>
                  </a:lnTo>
                  <a:lnTo>
                    <a:pt x="113" y="42"/>
                  </a:lnTo>
                  <a:lnTo>
                    <a:pt x="113" y="52"/>
                  </a:lnTo>
                  <a:lnTo>
                    <a:pt x="113" y="66"/>
                  </a:lnTo>
                  <a:lnTo>
                    <a:pt x="108" y="80"/>
                  </a:lnTo>
                  <a:lnTo>
                    <a:pt x="104" y="90"/>
                  </a:lnTo>
                  <a:lnTo>
                    <a:pt x="99" y="99"/>
                  </a:lnTo>
                  <a:lnTo>
                    <a:pt x="89" y="104"/>
                  </a:lnTo>
                  <a:lnTo>
                    <a:pt x="80" y="108"/>
                  </a:lnTo>
                  <a:lnTo>
                    <a:pt x="71" y="113"/>
                  </a:lnTo>
                  <a:lnTo>
                    <a:pt x="56" y="113"/>
                  </a:lnTo>
                  <a:lnTo>
                    <a:pt x="47" y="113"/>
                  </a:lnTo>
                  <a:lnTo>
                    <a:pt x="33" y="108"/>
                  </a:lnTo>
                  <a:lnTo>
                    <a:pt x="23" y="104"/>
                  </a:lnTo>
                  <a:lnTo>
                    <a:pt x="14" y="99"/>
                  </a:lnTo>
                  <a:lnTo>
                    <a:pt x="9" y="90"/>
                  </a:lnTo>
                  <a:lnTo>
                    <a:pt x="4" y="80"/>
                  </a:lnTo>
                  <a:lnTo>
                    <a:pt x="0" y="6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1990"/>
            <p:cNvSpPr/>
            <p:nvPr/>
          </p:nvSpPr>
          <p:spPr>
            <a:xfrm>
              <a:off x="1019880" y="3162240"/>
              <a:ext cx="66600" cy="74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113" h="113">
                  <a:moveTo>
                    <a:pt x="0" y="52"/>
                  </a:moveTo>
                  <a:lnTo>
                    <a:pt x="0" y="42"/>
                  </a:lnTo>
                  <a:lnTo>
                    <a:pt x="4" y="28"/>
                  </a:lnTo>
                  <a:lnTo>
                    <a:pt x="9" y="24"/>
                  </a:lnTo>
                  <a:lnTo>
                    <a:pt x="19" y="14"/>
                  </a:lnTo>
                  <a:lnTo>
                    <a:pt x="28" y="9"/>
                  </a:lnTo>
                  <a:lnTo>
                    <a:pt x="37" y="5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5" y="5"/>
                  </a:lnTo>
                  <a:lnTo>
                    <a:pt x="89" y="9"/>
                  </a:lnTo>
                  <a:lnTo>
                    <a:pt x="94" y="14"/>
                  </a:lnTo>
                  <a:lnTo>
                    <a:pt x="104" y="24"/>
                  </a:lnTo>
                  <a:lnTo>
                    <a:pt x="108" y="33"/>
                  </a:lnTo>
                  <a:lnTo>
                    <a:pt x="113" y="42"/>
                  </a:lnTo>
                  <a:lnTo>
                    <a:pt x="113" y="52"/>
                  </a:lnTo>
                  <a:lnTo>
                    <a:pt x="113" y="66"/>
                  </a:lnTo>
                  <a:lnTo>
                    <a:pt x="108" y="80"/>
                  </a:lnTo>
                  <a:lnTo>
                    <a:pt x="104" y="90"/>
                  </a:lnTo>
                  <a:lnTo>
                    <a:pt x="99" y="99"/>
                  </a:lnTo>
                  <a:lnTo>
                    <a:pt x="89" y="104"/>
                  </a:lnTo>
                  <a:lnTo>
                    <a:pt x="80" y="108"/>
                  </a:lnTo>
                  <a:lnTo>
                    <a:pt x="71" y="113"/>
                  </a:lnTo>
                  <a:lnTo>
                    <a:pt x="56" y="113"/>
                  </a:lnTo>
                  <a:lnTo>
                    <a:pt x="47" y="113"/>
                  </a:lnTo>
                  <a:lnTo>
                    <a:pt x="33" y="108"/>
                  </a:lnTo>
                  <a:lnTo>
                    <a:pt x="23" y="104"/>
                  </a:lnTo>
                  <a:lnTo>
                    <a:pt x="14" y="99"/>
                  </a:lnTo>
                  <a:lnTo>
                    <a:pt x="9" y="90"/>
                  </a:lnTo>
                  <a:lnTo>
                    <a:pt x="4" y="80"/>
                  </a:lnTo>
                  <a:lnTo>
                    <a:pt x="0" y="66"/>
                  </a:lnTo>
                  <a:lnTo>
                    <a:pt x="0" y="52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1991"/>
            <p:cNvSpPr/>
            <p:nvPr/>
          </p:nvSpPr>
          <p:spPr>
            <a:xfrm>
              <a:off x="1036080" y="3180960"/>
              <a:ext cx="33480" cy="37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57">
                  <a:moveTo>
                    <a:pt x="0" y="29"/>
                  </a:moveTo>
                  <a:lnTo>
                    <a:pt x="0" y="33"/>
                  </a:lnTo>
                  <a:lnTo>
                    <a:pt x="5" y="43"/>
                  </a:lnTo>
                  <a:lnTo>
                    <a:pt x="9" y="47"/>
                  </a:lnTo>
                  <a:lnTo>
                    <a:pt x="14" y="52"/>
                  </a:lnTo>
                  <a:lnTo>
                    <a:pt x="24" y="57"/>
                  </a:lnTo>
                  <a:lnTo>
                    <a:pt x="28" y="57"/>
                  </a:lnTo>
                  <a:lnTo>
                    <a:pt x="38" y="57"/>
                  </a:lnTo>
                  <a:lnTo>
                    <a:pt x="43" y="52"/>
                  </a:lnTo>
                  <a:lnTo>
                    <a:pt x="47" y="47"/>
                  </a:lnTo>
                  <a:lnTo>
                    <a:pt x="52" y="43"/>
                  </a:lnTo>
                  <a:lnTo>
                    <a:pt x="57" y="38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2" y="14"/>
                  </a:lnTo>
                  <a:lnTo>
                    <a:pt x="47" y="10"/>
                  </a:lnTo>
                  <a:lnTo>
                    <a:pt x="43" y="5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10"/>
                  </a:lnTo>
                  <a:lnTo>
                    <a:pt x="5" y="14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1992"/>
            <p:cNvSpPr/>
            <p:nvPr/>
          </p:nvSpPr>
          <p:spPr>
            <a:xfrm>
              <a:off x="1036080" y="3180960"/>
              <a:ext cx="33480" cy="37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57">
                  <a:moveTo>
                    <a:pt x="0" y="29"/>
                  </a:moveTo>
                  <a:lnTo>
                    <a:pt x="0" y="33"/>
                  </a:lnTo>
                  <a:lnTo>
                    <a:pt x="5" y="43"/>
                  </a:lnTo>
                  <a:lnTo>
                    <a:pt x="9" y="47"/>
                  </a:lnTo>
                  <a:lnTo>
                    <a:pt x="14" y="52"/>
                  </a:lnTo>
                  <a:lnTo>
                    <a:pt x="24" y="57"/>
                  </a:lnTo>
                  <a:lnTo>
                    <a:pt x="28" y="57"/>
                  </a:lnTo>
                  <a:lnTo>
                    <a:pt x="38" y="57"/>
                  </a:lnTo>
                  <a:lnTo>
                    <a:pt x="43" y="52"/>
                  </a:lnTo>
                  <a:lnTo>
                    <a:pt x="47" y="47"/>
                  </a:lnTo>
                  <a:lnTo>
                    <a:pt x="52" y="43"/>
                  </a:lnTo>
                  <a:lnTo>
                    <a:pt x="57" y="38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2" y="14"/>
                  </a:lnTo>
                  <a:lnTo>
                    <a:pt x="47" y="10"/>
                  </a:lnTo>
                  <a:lnTo>
                    <a:pt x="43" y="5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10"/>
                  </a:lnTo>
                  <a:lnTo>
                    <a:pt x="5" y="14"/>
                  </a:lnTo>
                  <a:lnTo>
                    <a:pt x="0" y="29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1993"/>
            <p:cNvSpPr/>
            <p:nvPr/>
          </p:nvSpPr>
          <p:spPr>
            <a:xfrm>
              <a:off x="1846440" y="3729960"/>
              <a:ext cx="69120" cy="770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6"/>
                  </a:moveTo>
                  <a:lnTo>
                    <a:pt x="0" y="42"/>
                  </a:lnTo>
                  <a:lnTo>
                    <a:pt x="5" y="33"/>
                  </a:lnTo>
                  <a:lnTo>
                    <a:pt x="10" y="23"/>
                  </a:lnTo>
                  <a:lnTo>
                    <a:pt x="19" y="14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4"/>
                  </a:lnTo>
                  <a:lnTo>
                    <a:pt x="57" y="0"/>
                  </a:lnTo>
                  <a:lnTo>
                    <a:pt x="66" y="4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9"/>
                  </a:lnTo>
                  <a:lnTo>
                    <a:pt x="104" y="23"/>
                  </a:lnTo>
                  <a:lnTo>
                    <a:pt x="109" y="33"/>
                  </a:lnTo>
                  <a:lnTo>
                    <a:pt x="114" y="42"/>
                  </a:lnTo>
                  <a:lnTo>
                    <a:pt x="118" y="56"/>
                  </a:lnTo>
                  <a:lnTo>
                    <a:pt x="114" y="70"/>
                  </a:lnTo>
                  <a:lnTo>
                    <a:pt x="114" y="80"/>
                  </a:lnTo>
                  <a:lnTo>
                    <a:pt x="104" y="94"/>
                  </a:lnTo>
                  <a:lnTo>
                    <a:pt x="99" y="99"/>
                  </a:lnTo>
                  <a:lnTo>
                    <a:pt x="90" y="108"/>
                  </a:lnTo>
                  <a:lnTo>
                    <a:pt x="81" y="113"/>
                  </a:lnTo>
                  <a:lnTo>
                    <a:pt x="71" y="113"/>
                  </a:lnTo>
                  <a:lnTo>
                    <a:pt x="57" y="118"/>
                  </a:lnTo>
                  <a:lnTo>
                    <a:pt x="48" y="118"/>
                  </a:lnTo>
                  <a:lnTo>
                    <a:pt x="38" y="113"/>
                  </a:lnTo>
                  <a:lnTo>
                    <a:pt x="29" y="108"/>
                  </a:lnTo>
                  <a:lnTo>
                    <a:pt x="19" y="99"/>
                  </a:lnTo>
                  <a:lnTo>
                    <a:pt x="10" y="94"/>
                  </a:lnTo>
                  <a:lnTo>
                    <a:pt x="5" y="80"/>
                  </a:lnTo>
                  <a:lnTo>
                    <a:pt x="0" y="7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1994"/>
            <p:cNvSpPr/>
            <p:nvPr/>
          </p:nvSpPr>
          <p:spPr>
            <a:xfrm>
              <a:off x="1846440" y="3729960"/>
              <a:ext cx="69120" cy="770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6"/>
                  </a:moveTo>
                  <a:lnTo>
                    <a:pt x="0" y="42"/>
                  </a:lnTo>
                  <a:lnTo>
                    <a:pt x="5" y="33"/>
                  </a:lnTo>
                  <a:lnTo>
                    <a:pt x="10" y="23"/>
                  </a:lnTo>
                  <a:lnTo>
                    <a:pt x="19" y="14"/>
                  </a:lnTo>
                  <a:lnTo>
                    <a:pt x="29" y="9"/>
                  </a:lnTo>
                  <a:lnTo>
                    <a:pt x="38" y="4"/>
                  </a:lnTo>
                  <a:lnTo>
                    <a:pt x="48" y="4"/>
                  </a:lnTo>
                  <a:lnTo>
                    <a:pt x="57" y="0"/>
                  </a:lnTo>
                  <a:lnTo>
                    <a:pt x="66" y="4"/>
                  </a:lnTo>
                  <a:lnTo>
                    <a:pt x="81" y="4"/>
                  </a:lnTo>
                  <a:lnTo>
                    <a:pt x="90" y="9"/>
                  </a:lnTo>
                  <a:lnTo>
                    <a:pt x="99" y="19"/>
                  </a:lnTo>
                  <a:lnTo>
                    <a:pt x="104" y="23"/>
                  </a:lnTo>
                  <a:lnTo>
                    <a:pt x="109" y="33"/>
                  </a:lnTo>
                  <a:lnTo>
                    <a:pt x="114" y="42"/>
                  </a:lnTo>
                  <a:lnTo>
                    <a:pt x="118" y="56"/>
                  </a:lnTo>
                  <a:lnTo>
                    <a:pt x="114" y="70"/>
                  </a:lnTo>
                  <a:lnTo>
                    <a:pt x="114" y="80"/>
                  </a:lnTo>
                  <a:lnTo>
                    <a:pt x="104" y="94"/>
                  </a:lnTo>
                  <a:lnTo>
                    <a:pt x="99" y="99"/>
                  </a:lnTo>
                  <a:lnTo>
                    <a:pt x="90" y="108"/>
                  </a:lnTo>
                  <a:lnTo>
                    <a:pt x="81" y="113"/>
                  </a:lnTo>
                  <a:lnTo>
                    <a:pt x="71" y="113"/>
                  </a:lnTo>
                  <a:lnTo>
                    <a:pt x="57" y="118"/>
                  </a:lnTo>
                  <a:lnTo>
                    <a:pt x="48" y="118"/>
                  </a:lnTo>
                  <a:lnTo>
                    <a:pt x="38" y="113"/>
                  </a:lnTo>
                  <a:lnTo>
                    <a:pt x="29" y="108"/>
                  </a:lnTo>
                  <a:lnTo>
                    <a:pt x="19" y="99"/>
                  </a:lnTo>
                  <a:lnTo>
                    <a:pt x="10" y="94"/>
                  </a:lnTo>
                  <a:lnTo>
                    <a:pt x="5" y="80"/>
                  </a:lnTo>
                  <a:lnTo>
                    <a:pt x="0" y="70"/>
                  </a:lnTo>
                  <a:lnTo>
                    <a:pt x="0" y="56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1995"/>
            <p:cNvSpPr/>
            <p:nvPr/>
          </p:nvSpPr>
          <p:spPr>
            <a:xfrm>
              <a:off x="1863000" y="3751200"/>
              <a:ext cx="32760" cy="37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6" h="56">
                  <a:moveTo>
                    <a:pt x="0" y="23"/>
                  </a:moveTo>
                  <a:lnTo>
                    <a:pt x="0" y="33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14" y="52"/>
                  </a:lnTo>
                  <a:lnTo>
                    <a:pt x="23" y="52"/>
                  </a:lnTo>
                  <a:lnTo>
                    <a:pt x="28" y="56"/>
                  </a:lnTo>
                  <a:lnTo>
                    <a:pt x="37" y="52"/>
                  </a:lnTo>
                  <a:lnTo>
                    <a:pt x="42" y="52"/>
                  </a:lnTo>
                  <a:lnTo>
                    <a:pt x="47" y="47"/>
                  </a:lnTo>
                  <a:lnTo>
                    <a:pt x="52" y="42"/>
                  </a:lnTo>
                  <a:lnTo>
                    <a:pt x="56" y="33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52" y="9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4"/>
                  </a:lnTo>
                  <a:lnTo>
                    <a:pt x="4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1996"/>
            <p:cNvSpPr/>
            <p:nvPr/>
          </p:nvSpPr>
          <p:spPr>
            <a:xfrm>
              <a:off x="1863000" y="3751200"/>
              <a:ext cx="32760" cy="37080"/>
            </a:xfrm>
            <a:custGeom>
              <a:avLst/>
              <a:gdLst>
                <a:gd name="textAreaLeft" fmla="*/ 0 w 32760"/>
                <a:gd name="textAreaRight" fmla="*/ 33120 w 3276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56" h="56">
                  <a:moveTo>
                    <a:pt x="0" y="23"/>
                  </a:moveTo>
                  <a:lnTo>
                    <a:pt x="0" y="33"/>
                  </a:lnTo>
                  <a:lnTo>
                    <a:pt x="4" y="42"/>
                  </a:lnTo>
                  <a:lnTo>
                    <a:pt x="9" y="47"/>
                  </a:lnTo>
                  <a:lnTo>
                    <a:pt x="14" y="52"/>
                  </a:lnTo>
                  <a:lnTo>
                    <a:pt x="23" y="52"/>
                  </a:lnTo>
                  <a:lnTo>
                    <a:pt x="28" y="56"/>
                  </a:lnTo>
                  <a:lnTo>
                    <a:pt x="37" y="52"/>
                  </a:lnTo>
                  <a:lnTo>
                    <a:pt x="42" y="52"/>
                  </a:lnTo>
                  <a:lnTo>
                    <a:pt x="47" y="47"/>
                  </a:lnTo>
                  <a:lnTo>
                    <a:pt x="52" y="42"/>
                  </a:lnTo>
                  <a:lnTo>
                    <a:pt x="56" y="33"/>
                  </a:lnTo>
                  <a:lnTo>
                    <a:pt x="56" y="23"/>
                  </a:lnTo>
                  <a:lnTo>
                    <a:pt x="56" y="19"/>
                  </a:lnTo>
                  <a:lnTo>
                    <a:pt x="52" y="9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7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4"/>
                  </a:lnTo>
                  <a:lnTo>
                    <a:pt x="4" y="14"/>
                  </a:lnTo>
                  <a:lnTo>
                    <a:pt x="0" y="23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1997"/>
            <p:cNvSpPr/>
            <p:nvPr/>
          </p:nvSpPr>
          <p:spPr>
            <a:xfrm>
              <a:off x="6043680" y="5260680"/>
              <a:ext cx="69120" cy="770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7"/>
                  </a:moveTo>
                  <a:lnTo>
                    <a:pt x="5" y="43"/>
                  </a:lnTo>
                  <a:lnTo>
                    <a:pt x="5" y="33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28" y="10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57" y="0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90" y="10"/>
                  </a:lnTo>
                  <a:lnTo>
                    <a:pt x="99" y="19"/>
                  </a:lnTo>
                  <a:lnTo>
                    <a:pt x="109" y="24"/>
                  </a:lnTo>
                  <a:lnTo>
                    <a:pt x="113" y="33"/>
                  </a:lnTo>
                  <a:lnTo>
                    <a:pt x="118" y="47"/>
                  </a:lnTo>
                  <a:lnTo>
                    <a:pt x="118" y="57"/>
                  </a:lnTo>
                  <a:lnTo>
                    <a:pt x="118" y="71"/>
                  </a:lnTo>
                  <a:lnTo>
                    <a:pt x="113" y="80"/>
                  </a:lnTo>
                  <a:lnTo>
                    <a:pt x="109" y="95"/>
                  </a:lnTo>
                  <a:lnTo>
                    <a:pt x="99" y="99"/>
                  </a:lnTo>
                  <a:lnTo>
                    <a:pt x="90" y="109"/>
                  </a:lnTo>
                  <a:lnTo>
                    <a:pt x="80" y="114"/>
                  </a:lnTo>
                  <a:lnTo>
                    <a:pt x="71" y="118"/>
                  </a:lnTo>
                  <a:lnTo>
                    <a:pt x="61" y="118"/>
                  </a:lnTo>
                  <a:lnTo>
                    <a:pt x="47" y="118"/>
                  </a:lnTo>
                  <a:lnTo>
                    <a:pt x="38" y="114"/>
                  </a:lnTo>
                  <a:lnTo>
                    <a:pt x="28" y="109"/>
                  </a:lnTo>
                  <a:lnTo>
                    <a:pt x="19" y="104"/>
                  </a:lnTo>
                  <a:lnTo>
                    <a:pt x="10" y="95"/>
                  </a:lnTo>
                  <a:lnTo>
                    <a:pt x="5" y="80"/>
                  </a:lnTo>
                  <a:lnTo>
                    <a:pt x="5" y="7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1998"/>
            <p:cNvSpPr/>
            <p:nvPr/>
          </p:nvSpPr>
          <p:spPr>
            <a:xfrm>
              <a:off x="6043680" y="5260680"/>
              <a:ext cx="69120" cy="770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7"/>
                  </a:moveTo>
                  <a:lnTo>
                    <a:pt x="5" y="43"/>
                  </a:lnTo>
                  <a:lnTo>
                    <a:pt x="5" y="33"/>
                  </a:lnTo>
                  <a:lnTo>
                    <a:pt x="14" y="24"/>
                  </a:lnTo>
                  <a:lnTo>
                    <a:pt x="19" y="19"/>
                  </a:lnTo>
                  <a:lnTo>
                    <a:pt x="28" y="10"/>
                  </a:lnTo>
                  <a:lnTo>
                    <a:pt x="38" y="5"/>
                  </a:lnTo>
                  <a:lnTo>
                    <a:pt x="47" y="5"/>
                  </a:lnTo>
                  <a:lnTo>
                    <a:pt x="57" y="0"/>
                  </a:lnTo>
                  <a:lnTo>
                    <a:pt x="71" y="5"/>
                  </a:lnTo>
                  <a:lnTo>
                    <a:pt x="80" y="5"/>
                  </a:lnTo>
                  <a:lnTo>
                    <a:pt x="90" y="10"/>
                  </a:lnTo>
                  <a:lnTo>
                    <a:pt x="99" y="19"/>
                  </a:lnTo>
                  <a:lnTo>
                    <a:pt x="109" y="24"/>
                  </a:lnTo>
                  <a:lnTo>
                    <a:pt x="113" y="33"/>
                  </a:lnTo>
                  <a:lnTo>
                    <a:pt x="118" y="47"/>
                  </a:lnTo>
                  <a:lnTo>
                    <a:pt x="118" y="57"/>
                  </a:lnTo>
                  <a:lnTo>
                    <a:pt x="118" y="71"/>
                  </a:lnTo>
                  <a:lnTo>
                    <a:pt x="113" y="80"/>
                  </a:lnTo>
                  <a:lnTo>
                    <a:pt x="109" y="95"/>
                  </a:lnTo>
                  <a:lnTo>
                    <a:pt x="99" y="99"/>
                  </a:lnTo>
                  <a:lnTo>
                    <a:pt x="90" y="109"/>
                  </a:lnTo>
                  <a:lnTo>
                    <a:pt x="80" y="114"/>
                  </a:lnTo>
                  <a:lnTo>
                    <a:pt x="71" y="118"/>
                  </a:lnTo>
                  <a:lnTo>
                    <a:pt x="61" y="118"/>
                  </a:lnTo>
                  <a:lnTo>
                    <a:pt x="47" y="118"/>
                  </a:lnTo>
                  <a:lnTo>
                    <a:pt x="38" y="114"/>
                  </a:lnTo>
                  <a:lnTo>
                    <a:pt x="28" y="109"/>
                  </a:lnTo>
                  <a:lnTo>
                    <a:pt x="19" y="104"/>
                  </a:lnTo>
                  <a:lnTo>
                    <a:pt x="10" y="95"/>
                  </a:lnTo>
                  <a:lnTo>
                    <a:pt x="5" y="80"/>
                  </a:lnTo>
                  <a:lnTo>
                    <a:pt x="5" y="71"/>
                  </a:lnTo>
                  <a:lnTo>
                    <a:pt x="0" y="57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1999"/>
            <p:cNvSpPr/>
            <p:nvPr/>
          </p:nvSpPr>
          <p:spPr>
            <a:xfrm>
              <a:off x="6062400" y="5281920"/>
              <a:ext cx="33480" cy="37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57">
                  <a:moveTo>
                    <a:pt x="0" y="24"/>
                  </a:moveTo>
                  <a:lnTo>
                    <a:pt x="0" y="33"/>
                  </a:lnTo>
                  <a:lnTo>
                    <a:pt x="0" y="43"/>
                  </a:lnTo>
                  <a:lnTo>
                    <a:pt x="5" y="47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8" y="57"/>
                  </a:lnTo>
                  <a:lnTo>
                    <a:pt x="33" y="52"/>
                  </a:lnTo>
                  <a:lnTo>
                    <a:pt x="38" y="52"/>
                  </a:lnTo>
                  <a:lnTo>
                    <a:pt x="47" y="47"/>
                  </a:lnTo>
                  <a:lnTo>
                    <a:pt x="52" y="43"/>
                  </a:lnTo>
                  <a:lnTo>
                    <a:pt x="52" y="33"/>
                  </a:lnTo>
                  <a:lnTo>
                    <a:pt x="57" y="29"/>
                  </a:lnTo>
                  <a:lnTo>
                    <a:pt x="52" y="19"/>
                  </a:lnTo>
                  <a:lnTo>
                    <a:pt x="52" y="10"/>
                  </a:lnTo>
                  <a:lnTo>
                    <a:pt x="47" y="5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2000"/>
            <p:cNvSpPr/>
            <p:nvPr/>
          </p:nvSpPr>
          <p:spPr>
            <a:xfrm>
              <a:off x="6062400" y="5281920"/>
              <a:ext cx="33480" cy="37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57">
                  <a:moveTo>
                    <a:pt x="0" y="24"/>
                  </a:moveTo>
                  <a:lnTo>
                    <a:pt x="0" y="33"/>
                  </a:lnTo>
                  <a:lnTo>
                    <a:pt x="0" y="43"/>
                  </a:lnTo>
                  <a:lnTo>
                    <a:pt x="5" y="47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8" y="57"/>
                  </a:lnTo>
                  <a:lnTo>
                    <a:pt x="33" y="52"/>
                  </a:lnTo>
                  <a:lnTo>
                    <a:pt x="38" y="52"/>
                  </a:lnTo>
                  <a:lnTo>
                    <a:pt x="47" y="47"/>
                  </a:lnTo>
                  <a:lnTo>
                    <a:pt x="52" y="43"/>
                  </a:lnTo>
                  <a:lnTo>
                    <a:pt x="52" y="33"/>
                  </a:lnTo>
                  <a:lnTo>
                    <a:pt x="57" y="29"/>
                  </a:lnTo>
                  <a:lnTo>
                    <a:pt x="52" y="19"/>
                  </a:lnTo>
                  <a:lnTo>
                    <a:pt x="52" y="10"/>
                  </a:lnTo>
                  <a:lnTo>
                    <a:pt x="47" y="5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4" y="0"/>
                  </a:lnTo>
                  <a:lnTo>
                    <a:pt x="5" y="5"/>
                  </a:lnTo>
                  <a:lnTo>
                    <a:pt x="0" y="14"/>
                  </a:lnTo>
                  <a:lnTo>
                    <a:pt x="0" y="24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2001"/>
            <p:cNvSpPr/>
            <p:nvPr/>
          </p:nvSpPr>
          <p:spPr>
            <a:xfrm>
              <a:off x="743400" y="3874680"/>
              <a:ext cx="69120" cy="770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7"/>
                  </a:moveTo>
                  <a:lnTo>
                    <a:pt x="0" y="43"/>
                  </a:lnTo>
                  <a:lnTo>
                    <a:pt x="4" y="34"/>
                  </a:lnTo>
                  <a:lnTo>
                    <a:pt x="9" y="24"/>
                  </a:lnTo>
                  <a:lnTo>
                    <a:pt x="18" y="19"/>
                  </a:lnTo>
                  <a:lnTo>
                    <a:pt x="28" y="10"/>
                  </a:lnTo>
                  <a:lnTo>
                    <a:pt x="37" y="5"/>
                  </a:lnTo>
                  <a:lnTo>
                    <a:pt x="47" y="5"/>
                  </a:lnTo>
                  <a:lnTo>
                    <a:pt x="56" y="0"/>
                  </a:lnTo>
                  <a:lnTo>
                    <a:pt x="66" y="5"/>
                  </a:lnTo>
                  <a:lnTo>
                    <a:pt x="80" y="5"/>
                  </a:lnTo>
                  <a:lnTo>
                    <a:pt x="89" y="10"/>
                  </a:lnTo>
                  <a:lnTo>
                    <a:pt x="99" y="19"/>
                  </a:lnTo>
                  <a:lnTo>
                    <a:pt x="103" y="24"/>
                  </a:lnTo>
                  <a:lnTo>
                    <a:pt x="108" y="34"/>
                  </a:lnTo>
                  <a:lnTo>
                    <a:pt x="113" y="48"/>
                  </a:lnTo>
                  <a:lnTo>
                    <a:pt x="118" y="57"/>
                  </a:lnTo>
                  <a:lnTo>
                    <a:pt x="113" y="71"/>
                  </a:lnTo>
                  <a:lnTo>
                    <a:pt x="113" y="81"/>
                  </a:lnTo>
                  <a:lnTo>
                    <a:pt x="103" y="95"/>
                  </a:lnTo>
                  <a:lnTo>
                    <a:pt x="99" y="104"/>
                  </a:lnTo>
                  <a:lnTo>
                    <a:pt x="89" y="109"/>
                  </a:lnTo>
                  <a:lnTo>
                    <a:pt x="80" y="114"/>
                  </a:lnTo>
                  <a:lnTo>
                    <a:pt x="70" y="118"/>
                  </a:lnTo>
                  <a:lnTo>
                    <a:pt x="56" y="118"/>
                  </a:lnTo>
                  <a:lnTo>
                    <a:pt x="47" y="118"/>
                  </a:lnTo>
                  <a:lnTo>
                    <a:pt x="37" y="114"/>
                  </a:lnTo>
                  <a:lnTo>
                    <a:pt x="23" y="109"/>
                  </a:lnTo>
                  <a:lnTo>
                    <a:pt x="18" y="104"/>
                  </a:lnTo>
                  <a:lnTo>
                    <a:pt x="9" y="95"/>
                  </a:lnTo>
                  <a:lnTo>
                    <a:pt x="4" y="81"/>
                  </a:lnTo>
                  <a:lnTo>
                    <a:pt x="0" y="71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2002"/>
            <p:cNvSpPr/>
            <p:nvPr/>
          </p:nvSpPr>
          <p:spPr>
            <a:xfrm>
              <a:off x="743400" y="3874680"/>
              <a:ext cx="69120" cy="77040"/>
            </a:xfrm>
            <a:custGeom>
              <a:avLst/>
              <a:gdLst>
                <a:gd name="textAreaLeft" fmla="*/ 0 w 69120"/>
                <a:gd name="textAreaRight" fmla="*/ 69480 w 6912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118" h="118">
                  <a:moveTo>
                    <a:pt x="0" y="57"/>
                  </a:moveTo>
                  <a:lnTo>
                    <a:pt x="0" y="43"/>
                  </a:lnTo>
                  <a:lnTo>
                    <a:pt x="4" y="34"/>
                  </a:lnTo>
                  <a:lnTo>
                    <a:pt x="9" y="24"/>
                  </a:lnTo>
                  <a:lnTo>
                    <a:pt x="18" y="19"/>
                  </a:lnTo>
                  <a:lnTo>
                    <a:pt x="28" y="10"/>
                  </a:lnTo>
                  <a:lnTo>
                    <a:pt x="37" y="5"/>
                  </a:lnTo>
                  <a:lnTo>
                    <a:pt x="47" y="5"/>
                  </a:lnTo>
                  <a:lnTo>
                    <a:pt x="56" y="0"/>
                  </a:lnTo>
                  <a:lnTo>
                    <a:pt x="66" y="5"/>
                  </a:lnTo>
                  <a:lnTo>
                    <a:pt x="80" y="5"/>
                  </a:lnTo>
                  <a:lnTo>
                    <a:pt x="89" y="10"/>
                  </a:lnTo>
                  <a:lnTo>
                    <a:pt x="99" y="19"/>
                  </a:lnTo>
                  <a:lnTo>
                    <a:pt x="103" y="24"/>
                  </a:lnTo>
                  <a:lnTo>
                    <a:pt x="108" y="34"/>
                  </a:lnTo>
                  <a:lnTo>
                    <a:pt x="113" y="48"/>
                  </a:lnTo>
                  <a:lnTo>
                    <a:pt x="118" y="57"/>
                  </a:lnTo>
                  <a:lnTo>
                    <a:pt x="113" y="71"/>
                  </a:lnTo>
                  <a:lnTo>
                    <a:pt x="113" y="81"/>
                  </a:lnTo>
                  <a:lnTo>
                    <a:pt x="103" y="95"/>
                  </a:lnTo>
                  <a:lnTo>
                    <a:pt x="99" y="104"/>
                  </a:lnTo>
                  <a:lnTo>
                    <a:pt x="89" y="109"/>
                  </a:lnTo>
                  <a:lnTo>
                    <a:pt x="80" y="114"/>
                  </a:lnTo>
                  <a:lnTo>
                    <a:pt x="70" y="118"/>
                  </a:lnTo>
                  <a:lnTo>
                    <a:pt x="56" y="118"/>
                  </a:lnTo>
                  <a:lnTo>
                    <a:pt x="47" y="118"/>
                  </a:lnTo>
                  <a:lnTo>
                    <a:pt x="37" y="114"/>
                  </a:lnTo>
                  <a:lnTo>
                    <a:pt x="23" y="109"/>
                  </a:lnTo>
                  <a:lnTo>
                    <a:pt x="18" y="104"/>
                  </a:lnTo>
                  <a:lnTo>
                    <a:pt x="9" y="95"/>
                  </a:lnTo>
                  <a:lnTo>
                    <a:pt x="4" y="81"/>
                  </a:lnTo>
                  <a:lnTo>
                    <a:pt x="0" y="71"/>
                  </a:lnTo>
                  <a:lnTo>
                    <a:pt x="0" y="57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2003"/>
            <p:cNvSpPr/>
            <p:nvPr/>
          </p:nvSpPr>
          <p:spPr>
            <a:xfrm>
              <a:off x="759960" y="3897360"/>
              <a:ext cx="33480" cy="36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7" h="56">
                  <a:moveTo>
                    <a:pt x="0" y="23"/>
                  </a:moveTo>
                  <a:lnTo>
                    <a:pt x="0" y="33"/>
                  </a:lnTo>
                  <a:lnTo>
                    <a:pt x="5" y="42"/>
                  </a:lnTo>
                  <a:lnTo>
                    <a:pt x="9" y="47"/>
                  </a:lnTo>
                  <a:lnTo>
                    <a:pt x="14" y="51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8" y="56"/>
                  </a:lnTo>
                  <a:lnTo>
                    <a:pt x="42" y="51"/>
                  </a:lnTo>
                  <a:lnTo>
                    <a:pt x="47" y="47"/>
                  </a:lnTo>
                  <a:lnTo>
                    <a:pt x="52" y="42"/>
                  </a:lnTo>
                  <a:lnTo>
                    <a:pt x="57" y="33"/>
                  </a:lnTo>
                  <a:lnTo>
                    <a:pt x="57" y="28"/>
                  </a:lnTo>
                  <a:lnTo>
                    <a:pt x="57" y="18"/>
                  </a:lnTo>
                  <a:lnTo>
                    <a:pt x="52" y="9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4"/>
                  </a:lnTo>
                  <a:lnTo>
                    <a:pt x="5" y="14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2004"/>
            <p:cNvSpPr/>
            <p:nvPr/>
          </p:nvSpPr>
          <p:spPr>
            <a:xfrm>
              <a:off x="759960" y="3897360"/>
              <a:ext cx="33480" cy="363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7" h="56">
                  <a:moveTo>
                    <a:pt x="0" y="23"/>
                  </a:moveTo>
                  <a:lnTo>
                    <a:pt x="0" y="33"/>
                  </a:lnTo>
                  <a:lnTo>
                    <a:pt x="5" y="42"/>
                  </a:lnTo>
                  <a:lnTo>
                    <a:pt x="9" y="47"/>
                  </a:lnTo>
                  <a:lnTo>
                    <a:pt x="14" y="51"/>
                  </a:lnTo>
                  <a:lnTo>
                    <a:pt x="24" y="56"/>
                  </a:lnTo>
                  <a:lnTo>
                    <a:pt x="28" y="56"/>
                  </a:lnTo>
                  <a:lnTo>
                    <a:pt x="38" y="56"/>
                  </a:lnTo>
                  <a:lnTo>
                    <a:pt x="42" y="51"/>
                  </a:lnTo>
                  <a:lnTo>
                    <a:pt x="47" y="47"/>
                  </a:lnTo>
                  <a:lnTo>
                    <a:pt x="52" y="42"/>
                  </a:lnTo>
                  <a:lnTo>
                    <a:pt x="57" y="33"/>
                  </a:lnTo>
                  <a:lnTo>
                    <a:pt x="57" y="28"/>
                  </a:lnTo>
                  <a:lnTo>
                    <a:pt x="57" y="18"/>
                  </a:lnTo>
                  <a:lnTo>
                    <a:pt x="52" y="9"/>
                  </a:lnTo>
                  <a:lnTo>
                    <a:pt x="47" y="4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19" y="0"/>
                  </a:lnTo>
                  <a:lnTo>
                    <a:pt x="9" y="4"/>
                  </a:lnTo>
                  <a:lnTo>
                    <a:pt x="5" y="14"/>
                  </a:lnTo>
                  <a:lnTo>
                    <a:pt x="0" y="23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2005"/>
            <p:cNvSpPr/>
            <p:nvPr/>
          </p:nvSpPr>
          <p:spPr>
            <a:xfrm>
              <a:off x="1156320" y="2276640"/>
              <a:ext cx="65160" cy="73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13" h="113">
                  <a:moveTo>
                    <a:pt x="0" y="52"/>
                  </a:moveTo>
                  <a:lnTo>
                    <a:pt x="0" y="38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24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4" y="14"/>
                  </a:lnTo>
                  <a:lnTo>
                    <a:pt x="104" y="24"/>
                  </a:lnTo>
                  <a:lnTo>
                    <a:pt x="109" y="28"/>
                  </a:lnTo>
                  <a:lnTo>
                    <a:pt x="113" y="43"/>
                  </a:lnTo>
                  <a:lnTo>
                    <a:pt x="113" y="52"/>
                  </a:lnTo>
                  <a:lnTo>
                    <a:pt x="113" y="66"/>
                  </a:lnTo>
                  <a:lnTo>
                    <a:pt x="109" y="80"/>
                  </a:lnTo>
                  <a:lnTo>
                    <a:pt x="104" y="90"/>
                  </a:lnTo>
                  <a:lnTo>
                    <a:pt x="94" y="99"/>
                  </a:lnTo>
                  <a:lnTo>
                    <a:pt x="90" y="104"/>
                  </a:lnTo>
                  <a:lnTo>
                    <a:pt x="80" y="109"/>
                  </a:lnTo>
                  <a:lnTo>
                    <a:pt x="66" y="113"/>
                  </a:lnTo>
                  <a:lnTo>
                    <a:pt x="57" y="113"/>
                  </a:lnTo>
                  <a:lnTo>
                    <a:pt x="47" y="113"/>
                  </a:lnTo>
                  <a:lnTo>
                    <a:pt x="33" y="109"/>
                  </a:lnTo>
                  <a:lnTo>
                    <a:pt x="24" y="104"/>
                  </a:lnTo>
                  <a:lnTo>
                    <a:pt x="14" y="99"/>
                  </a:lnTo>
                  <a:lnTo>
                    <a:pt x="10" y="90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2006"/>
            <p:cNvSpPr/>
            <p:nvPr/>
          </p:nvSpPr>
          <p:spPr>
            <a:xfrm>
              <a:off x="1156320" y="2276640"/>
              <a:ext cx="65160" cy="738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113" h="113">
                  <a:moveTo>
                    <a:pt x="0" y="52"/>
                  </a:moveTo>
                  <a:lnTo>
                    <a:pt x="0" y="38"/>
                  </a:lnTo>
                  <a:lnTo>
                    <a:pt x="5" y="28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24" y="5"/>
                  </a:lnTo>
                  <a:lnTo>
                    <a:pt x="33" y="0"/>
                  </a:lnTo>
                  <a:lnTo>
                    <a:pt x="43" y="0"/>
                  </a:lnTo>
                  <a:lnTo>
                    <a:pt x="57" y="0"/>
                  </a:lnTo>
                  <a:lnTo>
                    <a:pt x="66" y="0"/>
                  </a:lnTo>
                  <a:lnTo>
                    <a:pt x="76" y="0"/>
                  </a:lnTo>
                  <a:lnTo>
                    <a:pt x="85" y="5"/>
                  </a:lnTo>
                  <a:lnTo>
                    <a:pt x="94" y="14"/>
                  </a:lnTo>
                  <a:lnTo>
                    <a:pt x="104" y="24"/>
                  </a:lnTo>
                  <a:lnTo>
                    <a:pt x="109" y="28"/>
                  </a:lnTo>
                  <a:lnTo>
                    <a:pt x="113" y="43"/>
                  </a:lnTo>
                  <a:lnTo>
                    <a:pt x="113" y="52"/>
                  </a:lnTo>
                  <a:lnTo>
                    <a:pt x="113" y="66"/>
                  </a:lnTo>
                  <a:lnTo>
                    <a:pt x="109" y="80"/>
                  </a:lnTo>
                  <a:lnTo>
                    <a:pt x="104" y="90"/>
                  </a:lnTo>
                  <a:lnTo>
                    <a:pt x="94" y="99"/>
                  </a:lnTo>
                  <a:lnTo>
                    <a:pt x="90" y="104"/>
                  </a:lnTo>
                  <a:lnTo>
                    <a:pt x="80" y="109"/>
                  </a:lnTo>
                  <a:lnTo>
                    <a:pt x="66" y="113"/>
                  </a:lnTo>
                  <a:lnTo>
                    <a:pt x="57" y="113"/>
                  </a:lnTo>
                  <a:lnTo>
                    <a:pt x="47" y="113"/>
                  </a:lnTo>
                  <a:lnTo>
                    <a:pt x="33" y="109"/>
                  </a:lnTo>
                  <a:lnTo>
                    <a:pt x="24" y="104"/>
                  </a:lnTo>
                  <a:lnTo>
                    <a:pt x="14" y="99"/>
                  </a:lnTo>
                  <a:lnTo>
                    <a:pt x="10" y="90"/>
                  </a:lnTo>
                  <a:lnTo>
                    <a:pt x="5" y="80"/>
                  </a:lnTo>
                  <a:lnTo>
                    <a:pt x="0" y="66"/>
                  </a:lnTo>
                  <a:lnTo>
                    <a:pt x="0" y="52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2007"/>
            <p:cNvSpPr/>
            <p:nvPr/>
          </p:nvSpPr>
          <p:spPr>
            <a:xfrm>
              <a:off x="1171440" y="2294280"/>
              <a:ext cx="33480" cy="37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57">
                  <a:moveTo>
                    <a:pt x="0" y="24"/>
                  </a:moveTo>
                  <a:lnTo>
                    <a:pt x="0" y="33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9" y="57"/>
                  </a:lnTo>
                  <a:lnTo>
                    <a:pt x="33" y="57"/>
                  </a:lnTo>
                  <a:lnTo>
                    <a:pt x="43" y="52"/>
                  </a:lnTo>
                  <a:lnTo>
                    <a:pt x="48" y="48"/>
                  </a:lnTo>
                  <a:lnTo>
                    <a:pt x="52" y="43"/>
                  </a:lnTo>
                  <a:lnTo>
                    <a:pt x="57" y="33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2" y="10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5"/>
                  </a:lnTo>
                  <a:lnTo>
                    <a:pt x="0" y="1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2008"/>
            <p:cNvSpPr/>
            <p:nvPr/>
          </p:nvSpPr>
          <p:spPr>
            <a:xfrm>
              <a:off x="1171440" y="2294280"/>
              <a:ext cx="33480" cy="374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57" h="57">
                  <a:moveTo>
                    <a:pt x="0" y="24"/>
                  </a:moveTo>
                  <a:lnTo>
                    <a:pt x="0" y="33"/>
                  </a:lnTo>
                  <a:lnTo>
                    <a:pt x="5" y="43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7"/>
                  </a:lnTo>
                  <a:lnTo>
                    <a:pt x="29" y="57"/>
                  </a:lnTo>
                  <a:lnTo>
                    <a:pt x="33" y="57"/>
                  </a:lnTo>
                  <a:lnTo>
                    <a:pt x="43" y="52"/>
                  </a:lnTo>
                  <a:lnTo>
                    <a:pt x="48" y="48"/>
                  </a:lnTo>
                  <a:lnTo>
                    <a:pt x="52" y="43"/>
                  </a:lnTo>
                  <a:lnTo>
                    <a:pt x="57" y="33"/>
                  </a:lnTo>
                  <a:lnTo>
                    <a:pt x="57" y="29"/>
                  </a:lnTo>
                  <a:lnTo>
                    <a:pt x="57" y="19"/>
                  </a:lnTo>
                  <a:lnTo>
                    <a:pt x="52" y="10"/>
                  </a:lnTo>
                  <a:lnTo>
                    <a:pt x="48" y="5"/>
                  </a:lnTo>
                  <a:lnTo>
                    <a:pt x="43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19" y="0"/>
                  </a:lnTo>
                  <a:lnTo>
                    <a:pt x="10" y="5"/>
                  </a:lnTo>
                  <a:lnTo>
                    <a:pt x="0" y="15"/>
                  </a:lnTo>
                  <a:lnTo>
                    <a:pt x="0" y="24"/>
                  </a:lnTo>
                </a:path>
              </a:pathLst>
            </a:custGeom>
            <a:noFill/>
            <a:ln w="5760">
              <a:solidFill>
                <a:srgbClr val="0092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2009"/>
            <p:cNvSpPr/>
            <p:nvPr/>
          </p:nvSpPr>
          <p:spPr>
            <a:xfrm>
              <a:off x="384120" y="2781360"/>
              <a:ext cx="293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Ka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2010"/>
            <p:cNvSpPr/>
            <p:nvPr/>
          </p:nvSpPr>
          <p:spPr>
            <a:xfrm>
              <a:off x="1089000" y="2135880"/>
              <a:ext cx="4636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1f1a17"/>
                  </a:solidFill>
                  <a:latin typeface="AvantGarde Bk BT"/>
                </a:rPr>
                <a:t>Yéliman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2011"/>
            <p:cNvSpPr/>
            <p:nvPr/>
          </p:nvSpPr>
          <p:spPr>
            <a:xfrm>
              <a:off x="1005840" y="3047400"/>
              <a:ext cx="474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Bafoulab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2012"/>
            <p:cNvSpPr/>
            <p:nvPr/>
          </p:nvSpPr>
          <p:spPr>
            <a:xfrm>
              <a:off x="710280" y="3949560"/>
              <a:ext cx="386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Kénié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2013"/>
            <p:cNvSpPr/>
            <p:nvPr/>
          </p:nvSpPr>
          <p:spPr>
            <a:xfrm>
              <a:off x="1788840" y="3403800"/>
              <a:ext cx="5713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70c0"/>
                  </a:solidFill>
                  <a:latin typeface="Futura Lt BT"/>
                </a:rPr>
                <a:t> </a:t>
              </a: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Ki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2014"/>
            <p:cNvSpPr/>
            <p:nvPr/>
          </p:nvSpPr>
          <p:spPr>
            <a:xfrm rot="6300000">
              <a:off x="1714680" y="3701880"/>
              <a:ext cx="27144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Fl. Sénég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2015"/>
            <p:cNvSpPr/>
            <p:nvPr/>
          </p:nvSpPr>
          <p:spPr>
            <a:xfrm rot="5760000">
              <a:off x="1529640" y="3947040"/>
              <a:ext cx="135720" cy="2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2016"/>
            <p:cNvSpPr/>
            <p:nvPr/>
          </p:nvSpPr>
          <p:spPr>
            <a:xfrm rot="5340000">
              <a:off x="1626840" y="3989880"/>
              <a:ext cx="3312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2017"/>
            <p:cNvSpPr/>
            <p:nvPr/>
          </p:nvSpPr>
          <p:spPr>
            <a:xfrm rot="4860000">
              <a:off x="1542240" y="3873600"/>
              <a:ext cx="135720" cy="4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2018"/>
            <p:cNvSpPr/>
            <p:nvPr/>
          </p:nvSpPr>
          <p:spPr>
            <a:xfrm rot="4500000">
              <a:off x="1629720" y="3982320"/>
              <a:ext cx="5364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2019"/>
            <p:cNvSpPr/>
            <p:nvPr/>
          </p:nvSpPr>
          <p:spPr>
            <a:xfrm rot="3900000">
              <a:off x="1649160" y="4080240"/>
              <a:ext cx="5436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2020"/>
            <p:cNvSpPr/>
            <p:nvPr/>
          </p:nvSpPr>
          <p:spPr>
            <a:xfrm rot="3480000">
              <a:off x="1672560" y="4130280"/>
              <a:ext cx="5364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2021"/>
            <p:cNvSpPr/>
            <p:nvPr/>
          </p:nvSpPr>
          <p:spPr>
            <a:xfrm rot="3120000">
              <a:off x="1705680" y="4177080"/>
              <a:ext cx="53640" cy="12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2022"/>
            <p:cNvSpPr/>
            <p:nvPr/>
          </p:nvSpPr>
          <p:spPr>
            <a:xfrm rot="2820000">
              <a:off x="1740240" y="4195800"/>
              <a:ext cx="54360" cy="12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2023"/>
            <p:cNvSpPr/>
            <p:nvPr/>
          </p:nvSpPr>
          <p:spPr>
            <a:xfrm rot="2520000">
              <a:off x="1770480" y="3983400"/>
              <a:ext cx="475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2024"/>
            <p:cNvSpPr/>
            <p:nvPr/>
          </p:nvSpPr>
          <p:spPr>
            <a:xfrm rot="2760000">
              <a:off x="1823040" y="4195800"/>
              <a:ext cx="5436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2025"/>
            <p:cNvSpPr/>
            <p:nvPr/>
          </p:nvSpPr>
          <p:spPr>
            <a:xfrm rot="2760000">
              <a:off x="1854360" y="4195800"/>
              <a:ext cx="54360" cy="12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10800000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2026"/>
            <p:cNvSpPr/>
            <p:nvPr/>
          </p:nvSpPr>
          <p:spPr>
            <a:xfrm>
              <a:off x="2485440" y="4523040"/>
              <a:ext cx="325800" cy="1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2027"/>
            <p:cNvSpPr/>
            <p:nvPr/>
          </p:nvSpPr>
          <p:spPr>
            <a:xfrm>
              <a:off x="2407680" y="4497840"/>
              <a:ext cx="422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Kanga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2028"/>
            <p:cNvSpPr/>
            <p:nvPr/>
          </p:nvSpPr>
          <p:spPr>
            <a:xfrm>
              <a:off x="2902680" y="4119480"/>
              <a:ext cx="474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1f1a17"/>
                  </a:solidFill>
                  <a:latin typeface="Futura Md BT"/>
                </a:rPr>
                <a:t>BAMAK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2029"/>
            <p:cNvSpPr/>
            <p:nvPr/>
          </p:nvSpPr>
          <p:spPr>
            <a:xfrm>
              <a:off x="2551320" y="3819240"/>
              <a:ext cx="4399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Kouliko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2030"/>
            <p:cNvSpPr/>
            <p:nvPr/>
          </p:nvSpPr>
          <p:spPr>
            <a:xfrm>
              <a:off x="3789360" y="3474360"/>
              <a:ext cx="928800" cy="35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Ségo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2031"/>
            <p:cNvSpPr/>
            <p:nvPr/>
          </p:nvSpPr>
          <p:spPr>
            <a:xfrm>
              <a:off x="1694520" y="2239200"/>
              <a:ext cx="2520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Nio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2032"/>
            <p:cNvSpPr/>
            <p:nvPr/>
          </p:nvSpPr>
          <p:spPr>
            <a:xfrm>
              <a:off x="1945440" y="2629440"/>
              <a:ext cx="305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Dié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2033"/>
            <p:cNvSpPr/>
            <p:nvPr/>
          </p:nvSpPr>
          <p:spPr>
            <a:xfrm>
              <a:off x="3137400" y="2046240"/>
              <a:ext cx="893880" cy="2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Futura Lt BT"/>
                </a:rPr>
                <a:t>Nar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2034"/>
            <p:cNvSpPr/>
            <p:nvPr/>
          </p:nvSpPr>
          <p:spPr>
            <a:xfrm>
              <a:off x="3641760" y="3042720"/>
              <a:ext cx="77508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Nio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2035"/>
            <p:cNvSpPr/>
            <p:nvPr/>
          </p:nvSpPr>
          <p:spPr>
            <a:xfrm>
              <a:off x="4807800" y="2169720"/>
              <a:ext cx="4514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Youvaro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2036"/>
            <p:cNvSpPr/>
            <p:nvPr/>
          </p:nvSpPr>
          <p:spPr>
            <a:xfrm>
              <a:off x="4976640" y="1647000"/>
              <a:ext cx="47412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Niafounk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2037"/>
            <p:cNvSpPr/>
            <p:nvPr/>
          </p:nvSpPr>
          <p:spPr>
            <a:xfrm>
              <a:off x="4506120" y="2971080"/>
              <a:ext cx="74484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Djenn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2038"/>
            <p:cNvSpPr/>
            <p:nvPr/>
          </p:nvSpPr>
          <p:spPr>
            <a:xfrm>
              <a:off x="5338080" y="2663640"/>
              <a:ext cx="258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Mopt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2039"/>
            <p:cNvSpPr/>
            <p:nvPr/>
          </p:nvSpPr>
          <p:spPr>
            <a:xfrm>
              <a:off x="5713920" y="2852280"/>
              <a:ext cx="539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Bandiagar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2040"/>
            <p:cNvSpPr/>
            <p:nvPr/>
          </p:nvSpPr>
          <p:spPr>
            <a:xfrm>
              <a:off x="5437800" y="3237120"/>
              <a:ext cx="40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Bankas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2041"/>
            <p:cNvSpPr/>
            <p:nvPr/>
          </p:nvSpPr>
          <p:spPr>
            <a:xfrm>
              <a:off x="5921640" y="3047400"/>
              <a:ext cx="2235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Kor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2042"/>
            <p:cNvSpPr/>
            <p:nvPr/>
          </p:nvSpPr>
          <p:spPr>
            <a:xfrm>
              <a:off x="6107760" y="2393640"/>
              <a:ext cx="5328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Lt BT"/>
                </a:rPr>
                <a:t>Douentz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2043"/>
            <p:cNvSpPr/>
            <p:nvPr/>
          </p:nvSpPr>
          <p:spPr>
            <a:xfrm>
              <a:off x="5857920" y="1594080"/>
              <a:ext cx="194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Diré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2044"/>
            <p:cNvSpPr/>
            <p:nvPr/>
          </p:nvSpPr>
          <p:spPr>
            <a:xfrm>
              <a:off x="5142600" y="1368000"/>
              <a:ext cx="462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Gounda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2045"/>
            <p:cNvSpPr/>
            <p:nvPr/>
          </p:nvSpPr>
          <p:spPr>
            <a:xfrm>
              <a:off x="7063560" y="1284120"/>
              <a:ext cx="102240" cy="9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2046"/>
            <p:cNvSpPr/>
            <p:nvPr/>
          </p:nvSpPr>
          <p:spPr>
            <a:xfrm>
              <a:off x="6801120" y="114732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Gourm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2047"/>
            <p:cNvSpPr/>
            <p:nvPr/>
          </p:nvSpPr>
          <p:spPr>
            <a:xfrm>
              <a:off x="6801120" y="1280880"/>
              <a:ext cx="39852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Rharou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2048"/>
            <p:cNvSpPr/>
            <p:nvPr/>
          </p:nvSpPr>
          <p:spPr>
            <a:xfrm>
              <a:off x="7630560" y="915480"/>
              <a:ext cx="369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Boure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2049"/>
            <p:cNvSpPr/>
            <p:nvPr/>
          </p:nvSpPr>
          <p:spPr>
            <a:xfrm>
              <a:off x="7554960" y="1662120"/>
              <a:ext cx="332640" cy="27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Futura Lt BT"/>
                </a:rPr>
                <a:t>Ga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2050"/>
            <p:cNvSpPr/>
            <p:nvPr/>
          </p:nvSpPr>
          <p:spPr>
            <a:xfrm>
              <a:off x="2288520" y="3617640"/>
              <a:ext cx="108648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Koloka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2051"/>
            <p:cNvSpPr/>
            <p:nvPr/>
          </p:nvSpPr>
          <p:spPr>
            <a:xfrm>
              <a:off x="1835640" y="3861000"/>
              <a:ext cx="1166040" cy="21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Banamb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2052"/>
            <p:cNvSpPr/>
            <p:nvPr/>
          </p:nvSpPr>
          <p:spPr>
            <a:xfrm>
              <a:off x="3519360" y="4305960"/>
              <a:ext cx="2642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Dioi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2053"/>
            <p:cNvSpPr/>
            <p:nvPr/>
          </p:nvSpPr>
          <p:spPr>
            <a:xfrm>
              <a:off x="2767320" y="5168880"/>
              <a:ext cx="411840" cy="119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2054"/>
            <p:cNvSpPr/>
            <p:nvPr/>
          </p:nvSpPr>
          <p:spPr>
            <a:xfrm>
              <a:off x="2769840" y="5173560"/>
              <a:ext cx="4042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Yanfoli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2055"/>
            <p:cNvSpPr/>
            <p:nvPr/>
          </p:nvSpPr>
          <p:spPr>
            <a:xfrm>
              <a:off x="3270240" y="5065560"/>
              <a:ext cx="3816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Koutia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2056"/>
            <p:cNvSpPr/>
            <p:nvPr/>
          </p:nvSpPr>
          <p:spPr>
            <a:xfrm>
              <a:off x="3281760" y="5294880"/>
              <a:ext cx="527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Kolondiéb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2057"/>
            <p:cNvSpPr/>
            <p:nvPr/>
          </p:nvSpPr>
          <p:spPr>
            <a:xfrm>
              <a:off x="4042080" y="5199480"/>
              <a:ext cx="369360" cy="27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2058"/>
            <p:cNvSpPr/>
            <p:nvPr/>
          </p:nvSpPr>
          <p:spPr>
            <a:xfrm>
              <a:off x="4094640" y="5551920"/>
              <a:ext cx="3517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Kadi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2059"/>
            <p:cNvSpPr/>
            <p:nvPr/>
          </p:nvSpPr>
          <p:spPr>
            <a:xfrm>
              <a:off x="4575240" y="3546000"/>
              <a:ext cx="428400" cy="41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70c0"/>
                  </a:solidFill>
                  <a:latin typeface="Futura Lt BT"/>
                </a:rPr>
                <a:t>S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2060"/>
            <p:cNvSpPr/>
            <p:nvPr/>
          </p:nvSpPr>
          <p:spPr>
            <a:xfrm>
              <a:off x="4907520" y="3547080"/>
              <a:ext cx="4334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Tominia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2061"/>
            <p:cNvSpPr/>
            <p:nvPr/>
          </p:nvSpPr>
          <p:spPr>
            <a:xfrm>
              <a:off x="4773960" y="4287240"/>
              <a:ext cx="387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Yoro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2062"/>
            <p:cNvSpPr/>
            <p:nvPr/>
          </p:nvSpPr>
          <p:spPr>
            <a:xfrm>
              <a:off x="4237920" y="4209840"/>
              <a:ext cx="38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Koutial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2063"/>
            <p:cNvSpPr/>
            <p:nvPr/>
          </p:nvSpPr>
          <p:spPr>
            <a:xfrm>
              <a:off x="5996520" y="1287360"/>
              <a:ext cx="5860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Tomboucto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2064"/>
            <p:cNvSpPr/>
            <p:nvPr/>
          </p:nvSpPr>
          <p:spPr>
            <a:xfrm>
              <a:off x="5000760" y="772560"/>
              <a:ext cx="76140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TOMBOUCTO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2065"/>
            <p:cNvSpPr/>
            <p:nvPr/>
          </p:nvSpPr>
          <p:spPr>
            <a:xfrm>
              <a:off x="5847120" y="2555280"/>
              <a:ext cx="3333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MOPT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2066"/>
            <p:cNvSpPr/>
            <p:nvPr/>
          </p:nvSpPr>
          <p:spPr>
            <a:xfrm>
              <a:off x="3792960" y="3348360"/>
              <a:ext cx="380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2067"/>
            <p:cNvSpPr/>
            <p:nvPr/>
          </p:nvSpPr>
          <p:spPr>
            <a:xfrm>
              <a:off x="2675880" y="2989080"/>
              <a:ext cx="6271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2068"/>
            <p:cNvSpPr/>
            <p:nvPr/>
          </p:nvSpPr>
          <p:spPr>
            <a:xfrm>
              <a:off x="3488760" y="4873680"/>
              <a:ext cx="46332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SIKAS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2069"/>
            <p:cNvSpPr/>
            <p:nvPr/>
          </p:nvSpPr>
          <p:spPr>
            <a:xfrm rot="1516800">
              <a:off x="1420920" y="4841640"/>
              <a:ext cx="596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e5d"/>
                  </a:solidFill>
                  <a:latin typeface="Arial"/>
                </a:rPr>
                <a:t>GUINÉ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2070"/>
            <p:cNvSpPr/>
            <p:nvPr/>
          </p:nvSpPr>
          <p:spPr>
            <a:xfrm rot="18882000">
              <a:off x="6054120" y="3397320"/>
              <a:ext cx="10540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e5d"/>
                  </a:solidFill>
                  <a:latin typeface="Arial"/>
                </a:rPr>
                <a:t>BURKINA</a:t>
              </a:r>
              <a:r>
                <a:rPr b="1" lang="en-US" sz="800" spc="-1" strike="noStrike">
                  <a:solidFill>
                    <a:srgbClr val="605e5d"/>
                  </a:solidFill>
                  <a:latin typeface="Arial"/>
                </a:rPr>
                <a:t> F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2071"/>
            <p:cNvSpPr/>
            <p:nvPr/>
          </p:nvSpPr>
          <p:spPr>
            <a:xfrm>
              <a:off x="6924960" y="3403080"/>
              <a:ext cx="482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2072"/>
            <p:cNvSpPr/>
            <p:nvPr/>
          </p:nvSpPr>
          <p:spPr>
            <a:xfrm rot="20880000">
              <a:off x="6246360" y="1043280"/>
              <a:ext cx="640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2073"/>
            <p:cNvSpPr/>
            <p:nvPr/>
          </p:nvSpPr>
          <p:spPr>
            <a:xfrm rot="20880000">
              <a:off x="6299280" y="1031040"/>
              <a:ext cx="23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2074"/>
            <p:cNvSpPr/>
            <p:nvPr/>
          </p:nvSpPr>
          <p:spPr>
            <a:xfrm rot="20880000">
              <a:off x="6326280" y="1018440"/>
              <a:ext cx="590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2075"/>
            <p:cNvSpPr/>
            <p:nvPr/>
          </p:nvSpPr>
          <p:spPr>
            <a:xfrm rot="20880000">
              <a:off x="6381360" y="1006560"/>
              <a:ext cx="590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u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76"/>
            <p:cNvSpPr/>
            <p:nvPr/>
          </p:nvSpPr>
          <p:spPr>
            <a:xfrm rot="20880000">
              <a:off x="6434280" y="991800"/>
              <a:ext cx="532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v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77"/>
            <p:cNvSpPr/>
            <p:nvPr/>
          </p:nvSpPr>
          <p:spPr>
            <a:xfrm rot="20880000">
              <a:off x="6481080" y="978840"/>
              <a:ext cx="590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78"/>
            <p:cNvSpPr/>
            <p:nvPr/>
          </p:nvSpPr>
          <p:spPr>
            <a:xfrm rot="20880000">
              <a:off x="6531480" y="966960"/>
              <a:ext cx="295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Rectangle 2079"/>
            <p:cNvSpPr/>
            <p:nvPr/>
          </p:nvSpPr>
          <p:spPr>
            <a:xfrm rot="20880000">
              <a:off x="6558480" y="960480"/>
              <a:ext cx="298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80"/>
            <p:cNvSpPr/>
            <p:nvPr/>
          </p:nvSpPr>
          <p:spPr>
            <a:xfrm rot="20880000">
              <a:off x="6586560" y="954000"/>
              <a:ext cx="302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Rectangle 2081"/>
            <p:cNvSpPr/>
            <p:nvPr/>
          </p:nvSpPr>
          <p:spPr>
            <a:xfrm rot="20880000">
              <a:off x="6617160" y="939240"/>
              <a:ext cx="756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Rectangle 2082"/>
            <p:cNvSpPr/>
            <p:nvPr/>
          </p:nvSpPr>
          <p:spPr>
            <a:xfrm rot="20880000">
              <a:off x="6694560" y="923040"/>
              <a:ext cx="295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Rectangle 2083"/>
            <p:cNvSpPr/>
            <p:nvPr/>
          </p:nvSpPr>
          <p:spPr>
            <a:xfrm rot="20880000">
              <a:off x="6721560" y="908280"/>
              <a:ext cx="824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Rectangle 2084"/>
            <p:cNvSpPr/>
            <p:nvPr/>
          </p:nvSpPr>
          <p:spPr>
            <a:xfrm rot="20880000">
              <a:off x="6805080" y="891000"/>
              <a:ext cx="7056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Rectangle 2085"/>
            <p:cNvSpPr/>
            <p:nvPr/>
          </p:nvSpPr>
          <p:spPr>
            <a:xfrm rot="20880000">
              <a:off x="6859440" y="874800"/>
              <a:ext cx="7740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800" spc="-1" strike="noStrike">
                  <a:solidFill>
                    <a:srgbClr val="0093dd"/>
                  </a:solidFill>
                  <a:latin typeface="Futura Lt BT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2086"/>
            <p:cNvSpPr/>
            <p:nvPr/>
          </p:nvSpPr>
          <p:spPr>
            <a:xfrm>
              <a:off x="3065760" y="1530720"/>
              <a:ext cx="86328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e5d"/>
                  </a:solidFill>
                  <a:latin typeface="Arial"/>
                </a:rPr>
                <a:t>MAURITANI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2087"/>
            <p:cNvSpPr/>
            <p:nvPr/>
          </p:nvSpPr>
          <p:spPr>
            <a:xfrm rot="19380000">
              <a:off x="3134520" y="3767040"/>
              <a:ext cx="640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F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Rectangle 2088"/>
            <p:cNvSpPr/>
            <p:nvPr/>
          </p:nvSpPr>
          <p:spPr>
            <a:xfrm rot="19380000">
              <a:off x="3175920" y="3741840"/>
              <a:ext cx="2340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2089"/>
            <p:cNvSpPr/>
            <p:nvPr/>
          </p:nvSpPr>
          <p:spPr>
            <a:xfrm rot="19380000">
              <a:off x="3192840" y="3726000"/>
              <a:ext cx="295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.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Rectangle 2090"/>
            <p:cNvSpPr/>
            <p:nvPr/>
          </p:nvSpPr>
          <p:spPr>
            <a:xfrm rot="19380000">
              <a:off x="3217680" y="3704040"/>
              <a:ext cx="2952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2091"/>
            <p:cNvSpPr/>
            <p:nvPr/>
          </p:nvSpPr>
          <p:spPr>
            <a:xfrm rot="19380000">
              <a:off x="3234600" y="3670200"/>
              <a:ext cx="7596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Rectangle 2092"/>
            <p:cNvSpPr/>
            <p:nvPr/>
          </p:nvSpPr>
          <p:spPr>
            <a:xfrm rot="19380000">
              <a:off x="3297600" y="3629880"/>
              <a:ext cx="2988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2093"/>
            <p:cNvSpPr/>
            <p:nvPr/>
          </p:nvSpPr>
          <p:spPr>
            <a:xfrm rot="19380000">
              <a:off x="3309480" y="3595320"/>
              <a:ext cx="824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Rectangle 2094"/>
            <p:cNvSpPr/>
            <p:nvPr/>
          </p:nvSpPr>
          <p:spPr>
            <a:xfrm rot="19380000">
              <a:off x="3373560" y="3544920"/>
              <a:ext cx="7020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Rectangle 2095"/>
            <p:cNvSpPr/>
            <p:nvPr/>
          </p:nvSpPr>
          <p:spPr>
            <a:xfrm rot="19380000">
              <a:off x="3414600" y="3505680"/>
              <a:ext cx="7596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3dd"/>
                  </a:solidFill>
                  <a:latin typeface="Futura Lt BT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Rectangle 2096"/>
            <p:cNvSpPr/>
            <p:nvPr/>
          </p:nvSpPr>
          <p:spPr>
            <a:xfrm>
              <a:off x="1622520" y="2889720"/>
              <a:ext cx="88560" cy="13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2097"/>
            <p:cNvSpPr/>
            <p:nvPr/>
          </p:nvSpPr>
          <p:spPr>
            <a:xfrm>
              <a:off x="1097280" y="2865240"/>
              <a:ext cx="35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9240"/>
                  </a:solidFill>
                  <a:latin typeface="Futura Lt BT"/>
                </a:rPr>
                <a:t>KAY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Rectangle 2098"/>
            <p:cNvSpPr/>
            <p:nvPr/>
          </p:nvSpPr>
          <p:spPr>
            <a:xfrm rot="16200000">
              <a:off x="-285480" y="3441240"/>
              <a:ext cx="79956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05e5d"/>
                  </a:solidFill>
                  <a:latin typeface="Arial"/>
                </a:rPr>
                <a:t>SENEG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2099"/>
            <p:cNvSpPr/>
            <p:nvPr/>
          </p:nvSpPr>
          <p:spPr>
            <a:xfrm>
              <a:off x="6319800" y="5914440"/>
              <a:ext cx="831600" cy="24480"/>
            </a:xfrm>
            <a:custGeom>
              <a:avLst/>
              <a:gdLst>
                <a:gd name="textAreaLeft" fmla="*/ 0 w 831600"/>
                <a:gd name="textAreaRight" fmla="*/ 831960 w 831600"/>
                <a:gd name="textAreaTop" fmla="*/ 0 h 24480"/>
                <a:gd name="textAreaBottom" fmla="*/ 24840 h 24480"/>
              </a:gdLst>
              <a:ahLst/>
              <a:rect l="textAreaLeft" t="textAreaTop" r="textAreaRight" b="textAreaBottom"/>
              <a:pathLst>
                <a:path w="1421" h="38">
                  <a:moveTo>
                    <a:pt x="0" y="38"/>
                  </a:moveTo>
                  <a:lnTo>
                    <a:pt x="0" y="0"/>
                  </a:lnTo>
                  <a:lnTo>
                    <a:pt x="1421" y="0"/>
                  </a:lnTo>
                  <a:lnTo>
                    <a:pt x="1421" y="38"/>
                  </a:lnTo>
                </a:path>
              </a:pathLst>
            </a:custGeom>
            <a:noFill/>
            <a:ln w="576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2100"/>
            <p:cNvSpPr/>
            <p:nvPr/>
          </p:nvSpPr>
          <p:spPr>
            <a:xfrm flipV="1">
              <a:off x="6737040" y="5840280"/>
              <a:ext cx="360" cy="24120"/>
            </a:xfrm>
            <a:prstGeom prst="line">
              <a:avLst/>
            </a:prstGeom>
            <a:ln w="5760">
              <a:solidFill>
                <a:srgbClr val="1f1a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101"/>
            <p:cNvSpPr/>
            <p:nvPr/>
          </p:nvSpPr>
          <p:spPr>
            <a:xfrm>
              <a:off x="6297480" y="5722560"/>
              <a:ext cx="59040" cy="13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02"/>
            <p:cNvSpPr/>
            <p:nvPr/>
          </p:nvSpPr>
          <p:spPr>
            <a:xfrm>
              <a:off x="6662880" y="5719320"/>
              <a:ext cx="1764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10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103"/>
            <p:cNvSpPr/>
            <p:nvPr/>
          </p:nvSpPr>
          <p:spPr>
            <a:xfrm>
              <a:off x="7083360" y="5722560"/>
              <a:ext cx="3628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1f1a17"/>
                  </a:solidFill>
                  <a:latin typeface="Futura Lt BT"/>
                </a:rPr>
                <a:t>200 K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105"/>
            <p:cNvSpPr/>
            <p:nvPr/>
          </p:nvSpPr>
          <p:spPr>
            <a:xfrm>
              <a:off x="7920" y="6017040"/>
              <a:ext cx="143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106"/>
            <p:cNvSpPr/>
            <p:nvPr/>
          </p:nvSpPr>
          <p:spPr>
            <a:xfrm>
              <a:off x="145440" y="6189480"/>
              <a:ext cx="807300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0000"/>
                  </a:solidFill>
                  <a:latin typeface="Futura Md BT"/>
                </a:rPr>
                <a:t> </a:t>
              </a:r>
              <a:r>
                <a:rPr b="1" lang="en-US" sz="3600" spc="-1" strike="noStrike">
                  <a:solidFill>
                    <a:srgbClr val="0070c0"/>
                  </a:solidFill>
                  <a:latin typeface="Futura Md BT"/>
                </a:rPr>
                <a:t>Les Sites du </a:t>
              </a:r>
              <a:r>
                <a:rPr b="1" lang="fr-FR" sz="3600" spc="-1" strike="noStrike">
                  <a:solidFill>
                    <a:srgbClr val="0070c0"/>
                  </a:solidFill>
                  <a:latin typeface="Futura Md BT"/>
                </a:rPr>
                <a:t>Projet</a:t>
              </a:r>
              <a:r>
                <a:rPr b="1" lang="en-US" sz="3600" spc="-1" strike="noStrike">
                  <a:solidFill>
                    <a:srgbClr val="0070c0"/>
                  </a:solidFill>
                  <a:latin typeface="Futura Md BT"/>
                </a:rPr>
                <a:t> APRAO au Mal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Espace réservé du numéro de diapositive 1"/>
          <p:cNvSpPr/>
          <p:nvPr/>
        </p:nvSpPr>
        <p:spPr>
          <a:xfrm>
            <a:off x="8381880" y="602136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ZoneTexte 1055"/>
          <p:cNvSpPr/>
          <p:nvPr/>
        </p:nvSpPr>
        <p:spPr>
          <a:xfrm>
            <a:off x="3429000" y="371484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Futura Lt BT"/>
              </a:rPr>
              <a:t>Baguiné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ZoneTexte 1056"/>
          <p:cNvSpPr/>
          <p:nvPr/>
        </p:nvSpPr>
        <p:spPr>
          <a:xfrm>
            <a:off x="2857680" y="457200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70c0"/>
                </a:solidFill>
                <a:latin typeface="Futura Lt BT"/>
              </a:rPr>
              <a:t>Sélingu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7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755640" y="476280"/>
            <a:ext cx="1584360" cy="720720"/>
          </a:xfrm>
          <a:prstGeom prst="rect">
            <a:avLst/>
          </a:prstGeom>
          <a:ln w="0">
            <a:noFill/>
          </a:ln>
        </p:spPr>
      </p:pic>
      <p:sp>
        <p:nvSpPr>
          <p:cNvPr id="1288" name="Rectangle 1053"/>
          <p:cNvSpPr/>
          <p:nvPr/>
        </p:nvSpPr>
        <p:spPr>
          <a:xfrm>
            <a:off x="3348000" y="6021360"/>
            <a:ext cx="113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ÔTE D’IV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Espace réservé du numéro de diapositive 105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5688F-4A36-4BFE-830B-48B0D8BBDB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    </a:t>
            </a: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Résultats atteints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91" name="ZoneTexte 3"/>
          <p:cNvSpPr/>
          <p:nvPr/>
        </p:nvSpPr>
        <p:spPr>
          <a:xfrm>
            <a:off x="357120" y="857160"/>
            <a:ext cx="8786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>
              <a:lnSpc>
                <a:spcPct val="9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mélioration de l’environnement technique 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ocio-économique de la  production rizico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"/>
          <p:cNvGraphicFramePr/>
          <p:nvPr/>
        </p:nvGraphicFramePr>
        <p:xfrm>
          <a:off x="250920" y="2193840"/>
          <a:ext cx="8572320" cy="466416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549440"/>
                <a:gridCol w="2217600"/>
                <a:gridCol w="2068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i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tes majeure s signal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PA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89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90 do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 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OP dynamiq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laine aménagé/ autres 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roduction et 80% utilisation de semences certifiées,  rdt 6 T/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Qualité du riz décortiqu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Accès au cré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lokani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énian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 IE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35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 dont 44 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ésence du projet IESA (aménagement et encadrement), 10% sup. aux fem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iculté d’accès aux intrants (semences, engra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93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16720" y="0"/>
            <a:ext cx="1295280" cy="720720"/>
          </a:xfrm>
          <a:prstGeom prst="rect">
            <a:avLst/>
          </a:prstGeom>
          <a:ln w="0">
            <a:noFill/>
          </a:ln>
        </p:spPr>
      </p:pic>
      <p:sp>
        <p:nvSpPr>
          <p:cNvPr id="1294" name="Rectangle 7"/>
          <p:cNvSpPr/>
          <p:nvPr/>
        </p:nvSpPr>
        <p:spPr>
          <a:xfrm>
            <a:off x="132480" y="1700280"/>
            <a:ext cx="67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aractérisation des sites du projet APR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Oval 5"/>
          <p:cNvSpPr/>
          <p:nvPr/>
        </p:nvSpPr>
        <p:spPr>
          <a:xfrm>
            <a:off x="324000" y="692280"/>
            <a:ext cx="7561080" cy="144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f0"/>
                </a:solidFill>
                <a:latin typeface="Arial"/>
              </a:rPr>
              <a:t>    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297" name=""/>
          <p:cNvGraphicFramePr/>
          <p:nvPr/>
        </p:nvGraphicFramePr>
        <p:xfrm>
          <a:off x="358920" y="907920"/>
          <a:ext cx="8785080" cy="4146840"/>
        </p:xfrm>
        <a:graphic>
          <a:graphicData uri="http://schemas.openxmlformats.org/drawingml/2006/table">
            <a:tbl>
              <a:tblPr/>
              <a:tblGrid>
                <a:gridCol w="1584360"/>
                <a:gridCol w="1344600"/>
                <a:gridCol w="1427040"/>
                <a:gridCol w="2254320"/>
                <a:gridCol w="21747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fic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i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ou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raintes majeure 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ta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niedif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ha aménagés sur 150 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ménagement de bas-fo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1 comité de gestion motivé et ouvert aux innovations techniques et technologique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Octroi de crédits campagne en semences au comité de gestion par le WAAPP à travers le secteur d’Agriculture de K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Producteurs engagé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Manque de crue et mauvais plan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Mauvaise répartition de l’eau occasionnant de rendement aléato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Envahissement des mauvaises herbes difficiles à combatt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161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99" name=""/>
          <p:cNvSpPr txBox="1"/>
          <p:nvPr/>
        </p:nvSpPr>
        <p:spPr>
          <a:xfrm>
            <a:off x="324000" y="1486080"/>
            <a:ext cx="8640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ation de l’environnement technique et socio-économique de la  production rizic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Caractérisation des sites du projet APRA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sites ont été caractérisés par rapport à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superficie disponible et exploitable en rizicultu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type de riziculture, le nombre d’exploitants (hommes/femmes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atouts et contraintes de la rizicultu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Oval 5"/>
          <p:cNvSpPr/>
          <p:nvPr/>
        </p:nvSpPr>
        <p:spPr>
          <a:xfrm>
            <a:off x="324000" y="907920"/>
            <a:ext cx="7561080" cy="360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1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16720" y="189000"/>
            <a:ext cx="1295280" cy="720720"/>
          </a:xfrm>
          <a:prstGeom prst="rect">
            <a:avLst/>
          </a:prstGeom>
          <a:ln w="0">
            <a:noFill/>
          </a:ln>
        </p:spPr>
      </p:pic>
      <p:sp>
        <p:nvSpPr>
          <p:cNvPr id="130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7E32-344C-4E0A-8112-D1AA5B2FDE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3" name="Graphique 8" descr=""/>
          <p:cNvPicPr/>
          <p:nvPr/>
        </p:nvPicPr>
        <p:blipFill>
          <a:blip r:embed="rId2"/>
          <a:stretch/>
        </p:blipFill>
        <p:spPr>
          <a:xfrm>
            <a:off x="4359240" y="4224240"/>
            <a:ext cx="4778280" cy="2627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369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05" name=""/>
          <p:cNvSpPr txBox="1"/>
          <p:nvPr/>
        </p:nvSpPr>
        <p:spPr>
          <a:xfrm>
            <a:off x="380880" y="1214280"/>
            <a:ext cx="8367840" cy="54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. Promotion de la mise en place de fonds de roulement et de systèmes de crédits durab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(1) atelier  réalisé sur la définition  d’un système approprié de financement du crédit rizicole par les institutions de micro finance au bénéfice des OP et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Trente (30) personnes des APS et entreprises semencières formées en gestion de fonds de rou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Oval 5"/>
          <p:cNvSpPr/>
          <p:nvPr/>
        </p:nvSpPr>
        <p:spPr>
          <a:xfrm>
            <a:off x="324000" y="907920"/>
            <a:ext cx="7561080" cy="360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7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89000"/>
            <a:ext cx="1225440" cy="647640"/>
          </a:xfrm>
          <a:prstGeom prst="rect">
            <a:avLst/>
          </a:prstGeom>
          <a:ln w="0">
            <a:noFill/>
          </a:ln>
        </p:spPr>
      </p:pic>
      <p:sp>
        <p:nvSpPr>
          <p:cNvPr id="1308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38AA-18F5-4013-9393-2FD23407FD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9" name="Graphique 7" descr=""/>
          <p:cNvPicPr/>
          <p:nvPr/>
        </p:nvPicPr>
        <p:blipFill>
          <a:blip r:embed="rId2"/>
          <a:stretch/>
        </p:blipFill>
        <p:spPr>
          <a:xfrm>
            <a:off x="2097000" y="4048200"/>
            <a:ext cx="578484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7543800" cy="88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Plan de l’exposé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0560" y="1699920"/>
            <a:ext cx="8515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Objectifs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cteurs d’intervention du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tratégies d’interven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ésultats atteints en mai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artenariats et syner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buClr>
                <a:srgbClr val="7c1302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250920" y="1197000"/>
            <a:ext cx="756108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372360" y="333360"/>
            <a:ext cx="1584360" cy="719280"/>
          </a:xfrm>
          <a:prstGeom prst="rect">
            <a:avLst/>
          </a:prstGeom>
          <a:ln w="0">
            <a:noFill/>
          </a:ln>
        </p:spPr>
      </p:pic>
      <p:sp>
        <p:nvSpPr>
          <p:cNvPr id="17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19372-1488-4EB0-8EE2-CF046FCC81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8" descr="C:\Users\Si\Desktop\Photos Consultation Capitalisation\P1000890.JPG"/>
          <p:cNvPicPr/>
          <p:nvPr/>
        </p:nvPicPr>
        <p:blipFill>
          <a:blip r:embed="rId2"/>
          <a:stretch/>
        </p:blipFill>
        <p:spPr>
          <a:xfrm>
            <a:off x="4859280" y="3716280"/>
            <a:ext cx="384192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C:\Users\Si\Desktop\Photos Consultation Capitalisation\P1000886.JPG"/>
          <p:cNvPicPr/>
          <p:nvPr/>
        </p:nvPicPr>
        <p:blipFill>
          <a:blip r:embed="rId3"/>
          <a:stretch/>
        </p:blipFill>
        <p:spPr>
          <a:xfrm>
            <a:off x="5975280" y="1125360"/>
            <a:ext cx="3168720" cy="2159280"/>
          </a:xfrm>
          <a:prstGeom prst="rect">
            <a:avLst/>
          </a:prstGeom>
          <a:ln w="0">
            <a:noFill/>
          </a:ln>
        </p:spPr>
      </p:pic>
      <p:sp>
        <p:nvSpPr>
          <p:cNvPr id="175" name="ZoneTexte 8"/>
          <p:cNvSpPr/>
          <p:nvPr/>
        </p:nvSpPr>
        <p:spPr>
          <a:xfrm>
            <a:off x="4859280" y="6093000"/>
            <a:ext cx="38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Kits d’étuvage à Baguinéda (OPI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369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1" name=""/>
          <p:cNvSpPr txBox="1"/>
          <p:nvPr/>
        </p:nvSpPr>
        <p:spPr>
          <a:xfrm>
            <a:off x="380880" y="1486080"/>
            <a:ext cx="83678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 350 kg d’urée en fonds revolving placés au niveau de 5 APS dont 20% de fe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Oval 5"/>
          <p:cNvSpPr/>
          <p:nvPr/>
        </p:nvSpPr>
        <p:spPr>
          <a:xfrm>
            <a:off x="324000" y="907920"/>
            <a:ext cx="7561080" cy="360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89000"/>
            <a:ext cx="1225440" cy="647640"/>
          </a:xfrm>
          <a:prstGeom prst="rect">
            <a:avLst/>
          </a:prstGeom>
          <a:ln w="0">
            <a:noFill/>
          </a:ln>
        </p:spPr>
      </p:pic>
      <p:sp>
        <p:nvSpPr>
          <p:cNvPr id="131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781C4-9516-4754-80FC-82B110A9C2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ZoneTexte 8"/>
          <p:cNvSpPr/>
          <p:nvPr/>
        </p:nvSpPr>
        <p:spPr>
          <a:xfrm>
            <a:off x="1187280" y="5516640"/>
            <a:ext cx="633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sultat de l’utilisation de l’urée à Toufinko/Secteur de Kita-WA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Graphique 8" descr=""/>
          <p:cNvPicPr/>
          <p:nvPr/>
        </p:nvPicPr>
        <p:blipFill>
          <a:blip r:embed="rId2"/>
          <a:stretch/>
        </p:blipFill>
        <p:spPr>
          <a:xfrm>
            <a:off x="1017720" y="2322360"/>
            <a:ext cx="6529320" cy="3144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63691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8" name=""/>
          <p:cNvSpPr txBox="1"/>
          <p:nvPr/>
        </p:nvSpPr>
        <p:spPr>
          <a:xfrm>
            <a:off x="380880" y="1413000"/>
            <a:ext cx="83678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. Interprofession du 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atelier de cadre de concertation avec 36 acteurs de la filière riz dont 3 femmes organisé pour faire l’état de fonctionnement de la plate forme nat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atelier organisé (avec 31 participants dont 5 femmes) sur le plan d’action pour la mise en place du processus de l’interprofession  du ri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Oval 5"/>
          <p:cNvSpPr/>
          <p:nvPr/>
        </p:nvSpPr>
        <p:spPr>
          <a:xfrm>
            <a:off x="324000" y="907920"/>
            <a:ext cx="7561080" cy="360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0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89000"/>
            <a:ext cx="1225440" cy="647640"/>
          </a:xfrm>
          <a:prstGeom prst="rect">
            <a:avLst/>
          </a:prstGeom>
          <a:ln w="0">
            <a:noFill/>
          </a:ln>
        </p:spPr>
      </p:pic>
      <p:sp>
        <p:nvSpPr>
          <p:cNvPr id="1321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A892-F167-4020-9DD1-AD4EE2A626E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2" name="Graphique 12" descr=""/>
          <p:cNvPicPr/>
          <p:nvPr/>
        </p:nvPicPr>
        <p:blipFill>
          <a:blip r:embed="rId2"/>
          <a:stretch/>
        </p:blipFill>
        <p:spPr>
          <a:xfrm>
            <a:off x="4071960" y="4224240"/>
            <a:ext cx="4621320" cy="2352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4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24" name=""/>
          <p:cNvSpPr txBox="1"/>
          <p:nvPr/>
        </p:nvSpPr>
        <p:spPr>
          <a:xfrm>
            <a:off x="179280" y="1196640"/>
            <a:ext cx="8785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duction et utilisation de semences de quali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Formation et sensibilisation (env. 21% de fe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8 responsables (16% femmes) d’OP semencières formés en 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7 membres d’OP (19% femmes) ont bénéficié de la formation en marketing et commercialisation de sem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6 agents des services de vulgarisation (10% femmes) formés sur l’itinéraire technique de multiplication de la semence de 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104 producteurs (40% femmes)  form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ur la production de semences sel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principes GIP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Oval 5"/>
          <p:cNvSpPr/>
          <p:nvPr/>
        </p:nvSpPr>
        <p:spPr>
          <a:xfrm>
            <a:off x="324000" y="90792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6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0"/>
            <a:ext cx="1370160" cy="836640"/>
          </a:xfrm>
          <a:prstGeom prst="rect">
            <a:avLst/>
          </a:prstGeom>
          <a:ln w="0">
            <a:noFill/>
          </a:ln>
        </p:spPr>
      </p:pic>
      <p:sp>
        <p:nvSpPr>
          <p:cNvPr id="132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D6F3-C13D-4ABE-9CC7-C1D70EB7DC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8" name="Picture 3" descr="C:\Documents and Settings\HP\Bureau\Mali\FORMATION à KOLOKANI 10 au 15-08-2011\DSC02173.JPG"/>
          <p:cNvPicPr/>
          <p:nvPr/>
        </p:nvPicPr>
        <p:blipFill>
          <a:blip r:embed="rId2"/>
          <a:stretch/>
        </p:blipFill>
        <p:spPr>
          <a:xfrm>
            <a:off x="971640" y="5300640"/>
            <a:ext cx="3095640" cy="1557360"/>
          </a:xfrm>
          <a:prstGeom prst="rect">
            <a:avLst/>
          </a:prstGeom>
          <a:ln w="0">
            <a:noFill/>
          </a:ln>
        </p:spPr>
      </p:pic>
      <p:pic>
        <p:nvPicPr>
          <p:cNvPr id="1329" name="Graphique 8" descr=""/>
          <p:cNvPicPr/>
          <p:nvPr/>
        </p:nvPicPr>
        <p:blipFill>
          <a:blip r:embed="rId3"/>
          <a:stretch/>
        </p:blipFill>
        <p:spPr>
          <a:xfrm>
            <a:off x="5499000" y="4218120"/>
            <a:ext cx="3645000" cy="23414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31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 Promotion de l’utilisation de la semence de qualité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0 producteurs semenciers  (12% femmes) informés  et  sensibilisés  sur la politique  semencière  nationa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réunion statutaire du Conseil National de Semences et une réunion statutaire du CNEV (Comité National des Espèces et Variétés) ont été facilitées par APRA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émission radio et 1 magazine sur la gestion , organisés  au bénéfice  des  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Oval 5"/>
          <p:cNvSpPr/>
          <p:nvPr/>
        </p:nvSpPr>
        <p:spPr>
          <a:xfrm>
            <a:off x="324000" y="69228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3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1592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133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ABD7B-597F-4FE5-9D31-AC725F5BD1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36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 Promotion de l’utilisation de la semence de qualité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émission radio et 1 magazine sur la gestion ,organisés  au bénéfice  des  AP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magazine sur la productivité agricole: les semences, un pilier du disposit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N° du bulletin d’information sur les semences de riz produit, validé et diffusé 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 guide et 1 manuel sur les semences de riz, produits et validés au bénéfice des acteurs de la filièr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0 exemplaires de  textes  de politiques et législation nationales semencières, traduits et diffusés en langues nationales (Bamanakan, Dogono,  Fulfulde, Soninké et Songhay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Oval 5"/>
          <p:cNvSpPr/>
          <p:nvPr/>
        </p:nvSpPr>
        <p:spPr>
          <a:xfrm>
            <a:off x="324000" y="83664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8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15920"/>
            <a:ext cx="1297080" cy="576360"/>
          </a:xfrm>
          <a:prstGeom prst="rect">
            <a:avLst/>
          </a:prstGeom>
          <a:ln w="0">
            <a:noFill/>
          </a:ln>
        </p:spPr>
      </p:pic>
      <p:sp>
        <p:nvSpPr>
          <p:cNvPr id="133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7970-3F6B-4265-9D03-890B64763F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41" name=""/>
          <p:cNvSpPr txBox="1"/>
          <p:nvPr/>
        </p:nvSpPr>
        <p:spPr>
          <a:xfrm>
            <a:off x="179280" y="1052640"/>
            <a:ext cx="878544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0 posters et 100 plaquettes élaborés pour APS montrant l’importance de l’utilisation des semences amélio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44 ha de champs semenciers contrôlés par des contrôleurs agr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050 tonnes de R1et R2 produits (1710 t pour les variétés Irriguées, 66 t pour les variétés de bas-fonds et 274 t pour les variétés de riz pluv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66 échantillons soumis à la certification avec le LABOS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Oval 5"/>
          <p:cNvSpPr/>
          <p:nvPr/>
        </p:nvSpPr>
        <p:spPr>
          <a:xfrm>
            <a:off x="395280" y="836640"/>
            <a:ext cx="756144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3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15920"/>
            <a:ext cx="1225440" cy="720720"/>
          </a:xfrm>
          <a:prstGeom prst="rect">
            <a:avLst/>
          </a:prstGeom>
          <a:ln w="0">
            <a:noFill/>
          </a:ln>
        </p:spPr>
      </p:pic>
      <p:sp>
        <p:nvSpPr>
          <p:cNvPr id="1344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53159-DFE4-4435-85F1-F6FEB858FB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5" name="Graphique 7" descr=""/>
          <p:cNvPicPr/>
          <p:nvPr/>
        </p:nvPicPr>
        <p:blipFill>
          <a:blip r:embed="rId2"/>
          <a:stretch/>
        </p:blipFill>
        <p:spPr>
          <a:xfrm>
            <a:off x="444600" y="3475080"/>
            <a:ext cx="8113680" cy="3144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47" name=""/>
          <p:cNvSpPr txBox="1"/>
          <p:nvPr/>
        </p:nvSpPr>
        <p:spPr>
          <a:xfrm>
            <a:off x="358560" y="1341360"/>
            <a:ext cx="8785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. Infrastructures et équip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03 Trieuses, vanneuses mises à disposition des APS ( Dioro, Baguinéda et K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03  Batteuses sont mises à disposition des APS ( Dioro, Baguinéda et Ki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Oval 5"/>
          <p:cNvSpPr/>
          <p:nvPr/>
        </p:nvSpPr>
        <p:spPr>
          <a:xfrm>
            <a:off x="395280" y="836640"/>
            <a:ext cx="756144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15920"/>
            <a:ext cx="1225440" cy="720720"/>
          </a:xfrm>
          <a:prstGeom prst="rect">
            <a:avLst/>
          </a:prstGeom>
          <a:ln w="0">
            <a:noFill/>
          </a:ln>
        </p:spPr>
      </p:pic>
      <p:sp>
        <p:nvSpPr>
          <p:cNvPr id="135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5695-3439-4A96-8777-B03724288F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1" name="Picture 3" descr="C:\Users\Si\Desktop\Photos Consultation Capitalisation\P1000889.JPG"/>
          <p:cNvPicPr/>
          <p:nvPr/>
        </p:nvPicPr>
        <p:blipFill>
          <a:blip r:embed="rId2"/>
          <a:stretch/>
        </p:blipFill>
        <p:spPr>
          <a:xfrm>
            <a:off x="4643280" y="3357720"/>
            <a:ext cx="3529080" cy="2447640"/>
          </a:xfrm>
          <a:prstGeom prst="rect">
            <a:avLst/>
          </a:prstGeom>
          <a:ln w="0">
            <a:noFill/>
          </a:ln>
        </p:spPr>
      </p:pic>
      <p:sp>
        <p:nvSpPr>
          <p:cNvPr id="1352" name="ZoneTexte 9"/>
          <p:cNvSpPr/>
          <p:nvPr/>
        </p:nvSpPr>
        <p:spPr>
          <a:xfrm>
            <a:off x="4643280" y="580536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Trieuse, Vanneuse type CAFON à Di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3" name="Picture 6" descr="C:\Users\Si\Desktop\TDR Mission et Canevas Rapport à harmoniser\2e  Comité de pilotage du projet APRAO\Photos 2e session Comité de Pilotage\P1000641.JPG"/>
          <p:cNvPicPr/>
          <p:nvPr/>
        </p:nvPicPr>
        <p:blipFill>
          <a:blip r:embed="rId3"/>
          <a:stretch/>
        </p:blipFill>
        <p:spPr>
          <a:xfrm>
            <a:off x="755640" y="3357720"/>
            <a:ext cx="3600360" cy="2438280"/>
          </a:xfrm>
          <a:prstGeom prst="rect">
            <a:avLst/>
          </a:prstGeom>
          <a:ln w="0">
            <a:noFill/>
          </a:ln>
        </p:spPr>
      </p:pic>
      <p:sp>
        <p:nvSpPr>
          <p:cNvPr id="1354" name="ZoneTexte 13"/>
          <p:cNvSpPr/>
          <p:nvPr/>
        </p:nvSpPr>
        <p:spPr>
          <a:xfrm>
            <a:off x="684360" y="5805360"/>
            <a:ext cx="37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emise de batteuse à la Coopérative des femmes semencières de Manako/Ki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4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6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roduction de pad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Formation (22% de fe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3 conducteurs(5% femmes) formés s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utilisation de motoculteur, batteu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50 facilitateurs(8% femmes) ont bénéficié de la formation  sur la production  de paddy selon les principes GI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100 producteurs(23% femmes) ont bénéficié de la formation sur la production  de paddy selon les principes GIP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8 producteurs(14% femmes) formés à la maîtrise des  pratiques appropriées de réco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Oval 5"/>
          <p:cNvSpPr/>
          <p:nvPr/>
        </p:nvSpPr>
        <p:spPr>
          <a:xfrm>
            <a:off x="324000" y="83664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8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15920"/>
            <a:ext cx="1152360" cy="576360"/>
          </a:xfrm>
          <a:prstGeom prst="rect">
            <a:avLst/>
          </a:prstGeom>
          <a:ln w="0">
            <a:noFill/>
          </a:ln>
        </p:spPr>
      </p:pic>
      <p:sp>
        <p:nvSpPr>
          <p:cNvPr id="1359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E8AB7-47EC-4060-92EF-AE458BC851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0" name="Picture 7" descr="P1000530"/>
          <p:cNvPicPr/>
          <p:nvPr/>
        </p:nvPicPr>
        <p:blipFill>
          <a:blip r:embed="rId2"/>
          <a:stretch/>
        </p:blipFill>
        <p:spPr>
          <a:xfrm>
            <a:off x="6084720" y="1128600"/>
            <a:ext cx="2519640" cy="1795680"/>
          </a:xfrm>
          <a:prstGeom prst="rect">
            <a:avLst/>
          </a:prstGeom>
          <a:ln w="0">
            <a:noFill/>
          </a:ln>
        </p:spPr>
      </p:pic>
      <p:pic>
        <p:nvPicPr>
          <p:cNvPr id="1361" name="Graphique 9" descr=""/>
          <p:cNvPicPr/>
          <p:nvPr/>
        </p:nvPicPr>
        <p:blipFill>
          <a:blip r:embed="rId3"/>
          <a:stretch/>
        </p:blipFill>
        <p:spPr>
          <a:xfrm>
            <a:off x="249120" y="4896000"/>
            <a:ext cx="4060800" cy="1985760"/>
          </a:xfrm>
          <a:prstGeom prst="rect">
            <a:avLst/>
          </a:prstGeom>
          <a:ln w="0">
            <a:noFill/>
          </a:ln>
        </p:spPr>
      </p:pic>
      <p:pic>
        <p:nvPicPr>
          <p:cNvPr id="1362" name="Graphique 10" descr=""/>
          <p:cNvPicPr/>
          <p:nvPr/>
        </p:nvPicPr>
        <p:blipFill>
          <a:blip r:embed="rId4"/>
          <a:stretch/>
        </p:blipFill>
        <p:spPr>
          <a:xfrm>
            <a:off x="4552920" y="4627440"/>
            <a:ext cx="4267080" cy="22543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4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64" name=""/>
          <p:cNvSpPr txBox="1"/>
          <p:nvPr/>
        </p:nvSpPr>
        <p:spPr>
          <a:xfrm>
            <a:off x="179280" y="980640"/>
            <a:ext cx="878544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. Infrastructures et équipement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motoculteurs avec accessoires de type JP102M  JKP  à 2 OP de Sélingué, étude de réhabilitation de deux bas-fond à K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magasins de stockage (Dioro et Baguiné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aires de séchage (Dioro et Baguiné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Oval 5"/>
          <p:cNvSpPr/>
          <p:nvPr/>
        </p:nvSpPr>
        <p:spPr>
          <a:xfrm>
            <a:off x="324000" y="83664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6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659640" y="115920"/>
            <a:ext cx="1152360" cy="576360"/>
          </a:xfrm>
          <a:prstGeom prst="rect">
            <a:avLst/>
          </a:prstGeom>
          <a:ln w="0">
            <a:noFill/>
          </a:ln>
        </p:spPr>
      </p:pic>
      <p:sp>
        <p:nvSpPr>
          <p:cNvPr id="136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49EAA-6468-4027-95C9-1D3037EDBA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8" name="Graphique 9" descr=""/>
          <p:cNvPicPr/>
          <p:nvPr/>
        </p:nvPicPr>
        <p:blipFill>
          <a:blip r:embed="rId2"/>
          <a:stretch/>
        </p:blipFill>
        <p:spPr>
          <a:xfrm>
            <a:off x="371520" y="3114720"/>
            <a:ext cx="4297320" cy="3152880"/>
          </a:xfrm>
          <a:prstGeom prst="rect">
            <a:avLst/>
          </a:prstGeom>
          <a:ln w="0">
            <a:noFill/>
          </a:ln>
        </p:spPr>
      </p:pic>
      <p:pic>
        <p:nvPicPr>
          <p:cNvPr id="1369" name="Graphique 11" descr=""/>
          <p:cNvPicPr/>
          <p:nvPr/>
        </p:nvPicPr>
        <p:blipFill>
          <a:blip r:embed="rId3"/>
          <a:stretch/>
        </p:blipFill>
        <p:spPr>
          <a:xfrm>
            <a:off x="4761000" y="3114720"/>
            <a:ext cx="4157640" cy="3073320"/>
          </a:xfrm>
          <a:prstGeom prst="rect">
            <a:avLst/>
          </a:prstGeom>
          <a:ln w="0">
            <a:noFill/>
          </a:ln>
        </p:spPr>
      </p:pic>
      <p:sp>
        <p:nvSpPr>
          <p:cNvPr id="1370" name="ZoneTexte 12"/>
          <p:cNvSpPr/>
          <p:nvPr/>
        </p:nvSpPr>
        <p:spPr>
          <a:xfrm>
            <a:off x="900000" y="6308640"/>
            <a:ext cx="72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Gestion des deux motoculteurs en contre saison 2012 à Sélingué Zone OD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1" name="Picture 8" descr="C:\Users\Si\Desktop\Photos Consultation Capitalisation\P1000916.JPG"/>
          <p:cNvPicPr/>
          <p:nvPr/>
        </p:nvPicPr>
        <p:blipFill>
          <a:blip r:embed="rId4"/>
          <a:stretch/>
        </p:blipFill>
        <p:spPr>
          <a:xfrm>
            <a:off x="7093080" y="2133720"/>
            <a:ext cx="1884240" cy="1412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7" descr="C:\Users\Si\Desktop\Photos Consultation Capitalisation\P1000961.JPG"/>
          <p:cNvPicPr/>
          <p:nvPr/>
        </p:nvPicPr>
        <p:blipFill>
          <a:blip r:embed="rId1"/>
          <a:stretch/>
        </p:blipFill>
        <p:spPr>
          <a:xfrm>
            <a:off x="5651640" y="1125360"/>
            <a:ext cx="3085920" cy="2448000"/>
          </a:xfrm>
          <a:prstGeom prst="rect">
            <a:avLst/>
          </a:prstGeom>
          <a:ln w="0">
            <a:noFill/>
          </a:ln>
        </p:spPr>
      </p:pic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4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74" name=""/>
          <p:cNvSpPr txBox="1"/>
          <p:nvPr/>
        </p:nvSpPr>
        <p:spPr>
          <a:xfrm>
            <a:off x="-360" y="1386000"/>
            <a:ext cx="8510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Transformation et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Formation (38% de fe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b0f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8 producteurs (14% femmes) formés à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aîtrise des  pratiques appropriées de post-récol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5 riziers formés, en maintenance des équipements et en techniques de décorticage et d’usinage du pad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1 femmes formées sur les techniques d’étuv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Oval 5"/>
          <p:cNvSpPr/>
          <p:nvPr/>
        </p:nvSpPr>
        <p:spPr>
          <a:xfrm>
            <a:off x="324000" y="83664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Image 1" descr="C:\Users\SOULEYMANE\Downloads\logo_aprao_fr_Touf.png"/>
          <p:cNvPicPr/>
          <p:nvPr/>
        </p:nvPicPr>
        <p:blipFill>
          <a:blip r:embed="rId2"/>
          <a:stretch/>
        </p:blipFill>
        <p:spPr>
          <a:xfrm>
            <a:off x="6515280" y="115920"/>
            <a:ext cx="1296720" cy="720720"/>
          </a:xfrm>
          <a:prstGeom prst="rect">
            <a:avLst/>
          </a:prstGeom>
          <a:ln w="0">
            <a:noFill/>
          </a:ln>
        </p:spPr>
      </p:pic>
      <p:sp>
        <p:nvSpPr>
          <p:cNvPr id="1377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31DE9-4ABF-48B4-9B06-2F5A8988DD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Graphique 7" descr=""/>
          <p:cNvPicPr/>
          <p:nvPr/>
        </p:nvPicPr>
        <p:blipFill>
          <a:blip r:embed="rId3"/>
          <a:stretch/>
        </p:blipFill>
        <p:spPr>
          <a:xfrm>
            <a:off x="4065480" y="4432320"/>
            <a:ext cx="4621320" cy="2425680"/>
          </a:xfrm>
          <a:prstGeom prst="rect">
            <a:avLst/>
          </a:prstGeom>
          <a:ln w="0">
            <a:noFill/>
          </a:ln>
        </p:spPr>
      </p:pic>
      <p:sp>
        <p:nvSpPr>
          <p:cNvPr id="1379" name="ZoneTexte 9"/>
          <p:cNvSpPr/>
          <p:nvPr/>
        </p:nvSpPr>
        <p:spPr>
          <a:xfrm rot="5400000">
            <a:off x="7394400" y="2478600"/>
            <a:ext cx="295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ncien équipement pour étuvage à Dio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0" name="Graphique 10" descr=""/>
          <p:cNvPicPr/>
          <p:nvPr/>
        </p:nvPicPr>
        <p:blipFill>
          <a:blip r:embed="rId4"/>
          <a:stretch/>
        </p:blipFill>
        <p:spPr>
          <a:xfrm>
            <a:off x="0" y="4359240"/>
            <a:ext cx="3724200" cy="2498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94920" y="1268280"/>
            <a:ext cx="8497800" cy="532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55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LÉMATIQUE DU RIZ AU M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lambée des prix des denrées alimentaires de 2007-200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aisse du niveau de la productivité Agricole et des rendements suite aux aléas climatiqu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besoins de consommation croissants des populations (61 à 68 kg/personne/a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ble accès aux conseils de gestion et aux services financi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20"/>
          <p:cNvSpPr/>
          <p:nvPr/>
        </p:nvSpPr>
        <p:spPr>
          <a:xfrm>
            <a:off x="324000" y="907920"/>
            <a:ext cx="739116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227640" y="18900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4184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2" name=""/>
          <p:cNvSpPr txBox="1"/>
          <p:nvPr/>
        </p:nvSpPr>
        <p:spPr>
          <a:xfrm>
            <a:off x="-360" y="1386000"/>
            <a:ext cx="85107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frastructures et équip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8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0 Kits d’étuvage offerts à 2 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féminines (05 à Dioro et 05 à Baguiné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01 mini rizerie à ARPASO S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03 décortiqueuses (2 à Baguinéda 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à Dio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aires de séchage aménagées à Dioro 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Baguiné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 magasins de stockage constru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à Dioro et Baguiné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Oval 5"/>
          <p:cNvSpPr/>
          <p:nvPr/>
        </p:nvSpPr>
        <p:spPr>
          <a:xfrm>
            <a:off x="324000" y="83664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15280" y="115920"/>
            <a:ext cx="1296720" cy="720720"/>
          </a:xfrm>
          <a:prstGeom prst="rect">
            <a:avLst/>
          </a:prstGeom>
          <a:ln w="0">
            <a:noFill/>
          </a:ln>
        </p:spPr>
      </p:pic>
      <p:sp>
        <p:nvSpPr>
          <p:cNvPr id="138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AD4F8-666A-41A4-8280-07BDFFF42A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6" name="Picture 2" descr="C:\Users\Si\Desktop\TDR Mission et Canevas Rapport à harmoniser\2e  Comité de pilotage du projet APRAO\Photos 2e session Comité de Pilotage\P1000646.JPG"/>
          <p:cNvPicPr/>
          <p:nvPr/>
        </p:nvPicPr>
        <p:blipFill>
          <a:blip r:embed="rId2"/>
          <a:stretch/>
        </p:blipFill>
        <p:spPr>
          <a:xfrm>
            <a:off x="5435640" y="1628640"/>
            <a:ext cx="3251160" cy="2438640"/>
          </a:xfrm>
          <a:prstGeom prst="rect">
            <a:avLst/>
          </a:prstGeom>
          <a:ln w="0">
            <a:noFill/>
          </a:ln>
        </p:spPr>
      </p:pic>
      <p:sp>
        <p:nvSpPr>
          <p:cNvPr id="1387" name="ZoneTexte 11"/>
          <p:cNvSpPr/>
          <p:nvPr/>
        </p:nvSpPr>
        <p:spPr>
          <a:xfrm>
            <a:off x="5688000" y="4005360"/>
            <a:ext cx="3060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Remise d’une décortiqueuse à un                         groupement féminin de Baguiné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6440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9" name=""/>
          <p:cNvSpPr txBox="1"/>
          <p:nvPr/>
        </p:nvSpPr>
        <p:spPr>
          <a:xfrm>
            <a:off x="178920" y="105264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mercial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Formation (61% de femm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25 commerçants (12% femmes) formés, en techniques de stockage et de conditionnement du 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35 femmes formées en gestion d’entre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44 personnes dont 29 femmes ont participé à des foires ou comices agric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Oval 5"/>
          <p:cNvSpPr/>
          <p:nvPr/>
        </p:nvSpPr>
        <p:spPr>
          <a:xfrm>
            <a:off x="324000" y="83664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1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15920"/>
            <a:ext cx="1297080" cy="720720"/>
          </a:xfrm>
          <a:prstGeom prst="rect">
            <a:avLst/>
          </a:prstGeom>
          <a:ln w="0">
            <a:noFill/>
          </a:ln>
        </p:spPr>
      </p:pic>
      <p:sp>
        <p:nvSpPr>
          <p:cNvPr id="1392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8E11F-8802-450A-948D-822B19E9F4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3" name="Picture 7" descr="C:\Users\Si\Desktop\TDR Mission et Canevas Rapport à harmoniser\Comice Agricole Janvier 2012\PHOTOS SEGOU COMICE AGRICOLE\P1000178 - Copie - Copie.JPG"/>
          <p:cNvPicPr/>
          <p:nvPr/>
        </p:nvPicPr>
        <p:blipFill>
          <a:blip r:embed="rId2"/>
          <a:stretch/>
        </p:blipFill>
        <p:spPr>
          <a:xfrm>
            <a:off x="468360" y="3716280"/>
            <a:ext cx="3251160" cy="2438280"/>
          </a:xfrm>
          <a:prstGeom prst="rect">
            <a:avLst/>
          </a:prstGeom>
          <a:ln w="0">
            <a:noFill/>
          </a:ln>
        </p:spPr>
      </p:pic>
      <p:sp>
        <p:nvSpPr>
          <p:cNvPr id="1394" name="ZoneTexte 7"/>
          <p:cNvSpPr/>
          <p:nvPr/>
        </p:nvSpPr>
        <p:spPr>
          <a:xfrm>
            <a:off x="468360" y="6093000"/>
            <a:ext cx="31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ice agricole à Ség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5" name="Graphique 9" descr=""/>
          <p:cNvPicPr/>
          <p:nvPr/>
        </p:nvPicPr>
        <p:blipFill>
          <a:blip r:embed="rId3"/>
          <a:stretch/>
        </p:blipFill>
        <p:spPr>
          <a:xfrm>
            <a:off x="3828960" y="3548160"/>
            <a:ext cx="4619880" cy="2792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69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97" name=""/>
          <p:cNvSpPr txBox="1"/>
          <p:nvPr/>
        </p:nvSpPr>
        <p:spPr>
          <a:xfrm>
            <a:off x="250920" y="1268280"/>
            <a:ext cx="8534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ocuments produ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3 Rapports trimest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apports de 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 Rapports semestri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Rapport bilan annuel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Note technique sur la gestion des équipements et infrastructures agricoles financés par le proj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manuel et 1 guide technique sur les semences de 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émission radio sur l’utilisation de semences d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Oval 5"/>
          <p:cNvSpPr/>
          <p:nvPr/>
        </p:nvSpPr>
        <p:spPr>
          <a:xfrm>
            <a:off x="324000" y="907920"/>
            <a:ext cx="7561080" cy="2890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89000"/>
            <a:ext cx="1224000" cy="720720"/>
          </a:xfrm>
          <a:prstGeom prst="rect">
            <a:avLst/>
          </a:prstGeom>
          <a:ln w="0">
            <a:noFill/>
          </a:ln>
        </p:spPr>
      </p:pic>
      <p:sp>
        <p:nvSpPr>
          <p:cNvPr id="140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3F04B-63DC-4745-8EEC-C310FB2992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696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Résultats atteints </a:t>
            </a:r>
            <a:r>
              <a:rPr b="1" lang="fr-FR" sz="2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2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02" name=""/>
          <p:cNvSpPr txBox="1"/>
          <p:nvPr/>
        </p:nvSpPr>
        <p:spPr>
          <a:xfrm>
            <a:off x="250560" y="1457280"/>
            <a:ext cx="871380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ocuments produits (sui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bulletin d’information N°1</a:t>
            </a:r>
            <a:r>
              <a:rPr b="1" lang="fr-F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ur les semences de 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 guide sur la Gestion intégrée en riziculture irriguée, bas-fonds et pluvia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osters et dépli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apport du consultant sur la capitalisation des résultats APR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Oval 5"/>
          <p:cNvSpPr/>
          <p:nvPr/>
        </p:nvSpPr>
        <p:spPr>
          <a:xfrm>
            <a:off x="324000" y="907920"/>
            <a:ext cx="7561080" cy="2890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4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89000"/>
            <a:ext cx="1224000" cy="720720"/>
          </a:xfrm>
          <a:prstGeom prst="rect">
            <a:avLst/>
          </a:prstGeom>
          <a:ln w="0">
            <a:noFill/>
          </a:ln>
        </p:spPr>
      </p:pic>
      <p:sp>
        <p:nvSpPr>
          <p:cNvPr id="140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BAD9-F71C-4059-AF17-37D343F7B1C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29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Partenariats et Synergies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07" name=""/>
          <p:cNvSpPr txBox="1"/>
          <p:nvPr/>
        </p:nvSpPr>
        <p:spPr>
          <a:xfrm>
            <a:off x="380880" y="141300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Partenari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partenaires principaux du projet APRAO au Mali en 2011 et 2012 sont les suivants 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RPASO (Association des Riziculteurs de la Plaine Aménagé de San Ouest 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teur d’Agriculture Kita / WAAPP/PDR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jet IESA (Kolokani, Banamba et Djenné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NA (Direction Nationale de l’Agricul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DRS (Agence de Développement Rural de la Vallée du Fleuve Séné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SA (Réseau Semencier Africain 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RS (Office Riz Ségou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PIB (Office du Périmètre Irrigué de Baguiné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N (Office du Nige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Oval 5"/>
          <p:cNvSpPr/>
          <p:nvPr/>
        </p:nvSpPr>
        <p:spPr>
          <a:xfrm>
            <a:off x="324000" y="907920"/>
            <a:ext cx="7561080" cy="3603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89000"/>
            <a:ext cx="1224000" cy="720720"/>
          </a:xfrm>
          <a:prstGeom prst="rect">
            <a:avLst/>
          </a:prstGeom>
          <a:ln w="0">
            <a:noFill/>
          </a:ln>
        </p:spPr>
      </p:pic>
      <p:sp>
        <p:nvSpPr>
          <p:cNvPr id="14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6CE0-53FD-4F79-AA01-31DCA0016E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"/>
          <p:cNvSpPr txBox="1"/>
          <p:nvPr/>
        </p:nvSpPr>
        <p:spPr>
          <a:xfrm>
            <a:off x="380880" y="1413000"/>
            <a:ext cx="8229600" cy="49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Syner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synergies développées entre APRAO et les principaux partenair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 résument comme suit 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utualisation des ressources: APRAO-ARPASO-PROSA pour la mini rizerie à Sa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émentarité des ressources: WAAPP/PDRN-APRAO pour l’augmentation de la production de riz dans le secteur de Kit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éhabilitation de deux bas-fonds à Kita: ADRS/PDRIK par APRA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1" lang="fr-FR" sz="2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pproche « faire-faire » à travers la signature de protocole d’accord entre la FAO et certaines structures techniques (DNA, OPIB, ORS) pour la réalisation de activit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2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89000"/>
            <a:ext cx="1224000" cy="720720"/>
          </a:xfrm>
          <a:prstGeom prst="rect">
            <a:avLst/>
          </a:prstGeom>
          <a:ln w="0">
            <a:noFill/>
          </a:ln>
        </p:spPr>
      </p:pic>
      <p:sp>
        <p:nvSpPr>
          <p:cNvPr id="1413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891A-6E25-4E4F-A53B-9772D38CA4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64407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Information sur le projet 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15" name=""/>
          <p:cNvSpPr txBox="1"/>
          <p:nvPr/>
        </p:nvSpPr>
        <p:spPr>
          <a:xfrm>
            <a:off x="17892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formation et sensibilisation sur le projet APR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acteurs de la filière riz sont constamment informés sur l’avènement  du projet APRAO dans les cinq pays de l’Afrique de l’Ouest et singulièrement au Mal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objectifs sont exposés, de même les ambitions partenariales pour relever les défis et contraintes de la filière riz au Mali, à travers le financement du Royaume d’Espag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rencontre trimestrielle des projets  FAO (APRAO, IESA et PISA) avec  la D N A a été initiée, pour mieux prendre en compte les actions de ces projets au niveau nation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buClr>
                <a:srgbClr val="0000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munication dans </a:t>
            </a:r>
            <a:r>
              <a:rPr b="1" lang="fr-FR" sz="2000" spc="-1" strike="noStrike">
                <a:solidFill>
                  <a:srgbClr val="c604d3"/>
                </a:solidFill>
                <a:latin typeface="Times New Roman"/>
                <a:ea typeface="Times New Roman"/>
              </a:rPr>
              <a:t>Le Journal Quotidien Essor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MS PGothic"/>
              </a:rPr>
              <a:t>Mag’ Agriculture : Productivité agricole : LES SEMENCES, UN PILIER DU DISPOSIT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Oval 5"/>
          <p:cNvSpPr/>
          <p:nvPr/>
        </p:nvSpPr>
        <p:spPr>
          <a:xfrm>
            <a:off x="324000" y="907920"/>
            <a:ext cx="7561080" cy="2174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7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443640" y="115920"/>
            <a:ext cx="1441440" cy="720720"/>
          </a:xfrm>
          <a:prstGeom prst="rect">
            <a:avLst/>
          </a:prstGeom>
          <a:ln w="0">
            <a:noFill/>
          </a:ln>
        </p:spPr>
      </p:pic>
      <p:sp>
        <p:nvSpPr>
          <p:cNvPr id="1418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89BB-9833-4FE7-A2E8-7730145F47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"/>
          <p:cNvSpPr txBox="1"/>
          <p:nvPr/>
        </p:nvSpPr>
        <p:spPr>
          <a:xfrm>
            <a:off x="429840" y="1196640"/>
            <a:ext cx="87138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émarrage tardif des activités du projet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écès du 1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Assistant Technique National du projet  au cours de la 1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èr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campagne 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déficit pluviométrique au cours de la campagne d’hivernage 2011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coup d’Etat militaire survenu au Mali le 22 mars 2012 a influé sur le niveau d’évolution des activité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Oval 5"/>
          <p:cNvSpPr/>
          <p:nvPr/>
        </p:nvSpPr>
        <p:spPr>
          <a:xfrm>
            <a:off x="324000" y="119700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1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443640" y="476280"/>
            <a:ext cx="1297080" cy="720720"/>
          </a:xfrm>
          <a:prstGeom prst="rect">
            <a:avLst/>
          </a:prstGeom>
          <a:ln w="0">
            <a:noFill/>
          </a:ln>
        </p:spPr>
      </p:pic>
      <p:sp>
        <p:nvSpPr>
          <p:cNvPr id="1422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10D1-0111-4E32-BE61-D20A2699FB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729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Problèmes rencontrés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7893000" cy="87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b0f0"/>
                </a:solidFill>
                <a:latin typeface="Arial"/>
              </a:rPr>
              <a:t>Actions prises pour résoudre les problèmes</a:t>
            </a:r>
            <a:endParaRPr b="1" lang="en-US" sz="2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25" name=""/>
          <p:cNvSpPr txBox="1"/>
          <p:nvPr/>
        </p:nvSpPr>
        <p:spPr>
          <a:xfrm>
            <a:off x="285840" y="1197000"/>
            <a:ext cx="885816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justement des plans d’action et identification de points focaux pour accélérer la réalisation des activité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Assistant technique du projet a été nommé par le Ministère de l’Agriculture et a pris fonction le 1</a:t>
            </a:r>
            <a:r>
              <a:rPr b="1" lang="fr-FR" sz="2000" spc="-1" strike="noStrike" baseline="30000">
                <a:solidFill>
                  <a:srgbClr val="000000"/>
                </a:solidFill>
                <a:latin typeface="Arial"/>
              </a:rPr>
              <a:t>e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Novembre 201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 plan d’action 2012 revu par l’équipe du projet et les cadres de la DNA  pour identifier des actions prioritaires à mener dans le nouveau contexte crée au Mali a été soumis a la FAO à travers une lettre du Secrétaire Général  assurant l’intérim du Ministre de l’Agricultu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Oval 5"/>
          <p:cNvSpPr/>
          <p:nvPr/>
        </p:nvSpPr>
        <p:spPr>
          <a:xfrm>
            <a:off x="324000" y="126828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B6DA-574A-4343-A19E-474F859FE7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8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443640" y="189000"/>
            <a:ext cx="1297080" cy="5032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7427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00b0f0"/>
                </a:solidFill>
                <a:latin typeface="Arial"/>
              </a:rPr>
              <a:t>Conclusions</a:t>
            </a:r>
            <a:r>
              <a:rPr b="1" lang="fr-FR" sz="39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0" name=""/>
          <p:cNvSpPr txBox="1"/>
          <p:nvPr/>
        </p:nvSpPr>
        <p:spPr>
          <a:xfrm>
            <a:off x="0" y="1071360"/>
            <a:ext cx="9144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inistère de l’Agriculture s’est approprié du proj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lgré les difficultés rencontrées, les résultats obtenus sont encourageants grâce aux  synergies et complémentarités  développées qui ont eu des impacts positifs sur le niveau  quantitatif et qualitatif du riz loc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6"/>
          <p:cNvSpPr/>
          <p:nvPr/>
        </p:nvSpPr>
        <p:spPr>
          <a:xfrm>
            <a:off x="324000" y="1197000"/>
            <a:ext cx="7391160" cy="2872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2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012000" y="333360"/>
            <a:ext cx="1584360" cy="720720"/>
          </a:xfrm>
          <a:prstGeom prst="rect">
            <a:avLst/>
          </a:prstGeom>
          <a:ln w="0">
            <a:noFill/>
          </a:ln>
        </p:spPr>
      </p:pic>
      <p:sp>
        <p:nvSpPr>
          <p:cNvPr id="1433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9CB5-058F-4EDD-B2AC-353F7385DA8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24000" y="1341000"/>
            <a:ext cx="8820000" cy="504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272880" indent="-255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BLÉMATIQUE DU RIZ AU M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ible usage des intrants de qualité et des pratiques agricoles durab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ès grande disparité du niveau d’équipements Agricoles entre les zones de product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insuffisance d’infrastructures de stockage/conservation, de transformation et de commercialisation du riz lo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20"/>
          <p:cNvSpPr/>
          <p:nvPr/>
        </p:nvSpPr>
        <p:spPr>
          <a:xfrm>
            <a:off x="324000" y="907920"/>
            <a:ext cx="739116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227640" y="18900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"/>
          <p:cNvSpPr txBox="1"/>
          <p:nvPr/>
        </p:nvSpPr>
        <p:spPr>
          <a:xfrm>
            <a:off x="178920" y="475920"/>
            <a:ext cx="87836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s résultats  du projet APRAO  très fortement appréciés par les différents acteurs ont permis au MA de réviser  et soumettre à la FAO, le plan d’action  2012 qui met un accent  sur les actions qui ont une grande incidence sur la production rizicole et dont la faisabilité ne rencontre pas d’obstacles majeu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projet APRAO demeure  une grande opportunité pour les acteurs de la filière riz au M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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ependant, il serait souhaitable d’adapter les procédures aux caractéristiques spécifiques du projet APRA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7c1302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7FF56-2B46-458B-8FD9-53EA015696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6297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PLAN DE TRAVAIL 2012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7" name=""/>
          <p:cNvSpPr txBox="1"/>
          <p:nvPr/>
        </p:nvSpPr>
        <p:spPr>
          <a:xfrm>
            <a:off x="179280" y="2060640"/>
            <a:ext cx="871560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ise en œuvre du plan d’action revu au titre de l’année 2012 qui met l’accent sur les actions prioritaires dans le contexte socio-économique actuel du Mali (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x: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fourniture d’intrants 70 T d’engrais et 30 T de semences riz dont les besoins du projet IESA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Oval 5"/>
          <p:cNvSpPr/>
          <p:nvPr/>
        </p:nvSpPr>
        <p:spPr>
          <a:xfrm>
            <a:off x="250920" y="112536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443640" y="404640"/>
            <a:ext cx="1584360" cy="720720"/>
          </a:xfrm>
          <a:prstGeom prst="rect">
            <a:avLst/>
          </a:prstGeom>
          <a:ln w="0">
            <a:noFill/>
          </a:ln>
        </p:spPr>
      </p:pic>
      <p:sp>
        <p:nvSpPr>
          <p:cNvPr id="144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C81D-666D-406A-97DB-85F112D467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94920" y="213840"/>
            <a:ext cx="8497800" cy="90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1.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 : la politique et les législations semencièr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             sont vulgarisées et appliquées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42" name="ZoneTexte 8"/>
          <p:cNvSpPr/>
          <p:nvPr/>
        </p:nvSpPr>
        <p:spPr>
          <a:xfrm>
            <a:off x="428760" y="71424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3" name=""/>
          <p:cNvGraphicFramePr/>
          <p:nvPr/>
        </p:nvGraphicFramePr>
        <p:xfrm>
          <a:off x="250920" y="2421000"/>
          <a:ext cx="8640720" cy="3292560"/>
        </p:xfrm>
        <a:graphic>
          <a:graphicData uri="http://schemas.openxmlformats.org/drawingml/2006/table">
            <a:tbl>
              <a:tblPr/>
              <a:tblGrid>
                <a:gridCol w="2448000"/>
                <a:gridCol w="2087280"/>
                <a:gridCol w="2035440"/>
                <a:gridCol w="1120680"/>
                <a:gridCol w="9493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46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 1.1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romouvoir l’application de la politique et de la législation nationales semencières et l’utilisation de la semence certifiée par les producteurs de riz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.1.2 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Multiplier et diffuser des posters  et plaquettes montrant l’importance de l’utilisation des semences amélioré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osters  et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laquettes sont multipliés et diffu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N, DNA (SSN), MC-DEC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-jui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4" name="Oval 5"/>
          <p:cNvSpPr/>
          <p:nvPr/>
        </p:nvSpPr>
        <p:spPr>
          <a:xfrm>
            <a:off x="250920" y="126828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50096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1.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 : les capacités des acteurs de la filière semencière de riz au Mali sont renforcées en vue de sécuriser la production de semences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46" name="ZoneTexte 8"/>
          <p:cNvSpPr/>
          <p:nvPr/>
        </p:nvSpPr>
        <p:spPr>
          <a:xfrm>
            <a:off x="428760" y="714240"/>
            <a:ext cx="8715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7" name=""/>
          <p:cNvGraphicFramePr/>
          <p:nvPr/>
        </p:nvGraphicFramePr>
        <p:xfrm>
          <a:off x="250920" y="2060640"/>
          <a:ext cx="8712000" cy="3978360"/>
        </p:xfrm>
        <a:graphic>
          <a:graphicData uri="http://schemas.openxmlformats.org/drawingml/2006/table">
            <a:tbl>
              <a:tblPr/>
              <a:tblGrid>
                <a:gridCol w="2468520"/>
                <a:gridCol w="2103480"/>
                <a:gridCol w="2052720"/>
                <a:gridCol w="1130040"/>
                <a:gridCol w="95724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53612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é 1.2.1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uyer les services de contrôle et la certification  des semen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ssurer la mobilité des contrôleurs de sem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20348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ites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uyé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t DN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ût, septem. et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89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1.2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ppuyer la  certification de seme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issions de contrôle par s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échantillons certifi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SN, DNA, Labosem, RSN, OPIB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oût, septem. et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8" name="Oval 5"/>
          <p:cNvSpPr/>
          <p:nvPr/>
        </p:nvSpPr>
        <p:spPr>
          <a:xfrm>
            <a:off x="324000" y="1413000"/>
            <a:ext cx="7561080" cy="21564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5009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7c1302"/>
                </a:solidFill>
                <a:latin typeface="Arial"/>
              </a:rPr>
              <a:t>  </a:t>
            </a:r>
            <a:br>
              <a:rPr sz="4000"/>
            </a:b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50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1" name=""/>
          <p:cNvGraphicFramePr/>
          <p:nvPr/>
        </p:nvGraphicFramePr>
        <p:xfrm>
          <a:off x="179280" y="836640"/>
          <a:ext cx="8785440" cy="4070160"/>
        </p:xfrm>
        <a:graphic>
          <a:graphicData uri="http://schemas.openxmlformats.org/drawingml/2006/table">
            <a:tbl>
              <a:tblPr/>
              <a:tblGrid>
                <a:gridCol w="2322720"/>
                <a:gridCol w="2687400"/>
                <a:gridCol w="1741680"/>
                <a:gridCol w="1089000"/>
                <a:gridCol w="944640"/>
              </a:tblGrid>
              <a:tr h="1079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8921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1.2.3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Renforcer les capacités des services de vulgarisation en matière de production de sem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.1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r les agents des services de vulgarisation  sur l’itinéraire technique de multiplication de la semence de ri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0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gents sont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DNA, SSN, Offices, MCA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09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3.3: Multiplier et diffuser le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uel et guide technique de production de seme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anuels et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guides sont multipliés et diffus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, DNA, SSN,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-jui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5009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53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4" name=""/>
          <p:cNvGraphicFramePr/>
          <p:nvPr/>
        </p:nvGraphicFramePr>
        <p:xfrm>
          <a:off x="179280" y="981000"/>
          <a:ext cx="8712360" cy="4627800"/>
        </p:xfrm>
        <a:graphic>
          <a:graphicData uri="http://schemas.openxmlformats.org/drawingml/2006/table">
            <a:tbl>
              <a:tblPr/>
              <a:tblGrid>
                <a:gridCol w="2251080"/>
                <a:gridCol w="2686320"/>
                <a:gridCol w="1742760"/>
                <a:gridCol w="1089000"/>
                <a:gridCol w="943200"/>
              </a:tblGrid>
              <a:tr h="1047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2082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1.2.4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nforcer les capacités organisationnelles des entreprises privées et coopératives Semenciè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4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ormer les OP et les coopératives semencières en gestion et favoriser  l’inter professionnalisation au sein de la filière semencièr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représentants sont touch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, SSN, RSN,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ril à Jui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4.3 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Produire et diffuser des bulletins d’information sur les semences en langues nation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exemplaires sont diffusés en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N° dont 1 N° par trimest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ril à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785880" y="214200"/>
            <a:ext cx="750096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fr-FR" sz="4000" spc="-1" strike="noStrike">
                <a:solidFill>
                  <a:srgbClr val="7c1302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56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7" name=""/>
          <p:cNvGraphicFramePr/>
          <p:nvPr/>
        </p:nvGraphicFramePr>
        <p:xfrm>
          <a:off x="250920" y="692280"/>
          <a:ext cx="8715240" cy="5870520"/>
        </p:xfrm>
        <a:graphic>
          <a:graphicData uri="http://schemas.openxmlformats.org/drawingml/2006/table">
            <a:tbl>
              <a:tblPr/>
              <a:tblGrid>
                <a:gridCol w="2251080"/>
                <a:gridCol w="2687400"/>
                <a:gridCol w="1743120"/>
                <a:gridCol w="1089000"/>
                <a:gridCol w="944640"/>
              </a:tblGrid>
              <a:tr h="9363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43640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1.2.5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nforcer les capacités techniques et matérielles des organisations paysannes et des entreprises privées locales, à commercialiser des semences certifiées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3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5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mer des OP, et entreprises locales semencières  en marketing et commercialisation de la semen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représentants sont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, SSN, Offices, R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-juin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5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3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2.5.2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Construire et équiper (bascules, palettes appareils de traitement, diables) des magasins et  des aires de séch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magasins équip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aires de séch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S, SSN, DNA, ORS,O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s à octobre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0332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.5.3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Fournir des équipements, et matériels de production, de post-récolte  et de conditionnemen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rieuses/ vanne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batteus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otoculteur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O, SSN, DNA, RSN, Institutions MF, BN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 à septem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497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2.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 : Des options de Gestion Intégrée adaptées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aux trois (3) systèmes de production rizicole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majeurs sont identifiées et utilisées de manière appropriée et efficiente par les producteurs.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59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0" name=""/>
          <p:cNvGraphicFramePr/>
          <p:nvPr/>
        </p:nvGraphicFramePr>
        <p:xfrm>
          <a:off x="324000" y="2133720"/>
          <a:ext cx="8640720" cy="3952800"/>
        </p:xfrm>
        <a:graphic>
          <a:graphicData uri="http://schemas.openxmlformats.org/drawingml/2006/table">
            <a:tbl>
              <a:tblPr/>
              <a:tblGrid>
                <a:gridCol w="2232000"/>
                <a:gridCol w="2705040"/>
                <a:gridCol w="1687320"/>
                <a:gridCol w="1079640"/>
                <a:gridCol w="9367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920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2.1.1.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nforcer les capacités techniques des agents d’appui conseil et les producteurs aux  pratiques améliorées de  gestion intégrée des cultures  de riz dans les trois (3) systèmes. à travers les C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1.1 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Former les facilitateurs (agents d’appui conseil) aux pratiques culturales améliorées de gestion intégrée du riz à travers  les C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acilitateurs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GIPD, offices,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 à octobre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1.1.2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mer les  producteurs aux pratiques culturales améliorées de gestion intégrée du riz à travers  les C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eurs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GIPD, Offices,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i à octobre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1" name="Oval 5"/>
          <p:cNvSpPr/>
          <p:nvPr/>
        </p:nvSpPr>
        <p:spPr>
          <a:xfrm>
            <a:off x="324000" y="162864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4247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2.2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a production de riz est améliorée de manière substantielle au niveau des groupes cibles du projet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63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4" name=""/>
          <p:cNvGraphicFramePr/>
          <p:nvPr/>
        </p:nvGraphicFramePr>
        <p:xfrm>
          <a:off x="250920" y="1125360"/>
          <a:ext cx="8501040" cy="5546880"/>
        </p:xfrm>
        <a:graphic>
          <a:graphicData uri="http://schemas.openxmlformats.org/drawingml/2006/table">
            <a:tbl>
              <a:tblPr/>
              <a:tblGrid>
                <a:gridCol w="2195280"/>
                <a:gridCol w="2621160"/>
                <a:gridCol w="1700280"/>
                <a:gridCol w="1063440"/>
                <a:gridCol w="9208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2.2.1</a:t>
                      </a:r>
                      <a:r>
                        <a:rPr b="1" i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.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ider les producteurs à acquérir des équipements et matériels de production, de récolte et  post-récolte (faucheuses,  batteuses-vanneuse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piqueuses, semoirs, motoculteur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1.1 </a:t>
                      </a: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doter les OP en Infrastructures/équipements et matériels de production, de récolte et post réco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bas-fonds étudiés pour être  réhabilité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FAO, DNA, Offices,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rs à nov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.2.1.2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ter les OP en intrants (semences et engrais)  en fonds revol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nnes de semences 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onnes d’engr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Projet, FAO, DNA, Offices,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vril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–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979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2.2.2 :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ormer les conducteurs d’engins et responsables d’OP à l’utilisation efficiente du matériel et des équipements de production, de récolte et de post réco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.2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rganiser des sessions de formation des conducteurs et responsables d’OP à l’utilisation  efficiente des engins, du matériel de production, récolte et de post récol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conducteurs et responsables d’OP sont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FAO, DNA, Offices,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n à nov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5" name="Oval 5"/>
          <p:cNvSpPr/>
          <p:nvPr/>
        </p:nvSpPr>
        <p:spPr>
          <a:xfrm>
            <a:off x="250920" y="83664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2.3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 : l’environnement socio économique de la production  de riz est amélioré 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67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8" name=""/>
          <p:cNvGraphicFramePr/>
          <p:nvPr/>
        </p:nvGraphicFramePr>
        <p:xfrm>
          <a:off x="250920" y="1989000"/>
          <a:ext cx="8643960" cy="2770200"/>
        </p:xfrm>
        <a:graphic>
          <a:graphicData uri="http://schemas.openxmlformats.org/drawingml/2006/table">
            <a:tbl>
              <a:tblPr/>
              <a:tblGrid>
                <a:gridCol w="2232000"/>
                <a:gridCol w="2489040"/>
                <a:gridCol w="1905120"/>
                <a:gridCol w="1081080"/>
                <a:gridCol w="9367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94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2.3.1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ntribuer à l’amélioration de la fonctionnalité de la plate forme nationale des professionnels de la filière riz au Ma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.1.1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ppuyer l’organisation des rencontres statutaires de la plateforme nationale des professionnels de la filière riz au Mali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rencontres statutaires sont ten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omités de pilotage sont te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FAO, DNA, Offices, 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n et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9" name="Oval 5"/>
          <p:cNvSpPr/>
          <p:nvPr/>
        </p:nvSpPr>
        <p:spPr>
          <a:xfrm>
            <a:off x="250920" y="126828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Introduction </a:t>
            </a:r>
            <a:r>
              <a:rPr b="1" lang="fr-FR" sz="4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95280" y="1267920"/>
            <a:ext cx="8424720" cy="538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49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JUST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7120" indent="-24984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nt mis sur le développement de l’Agriculture en tant que moteur de la croissance du pay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498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4984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006: Loi d’Orientation Agricole (LOA) avec pour objectif de  moderniser les exploitations Agric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4984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007-2011: Document de Stratégie pour la Réduction de la Pauvreté avec un accent particulier sur la Sécurité Alimentaire et l’augmentation des revenus des producteurs Agricol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120" indent="-249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20"/>
          <p:cNvSpPr/>
          <p:nvPr/>
        </p:nvSpPr>
        <p:spPr>
          <a:xfrm>
            <a:off x="324000" y="981000"/>
            <a:ext cx="739116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372360" y="18900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 3.1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 : du paddy de bonne qualité est obtenu par les producteurs cibles pour la transformation et la commercialisation du riz est amélioré 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71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2" name=""/>
          <p:cNvGraphicFramePr/>
          <p:nvPr/>
        </p:nvGraphicFramePr>
        <p:xfrm>
          <a:off x="250920" y="2349360"/>
          <a:ext cx="8643960" cy="2743200"/>
        </p:xfrm>
        <a:graphic>
          <a:graphicData uri="http://schemas.openxmlformats.org/drawingml/2006/table">
            <a:tbl>
              <a:tblPr/>
              <a:tblGrid>
                <a:gridCol w="2232000"/>
                <a:gridCol w="2489040"/>
                <a:gridCol w="1905120"/>
                <a:gridCol w="1081080"/>
                <a:gridCol w="93672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920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3.1.1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: renforcer la capacité des producteurs aux bonnes techniques de récolte et de post récol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1.1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ormer les producteurs à la maîtrise des  pratiques appropriées de récolte et de post-récol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0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producteurs sont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 GIPD, DNA, SSN, Offi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ptem. à octobre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3" name="Oval 5"/>
          <p:cNvSpPr/>
          <p:nvPr/>
        </p:nvSpPr>
        <p:spPr>
          <a:xfrm>
            <a:off x="250920" y="155736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42472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OS 3.2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 : Du riz local de bonne qualité est produit et commercialisé </a:t>
            </a: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75" name="ZoneTexte 8"/>
          <p:cNvSpPr/>
          <p:nvPr/>
        </p:nvSpPr>
        <p:spPr>
          <a:xfrm>
            <a:off x="285840" y="7142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6" name=""/>
          <p:cNvGraphicFramePr/>
          <p:nvPr/>
        </p:nvGraphicFramePr>
        <p:xfrm>
          <a:off x="395280" y="1413000"/>
          <a:ext cx="8501040" cy="4663800"/>
        </p:xfrm>
        <a:graphic>
          <a:graphicData uri="http://schemas.openxmlformats.org/drawingml/2006/table">
            <a:tbl>
              <a:tblPr/>
              <a:tblGrid>
                <a:gridCol w="2195640"/>
                <a:gridCol w="2557440"/>
                <a:gridCol w="1763640"/>
                <a:gridCol w="1063440"/>
                <a:gridCol w="92088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3.2.1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nforcer la capacité des riziers et des commerçants en matière de transformation et de conditionnement de riz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1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ormer les riziers en maintenance des équipements et en techniques de décorticage et d’usinage du paddy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riziers sont form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CAFON, privé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llet à septe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3.2.2. :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ciliter l’acquisition d’unités de transformation par les O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2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doter les OP de décortique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écortiqueuses fourn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CAFON, F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n à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7" name="Oval 5"/>
          <p:cNvSpPr/>
          <p:nvPr/>
        </p:nvSpPr>
        <p:spPr>
          <a:xfrm>
            <a:off x="250920" y="907920"/>
            <a:ext cx="7561080" cy="21600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ZoneTexte 8"/>
          <p:cNvSpPr/>
          <p:nvPr/>
        </p:nvSpPr>
        <p:spPr>
          <a:xfrm>
            <a:off x="285840" y="836640"/>
            <a:ext cx="88581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9" name=""/>
          <p:cNvGraphicFramePr/>
          <p:nvPr/>
        </p:nvGraphicFramePr>
        <p:xfrm>
          <a:off x="324000" y="981000"/>
          <a:ext cx="8501040" cy="4940280"/>
        </p:xfrm>
        <a:graphic>
          <a:graphicData uri="http://schemas.openxmlformats.org/drawingml/2006/table">
            <a:tbl>
              <a:tblPr/>
              <a:tblGrid>
                <a:gridCol w="2195280"/>
                <a:gridCol w="2519280"/>
                <a:gridCol w="1801800"/>
                <a:gridCol w="1063800"/>
                <a:gridCol w="9208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ITS ATTEND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CHEANC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960"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ctivité 3.2.3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Renforcer les capacités des femmes pour leur permettre de participer effectivement aux activités de transformation du paddy et de</a:t>
                      </a:r>
                      <a:r>
                        <a:rPr b="0" lang="fr-FR" sz="1800" spc="-1" strike="noStrike">
                          <a:solidFill>
                            <a:srgbClr val="0070c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mercialisation de riz décortiqu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3.1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ormer les OP féminines en technique d’étuvage du paddy et de conditionnement du riz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emmes sont formé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 IESA, Kita, LTA/IER, FNGTP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v-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64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3.2 :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Equiper les OP féminines en matériels  d’étuv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Ki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ojet, projet IESA, Kita, LTA/IER, FENAT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Juin à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  <a:tr h="137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.3.3 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: Former les OP féminines en gestion d’entrepri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27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femmes sont formé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jet, DNA, FAO et consul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. à déc. 2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80"/>
                      </a:solidFill>
                    </a:lnL>
                    <a:lnR w="5760">
                      <a:solidFill>
                        <a:srgbClr val="000080"/>
                      </a:solidFill>
                    </a:lnR>
                    <a:lnT w="5760">
                      <a:solidFill>
                        <a:srgbClr val="000080"/>
                      </a:solidFill>
                    </a:lnT>
                    <a:lnB w="5760">
                      <a:solidFill>
                        <a:srgbClr val="00008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wheel spokes="8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WordArt 5"/>
          <p:cNvSpPr txBox="1"/>
          <p:nvPr/>
        </p:nvSpPr>
        <p:spPr>
          <a:xfrm>
            <a:off x="762120" y="914400"/>
            <a:ext cx="761976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-2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 Mali  remercie 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rtement 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Le Projet   APRAO</a:t>
            </a:r>
            <a:endParaRPr b="0" lang="en-US" sz="1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7D9F-339B-453B-B76B-98B6BFA495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15280" y="115920"/>
            <a:ext cx="1296720" cy="7207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75438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Introduction </a:t>
            </a:r>
            <a:r>
              <a:rPr b="1" lang="fr-FR" sz="4000" spc="-1" strike="noStrike">
                <a:solidFill>
                  <a:srgbClr val="590690"/>
                </a:solidFill>
                <a:latin typeface="Arial"/>
              </a:rPr>
              <a:t>(suite)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4000" y="1412640"/>
            <a:ext cx="842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 algn="just">
              <a:spcBef>
                <a:spcPts val="601"/>
              </a:spcBef>
              <a:buClr>
                <a:srgbClr val="000000"/>
              </a:buClr>
              <a:buSzPct val="7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e riz  joue un rôle important  dans la stratégie nationale  de  sécurité alimentai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Riz local bien apprécié par les consomm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Énormes potentialités en matière d’aménagements hydro-agricoles et de ressources en ea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55240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20"/>
          <p:cNvSpPr/>
          <p:nvPr/>
        </p:nvSpPr>
        <p:spPr>
          <a:xfrm>
            <a:off x="324000" y="981000"/>
            <a:ext cx="739116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372360" y="189000"/>
            <a:ext cx="1584360" cy="7189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7543800" cy="807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400" spc="-1" strike="noStrike">
                <a:solidFill>
                  <a:srgbClr val="00b0f0"/>
                </a:solidFill>
                <a:latin typeface="Arial"/>
              </a:rPr>
              <a:t>Objectifs</a:t>
            </a:r>
            <a:endParaRPr b="1" lang="en-US" sz="5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68360" y="1557360"/>
            <a:ext cx="8229600" cy="40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L’objectif global du Projet est d’accroître de façon durable la production rizicole au Ma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17"/>
          <p:cNvSpPr/>
          <p:nvPr/>
        </p:nvSpPr>
        <p:spPr>
          <a:xfrm>
            <a:off x="250920" y="1125360"/>
            <a:ext cx="763416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227640" y="189000"/>
            <a:ext cx="1584360" cy="718920"/>
          </a:xfrm>
          <a:prstGeom prst="rect">
            <a:avLst/>
          </a:prstGeom>
          <a:ln w="0">
            <a:noFill/>
          </a:ln>
        </p:spPr>
      </p:pic>
      <p:sp>
        <p:nvSpPr>
          <p:cNvPr id="196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7627-150B-4370-B429-67FA5625FA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C:\Users\Si\Desktop\Photos Consultation Capitalisation\P1000883.JPG"/>
          <p:cNvPicPr/>
          <p:nvPr/>
        </p:nvPicPr>
        <p:blipFill>
          <a:blip r:embed="rId2"/>
          <a:stretch/>
        </p:blipFill>
        <p:spPr>
          <a:xfrm>
            <a:off x="5303880" y="2708280"/>
            <a:ext cx="3840120" cy="3024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C:\Users\Si\Desktop\Photos Consultation Capitalisation\P1000903.JPG"/>
          <p:cNvPicPr/>
          <p:nvPr/>
        </p:nvPicPr>
        <p:blipFill>
          <a:blip r:embed="rId3"/>
          <a:stretch/>
        </p:blipFill>
        <p:spPr>
          <a:xfrm>
            <a:off x="611280" y="2708280"/>
            <a:ext cx="3313080" cy="302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C:\Users\Si\Desktop\Photos Consultation Capitalisation\P1000909.JPG"/>
          <p:cNvPicPr/>
          <p:nvPr/>
        </p:nvPicPr>
        <p:blipFill>
          <a:blip r:embed="rId4"/>
          <a:stretch/>
        </p:blipFill>
        <p:spPr>
          <a:xfrm>
            <a:off x="3707640" y="2707560"/>
            <a:ext cx="2376360" cy="3024360"/>
          </a:xfrm>
          <a:prstGeom prst="rect">
            <a:avLst/>
          </a:prstGeom>
          <a:ln w="0">
            <a:noFill/>
          </a:ln>
        </p:spPr>
      </p:pic>
      <p:sp>
        <p:nvSpPr>
          <p:cNvPr id="200" name="ZoneTexte 9"/>
          <p:cNvSpPr/>
          <p:nvPr/>
        </p:nvSpPr>
        <p:spPr>
          <a:xfrm>
            <a:off x="684360" y="5661000"/>
            <a:ext cx="525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Magasin de stock de semences de riz à Dioro /Ségou/M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09272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Objectifs suite et fin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83760" indent="-38376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OBJECTIFS SPECIF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 algn="just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omouvoir l’utilisation de la semence de qualité et sécuriser la production de semences certifiées pour une riziculture performante  au M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 algn="just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Améliorer la productivité des 3 systèmes principaux de riziculture au Mali et accroître la production national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 algn="just"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omouvoir la qualité du riz local en vue d’une commercialisation profitable et ren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3760" indent="-3837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4"/>
          <p:cNvSpPr/>
          <p:nvPr/>
        </p:nvSpPr>
        <p:spPr>
          <a:xfrm>
            <a:off x="324000" y="1125360"/>
            <a:ext cx="739116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156360" y="333360"/>
            <a:ext cx="1584360" cy="792000"/>
          </a:xfrm>
          <a:prstGeom prst="rect">
            <a:avLst/>
          </a:prstGeom>
          <a:ln w="0">
            <a:noFill/>
          </a:ln>
        </p:spPr>
      </p:pic>
      <p:sp>
        <p:nvSpPr>
          <p:cNvPr id="20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1D33-A33F-4E79-88A2-3CE9E87B47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730548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b0f0"/>
                </a:solidFill>
                <a:latin typeface="Arial"/>
              </a:rPr>
              <a:t>Secteurs </a:t>
            </a:r>
            <a:r>
              <a:rPr b="1" lang="fr-FR" sz="4000" spc="-1" strike="noStrike">
                <a:solidFill>
                  <a:srgbClr val="00b0f0"/>
                </a:solidFill>
                <a:latin typeface="Arial"/>
              </a:rPr>
              <a:t>d’intervention</a:t>
            </a:r>
            <a:endParaRPr b="1" lang="en-US" sz="40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088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mélioration de l’environnement socio-économique pour la    production du ri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ction et utilisation de semences de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roduction de p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Transformation du p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50000"/>
              </a:lnSpc>
              <a:spcBef>
                <a:spcPts val="601"/>
              </a:spcBef>
              <a:buClr>
                <a:srgbClr val="7c1302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5"/>
          <p:cNvSpPr/>
          <p:nvPr/>
        </p:nvSpPr>
        <p:spPr>
          <a:xfrm>
            <a:off x="324000" y="981000"/>
            <a:ext cx="7561080" cy="304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Image 1" descr="C:\Users\SOULEYMANE\Downloads\logo_aprao_fr_Touf.png"/>
          <p:cNvPicPr/>
          <p:nvPr/>
        </p:nvPicPr>
        <p:blipFill>
          <a:blip r:embed="rId1"/>
          <a:stretch/>
        </p:blipFill>
        <p:spPr>
          <a:xfrm>
            <a:off x="6588000" y="189000"/>
            <a:ext cx="1225800" cy="718920"/>
          </a:xfrm>
          <a:prstGeom prst="rect">
            <a:avLst/>
          </a:prstGeom>
          <a:ln w="0">
            <a:noFill/>
          </a:ln>
        </p:spPr>
      </p:pic>
      <p:sp>
        <p:nvSpPr>
          <p:cNvPr id="210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48A2-198F-42DA-A3C6-55CE242D26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7T21:29:40Z</dcterms:created>
  <dc:creator>SIX</dc:creator>
  <dc:description/>
  <dc:language>en-US</dc:language>
  <cp:lastModifiedBy>TOSHIBA</cp:lastModifiedBy>
  <dcterms:modified xsi:type="dcterms:W3CDTF">2012-05-31T10:46:47Z</dcterms:modified>
  <cp:revision>571</cp:revision>
  <dc:subject/>
  <dc:title>Evaluation</dc:title>
</cp:coreProperties>
</file>