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6.png" ContentType="image/pn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2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6CA-2E7E-40C5-861E-691B1797853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F2452-B854-49F1-BBF9-C08E48A789B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B29-230C-48EB-A8C9-40929C519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AF37-8B03-443D-9F29-8184980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DAFE-6CB8-4876-8513-F06C067A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8EFA-A8B7-44C2-A74B-23BA9EB4B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9DE8-33CA-4725-8727-F9DE4D4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02D4-141E-4048-A23D-7EDE2946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2CFA-EF2C-4863-ACBE-16D4F637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401D-5BBA-4A64-8618-145B07BEC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6DF6-B7D4-4EE1-A30C-55059DE38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19D-9BE5-4F0C-813E-69B80163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B1E-F951-497B-A736-09B2EDF6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FDAB-121D-4871-B262-C7B794B1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CBD0-8744-4325-8A8D-8B67B340952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1341360"/>
            <a:ext cx="65977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GCP/RAF/453/SP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élioration de la Production de Riz en Afrique de l’Ouest en réponse à la flambée des prix des denrées alimentaires</a:t>
            </a:r>
            <a:br>
              <a:rPr sz="2000"/>
            </a:b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Composante Maurit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2340000" y="6186600"/>
            <a:ext cx="649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N’SAH HOTEL- GRAND BASSAM (Côte d’Ivoire), </a:t>
            </a: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 31 Mai - 01 juin  201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2556000" y="2781360"/>
            <a:ext cx="6264000" cy="3433680"/>
          </a:xfrm>
          <a:prstGeom prst="rect">
            <a:avLst/>
          </a:prstGeom>
          <a:ln w="0">
            <a:noFill/>
          </a:ln>
        </p:spPr>
      </p:pic>
      <p:pic>
        <p:nvPicPr>
          <p:cNvPr id="51" name="Image 6" descr="38145765FAO_logo_web"/>
          <p:cNvPicPr/>
          <p:nvPr/>
        </p:nvPicPr>
        <p:blipFill>
          <a:blip r:embed="rId2"/>
          <a:stretch/>
        </p:blipFill>
        <p:spPr>
          <a:xfrm>
            <a:off x="285840" y="66600"/>
            <a:ext cx="1117440" cy="107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http://t2.gstatic.com/images?q=tbn:ANd9GcR8UasVz3iHZ8y8XHeWxttGvUPQZPZHMIY6QkhZFOFlCErUMmGo"/>
          <p:cNvPicPr/>
          <p:nvPr/>
        </p:nvPicPr>
        <p:blipFill>
          <a:blip r:embed="rId3"/>
          <a:stretch/>
        </p:blipFill>
        <p:spPr>
          <a:xfrm>
            <a:off x="7885080" y="117360"/>
            <a:ext cx="1143000" cy="8366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Logo Mauritania"/>
          <p:cNvPicPr/>
          <p:nvPr/>
        </p:nvPicPr>
        <p:blipFill>
          <a:blip r:embed="rId4"/>
          <a:stretch/>
        </p:blipFill>
        <p:spPr>
          <a:xfrm>
            <a:off x="3954600" y="66600"/>
            <a:ext cx="1143000" cy="1071720"/>
          </a:xfrm>
          <a:prstGeom prst="rect">
            <a:avLst/>
          </a:prstGeom>
          <a:ln w="0">
            <a:noFill/>
          </a:ln>
        </p:spPr>
      </p:pic>
      <p:pic>
        <p:nvPicPr>
          <p:cNvPr id="54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5"/>
          <a:stretch/>
        </p:blipFill>
        <p:spPr>
          <a:xfrm>
            <a:off x="285840" y="3573360"/>
            <a:ext cx="214308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8000" y="115920"/>
            <a:ext cx="8856720" cy="117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Amélioration de l’environnement socioéconomique du riz</a:t>
            </a:r>
            <a:r>
              <a:rPr b="1" i="1" lang="fr-FR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br>
              <a:rPr sz="2000"/>
            </a:b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85840" y="1500120"/>
            <a:ext cx="8858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égislation semenciè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 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évision de la législation semencière est engagée pour combler les  lacunes constatées, mieux l’adapter aux conditions du pays et l’harmoniser avec les textes dans l’espace communautaire CEDEAO/CIL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adre de conce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Création une dynamique entre tous les acteurs intervenant d’amont en aval de la filière semences par l’instauration d’un cadre de concertation régulière où tous les obstacles à la production des semences de qualité sont discutés pour qu’ils soient levé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DR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Mise en place des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DR 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en semences certifiées  (19t), en engrais/urée (56t)  et en herbicides  (960 litres),  augmentation production et productivité du riz des partenaires  opérationnels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24000" y="1125000"/>
            <a:ext cx="842472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1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Sem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5 membres de l’ISPM  formés en techniques de production de semences et  la gestion des entreprises semenciè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25 techniciens du CNARDA formés en techniques de sélection conservatrice et de production de semences de pré base et ba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35 contrôleurs et analystes sur les techniques de contrôle et certification des sem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Matériel et équip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 Unité de triage et conditionnement (en cours d’acquisi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éhabilitation de la station de produ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emence de prébase du CNAR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93" name="Image 5" descr="C:\Users\Mamadou Diop\Documents\FAO\GIPD\GCP RAF 453 SPA\Photo\Formation des contrôleurs dec 2011\DSC03096.JPG"/>
          <p:cNvPicPr/>
          <p:nvPr/>
        </p:nvPicPr>
        <p:blipFill>
          <a:blip r:embed="rId2"/>
          <a:stretch/>
        </p:blipFill>
        <p:spPr>
          <a:xfrm>
            <a:off x="6443640" y="5013360"/>
            <a:ext cx="27003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67840" y="1413000"/>
            <a:ext cx="85726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b050"/>
                </a:solidFill>
                <a:uFillTx/>
                <a:latin typeface="Arial"/>
              </a:rPr>
              <a:t>Production de la semence cert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69 ha emblavés pour la production de semences de qualité (toute catégorie confond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Renouvellement des souches : 600 souches de nouvelles variétés (NERICA, Sahel 210) au CNRADA pour production de semences de pré ba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ur 21 établissements semenciers agréés, 15  engagés pour la production de semences pour la campagne 201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488 ha contrôlés par le CCQS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par l’Etat d’un fonds de sécurisation de la sem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611280" y="189000"/>
            <a:ext cx="822960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39560" y="1268280"/>
          <a:ext cx="8572680" cy="5156280"/>
        </p:xfrm>
        <a:graphic>
          <a:graphicData uri="http://schemas.openxmlformats.org/drawingml/2006/table">
            <a:tbl>
              <a:tblPr/>
              <a:tblGrid>
                <a:gridCol w="1714680"/>
                <a:gridCol w="1714320"/>
                <a:gridCol w="1714680"/>
                <a:gridCol w="1714320"/>
                <a:gridCol w="1714680"/>
              </a:tblGrid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Etabliss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uperficie emblavée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uperficie récoltée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endeme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t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Production en (tonn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P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2.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1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EL WE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6.8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EKP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5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AHFOU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8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7.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EJA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6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5.6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SD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PC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9.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C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5.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NRA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0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0.5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Tota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9.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7.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09.3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179280" y="1095480"/>
            <a:ext cx="792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Résultat des 69 ha pour la production de semences (appui APRA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itre 1"/>
          <p:cNvSpPr/>
          <p:nvPr/>
        </p:nvSpPr>
        <p:spPr>
          <a:xfrm>
            <a:off x="1333440" y="189000"/>
            <a:ext cx="754056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485640" y="1744560"/>
          <a:ext cx="8229600" cy="3000600"/>
        </p:xfrm>
        <a:graphic>
          <a:graphicData uri="http://schemas.openxmlformats.org/drawingml/2006/table">
            <a:tbl>
              <a:tblPr/>
              <a:tblGrid>
                <a:gridCol w="1176480"/>
                <a:gridCol w="1174680"/>
                <a:gridCol w="1176480"/>
                <a:gridCol w="1116000"/>
                <a:gridCol w="1285920"/>
                <a:gridCol w="1123920"/>
                <a:gridCol w="1176120"/>
              </a:tblGrid>
              <a:tr h="600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tégori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hel 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hel 2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hel 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rica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21, S44) </a:t>
                      </a: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hel 2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é base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0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2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6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4.2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6.8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.7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99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4.3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0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5.5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3.0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9.8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3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0.4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02" name="Rectangle 5"/>
          <p:cNvSpPr/>
          <p:nvPr/>
        </p:nvSpPr>
        <p:spPr>
          <a:xfrm>
            <a:off x="142920" y="4724280"/>
            <a:ext cx="85723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partition des 409.361 tonnes produites par APRAO par cat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gorie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0.686 tonnes de semences de pré b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.5 tonnes de semences de 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95.875 tonnes de la 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309.300 tonnes de la R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142920" y="1174680"/>
            <a:ext cx="86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Quantités de semences produites par APRAO  par variété et par catégorie (ton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106" name="Image 5" descr="C:\Users\Mamadou Diop\Documents\FAO\GIPD\GCP RAF 453 SPA\Photo\Mission 1\031.JPG"/>
          <p:cNvPicPr/>
          <p:nvPr/>
        </p:nvPicPr>
        <p:blipFill>
          <a:blip r:embed="rId2"/>
          <a:stretch/>
        </p:blipFill>
        <p:spPr>
          <a:xfrm>
            <a:off x="6942240" y="5072040"/>
            <a:ext cx="220176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66320" y="1039320"/>
            <a:ext cx="86742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b050"/>
                </a:solidFill>
                <a:uFillTx/>
                <a:latin typeface="Arial"/>
              </a:rPr>
              <a:t>Promotion de la semence certifi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ensibilisation la tutelle (MDR) qui libère un montant de 200 millions d’UM pour sécuriser la production des semences issues de parcelles agréées. Cette mesure a permis la sécurisation et la vente de 1761 tonnes de semences en 2011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par l’Etat pour la première fois d’un fonds de crédit  pour la sécurisation des semences certifiées 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acilitation de la signature de contrats entre la Direction de l’Agriculture, les établissements semenciers et le crédit Agrico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2 nouveaux agréments pour Etablissements semencier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5 émissions radio diffusées sur l’importance de l’utilisation de semences de qualité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74400" y="1844280"/>
            <a:ext cx="849636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b050"/>
                </a:solidFill>
                <a:uFillTx/>
                <a:latin typeface="Arial"/>
              </a:rPr>
              <a:t>Commercialisation des sem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rprofession des semences a été mieux organisée et ses capacités ont été renforcées par des formations appropriées , 2 GIEs de commercialisation  créés  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000- 2500 tonnes de semences certifiées produites et qui seront commercialisées en 20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113" name="Image 6" descr="C:\Users\Mamadou Diop\Documents\FAO\GIPD\GCP RAF 453 SPA\Photo\Mission 1\032.JPG"/>
          <p:cNvPicPr/>
          <p:nvPr/>
        </p:nvPicPr>
        <p:blipFill>
          <a:blip r:embed="rId2"/>
          <a:stretch/>
        </p:blipFill>
        <p:spPr>
          <a:xfrm>
            <a:off x="6072120" y="4714920"/>
            <a:ext cx="2222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560" y="1125360"/>
            <a:ext cx="849636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4.2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Pad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 u="sng">
                <a:solidFill>
                  <a:srgbClr val="00b050"/>
                </a:solidFill>
                <a:uFillTx/>
                <a:latin typeface="Arial"/>
              </a:rPr>
              <a:t>Form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laboration des curricula de formation technique (APRAO/GIP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en place de 15 CEP/APRAO riz et encadrement de 4 privés (400h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450 riziculteurs formés en Bonnes Pratiques Agricoles dans les sites de Rosso, Kaédi et Boghé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Formation de 45 AVB et Agents des structures d’encadrement (Appui consei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itre 1"/>
          <p:cNvSpPr/>
          <p:nvPr/>
        </p:nvSpPr>
        <p:spPr>
          <a:xfrm>
            <a:off x="1333440" y="115920"/>
            <a:ext cx="7558200" cy="720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428480"/>
            <a:ext cx="840096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fr-FR" sz="2400" spc="-1" strike="noStrike" u="sng">
                <a:solidFill>
                  <a:srgbClr val="00b050"/>
                </a:solidFill>
                <a:uFillTx/>
                <a:latin typeface="Arial"/>
              </a:rPr>
              <a:t>Paddy: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00 ha emblavés dont 100 ha en appui direct APRA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ise à disposition de 12 tonnes de semences certifiées, 56 tonnes d’engrais et 960 litres d’herbic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itre 1"/>
          <p:cNvSpPr/>
          <p:nvPr/>
        </p:nvSpPr>
        <p:spPr>
          <a:xfrm>
            <a:off x="1333440" y="189000"/>
            <a:ext cx="7604280" cy="7189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120" name="Image 5" descr="C:\Users\Mamadou Diop\Documents\FAO\GIPD\EP INT 606 GEF\CEP Riz 2011\Rosso\Photos\100_0309.JPG"/>
          <p:cNvPicPr/>
          <p:nvPr/>
        </p:nvPicPr>
        <p:blipFill>
          <a:blip r:embed="rId2"/>
          <a:stretch/>
        </p:blipFill>
        <p:spPr>
          <a:xfrm>
            <a:off x="108000" y="4005360"/>
            <a:ext cx="2663640" cy="2303280"/>
          </a:xfrm>
          <a:prstGeom prst="rect">
            <a:avLst/>
          </a:prstGeom>
          <a:ln w="0">
            <a:noFill/>
          </a:ln>
        </p:spPr>
      </p:pic>
      <p:pic>
        <p:nvPicPr>
          <p:cNvPr id="121" name="Image 6" descr="C:\Users\Mamadou Diop\Documents\FAO\GIPD\EP INT 606 GEF\CEP Riz 2011\Rosso\Photos\100_0250.JPG"/>
          <p:cNvPicPr/>
          <p:nvPr/>
        </p:nvPicPr>
        <p:blipFill>
          <a:blip r:embed="rId3"/>
          <a:stretch/>
        </p:blipFill>
        <p:spPr>
          <a:xfrm>
            <a:off x="2916360" y="4005360"/>
            <a:ext cx="2735280" cy="2303280"/>
          </a:xfrm>
          <a:prstGeom prst="rect">
            <a:avLst/>
          </a:prstGeom>
          <a:ln w="0">
            <a:noFill/>
          </a:ln>
        </p:spPr>
      </p:pic>
      <p:pic>
        <p:nvPicPr>
          <p:cNvPr id="122" name="Image 7" descr="C:\Users\Mamadou Diop\Documents\FAO\GIPD\EP INT 606 GEF\CEP Riz 2011\Rosso\Photos\100_0398.JPG"/>
          <p:cNvPicPr/>
          <p:nvPr/>
        </p:nvPicPr>
        <p:blipFill>
          <a:blip r:embed="rId4"/>
          <a:stretch/>
        </p:blipFill>
        <p:spPr>
          <a:xfrm>
            <a:off x="5796000" y="4005360"/>
            <a:ext cx="3141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395280" y="1628640"/>
          <a:ext cx="8537760" cy="4907160"/>
        </p:xfrm>
        <a:graphic>
          <a:graphicData uri="http://schemas.openxmlformats.org/drawingml/2006/table">
            <a:tbl>
              <a:tblPr/>
              <a:tblGrid>
                <a:gridCol w="1871640"/>
                <a:gridCol w="1362240"/>
                <a:gridCol w="1374480"/>
                <a:gridCol w="2000520"/>
                <a:gridCol w="1928880"/>
              </a:tblGrid>
              <a:tr h="631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ducte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ype de C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perficie (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ndement (t/h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duction (tonne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841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ouha O/ Mayou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unguène  F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reune 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5,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Garack  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,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0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lame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ketwechn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 Hamaid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iv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PGI mi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24" name="Titre 1"/>
          <p:cNvSpPr/>
          <p:nvPr/>
        </p:nvSpPr>
        <p:spPr>
          <a:xfrm>
            <a:off x="1333440" y="115920"/>
            <a:ext cx="7580520" cy="720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471240" y="98100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dement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auritanie : Zone d’interv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928880" y="714240"/>
            <a:ext cx="5344920" cy="5857920"/>
          </a:xfrm>
          <a:prstGeom prst="rect">
            <a:avLst/>
          </a:prstGeom>
          <a:ln w="0">
            <a:noFill/>
          </a:ln>
        </p:spPr>
      </p:pic>
      <p:pic>
        <p:nvPicPr>
          <p:cNvPr id="57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2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773360"/>
          <a:ext cx="8462880" cy="4627440"/>
        </p:xfrm>
        <a:graphic>
          <a:graphicData uri="http://schemas.openxmlformats.org/drawingml/2006/table">
            <a:tbl>
              <a:tblPr/>
              <a:tblGrid>
                <a:gridCol w="1944720"/>
                <a:gridCol w="1224000"/>
                <a:gridCol w="1365120"/>
                <a:gridCol w="2000160"/>
                <a:gridCol w="1928880"/>
              </a:tblGrid>
              <a:tr h="70164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ducteu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ype de C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perficie (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Rendement (t/h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duction (tonne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élinabé mix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iéwo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g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akha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10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ay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,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hialgo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,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ballagj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o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,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9068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5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  <p:sp>
        <p:nvSpPr>
          <p:cNvPr id="128" name="Rectangle 1"/>
          <p:cNvSpPr/>
          <p:nvPr/>
        </p:nvSpPr>
        <p:spPr>
          <a:xfrm>
            <a:off x="264960" y="1122480"/>
            <a:ext cx="305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Rendement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itre 1"/>
          <p:cNvSpPr/>
          <p:nvPr/>
        </p:nvSpPr>
        <p:spPr>
          <a:xfrm>
            <a:off x="1333440" y="115920"/>
            <a:ext cx="7580520" cy="79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68360" y="1125000"/>
            <a:ext cx="85075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Production totale  CEP: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  505,6 Ton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fr-FR" sz="2200" spc="-1" strike="noStrike">
                <a:solidFill>
                  <a:srgbClr val="00b050"/>
                </a:solidFill>
                <a:latin typeface="Arial"/>
              </a:rPr>
              <a:t>Rendement moyen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</a:rPr>
              <a:t>: 6 t/ha ne tenant pas compte des ennuis CEP de Garack (divagation des animaux) et de Thialgou (problème d'irrigation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Ce rendement est significativement important au regard de la moyenne nationale des rendements de riz </a:t>
            </a: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5,02 T/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</a:rPr>
              <a:t>La mise en place des CEP a permis d’encadrer et de former à l’approche GIPD </a:t>
            </a:r>
            <a:r>
              <a:rPr b="1" lang="fr-FR" sz="2200" spc="-1" strike="noStrike">
                <a:solidFill>
                  <a:srgbClr val="00b050"/>
                </a:solidFill>
                <a:latin typeface="Arial"/>
              </a:rPr>
              <a:t>450 producteurs/productrices</a:t>
            </a:r>
            <a:r>
              <a:rPr b="0" lang="fr-FR" sz="2200" spc="-1" strike="noStrike">
                <a:solidFill>
                  <a:srgbClr val="00b050"/>
                </a:solidFill>
                <a:latin typeface="Arial"/>
              </a:rPr>
              <a:t> de riz dans 3 régions: Rosso (Trarza), Boghé (Brakna) et Kaédi (Gorgol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b050"/>
                </a:solidFill>
                <a:latin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2060"/>
                </a:solidFill>
                <a:latin typeface="Arial"/>
              </a:rPr>
              <a:t>La formation des facilitateurs issus des structures d’encadrement des producteurs aux BPA a permis au projet de disposer de 45 Techniciens, AVB et Agents techniques des O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itre 1"/>
          <p:cNvSpPr/>
          <p:nvPr/>
        </p:nvSpPr>
        <p:spPr>
          <a:xfrm>
            <a:off x="1333440" y="189000"/>
            <a:ext cx="7507440" cy="79200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4. Résultats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(12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25440" y="1125360"/>
          <a:ext cx="8785080" cy="5699160"/>
        </p:xfrm>
        <a:graphic>
          <a:graphicData uri="http://schemas.openxmlformats.org/drawingml/2006/table">
            <a:tbl>
              <a:tblPr/>
              <a:tblGrid>
                <a:gridCol w="4392720"/>
                <a:gridCol w="4392360"/>
              </a:tblGrid>
              <a:tr h="5699880">
                <a:tc>
                  <a:txBody>
                    <a:bodyPr anchor="t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 u="sng">
                          <a:solidFill>
                            <a:srgbClr val="0000ff"/>
                          </a:solidFill>
                          <a:uFillTx/>
                          <a:latin typeface="Arial"/>
                          <a:ea typeface="Arial"/>
                        </a:rPr>
                        <a:t>Partenari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terprofessionnelle des Semences et Plants de Mauritanie (ISPM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Coopératives (3 au Gorgol, 5 au Brakna et 4 au Trarz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eurs privés (4 au Trarza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  <a:ea typeface="Arial"/>
                        </a:rPr>
                        <a:t>Riziers (1 au Brakna et 1 au Trarza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lnSpc>
                          <a:spcPct val="100000"/>
                        </a:lnSpc>
                        <a:buClr>
                          <a:srgbClr val="00b05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lvl="3" marL="13716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buClr>
                          <a:srgbClr val="002060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CNRADA, (Recherche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b05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CQSP, (Contrôle) 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SNAAT, (Aménagement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3" marL="13716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b05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 </a:t>
                      </a: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NADER, (Appui-consei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Titre 1"/>
          <p:cNvSpPr/>
          <p:nvPr/>
        </p:nvSpPr>
        <p:spPr>
          <a:xfrm>
            <a:off x="1333440" y="189000"/>
            <a:ext cx="7507440" cy="792000"/>
          </a:xfrm>
          <a:prstGeom prst="rect">
            <a:avLst/>
          </a:prstGeom>
          <a:solidFill>
            <a:srgbClr val="00b0f0"/>
          </a:solidFill>
          <a:ln w="9360">
            <a:solidFill>
              <a:srgbClr val="f9f9f9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ffffff"/>
                </a:solidFill>
                <a:latin typeface="Arial"/>
              </a:rPr>
              <a:t>5. Partenariat et synergie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33080" y="142560"/>
            <a:ext cx="73249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veloppement des synergies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204920"/>
          <a:ext cx="8715240" cy="5589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2941560"/>
                <a:gridCol w="3036960"/>
              </a:tblGrid>
              <a:tr h="74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jet de parten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ibution concrète du partenai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ibution du projet APRA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3292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NRA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de semences de pré bas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écurisation de la production de semences, préparation du sol, coût des autres intrants, frais Récolte,            conservation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quisition de semences de pré base et des souches de nouvelles variétés, formation  des cadres et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chercheurs, réhabilitation de 5 ha , acquisition de semences de pré -base et des souches de nouvelles variétés, formation  des cadres et des chercheur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548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NADE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pui-Consei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adrement des zones de productions, formation des                    Producteurs, formation du dispositif (AVB)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ion du dispositif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’appui-conseil po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compagner  le proj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39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33080" y="142560"/>
            <a:ext cx="732492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veloppement des synergies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(2)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285920"/>
          <a:ext cx="8715240" cy="5343480"/>
        </p:xfrm>
        <a:graphic>
          <a:graphicData uri="http://schemas.openxmlformats.org/drawingml/2006/table">
            <a:tbl>
              <a:tblPr/>
              <a:tblGrid>
                <a:gridCol w="1728720"/>
                <a:gridCol w="1366920"/>
                <a:gridCol w="1944360"/>
                <a:gridCol w="3675240"/>
              </a:tblGrid>
              <a:tr h="866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artenai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ujet de partenari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ibution concrète du partenair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tribution du projet APRA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63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P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ences certifié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roissement de la production de Semences certifiées, frais de labours, coût d’irrigation, frais récolte transport et gardiennage 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tion de semences de pré base , base, R1 et R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tion de l’engrais et herbici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ion de membres et techniciens de l’ISP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18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eurs de paddy (coopératives et privé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du pad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duction de paddy de qualit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quisition de semences certifiées (R2) , d’engrais et d’herbicid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rmation sur l’itinéraire technique de la rizicultur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pic>
        <p:nvPicPr>
          <p:cNvPr id="142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57200" y="1341000"/>
            <a:ext cx="85075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retard au démarrage des activités du proje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matériel et équipement non disponibles localeme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ficit pluviométrique 201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attaques aviaires ont causé beaucoup de dégâts au cours de la  présente campagne 2011-2012: Plus de 30% de la production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Titre 1"/>
          <p:cNvGrpSpPr/>
          <p:nvPr/>
        </p:nvGrpSpPr>
        <p:grpSpPr>
          <a:xfrm>
            <a:off x="1279440" y="-23760"/>
            <a:ext cx="7547040" cy="1279440"/>
            <a:chOff x="1279440" y="-23760"/>
            <a:chExt cx="7547040" cy="1279440"/>
          </a:xfrm>
        </p:grpSpPr>
        <p:pic>
          <p:nvPicPr>
            <p:cNvPr id="145" name="Titre 1" descr=""/>
            <p:cNvPicPr/>
            <p:nvPr/>
          </p:nvPicPr>
          <p:blipFill>
            <a:blip r:embed="rId1"/>
            <a:stretch/>
          </p:blipFill>
          <p:spPr>
            <a:xfrm>
              <a:off x="1279440" y="-23760"/>
              <a:ext cx="7547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333440" y="189000"/>
              <a:ext cx="743580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6. Principales contraint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2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b050"/>
                </a:solidFill>
                <a:latin typeface="Arial"/>
              </a:rPr>
              <a:t>Le projet  APRAO a permis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ver certaines contraintes à travers la mise à disposition des intrants (engrais et semences) de qual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nforcer les capacités techniques et organisationnelles et l’appui en équipement aux riziculteurs pour la production de riz de qual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enforcer les capacités des responsables et techniciens des établissements semencie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pitaliser les acquis de la GIPD et de faire bénéficier les producteurs de cette démarch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scrire l’intervention du projet dans la durée par la constitution de fonds de roulement (formation comités de ges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Titre 1"/>
          <p:cNvGrpSpPr/>
          <p:nvPr/>
        </p:nvGrpSpPr>
        <p:grpSpPr>
          <a:xfrm>
            <a:off x="1279440" y="49320"/>
            <a:ext cx="7547040" cy="1279440"/>
            <a:chOff x="1279440" y="49320"/>
            <a:chExt cx="7547040" cy="1279440"/>
          </a:xfrm>
        </p:grpSpPr>
        <p:pic>
          <p:nvPicPr>
            <p:cNvPr id="150" name="Titre 1" descr=""/>
            <p:cNvPicPr/>
            <p:nvPr/>
          </p:nvPicPr>
          <p:blipFill>
            <a:blip r:embed="rId1"/>
            <a:stretch/>
          </p:blipFill>
          <p:spPr>
            <a:xfrm>
              <a:off x="1279440" y="49320"/>
              <a:ext cx="754704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1333440" y="189000"/>
              <a:ext cx="743580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400" spc="-1" strike="noStrike">
                  <a:solidFill>
                    <a:srgbClr val="ffffff"/>
                  </a:solidFill>
                  <a:latin typeface="Arial"/>
                </a:rPr>
                <a:t>7. Conclusion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2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eurs et Facilitateurs dans le CEP de Ngoral Guidala (1/4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Trarza, un Facilitateur GIPD  (2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>
            <a:lum contrast="40000"/>
          </a:blip>
          <a:stretch/>
        </p:blipFill>
        <p:spPr>
          <a:xfrm>
            <a:off x="1403280" y="126828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Trarza  : Mission de supervision  M. Miezan (3/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1547640" y="1484280"/>
            <a:ext cx="61675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3440" y="201600"/>
            <a:ext cx="7353360" cy="72072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lbertus Medium"/>
              </a:rPr>
              <a:t>Plan de la prés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 Rounded MT Bold"/>
              </a:rPr>
              <a:t>Introduc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b05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b050"/>
                </a:solidFill>
                <a:latin typeface="Arial Rounded MT Bold"/>
              </a:rPr>
              <a:t>Objectifs du proje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00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ff"/>
                </a:solidFill>
                <a:latin typeface="Arial Rounded MT Bold"/>
              </a:rPr>
              <a:t>Stratégie d’interven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 Rounded MT Bold"/>
              </a:rPr>
              <a:t>Résult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b05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b050"/>
                </a:solidFill>
                <a:latin typeface="Arial Rounded MT Bold"/>
              </a:rPr>
              <a:t>Partenariat et synergi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00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ff"/>
                </a:solidFill>
                <a:latin typeface="Arial Rounded MT Bold"/>
              </a:rPr>
              <a:t>Perspectiv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00000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Arial Rounded MT Bold"/>
              </a:rPr>
              <a:t>Principales contrai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4ac68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4ac68"/>
                </a:solidFill>
                <a:latin typeface="Arial Rounded MT Bold"/>
              </a:rPr>
              <a:t>Conclusion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30000"/>
              </a:lnSpc>
              <a:spcBef>
                <a:spcPts val="675"/>
              </a:spcBef>
              <a:buClr>
                <a:srgbClr val="04ac68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5003640" y="3213000"/>
            <a:ext cx="414036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28760" y="8571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ite Trarza: Mise en sacs de la récolte (4/4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Image 3" descr=""/>
          <p:cNvPicPr/>
          <p:nvPr/>
        </p:nvPicPr>
        <p:blipFill>
          <a:blip r:embed="rId1"/>
          <a:stretch/>
        </p:blipFill>
        <p:spPr>
          <a:xfrm>
            <a:off x="1214280" y="714240"/>
            <a:ext cx="7129800" cy="52578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0" y="4941720"/>
            <a:ext cx="9144000" cy="10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fr-FR" sz="4000" spc="-1" strike="noStrike">
                <a:solidFill>
                  <a:srgbClr val="ffff00"/>
                </a:solidFill>
                <a:latin typeface="Arial"/>
              </a:rPr>
              <a:t>MERCI POUR VOTRE ATTEN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 algn="ctr">
              <a:spcBef>
                <a:spcPts val="499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12920" y="136440"/>
            <a:ext cx="7353360" cy="85104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1. Introduction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134100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En Mauritanie, le 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système de producti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rizicole dominant est 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ystème irrigué avec maîtrise totale de l’ea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roduction brute moyenne nationale du riz (hivernage et cont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saison chaude) est d’environ 81.000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La production en hivernage est la plus importante et contribue à plus d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83 % à la production totale en ri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Calibri"/>
              </a:rPr>
              <a:t>Besoins nationaux en riz : 150 000 T/a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duction nationale en riz : 60 000 t/an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ff"/>
                </a:solidFill>
                <a:latin typeface="Calibri"/>
              </a:rPr>
              <a:t>Potentiel irrigable = 135,000 ha dont 44.000 ha aménagés (32,6%)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uperficie mise en culture par an :  20 00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95280" y="357120"/>
            <a:ext cx="82296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95280" y="2143080"/>
          <a:ext cx="8358120" cy="4494240"/>
        </p:xfrm>
        <a:graphic>
          <a:graphicData uri="http://schemas.openxmlformats.org/drawingml/2006/table">
            <a:tbl>
              <a:tblPr/>
              <a:tblGrid>
                <a:gridCol w="3714840"/>
                <a:gridCol w="1311120"/>
                <a:gridCol w="1704960"/>
                <a:gridCol w="1627200"/>
              </a:tblGrid>
              <a:tr h="814320"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rodui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kg/tê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17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Population en 1000 hab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1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6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95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Riz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69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lé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</a:tr>
              <a:tr h="7351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utres céré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8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65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otal céréa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67" name="Rectangle 4"/>
          <p:cNvSpPr/>
          <p:nvPr/>
        </p:nvSpPr>
        <p:spPr>
          <a:xfrm>
            <a:off x="714240" y="1125360"/>
            <a:ext cx="78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soins en céréales d’ici 2015 (en 1000 ton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3440" y="204840"/>
            <a:ext cx="7291440" cy="77616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1. Introduction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TRODUCTION </a:t>
            </a:r>
            <a:r>
              <a:rPr b="0" lang="fr-FR" sz="2800" spc="-1" strike="noStrike">
                <a:solidFill>
                  <a:srgbClr val="0070c0"/>
                </a:solidFill>
                <a:latin typeface="Arial"/>
              </a:rPr>
              <a:t>suite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052640"/>
            <a:ext cx="86072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2 campagnes de riziculture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ivernage  (principal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tre-Saison-Chau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Variétés cultivé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hel 201, 10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 202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ont les plus répandu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G 380-2, Sahel 210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 NERICA ( S21, S44) sont des variétés introduites par le projet APRAO en partenariat avec le CNRAD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b050"/>
                </a:solidFill>
                <a:latin typeface="Arial"/>
              </a:rPr>
              <a:t>Dominance des variét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hel 201           4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ahel 202           3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he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          2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G  380-2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t NERICA (S21, S44)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0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11280" y="928800"/>
            <a:ext cx="8229600" cy="57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1333440" y="115920"/>
            <a:ext cx="7291440" cy="720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1. Introduction </a:t>
            </a: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75" name="Image 6" descr="C:\Users\Mamadou Diop\Documents\FAO\GIPD\GCP RAF 453 SPA\Photo\18082011170.jpg"/>
          <p:cNvPicPr/>
          <p:nvPr/>
        </p:nvPicPr>
        <p:blipFill>
          <a:blip r:embed="rId2"/>
          <a:stretch/>
        </p:blipFill>
        <p:spPr>
          <a:xfrm>
            <a:off x="5219640" y="4005360"/>
            <a:ext cx="359244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95280" y="1213920"/>
            <a:ext cx="83296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8a"/>
                </a:solidFill>
                <a:latin typeface="Arial"/>
                <a:ea typeface="Arial"/>
              </a:rPr>
              <a:t>Objectif général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Accroître la production nationale de 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2d2d8a"/>
                </a:solidFill>
                <a:latin typeface="Arial"/>
                <a:ea typeface="Arial"/>
              </a:rPr>
              <a:t>Objectifs spécifique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S-1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: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Elaborer et mettre en œuvre les politiques et législations semencières national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S-2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Renforcer les capacités des entreprises locales semencières dans les domaines de la production, le conditionnement, le stockage et la distribution de semences de qualité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S-3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mouvoir l'intensification durable des systèmes de production de riz en Mauritan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OS-4</a:t>
            </a: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:</a:t>
            </a:r>
            <a:r>
              <a:rPr b="0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Promouvoir la transformation et la commercialisation du riz de qualité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Objectifs du proje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68360" y="1052280"/>
            <a:ext cx="846144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 u="sng">
                <a:solidFill>
                  <a:srgbClr val="00b050"/>
                </a:solidFill>
                <a:uFillTx/>
                <a:latin typeface="Arial"/>
              </a:rPr>
              <a:t>Straté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lignement à la politique de développement de la rizicultur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Exploitation optimale des synergies avec toutes les initiatives en cour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ine des valeurs du riz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Promotion du rôle de la femm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dentification appropriée des bénéficiaires approprié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Appui en intrants 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fr-FR" sz="2400" spc="-1" strike="noStrike">
                <a:solidFill>
                  <a:srgbClr val="0000ff"/>
                </a:solidFill>
                <a:latin typeface="Arial"/>
              </a:rPr>
              <a:t>semences de qualité et engrais</a:t>
            </a:r>
            <a:r>
              <a:rPr b="0" lang="fr-FR" sz="2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itre 1"/>
          <p:cNvSpPr/>
          <p:nvPr/>
        </p:nvSpPr>
        <p:spPr>
          <a:xfrm>
            <a:off x="1333440" y="189000"/>
            <a:ext cx="756288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atégie d’intervention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5480" y="1197000"/>
            <a:ext cx="849636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b050"/>
                </a:solidFill>
                <a:uFillTx/>
                <a:latin typeface="Arial"/>
              </a:rPr>
              <a:t>Secteurs d’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mélioration de l’environnement socioéconomique du riz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emence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duction de Padd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ransformation et commercialis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itre 1"/>
          <p:cNvSpPr/>
          <p:nvPr/>
        </p:nvSpPr>
        <p:spPr>
          <a:xfrm>
            <a:off x="1333440" y="189000"/>
            <a:ext cx="7507440" cy="639720"/>
          </a:xfrm>
          <a:prstGeom prst="rect">
            <a:avLst/>
          </a:prstGeom>
          <a:solidFill>
            <a:srgbClr val="00b05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Stratégie d’intervention 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age 2" descr="https://snmail.fao.org/webmail/Makhfousse.Sarr/Bo%C3%AEte%20de%20r%C3%A9ception/RE:%20GCP_x005F_xF8FF_RAF_x005F_xF8FF_453_x005F_xF8FF_SPA%20-%20Projet%20Am%C3%A9lioration%20production%20riz%20(APRAO)%20-%20Nouvel%20LOGO.EML/1_multipart_x005F_xF8FF_2_logo_aprao_fr_Touf.png/C58EA28C-18C0-4a97-9AF2-036E93DDAFB3/logo_aprao_fr_Touf.png?attach=1"/>
          <p:cNvPicPr/>
          <p:nvPr/>
        </p:nvPicPr>
        <p:blipFill>
          <a:blip r:embed="rId1"/>
          <a:stretch/>
        </p:blipFill>
        <p:spPr>
          <a:xfrm>
            <a:off x="0" y="0"/>
            <a:ext cx="1333440" cy="1125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"/>
          <p:cNvPicPr/>
          <p:nvPr/>
        </p:nvPicPr>
        <p:blipFill>
          <a:blip r:embed="rId2"/>
          <a:stretch/>
        </p:blipFill>
        <p:spPr>
          <a:xfrm>
            <a:off x="5477040" y="2781360"/>
            <a:ext cx="32652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0:23:21Z</dcterms:created>
  <dc:creator>x</dc:creator>
  <dc:description/>
  <dc:language>en-US</dc:language>
  <cp:lastModifiedBy>Mamadou Diop</cp:lastModifiedBy>
  <dcterms:modified xsi:type="dcterms:W3CDTF">2012-05-31T10:24:19Z</dcterms:modified>
  <cp:revision>431</cp:revision>
  <dc:subject/>
  <dc:title>Les politiques de soutien à la filière rizicole au Sénégal</dc:title>
</cp:coreProperties>
</file>