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5B13-51A2-4D93-BB57-4557E62EF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9463-AD60-4960-82FB-BEF9E065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C226-2F3A-4C0A-98E7-74AAD2C12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3AB-3B69-49D6-BC60-515FCA48E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9F09-2AF0-46D9-B6E7-31515DD1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7C29-BC05-4510-A4EF-8F429873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B189-611A-4B39-AA41-D115BC712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A9D2-4541-403C-9893-BF625BB7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DBFD-C02B-41D8-9DF4-8C266C476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81F1-C742-4C32-8874-30BB1053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024C-FE3E-4A6A-84B1-CA3F2932F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062E-2BE4-44D6-BE02-466D9FE47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AE98-B3D6-49DB-AE0E-AED35F1922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2224080"/>
            <a:ext cx="87850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PR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telier Regional de mi-parcou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lbertus MT"/>
              </a:rPr>
              <a:t>Partenariat et Synergie dans la stratégie opérationnelle de la FA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08080"/>
                </a:solidFill>
                <a:latin typeface="Calibri"/>
              </a:rPr>
              <a:t>Robert G. Guei, Fonctionnaire technique principal-AG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sion de la FA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599840"/>
            <a:ext cx="40384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enari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nnaissance des avantages comparatifs des parten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7960" y="1599840"/>
            <a:ext cx="424476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illeure exploitation des syn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Rectangle 16"/>
          <p:cNvGrpSpPr/>
          <p:nvPr/>
        </p:nvGrpSpPr>
        <p:grpSpPr>
          <a:xfrm>
            <a:off x="115920" y="512640"/>
            <a:ext cx="8832960" cy="6242040"/>
            <a:chOff x="115920" y="512640"/>
            <a:chExt cx="8832960" cy="6242040"/>
          </a:xfrm>
        </p:grpSpPr>
        <p:pic>
          <p:nvPicPr>
            <p:cNvPr id="82" name="Rectangle 16" descr=""/>
            <p:cNvPicPr/>
            <p:nvPr/>
          </p:nvPicPr>
          <p:blipFill>
            <a:blip r:embed="rId1"/>
            <a:stretch/>
          </p:blipFill>
          <p:spPr>
            <a:xfrm>
              <a:off x="115920" y="512640"/>
              <a:ext cx="8832960" cy="624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79280" y="549360"/>
              <a:ext cx="8713800" cy="611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40"/>
          <p:cNvGrpSpPr/>
          <p:nvPr/>
        </p:nvGrpSpPr>
        <p:grpSpPr>
          <a:xfrm>
            <a:off x="395280" y="333360"/>
            <a:ext cx="8353440" cy="6264360"/>
            <a:chOff x="395280" y="333360"/>
            <a:chExt cx="8353440" cy="6264360"/>
          </a:xfrm>
        </p:grpSpPr>
        <p:grpSp>
          <p:nvGrpSpPr>
            <p:cNvPr id="85" name="Rectangle 23"/>
            <p:cNvGrpSpPr/>
            <p:nvPr/>
          </p:nvGrpSpPr>
          <p:grpSpPr>
            <a:xfrm>
              <a:off x="3612600" y="333360"/>
              <a:ext cx="1918440" cy="1082160"/>
              <a:chOff x="3612600" y="333360"/>
              <a:chExt cx="1918440" cy="1082160"/>
            </a:xfrm>
          </p:grpSpPr>
          <p:pic>
            <p:nvPicPr>
              <p:cNvPr id="86" name="Rectangle 23" descr=""/>
              <p:cNvPicPr/>
              <p:nvPr/>
            </p:nvPicPr>
            <p:blipFill>
              <a:blip r:embed="rId2"/>
              <a:stretch/>
            </p:blipFill>
            <p:spPr>
              <a:xfrm>
                <a:off x="3612600" y="333360"/>
                <a:ext cx="1918440" cy="1082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" name=""/>
              <p:cNvSpPr/>
              <p:nvPr/>
            </p:nvSpPr>
            <p:spPr>
              <a:xfrm>
                <a:off x="3935520" y="634320"/>
                <a:ext cx="1278720" cy="63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400" spc="-1" strike="noStrike">
                    <a:solidFill>
                      <a:srgbClr val="ffffff"/>
                    </a:solidFill>
                    <a:latin typeface="Arial"/>
                  </a:rPr>
                  <a:t>AG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Oval 3"/>
            <p:cNvGrpSpPr/>
            <p:nvPr/>
          </p:nvGrpSpPr>
          <p:grpSpPr>
            <a:xfrm>
              <a:off x="395280" y="1192320"/>
              <a:ext cx="8353440" cy="5405400"/>
              <a:chOff x="395280" y="1192320"/>
              <a:chExt cx="8353440" cy="5405400"/>
            </a:xfrm>
          </p:grpSpPr>
          <p:pic>
            <p:nvPicPr>
              <p:cNvPr id="89" name="Oval 3" descr=""/>
              <p:cNvPicPr/>
              <p:nvPr/>
            </p:nvPicPr>
            <p:blipFill>
              <a:blip r:embed="rId3"/>
              <a:stretch/>
            </p:blipFill>
            <p:spPr>
              <a:xfrm>
                <a:off x="395280" y="1192320"/>
                <a:ext cx="8353440" cy="540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1661400" y="2004120"/>
                <a:ext cx="5826960" cy="374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" name="Oval 4"/>
          <p:cNvGrpSpPr/>
          <p:nvPr/>
        </p:nvGrpSpPr>
        <p:grpSpPr>
          <a:xfrm>
            <a:off x="1122480" y="2090880"/>
            <a:ext cx="4144680" cy="2309760"/>
            <a:chOff x="1122480" y="2090880"/>
            <a:chExt cx="4144680" cy="2309760"/>
          </a:xfrm>
        </p:grpSpPr>
        <p:pic>
          <p:nvPicPr>
            <p:cNvPr id="92" name="Oval 4" descr=""/>
            <p:cNvPicPr/>
            <p:nvPr/>
          </p:nvPicPr>
          <p:blipFill>
            <a:blip r:embed="rId4"/>
            <a:stretch/>
          </p:blipFill>
          <p:spPr>
            <a:xfrm>
              <a:off x="1122480" y="2090880"/>
              <a:ext cx="4144680" cy="230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1776240" y="2452680"/>
              <a:ext cx="2843280" cy="15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G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_s1029"/>
          <p:cNvSpPr/>
          <p:nvPr/>
        </p:nvSpPr>
        <p:spPr>
          <a:xfrm>
            <a:off x="2195640" y="1341360"/>
            <a:ext cx="48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Oval 6"/>
          <p:cNvGrpSpPr/>
          <p:nvPr/>
        </p:nvGrpSpPr>
        <p:grpSpPr>
          <a:xfrm>
            <a:off x="4438800" y="1663560"/>
            <a:ext cx="3498840" cy="2573640"/>
            <a:chOff x="4438800" y="1663560"/>
            <a:chExt cx="3498840" cy="2573640"/>
          </a:xfrm>
        </p:grpSpPr>
        <p:pic>
          <p:nvPicPr>
            <p:cNvPr id="96" name="Oval 6" descr=""/>
            <p:cNvPicPr/>
            <p:nvPr/>
          </p:nvPicPr>
          <p:blipFill>
            <a:blip r:embed="rId5"/>
            <a:stretch/>
          </p:blipFill>
          <p:spPr>
            <a:xfrm>
              <a:off x="4438800" y="1663560"/>
              <a:ext cx="3498840" cy="257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995720" y="2058840"/>
              <a:ext cx="2392560" cy="17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AG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13"/>
          <p:cNvGrpSpPr/>
          <p:nvPr/>
        </p:nvGrpSpPr>
        <p:grpSpPr>
          <a:xfrm>
            <a:off x="3276720" y="836640"/>
            <a:ext cx="2590560" cy="2663640"/>
            <a:chOff x="3276720" y="836640"/>
            <a:chExt cx="2590560" cy="2663640"/>
          </a:xfrm>
        </p:grpSpPr>
        <p:grpSp>
          <p:nvGrpSpPr>
            <p:cNvPr id="99" name="Oval 6"/>
            <p:cNvGrpSpPr/>
            <p:nvPr/>
          </p:nvGrpSpPr>
          <p:grpSpPr>
            <a:xfrm>
              <a:off x="3276720" y="836640"/>
              <a:ext cx="2590560" cy="2663640"/>
              <a:chOff x="3276720" y="836640"/>
              <a:chExt cx="2590560" cy="2663640"/>
            </a:xfrm>
          </p:grpSpPr>
          <p:pic>
            <p:nvPicPr>
              <p:cNvPr id="100" name="Oval 6" descr=""/>
              <p:cNvPicPr/>
              <p:nvPr/>
            </p:nvPicPr>
            <p:blipFill>
              <a:blip r:embed="rId6"/>
              <a:stretch/>
            </p:blipFill>
            <p:spPr>
              <a:xfrm>
                <a:off x="3276720" y="836640"/>
                <a:ext cx="2590560" cy="2663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3703320" y="1249920"/>
                <a:ext cx="1742760" cy="179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TextBox 20"/>
            <p:cNvSpPr/>
            <p:nvPr/>
          </p:nvSpPr>
          <p:spPr>
            <a:xfrm>
              <a:off x="3958560" y="1701360"/>
              <a:ext cx="1026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G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14"/>
          <p:cNvGrpSpPr/>
          <p:nvPr/>
        </p:nvGrpSpPr>
        <p:grpSpPr>
          <a:xfrm>
            <a:off x="2843280" y="3068640"/>
            <a:ext cx="2665440" cy="2736720"/>
            <a:chOff x="2843280" y="3068640"/>
            <a:chExt cx="2665440" cy="2736720"/>
          </a:xfrm>
        </p:grpSpPr>
        <p:grpSp>
          <p:nvGrpSpPr>
            <p:cNvPr id="104" name="Oval 6"/>
            <p:cNvGrpSpPr/>
            <p:nvPr/>
          </p:nvGrpSpPr>
          <p:grpSpPr>
            <a:xfrm>
              <a:off x="2843280" y="3068640"/>
              <a:ext cx="2665440" cy="2736720"/>
              <a:chOff x="2843280" y="3068640"/>
              <a:chExt cx="2665440" cy="2736720"/>
            </a:xfrm>
          </p:grpSpPr>
          <p:pic>
            <p:nvPicPr>
              <p:cNvPr id="105" name="Oval 6" descr=""/>
              <p:cNvPicPr/>
              <p:nvPr/>
            </p:nvPicPr>
            <p:blipFill>
              <a:blip r:embed="rId7"/>
              <a:stretch/>
            </p:blipFill>
            <p:spPr>
              <a:xfrm>
                <a:off x="2843280" y="3068640"/>
                <a:ext cx="2665440" cy="273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>
                <a:off x="3276720" y="3493800"/>
                <a:ext cx="1798560" cy="184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TextBox 21"/>
            <p:cNvSpPr/>
            <p:nvPr/>
          </p:nvSpPr>
          <p:spPr>
            <a:xfrm>
              <a:off x="3454200" y="5033880"/>
              <a:ext cx="144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G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2"/>
          <p:cNvGrpSpPr/>
          <p:nvPr/>
        </p:nvGrpSpPr>
        <p:grpSpPr>
          <a:xfrm>
            <a:off x="4572000" y="2637000"/>
            <a:ext cx="2808360" cy="2808000"/>
            <a:chOff x="4572000" y="2637000"/>
            <a:chExt cx="2808360" cy="2808000"/>
          </a:xfrm>
        </p:grpSpPr>
        <p:grpSp>
          <p:nvGrpSpPr>
            <p:cNvPr id="109" name="Oval 5"/>
            <p:cNvGrpSpPr/>
            <p:nvPr/>
          </p:nvGrpSpPr>
          <p:grpSpPr>
            <a:xfrm>
              <a:off x="4572000" y="2637000"/>
              <a:ext cx="2808360" cy="2808000"/>
              <a:chOff x="4572000" y="2637000"/>
              <a:chExt cx="2808360" cy="2808000"/>
            </a:xfrm>
          </p:grpSpPr>
          <p:pic>
            <p:nvPicPr>
              <p:cNvPr id="110" name="Oval 5" descr=""/>
              <p:cNvPicPr/>
              <p:nvPr/>
            </p:nvPicPr>
            <p:blipFill>
              <a:blip r:embed="rId8"/>
              <a:stretch/>
            </p:blipFill>
            <p:spPr>
              <a:xfrm>
                <a:off x="4572000" y="2637000"/>
                <a:ext cx="2808360" cy="280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5029200" y="3068280"/>
                <a:ext cx="1897920" cy="189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Box 22"/>
            <p:cNvSpPr/>
            <p:nvPr/>
          </p:nvSpPr>
          <p:spPr>
            <a:xfrm>
              <a:off x="5599440" y="4326840"/>
              <a:ext cx="1032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G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700280"/>
            <a:ext cx="3610080" cy="4465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ctions des acteurs non coordonné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 acteurs ne se connaissent 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de synergie, ni complementarité dans les interv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076720" y="1700280"/>
            <a:ext cx="3888000" cy="4392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te  en efficacité, en temps et mauvaise utilisation des res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plication des eff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d’impact no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 de visibilit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lIns="64440" rIns="64440" tIns="32040" bIns="320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 Antiqua"/>
              </a:rPr>
              <a:t>Projets intégrateur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ight Arrow 7"/>
          <p:cNvSpPr/>
          <p:nvPr/>
        </p:nvSpPr>
        <p:spPr>
          <a:xfrm>
            <a:off x="4211640" y="3789360"/>
            <a:ext cx="647640" cy="189000"/>
          </a:xfrm>
          <a:prstGeom prst="rightArrow">
            <a:avLst>
              <a:gd name="adj1" fmla="val 50000"/>
              <a:gd name="adj2" fmla="val 5016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Group 35" descr=""/>
          <p:cNvPicPr/>
          <p:nvPr/>
        </p:nvPicPr>
        <p:blipFill>
          <a:blip r:embed="rId1"/>
          <a:stretch/>
        </p:blipFill>
        <p:spPr>
          <a:xfrm>
            <a:off x="2962440" y="4479840"/>
            <a:ext cx="3646440" cy="1542960"/>
          </a:xfrm>
          <a:prstGeom prst="rect">
            <a:avLst/>
          </a:prstGeom>
          <a:ln w="0">
            <a:noFill/>
          </a:ln>
        </p:spPr>
      </p:pic>
      <p:pic>
        <p:nvPicPr>
          <p:cNvPr id="118" name="Group 34" descr=""/>
          <p:cNvPicPr/>
          <p:nvPr/>
        </p:nvPicPr>
        <p:blipFill>
          <a:blip r:embed="rId2"/>
          <a:stretch/>
        </p:blipFill>
        <p:spPr>
          <a:xfrm>
            <a:off x="4048200" y="603360"/>
            <a:ext cx="3206520" cy="2749320"/>
          </a:xfrm>
          <a:prstGeom prst="rect">
            <a:avLst/>
          </a:prstGeom>
          <a:ln w="0">
            <a:noFill/>
          </a:ln>
        </p:spPr>
      </p:pic>
      <p:pic>
        <p:nvPicPr>
          <p:cNvPr id="119" name="Group 31" descr=""/>
          <p:cNvPicPr/>
          <p:nvPr/>
        </p:nvPicPr>
        <p:blipFill>
          <a:blip r:embed="rId3"/>
          <a:stretch/>
        </p:blipFill>
        <p:spPr>
          <a:xfrm>
            <a:off x="2919240" y="3144960"/>
            <a:ext cx="2049480" cy="1573200"/>
          </a:xfrm>
          <a:prstGeom prst="rect">
            <a:avLst/>
          </a:prstGeom>
          <a:ln w="0">
            <a:noFill/>
          </a:ln>
        </p:spPr>
      </p:pic>
      <p:pic>
        <p:nvPicPr>
          <p:cNvPr id="120" name="Group 32" descr=""/>
          <p:cNvPicPr/>
          <p:nvPr/>
        </p:nvPicPr>
        <p:blipFill>
          <a:blip r:embed="rId4"/>
          <a:stretch/>
        </p:blipFill>
        <p:spPr>
          <a:xfrm>
            <a:off x="3621240" y="2511360"/>
            <a:ext cx="2036520" cy="94464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3" descr=""/>
          <p:cNvPicPr/>
          <p:nvPr/>
        </p:nvPicPr>
        <p:blipFill>
          <a:blip r:embed="rId5"/>
          <a:stretch/>
        </p:blipFill>
        <p:spPr>
          <a:xfrm>
            <a:off x="1158840" y="3633840"/>
            <a:ext cx="1657440" cy="1157400"/>
          </a:xfrm>
          <a:prstGeom prst="rect">
            <a:avLst/>
          </a:prstGeom>
          <a:ln w="0">
            <a:noFill/>
          </a:ln>
        </p:spPr>
      </p:pic>
      <p:pic>
        <p:nvPicPr>
          <p:cNvPr id="122" name="Oval 25" descr=""/>
          <p:cNvPicPr/>
          <p:nvPr/>
        </p:nvPicPr>
        <p:blipFill>
          <a:blip r:embed="rId6"/>
          <a:stretch/>
        </p:blipFill>
        <p:spPr>
          <a:xfrm>
            <a:off x="1152360" y="1932120"/>
            <a:ext cx="1498680" cy="139680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30"/>
          <p:cNvGrpSpPr/>
          <p:nvPr/>
        </p:nvGrpSpPr>
        <p:grpSpPr>
          <a:xfrm>
            <a:off x="976320" y="1779480"/>
            <a:ext cx="1909800" cy="3365640"/>
            <a:chOff x="976320" y="1779480"/>
            <a:chExt cx="1909800" cy="3365640"/>
          </a:xfrm>
        </p:grpSpPr>
        <p:sp>
          <p:nvSpPr>
            <p:cNvPr id="124" name="Oval 26"/>
            <p:cNvSpPr/>
            <p:nvPr/>
          </p:nvSpPr>
          <p:spPr>
            <a:xfrm>
              <a:off x="976320" y="1779480"/>
              <a:ext cx="1909800" cy="33656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TextBox 27" descr=""/>
            <p:cNvPicPr/>
            <p:nvPr/>
          </p:nvPicPr>
          <p:blipFill>
            <a:blip r:embed="rId7"/>
            <a:stretch/>
          </p:blipFill>
          <p:spPr>
            <a:xfrm>
              <a:off x="1450800" y="2822400"/>
              <a:ext cx="1018080" cy="116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6" name="Group 33" descr=""/>
          <p:cNvPicPr/>
          <p:nvPr/>
        </p:nvPicPr>
        <p:blipFill>
          <a:blip r:embed="rId8"/>
          <a:stretch/>
        </p:blipFill>
        <p:spPr>
          <a:xfrm>
            <a:off x="5048280" y="3389400"/>
            <a:ext cx="2663640" cy="109692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23" descr=""/>
          <p:cNvPicPr/>
          <p:nvPr/>
        </p:nvPicPr>
        <p:blipFill>
          <a:blip r:embed="rId9"/>
          <a:stretch/>
        </p:blipFill>
        <p:spPr>
          <a:xfrm>
            <a:off x="2932200" y="324000"/>
            <a:ext cx="3749760" cy="95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RA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 premiers résultats promet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soin de paufiner l’approc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Vendeuse riz blan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"/>
          <p:cNvSpPr/>
          <p:nvPr/>
        </p:nvSpPr>
        <p:spPr>
          <a:xfrm rot="21339600">
            <a:off x="762120" y="3505320"/>
            <a:ext cx="6476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Rage Italic"/>
              </a:rPr>
              <a:t>Thank you 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"/>
          <p:cNvSpPr/>
          <p:nvPr/>
        </p:nvSpPr>
        <p:spPr>
          <a:xfrm rot="10800000">
            <a:off x="2118960" y="2742840"/>
            <a:ext cx="3809880" cy="2209680"/>
          </a:xfrm>
          <a:prstGeom prst="wedgeEllipseCallout">
            <a:avLst>
              <a:gd name="adj1" fmla="val -44583"/>
              <a:gd name="adj2" fmla="val 96189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7010280" y="457200"/>
            <a:ext cx="2057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Merci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6"/>
          <p:cNvSpPr/>
          <p:nvPr/>
        </p:nvSpPr>
        <p:spPr>
          <a:xfrm>
            <a:off x="6867360" y="380880"/>
            <a:ext cx="2133720" cy="914400"/>
          </a:xfrm>
          <a:prstGeom prst="cloudCallout">
            <a:avLst>
              <a:gd name="adj1" fmla="val -36458"/>
              <a:gd name="adj2" fmla="val 64236"/>
            </a:avLst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lide Number Placeholder 1"/>
          <p:cNvSpPr/>
          <p:nvPr/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B235-AF72-4E90-96BD-14F9A2C0EEFA}" type="slidenum">
              <a:rPr b="0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Title 1" descr=""/>
          <p:cNvPicPr/>
          <p:nvPr/>
        </p:nvPicPr>
        <p:blipFill>
          <a:blip r:embed="rId1"/>
          <a:stretch/>
        </p:blipFill>
        <p:spPr>
          <a:xfrm>
            <a:off x="384120" y="1762200"/>
            <a:ext cx="7942320" cy="4906800"/>
          </a:xfrm>
          <a:prstGeom prst="rect">
            <a:avLst/>
          </a:prstGeom>
          <a:ln w="0">
            <a:noFill/>
          </a:ln>
        </p:spPr>
      </p:pic>
      <p:sp>
        <p:nvSpPr>
          <p:cNvPr id="44" name="Rounded Rectangle 4"/>
          <p:cNvSpPr/>
          <p:nvPr/>
        </p:nvSpPr>
        <p:spPr>
          <a:xfrm>
            <a:off x="2050920" y="692280"/>
            <a:ext cx="5185080" cy="1008000"/>
          </a:xfrm>
          <a:prstGeom prst="roundRect">
            <a:avLst>
              <a:gd name="adj" fmla="val 16667"/>
            </a:avLst>
          </a:prstGeom>
          <a:solidFill>
            <a:srgbClr val="2d2d8a"/>
          </a:solidFill>
          <a:ln w="25560">
            <a:solidFill>
              <a:srgbClr val="1e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lbertus MT"/>
              </a:rPr>
              <a:t>Grands défis mondiau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ctangle 2" descr=""/>
          <p:cNvPicPr/>
          <p:nvPr/>
        </p:nvPicPr>
        <p:blipFill>
          <a:blip r:embed="rId1"/>
          <a:stretch/>
        </p:blipFill>
        <p:spPr>
          <a:xfrm>
            <a:off x="414360" y="1127160"/>
            <a:ext cx="8199360" cy="36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Rectangle 4" descr=""/>
          <p:cNvPicPr/>
          <p:nvPr/>
        </p:nvPicPr>
        <p:blipFill>
          <a:blip r:embed="rId1"/>
          <a:stretch/>
        </p:blipFill>
        <p:spPr>
          <a:xfrm>
            <a:off x="341280" y="1731960"/>
            <a:ext cx="8290080" cy="4456080"/>
          </a:xfrm>
          <a:prstGeom prst="rect">
            <a:avLst/>
          </a:prstGeom>
          <a:ln w="0">
            <a:noFill/>
          </a:ln>
        </p:spPr>
      </p:pic>
      <p:grpSp>
        <p:nvGrpSpPr>
          <p:cNvPr id="47" name="Rounded Rectangle 2"/>
          <p:cNvGrpSpPr/>
          <p:nvPr/>
        </p:nvGrpSpPr>
        <p:grpSpPr>
          <a:xfrm>
            <a:off x="1560600" y="298440"/>
            <a:ext cx="6308640" cy="969840"/>
            <a:chOff x="1560600" y="298440"/>
            <a:chExt cx="6308640" cy="969840"/>
          </a:xfrm>
        </p:grpSpPr>
        <p:pic>
          <p:nvPicPr>
            <p:cNvPr id="48" name="Rounded Rectangle 2" descr=""/>
            <p:cNvPicPr/>
            <p:nvPr/>
          </p:nvPicPr>
          <p:blipFill>
            <a:blip r:embed="rId2"/>
            <a:stretch/>
          </p:blipFill>
          <p:spPr>
            <a:xfrm>
              <a:off x="1560600" y="298440"/>
              <a:ext cx="630864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1662120" y="374760"/>
              <a:ext cx="61088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09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32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La revolution vert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ight Arrow 3"/>
          <p:cNvSpPr/>
          <p:nvPr/>
        </p:nvSpPr>
        <p:spPr>
          <a:xfrm>
            <a:off x="611280" y="3284640"/>
            <a:ext cx="144360" cy="46080"/>
          </a:xfrm>
          <a:prstGeom prst="rightArrow">
            <a:avLst>
              <a:gd name="adj1" fmla="val 50000"/>
              <a:gd name="adj2" fmla="val 4973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ounded Rectangle 2"/>
          <p:cNvGrpSpPr/>
          <p:nvPr/>
        </p:nvGrpSpPr>
        <p:grpSpPr>
          <a:xfrm>
            <a:off x="476280" y="469800"/>
            <a:ext cx="8039160" cy="1157400"/>
            <a:chOff x="476280" y="469800"/>
            <a:chExt cx="8039160" cy="1157400"/>
          </a:xfrm>
        </p:grpSpPr>
        <p:pic>
          <p:nvPicPr>
            <p:cNvPr id="52" name="Rounded Rectangle 2" descr=""/>
            <p:cNvPicPr/>
            <p:nvPr/>
          </p:nvPicPr>
          <p:blipFill>
            <a:blip r:embed="rId1"/>
            <a:stretch/>
          </p:blipFill>
          <p:spPr>
            <a:xfrm>
              <a:off x="476280" y="469800"/>
              <a:ext cx="80391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57360" y="666720"/>
              <a:ext cx="775800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Un nouveau paradigm:  Intensification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durable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 de la production des cultures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Picture 2" descr="SG-en.jpg"/>
          <p:cNvPicPr/>
          <p:nvPr/>
        </p:nvPicPr>
        <p:blipFill>
          <a:blip r:embed="rId2"/>
          <a:stretch/>
        </p:blipFill>
        <p:spPr>
          <a:xfrm>
            <a:off x="2411280" y="1700280"/>
            <a:ext cx="3856320" cy="331308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4" descr=""/>
          <p:cNvPicPr/>
          <p:nvPr/>
        </p:nvPicPr>
        <p:blipFill>
          <a:blip r:embed="rId3"/>
          <a:stretch/>
        </p:blipFill>
        <p:spPr>
          <a:xfrm>
            <a:off x="1322280" y="5456160"/>
            <a:ext cx="6566040" cy="92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Rectangle 1" descr=""/>
          <p:cNvPicPr/>
          <p:nvPr/>
        </p:nvPicPr>
        <p:blipFill>
          <a:blip r:embed="rId1"/>
          <a:stretch/>
        </p:blipFill>
        <p:spPr>
          <a:xfrm>
            <a:off x="554040" y="1731960"/>
            <a:ext cx="8156520" cy="4881600"/>
          </a:xfrm>
          <a:prstGeom prst="rect">
            <a:avLst/>
          </a:prstGeom>
          <a:ln w="0">
            <a:noFill/>
          </a:ln>
        </p:spPr>
      </p:pic>
      <p:grpSp>
        <p:nvGrpSpPr>
          <p:cNvPr id="57" name="Rounded Rectangle 2"/>
          <p:cNvGrpSpPr/>
          <p:nvPr/>
        </p:nvGrpSpPr>
        <p:grpSpPr>
          <a:xfrm>
            <a:off x="476280" y="469800"/>
            <a:ext cx="8039160" cy="1157400"/>
            <a:chOff x="476280" y="469800"/>
            <a:chExt cx="8039160" cy="1157400"/>
          </a:xfrm>
        </p:grpSpPr>
        <p:pic>
          <p:nvPicPr>
            <p:cNvPr id="58" name="Rounded Rectangle 2" descr=""/>
            <p:cNvPicPr/>
            <p:nvPr/>
          </p:nvPicPr>
          <p:blipFill>
            <a:blip r:embed="rId2"/>
            <a:stretch/>
          </p:blipFill>
          <p:spPr>
            <a:xfrm>
              <a:off x="476280" y="469800"/>
              <a:ext cx="803916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57360" y="666720"/>
              <a:ext cx="775800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Un nouveau paradigm:  Intensification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durable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 de la production des culture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Rounded Rectangle 1"/>
          <p:cNvGrpSpPr/>
          <p:nvPr/>
        </p:nvGrpSpPr>
        <p:grpSpPr>
          <a:xfrm>
            <a:off x="433440" y="798480"/>
            <a:ext cx="8021520" cy="1620720"/>
            <a:chOff x="433440" y="798480"/>
            <a:chExt cx="8021520" cy="1620720"/>
          </a:xfrm>
        </p:grpSpPr>
        <p:pic>
          <p:nvPicPr>
            <p:cNvPr id="61" name="Rounded Rectangle 1" descr=""/>
            <p:cNvPicPr/>
            <p:nvPr/>
          </p:nvPicPr>
          <p:blipFill>
            <a:blip r:embed="rId1"/>
            <a:stretch/>
          </p:blipFill>
          <p:spPr>
            <a:xfrm>
              <a:off x="433440" y="798480"/>
              <a:ext cx="8021520" cy="16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12720" y="911160"/>
              <a:ext cx="7702560" cy="13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Recommandation de COAG (21-25 May 2012):   Intensification </a:t>
              </a: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durable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 de la production agricol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TextBox 2"/>
          <p:cNvSpPr/>
          <p:nvPr/>
        </p:nvSpPr>
        <p:spPr>
          <a:xfrm>
            <a:off x="324000" y="278136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égration agriculture – élev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égration agriculture – Pisc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ndre en compte la réduction des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tes et gaspillages post récol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ndre en compte les aspects d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trition et de la santé des alim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Rectangle 1" descr=""/>
          <p:cNvPicPr/>
          <p:nvPr/>
        </p:nvPicPr>
        <p:blipFill>
          <a:blip r:embed="rId1"/>
          <a:stretch/>
        </p:blipFill>
        <p:spPr>
          <a:xfrm>
            <a:off x="384120" y="2914560"/>
            <a:ext cx="8089920" cy="1663920"/>
          </a:xfrm>
          <a:prstGeom prst="rect">
            <a:avLst/>
          </a:prstGeom>
          <a:ln w="0">
            <a:noFill/>
          </a:ln>
        </p:spPr>
      </p:pic>
      <p:grpSp>
        <p:nvGrpSpPr>
          <p:cNvPr id="65" name="Rounded Rectangle 2"/>
          <p:cNvGrpSpPr/>
          <p:nvPr/>
        </p:nvGrpSpPr>
        <p:grpSpPr>
          <a:xfrm>
            <a:off x="1127160" y="719280"/>
            <a:ext cx="6450120" cy="907920"/>
            <a:chOff x="1127160" y="719280"/>
            <a:chExt cx="6450120" cy="907920"/>
          </a:xfrm>
        </p:grpSpPr>
        <p:pic>
          <p:nvPicPr>
            <p:cNvPr id="66" name="Rounded Rectangle 2" descr=""/>
            <p:cNvPicPr/>
            <p:nvPr/>
          </p:nvPicPr>
          <p:blipFill>
            <a:blip r:embed="rId2"/>
            <a:stretch/>
          </p:blipFill>
          <p:spPr>
            <a:xfrm>
              <a:off x="1127160" y="719280"/>
              <a:ext cx="6450120" cy="90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1225440" y="803160"/>
              <a:ext cx="625968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Arial"/>
                </a:rPr>
                <a:t>Principale caractéristiqu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2"/>
          <p:cNvSpPr/>
          <p:nvPr/>
        </p:nvSpPr>
        <p:spPr>
          <a:xfrm rot="16200000">
            <a:off x="680760" y="2206440"/>
            <a:ext cx="1868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Book Antiqua"/>
              </a:rPr>
              <a:t>Système Semenci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4"/>
          <p:cNvSpPr/>
          <p:nvPr/>
        </p:nvSpPr>
        <p:spPr>
          <a:xfrm rot="16200000">
            <a:off x="3509640" y="1970280"/>
            <a:ext cx="1974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ff0000"/>
                </a:solidFill>
                <a:latin typeface="Albertus Medium"/>
              </a:rPr>
              <a:t>Intensification  durable de la prod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7"/>
          <p:cNvSpPr/>
          <p:nvPr/>
        </p:nvSpPr>
        <p:spPr>
          <a:xfrm rot="16200000">
            <a:off x="6705360" y="2087640"/>
            <a:ext cx="1942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lbertus Medium"/>
              </a:rPr>
              <a:t>Transformation et accès au march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23"/>
          <p:cNvSpPr/>
          <p:nvPr/>
        </p:nvSpPr>
        <p:spPr>
          <a:xfrm>
            <a:off x="775800" y="620640"/>
            <a:ext cx="7030440" cy="7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4440" rIns="64440" tIns="32040" bIns="32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Book Antiqua"/>
              </a:rPr>
              <a:t>Mise en oeuvre de la vision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16"/>
          <p:cNvSpPr/>
          <p:nvPr/>
        </p:nvSpPr>
        <p:spPr>
          <a:xfrm>
            <a:off x="971640" y="5661000"/>
            <a:ext cx="684036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tude d’acteurs et d’expert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18"/>
          <p:cNvGrpSpPr/>
          <p:nvPr/>
        </p:nvGrpSpPr>
        <p:grpSpPr>
          <a:xfrm>
            <a:off x="395280" y="4005360"/>
            <a:ext cx="8570520" cy="1141200"/>
            <a:chOff x="395280" y="4005360"/>
            <a:chExt cx="8570520" cy="1141200"/>
          </a:xfrm>
        </p:grpSpPr>
        <p:sp>
          <p:nvSpPr>
            <p:cNvPr id="74" name="Can 1"/>
            <p:cNvSpPr/>
            <p:nvPr/>
          </p:nvSpPr>
          <p:spPr>
            <a:xfrm rot="5400000">
              <a:off x="1269000" y="3131640"/>
              <a:ext cx="1114560" cy="2862000"/>
            </a:xfrm>
            <a:prstGeom prst="can">
              <a:avLst>
                <a:gd name="adj" fmla="val 9731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41520"/>
                  <a:tab algn="l" pos="1282680"/>
                  <a:tab algn="l" pos="1924200"/>
                  <a:tab algn="l" pos="2565360"/>
                  <a:tab algn="l" pos="3206880"/>
                  <a:tab algn="l" pos="3848040"/>
                  <a:tab algn="l" pos="4489560"/>
                  <a:tab algn="l" pos="5130720"/>
                  <a:tab algn="l" pos="5772240"/>
                  <a:tab algn="l" pos="6413400"/>
                  <a:tab algn="l" pos="7054920"/>
                  <a:tab algn="l" pos="7696080"/>
                  <a:tab algn="l" pos="8337600"/>
                  <a:tab algn="l" pos="8978760"/>
                  <a:tab algn="l" pos="9620280"/>
                  <a:tab algn="l" pos="10261440"/>
                  <a:tab algn="l" pos="10902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Can 2"/>
            <p:cNvSpPr/>
            <p:nvPr/>
          </p:nvSpPr>
          <p:spPr>
            <a:xfrm rot="5400000">
              <a:off x="4011840" y="3005280"/>
              <a:ext cx="1114200" cy="3163680"/>
            </a:xfrm>
            <a:prstGeom prst="can">
              <a:avLst>
                <a:gd name="adj" fmla="val 8805"/>
              </a:avLst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41520"/>
                  <a:tab algn="l" pos="1282680"/>
                  <a:tab algn="l" pos="1924200"/>
                  <a:tab algn="l" pos="2565360"/>
                  <a:tab algn="l" pos="3206880"/>
                  <a:tab algn="l" pos="3848040"/>
                  <a:tab algn="l" pos="4489560"/>
                  <a:tab algn="l" pos="5130720"/>
                  <a:tab algn="l" pos="5772240"/>
                  <a:tab algn="l" pos="6413400"/>
                  <a:tab algn="l" pos="7054920"/>
                  <a:tab algn="l" pos="7696080"/>
                  <a:tab algn="l" pos="8337600"/>
                  <a:tab algn="l" pos="8978760"/>
                  <a:tab algn="l" pos="9620280"/>
                  <a:tab algn="l" pos="10261440"/>
                  <a:tab algn="l" pos="10902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Can 3"/>
            <p:cNvSpPr/>
            <p:nvPr/>
          </p:nvSpPr>
          <p:spPr>
            <a:xfrm rot="5400000">
              <a:off x="6851880" y="3032640"/>
              <a:ext cx="1113840" cy="3113640"/>
            </a:xfrm>
            <a:prstGeom prst="can">
              <a:avLst>
                <a:gd name="adj" fmla="val 8939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41520"/>
                  <a:tab algn="l" pos="1282680"/>
                  <a:tab algn="l" pos="1924200"/>
                  <a:tab algn="l" pos="2565360"/>
                  <a:tab algn="l" pos="3206880"/>
                  <a:tab algn="l" pos="3848040"/>
                  <a:tab algn="l" pos="4489560"/>
                  <a:tab algn="l" pos="5130720"/>
                  <a:tab algn="l" pos="5772240"/>
                  <a:tab algn="l" pos="6413400"/>
                  <a:tab algn="l" pos="7054920"/>
                  <a:tab algn="l" pos="7696080"/>
                  <a:tab algn="l" pos="8337600"/>
                  <a:tab algn="l" pos="8978760"/>
                  <a:tab algn="l" pos="9620280"/>
                  <a:tab algn="l" pos="10261440"/>
                  <a:tab algn="l" pos="109029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17"/>
            <p:cNvSpPr/>
            <p:nvPr/>
          </p:nvSpPr>
          <p:spPr>
            <a:xfrm>
              <a:off x="1547280" y="4365360"/>
              <a:ext cx="669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ojets intégrate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6T16:16:56Z</dcterms:created>
  <dc:creator>Ciarlantini, Claudia (AGAL)</dc:creator>
  <dc:description/>
  <dc:language>en-US</dc:language>
  <cp:lastModifiedBy>Guei</cp:lastModifiedBy>
  <dcterms:modified xsi:type="dcterms:W3CDTF">2012-06-01T06:58:48Z</dcterms:modified>
  <cp:revision>106</cp:revision>
  <dc:subject/>
  <dc:title>Slide 1</dc:title>
</cp:coreProperties>
</file>