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F224E17-04A2-4A2E-B14B-8475A56AB1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882111D-2F60-408C-9AC2-C9B46D824F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563AE-B6A0-4991-B332-4DADC9816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74C74-CF8A-4B5F-B0D2-1261597C4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3E85B-D70C-4D17-843B-0661D014B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0D0AD-B8B1-4416-B78B-FA7F373EB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923C3-3842-4EBD-A162-68B755765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8B0F7-3CAC-4C4E-A38A-511B9AB5F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32045-0542-40F8-B1FB-382ED9269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FB0FE-DB92-4437-9AE3-C6197F5BF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DBEA9-47F5-405D-892C-ECA4A5F16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C517A-151A-494E-A518-AA1A947CF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8F9F1-88F7-46B3-A7F6-555FF95AB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F541A-6A82-437E-AFC4-2F3047D76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7C0890A-3C85-43CA-AFAC-6EE619EDB8B7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15B1841-F573-45F4-AAAB-075A306ADB6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0" y="0"/>
            <a:ext cx="1893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4f81bd"/>
                </a:solidFill>
                <a:latin typeface="Calibri"/>
              </a:rPr>
              <a:t>www.earthobservations.or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TextBox 7"/>
          <p:cNvSpPr/>
          <p:nvPr/>
        </p:nvSpPr>
        <p:spPr>
          <a:xfrm>
            <a:off x="7985160" y="22320"/>
            <a:ext cx="1147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4f81bd"/>
                </a:solidFill>
                <a:latin typeface="Calibri"/>
              </a:rPr>
              <a:t>www.geo-fct.or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6"/>
          <p:cNvSpPr/>
          <p:nvPr/>
        </p:nvSpPr>
        <p:spPr>
          <a:xfrm>
            <a:off x="0" y="0"/>
            <a:ext cx="1893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4f81bd"/>
                </a:solidFill>
                <a:latin typeface="Calibri"/>
              </a:rPr>
              <a:t>www.earthobservations.or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Box 7"/>
          <p:cNvSpPr/>
          <p:nvPr/>
        </p:nvSpPr>
        <p:spPr>
          <a:xfrm>
            <a:off x="7985160" y="22320"/>
            <a:ext cx="1147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4f81bd"/>
                </a:solidFill>
                <a:latin typeface="Calibri"/>
              </a:rPr>
              <a:t>www.geo-fct.or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8" descr="GEO_Header_Presentation.jpg"/>
          <p:cNvPicPr/>
          <p:nvPr/>
        </p:nvPicPr>
        <p:blipFill>
          <a:blip r:embed="rId2"/>
          <a:stretch/>
        </p:blipFill>
        <p:spPr>
          <a:xfrm>
            <a:off x="7920" y="5867280"/>
            <a:ext cx="9144000" cy="100656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440" y="1022040"/>
            <a:ext cx="7977240" cy="1687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EO FCT activities i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{ name of the Country}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atus and Pla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00800" cy="62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thor (s) + affiliation}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Subtitle 2"/>
          <p:cNvSpPr/>
          <p:nvPr/>
        </p:nvSpPr>
        <p:spPr>
          <a:xfrm>
            <a:off x="776160" y="5335560"/>
            <a:ext cx="320220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ational Demonstrators Summi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7 February 2011, Roma - Ital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4000" spc="-1" strike="noStrike">
                <a:solidFill>
                  <a:srgbClr val="000000"/>
                </a:solidFill>
                <a:latin typeface="Calibri"/>
              </a:rPr>
              <a:t>Table of contents </a:t>
            </a:r>
            <a:r>
              <a:rPr b="0" i="1" lang="en-GB" sz="1800" spc="-1" strike="noStrike">
                <a:solidFill>
                  <a:srgbClr val="000000"/>
                </a:solidFill>
                <a:latin typeface="Calibri"/>
              </a:rPr>
              <a:t>put these as headings on a slide eac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30160" y="1266480"/>
            <a:ext cx="78566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National importance of monitoring forest for carbon accounting in the country,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Brief description of the policy contex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Description of the program/framework within which FCT and carbon accounting fits,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Latest reference (reports, communications, …. etc) for the geography and forestry issu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Existing monitoring systems and available data – one summary slid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Information on frequency of monitoring, scale - current and desired under GEO-FC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Identification of current methods and associated issues,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Institutional and Programmatic aspects (Institutional framework for REDD+, national plans, resources, international initiatives in the Country, ……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Summary of expectations on GEO FCT activities and suppor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1T05:02:01Z</dcterms:created>
  <dc:creator>George Dyke</dc:creator>
  <dc:description/>
  <dc:language>en-US</dc:language>
  <cp:lastModifiedBy>Rum G</cp:lastModifiedBy>
  <dcterms:modified xsi:type="dcterms:W3CDTF">2011-01-13T14:53:25Z</dcterms:modified>
  <cp:revision>139</cp:revision>
  <dc:subject/>
  <dc:title>Slide 1</dc:title>
</cp:coreProperties>
</file>