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1794-F10A-4542-8287-C9C531E292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I- Capacitar gestores, gestión mas abierta , autónoma y flexible de escuelas, cultura de evaluación y co-responsabilidad po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V- clima organizacional, espacios de crecimiento de alumno y profesor, compromiso con trabajo colectivo de docentes, lograr participación de la comunidad en la escuela y en las decisiones que la afec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mtien copio PPE- región fue pio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- ampliar oferta infantil  y secundaria, asegurar calidad  a lo largo de la vida, flexibilizar sistema, asegurar acceso y finalización de la básica en la edad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-integración formación inicial y en servicio, investigación sobre practicas docentes con capacitación continuada y modificación de la cultura escolar, valorización, condiciones laborales y remuneración docente, docente se sintiendo responsable por el alum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8E2-0D64-4E81-A7B9-57C7FD8F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4E9-E29F-4C03-A29E-E2468B42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49E-28E4-413E-B9C7-E06E9336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4FF-8660-47DC-9DD6-676AE2AC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107-6843-4183-B79B-4D607743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5C9-481D-419E-BC92-D1F20B47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271-BE23-4DAA-B609-2666E8A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903-E488-4A21-AF10-770504F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29C-747D-4ECE-A809-4AE0461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726-80A6-4734-BC64-FFE89495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49-B38C-49FC-A577-06A2D5AF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B92-299F-4D56-B145-E892FE81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784-DBBD-466E-A62D-345D9A7E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ducación para la Población Rural (EPR):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ituación y perspectivas de América L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na Luiza Machado, UNE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FICINA REGIONAL DE EDUCACION PAR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MERICA LATINA Y EL CA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antiago, Agosto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tros problemas edu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aja oferta de educación secundaria (jóv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ominio de escuelas incompletas o multi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eriales y currículos marcadamente urb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éficit de maestros y baja formación de docentes en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medio de años de estudio de la población de 15 años a 24 años. 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EPAL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. 20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676520"/>
          <a:ext cx="9144000" cy="49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91440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1676520"/>
          <a:ext cx="891540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91540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0880" y="5335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sa de analfabetismo funcional urbana y rural (porcentaje de la población con 5 o menos años de escolaridad). CEPAL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rcentaje de la población de 15-24 años de edad con 6 o más años de escolaridad en zonas urbanas y rurales-2000. CE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1673280"/>
            <a:ext cx="73882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rcentaje de alumnos que alcanzan el nivel II, según estratos demográficos. Lenguaje. Tercer y cuarto grado. LLECE,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95280" y="1844640"/>
          <a:ext cx="6858000" cy="479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44640"/>
                    <a:ext cx="6858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rcentaje de alumnos que alcanzan el nivel II, según estratos demográficos. Matemáticas. Tercer y cuarto grado. LLECE,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71600" y="1784520"/>
          <a:ext cx="6705720" cy="489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84520"/>
                    <a:ext cx="670572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 políticas educ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ción para la población rural no ha sido una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nfasis en cobertura y no necesariamente en calidad/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tema no se ha visto desde el prisma de la equidad en edu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fuerzos recientes para hacer políticas que consideren la vulnerabilidad de la población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novaciones Educ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lombia- Escuel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éxico-Tele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rasil-Escuelas de altern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periencias de políticas intersecto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ortunidades- (antes PROGRESA)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Bolsa Escola-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grama de Asignación Familiar-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d de Protección Social-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304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Buenas experi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o que las buenas prácticas tienen en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ta dosis de auto-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fesor como mediador de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ódulos- flexibilidad para acompañar el ritmo de los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s no tradicionales pero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tin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sistencia en 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No de alto costo por alum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ducación, desarrollo y equ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ctual modelo de desarrollo es generador de inequ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colaridad reduce mis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rrelación positiva con aumento PN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rrelación positiva con productiv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ducación tiene efecto multipl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al de movil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o educación no es el único componente del desarrollo , hay que complementar con otras estrate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incipales problemas de la zon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trición insu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ervicios educativos deficientes, gran déficit edu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reciente éxodo para la zona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mic Sans MS"/>
              </a:rPr>
              <a:t>Distribución de la población según área de residencia. CELADE, 2000 (porcenta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2057400"/>
          <a:ext cx="6781680" cy="447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057400"/>
                    <a:ext cx="678168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63560"/>
          <a:ext cx="9144000" cy="496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63560"/>
                    <a:ext cx="9144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rcentaje de población urbana 1970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rcentaje de Personas con Ingresos Menores a la Línea de Pobreza- América Latina. 1980 - 2002. CE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468440"/>
          <a:ext cx="9601200" cy="549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468440"/>
                    <a:ext cx="96012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Dimensiones de la inequidad en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men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rbano/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cio-econó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m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étnica/cul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racterísticas pers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mensiones se poten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tros problemas edu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niversalización,  calidad de los aprendizajes y de  años de educación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cos programas para primera inf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aja supervivencia al sexto 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yor tasa de analfabetismo funcional, especialmente en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2:12:16Z</dcterms:created>
  <dc:creator>A.L. Machado</dc:creator>
  <dc:description/>
  <dc:language>en-US</dc:language>
  <cp:lastModifiedBy>Isabel Margaarita Honorato</cp:lastModifiedBy>
  <cp:lastPrinted>2003-04-11T13:56:15Z</cp:lastPrinted>
  <dcterms:modified xsi:type="dcterms:W3CDTF">2004-08-04T16:16:06Z</dcterms:modified>
  <cp:revision>258</cp:revision>
  <dc:subject/>
  <dc:title>Sin título de diapositiva</dc:title>
</cp:coreProperties>
</file>