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2E1-AF66-4CDC-8D0F-16987FB7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B68-FDE8-4D7B-957F-540140F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964-6447-43CE-96E2-DC999167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F30-825F-49EC-8273-2E829696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6D7-E107-483D-A04B-77DB2F95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A68-5C18-4AA4-B321-B1DF3217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194-00FA-451C-B8D4-AEF14928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9A6-3DD7-411A-89E0-5A7DE8B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742-C95B-4221-B959-F47DA952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F5F-5662-4A7C-8DA7-A89F5B3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4DA-3D13-4B4F-9712-88EF198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2BB-D3B6-4831-88BD-2934ACD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AA1-67A4-465A-8944-02FF2087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152360" cy="1154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439640" cy="93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2857680"/>
            <a:ext cx="769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imentación y Educación para Todo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5183280"/>
            <a:ext cx="4537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Prof. Elio Aguil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Asesor del Ministro de Educación y Dep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39720" y="1050840"/>
            <a:ext cx="714708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os de Edu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-Escolar (Educación Perma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 Fronteri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uel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íg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ivar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cnicas Agropecu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65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ciones que atienden el Sector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7680" y="6699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UELAS RURALES EN EL  PROCESO PRODUCTIVO PARA LA SEGURIDAD ALI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2187720"/>
            <a:ext cx="755964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 TERMIN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r un Programa de Producción Agropecuaria Integral con las instituciones que ofrecen  opciones de enseñanza agropecuaria en los diversos niveles y modalidades del sistema educativo venezolano considerando las características geográficas, económicas, sociales y culturales de las reg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1574640"/>
          <a:ext cx="813600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74640"/>
                    <a:ext cx="813600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448360" y="1057320"/>
            <a:ext cx="49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GRAMA DE ALIMENTACIÓN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BLACIÓN BENEFIC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0200" y="5391000"/>
            <a:ext cx="533520" cy="3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252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3657600"/>
            <a:ext cx="457200" cy="419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621.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880" y="2619360"/>
            <a:ext cx="609480" cy="304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85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4454640"/>
            <a:ext cx="533520" cy="34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451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6200" y="53560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246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108000" y="907920"/>
          <a:ext cx="9144000" cy="58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907920"/>
                    <a:ext cx="914400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2440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4600" y="318960"/>
          <a:ext cx="89694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318960"/>
                    <a:ext cx="8969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55640" y="692280"/>
          <a:ext cx="748836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883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14280" y="1409760"/>
            <a:ext cx="8782200" cy="4937040"/>
            <a:chOff x="314280" y="1409760"/>
            <a:chExt cx="8782200" cy="4937040"/>
          </a:xfrm>
        </p:grpSpPr>
        <p:sp>
          <p:nvSpPr>
            <p:cNvPr id="123" name=""/>
            <p:cNvSpPr/>
            <p:nvPr/>
          </p:nvSpPr>
          <p:spPr>
            <a:xfrm>
              <a:off x="9058320" y="1427040"/>
              <a:ext cx="38160" cy="4919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360" y="6310440"/>
              <a:ext cx="87631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14280" y="1409760"/>
              <a:ext cx="8744040" cy="4900680"/>
              <a:chOff x="314280" y="1409760"/>
              <a:chExt cx="8744040" cy="490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14280" y="6102360"/>
                <a:ext cx="8744040" cy="20808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4280" y="1409760"/>
                <a:ext cx="362160" cy="469260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6440" y="5902200"/>
                <a:ext cx="8381880" cy="20016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6440" y="1409760"/>
                <a:ext cx="361800" cy="449244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38240" y="5692680"/>
                <a:ext cx="8020080" cy="20952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8240" y="1409760"/>
                <a:ext cx="361800" cy="428292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00040" y="5494320"/>
                <a:ext cx="7658280" cy="198360"/>
              </a:xfrm>
              <a:prstGeom prst="rect">
                <a:avLst/>
              </a:prstGeom>
              <a:solidFill>
                <a:srgbClr val="e8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00040" y="1409760"/>
                <a:ext cx="362160" cy="4084560"/>
              </a:xfrm>
              <a:prstGeom prst="rect">
                <a:avLst/>
              </a:prstGeom>
              <a:solidFill>
                <a:srgbClr val="e8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62200" y="5284800"/>
                <a:ext cx="7296120" cy="209520"/>
              </a:xfrm>
              <a:prstGeom prst="rect">
                <a:avLst/>
              </a:prstGeom>
              <a:solidFill>
                <a:srgbClr val="e7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62200" y="1409760"/>
                <a:ext cx="371520" cy="3875040"/>
              </a:xfrm>
              <a:prstGeom prst="rect">
                <a:avLst/>
              </a:prstGeom>
              <a:solidFill>
                <a:srgbClr val="e7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33720" y="5084640"/>
                <a:ext cx="6924600" cy="200160"/>
              </a:xfrm>
              <a:prstGeom prst="rect">
                <a:avLst/>
              </a:pr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3720" y="1409760"/>
                <a:ext cx="361800" cy="3674880"/>
              </a:xfrm>
              <a:prstGeom prst="rect">
                <a:avLst/>
              </a:pr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95520" y="4876920"/>
                <a:ext cx="6562800" cy="207720"/>
              </a:xfrm>
              <a:prstGeom prst="rect">
                <a:avLst/>
              </a:prstGeom>
              <a:solidFill>
                <a:srgbClr val="e5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95520" y="1409760"/>
                <a:ext cx="362160" cy="3467160"/>
              </a:xfrm>
              <a:prstGeom prst="rect">
                <a:avLst/>
              </a:prstGeom>
              <a:solidFill>
                <a:srgbClr val="e5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57680" y="4676760"/>
                <a:ext cx="6200640" cy="200160"/>
              </a:xfrm>
              <a:prstGeom prst="rect">
                <a:avLst/>
              </a:prstGeom>
              <a:solidFill>
                <a:srgbClr val="e3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7680" y="1409760"/>
                <a:ext cx="361800" cy="3267000"/>
              </a:xfrm>
              <a:prstGeom prst="rect">
                <a:avLst/>
              </a:prstGeom>
              <a:solidFill>
                <a:srgbClr val="e3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19480" y="4468680"/>
                <a:ext cx="5838840" cy="208080"/>
              </a:xfrm>
              <a:prstGeom prst="rect">
                <a:avLst/>
              </a:prstGeom>
              <a:solidFill>
                <a:srgbClr val="e2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19480" y="1409760"/>
                <a:ext cx="371520" cy="3058920"/>
              </a:xfrm>
              <a:prstGeom prst="rect">
                <a:avLst/>
              </a:prstGeom>
              <a:solidFill>
                <a:srgbClr val="e2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91000" y="4268880"/>
                <a:ext cx="5467320" cy="199800"/>
              </a:xfrm>
              <a:prstGeom prst="rect">
                <a:avLst/>
              </a:prstGeom>
              <a:solidFill>
                <a:srgbClr val="e0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91000" y="1409760"/>
                <a:ext cx="361800" cy="2859120"/>
              </a:xfrm>
              <a:prstGeom prst="rect">
                <a:avLst/>
              </a:prstGeom>
              <a:solidFill>
                <a:srgbClr val="e0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52800" y="4059360"/>
                <a:ext cx="5105520" cy="209520"/>
              </a:xfrm>
              <a:prstGeom prst="rect">
                <a:avLst/>
              </a:prstGeom>
              <a:solidFill>
                <a:srgbClr val="de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52800" y="1409760"/>
                <a:ext cx="362160" cy="2649600"/>
              </a:xfrm>
              <a:prstGeom prst="rect">
                <a:avLst/>
              </a:prstGeom>
              <a:solidFill>
                <a:srgbClr val="de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14960" y="3859200"/>
                <a:ext cx="4743360" cy="200160"/>
              </a:xfrm>
              <a:prstGeom prst="rect">
                <a:avLst/>
              </a:prstGeom>
              <a:solidFill>
                <a:srgbClr val="dc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14960" y="1409760"/>
                <a:ext cx="361800" cy="2449440"/>
              </a:xfrm>
              <a:prstGeom prst="rect">
                <a:avLst/>
              </a:prstGeom>
              <a:solidFill>
                <a:srgbClr val="dc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76760" y="3651120"/>
                <a:ext cx="4381560" cy="208080"/>
              </a:xfrm>
              <a:prstGeom prst="rect">
                <a:avLst/>
              </a:prstGeom>
              <a:solidFill>
                <a:srgbClr val="d9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76760" y="1409760"/>
                <a:ext cx="371520" cy="2241360"/>
              </a:xfrm>
              <a:prstGeom prst="rect">
                <a:avLst/>
              </a:prstGeom>
              <a:solidFill>
                <a:srgbClr val="d9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48280" y="3451320"/>
                <a:ext cx="4010040" cy="199800"/>
              </a:xfrm>
              <a:prstGeom prst="rect">
                <a:avLst/>
              </a:prstGeom>
              <a:solidFill>
                <a:srgbClr val="d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48280" y="1409760"/>
                <a:ext cx="361800" cy="2041560"/>
              </a:xfrm>
              <a:prstGeom prst="rect">
                <a:avLst/>
              </a:prstGeom>
              <a:solidFill>
                <a:srgbClr val="d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10080" y="3243240"/>
                <a:ext cx="3648240" cy="208080"/>
              </a:xfrm>
              <a:prstGeom prst="rect">
                <a:avLst/>
              </a:prstGeom>
              <a:solidFill>
                <a:srgbClr val="d5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0080" y="1409760"/>
                <a:ext cx="362160" cy="1833480"/>
              </a:xfrm>
              <a:prstGeom prst="rect">
                <a:avLst/>
              </a:prstGeom>
              <a:solidFill>
                <a:srgbClr val="d5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72240" y="3043080"/>
                <a:ext cx="3286080" cy="200160"/>
              </a:xfrm>
              <a:prstGeom prst="rect">
                <a:avLst/>
              </a:prstGeom>
              <a:solidFill>
                <a:srgbClr val="d3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72240" y="1409760"/>
                <a:ext cx="361800" cy="1633320"/>
              </a:xfrm>
              <a:prstGeom prst="rect">
                <a:avLst/>
              </a:prstGeom>
              <a:solidFill>
                <a:srgbClr val="d3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34040" y="2833560"/>
                <a:ext cx="2924280" cy="209520"/>
              </a:xfrm>
              <a:prstGeom prst="rect">
                <a:avLst/>
              </a:prstGeom>
              <a:solidFill>
                <a:srgbClr val="d2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34040" y="1409760"/>
                <a:ext cx="371520" cy="1423800"/>
              </a:xfrm>
              <a:prstGeom prst="rect">
                <a:avLst/>
              </a:prstGeom>
              <a:solidFill>
                <a:srgbClr val="d2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05560" y="2635200"/>
                <a:ext cx="2552760" cy="198360"/>
              </a:xfrm>
              <a:prstGeom prst="rect">
                <a:avLst/>
              </a:prstGeom>
              <a:solidFill>
                <a:srgbClr val="d0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05560" y="1409760"/>
                <a:ext cx="361800" cy="1225440"/>
              </a:xfrm>
              <a:prstGeom prst="rect">
                <a:avLst/>
              </a:prstGeom>
              <a:solidFill>
                <a:srgbClr val="d0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67360" y="2425680"/>
                <a:ext cx="2190960" cy="209520"/>
              </a:xfrm>
              <a:prstGeom prst="rect">
                <a:avLst/>
              </a:prstGeom>
              <a:solidFill>
                <a:srgbClr val="c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67360" y="1409760"/>
                <a:ext cx="362160" cy="1015920"/>
              </a:xfrm>
              <a:prstGeom prst="rect">
                <a:avLst/>
              </a:prstGeom>
              <a:solidFill>
                <a:srgbClr val="c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29520" y="2225520"/>
                <a:ext cx="1828800" cy="200160"/>
              </a:xfrm>
              <a:prstGeom prst="rect">
                <a:avLst/>
              </a:prstGeom>
              <a:solidFill>
                <a:srgbClr val="ce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29520" y="1409760"/>
                <a:ext cx="361800" cy="815760"/>
              </a:xfrm>
              <a:prstGeom prst="rect">
                <a:avLst/>
              </a:prstGeom>
              <a:solidFill>
                <a:srgbClr val="ce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91320" y="2017800"/>
                <a:ext cx="1467000" cy="207720"/>
              </a:xfrm>
              <a:prstGeom prst="rect">
                <a:avLst/>
              </a:prstGeom>
              <a:solidFill>
                <a:srgbClr val="cd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91320" y="1409760"/>
                <a:ext cx="371520" cy="608040"/>
              </a:xfrm>
              <a:prstGeom prst="rect">
                <a:avLst/>
              </a:prstGeom>
              <a:solidFill>
                <a:srgbClr val="cd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62840" y="1817640"/>
                <a:ext cx="1095480" cy="200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62840" y="1409760"/>
                <a:ext cx="362160" cy="407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25000" y="1608120"/>
                <a:ext cx="733320" cy="209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325000" y="1409760"/>
                <a:ext cx="361800" cy="198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86800" y="1409760"/>
                <a:ext cx="371520" cy="198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14280" y="1409760"/>
              <a:ext cx="8753400" cy="491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3912" h="304">
                  <a:moveTo>
                    <a:pt x="162" y="304"/>
                  </a:moveTo>
                  <a:lnTo>
                    <a:pt x="0" y="0"/>
                  </a:lnTo>
                  <a:lnTo>
                    <a:pt x="3750" y="0"/>
                  </a:lnTo>
                  <a:lnTo>
                    <a:pt x="3912" y="304"/>
                  </a:lnTo>
                  <a:lnTo>
                    <a:pt x="162" y="30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05680" y="2616120"/>
              <a:ext cx="257040" cy="2978280"/>
            </a:xfrm>
            <a:custGeom>
              <a:avLst/>
              <a:gdLst/>
              <a:ahLst/>
              <a:rect l="l" t="t" r="r" b="b"/>
              <a:pathLst>
                <a:path w="162" h="1876">
                  <a:moveTo>
                    <a:pt x="162" y="1876"/>
                  </a:moveTo>
                  <a:lnTo>
                    <a:pt x="162" y="303"/>
                  </a:lnTo>
                  <a:lnTo>
                    <a:pt x="0" y="0"/>
                  </a:lnTo>
                  <a:lnTo>
                    <a:pt x="0" y="1572"/>
                  </a:lnTo>
                  <a:lnTo>
                    <a:pt x="162" y="18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2360" y="2616120"/>
              <a:ext cx="5953320" cy="2495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461340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52360" y="411480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52360" y="361476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52360" y="311616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2360" y="261612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3912" h="304">
                  <a:moveTo>
                    <a:pt x="3750" y="0"/>
                  </a:moveTo>
                  <a:lnTo>
                    <a:pt x="3912" y="304"/>
                  </a:lnTo>
                  <a:lnTo>
                    <a:pt x="162" y="304"/>
                  </a:lnTo>
                  <a:lnTo>
                    <a:pt x="0" y="0"/>
                  </a:lnTo>
                  <a:lnTo>
                    <a:pt x="37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05680" y="2616120"/>
              <a:ext cx="257040" cy="2978280"/>
            </a:xfrm>
            <a:custGeom>
              <a:avLst/>
              <a:gdLst/>
              <a:ahLst/>
              <a:rect l="l" t="t" r="r" b="b"/>
              <a:pathLst>
                <a:path w="162" h="1876">
                  <a:moveTo>
                    <a:pt x="162" y="1876"/>
                  </a:moveTo>
                  <a:lnTo>
                    <a:pt x="162" y="303"/>
                  </a:lnTo>
                  <a:lnTo>
                    <a:pt x="0" y="0"/>
                  </a:lnTo>
                  <a:lnTo>
                    <a:pt x="0" y="1572"/>
                  </a:lnTo>
                  <a:lnTo>
                    <a:pt x="162" y="1876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2360" y="2616120"/>
              <a:ext cx="5953320" cy="2495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72320" y="5240160"/>
              <a:ext cx="9360" cy="1540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85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85"/>
                  </a:lnTo>
                  <a:close/>
                </a:path>
              </a:pathLst>
            </a:cu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4160" y="5257800"/>
              <a:ext cx="38160" cy="163440"/>
            </a:xfrm>
            <a:custGeom>
              <a:avLst/>
              <a:gdLst/>
              <a:ahLst/>
              <a:rect l="l" t="t" r="r" b="b"/>
              <a:pathLst>
                <a:path w="24" h="103">
                  <a:moveTo>
                    <a:pt x="24" y="86"/>
                  </a:moveTo>
                  <a:lnTo>
                    <a:pt x="0" y="10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6640" y="5284800"/>
              <a:ext cx="47520" cy="14616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30" y="86"/>
                  </a:moveTo>
                  <a:lnTo>
                    <a:pt x="0" y="92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00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9400" y="5294160"/>
              <a:ext cx="57240" cy="1447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36" y="86"/>
                  </a:moveTo>
                  <a:lnTo>
                    <a:pt x="0" y="91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86"/>
                  </a:lnTo>
                  <a:close/>
                </a:path>
              </a:pathLst>
            </a:cu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34000" y="5303880"/>
              <a:ext cx="95400" cy="1443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60" y="85"/>
                  </a:moveTo>
                  <a:lnTo>
                    <a:pt x="0" y="91"/>
                  </a:lnTo>
                  <a:lnTo>
                    <a:pt x="0" y="5"/>
                  </a:lnTo>
                  <a:lnTo>
                    <a:pt x="60" y="0"/>
                  </a:lnTo>
                  <a:lnTo>
                    <a:pt x="60" y="85"/>
                  </a:lnTo>
                  <a:close/>
                </a:path>
              </a:pathLst>
            </a:cu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58040" y="5311800"/>
              <a:ext cx="75960" cy="136440"/>
            </a:xfrm>
            <a:prstGeom prst="rect">
              <a:avLst/>
            </a:prstGeom>
            <a:solidFill>
              <a:srgbClr val="00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1720" y="530388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48" y="91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48" y="5"/>
                  </a:lnTo>
                  <a:lnTo>
                    <a:pt x="48" y="9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5120" y="5284800"/>
              <a:ext cx="66600" cy="15408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67600" y="5267160"/>
              <a:ext cx="47520" cy="154080"/>
            </a:xfrm>
            <a:custGeom>
              <a:avLst/>
              <a:gdLst/>
              <a:ahLst/>
              <a:rect l="l" t="t" r="r" b="b"/>
              <a:pathLst>
                <a:path w="30" h="97">
                  <a:moveTo>
                    <a:pt x="30" y="97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97"/>
                  </a:lnTo>
                  <a:close/>
                </a:path>
              </a:pathLst>
            </a:custGeom>
            <a:solidFill>
              <a:srgbClr val="00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19720" y="524016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30" y="102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1280" y="5211720"/>
              <a:ext cx="2844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18" y="103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1280" y="5194440"/>
              <a:ext cx="1440" cy="15372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91280" y="5121360"/>
              <a:ext cx="590400" cy="19044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5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5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5"/>
                  </a:lnTo>
                  <a:lnTo>
                    <a:pt x="78" y="103"/>
                  </a:lnTo>
                  <a:lnTo>
                    <a:pt x="48" y="92"/>
                  </a:lnTo>
                  <a:lnTo>
                    <a:pt x="18" y="75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91280" y="5330880"/>
              <a:ext cx="59040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91280" y="5121360"/>
              <a:ext cx="590400" cy="19044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5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5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5"/>
                  </a:lnTo>
                  <a:lnTo>
                    <a:pt x="78" y="103"/>
                  </a:lnTo>
                  <a:lnTo>
                    <a:pt x="48" y="92"/>
                  </a:lnTo>
                  <a:lnTo>
                    <a:pt x="18" y="75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81680" y="5239800"/>
              <a:ext cx="180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191280" y="519408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2200" y="5140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5,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6240" y="5303880"/>
              <a:ext cx="9720" cy="90360"/>
            </a:xfrm>
            <a:custGeom>
              <a:avLst/>
              <a:gdLst/>
              <a:ahLst/>
              <a:rect l="l" t="t" r="r" b="b"/>
              <a:pathLst>
                <a:path w="6" h="57">
                  <a:moveTo>
                    <a:pt x="6" y="45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48440" y="5321160"/>
              <a:ext cx="37800" cy="10008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4" y="46"/>
                  </a:moveTo>
                  <a:lnTo>
                    <a:pt x="0" y="6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00560" y="5348160"/>
              <a:ext cx="47880" cy="828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30" y="46"/>
                  </a:moveTo>
                  <a:lnTo>
                    <a:pt x="0" y="52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3680" y="5357880"/>
              <a:ext cx="5688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36" y="46"/>
                  </a:moveTo>
                  <a:lnTo>
                    <a:pt x="0" y="51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8280" y="5367240"/>
              <a:ext cx="9540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45"/>
                  </a:moveTo>
                  <a:lnTo>
                    <a:pt x="0" y="51"/>
                  </a:lnTo>
                  <a:lnTo>
                    <a:pt x="0" y="5"/>
                  </a:lnTo>
                  <a:lnTo>
                    <a:pt x="60" y="0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1960" y="5375160"/>
              <a:ext cx="76320" cy="73080"/>
            </a:xfrm>
            <a:prstGeom prst="rect">
              <a:avLst/>
            </a:prstGeom>
            <a:solidFill>
              <a:srgbClr val="f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96000" y="5367240"/>
              <a:ext cx="7596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51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48" y="5"/>
                  </a:lnTo>
                  <a:lnTo>
                    <a:pt x="4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9040" y="5348160"/>
              <a:ext cx="66960" cy="9072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2" y="57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1520" y="5330880"/>
              <a:ext cx="47520" cy="90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57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f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34000" y="5303880"/>
              <a:ext cx="47520" cy="9828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30" y="62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5200" y="5275440"/>
              <a:ext cx="28800" cy="9972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18" y="63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05200" y="5248440"/>
              <a:ext cx="1800" cy="99720"/>
            </a:xfrm>
            <a:custGeom>
              <a:avLst/>
              <a:gdLst/>
              <a:ahLst/>
              <a:rect l="l" t="t" r="r" b="b"/>
              <a:pathLst>
                <a:path w="0" h="63">
                  <a:moveTo>
                    <a:pt x="0" y="63"/>
                  </a:moveTo>
                  <a:lnTo>
                    <a:pt x="0" y="5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5200" y="5176800"/>
              <a:ext cx="590760" cy="198360"/>
            </a:xfrm>
            <a:custGeom>
              <a:avLst/>
              <a:gdLst/>
              <a:ahLst/>
              <a:rect l="l" t="t" r="r" b="b"/>
              <a:pathLst>
                <a:path w="372" h="125">
                  <a:moveTo>
                    <a:pt x="156" y="0"/>
                  </a:moveTo>
                  <a:lnTo>
                    <a:pt x="204" y="0"/>
                  </a:lnTo>
                  <a:lnTo>
                    <a:pt x="252" y="5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5"/>
                  </a:lnTo>
                  <a:lnTo>
                    <a:pt x="372" y="62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5"/>
                  </a:lnTo>
                  <a:lnTo>
                    <a:pt x="168" y="125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5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5200" y="5330880"/>
              <a:ext cx="59076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05200" y="5176800"/>
              <a:ext cx="590760" cy="198360"/>
            </a:xfrm>
            <a:custGeom>
              <a:avLst/>
              <a:gdLst/>
              <a:ahLst/>
              <a:rect l="l" t="t" r="r" b="b"/>
              <a:pathLst>
                <a:path w="372" h="125">
                  <a:moveTo>
                    <a:pt x="156" y="0"/>
                  </a:moveTo>
                  <a:lnTo>
                    <a:pt x="204" y="0"/>
                  </a:lnTo>
                  <a:lnTo>
                    <a:pt x="252" y="5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5"/>
                  </a:lnTo>
                  <a:lnTo>
                    <a:pt x="372" y="62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5"/>
                  </a:lnTo>
                  <a:lnTo>
                    <a:pt x="168" y="125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5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295960" y="53038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705200" y="52480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5840" y="52117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3,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0520" y="3187800"/>
              <a:ext cx="9360" cy="2206440"/>
            </a:xfrm>
            <a:custGeom>
              <a:avLst/>
              <a:gdLst/>
              <a:ahLst/>
              <a:rect l="l" t="t" r="r" b="b"/>
              <a:pathLst>
                <a:path w="6" h="1390">
                  <a:moveTo>
                    <a:pt x="6" y="1378"/>
                  </a:moveTo>
                  <a:lnTo>
                    <a:pt x="0" y="139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1378"/>
                  </a:lnTo>
                  <a:close/>
                </a:path>
              </a:pathLst>
            </a:cu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62360" y="3206880"/>
              <a:ext cx="38160" cy="2214360"/>
            </a:xfrm>
            <a:custGeom>
              <a:avLst/>
              <a:gdLst/>
              <a:ahLst/>
              <a:rect l="l" t="t" r="r" b="b"/>
              <a:pathLst>
                <a:path w="24" h="1395">
                  <a:moveTo>
                    <a:pt x="24" y="1378"/>
                  </a:moveTo>
                  <a:lnTo>
                    <a:pt x="0" y="1395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1378"/>
                  </a:lnTo>
                  <a:close/>
                </a:path>
              </a:pathLst>
            </a:cu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4840" y="3233880"/>
              <a:ext cx="47520" cy="2197080"/>
            </a:xfrm>
            <a:custGeom>
              <a:avLst/>
              <a:gdLst/>
              <a:ahLst/>
              <a:rect l="l" t="t" r="r" b="b"/>
              <a:pathLst>
                <a:path w="30" h="1384">
                  <a:moveTo>
                    <a:pt x="30" y="1378"/>
                  </a:moveTo>
                  <a:lnTo>
                    <a:pt x="0" y="1384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378"/>
                  </a:lnTo>
                  <a:close/>
                </a:path>
              </a:pathLst>
            </a:cu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243240"/>
              <a:ext cx="57240" cy="2195640"/>
            </a:xfrm>
            <a:custGeom>
              <a:avLst/>
              <a:gdLst/>
              <a:ahLst/>
              <a:rect l="l" t="t" r="r" b="b"/>
              <a:pathLst>
                <a:path w="36" h="1383">
                  <a:moveTo>
                    <a:pt x="36" y="1378"/>
                  </a:moveTo>
                  <a:lnTo>
                    <a:pt x="0" y="1383"/>
                  </a:lnTo>
                  <a:lnTo>
                    <a:pt x="0" y="5"/>
                  </a:lnTo>
                  <a:lnTo>
                    <a:pt x="36" y="0"/>
                  </a:lnTo>
                  <a:lnTo>
                    <a:pt x="36" y="1378"/>
                  </a:lnTo>
                  <a:close/>
                </a:path>
              </a:pathLst>
            </a:custGeom>
            <a:solidFill>
              <a:srgbClr val="e2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2200" y="3251160"/>
              <a:ext cx="95400" cy="2197080"/>
            </a:xfrm>
            <a:custGeom>
              <a:avLst/>
              <a:gdLst/>
              <a:ahLst/>
              <a:rect l="l" t="t" r="r" b="b"/>
              <a:pathLst>
                <a:path w="60" h="1384">
                  <a:moveTo>
                    <a:pt x="60" y="1378"/>
                  </a:moveTo>
                  <a:lnTo>
                    <a:pt x="0" y="1384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378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86240" y="3260880"/>
              <a:ext cx="75960" cy="218736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09920" y="3251160"/>
              <a:ext cx="76320" cy="2197080"/>
            </a:xfrm>
            <a:custGeom>
              <a:avLst/>
              <a:gdLst/>
              <a:ahLst/>
              <a:rect l="l" t="t" r="r" b="b"/>
              <a:pathLst>
                <a:path w="48" h="1384">
                  <a:moveTo>
                    <a:pt x="48" y="1384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138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43320" y="3233880"/>
              <a:ext cx="66600" cy="2205000"/>
            </a:xfrm>
            <a:custGeom>
              <a:avLst/>
              <a:gdLst/>
              <a:ahLst/>
              <a:rect l="l" t="t" r="r" b="b"/>
              <a:pathLst>
                <a:path w="42" h="1389">
                  <a:moveTo>
                    <a:pt x="42" y="1389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42" y="11"/>
                  </a:lnTo>
                  <a:lnTo>
                    <a:pt x="42" y="138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95800" y="3214800"/>
              <a:ext cx="47520" cy="2206440"/>
            </a:xfrm>
            <a:custGeom>
              <a:avLst/>
              <a:gdLst/>
              <a:ahLst/>
              <a:rect l="l" t="t" r="r" b="b"/>
              <a:pathLst>
                <a:path w="30" h="1390">
                  <a:moveTo>
                    <a:pt x="30" y="1390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30" y="12"/>
                  </a:lnTo>
                  <a:lnTo>
                    <a:pt x="30" y="1390"/>
                  </a:lnTo>
                  <a:close/>
                </a:path>
              </a:pathLst>
            </a:cu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7920" y="3187800"/>
              <a:ext cx="47880" cy="2214360"/>
            </a:xfrm>
            <a:custGeom>
              <a:avLst/>
              <a:gdLst/>
              <a:ahLst/>
              <a:rect l="l" t="t" r="r" b="b"/>
              <a:pathLst>
                <a:path w="30" h="1395">
                  <a:moveTo>
                    <a:pt x="30" y="1395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395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19480" y="3160800"/>
              <a:ext cx="28440" cy="2214360"/>
            </a:xfrm>
            <a:custGeom>
              <a:avLst/>
              <a:gdLst/>
              <a:ahLst/>
              <a:rect l="l" t="t" r="r" b="b"/>
              <a:pathLst>
                <a:path w="18" h="1395">
                  <a:moveTo>
                    <a:pt x="18" y="1395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395"/>
                  </a:lnTo>
                  <a:close/>
                </a:path>
              </a:pathLst>
            </a:custGeom>
            <a:solidFill>
              <a:srgbClr val="e2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19480" y="3143160"/>
              <a:ext cx="1440" cy="2205000"/>
            </a:xfrm>
            <a:custGeom>
              <a:avLst/>
              <a:gdLst/>
              <a:ahLst/>
              <a:rect l="l" t="t" r="r" b="b"/>
              <a:pathLst>
                <a:path w="0" h="1389">
                  <a:moveTo>
                    <a:pt x="0" y="1389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89"/>
                  </a:lnTo>
                  <a:close/>
                </a:path>
              </a:pathLst>
            </a:cu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19480" y="3070080"/>
              <a:ext cx="590400" cy="19080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4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4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4"/>
                  </a:lnTo>
                  <a:lnTo>
                    <a:pt x="78" y="103"/>
                  </a:lnTo>
                  <a:lnTo>
                    <a:pt x="48" y="91"/>
                  </a:lnTo>
                  <a:lnTo>
                    <a:pt x="18" y="74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19480" y="5330880"/>
              <a:ext cx="59040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19480" y="3070080"/>
              <a:ext cx="590400" cy="19080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4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4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4"/>
                  </a:lnTo>
                  <a:lnTo>
                    <a:pt x="78" y="103"/>
                  </a:lnTo>
                  <a:lnTo>
                    <a:pt x="48" y="91"/>
                  </a:lnTo>
                  <a:lnTo>
                    <a:pt x="18" y="74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09880" y="3187800"/>
              <a:ext cx="1800" cy="21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219480" y="3142800"/>
              <a:ext cx="1440" cy="21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99480" y="3560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87,7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14440" y="3106800"/>
              <a:ext cx="9720" cy="2287440"/>
            </a:xfrm>
            <a:custGeom>
              <a:avLst/>
              <a:gdLst/>
              <a:ahLst/>
              <a:rect l="l" t="t" r="r" b="b"/>
              <a:pathLst>
                <a:path w="6" h="1441">
                  <a:moveTo>
                    <a:pt x="6" y="1429"/>
                  </a:moveTo>
                  <a:lnTo>
                    <a:pt x="0" y="1441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429"/>
                  </a:lnTo>
                  <a:close/>
                </a:path>
              </a:pathLst>
            </a:custGeom>
            <a:solidFill>
              <a:srgbClr val="76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6640" y="3124080"/>
              <a:ext cx="37800" cy="2297160"/>
            </a:xfrm>
            <a:custGeom>
              <a:avLst/>
              <a:gdLst/>
              <a:ahLst/>
              <a:rect l="l" t="t" r="r" b="b"/>
              <a:pathLst>
                <a:path w="24" h="1447">
                  <a:moveTo>
                    <a:pt x="24" y="1430"/>
                  </a:moveTo>
                  <a:lnTo>
                    <a:pt x="0" y="1447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1430"/>
                  </a:lnTo>
                  <a:close/>
                </a:path>
              </a:pathLst>
            </a:custGeom>
            <a:solidFill>
              <a:srgbClr val="7c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28760" y="3151080"/>
              <a:ext cx="47880" cy="2279880"/>
            </a:xfrm>
            <a:custGeom>
              <a:avLst/>
              <a:gdLst/>
              <a:ahLst/>
              <a:rect l="l" t="t" r="r" b="b"/>
              <a:pathLst>
                <a:path w="30" h="1436">
                  <a:moveTo>
                    <a:pt x="30" y="1430"/>
                  </a:moveTo>
                  <a:lnTo>
                    <a:pt x="0" y="1436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430"/>
                  </a:lnTo>
                  <a:close/>
                </a:path>
              </a:pathLst>
            </a:custGeom>
            <a:solidFill>
              <a:srgbClr val="81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3160800"/>
              <a:ext cx="56880" cy="2278080"/>
            </a:xfrm>
            <a:custGeom>
              <a:avLst/>
              <a:gdLst/>
              <a:ahLst/>
              <a:rect l="l" t="t" r="r" b="b"/>
              <a:pathLst>
                <a:path w="36" h="1435">
                  <a:moveTo>
                    <a:pt x="36" y="1430"/>
                  </a:moveTo>
                  <a:lnTo>
                    <a:pt x="0" y="1435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1430"/>
                  </a:lnTo>
                  <a:close/>
                </a:path>
              </a:pathLst>
            </a:custGeom>
            <a:solidFill>
              <a:srgbClr val="87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6480" y="3170160"/>
              <a:ext cx="95400" cy="2278080"/>
            </a:xfrm>
            <a:custGeom>
              <a:avLst/>
              <a:gdLst/>
              <a:ahLst/>
              <a:rect l="l" t="t" r="r" b="b"/>
              <a:pathLst>
                <a:path w="60" h="1435">
                  <a:moveTo>
                    <a:pt x="60" y="1429"/>
                  </a:moveTo>
                  <a:lnTo>
                    <a:pt x="0" y="1435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429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0160" y="3179880"/>
              <a:ext cx="76320" cy="2268360"/>
            </a:xfrm>
            <a:prstGeom prst="rect">
              <a:avLst/>
            </a:prstGeom>
            <a:solidFill>
              <a:srgbClr val="93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24200" y="3170160"/>
              <a:ext cx="75960" cy="2278080"/>
            </a:xfrm>
            <a:custGeom>
              <a:avLst/>
              <a:gdLst/>
              <a:ahLst/>
              <a:rect l="l" t="t" r="r" b="b"/>
              <a:pathLst>
                <a:path w="48" h="1435">
                  <a:moveTo>
                    <a:pt x="48" y="1435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14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57240" y="3151080"/>
              <a:ext cx="66960" cy="2287800"/>
            </a:xfrm>
            <a:custGeom>
              <a:avLst/>
              <a:gdLst/>
              <a:ahLst/>
              <a:rect l="l" t="t" r="r" b="b"/>
              <a:pathLst>
                <a:path w="42" h="1441">
                  <a:moveTo>
                    <a:pt x="42" y="1441"/>
                  </a:moveTo>
                  <a:lnTo>
                    <a:pt x="0" y="1430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144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9720" y="3133800"/>
              <a:ext cx="47520" cy="2287440"/>
            </a:xfrm>
            <a:custGeom>
              <a:avLst/>
              <a:gdLst/>
              <a:ahLst/>
              <a:rect l="l" t="t" r="r" b="b"/>
              <a:pathLst>
                <a:path w="30" h="1441">
                  <a:moveTo>
                    <a:pt x="30" y="1441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1441"/>
                  </a:lnTo>
                  <a:close/>
                </a:path>
              </a:pathLst>
            </a:custGeom>
            <a:solidFill>
              <a:srgbClr val="93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2200" y="3106800"/>
              <a:ext cx="47520" cy="2295360"/>
            </a:xfrm>
            <a:custGeom>
              <a:avLst/>
              <a:gdLst/>
              <a:ahLst/>
              <a:rect l="l" t="t" r="r" b="b"/>
              <a:pathLst>
                <a:path w="30" h="1446">
                  <a:moveTo>
                    <a:pt x="30" y="1446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446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3400" y="3079800"/>
              <a:ext cx="28800" cy="2295360"/>
            </a:xfrm>
            <a:custGeom>
              <a:avLst/>
              <a:gdLst/>
              <a:ahLst/>
              <a:rect l="l" t="t" r="r" b="b"/>
              <a:pathLst>
                <a:path w="18" h="1446">
                  <a:moveTo>
                    <a:pt x="18" y="1446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446"/>
                  </a:lnTo>
                  <a:close/>
                </a:path>
              </a:pathLst>
            </a:custGeom>
            <a:solidFill>
              <a:srgbClr val="87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3400" y="3052800"/>
              <a:ext cx="1800" cy="2295360"/>
            </a:xfrm>
            <a:custGeom>
              <a:avLst/>
              <a:gdLst/>
              <a:ahLst/>
              <a:rect l="l" t="t" r="r" b="b"/>
              <a:pathLst>
                <a:path w="0" h="1446">
                  <a:moveTo>
                    <a:pt x="0" y="1446"/>
                  </a:moveTo>
                  <a:lnTo>
                    <a:pt x="0" y="1435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1446"/>
                  </a:lnTo>
                  <a:close/>
                </a:path>
              </a:pathLst>
            </a:custGeom>
            <a:solidFill>
              <a:srgbClr val="81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3400" y="2979720"/>
              <a:ext cx="590760" cy="200160"/>
            </a:xfrm>
            <a:custGeom>
              <a:avLst/>
              <a:gdLst/>
              <a:ahLst/>
              <a:rect l="l" t="t" r="r" b="b"/>
              <a:pathLst>
                <a:path w="372" h="126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6"/>
                  </a:lnTo>
                  <a:lnTo>
                    <a:pt x="372" y="63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6"/>
                  </a:lnTo>
                  <a:lnTo>
                    <a:pt x="168" y="126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6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33400" y="5330880"/>
              <a:ext cx="59076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3400" y="2979720"/>
              <a:ext cx="590760" cy="200160"/>
            </a:xfrm>
            <a:custGeom>
              <a:avLst/>
              <a:gdLst/>
              <a:ahLst/>
              <a:rect l="l" t="t" r="r" b="b"/>
              <a:pathLst>
                <a:path w="372" h="126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6"/>
                  </a:lnTo>
                  <a:lnTo>
                    <a:pt x="372" y="63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6"/>
                  </a:lnTo>
                  <a:lnTo>
                    <a:pt x="168" y="126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6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24160" y="3106440"/>
              <a:ext cx="1440" cy="22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733400" y="3052800"/>
              <a:ext cx="1800" cy="22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5240" y="35244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91,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362720" y="3096720"/>
              <a:ext cx="1800" cy="249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2720" y="559440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62720" y="509436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2720" y="459576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62720" y="409572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2720" y="359712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2720" y="309708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37960" y="5511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37960" y="5013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7960" y="45133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37960" y="40147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37960" y="3514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37960" y="301608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7559640" y="4280760"/>
              <a:ext cx="1047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RCENTAJ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409760" y="5594400"/>
              <a:ext cx="595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9760" y="559440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548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092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7000" y="559440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272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4840" y="568476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SIST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72320" y="5684760"/>
              <a:ext cx="95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PROB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06280" y="5684760"/>
              <a:ext cx="83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ER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360" y="568476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IT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48760" y="5919840"/>
              <a:ext cx="979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1000" y="1585800"/>
              <a:ext cx="762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DICADORES: ASISTENCIA, APROBACIÓN, DESERCIÓN Y REPITENCIA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09920" y="1890720"/>
              <a:ext cx="246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ÍODO 2000 - 20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4280" y="1409760"/>
              <a:ext cx="8753400" cy="491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79880" y="546480"/>
            <a:ext cx="818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bicación geográfica: norte de la América del Sur en el hemisferio occidental al oeste del meridiano de GREENW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68360" y="1268280"/>
          <a:ext cx="7813800" cy="4938840"/>
        </p:xfrm>
        <a:graphic>
          <a:graphicData uri="http://schemas.openxmlformats.org/drawingml/2006/table">
            <a:tbl>
              <a:tblPr/>
              <a:tblGrid>
                <a:gridCol w="5508720"/>
                <a:gridCol w="2305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6.455 k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cayos e islotes de Soberanía Venezo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(estimación para el año 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47.190 perso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os Poblados (censo 1990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ones en áreas ru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ones en áreas urbanas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área geográfica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19.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área geográfica (rur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27.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sexo: 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sexo: 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94.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52.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Demográfica del 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7 H/ k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ión Política: Está dividida en 23 Estados y un Distrito Capital. Los Estados están formados por 335 Municipios, 1084 Parroquias, 84 Municipios Capitales y 3 Distritos Metropolitan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crecimiento natural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/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/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Natalidad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Mortalidad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61800" y="470520"/>
            <a:ext cx="736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ÍSTICAS DEL SECTOR EDUCATIVO DE 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O DE EDUCACIÓN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24000" y="1916280"/>
          <a:ext cx="5489640" cy="4017960"/>
        </p:xfrm>
        <a:graphic>
          <a:graphicData uri="http://schemas.openxmlformats.org/drawingml/2006/table">
            <a:tbl>
              <a:tblPr/>
              <a:tblGrid>
                <a:gridCol w="3940200"/>
                <a:gridCol w="15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Total de los Niveles Educa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33.726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Preescolar.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22,3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2.995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.16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Básica: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21,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86.445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8.007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Media, Diversificada y Profesional                                            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8,2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37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09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ones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inson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inson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b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2.131.06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ocente del Ministerio de Educación y De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5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Escuelas Bolivari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Escuelas Bolivarianas Produ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0" y="790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2080" y="841320"/>
            <a:ext cx="84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NEZUE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3073320"/>
            <a:ext cx="84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Aprender Haciendo y Enseñar Produciendo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545796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Bookman Old Style"/>
              </a:rPr>
              <a:t>Experiencia en el Campo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Bookman Old Style"/>
              </a:rPr>
              <a:t>Agosto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1835280" y="476280"/>
          <a:ext cx="5489280" cy="2832120"/>
        </p:xfrm>
        <a:graphic>
          <a:graphicData uri="http://schemas.openxmlformats.org/drawingml/2006/table">
            <a:tbl>
              <a:tblPr/>
              <a:tblGrid>
                <a:gridCol w="3940200"/>
                <a:gridCol w="1549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de Educación de Adu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.979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uelas Técnicas (Agropecuarias, Comercio, Industriales, Servi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de Escuelas Técn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.712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upuesto Ministerio de Educación y De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. 4.780.759.138.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Nacional de Bibliotecas Públ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eta de 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obinson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3.314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obinso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.337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ib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9.384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2064960" y="3763080"/>
            <a:ext cx="51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O DE EDUCACIÓ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819440" y="4781520"/>
          <a:ext cx="5489280" cy="952560"/>
        </p:xfrm>
        <a:graphic>
          <a:graphicData uri="http://schemas.openxmlformats.org/drawingml/2006/table">
            <a:tbl>
              <a:tblPr/>
              <a:tblGrid>
                <a:gridCol w="3939840"/>
                <a:gridCol w="15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ciones de Educación Agrícola a nivel Super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centros de Educación Agrícola de Educación Super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Carreras y Menciones en el área agropecu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360" y="115920"/>
            <a:ext cx="882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o de Educación 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s del Estado Venezola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YECTO BAN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12840" y="2362320"/>
            <a:ext cx="4897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Bolivar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yecto Simon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Técnicas Robinson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Produ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activación de la Educación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ucación Intercultural – Bilingü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tención a la Educación Espe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3080" y="669960"/>
            <a:ext cx="882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ÓN DEL MINISTERIO DE EDUCACIÓN Y DEPORTES EN LA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37348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de las políticas educativas, articuladas a  partir de la atención educativa integral a los niños, niñas, jóvenes y adultos, como estrategias de desarrollo humano y social, que guíen la definición de planes, programas y proyectos a nivel local, regional y nacional, basados en la familia y la comunidad, para lograr una mejor calidad de vida de los niños, niñas, jóvenes y adultos d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3080" y="533520"/>
            <a:ext cx="882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IÓN DEL MINISTERIO DE EDUCACIÓN Y DEPORTES EN LA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720880"/>
            <a:ext cx="8496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inir políticas que eliminen los factores críticos de atraso y debilidad del sistema educativo, a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un cuerpo de directrices validas y confiables entendidas como ejes de una gestión para el cambio y en las que se consideren las estrategias específicas de cada nivel y modalidad para 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0" y="677880"/>
            <a:ext cx="88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O DE EDUCACIÓN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s de la Dirección de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349360"/>
            <a:ext cx="734544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r la cobertura y mejoramiento de la calidad educativa en los diferentes Niveles y Modalidades ubicadas en 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der  de manera integral a la población rural, a través del fortalecimiento de redes intersectoriales, interinstitucionales y comuni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ulsar la alfabetización en el sector rural en el territori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inicio y la consolidación de proyectos que atiendan las necesidades  educativas del sector rural, a través del fortalecimiento y mejoramiento integral de las instituciones educ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080" y="6778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A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191628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ar un currículo abierto, flexible, coherente, con una visión compartida que atienda las necesidades e intereses del sector rural, que permita la integración de la escuela, familia y la comunidad a través del fortalecimiento de los valores necesarios para la formación del Nuevo Republ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 en las escuelas rurales la prosecución escolar como una alternativa para mejorar la calidad de vida de los miembros de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r los núcleos  escolares rurales, las escuelas graduadas rurales y las escuelas granjas en unidades  pedagógicas  produ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517680"/>
            <a:ext cx="88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ISA FU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CIÓN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478240"/>
            <a:ext cx="78832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atizar  el valor del trabajo desde temprana 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 las condiciones para elegir un oficio o profesión con base a su vo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r con el artículo Nº 3 de la Constitución: “ Educación y Trabajo, procesos fundamentales para alcanzar los fines de la N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080" y="6778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ícula Escolar 2002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342252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escolar                           882.095                 197.161                    22,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3440" y="23432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At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656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28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53440" y="27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3800" y="42148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ásica                                  4.786.445              1.028.007                 21,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486252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                                   512.371                 42.091                      8,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708280"/>
            <a:ext cx="8064360" cy="280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8:12:25Z</dcterms:created>
  <dc:creator>19Despccve001</dc:creator>
  <dc:description/>
  <dc:language>en-US</dc:language>
  <cp:lastModifiedBy>Unidad de Soporte Tecnico</cp:lastModifiedBy>
  <cp:lastPrinted>2004-07-30T20:58:49Z</cp:lastPrinted>
  <dcterms:modified xsi:type="dcterms:W3CDTF">2004-07-30T21:03:20Z</dcterms:modified>
  <cp:revision>39</cp:revision>
  <dc:subject/>
  <dc:title>Diapositiva 1</dc:title>
</cp:coreProperties>
</file>