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DAC3-4739-4B8F-A620-3B0FF278FB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omtien copio PPE- región fue pio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o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- ampliar oferta infantil  y secundaria, asegurar calidad  a lo largo de la vida, flexibilizar sistema, asegurar acceso y finalización de la básica en la edad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I-integración formación inicial y en servicio, investigación sobre practicas docentes con capacitación continuada y modificación de la cultura escolar, valorización, condiciones laborales y remuneración docente, docente se sintiendo responsable por el alum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984-4C3B-4208-AF67-293ED235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F24-5363-4DD2-B7C6-1F91C76C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6AE-E948-4D46-BCE6-1C68B56F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6E8-0E47-4A54-965B-6197424C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0A1-A29B-4853-BBBE-03AF7096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2A1-DDFD-4FA5-8DBA-F5718BFD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E20-C056-46BC-8A9A-CC932583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D44-B6C1-4D41-88B9-BB5995ED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204-A4CB-48D3-A032-153C1EBB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9CB-09E5-4CE8-B30C-8D4ED4E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49F-02F2-4658-A422-7A2B8E75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694-5A4F-4408-9FE8-E7AF7A8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C31D-06CF-4367-BACA-2BA6D2A4A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rco Estratégico Region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 Educación para la Población Ru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6629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rnesto Treviño, UNE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FICINA REGIONAL DE EDUCACION PAR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ERICA LATINA Y EL CA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ntiago, Agosto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812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ao_food_agriculture_organization_negro" descr=""/>
          <p:cNvPicPr/>
          <p:nvPr/>
        </p:nvPicPr>
        <p:blipFill>
          <a:blip r:embed="rId2"/>
          <a:stretch/>
        </p:blipFill>
        <p:spPr>
          <a:xfrm>
            <a:off x="1371600" y="586728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1020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unescochico" descr=""/>
          <p:cNvPicPr/>
          <p:nvPr/>
        </p:nvPicPr>
        <p:blipFill>
          <a:blip r:embed="rId3"/>
          <a:stretch/>
        </p:blipFill>
        <p:spPr>
          <a:xfrm>
            <a:off x="6934320" y="5867280"/>
            <a:ext cx="876240" cy="692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267080" y="5867280"/>
            <a:ext cx="8384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a esco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oyo de las autoridades educativas en recursos humanos, técnicos y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dad de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cuela que considere a la cultura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centes que sep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alogar y trabajar con los líderes de sus comunid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escuela rural tiene que ser flexible y abierta a la comun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stión flexi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extraescol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ltura y lengua lo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pación para pertin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exibilización de modelos educativos y cer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r cobertura de servicios con énfasis en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tación de recursos humanos y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aluación de aprendiz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47920"/>
            <a:ext cx="861084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1065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do es el responsable primario de garantizar el derecho a la edu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1065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íticas sociales y económicas integrado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1065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unidad y las familias rurales: 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1065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resas: contenidos de formación de técnica y fomentar responsabilidad social empres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10656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os de comunicación: para educar y educar para asumir críticamente mensajes de medios mas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xpect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genda de futuro a partir de los lineamientos del Marco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acciones concretas y con resultados med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iciar trabajo intersec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l mediano plazo generar cambios en las políticas educativas y de desarrollo r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¿Qué 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 que da una visión amplia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oblación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educación para la población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esarrollo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texto de EPR en América La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ianza Internacional contra el Ha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o Mundial de Educación Para Todos (Dakar,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mbre de Desarrollo Sustentable (Johannesburgo,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yecto Regional de Educación para América Latina y el Caribe (PRELAC,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tivo del Mar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vir de referencia para el diseño de políticas nacionales orientadas a la mejora del acceso y la calidad de la oferta educativa para la población de las áreas rurales, las que coadyuven al desarrollo y a la reducción de la pobreza en las zonas rur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reve Diagnó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676520"/>
            <a:ext cx="861048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uralidad en América Latina es muy divers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lta definición consensuada de ruralidad, pero se puede caracteriz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mensiones de la inequidad:  socioeconómica, demográfica, étnica, cultural y de género en las que se manifiesta la desigualdad, se potencian negativam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ubnutrición e insuficiencia alimentari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ersistente rezago educativ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Desafíos para las políticas de E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371600"/>
            <a:ext cx="792468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obrez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spersión pobla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versidad cultu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 educativa limit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urrículo para el aprendizaje significa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ácticas de los docentes adecuad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 comunit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ias innovadoras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rco Estratégico Regional de E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295280"/>
            <a:ext cx="80773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ado en los cinco focos estratégicos del PRELA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idos y prácticas de la educación para construir sen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entes y fortalecimiento de su protagonismo en el cambio edu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 de las escuelas para conviertirlas en comunidade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y flexibilización de los sistemas edu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ilidad social por la edu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ido de la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ducación que dé sentido a la vida y ayude a valorarnos a nosotros mismos y a los de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entre la relevancia, la pertinencia e igual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ducación pertinente y currículo flex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ducación relevante conecta el entorno local con el mu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minución de las desigualdades educ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ogías de información y comunic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cen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295280"/>
            <a:ext cx="79246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actor más relevante después del estudi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ción docente: pertinente, contexto multigrado, facilitador de auto-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ción de personal para llevar los mejores docentes a donde más se neces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ones laborales: incentivos, facilidades para adaptación, núcleos escu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ítica integ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22:12:16Z</dcterms:created>
  <dc:creator>A.L. Machado</dc:creator>
  <dc:description/>
  <dc:language>en-US</dc:language>
  <cp:lastModifiedBy>Isabel Margaarita Honorato</cp:lastModifiedBy>
  <cp:lastPrinted>2003-04-11T13:56:15Z</cp:lastPrinted>
  <dcterms:modified xsi:type="dcterms:W3CDTF">2004-08-10T20:59:18Z</dcterms:modified>
  <cp:revision>285</cp:revision>
  <dc:subject/>
  <dc:title>Sin título de diapositiva</dc:title>
</cp:coreProperties>
</file>