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A896-B045-4655-8825-F7E5A332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232F-DBCD-4E58-9BD4-B1385E12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8FE-BE2F-42B8-9B5D-36CBE23D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D4A1-C832-4CD5-99CA-0422C321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CAA-B25D-4ECC-A252-5D71422D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619-4AEA-4D73-859E-7835FF04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5C6A-5CB6-4D37-9A77-6EF03B10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63B-DCE5-4AB3-94F4-612CAF94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BDB-E679-4A2E-BCA1-76B37C02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AE4E-DDDA-478A-A6F8-B7B50ACE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615C-F2A3-4815-8E3D-E036F174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0DD4-7D13-4EDF-9AF3-4D9C0F3D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666F-AA02-448D-8BA5-AAF3DC946DB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048" b="0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83664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Relanzamiento de la Educación Costarr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26028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Century Gothic"/>
              </a:rPr>
              <a:t>MINISTERIO DE EDUCACIÓN  PÚB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47720" y="3657600"/>
            <a:ext cx="7496280" cy="18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Century Gothic"/>
              </a:rPr>
              <a:t>EDUCACIÓN DE LA POBLACIÓN RURAL EN AMÉRICA LATI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Century Gothic"/>
              </a:rPr>
              <a:t>ALIMENTACIÓN Y EDUCACIÓN PARA 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96200"/>
            <a:ext cx="9144000" cy="75960"/>
          </a:xfrm>
          <a:prstGeom prst="rect">
            <a:avLst/>
          </a:prstGeom>
          <a:gradFill rotWithShape="0">
            <a:gsLst>
              <a:gs pos="0">
                <a:srgbClr val="84add6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0" r="0" b="23741"/>
          <a:stretch/>
        </p:blipFill>
        <p:spPr>
          <a:xfrm>
            <a:off x="379440" y="4559400"/>
            <a:ext cx="2457360" cy="1917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60360" y="4535640"/>
            <a:ext cx="4953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55720" y="4535640"/>
            <a:ext cx="4953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49280" y="4535640"/>
            <a:ext cx="4971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46440" y="4535640"/>
            <a:ext cx="49500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4144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036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5572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49280" y="503064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46440" y="503064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4144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0360" y="5524560"/>
            <a:ext cx="495360" cy="496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5572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49280" y="5524560"/>
            <a:ext cx="4971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46440" y="5524560"/>
            <a:ext cx="49500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41440" y="5524560"/>
            <a:ext cx="49536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0360" y="6019920"/>
            <a:ext cx="4953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55720" y="601992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49280" y="6019920"/>
            <a:ext cx="497160" cy="495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46440" y="601992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41440" y="6019920"/>
            <a:ext cx="495360" cy="495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0" y="0"/>
            <a:ext cx="9145440" cy="1006560"/>
            <a:chOff x="0" y="0"/>
            <a:chExt cx="9145440" cy="1006560"/>
          </a:xfrm>
        </p:grpSpPr>
        <p:sp>
          <p:nvSpPr>
            <p:cNvPr id="303" name=""/>
            <p:cNvSpPr/>
            <p:nvPr/>
          </p:nvSpPr>
          <p:spPr>
            <a:xfrm>
              <a:off x="71280" y="71280"/>
              <a:ext cx="9074160" cy="93528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0"/>
              <a:ext cx="9145440" cy="93492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048120" y="1066680"/>
            <a:ext cx="58672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1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e la población de 10 a</a:t>
            </a:r>
            <a:r>
              <a:rPr b="1" lang="es-E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ñ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s y más que no sabe leer ni escribir pasó de 6,9% en 1984 a 4,8% en el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e han registrado disminuciones en todas las provinc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e pretende que al 2006 la tasa esté en un 3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2286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NALFABETIS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828800"/>
            <a:ext cx="228600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 denota una disminución de la tasa de analfabetismo en el último a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ñ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rcRect l="0" t="0" r="13345" b="0"/>
          <a:stretch/>
        </p:blipFill>
        <p:spPr>
          <a:xfrm>
            <a:off x="376200" y="4538520"/>
            <a:ext cx="2443320" cy="19386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6036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55720" y="4535640"/>
            <a:ext cx="495360" cy="495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49280" y="4535640"/>
            <a:ext cx="4971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46440" y="4535640"/>
            <a:ext cx="49500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4144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6036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5572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49280" y="503064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46440" y="503064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4144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0360" y="5524560"/>
            <a:ext cx="49536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5572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49280" y="5524560"/>
            <a:ext cx="4971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46440" y="5524560"/>
            <a:ext cx="49500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4144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0360" y="6019920"/>
            <a:ext cx="495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55720" y="601992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49280" y="601992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46440" y="601992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41440" y="6019920"/>
            <a:ext cx="4953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0" y="0"/>
            <a:ext cx="9145440" cy="1006560"/>
            <a:chOff x="0" y="0"/>
            <a:chExt cx="9145440" cy="1006560"/>
          </a:xfrm>
        </p:grpSpPr>
        <p:sp>
          <p:nvSpPr>
            <p:cNvPr id="330" name=""/>
            <p:cNvSpPr/>
            <p:nvPr/>
          </p:nvSpPr>
          <p:spPr>
            <a:xfrm>
              <a:off x="71280" y="71280"/>
              <a:ext cx="9074160" cy="93528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0"/>
              <a:ext cx="9145440" cy="93492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5360" y="304920"/>
            <a:ext cx="85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LUCHA FRONTAL CONTRA LA DESERCIÓN ESTUDIANT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590920" y="1447920"/>
            <a:ext cx="6095520" cy="4495680"/>
            <a:chOff x="2590920" y="1447920"/>
            <a:chExt cx="6095520" cy="4495680"/>
          </a:xfrm>
        </p:grpSpPr>
        <p:grpSp>
          <p:nvGrpSpPr>
            <p:cNvPr id="334" name=""/>
            <p:cNvGrpSpPr/>
            <p:nvPr/>
          </p:nvGrpSpPr>
          <p:grpSpPr>
            <a:xfrm>
              <a:off x="2596680" y="1450800"/>
              <a:ext cx="6082560" cy="4489200"/>
              <a:chOff x="2596680" y="1450800"/>
              <a:chExt cx="6082560" cy="448920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2596680" y="1450800"/>
                <a:ext cx="3638880" cy="442440"/>
                <a:chOff x="2596680" y="1450800"/>
                <a:chExt cx="3638880" cy="4424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2683080" y="1450800"/>
                  <a:ext cx="346644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MX" sz="18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Modalidad / Año Cursad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596680" y="1450800"/>
                  <a:ext cx="3638880" cy="44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6235920" y="1450800"/>
                <a:ext cx="2443320" cy="442440"/>
                <a:chOff x="6235920" y="1450800"/>
                <a:chExt cx="2443320" cy="44244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6322320" y="1450800"/>
                  <a:ext cx="227088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MX" sz="18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% Deserció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235920" y="1450800"/>
                  <a:ext cx="2443320" cy="44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2596680" y="1893240"/>
                <a:ext cx="3638880" cy="568800"/>
                <a:chOff x="2596680" y="1893240"/>
                <a:chExt cx="3638880" cy="56880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683080" y="1893240"/>
                  <a:ext cx="3466440" cy="56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596680" y="1893240"/>
                  <a:ext cx="3638880" cy="56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235920" y="1893240"/>
                <a:ext cx="846360" cy="568800"/>
                <a:chOff x="6235920" y="1893240"/>
                <a:chExt cx="846360" cy="56880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322320" y="1893240"/>
                  <a:ext cx="673920" cy="56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200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235920" y="1893240"/>
                  <a:ext cx="846360" cy="56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7082640" y="1893240"/>
                <a:ext cx="846360" cy="568800"/>
                <a:chOff x="7082640" y="1893240"/>
                <a:chExt cx="846360" cy="56880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169040" y="1893240"/>
                  <a:ext cx="673560" cy="56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MX" sz="12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200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082640" y="1893240"/>
                  <a:ext cx="846360" cy="56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7929360" y="1893240"/>
                <a:ext cx="749880" cy="568800"/>
                <a:chOff x="7929360" y="1893240"/>
                <a:chExt cx="749880" cy="56880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015760" y="1893240"/>
                  <a:ext cx="577440" cy="56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MX" sz="12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200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929360" y="1893240"/>
                  <a:ext cx="749880" cy="56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2596680" y="2462040"/>
                <a:ext cx="3638880" cy="569160"/>
                <a:chOff x="2596680" y="2462040"/>
                <a:chExt cx="3638880" cy="5691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2683080" y="2462040"/>
                  <a:ext cx="3466440" cy="56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Tercer Ciclo y Educación Diversificad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Gener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596680" y="2462040"/>
                  <a:ext cx="3638880" cy="56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6235920" y="2462040"/>
                <a:ext cx="846360" cy="569160"/>
                <a:chOff x="6235920" y="2462040"/>
                <a:chExt cx="846360" cy="5691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6322320" y="2462040"/>
                  <a:ext cx="673920" cy="56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12.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235920" y="2462040"/>
                  <a:ext cx="846360" cy="56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7082640" y="2462040"/>
                <a:ext cx="846360" cy="569160"/>
                <a:chOff x="7082640" y="2462040"/>
                <a:chExt cx="846360" cy="5691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7169040" y="2462040"/>
                  <a:ext cx="673560" cy="56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12.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082640" y="2462040"/>
                  <a:ext cx="846360" cy="56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7929360" y="2462040"/>
                <a:ext cx="749880" cy="569160"/>
                <a:chOff x="7929360" y="2462040"/>
                <a:chExt cx="749880" cy="5691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8015760" y="2462040"/>
                  <a:ext cx="577440" cy="56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10.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929360" y="2462040"/>
                  <a:ext cx="749880" cy="56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2596680" y="3031200"/>
                <a:ext cx="3638880" cy="568800"/>
                <a:chOff x="2596680" y="3031200"/>
                <a:chExt cx="3638880" cy="56880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2683080" y="3031200"/>
                  <a:ext cx="3466440" cy="56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Tercer Ciclo y Educación Diversificad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Diurn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596680" y="3031200"/>
                  <a:ext cx="3638880" cy="56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235920" y="3031200"/>
                <a:ext cx="846360" cy="568800"/>
                <a:chOff x="6235920" y="3031200"/>
                <a:chExt cx="846360" cy="56880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322320" y="3031200"/>
                  <a:ext cx="673920" cy="56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11.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235920" y="3031200"/>
                  <a:ext cx="846360" cy="56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082640" y="3031200"/>
                <a:ext cx="846360" cy="568800"/>
                <a:chOff x="7082640" y="3031200"/>
                <a:chExt cx="846360" cy="5688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169040" y="3031200"/>
                  <a:ext cx="673560" cy="56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10.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082640" y="3031200"/>
                  <a:ext cx="846360" cy="56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7929360" y="3031200"/>
                <a:ext cx="749880" cy="568800"/>
                <a:chOff x="7929360" y="3031200"/>
                <a:chExt cx="749880" cy="56880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015760" y="3031200"/>
                  <a:ext cx="577440" cy="56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9.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929360" y="3031200"/>
                  <a:ext cx="749880" cy="56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2596680" y="3600360"/>
                <a:ext cx="3638880" cy="442440"/>
                <a:chOff x="2596680" y="3600360"/>
                <a:chExt cx="3638880" cy="4424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2683080" y="3600360"/>
                  <a:ext cx="346644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Tercer Ciclo Diurn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596680" y="3600360"/>
                  <a:ext cx="3638880" cy="44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6235920" y="3600360"/>
                <a:ext cx="846360" cy="442440"/>
                <a:chOff x="6235920" y="3600360"/>
                <a:chExt cx="846360" cy="4424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6322320" y="3600360"/>
                  <a:ext cx="67392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12.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235920" y="3600360"/>
                  <a:ext cx="846360" cy="44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7082640" y="3600360"/>
                <a:ext cx="846360" cy="442440"/>
                <a:chOff x="7082640" y="3600360"/>
                <a:chExt cx="846360" cy="4424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7169040" y="3600360"/>
                  <a:ext cx="67356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12.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082640" y="3600360"/>
                  <a:ext cx="846360" cy="44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7929360" y="3600360"/>
                <a:ext cx="749880" cy="442440"/>
                <a:chOff x="7929360" y="3600360"/>
                <a:chExt cx="749880" cy="44244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8015760" y="3600360"/>
                  <a:ext cx="57744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10.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929360" y="3600360"/>
                  <a:ext cx="749880" cy="44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2596680" y="4042800"/>
                <a:ext cx="3638880" cy="442440"/>
                <a:chOff x="2596680" y="4042800"/>
                <a:chExt cx="3638880" cy="44244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2683080" y="4042800"/>
                  <a:ext cx="346644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Sétimo Añ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596680" y="4042800"/>
                  <a:ext cx="3638880" cy="44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235920" y="4042800"/>
                <a:ext cx="846360" cy="442440"/>
                <a:chOff x="6235920" y="4042800"/>
                <a:chExt cx="846360" cy="4424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322320" y="4042800"/>
                  <a:ext cx="67392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19*.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235920" y="4042800"/>
                  <a:ext cx="846360" cy="44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082640" y="4042800"/>
                <a:ext cx="846360" cy="442440"/>
                <a:chOff x="7082640" y="4042800"/>
                <a:chExt cx="846360" cy="4424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169040" y="4042800"/>
                  <a:ext cx="67356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19.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082640" y="4042800"/>
                  <a:ext cx="846360" cy="44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7929360" y="4042800"/>
                <a:ext cx="749880" cy="442440"/>
                <a:chOff x="7929360" y="4042800"/>
                <a:chExt cx="749880" cy="4424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015760" y="4042800"/>
                  <a:ext cx="57744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16.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929360" y="4042800"/>
                  <a:ext cx="749880" cy="44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2596680" y="4485600"/>
                <a:ext cx="3638880" cy="568800"/>
                <a:chOff x="2596680" y="4485600"/>
                <a:chExt cx="3638880" cy="56880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2683080" y="4485600"/>
                  <a:ext cx="3466440" cy="56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Tercer Ciclo y Educación Diversificad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Nocturn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6680" y="4485600"/>
                  <a:ext cx="3638880" cy="56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6235920" y="4485600"/>
                <a:ext cx="846360" cy="568800"/>
                <a:chOff x="6235920" y="4485600"/>
                <a:chExt cx="846360" cy="56880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6322320" y="4485600"/>
                  <a:ext cx="673920" cy="56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23.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235920" y="4485600"/>
                  <a:ext cx="846360" cy="56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7082640" y="4485600"/>
                <a:ext cx="846360" cy="568800"/>
                <a:chOff x="7082640" y="4485600"/>
                <a:chExt cx="846360" cy="56880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7169040" y="4485600"/>
                  <a:ext cx="673560" cy="56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22.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082640" y="4485600"/>
                  <a:ext cx="846360" cy="56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7929360" y="4485600"/>
                <a:ext cx="749880" cy="568800"/>
                <a:chOff x="7929360" y="4485600"/>
                <a:chExt cx="749880" cy="56880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8015760" y="4485600"/>
                  <a:ext cx="577440" cy="56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200.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929360" y="4485600"/>
                  <a:ext cx="749880" cy="56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2596680" y="5054400"/>
                <a:ext cx="3638880" cy="442440"/>
                <a:chOff x="2596680" y="5054400"/>
                <a:chExt cx="3638880" cy="44244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2683080" y="5054400"/>
                  <a:ext cx="346644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Tercer Ciclo Nocturn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596680" y="5054400"/>
                  <a:ext cx="3638880" cy="44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6235920" y="5054400"/>
                <a:ext cx="846360" cy="442440"/>
                <a:chOff x="6235920" y="5054400"/>
                <a:chExt cx="846360" cy="4424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6322320" y="5054400"/>
                  <a:ext cx="67392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28.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235920" y="5054400"/>
                  <a:ext cx="846360" cy="44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7082640" y="5054400"/>
                <a:ext cx="846360" cy="442440"/>
                <a:chOff x="7082640" y="5054400"/>
                <a:chExt cx="846360" cy="4424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7169040" y="5054400"/>
                  <a:ext cx="67356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26.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082640" y="5054400"/>
                  <a:ext cx="846360" cy="44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7929360" y="5054400"/>
                <a:ext cx="749880" cy="442440"/>
                <a:chOff x="7929360" y="5054400"/>
                <a:chExt cx="749880" cy="4424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8015760" y="5054400"/>
                  <a:ext cx="577440" cy="44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23.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929360" y="5054400"/>
                  <a:ext cx="749880" cy="44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2596680" y="5497200"/>
                <a:ext cx="3638880" cy="442800"/>
                <a:chOff x="2596680" y="5497200"/>
                <a:chExt cx="3638880" cy="4428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2683080" y="5497200"/>
                  <a:ext cx="3466440" cy="44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Sétimo Añ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596680" y="5497200"/>
                  <a:ext cx="3638880" cy="44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6235920" y="5497200"/>
                <a:ext cx="846360" cy="442800"/>
                <a:chOff x="6235920" y="5497200"/>
                <a:chExt cx="846360" cy="44280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6322320" y="5497200"/>
                  <a:ext cx="673920" cy="44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36.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235920" y="5497200"/>
                  <a:ext cx="846360" cy="44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7082640" y="5497200"/>
                <a:ext cx="846360" cy="442800"/>
                <a:chOff x="7082640" y="5497200"/>
                <a:chExt cx="846360" cy="44280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7169040" y="5497200"/>
                  <a:ext cx="673560" cy="44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34.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082640" y="5497200"/>
                  <a:ext cx="846360" cy="44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7929360" y="5497200"/>
                <a:ext cx="749880" cy="442800"/>
                <a:chOff x="7929360" y="5497200"/>
                <a:chExt cx="749880" cy="4428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8015760" y="5497200"/>
                  <a:ext cx="577440" cy="44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404a66"/>
                      </a:solidFill>
                      <a:latin typeface="Arial Unicode MS"/>
                      <a:ea typeface="Times New Roman"/>
                    </a:rPr>
                    <a:t>29.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929360" y="5497200"/>
                  <a:ext cx="749880" cy="442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7" name=""/>
            <p:cNvSpPr/>
            <p:nvPr/>
          </p:nvSpPr>
          <p:spPr>
            <a:xfrm>
              <a:off x="2590920" y="1447920"/>
              <a:ext cx="6095520" cy="4495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rcRect l="0" t="0" r="13345" b="0"/>
          <a:stretch/>
        </p:blipFill>
        <p:spPr>
          <a:xfrm>
            <a:off x="376200" y="4538520"/>
            <a:ext cx="2443320" cy="19386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6036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55720" y="4535640"/>
            <a:ext cx="495360" cy="495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49280" y="4535640"/>
            <a:ext cx="4971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46440" y="4535640"/>
            <a:ext cx="49500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4144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036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5572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49280" y="503064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846440" y="503064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4144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0360" y="5524560"/>
            <a:ext cx="49536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5572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49280" y="5524560"/>
            <a:ext cx="4971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846440" y="5524560"/>
            <a:ext cx="49500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34144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60360" y="6019920"/>
            <a:ext cx="495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55720" y="601992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49280" y="601992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846440" y="601992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41440" y="6019920"/>
            <a:ext cx="4953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0" y="0"/>
            <a:ext cx="9145440" cy="1006560"/>
            <a:chOff x="0" y="0"/>
            <a:chExt cx="9145440" cy="1006560"/>
          </a:xfrm>
        </p:grpSpPr>
        <p:sp>
          <p:nvSpPr>
            <p:cNvPr id="460" name=""/>
            <p:cNvSpPr/>
            <p:nvPr/>
          </p:nvSpPr>
          <p:spPr>
            <a:xfrm>
              <a:off x="71280" y="71280"/>
              <a:ext cx="9074160" cy="93528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0" y="0"/>
              <a:ext cx="9145440" cy="93492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38320" y="20484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GRAMAS DE EQUID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4920" y="1371600"/>
            <a:ext cx="2057400" cy="22885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a prioridad nacional la atención de quienes más necesi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666880" y="1523880"/>
            <a:ext cx="647712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GRAMA DE COMEDORES ESCOLARE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básica complementaria a los n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os y n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s de familias pobres. Previendo enfermedades, ausentismo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nversión de $14,8 mill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250"/>
              </a:spcBef>
              <a:buClr>
                <a:srgbClr val="404a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a66"/>
                </a:solidFill>
                <a:latin typeface="Times New Roman"/>
                <a:ea typeface="Times New Roman"/>
              </a:rPr>
              <a:t>Huertas Esco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edores Esco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250"/>
              </a:spcBef>
              <a:buClr>
                <a:srgbClr val="404a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404a66"/>
                </a:solidFill>
                <a:latin typeface="Times New Roman"/>
                <a:ea typeface="Times New Roman"/>
              </a:rPr>
              <a:t>Sodas Escolares y Coleg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250"/>
              </a:spcBef>
              <a:buClr>
                <a:srgbClr val="404a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404a66"/>
                </a:solidFill>
                <a:latin typeface="Times New Roman"/>
                <a:ea typeface="Times New Roman"/>
              </a:rPr>
              <a:t>Programa de Salud y Nutrición Esc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250"/>
              </a:spcBef>
              <a:buClr>
                <a:srgbClr val="404a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404a66"/>
                </a:solidFill>
                <a:latin typeface="Times New Roman"/>
                <a:ea typeface="Times New Roman"/>
              </a:rPr>
              <a:t>Transversalidad / Tema Transversal: Educación para la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rcRect l="0" t="0" r="13345" b="0"/>
          <a:stretch/>
        </p:blipFill>
        <p:spPr>
          <a:xfrm>
            <a:off x="376200" y="4538520"/>
            <a:ext cx="2443320" cy="19386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6036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55720" y="4535640"/>
            <a:ext cx="495360" cy="495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49280" y="4535640"/>
            <a:ext cx="4971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846440" y="4535640"/>
            <a:ext cx="49500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34144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6036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5572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49280" y="503064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46440" y="503064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4144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0360" y="5524560"/>
            <a:ext cx="49536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5572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49280" y="5524560"/>
            <a:ext cx="4971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46440" y="5524560"/>
            <a:ext cx="49500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4144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0360" y="6019920"/>
            <a:ext cx="495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55720" y="601992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349280" y="601992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846440" y="601992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41440" y="6019920"/>
            <a:ext cx="4953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0" y="0"/>
            <a:ext cx="9145440" cy="1006560"/>
            <a:chOff x="0" y="0"/>
            <a:chExt cx="9145440" cy="1006560"/>
          </a:xfrm>
        </p:grpSpPr>
        <p:sp>
          <p:nvSpPr>
            <p:cNvPr id="487" name=""/>
            <p:cNvSpPr/>
            <p:nvPr/>
          </p:nvSpPr>
          <p:spPr>
            <a:xfrm>
              <a:off x="71280" y="71280"/>
              <a:ext cx="9074160" cy="93528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0" y="0"/>
              <a:ext cx="9145440" cy="93492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75400" y="204840"/>
            <a:ext cx="706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GRAMAS DE EQUIDAD </a:t>
            </a:r>
            <a:r>
              <a:rPr b="1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(Bec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" y="1981080"/>
            <a:ext cx="2057400" cy="22885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iende a estudiantes con méritos académicos y vulnerables socialment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666880" y="1219320"/>
            <a:ext cx="6248160" cy="5257800"/>
            <a:chOff x="2666880" y="1219320"/>
            <a:chExt cx="6248160" cy="5257800"/>
          </a:xfrm>
        </p:grpSpPr>
        <p:grpSp>
          <p:nvGrpSpPr>
            <p:cNvPr id="492" name=""/>
            <p:cNvGrpSpPr/>
            <p:nvPr/>
          </p:nvGrpSpPr>
          <p:grpSpPr>
            <a:xfrm>
              <a:off x="2666880" y="1219320"/>
              <a:ext cx="2945520" cy="689040"/>
              <a:chOff x="2666880" y="1219320"/>
              <a:chExt cx="2945520" cy="689040"/>
            </a:xfrm>
          </p:grpSpPr>
          <p:sp>
            <p:nvSpPr>
              <p:cNvPr id="493" name=""/>
              <p:cNvSpPr/>
              <p:nvPr/>
            </p:nvSpPr>
            <p:spPr>
              <a:xfrm>
                <a:off x="2666880" y="1219320"/>
                <a:ext cx="294552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Nivel Educativ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666880" y="1219320"/>
                <a:ext cx="2945520" cy="68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5612400" y="1219320"/>
              <a:ext cx="1696320" cy="689040"/>
              <a:chOff x="5612400" y="1219320"/>
              <a:chExt cx="1696320" cy="689040"/>
            </a:xfrm>
          </p:grpSpPr>
          <p:sp>
            <p:nvSpPr>
              <p:cNvPr id="496" name=""/>
              <p:cNvSpPr/>
              <p:nvPr/>
            </p:nvSpPr>
            <p:spPr>
              <a:xfrm>
                <a:off x="5612400" y="1219320"/>
                <a:ext cx="169632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# </a:t>
                </a:r>
                <a:r>
                  <a:rPr b="1" lang="es-ES" sz="18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Otorgadas 200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612400" y="1219320"/>
                <a:ext cx="1696320" cy="68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7309080" y="1219320"/>
              <a:ext cx="1605960" cy="689040"/>
              <a:chOff x="7309080" y="1219320"/>
              <a:chExt cx="1605960" cy="689040"/>
            </a:xfrm>
          </p:grpSpPr>
          <p:sp>
            <p:nvSpPr>
              <p:cNvPr id="499" name=""/>
              <p:cNvSpPr/>
              <p:nvPr/>
            </p:nvSpPr>
            <p:spPr>
              <a:xfrm>
                <a:off x="7309080" y="1219320"/>
                <a:ext cx="160596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#</a:t>
                </a:r>
                <a:r>
                  <a:rPr b="1" lang="es-ES" sz="18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 Otorgadas 200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309080" y="1219320"/>
                <a:ext cx="1605960" cy="68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2666880" y="1908360"/>
              <a:ext cx="2945520" cy="310680"/>
              <a:chOff x="2666880" y="1908360"/>
              <a:chExt cx="2945520" cy="310680"/>
            </a:xfrm>
          </p:grpSpPr>
          <p:sp>
            <p:nvSpPr>
              <p:cNvPr id="502" name=""/>
              <p:cNvSpPr/>
              <p:nvPr/>
            </p:nvSpPr>
            <p:spPr>
              <a:xfrm>
                <a:off x="2666880" y="1908360"/>
                <a:ext cx="29455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Preescola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66880" y="1908360"/>
                <a:ext cx="29455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612400" y="1908360"/>
              <a:ext cx="1696320" cy="310680"/>
              <a:chOff x="5612400" y="1908360"/>
              <a:chExt cx="1696320" cy="310680"/>
            </a:xfrm>
          </p:grpSpPr>
          <p:sp>
            <p:nvSpPr>
              <p:cNvPr id="505" name=""/>
              <p:cNvSpPr/>
              <p:nvPr/>
            </p:nvSpPr>
            <p:spPr>
              <a:xfrm>
                <a:off x="5612400" y="1908360"/>
                <a:ext cx="16963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1.03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612400" y="1908360"/>
                <a:ext cx="16963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7309080" y="1908360"/>
              <a:ext cx="1605960" cy="310680"/>
              <a:chOff x="7309080" y="1908360"/>
              <a:chExt cx="1605960" cy="310680"/>
            </a:xfrm>
          </p:grpSpPr>
          <p:sp>
            <p:nvSpPr>
              <p:cNvPr id="508" name=""/>
              <p:cNvSpPr/>
              <p:nvPr/>
            </p:nvSpPr>
            <p:spPr>
              <a:xfrm>
                <a:off x="7309080" y="1908360"/>
                <a:ext cx="160596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1.16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309080" y="1908360"/>
                <a:ext cx="160596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2666880" y="2219400"/>
              <a:ext cx="2945520" cy="310680"/>
              <a:chOff x="2666880" y="2219400"/>
              <a:chExt cx="2945520" cy="310680"/>
            </a:xfrm>
          </p:grpSpPr>
          <p:sp>
            <p:nvSpPr>
              <p:cNvPr id="511" name=""/>
              <p:cNvSpPr/>
              <p:nvPr/>
            </p:nvSpPr>
            <p:spPr>
              <a:xfrm>
                <a:off x="2666880" y="2219400"/>
                <a:ext cx="29455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Primaria y Aula Integrad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666880" y="2219400"/>
                <a:ext cx="29455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5612400" y="2219400"/>
              <a:ext cx="1696320" cy="310680"/>
              <a:chOff x="5612400" y="2219400"/>
              <a:chExt cx="1696320" cy="310680"/>
            </a:xfrm>
          </p:grpSpPr>
          <p:sp>
            <p:nvSpPr>
              <p:cNvPr id="514" name=""/>
              <p:cNvSpPr/>
              <p:nvPr/>
            </p:nvSpPr>
            <p:spPr>
              <a:xfrm>
                <a:off x="5612400" y="2219400"/>
                <a:ext cx="16963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12.70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612400" y="2219400"/>
                <a:ext cx="16963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7309080" y="2219400"/>
              <a:ext cx="1605960" cy="310680"/>
              <a:chOff x="7309080" y="2219400"/>
              <a:chExt cx="1605960" cy="310680"/>
            </a:xfrm>
          </p:grpSpPr>
          <p:sp>
            <p:nvSpPr>
              <p:cNvPr id="517" name=""/>
              <p:cNvSpPr/>
              <p:nvPr/>
            </p:nvSpPr>
            <p:spPr>
              <a:xfrm>
                <a:off x="7309080" y="2219400"/>
                <a:ext cx="160596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12.16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309080" y="2219400"/>
                <a:ext cx="160596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2666880" y="2530080"/>
              <a:ext cx="2945520" cy="310680"/>
              <a:chOff x="2666880" y="2530080"/>
              <a:chExt cx="2945520" cy="310680"/>
            </a:xfrm>
          </p:grpSpPr>
          <p:sp>
            <p:nvSpPr>
              <p:cNvPr id="520" name=""/>
              <p:cNvSpPr/>
              <p:nvPr/>
            </p:nvSpPr>
            <p:spPr>
              <a:xfrm>
                <a:off x="2666880" y="2530080"/>
                <a:ext cx="29455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Secundaria Académic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666880" y="2530080"/>
                <a:ext cx="29455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5612400" y="2530080"/>
              <a:ext cx="1696320" cy="310680"/>
              <a:chOff x="5612400" y="2530080"/>
              <a:chExt cx="1696320" cy="310680"/>
            </a:xfrm>
          </p:grpSpPr>
          <p:sp>
            <p:nvSpPr>
              <p:cNvPr id="523" name=""/>
              <p:cNvSpPr/>
              <p:nvPr/>
            </p:nvSpPr>
            <p:spPr>
              <a:xfrm>
                <a:off x="5612400" y="2530080"/>
                <a:ext cx="16963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17.78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612400" y="2530080"/>
                <a:ext cx="16963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7309080" y="2530080"/>
              <a:ext cx="1605960" cy="310680"/>
              <a:chOff x="7309080" y="2530080"/>
              <a:chExt cx="1605960" cy="310680"/>
            </a:xfrm>
          </p:grpSpPr>
          <p:sp>
            <p:nvSpPr>
              <p:cNvPr id="526" name=""/>
              <p:cNvSpPr/>
              <p:nvPr/>
            </p:nvSpPr>
            <p:spPr>
              <a:xfrm>
                <a:off x="7309080" y="2530080"/>
                <a:ext cx="160596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16.82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09080" y="2530080"/>
                <a:ext cx="160596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2666880" y="2841120"/>
              <a:ext cx="2945520" cy="310680"/>
              <a:chOff x="2666880" y="2841120"/>
              <a:chExt cx="2945520" cy="310680"/>
            </a:xfrm>
          </p:grpSpPr>
          <p:sp>
            <p:nvSpPr>
              <p:cNvPr id="529" name=""/>
              <p:cNvSpPr/>
              <p:nvPr/>
            </p:nvSpPr>
            <p:spPr>
              <a:xfrm>
                <a:off x="2666880" y="2841120"/>
                <a:ext cx="29455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Secundaria Técnic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666880" y="2841120"/>
                <a:ext cx="29455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5612400" y="2841120"/>
              <a:ext cx="1696320" cy="310680"/>
              <a:chOff x="5612400" y="2841120"/>
              <a:chExt cx="1696320" cy="310680"/>
            </a:xfrm>
          </p:grpSpPr>
          <p:sp>
            <p:nvSpPr>
              <p:cNvPr id="532" name=""/>
              <p:cNvSpPr/>
              <p:nvPr/>
            </p:nvSpPr>
            <p:spPr>
              <a:xfrm>
                <a:off x="5612400" y="2841120"/>
                <a:ext cx="16963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10.62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612400" y="2841120"/>
                <a:ext cx="16963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309080" y="2841120"/>
              <a:ext cx="1605960" cy="310680"/>
              <a:chOff x="7309080" y="2841120"/>
              <a:chExt cx="1605960" cy="310680"/>
            </a:xfrm>
          </p:grpSpPr>
          <p:sp>
            <p:nvSpPr>
              <p:cNvPr id="535" name=""/>
              <p:cNvSpPr/>
              <p:nvPr/>
            </p:nvSpPr>
            <p:spPr>
              <a:xfrm>
                <a:off x="7309080" y="2841120"/>
                <a:ext cx="160596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10.57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309080" y="2841120"/>
                <a:ext cx="160596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2666880" y="3151800"/>
              <a:ext cx="2945520" cy="310680"/>
              <a:chOff x="2666880" y="3151800"/>
              <a:chExt cx="2945520" cy="310680"/>
            </a:xfrm>
          </p:grpSpPr>
          <p:sp>
            <p:nvSpPr>
              <p:cNvPr id="538" name=""/>
              <p:cNvSpPr/>
              <p:nvPr/>
            </p:nvSpPr>
            <p:spPr>
              <a:xfrm>
                <a:off x="2666880" y="3151800"/>
                <a:ext cx="29455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Taller Pre vocacio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666880" y="3151800"/>
                <a:ext cx="29455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5612400" y="3151800"/>
              <a:ext cx="1696320" cy="310680"/>
              <a:chOff x="5612400" y="3151800"/>
              <a:chExt cx="1696320" cy="310680"/>
            </a:xfrm>
          </p:grpSpPr>
          <p:sp>
            <p:nvSpPr>
              <p:cNvPr id="541" name=""/>
              <p:cNvSpPr/>
              <p:nvPr/>
            </p:nvSpPr>
            <p:spPr>
              <a:xfrm>
                <a:off x="5612400" y="3151800"/>
                <a:ext cx="16963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1.46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612400" y="3151800"/>
                <a:ext cx="16963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7309080" y="3151800"/>
              <a:ext cx="1605960" cy="310680"/>
              <a:chOff x="7309080" y="3151800"/>
              <a:chExt cx="1605960" cy="310680"/>
            </a:xfrm>
          </p:grpSpPr>
          <p:sp>
            <p:nvSpPr>
              <p:cNvPr id="544" name=""/>
              <p:cNvSpPr/>
              <p:nvPr/>
            </p:nvSpPr>
            <p:spPr>
              <a:xfrm>
                <a:off x="7309080" y="3151800"/>
                <a:ext cx="160596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1.45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09080" y="3151800"/>
                <a:ext cx="160596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2666880" y="3462840"/>
              <a:ext cx="2945520" cy="419040"/>
              <a:chOff x="2666880" y="3462840"/>
              <a:chExt cx="2945520" cy="419040"/>
            </a:xfrm>
          </p:grpSpPr>
          <p:sp>
            <p:nvSpPr>
              <p:cNvPr id="547" name=""/>
              <p:cNvSpPr/>
              <p:nvPr/>
            </p:nvSpPr>
            <p:spPr>
              <a:xfrm>
                <a:off x="2666880" y="3462840"/>
                <a:ext cx="294552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Proy. Adolesc</a:t>
                </a:r>
                <a:r>
                  <a:rPr b="0" lang="es-MX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.</a:t>
                </a:r>
                <a:r>
                  <a:rPr b="0" lang="es-E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 y Jóvenes Madr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666880" y="3462840"/>
                <a:ext cx="2945520" cy="41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5612400" y="3462840"/>
              <a:ext cx="1696320" cy="419040"/>
              <a:chOff x="5612400" y="3462840"/>
              <a:chExt cx="1696320" cy="419040"/>
            </a:xfrm>
          </p:grpSpPr>
          <p:sp>
            <p:nvSpPr>
              <p:cNvPr id="550" name=""/>
              <p:cNvSpPr/>
              <p:nvPr/>
            </p:nvSpPr>
            <p:spPr>
              <a:xfrm>
                <a:off x="5612400" y="3462840"/>
                <a:ext cx="169632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30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612400" y="3462840"/>
                <a:ext cx="1696320" cy="41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7309080" y="3462840"/>
              <a:ext cx="1605960" cy="419040"/>
              <a:chOff x="7309080" y="3462840"/>
              <a:chExt cx="1605960" cy="419040"/>
            </a:xfrm>
          </p:grpSpPr>
          <p:sp>
            <p:nvSpPr>
              <p:cNvPr id="553" name=""/>
              <p:cNvSpPr/>
              <p:nvPr/>
            </p:nvSpPr>
            <p:spPr>
              <a:xfrm>
                <a:off x="7309080" y="3462840"/>
                <a:ext cx="160596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309080" y="3462840"/>
                <a:ext cx="1605960" cy="41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2666880" y="3881880"/>
              <a:ext cx="2945520" cy="310680"/>
              <a:chOff x="2666880" y="3881880"/>
              <a:chExt cx="2945520" cy="310680"/>
            </a:xfrm>
          </p:grpSpPr>
          <p:sp>
            <p:nvSpPr>
              <p:cNvPr id="556" name=""/>
              <p:cNvSpPr/>
              <p:nvPr/>
            </p:nvSpPr>
            <p:spPr>
              <a:xfrm>
                <a:off x="2666880" y="3881880"/>
                <a:ext cx="29455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Presidente de Costa Ric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666880" y="3881880"/>
                <a:ext cx="29455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5612400" y="3881880"/>
              <a:ext cx="1696320" cy="310680"/>
              <a:chOff x="5612400" y="3881880"/>
              <a:chExt cx="1696320" cy="310680"/>
            </a:xfrm>
          </p:grpSpPr>
          <p:sp>
            <p:nvSpPr>
              <p:cNvPr id="559" name=""/>
              <p:cNvSpPr/>
              <p:nvPr/>
            </p:nvSpPr>
            <p:spPr>
              <a:xfrm>
                <a:off x="5612400" y="3881880"/>
                <a:ext cx="16963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52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612400" y="3881880"/>
                <a:ext cx="16963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7309080" y="3881880"/>
              <a:ext cx="1605960" cy="310680"/>
              <a:chOff x="7309080" y="3881880"/>
              <a:chExt cx="1605960" cy="310680"/>
            </a:xfrm>
          </p:grpSpPr>
          <p:sp>
            <p:nvSpPr>
              <p:cNvPr id="562" name=""/>
              <p:cNvSpPr/>
              <p:nvPr/>
            </p:nvSpPr>
            <p:spPr>
              <a:xfrm>
                <a:off x="7309080" y="3881880"/>
                <a:ext cx="160596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51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09080" y="3881880"/>
                <a:ext cx="160596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666880" y="4192560"/>
              <a:ext cx="2945520" cy="310680"/>
              <a:chOff x="2666880" y="4192560"/>
              <a:chExt cx="2945520" cy="310680"/>
            </a:xfrm>
          </p:grpSpPr>
          <p:sp>
            <p:nvSpPr>
              <p:cNvPr id="565" name=""/>
              <p:cNvSpPr/>
              <p:nvPr/>
            </p:nvSpPr>
            <p:spPr>
              <a:xfrm>
                <a:off x="2666880" y="4192560"/>
                <a:ext cx="29455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Enseñanza Especi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666880" y="4192560"/>
                <a:ext cx="29455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5612400" y="4192560"/>
              <a:ext cx="1696320" cy="310680"/>
              <a:chOff x="5612400" y="4192560"/>
              <a:chExt cx="1696320" cy="310680"/>
            </a:xfrm>
          </p:grpSpPr>
          <p:sp>
            <p:nvSpPr>
              <p:cNvPr id="568" name=""/>
              <p:cNvSpPr/>
              <p:nvPr/>
            </p:nvSpPr>
            <p:spPr>
              <a:xfrm>
                <a:off x="5612400" y="4192560"/>
                <a:ext cx="16963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1.13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612400" y="4192560"/>
                <a:ext cx="16963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7309080" y="4192560"/>
              <a:ext cx="1605960" cy="310680"/>
              <a:chOff x="7309080" y="4192560"/>
              <a:chExt cx="1605960" cy="310680"/>
            </a:xfrm>
          </p:grpSpPr>
          <p:sp>
            <p:nvSpPr>
              <p:cNvPr id="571" name=""/>
              <p:cNvSpPr/>
              <p:nvPr/>
            </p:nvSpPr>
            <p:spPr>
              <a:xfrm>
                <a:off x="7309080" y="4192560"/>
                <a:ext cx="160596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1.14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309080" y="4192560"/>
                <a:ext cx="160596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2666880" y="4503600"/>
              <a:ext cx="2945520" cy="310680"/>
              <a:chOff x="2666880" y="4503600"/>
              <a:chExt cx="2945520" cy="310680"/>
            </a:xfrm>
          </p:grpSpPr>
          <p:sp>
            <p:nvSpPr>
              <p:cNvPr id="574" name=""/>
              <p:cNvSpPr/>
              <p:nvPr/>
            </p:nvSpPr>
            <p:spPr>
              <a:xfrm>
                <a:off x="2666880" y="4503600"/>
                <a:ext cx="29455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Estudiantes Especial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666880" y="4503600"/>
                <a:ext cx="29455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5612400" y="4503600"/>
              <a:ext cx="1696320" cy="310680"/>
              <a:chOff x="5612400" y="4503600"/>
              <a:chExt cx="1696320" cy="310680"/>
            </a:xfrm>
          </p:grpSpPr>
          <p:sp>
            <p:nvSpPr>
              <p:cNvPr id="577" name=""/>
              <p:cNvSpPr/>
              <p:nvPr/>
            </p:nvSpPr>
            <p:spPr>
              <a:xfrm>
                <a:off x="5612400" y="4503600"/>
                <a:ext cx="16963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4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612400" y="4503600"/>
                <a:ext cx="16963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7309080" y="4503600"/>
              <a:ext cx="1605960" cy="310680"/>
              <a:chOff x="7309080" y="4503600"/>
              <a:chExt cx="1605960" cy="310680"/>
            </a:xfrm>
          </p:grpSpPr>
          <p:sp>
            <p:nvSpPr>
              <p:cNvPr id="580" name=""/>
              <p:cNvSpPr/>
              <p:nvPr/>
            </p:nvSpPr>
            <p:spPr>
              <a:xfrm>
                <a:off x="7309080" y="4503600"/>
                <a:ext cx="160596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58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309080" y="4503600"/>
                <a:ext cx="160596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666880" y="4814640"/>
              <a:ext cx="2945520" cy="310680"/>
              <a:chOff x="2666880" y="4814640"/>
              <a:chExt cx="2945520" cy="310680"/>
            </a:xfrm>
          </p:grpSpPr>
          <p:sp>
            <p:nvSpPr>
              <p:cNvPr id="583" name=""/>
              <p:cNvSpPr/>
              <p:nvPr/>
            </p:nvSpPr>
            <p:spPr>
              <a:xfrm>
                <a:off x="2666880" y="4814640"/>
                <a:ext cx="29455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Postsecundaria Gener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66880" y="4814640"/>
                <a:ext cx="29455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5612400" y="4814640"/>
              <a:ext cx="1696320" cy="310680"/>
              <a:chOff x="5612400" y="4814640"/>
              <a:chExt cx="1696320" cy="310680"/>
            </a:xfrm>
          </p:grpSpPr>
          <p:sp>
            <p:nvSpPr>
              <p:cNvPr id="586" name=""/>
              <p:cNvSpPr/>
              <p:nvPr/>
            </p:nvSpPr>
            <p:spPr>
              <a:xfrm>
                <a:off x="5612400" y="4814640"/>
                <a:ext cx="16963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91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612400" y="4814640"/>
                <a:ext cx="16963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7309080" y="4814640"/>
              <a:ext cx="1605960" cy="310680"/>
              <a:chOff x="7309080" y="4814640"/>
              <a:chExt cx="1605960" cy="310680"/>
            </a:xfrm>
          </p:grpSpPr>
          <p:sp>
            <p:nvSpPr>
              <p:cNvPr id="589" name=""/>
              <p:cNvSpPr/>
              <p:nvPr/>
            </p:nvSpPr>
            <p:spPr>
              <a:xfrm>
                <a:off x="7309080" y="4814640"/>
                <a:ext cx="160596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77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309080" y="4814640"/>
                <a:ext cx="160596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666880" y="5125320"/>
              <a:ext cx="2945520" cy="310680"/>
              <a:chOff x="2666880" y="5125320"/>
              <a:chExt cx="2945520" cy="310680"/>
            </a:xfrm>
          </p:grpSpPr>
          <p:sp>
            <p:nvSpPr>
              <p:cNvPr id="592" name=""/>
              <p:cNvSpPr/>
              <p:nvPr/>
            </p:nvSpPr>
            <p:spPr>
              <a:xfrm>
                <a:off x="2666880" y="5125320"/>
                <a:ext cx="29455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Postsecundaria Francé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666880" y="5125320"/>
                <a:ext cx="29455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5612400" y="5125320"/>
              <a:ext cx="1696320" cy="310680"/>
              <a:chOff x="5612400" y="5125320"/>
              <a:chExt cx="1696320" cy="310680"/>
            </a:xfrm>
          </p:grpSpPr>
          <p:sp>
            <p:nvSpPr>
              <p:cNvPr id="595" name=""/>
              <p:cNvSpPr/>
              <p:nvPr/>
            </p:nvSpPr>
            <p:spPr>
              <a:xfrm>
                <a:off x="5612400" y="5125320"/>
                <a:ext cx="16963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12400" y="5125320"/>
                <a:ext cx="16963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7309080" y="5125320"/>
              <a:ext cx="1605960" cy="310680"/>
              <a:chOff x="7309080" y="5125320"/>
              <a:chExt cx="1605960" cy="310680"/>
            </a:xfrm>
          </p:grpSpPr>
          <p:sp>
            <p:nvSpPr>
              <p:cNvPr id="598" name=""/>
              <p:cNvSpPr/>
              <p:nvPr/>
            </p:nvSpPr>
            <p:spPr>
              <a:xfrm>
                <a:off x="7309080" y="5125320"/>
                <a:ext cx="160596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4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09080" y="5125320"/>
                <a:ext cx="160596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2666880" y="5436360"/>
              <a:ext cx="2945520" cy="310680"/>
              <a:chOff x="2666880" y="5436360"/>
              <a:chExt cx="2945520" cy="310680"/>
            </a:xfrm>
          </p:grpSpPr>
          <p:sp>
            <p:nvSpPr>
              <p:cNvPr id="601" name=""/>
              <p:cNvSpPr/>
              <p:nvPr/>
            </p:nvSpPr>
            <p:spPr>
              <a:xfrm>
                <a:off x="2666880" y="5436360"/>
                <a:ext cx="29455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Postsecundaria Matemátic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666880" y="5436360"/>
                <a:ext cx="29455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5612400" y="5436360"/>
              <a:ext cx="1696320" cy="310680"/>
              <a:chOff x="5612400" y="5436360"/>
              <a:chExt cx="1696320" cy="310680"/>
            </a:xfrm>
          </p:grpSpPr>
          <p:sp>
            <p:nvSpPr>
              <p:cNvPr id="604" name=""/>
              <p:cNvSpPr/>
              <p:nvPr/>
            </p:nvSpPr>
            <p:spPr>
              <a:xfrm>
                <a:off x="5612400" y="5436360"/>
                <a:ext cx="16963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12400" y="5436360"/>
                <a:ext cx="16963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7309080" y="5436360"/>
              <a:ext cx="1605960" cy="310680"/>
              <a:chOff x="7309080" y="5436360"/>
              <a:chExt cx="1605960" cy="310680"/>
            </a:xfrm>
          </p:grpSpPr>
          <p:sp>
            <p:nvSpPr>
              <p:cNvPr id="607" name=""/>
              <p:cNvSpPr/>
              <p:nvPr/>
            </p:nvSpPr>
            <p:spPr>
              <a:xfrm>
                <a:off x="7309080" y="5436360"/>
                <a:ext cx="160596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8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309080" y="5436360"/>
                <a:ext cx="160596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2666880" y="5747040"/>
              <a:ext cx="2945520" cy="419040"/>
              <a:chOff x="2666880" y="5747040"/>
              <a:chExt cx="2945520" cy="419040"/>
            </a:xfrm>
          </p:grpSpPr>
          <p:sp>
            <p:nvSpPr>
              <p:cNvPr id="610" name=""/>
              <p:cNvSpPr/>
              <p:nvPr/>
            </p:nvSpPr>
            <p:spPr>
              <a:xfrm>
                <a:off x="2666880" y="5747040"/>
                <a:ext cx="294552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Tierra Blanca (Niños Trabaj</a:t>
                </a:r>
                <a:r>
                  <a:rPr b="0" lang="es-MX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.</a:t>
                </a:r>
                <a:r>
                  <a:rPr b="0" lang="es-E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666880" y="5747040"/>
                <a:ext cx="2945520" cy="41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5612400" y="5747040"/>
              <a:ext cx="1696320" cy="419040"/>
              <a:chOff x="5612400" y="5747040"/>
              <a:chExt cx="1696320" cy="419040"/>
            </a:xfrm>
          </p:grpSpPr>
          <p:sp>
            <p:nvSpPr>
              <p:cNvPr id="613" name=""/>
              <p:cNvSpPr/>
              <p:nvPr/>
            </p:nvSpPr>
            <p:spPr>
              <a:xfrm>
                <a:off x="5612400" y="5747040"/>
                <a:ext cx="169632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612400" y="5747040"/>
                <a:ext cx="1696320" cy="41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7309080" y="5747040"/>
              <a:ext cx="1605960" cy="419040"/>
              <a:chOff x="7309080" y="5747040"/>
              <a:chExt cx="1605960" cy="419040"/>
            </a:xfrm>
          </p:grpSpPr>
          <p:sp>
            <p:nvSpPr>
              <p:cNvPr id="616" name=""/>
              <p:cNvSpPr/>
              <p:nvPr/>
            </p:nvSpPr>
            <p:spPr>
              <a:xfrm>
                <a:off x="7309080" y="5747040"/>
                <a:ext cx="160596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7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309080" y="5747040"/>
                <a:ext cx="1605960" cy="41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2666880" y="6166440"/>
              <a:ext cx="2945520" cy="310680"/>
              <a:chOff x="2666880" y="6166440"/>
              <a:chExt cx="2945520" cy="310680"/>
            </a:xfrm>
          </p:grpSpPr>
          <p:sp>
            <p:nvSpPr>
              <p:cNvPr id="619" name=""/>
              <p:cNvSpPr/>
              <p:nvPr/>
            </p:nvSpPr>
            <p:spPr>
              <a:xfrm>
                <a:off x="2666880" y="6166440"/>
                <a:ext cx="29455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Tot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666880" y="6166440"/>
                <a:ext cx="29455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5612400" y="6166440"/>
              <a:ext cx="1696320" cy="310680"/>
              <a:chOff x="5612400" y="6166440"/>
              <a:chExt cx="1696320" cy="310680"/>
            </a:xfrm>
          </p:grpSpPr>
          <p:sp>
            <p:nvSpPr>
              <p:cNvPr id="622" name=""/>
              <p:cNvSpPr/>
              <p:nvPr/>
            </p:nvSpPr>
            <p:spPr>
              <a:xfrm>
                <a:off x="5612400" y="6166440"/>
                <a:ext cx="16963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46.98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12400" y="6166440"/>
                <a:ext cx="169632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7309080" y="6166440"/>
              <a:ext cx="1605960" cy="310680"/>
              <a:chOff x="7309080" y="6166440"/>
              <a:chExt cx="1605960" cy="310680"/>
            </a:xfrm>
          </p:grpSpPr>
          <p:sp>
            <p:nvSpPr>
              <p:cNvPr id="625" name=""/>
              <p:cNvSpPr/>
              <p:nvPr/>
            </p:nvSpPr>
            <p:spPr>
              <a:xfrm>
                <a:off x="7309080" y="6166440"/>
                <a:ext cx="160596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45.5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09080" y="6166440"/>
                <a:ext cx="1605960" cy="310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1"/>
          <a:srcRect l="0" t="0" r="13345" b="0"/>
          <a:stretch/>
        </p:blipFill>
        <p:spPr>
          <a:xfrm>
            <a:off x="376200" y="4538520"/>
            <a:ext cx="2443320" cy="193860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36036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55720" y="4535640"/>
            <a:ext cx="495360" cy="495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349280" y="4535640"/>
            <a:ext cx="4971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846440" y="4535640"/>
            <a:ext cx="49500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34144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036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5572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349280" y="503064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46440" y="503064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34144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60360" y="5524560"/>
            <a:ext cx="49536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5572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349280" y="5524560"/>
            <a:ext cx="4971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46440" y="5524560"/>
            <a:ext cx="49500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34144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60360" y="6019920"/>
            <a:ext cx="495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55720" y="601992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349280" y="601992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846440" y="601992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41440" y="6019920"/>
            <a:ext cx="4953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0" y="0"/>
            <a:ext cx="9145440" cy="1006560"/>
            <a:chOff x="0" y="0"/>
            <a:chExt cx="9145440" cy="1006560"/>
          </a:xfrm>
        </p:grpSpPr>
        <p:sp>
          <p:nvSpPr>
            <p:cNvPr id="649" name=""/>
            <p:cNvSpPr/>
            <p:nvPr/>
          </p:nvSpPr>
          <p:spPr>
            <a:xfrm>
              <a:off x="71280" y="71280"/>
              <a:ext cx="9074160" cy="93528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0" y="0"/>
              <a:ext cx="9145440" cy="93492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26080" y="204840"/>
            <a:ext cx="71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GRAMAS DE EQUIDAD </a:t>
            </a:r>
            <a:r>
              <a:rPr b="1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(Bo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0880" y="1676520"/>
            <a:ext cx="2057400" cy="22885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udas económicas que permitan la permanencia en el sistema educ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2971800" y="1600200"/>
            <a:ext cx="5714280" cy="4114080"/>
            <a:chOff x="2971800" y="1600200"/>
            <a:chExt cx="5714280" cy="4114080"/>
          </a:xfrm>
        </p:grpSpPr>
        <p:grpSp>
          <p:nvGrpSpPr>
            <p:cNvPr id="654" name=""/>
            <p:cNvGrpSpPr/>
            <p:nvPr/>
          </p:nvGrpSpPr>
          <p:grpSpPr>
            <a:xfrm>
              <a:off x="2971800" y="1600200"/>
              <a:ext cx="1546560" cy="1748160"/>
              <a:chOff x="2971800" y="1600200"/>
              <a:chExt cx="1546560" cy="1748160"/>
            </a:xfrm>
          </p:grpSpPr>
          <p:sp>
            <p:nvSpPr>
              <p:cNvPr id="655" name=""/>
              <p:cNvSpPr/>
              <p:nvPr/>
            </p:nvSpPr>
            <p:spPr>
              <a:xfrm>
                <a:off x="2971800" y="1600200"/>
                <a:ext cx="1546560" cy="174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R" sz="18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Añ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971800" y="1600200"/>
                <a:ext cx="1546560" cy="174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518720" y="1600200"/>
              <a:ext cx="1904760" cy="1748160"/>
              <a:chOff x="4518720" y="1600200"/>
              <a:chExt cx="1904760" cy="1748160"/>
            </a:xfrm>
          </p:grpSpPr>
          <p:sp>
            <p:nvSpPr>
              <p:cNvPr id="658" name=""/>
              <p:cNvSpPr/>
              <p:nvPr/>
            </p:nvSpPr>
            <p:spPr>
              <a:xfrm>
                <a:off x="4518720" y="1600200"/>
                <a:ext cx="1904760" cy="174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R" sz="18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Beneficiari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518720" y="1600200"/>
                <a:ext cx="1904760" cy="174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423840" y="1600200"/>
              <a:ext cx="2262240" cy="1748160"/>
              <a:chOff x="6423840" y="1600200"/>
              <a:chExt cx="2262240" cy="1748160"/>
            </a:xfrm>
          </p:grpSpPr>
          <p:sp>
            <p:nvSpPr>
              <p:cNvPr id="661" name=""/>
              <p:cNvSpPr/>
              <p:nvPr/>
            </p:nvSpPr>
            <p:spPr>
              <a:xfrm>
                <a:off x="6423840" y="1600200"/>
                <a:ext cx="2262240" cy="174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R" sz="18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Monto de la Inversión en millones de colone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423840" y="1600200"/>
                <a:ext cx="2262240" cy="174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2971800" y="3348720"/>
              <a:ext cx="1546560" cy="788040"/>
              <a:chOff x="2971800" y="3348720"/>
              <a:chExt cx="1546560" cy="788040"/>
            </a:xfrm>
          </p:grpSpPr>
          <p:sp>
            <p:nvSpPr>
              <p:cNvPr id="664" name=""/>
              <p:cNvSpPr/>
              <p:nvPr/>
            </p:nvSpPr>
            <p:spPr>
              <a:xfrm>
                <a:off x="2971800" y="3348720"/>
                <a:ext cx="1546560" cy="78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CR" sz="16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200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971800" y="3348720"/>
                <a:ext cx="1546560" cy="78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4518720" y="3348720"/>
              <a:ext cx="1904760" cy="788040"/>
              <a:chOff x="4518720" y="3348720"/>
              <a:chExt cx="1904760" cy="788040"/>
            </a:xfrm>
          </p:grpSpPr>
          <p:sp>
            <p:nvSpPr>
              <p:cNvPr id="667" name=""/>
              <p:cNvSpPr/>
              <p:nvPr/>
            </p:nvSpPr>
            <p:spPr>
              <a:xfrm>
                <a:off x="4518720" y="3348720"/>
                <a:ext cx="1904760" cy="78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CR" sz="16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63.93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18720" y="3348720"/>
                <a:ext cx="1904760" cy="78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6423840" y="3348720"/>
              <a:ext cx="2262240" cy="788040"/>
              <a:chOff x="6423840" y="3348720"/>
              <a:chExt cx="2262240" cy="788040"/>
            </a:xfrm>
          </p:grpSpPr>
          <p:sp>
            <p:nvSpPr>
              <p:cNvPr id="670" name=""/>
              <p:cNvSpPr/>
              <p:nvPr/>
            </p:nvSpPr>
            <p:spPr>
              <a:xfrm>
                <a:off x="6423840" y="3348720"/>
                <a:ext cx="2262240" cy="78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CR" sz="16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639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423840" y="3348720"/>
                <a:ext cx="2262240" cy="78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2971800" y="4137480"/>
              <a:ext cx="1546560" cy="788040"/>
              <a:chOff x="2971800" y="4137480"/>
              <a:chExt cx="1546560" cy="788040"/>
            </a:xfrm>
          </p:grpSpPr>
          <p:sp>
            <p:nvSpPr>
              <p:cNvPr id="673" name=""/>
              <p:cNvSpPr/>
              <p:nvPr/>
            </p:nvSpPr>
            <p:spPr>
              <a:xfrm>
                <a:off x="2971800" y="4137480"/>
                <a:ext cx="1546560" cy="78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CR" sz="16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200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971800" y="4137480"/>
                <a:ext cx="1546560" cy="78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4518720" y="4137480"/>
              <a:ext cx="1904760" cy="788040"/>
              <a:chOff x="4518720" y="4137480"/>
              <a:chExt cx="1904760" cy="788040"/>
            </a:xfrm>
          </p:grpSpPr>
          <p:sp>
            <p:nvSpPr>
              <p:cNvPr id="676" name=""/>
              <p:cNvSpPr/>
              <p:nvPr/>
            </p:nvSpPr>
            <p:spPr>
              <a:xfrm>
                <a:off x="4518720" y="4137480"/>
                <a:ext cx="1904760" cy="78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CR" sz="16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70.71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518720" y="4137480"/>
                <a:ext cx="1904760" cy="78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423840" y="4137480"/>
              <a:ext cx="2262240" cy="788040"/>
              <a:chOff x="6423840" y="4137480"/>
              <a:chExt cx="2262240" cy="788040"/>
            </a:xfrm>
          </p:grpSpPr>
          <p:sp>
            <p:nvSpPr>
              <p:cNvPr id="679" name=""/>
              <p:cNvSpPr/>
              <p:nvPr/>
            </p:nvSpPr>
            <p:spPr>
              <a:xfrm>
                <a:off x="6423840" y="4137480"/>
                <a:ext cx="2262240" cy="78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CR" sz="16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707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423840" y="4137480"/>
                <a:ext cx="2262240" cy="78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2971800" y="4926240"/>
              <a:ext cx="1546560" cy="788040"/>
              <a:chOff x="2971800" y="4926240"/>
              <a:chExt cx="1546560" cy="788040"/>
            </a:xfrm>
          </p:grpSpPr>
          <p:sp>
            <p:nvSpPr>
              <p:cNvPr id="682" name=""/>
              <p:cNvSpPr/>
              <p:nvPr/>
            </p:nvSpPr>
            <p:spPr>
              <a:xfrm>
                <a:off x="2971800" y="4926240"/>
                <a:ext cx="1546560" cy="78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CR" sz="16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2004(1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971800" y="4926240"/>
                <a:ext cx="1546560" cy="78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4518720" y="4926240"/>
              <a:ext cx="1904760" cy="788040"/>
              <a:chOff x="4518720" y="4926240"/>
              <a:chExt cx="1904760" cy="788040"/>
            </a:xfrm>
          </p:grpSpPr>
          <p:sp>
            <p:nvSpPr>
              <p:cNvPr id="685" name=""/>
              <p:cNvSpPr/>
              <p:nvPr/>
            </p:nvSpPr>
            <p:spPr>
              <a:xfrm>
                <a:off x="4518720" y="4926240"/>
                <a:ext cx="1904760" cy="78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CR" sz="16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113.63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518720" y="4926240"/>
                <a:ext cx="1904760" cy="78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6423840" y="4926240"/>
              <a:ext cx="2262240" cy="788040"/>
              <a:chOff x="6423840" y="4926240"/>
              <a:chExt cx="2262240" cy="788040"/>
            </a:xfrm>
          </p:grpSpPr>
          <p:sp>
            <p:nvSpPr>
              <p:cNvPr id="688" name=""/>
              <p:cNvSpPr/>
              <p:nvPr/>
            </p:nvSpPr>
            <p:spPr>
              <a:xfrm>
                <a:off x="6423840" y="4926240"/>
                <a:ext cx="2262240" cy="78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CR" sz="16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1.477.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423840" y="4926240"/>
                <a:ext cx="2262240" cy="788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1"/>
          <a:srcRect l="0" t="0" r="13345" b="0"/>
          <a:stretch/>
        </p:blipFill>
        <p:spPr>
          <a:xfrm>
            <a:off x="376200" y="4538520"/>
            <a:ext cx="2443320" cy="193860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36036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55720" y="4535640"/>
            <a:ext cx="495360" cy="495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49280" y="4535640"/>
            <a:ext cx="4971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846440" y="4535640"/>
            <a:ext cx="49500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4144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6036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5572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349280" y="503064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846440" y="503064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34144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60360" y="5524560"/>
            <a:ext cx="49536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5572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349280" y="5524560"/>
            <a:ext cx="4971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46440" y="5524560"/>
            <a:ext cx="49500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34144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0360" y="6019920"/>
            <a:ext cx="495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55720" y="601992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349280" y="601992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846440" y="601992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41440" y="6019920"/>
            <a:ext cx="4953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0" y="0"/>
            <a:ext cx="9145440" cy="1006560"/>
            <a:chOff x="0" y="0"/>
            <a:chExt cx="9145440" cy="1006560"/>
          </a:xfrm>
        </p:grpSpPr>
        <p:sp>
          <p:nvSpPr>
            <p:cNvPr id="712" name=""/>
            <p:cNvSpPr/>
            <p:nvPr/>
          </p:nvSpPr>
          <p:spPr>
            <a:xfrm>
              <a:off x="71280" y="71280"/>
              <a:ext cx="9074160" cy="93528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0" y="0"/>
              <a:ext cx="9145440" cy="93492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152640" y="204840"/>
            <a:ext cx="81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GRAMAS DE EQUIDAD </a:t>
            </a:r>
            <a:r>
              <a:rPr b="1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(Transpor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80880" y="1676520"/>
            <a:ext cx="2057400" cy="22885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el traslado de los estudiantes (subsidiado) a los centros educ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3124080" y="2133720"/>
            <a:ext cx="5284080" cy="3386160"/>
            <a:chOff x="3124080" y="2133720"/>
            <a:chExt cx="5284080" cy="3386160"/>
          </a:xfrm>
        </p:grpSpPr>
        <p:grpSp>
          <p:nvGrpSpPr>
            <p:cNvPr id="717" name=""/>
            <p:cNvGrpSpPr/>
            <p:nvPr/>
          </p:nvGrpSpPr>
          <p:grpSpPr>
            <a:xfrm>
              <a:off x="3124080" y="2133720"/>
              <a:ext cx="1320120" cy="1281240"/>
              <a:chOff x="3124080" y="2133720"/>
              <a:chExt cx="1320120" cy="1281240"/>
            </a:xfrm>
          </p:grpSpPr>
          <p:sp>
            <p:nvSpPr>
              <p:cNvPr id="718" name=""/>
              <p:cNvSpPr/>
              <p:nvPr/>
            </p:nvSpPr>
            <p:spPr>
              <a:xfrm>
                <a:off x="3124080" y="2133720"/>
                <a:ext cx="1320120" cy="12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R" sz="18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Añ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124080" y="2133720"/>
                <a:ext cx="1320120" cy="128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4444560" y="2133720"/>
              <a:ext cx="1626120" cy="1281240"/>
              <a:chOff x="4444560" y="2133720"/>
              <a:chExt cx="1626120" cy="1281240"/>
            </a:xfrm>
          </p:grpSpPr>
          <p:sp>
            <p:nvSpPr>
              <p:cNvPr id="721" name=""/>
              <p:cNvSpPr/>
              <p:nvPr/>
            </p:nvSpPr>
            <p:spPr>
              <a:xfrm>
                <a:off x="4444560" y="2133720"/>
                <a:ext cx="1626120" cy="12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R" sz="18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Beneficiari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444560" y="2133720"/>
                <a:ext cx="1626120" cy="128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071040" y="2133720"/>
              <a:ext cx="2337120" cy="1281240"/>
              <a:chOff x="6071040" y="2133720"/>
              <a:chExt cx="2337120" cy="1281240"/>
            </a:xfrm>
          </p:grpSpPr>
          <p:sp>
            <p:nvSpPr>
              <p:cNvPr id="724" name=""/>
              <p:cNvSpPr/>
              <p:nvPr/>
            </p:nvSpPr>
            <p:spPr>
              <a:xfrm>
                <a:off x="6071040" y="2133720"/>
                <a:ext cx="2337120" cy="12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R" sz="18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Monto de la Inversión en millones de col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071040" y="2133720"/>
                <a:ext cx="2337120" cy="128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3124080" y="3414960"/>
              <a:ext cx="1320120" cy="701640"/>
              <a:chOff x="3124080" y="3414960"/>
              <a:chExt cx="1320120" cy="701640"/>
            </a:xfrm>
          </p:grpSpPr>
          <p:sp>
            <p:nvSpPr>
              <p:cNvPr id="727" name=""/>
              <p:cNvSpPr/>
              <p:nvPr/>
            </p:nvSpPr>
            <p:spPr>
              <a:xfrm>
                <a:off x="3124080" y="3414960"/>
                <a:ext cx="13201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CR" sz="16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200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124080" y="3414960"/>
                <a:ext cx="1320120" cy="70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4444560" y="3414960"/>
              <a:ext cx="1626120" cy="701640"/>
              <a:chOff x="4444560" y="3414960"/>
              <a:chExt cx="1626120" cy="701640"/>
            </a:xfrm>
          </p:grpSpPr>
          <p:sp>
            <p:nvSpPr>
              <p:cNvPr id="730" name=""/>
              <p:cNvSpPr/>
              <p:nvPr/>
            </p:nvSpPr>
            <p:spPr>
              <a:xfrm>
                <a:off x="4444560" y="3414960"/>
                <a:ext cx="16261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CR" sz="16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51.78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444560" y="3414960"/>
                <a:ext cx="1626120" cy="70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6071040" y="3414960"/>
              <a:ext cx="2337120" cy="701640"/>
              <a:chOff x="6071040" y="3414960"/>
              <a:chExt cx="2337120" cy="701640"/>
            </a:xfrm>
          </p:grpSpPr>
          <p:sp>
            <p:nvSpPr>
              <p:cNvPr id="733" name=""/>
              <p:cNvSpPr/>
              <p:nvPr/>
            </p:nvSpPr>
            <p:spPr>
              <a:xfrm>
                <a:off x="6071040" y="3414960"/>
                <a:ext cx="23371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CR" sz="16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3.683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071040" y="3414960"/>
                <a:ext cx="2337120" cy="70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3124080" y="4116600"/>
              <a:ext cx="1320120" cy="701640"/>
              <a:chOff x="3124080" y="4116600"/>
              <a:chExt cx="1320120" cy="701640"/>
            </a:xfrm>
          </p:grpSpPr>
          <p:sp>
            <p:nvSpPr>
              <p:cNvPr id="736" name=""/>
              <p:cNvSpPr/>
              <p:nvPr/>
            </p:nvSpPr>
            <p:spPr>
              <a:xfrm>
                <a:off x="3124080" y="4116600"/>
                <a:ext cx="13201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CR" sz="16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200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124080" y="4116600"/>
                <a:ext cx="1320120" cy="70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4444560" y="4116600"/>
              <a:ext cx="1626120" cy="701640"/>
              <a:chOff x="4444560" y="4116600"/>
              <a:chExt cx="1626120" cy="701640"/>
            </a:xfrm>
          </p:grpSpPr>
          <p:sp>
            <p:nvSpPr>
              <p:cNvPr id="739" name=""/>
              <p:cNvSpPr/>
              <p:nvPr/>
            </p:nvSpPr>
            <p:spPr>
              <a:xfrm>
                <a:off x="4444560" y="4116600"/>
                <a:ext cx="16261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CR" sz="16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58.21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444560" y="4116600"/>
                <a:ext cx="1626120" cy="70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6071040" y="4116600"/>
              <a:ext cx="2337120" cy="701640"/>
              <a:chOff x="6071040" y="4116600"/>
              <a:chExt cx="2337120" cy="701640"/>
            </a:xfrm>
          </p:grpSpPr>
          <p:sp>
            <p:nvSpPr>
              <p:cNvPr id="742" name=""/>
              <p:cNvSpPr/>
              <p:nvPr/>
            </p:nvSpPr>
            <p:spPr>
              <a:xfrm>
                <a:off x="6071040" y="4116600"/>
                <a:ext cx="23371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CR" sz="16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3.749.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071040" y="4116600"/>
                <a:ext cx="2337120" cy="70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3124080" y="4818240"/>
              <a:ext cx="1320120" cy="701640"/>
              <a:chOff x="3124080" y="4818240"/>
              <a:chExt cx="1320120" cy="701640"/>
            </a:xfrm>
          </p:grpSpPr>
          <p:sp>
            <p:nvSpPr>
              <p:cNvPr id="745" name=""/>
              <p:cNvSpPr/>
              <p:nvPr/>
            </p:nvSpPr>
            <p:spPr>
              <a:xfrm>
                <a:off x="3124080" y="4818240"/>
                <a:ext cx="13201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CR" sz="16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2004(1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124080" y="4818240"/>
                <a:ext cx="1320120" cy="70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4444560" y="4818240"/>
              <a:ext cx="1626120" cy="701640"/>
              <a:chOff x="4444560" y="4818240"/>
              <a:chExt cx="1626120" cy="701640"/>
            </a:xfrm>
          </p:grpSpPr>
          <p:sp>
            <p:nvSpPr>
              <p:cNvPr id="748" name=""/>
              <p:cNvSpPr/>
              <p:nvPr/>
            </p:nvSpPr>
            <p:spPr>
              <a:xfrm>
                <a:off x="4444560" y="4818240"/>
                <a:ext cx="16261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CR" sz="16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61.62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444560" y="4818240"/>
                <a:ext cx="1626120" cy="70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6071040" y="4818240"/>
              <a:ext cx="2337120" cy="701640"/>
              <a:chOff x="6071040" y="4818240"/>
              <a:chExt cx="2337120" cy="701640"/>
            </a:xfrm>
          </p:grpSpPr>
          <p:sp>
            <p:nvSpPr>
              <p:cNvPr id="751" name=""/>
              <p:cNvSpPr/>
              <p:nvPr/>
            </p:nvSpPr>
            <p:spPr>
              <a:xfrm>
                <a:off x="6071040" y="4818240"/>
                <a:ext cx="23371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CR" sz="1600" spc="-1" strike="noStrike">
                    <a:solidFill>
                      <a:srgbClr val="404a66"/>
                    </a:solidFill>
                    <a:latin typeface="Times New Roman"/>
                    <a:ea typeface="Times New Roman"/>
                  </a:rPr>
                  <a:t>5.479.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071040" y="4818240"/>
                <a:ext cx="2337120" cy="70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rcRect l="0" t="0" r="13345" b="0"/>
          <a:stretch/>
        </p:blipFill>
        <p:spPr>
          <a:xfrm>
            <a:off x="108000" y="4586400"/>
            <a:ext cx="2442960" cy="193824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36036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55720" y="4535640"/>
            <a:ext cx="495360" cy="495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349280" y="4535640"/>
            <a:ext cx="4971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846440" y="4535640"/>
            <a:ext cx="49500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34144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6036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5572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349280" y="503064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46440" y="503064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34144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60360" y="5524560"/>
            <a:ext cx="49536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5572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349280" y="5524560"/>
            <a:ext cx="4971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46440" y="5524560"/>
            <a:ext cx="49500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34144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0360" y="6019920"/>
            <a:ext cx="495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55720" y="601992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349280" y="601992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846440" y="601992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341440" y="6019920"/>
            <a:ext cx="4953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0" y="0"/>
            <a:ext cx="9145440" cy="1006560"/>
            <a:chOff x="0" y="0"/>
            <a:chExt cx="9145440" cy="1006560"/>
          </a:xfrm>
        </p:grpSpPr>
        <p:sp>
          <p:nvSpPr>
            <p:cNvPr id="775" name=""/>
            <p:cNvSpPr/>
            <p:nvPr/>
          </p:nvSpPr>
          <p:spPr>
            <a:xfrm>
              <a:off x="71280" y="71280"/>
              <a:ext cx="9074160" cy="93528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0" y="0"/>
              <a:ext cx="9145440" cy="93492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271440" y="236520"/>
            <a:ext cx="85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PROPUESTAS PARA GRUPOS ESPECÍ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55720" y="2116080"/>
            <a:ext cx="287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68360" y="1268280"/>
            <a:ext cx="6551640" cy="56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Century Gothic"/>
              </a:rPr>
              <a:t>Fortalecimiento de Escuelas Unidosc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Century Gothic"/>
              </a:rPr>
              <a:t>Aula Ab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Century Gothic"/>
              </a:rPr>
              <a:t>Tele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Century Gothic"/>
              </a:rPr>
              <a:t>Nuevas Oportunidaes Educativas para Jóv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entros de Educación Integral para Jóvenes y Adultos y los Institutos Profesionales de Educación Comunitar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formática Educativ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imaria y Secundaria por Suficienc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scuelas y Colegios Nocturnos</a:t>
            </a:r>
            <a:r>
              <a:rPr b="1" lang="es-ES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" descr=""/>
          <p:cNvPicPr/>
          <p:nvPr/>
        </p:nvPicPr>
        <p:blipFill>
          <a:blip r:embed="rId1"/>
          <a:srcRect l="0" t="0" r="13345" b="0"/>
          <a:stretch/>
        </p:blipFill>
        <p:spPr>
          <a:xfrm>
            <a:off x="376200" y="4538520"/>
            <a:ext cx="2443320" cy="193860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36036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55720" y="4535640"/>
            <a:ext cx="495360" cy="495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49280" y="4535640"/>
            <a:ext cx="4971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846440" y="4535640"/>
            <a:ext cx="49500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34144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6036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5572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349280" y="503064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846440" y="503064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34144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60360" y="5524560"/>
            <a:ext cx="49536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5572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349280" y="5524560"/>
            <a:ext cx="4971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46440" y="5524560"/>
            <a:ext cx="49500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34144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0360" y="6019920"/>
            <a:ext cx="495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55720" y="601992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349280" y="601992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846440" y="601992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341440" y="6019920"/>
            <a:ext cx="4953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-1440" y="0"/>
            <a:ext cx="9145440" cy="1006560"/>
            <a:chOff x="-1440" y="0"/>
            <a:chExt cx="9145440" cy="1006560"/>
          </a:xfrm>
        </p:grpSpPr>
        <p:sp>
          <p:nvSpPr>
            <p:cNvPr id="802" name=""/>
            <p:cNvSpPr/>
            <p:nvPr/>
          </p:nvSpPr>
          <p:spPr>
            <a:xfrm>
              <a:off x="69840" y="71280"/>
              <a:ext cx="9074160" cy="93528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-1440" y="0"/>
              <a:ext cx="9145440" cy="93492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424800" y="0"/>
            <a:ext cx="707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APACITACIÓN Y ACTU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 DOCENTES</a:t>
            </a:r>
            <a:r>
              <a:rPr b="1" lang="es-E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038480" y="1143000"/>
            <a:ext cx="2895840" cy="45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ituación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971800" y="1828800"/>
            <a:ext cx="5484960" cy="4119480"/>
            <a:chOff x="2971800" y="1828800"/>
            <a:chExt cx="5484960" cy="4119480"/>
          </a:xfrm>
        </p:grpSpPr>
        <p:grpSp>
          <p:nvGrpSpPr>
            <p:cNvPr id="807" name=""/>
            <p:cNvGrpSpPr/>
            <p:nvPr/>
          </p:nvGrpSpPr>
          <p:grpSpPr>
            <a:xfrm>
              <a:off x="2971800" y="1828800"/>
              <a:ext cx="1919160" cy="1281240"/>
              <a:chOff x="2971800" y="1828800"/>
              <a:chExt cx="1919160" cy="1281240"/>
            </a:xfrm>
          </p:grpSpPr>
          <p:sp>
            <p:nvSpPr>
              <p:cNvPr id="808" name=""/>
              <p:cNvSpPr/>
              <p:nvPr/>
            </p:nvSpPr>
            <p:spPr>
              <a:xfrm>
                <a:off x="2971800" y="1828800"/>
                <a:ext cx="1919160" cy="12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Nivel Educativ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971800" y="1828800"/>
                <a:ext cx="1919160" cy="128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4890960" y="1828800"/>
              <a:ext cx="1554120" cy="1281240"/>
              <a:chOff x="4890960" y="1828800"/>
              <a:chExt cx="1554120" cy="1281240"/>
            </a:xfrm>
          </p:grpSpPr>
          <p:sp>
            <p:nvSpPr>
              <p:cNvPr id="811" name=""/>
              <p:cNvSpPr/>
              <p:nvPr/>
            </p:nvSpPr>
            <p:spPr>
              <a:xfrm>
                <a:off x="4890960" y="1828800"/>
                <a:ext cx="1554120" cy="12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Porcentaje de Personal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Titulado 200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890960" y="1828800"/>
                <a:ext cx="1554120" cy="128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6445080" y="1828800"/>
              <a:ext cx="2011680" cy="1281240"/>
              <a:chOff x="6445080" y="1828800"/>
              <a:chExt cx="2011680" cy="1281240"/>
            </a:xfrm>
          </p:grpSpPr>
          <p:sp>
            <p:nvSpPr>
              <p:cNvPr id="814" name=""/>
              <p:cNvSpPr/>
              <p:nvPr/>
            </p:nvSpPr>
            <p:spPr>
              <a:xfrm>
                <a:off x="6445080" y="1828800"/>
                <a:ext cx="2011680" cy="12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Porcentaje de Personal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Titulado 200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445080" y="1828800"/>
                <a:ext cx="2011680" cy="128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2971800" y="3110040"/>
              <a:ext cx="1919160" cy="946080"/>
              <a:chOff x="2971800" y="3110040"/>
              <a:chExt cx="1919160" cy="946080"/>
            </a:xfrm>
          </p:grpSpPr>
          <p:sp>
            <p:nvSpPr>
              <p:cNvPr id="817" name=""/>
              <p:cNvSpPr/>
              <p:nvPr/>
            </p:nvSpPr>
            <p:spPr>
              <a:xfrm>
                <a:off x="2971800" y="3110040"/>
                <a:ext cx="1919160" cy="9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Educación Preescola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971800" y="3110040"/>
                <a:ext cx="1919160" cy="94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4890960" y="3110040"/>
              <a:ext cx="1554120" cy="946080"/>
              <a:chOff x="4890960" y="3110040"/>
              <a:chExt cx="1554120" cy="946080"/>
            </a:xfrm>
          </p:grpSpPr>
          <p:sp>
            <p:nvSpPr>
              <p:cNvPr id="820" name=""/>
              <p:cNvSpPr/>
              <p:nvPr/>
            </p:nvSpPr>
            <p:spPr>
              <a:xfrm>
                <a:off x="4890960" y="3110040"/>
                <a:ext cx="1554120" cy="9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87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890960" y="3110040"/>
                <a:ext cx="1554120" cy="94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6445080" y="3110040"/>
              <a:ext cx="2011680" cy="946080"/>
              <a:chOff x="6445080" y="3110040"/>
              <a:chExt cx="2011680" cy="946080"/>
            </a:xfrm>
          </p:grpSpPr>
          <p:sp>
            <p:nvSpPr>
              <p:cNvPr id="823" name=""/>
              <p:cNvSpPr/>
              <p:nvPr/>
            </p:nvSpPr>
            <p:spPr>
              <a:xfrm>
                <a:off x="6445080" y="3110040"/>
                <a:ext cx="2011680" cy="9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87.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45080" y="3110040"/>
                <a:ext cx="2011680" cy="94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2971800" y="4056120"/>
              <a:ext cx="1919160" cy="701640"/>
              <a:chOff x="2971800" y="4056120"/>
              <a:chExt cx="1919160" cy="701640"/>
            </a:xfrm>
          </p:grpSpPr>
          <p:sp>
            <p:nvSpPr>
              <p:cNvPr id="826" name=""/>
              <p:cNvSpPr/>
              <p:nvPr/>
            </p:nvSpPr>
            <p:spPr>
              <a:xfrm>
                <a:off x="2971800" y="4056120"/>
                <a:ext cx="191916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I y II Cicl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971800" y="4056120"/>
                <a:ext cx="1919160" cy="70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4890960" y="4056120"/>
              <a:ext cx="1554120" cy="701640"/>
              <a:chOff x="4890960" y="4056120"/>
              <a:chExt cx="1554120" cy="701640"/>
            </a:xfrm>
          </p:grpSpPr>
          <p:sp>
            <p:nvSpPr>
              <p:cNvPr id="829" name=""/>
              <p:cNvSpPr/>
              <p:nvPr/>
            </p:nvSpPr>
            <p:spPr>
              <a:xfrm>
                <a:off x="4890960" y="4056120"/>
                <a:ext cx="15541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91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890960" y="4056120"/>
                <a:ext cx="1554120" cy="70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445080" y="4056120"/>
              <a:ext cx="2011680" cy="701640"/>
              <a:chOff x="6445080" y="4056120"/>
              <a:chExt cx="2011680" cy="701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445080" y="4056120"/>
                <a:ext cx="201168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92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445080" y="4056120"/>
                <a:ext cx="2011680" cy="70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2971800" y="4757760"/>
              <a:ext cx="1919160" cy="1190520"/>
              <a:chOff x="2971800" y="4757760"/>
              <a:chExt cx="1919160" cy="1190520"/>
            </a:xfrm>
          </p:grpSpPr>
          <p:sp>
            <p:nvSpPr>
              <p:cNvPr id="835" name=""/>
              <p:cNvSpPr/>
              <p:nvPr/>
            </p:nvSpPr>
            <p:spPr>
              <a:xfrm>
                <a:off x="2971800" y="4757760"/>
                <a:ext cx="1919160" cy="11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III Ciclo y Educación Diversificad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971800" y="4757760"/>
                <a:ext cx="1919160" cy="1190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4890960" y="4757760"/>
              <a:ext cx="1554120" cy="1190520"/>
              <a:chOff x="4890960" y="4757760"/>
              <a:chExt cx="1554120" cy="1190520"/>
            </a:xfrm>
          </p:grpSpPr>
          <p:sp>
            <p:nvSpPr>
              <p:cNvPr id="838" name=""/>
              <p:cNvSpPr/>
              <p:nvPr/>
            </p:nvSpPr>
            <p:spPr>
              <a:xfrm>
                <a:off x="4890960" y="4757760"/>
                <a:ext cx="1554120" cy="11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86.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90960" y="4757760"/>
                <a:ext cx="1554120" cy="1190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6445080" y="4757760"/>
              <a:ext cx="2011680" cy="1190520"/>
              <a:chOff x="6445080" y="4757760"/>
              <a:chExt cx="2011680" cy="1190520"/>
            </a:xfrm>
          </p:grpSpPr>
          <p:sp>
            <p:nvSpPr>
              <p:cNvPr id="841" name=""/>
              <p:cNvSpPr/>
              <p:nvPr/>
            </p:nvSpPr>
            <p:spPr>
              <a:xfrm>
                <a:off x="6445080" y="4757760"/>
                <a:ext cx="2011680" cy="11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88.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45080" y="4757760"/>
                <a:ext cx="2011680" cy="1190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3" name=""/>
          <p:cNvSpPr/>
          <p:nvPr/>
        </p:nvSpPr>
        <p:spPr>
          <a:xfrm>
            <a:off x="228600" y="1447920"/>
            <a:ext cx="2514600" cy="24789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nde a mejorar cad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ño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4.000 docentes capacitados y actualizados en el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855720" y="4535640"/>
            <a:ext cx="495360" cy="495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349280" y="4535640"/>
            <a:ext cx="4971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846440" y="4535640"/>
            <a:ext cx="49500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34144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5572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349280" y="503064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46440" y="503064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4144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34144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0360" y="6019920"/>
            <a:ext cx="495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55720" y="601992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349280" y="601992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846440" y="601992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-1440" y="0"/>
            <a:ext cx="9145440" cy="1006560"/>
            <a:chOff x="-1440" y="0"/>
            <a:chExt cx="9145440" cy="1006560"/>
          </a:xfrm>
        </p:grpSpPr>
        <p:sp>
          <p:nvSpPr>
            <p:cNvPr id="858" name=""/>
            <p:cNvSpPr/>
            <p:nvPr/>
          </p:nvSpPr>
          <p:spPr>
            <a:xfrm>
              <a:off x="69840" y="71280"/>
              <a:ext cx="9074160" cy="93528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-1440" y="0"/>
              <a:ext cx="9145440" cy="93492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424800" y="0"/>
            <a:ext cx="707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APACITACIÓN Y ACTU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 DOCENTES</a:t>
            </a:r>
            <a:r>
              <a:rPr b="1" lang="es-E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697320" y="444308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a66"/>
                </a:solidFill>
                <a:latin typeface="Times New Roman"/>
                <a:ea typeface="Arial Unicode MS"/>
              </a:rPr>
              <a:t>PERSONAL DOCENTE EN EDUCACIÓN REGU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53058960" y="43286400"/>
            <a:ext cx="9288360" cy="23891760"/>
            <a:chOff x="53058960" y="43286400"/>
            <a:chExt cx="9288360" cy="23891760"/>
          </a:xfrm>
        </p:grpSpPr>
        <p:sp>
          <p:nvSpPr>
            <p:cNvPr id="863" name=""/>
            <p:cNvSpPr/>
            <p:nvPr/>
          </p:nvSpPr>
          <p:spPr>
            <a:xfrm>
              <a:off x="53058960" y="43286400"/>
              <a:ext cx="9288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SEGÚN:  GRUPO PROFESIONAL Y NIVEL DE ENSEÑANZ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058960" y="44475480"/>
              <a:ext cx="9288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DEPENDENCIA: PÚBLICA, PRIVADA Y PRIVADA SUBVENCIONAD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3058960" y="45207360"/>
              <a:ext cx="9288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PERIODO: 2000 - 200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3058960" y="45939240"/>
              <a:ext cx="1460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4519480" y="45939240"/>
              <a:ext cx="2811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Nivel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331080" y="45939240"/>
              <a:ext cx="1276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8607280" y="45939240"/>
              <a:ext cx="766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9374080" y="45939240"/>
              <a:ext cx="882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0256800" y="45939240"/>
              <a:ext cx="604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0861600" y="45939240"/>
              <a:ext cx="1485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3058960" y="46640880"/>
              <a:ext cx="146052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0861600" y="46640880"/>
              <a:ext cx="148572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058960" y="48075840"/>
              <a:ext cx="1460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4519480" y="48075840"/>
              <a:ext cx="63421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Cifras Relativa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861600" y="48075840"/>
              <a:ext cx="1485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3058960" y="48777480"/>
              <a:ext cx="1460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4519480" y="48777480"/>
              <a:ext cx="24591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6978640" y="48777480"/>
              <a:ext cx="7048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83520" y="48777480"/>
              <a:ext cx="9237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8607280" y="48777480"/>
              <a:ext cx="766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9374080" y="48777480"/>
              <a:ext cx="1487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0861600" y="48777480"/>
              <a:ext cx="1485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058960" y="49417200"/>
              <a:ext cx="1460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4519480" y="49417200"/>
              <a:ext cx="63421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Titulad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0861600" y="49417200"/>
              <a:ext cx="1485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058960" y="50118840"/>
              <a:ext cx="146052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4519480" y="50118840"/>
              <a:ext cx="281160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7331080" y="50118840"/>
              <a:ext cx="127620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6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8607280" y="50118840"/>
              <a:ext cx="76680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7,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9374080" y="50118840"/>
              <a:ext cx="88272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8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0256800" y="50118840"/>
              <a:ext cx="60480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9,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0861600" y="50118840"/>
              <a:ext cx="148572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3058960" y="51309720"/>
              <a:ext cx="1460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4519480" y="51309720"/>
              <a:ext cx="28116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7331080" y="51309720"/>
              <a:ext cx="1276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8607280" y="51309720"/>
              <a:ext cx="766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374080" y="51309720"/>
              <a:ext cx="882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0256800" y="51309720"/>
              <a:ext cx="604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0861600" y="51309720"/>
              <a:ext cx="1485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3058960" y="51949440"/>
              <a:ext cx="14605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519480" y="51949440"/>
              <a:ext cx="28116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Preesco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7331080" y="51949440"/>
              <a:ext cx="12762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3,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8607280" y="51949440"/>
              <a:ext cx="766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5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9374080" y="51949440"/>
              <a:ext cx="882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7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256800" y="51949440"/>
              <a:ext cx="604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7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861600" y="51949440"/>
              <a:ext cx="1485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3058960" y="53139960"/>
              <a:ext cx="14605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519480" y="53139960"/>
              <a:ext cx="28116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I y II Cicl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7331080" y="53139960"/>
              <a:ext cx="12762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9,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8607280" y="53139960"/>
              <a:ext cx="766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90,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9374080" y="53139960"/>
              <a:ext cx="882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91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0256800" y="53139960"/>
              <a:ext cx="604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92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0861600" y="53139960"/>
              <a:ext cx="1485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3058960" y="54330480"/>
              <a:ext cx="146052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4519480" y="54330480"/>
              <a:ext cx="281160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Esc. Noctur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331080" y="54330480"/>
              <a:ext cx="127620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0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8607280" y="54330480"/>
              <a:ext cx="76680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0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374080" y="54330480"/>
              <a:ext cx="88272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0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0256800" y="54330480"/>
              <a:ext cx="60480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97,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861600" y="54330480"/>
              <a:ext cx="148572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3058960" y="55765800"/>
              <a:ext cx="14605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4519480" y="55765800"/>
              <a:ext cx="28116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III Ciclo-Educ.Div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7331080" y="55765800"/>
              <a:ext cx="12762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2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8607280" y="55765800"/>
              <a:ext cx="766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4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9374080" y="55765800"/>
              <a:ext cx="882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6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0256800" y="55765800"/>
              <a:ext cx="604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8,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0861600" y="55765800"/>
              <a:ext cx="1485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058960" y="56956320"/>
              <a:ext cx="14605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4519480" y="56956320"/>
              <a:ext cx="28116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Educ. Espec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7331080" y="56956320"/>
              <a:ext cx="12762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77,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8607280" y="56956320"/>
              <a:ext cx="766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75,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9374080" y="56956320"/>
              <a:ext cx="882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74,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0256800" y="56956320"/>
              <a:ext cx="604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72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861600" y="56956320"/>
              <a:ext cx="1485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058960" y="58146840"/>
              <a:ext cx="14605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4519480" y="58146840"/>
              <a:ext cx="28116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331080" y="58146840"/>
              <a:ext cx="12762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8607280" y="58146840"/>
              <a:ext cx="766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9374080" y="58146840"/>
              <a:ext cx="8827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0256800" y="58146840"/>
              <a:ext cx="604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0861600" y="58146840"/>
              <a:ext cx="14857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3058960" y="58786920"/>
              <a:ext cx="1460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4519480" y="58786920"/>
              <a:ext cx="63421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No Titulad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0861600" y="58786920"/>
              <a:ext cx="1485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058960" y="59488560"/>
              <a:ext cx="14605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4519480" y="59488560"/>
              <a:ext cx="28116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7331080" y="59488560"/>
              <a:ext cx="12762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4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8607280" y="59488560"/>
              <a:ext cx="766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2,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374080" y="59488560"/>
              <a:ext cx="882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1,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0256800" y="59488560"/>
              <a:ext cx="604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0,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0861600" y="59488560"/>
              <a:ext cx="1485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058960" y="60679080"/>
              <a:ext cx="1460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4519480" y="60679080"/>
              <a:ext cx="28116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7331080" y="60679080"/>
              <a:ext cx="1276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8607280" y="60679080"/>
              <a:ext cx="766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9374080" y="60679080"/>
              <a:ext cx="882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0256800" y="60679080"/>
              <a:ext cx="604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0861600" y="60679080"/>
              <a:ext cx="1485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3058960" y="61318800"/>
              <a:ext cx="14605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519480" y="61318800"/>
              <a:ext cx="28116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Preesco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7331080" y="61318800"/>
              <a:ext cx="12762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6,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8607280" y="61318800"/>
              <a:ext cx="766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4,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9374080" y="61318800"/>
              <a:ext cx="882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2,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0256800" y="61318800"/>
              <a:ext cx="604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2,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0861600" y="61318800"/>
              <a:ext cx="1485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3058960" y="62509320"/>
              <a:ext cx="1460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519480" y="62509320"/>
              <a:ext cx="2811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I y II Cicl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7331080" y="62509320"/>
              <a:ext cx="1276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0,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8607280" y="62509320"/>
              <a:ext cx="766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9,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9374080" y="62509320"/>
              <a:ext cx="882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,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0256800" y="62509320"/>
              <a:ext cx="604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0861600" y="62509320"/>
              <a:ext cx="1485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3058960" y="63455760"/>
              <a:ext cx="1460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519480" y="63455760"/>
              <a:ext cx="2811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Esc. Noctur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7331080" y="63455760"/>
              <a:ext cx="1276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607280" y="63455760"/>
              <a:ext cx="766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9374080" y="63455760"/>
              <a:ext cx="882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256800" y="63455760"/>
              <a:ext cx="604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2,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861600" y="63455760"/>
              <a:ext cx="1485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3058960" y="64157400"/>
              <a:ext cx="14605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519480" y="64157400"/>
              <a:ext cx="28116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III Ciclo-Educ.Div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7331080" y="64157400"/>
              <a:ext cx="12762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7,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8607280" y="64157400"/>
              <a:ext cx="766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5,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9374080" y="64157400"/>
              <a:ext cx="882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3,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0256800" y="64157400"/>
              <a:ext cx="604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1,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0861600" y="64157400"/>
              <a:ext cx="1485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058960" y="65347920"/>
              <a:ext cx="14605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861600" y="65347920"/>
              <a:ext cx="1485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3058960" y="66538440"/>
              <a:ext cx="1460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4519480" y="66538440"/>
              <a:ext cx="63421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Nota: No Titulados incluye Aspirantes y Autorizad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0861600" y="66538440"/>
              <a:ext cx="1485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54519480" y="46640880"/>
              <a:ext cx="2811600" cy="1434960"/>
              <a:chOff x="54519480" y="46640880"/>
              <a:chExt cx="2811600" cy="1434960"/>
            </a:xfrm>
          </p:grpSpPr>
          <p:sp>
            <p:nvSpPr>
              <p:cNvPr id="995" name=""/>
              <p:cNvSpPr/>
              <p:nvPr/>
            </p:nvSpPr>
            <p:spPr>
              <a:xfrm>
                <a:off x="54519480" y="46640880"/>
                <a:ext cx="2811600" cy="14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Enseñanz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4519480" y="46640880"/>
                <a:ext cx="2811600" cy="1434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57331080" y="46640880"/>
              <a:ext cx="1276200" cy="1434960"/>
              <a:chOff x="57331080" y="46640880"/>
              <a:chExt cx="1276200" cy="1434960"/>
            </a:xfrm>
          </p:grpSpPr>
          <p:sp>
            <p:nvSpPr>
              <p:cNvPr id="998" name=""/>
              <p:cNvSpPr/>
              <p:nvPr/>
            </p:nvSpPr>
            <p:spPr>
              <a:xfrm>
                <a:off x="57331080" y="46640880"/>
                <a:ext cx="1276200" cy="14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7331080" y="46640880"/>
                <a:ext cx="1276200" cy="1434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58607280" y="46640880"/>
              <a:ext cx="766800" cy="1434960"/>
              <a:chOff x="58607280" y="46640880"/>
              <a:chExt cx="766800" cy="1434960"/>
            </a:xfrm>
          </p:grpSpPr>
          <p:sp>
            <p:nvSpPr>
              <p:cNvPr id="1001" name=""/>
              <p:cNvSpPr/>
              <p:nvPr/>
            </p:nvSpPr>
            <p:spPr>
              <a:xfrm>
                <a:off x="58607280" y="46640880"/>
                <a:ext cx="766800" cy="14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8607280" y="46640880"/>
                <a:ext cx="766800" cy="1434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59374080" y="46640880"/>
              <a:ext cx="882720" cy="1434960"/>
              <a:chOff x="59374080" y="46640880"/>
              <a:chExt cx="882720" cy="1434960"/>
            </a:xfrm>
          </p:grpSpPr>
          <p:sp>
            <p:nvSpPr>
              <p:cNvPr id="1004" name=""/>
              <p:cNvSpPr/>
              <p:nvPr/>
            </p:nvSpPr>
            <p:spPr>
              <a:xfrm>
                <a:off x="59374080" y="46640880"/>
                <a:ext cx="882720" cy="14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00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9374080" y="46640880"/>
                <a:ext cx="882720" cy="1434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60256800" y="46640880"/>
              <a:ext cx="604800" cy="1434960"/>
              <a:chOff x="60256800" y="46640880"/>
              <a:chExt cx="604800" cy="1434960"/>
            </a:xfrm>
          </p:grpSpPr>
          <p:sp>
            <p:nvSpPr>
              <p:cNvPr id="1007" name=""/>
              <p:cNvSpPr/>
              <p:nvPr/>
            </p:nvSpPr>
            <p:spPr>
              <a:xfrm>
                <a:off x="60256800" y="46640880"/>
                <a:ext cx="604800" cy="14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00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0256800" y="46640880"/>
                <a:ext cx="604800" cy="1434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54519480" y="65347920"/>
              <a:ext cx="2811600" cy="1190520"/>
              <a:chOff x="54519480" y="65347920"/>
              <a:chExt cx="2811600" cy="1190520"/>
            </a:xfrm>
          </p:grpSpPr>
          <p:sp>
            <p:nvSpPr>
              <p:cNvPr id="1010" name=""/>
              <p:cNvSpPr/>
              <p:nvPr/>
            </p:nvSpPr>
            <p:spPr>
              <a:xfrm>
                <a:off x="54519480" y="65347920"/>
                <a:ext cx="2811600" cy="11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-Educ. Especi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4519480" y="65347920"/>
                <a:ext cx="2811600" cy="1190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57331080" y="65347920"/>
              <a:ext cx="1276200" cy="1190520"/>
              <a:chOff x="57331080" y="65347920"/>
              <a:chExt cx="1276200" cy="1190520"/>
            </a:xfrm>
          </p:grpSpPr>
          <p:sp>
            <p:nvSpPr>
              <p:cNvPr id="1013" name=""/>
              <p:cNvSpPr/>
              <p:nvPr/>
            </p:nvSpPr>
            <p:spPr>
              <a:xfrm>
                <a:off x="57331080" y="65347920"/>
                <a:ext cx="1276200" cy="11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2,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7331080" y="65347920"/>
                <a:ext cx="1276200" cy="1190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58607280" y="65347920"/>
              <a:ext cx="766800" cy="1190520"/>
              <a:chOff x="58607280" y="65347920"/>
              <a:chExt cx="766800" cy="1190520"/>
            </a:xfrm>
          </p:grpSpPr>
          <p:sp>
            <p:nvSpPr>
              <p:cNvPr id="1016" name=""/>
              <p:cNvSpPr/>
              <p:nvPr/>
            </p:nvSpPr>
            <p:spPr>
              <a:xfrm>
                <a:off x="58607280" y="65347920"/>
                <a:ext cx="766800" cy="11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4,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8607280" y="65347920"/>
                <a:ext cx="766800" cy="1190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59374080" y="65347920"/>
              <a:ext cx="882720" cy="1190520"/>
              <a:chOff x="59374080" y="65347920"/>
              <a:chExt cx="882720" cy="1190520"/>
            </a:xfrm>
          </p:grpSpPr>
          <p:sp>
            <p:nvSpPr>
              <p:cNvPr id="1019" name=""/>
              <p:cNvSpPr/>
              <p:nvPr/>
            </p:nvSpPr>
            <p:spPr>
              <a:xfrm>
                <a:off x="59374080" y="65347920"/>
                <a:ext cx="882720" cy="11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5,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9374080" y="65347920"/>
                <a:ext cx="882720" cy="1190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60256800" y="65347920"/>
              <a:ext cx="604800" cy="1190520"/>
              <a:chOff x="60256800" y="65347920"/>
              <a:chExt cx="604800" cy="1190520"/>
            </a:xfrm>
          </p:grpSpPr>
          <p:sp>
            <p:nvSpPr>
              <p:cNvPr id="1022" name=""/>
              <p:cNvSpPr/>
              <p:nvPr/>
            </p:nvSpPr>
            <p:spPr>
              <a:xfrm>
                <a:off x="60256800" y="65347920"/>
                <a:ext cx="604800" cy="11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7,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0256800" y="65347920"/>
                <a:ext cx="604800" cy="1190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4" name=""/>
          <p:cNvSpPr/>
          <p:nvPr/>
        </p:nvSpPr>
        <p:spPr>
          <a:xfrm>
            <a:off x="54697320" y="444308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a66"/>
                </a:solidFill>
                <a:latin typeface="Times New Roman"/>
                <a:ea typeface="Arial Unicode MS"/>
              </a:rPr>
              <a:t>PERSONAL DOCENTE EN EDUCACIÓN REGU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53058960" y="43286400"/>
            <a:ext cx="9288360" cy="23891760"/>
            <a:chOff x="53058960" y="43286400"/>
            <a:chExt cx="9288360" cy="23891760"/>
          </a:xfrm>
        </p:grpSpPr>
        <p:sp>
          <p:nvSpPr>
            <p:cNvPr id="1026" name=""/>
            <p:cNvSpPr/>
            <p:nvPr/>
          </p:nvSpPr>
          <p:spPr>
            <a:xfrm>
              <a:off x="53058960" y="43286400"/>
              <a:ext cx="9288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SEGÚN:  GRUPO PROFESIONAL Y NIVEL DE ENSEÑANZ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3058960" y="44475480"/>
              <a:ext cx="9288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DEPENDENCIA: PÚBLICA, PRIVADA Y PRIVADA SUBVENCIONAD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3058960" y="45207360"/>
              <a:ext cx="9288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PERIODO: 2000 - 200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3058960" y="45939240"/>
              <a:ext cx="1460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4519480" y="45939240"/>
              <a:ext cx="2811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Nivel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331080" y="45939240"/>
              <a:ext cx="1276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8607280" y="45939240"/>
              <a:ext cx="766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9374080" y="45939240"/>
              <a:ext cx="882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0256800" y="45939240"/>
              <a:ext cx="604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0861600" y="45939240"/>
              <a:ext cx="1485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3058960" y="46640880"/>
              <a:ext cx="146052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0861600" y="46640880"/>
              <a:ext cx="148572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3058960" y="48075840"/>
              <a:ext cx="1460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519480" y="48075840"/>
              <a:ext cx="63421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Cifras Relativa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0861600" y="48075840"/>
              <a:ext cx="1485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3058960" y="48777480"/>
              <a:ext cx="1460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4519480" y="48777480"/>
              <a:ext cx="24591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6978640" y="48777480"/>
              <a:ext cx="7048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7683520" y="48777480"/>
              <a:ext cx="9237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8607280" y="48777480"/>
              <a:ext cx="766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9374080" y="48777480"/>
              <a:ext cx="1487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0861600" y="48777480"/>
              <a:ext cx="1485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058960" y="49417200"/>
              <a:ext cx="1460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4519480" y="49417200"/>
              <a:ext cx="63421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Titulad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0861600" y="49417200"/>
              <a:ext cx="1485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058960" y="50118840"/>
              <a:ext cx="146052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4519480" y="50118840"/>
              <a:ext cx="281160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7331080" y="50118840"/>
              <a:ext cx="127620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6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8607280" y="50118840"/>
              <a:ext cx="76680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7,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9374080" y="50118840"/>
              <a:ext cx="88272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8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0256800" y="50118840"/>
              <a:ext cx="60480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9,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0861600" y="50118840"/>
              <a:ext cx="148572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3058960" y="51309720"/>
              <a:ext cx="1460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4519480" y="51309720"/>
              <a:ext cx="28116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7331080" y="51309720"/>
              <a:ext cx="1276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8607280" y="51309720"/>
              <a:ext cx="766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9374080" y="51309720"/>
              <a:ext cx="882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0256800" y="51309720"/>
              <a:ext cx="604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0861600" y="51309720"/>
              <a:ext cx="1485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3058960" y="51949440"/>
              <a:ext cx="14605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4519480" y="51949440"/>
              <a:ext cx="28116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Preesco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7331080" y="51949440"/>
              <a:ext cx="12762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3,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8607280" y="51949440"/>
              <a:ext cx="766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5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9374080" y="51949440"/>
              <a:ext cx="882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7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0256800" y="51949440"/>
              <a:ext cx="604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7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0861600" y="51949440"/>
              <a:ext cx="1485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3058960" y="53139960"/>
              <a:ext cx="14605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4519480" y="53139960"/>
              <a:ext cx="28116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I y II Cicl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331080" y="53139960"/>
              <a:ext cx="12762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9,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8607280" y="53139960"/>
              <a:ext cx="766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90,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9374080" y="53139960"/>
              <a:ext cx="882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91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0256800" y="53139960"/>
              <a:ext cx="604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92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0861600" y="53139960"/>
              <a:ext cx="1485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3058960" y="54330480"/>
              <a:ext cx="146052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4519480" y="54330480"/>
              <a:ext cx="281160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Esc. Noctur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331080" y="54330480"/>
              <a:ext cx="127620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0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8607280" y="54330480"/>
              <a:ext cx="76680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0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374080" y="54330480"/>
              <a:ext cx="88272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0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0256800" y="54330480"/>
              <a:ext cx="60480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97,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0861600" y="54330480"/>
              <a:ext cx="148572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3058960" y="55765800"/>
              <a:ext cx="14605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4519480" y="55765800"/>
              <a:ext cx="28116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III Ciclo-Educ.Div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7331080" y="55765800"/>
              <a:ext cx="12762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2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8607280" y="55765800"/>
              <a:ext cx="766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4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9374080" y="55765800"/>
              <a:ext cx="882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6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0256800" y="55765800"/>
              <a:ext cx="604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8,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861600" y="55765800"/>
              <a:ext cx="1485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3058960" y="56956320"/>
              <a:ext cx="14605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4519480" y="56956320"/>
              <a:ext cx="28116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Educ. Espec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7331080" y="56956320"/>
              <a:ext cx="12762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77,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8607280" y="56956320"/>
              <a:ext cx="766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75,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9374080" y="56956320"/>
              <a:ext cx="882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74,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0256800" y="56956320"/>
              <a:ext cx="604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72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0861600" y="56956320"/>
              <a:ext cx="1485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3058960" y="58146840"/>
              <a:ext cx="14605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4519480" y="58146840"/>
              <a:ext cx="28116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7331080" y="58146840"/>
              <a:ext cx="12762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8607280" y="58146840"/>
              <a:ext cx="766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9374080" y="58146840"/>
              <a:ext cx="8827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0256800" y="58146840"/>
              <a:ext cx="604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0861600" y="58146840"/>
              <a:ext cx="14857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058960" y="58786920"/>
              <a:ext cx="1460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4519480" y="58786920"/>
              <a:ext cx="63421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No Titulad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0861600" y="58786920"/>
              <a:ext cx="1485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058960" y="59488560"/>
              <a:ext cx="14605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4519480" y="59488560"/>
              <a:ext cx="28116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7331080" y="59488560"/>
              <a:ext cx="12762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4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8607280" y="59488560"/>
              <a:ext cx="766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2,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9374080" y="59488560"/>
              <a:ext cx="882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1,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0256800" y="59488560"/>
              <a:ext cx="604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0,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0861600" y="59488560"/>
              <a:ext cx="1485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3058960" y="60679080"/>
              <a:ext cx="1460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4519480" y="60679080"/>
              <a:ext cx="28116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7331080" y="60679080"/>
              <a:ext cx="1276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8607280" y="60679080"/>
              <a:ext cx="766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9374080" y="60679080"/>
              <a:ext cx="882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0256800" y="60679080"/>
              <a:ext cx="604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0861600" y="60679080"/>
              <a:ext cx="1485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3058960" y="61318800"/>
              <a:ext cx="14605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4519480" y="61318800"/>
              <a:ext cx="28116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Preesco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7331080" y="61318800"/>
              <a:ext cx="12762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6,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8607280" y="61318800"/>
              <a:ext cx="766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4,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9374080" y="61318800"/>
              <a:ext cx="882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2,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0256800" y="61318800"/>
              <a:ext cx="604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2,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0861600" y="61318800"/>
              <a:ext cx="1485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3058960" y="62509320"/>
              <a:ext cx="1460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4519480" y="62509320"/>
              <a:ext cx="2811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I y II Cicl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331080" y="62509320"/>
              <a:ext cx="1276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0,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8607280" y="62509320"/>
              <a:ext cx="766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9,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9374080" y="62509320"/>
              <a:ext cx="882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,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0256800" y="62509320"/>
              <a:ext cx="604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0861600" y="62509320"/>
              <a:ext cx="1485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3058960" y="63455760"/>
              <a:ext cx="1460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4519480" y="63455760"/>
              <a:ext cx="2811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Esc. Noctur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7331080" y="63455760"/>
              <a:ext cx="1276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8607280" y="63455760"/>
              <a:ext cx="766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374080" y="63455760"/>
              <a:ext cx="882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0256800" y="63455760"/>
              <a:ext cx="604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2,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0861600" y="63455760"/>
              <a:ext cx="1485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3058960" y="64157400"/>
              <a:ext cx="14605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4519480" y="64157400"/>
              <a:ext cx="28116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III Ciclo-Educ.Div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7331080" y="64157400"/>
              <a:ext cx="12762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7,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8607280" y="64157400"/>
              <a:ext cx="766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5,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374080" y="64157400"/>
              <a:ext cx="882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3,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0256800" y="64157400"/>
              <a:ext cx="604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1,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861600" y="64157400"/>
              <a:ext cx="1485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3058960" y="65347920"/>
              <a:ext cx="14605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861600" y="65347920"/>
              <a:ext cx="1485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3058960" y="66538440"/>
              <a:ext cx="1460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519480" y="66538440"/>
              <a:ext cx="63421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Nota: No Titulados incluye Aspirantes y Autorizad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0861600" y="66538440"/>
              <a:ext cx="1485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7" name=""/>
            <p:cNvGrpSpPr/>
            <p:nvPr/>
          </p:nvGrpSpPr>
          <p:grpSpPr>
            <a:xfrm>
              <a:off x="54519480" y="46640880"/>
              <a:ext cx="2811600" cy="1434960"/>
              <a:chOff x="54519480" y="46640880"/>
              <a:chExt cx="2811600" cy="1434960"/>
            </a:xfrm>
          </p:grpSpPr>
          <p:sp>
            <p:nvSpPr>
              <p:cNvPr id="1158" name=""/>
              <p:cNvSpPr/>
              <p:nvPr/>
            </p:nvSpPr>
            <p:spPr>
              <a:xfrm>
                <a:off x="54519480" y="46640880"/>
                <a:ext cx="2811600" cy="14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Enseñanz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4519480" y="46640880"/>
                <a:ext cx="2811600" cy="1434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57331080" y="46640880"/>
              <a:ext cx="1276200" cy="1434960"/>
              <a:chOff x="57331080" y="46640880"/>
              <a:chExt cx="1276200" cy="1434960"/>
            </a:xfrm>
          </p:grpSpPr>
          <p:sp>
            <p:nvSpPr>
              <p:cNvPr id="1161" name=""/>
              <p:cNvSpPr/>
              <p:nvPr/>
            </p:nvSpPr>
            <p:spPr>
              <a:xfrm>
                <a:off x="57331080" y="46640880"/>
                <a:ext cx="1276200" cy="14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7331080" y="46640880"/>
                <a:ext cx="1276200" cy="1434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58607280" y="46640880"/>
              <a:ext cx="766800" cy="1434960"/>
              <a:chOff x="58607280" y="46640880"/>
              <a:chExt cx="766800" cy="1434960"/>
            </a:xfrm>
          </p:grpSpPr>
          <p:sp>
            <p:nvSpPr>
              <p:cNvPr id="1164" name=""/>
              <p:cNvSpPr/>
              <p:nvPr/>
            </p:nvSpPr>
            <p:spPr>
              <a:xfrm>
                <a:off x="58607280" y="46640880"/>
                <a:ext cx="766800" cy="14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8607280" y="46640880"/>
                <a:ext cx="766800" cy="1434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59374080" y="46640880"/>
              <a:ext cx="882720" cy="1434960"/>
              <a:chOff x="59374080" y="46640880"/>
              <a:chExt cx="882720" cy="1434960"/>
            </a:xfrm>
          </p:grpSpPr>
          <p:sp>
            <p:nvSpPr>
              <p:cNvPr id="1167" name=""/>
              <p:cNvSpPr/>
              <p:nvPr/>
            </p:nvSpPr>
            <p:spPr>
              <a:xfrm>
                <a:off x="59374080" y="46640880"/>
                <a:ext cx="882720" cy="14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00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9374080" y="46640880"/>
                <a:ext cx="882720" cy="1434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60256800" y="46640880"/>
              <a:ext cx="604800" cy="1434960"/>
              <a:chOff x="60256800" y="46640880"/>
              <a:chExt cx="604800" cy="1434960"/>
            </a:xfrm>
          </p:grpSpPr>
          <p:sp>
            <p:nvSpPr>
              <p:cNvPr id="1170" name=""/>
              <p:cNvSpPr/>
              <p:nvPr/>
            </p:nvSpPr>
            <p:spPr>
              <a:xfrm>
                <a:off x="60256800" y="46640880"/>
                <a:ext cx="604800" cy="14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00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0256800" y="46640880"/>
                <a:ext cx="604800" cy="1434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54519480" y="65347920"/>
              <a:ext cx="2811600" cy="1190520"/>
              <a:chOff x="54519480" y="65347920"/>
              <a:chExt cx="2811600" cy="1190520"/>
            </a:xfrm>
          </p:grpSpPr>
          <p:sp>
            <p:nvSpPr>
              <p:cNvPr id="1173" name=""/>
              <p:cNvSpPr/>
              <p:nvPr/>
            </p:nvSpPr>
            <p:spPr>
              <a:xfrm>
                <a:off x="54519480" y="65347920"/>
                <a:ext cx="2811600" cy="11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-Educ. Especi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4519480" y="65347920"/>
                <a:ext cx="2811600" cy="1190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57331080" y="65347920"/>
              <a:ext cx="1276200" cy="1190520"/>
              <a:chOff x="57331080" y="65347920"/>
              <a:chExt cx="1276200" cy="1190520"/>
            </a:xfrm>
          </p:grpSpPr>
          <p:sp>
            <p:nvSpPr>
              <p:cNvPr id="1176" name=""/>
              <p:cNvSpPr/>
              <p:nvPr/>
            </p:nvSpPr>
            <p:spPr>
              <a:xfrm>
                <a:off x="57331080" y="65347920"/>
                <a:ext cx="1276200" cy="11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2,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7331080" y="65347920"/>
                <a:ext cx="1276200" cy="1190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58607280" y="65347920"/>
              <a:ext cx="766800" cy="1190520"/>
              <a:chOff x="58607280" y="65347920"/>
              <a:chExt cx="766800" cy="1190520"/>
            </a:xfrm>
          </p:grpSpPr>
          <p:sp>
            <p:nvSpPr>
              <p:cNvPr id="1179" name=""/>
              <p:cNvSpPr/>
              <p:nvPr/>
            </p:nvSpPr>
            <p:spPr>
              <a:xfrm>
                <a:off x="58607280" y="65347920"/>
                <a:ext cx="766800" cy="11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4,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8607280" y="65347920"/>
                <a:ext cx="766800" cy="1190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59374080" y="65347920"/>
              <a:ext cx="882720" cy="1190520"/>
              <a:chOff x="59374080" y="65347920"/>
              <a:chExt cx="882720" cy="1190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59374080" y="65347920"/>
                <a:ext cx="882720" cy="11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5,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9374080" y="65347920"/>
                <a:ext cx="882720" cy="1190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60256800" y="65347920"/>
              <a:ext cx="604800" cy="1190520"/>
              <a:chOff x="60256800" y="65347920"/>
              <a:chExt cx="604800" cy="1190520"/>
            </a:xfrm>
          </p:grpSpPr>
          <p:sp>
            <p:nvSpPr>
              <p:cNvPr id="1185" name=""/>
              <p:cNvSpPr/>
              <p:nvPr/>
            </p:nvSpPr>
            <p:spPr>
              <a:xfrm>
                <a:off x="60256800" y="65347920"/>
                <a:ext cx="604800" cy="11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7,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0256800" y="65347920"/>
                <a:ext cx="604800" cy="1190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7" name=""/>
          <p:cNvSpPr/>
          <p:nvPr/>
        </p:nvSpPr>
        <p:spPr>
          <a:xfrm>
            <a:off x="36036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-380880" y="914400"/>
            <a:ext cx="9676800" cy="5562720"/>
            <a:chOff x="-380880" y="914400"/>
            <a:chExt cx="9676800" cy="5562720"/>
          </a:xfrm>
        </p:grpSpPr>
        <p:sp>
          <p:nvSpPr>
            <p:cNvPr id="1189" name=""/>
            <p:cNvSpPr/>
            <p:nvPr/>
          </p:nvSpPr>
          <p:spPr>
            <a:xfrm>
              <a:off x="-380880" y="914400"/>
              <a:ext cx="14731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848000" y="914400"/>
              <a:ext cx="14479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-380880" y="1315440"/>
              <a:ext cx="14731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092240" y="1315440"/>
              <a:ext cx="675576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Cifras Relativa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848000" y="1315440"/>
              <a:ext cx="14479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-380880" y="1511640"/>
              <a:ext cx="1473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092240" y="1511640"/>
              <a:ext cx="269568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788280" y="1511640"/>
              <a:ext cx="76968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558320" y="1511640"/>
              <a:ext cx="101088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569200" y="1511640"/>
              <a:ext cx="7747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344280" y="1511640"/>
              <a:ext cx="15037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848000" y="1511640"/>
              <a:ext cx="14479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-380880" y="1690560"/>
              <a:ext cx="14731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092240" y="1690560"/>
              <a:ext cx="675576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Titulad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848000" y="1690560"/>
              <a:ext cx="14479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-380880" y="1886760"/>
              <a:ext cx="14731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092240" y="1886760"/>
              <a:ext cx="308088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73480" y="1886760"/>
              <a:ext cx="13957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6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569200" y="1886760"/>
              <a:ext cx="7747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7,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344280" y="1886760"/>
              <a:ext cx="90324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8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247520" y="1886760"/>
              <a:ext cx="6001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9,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848000" y="1886760"/>
              <a:ext cx="14479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-380880" y="2219400"/>
              <a:ext cx="1473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092240" y="2219400"/>
              <a:ext cx="3080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73480" y="2219400"/>
              <a:ext cx="13957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569200" y="2219400"/>
              <a:ext cx="7747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344280" y="2219400"/>
              <a:ext cx="903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247520" y="2219400"/>
              <a:ext cx="600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848000" y="2219400"/>
              <a:ext cx="14479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-380880" y="2398320"/>
              <a:ext cx="14731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092240" y="2398320"/>
              <a:ext cx="308088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Preesco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173480" y="2398320"/>
              <a:ext cx="13957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3,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569200" y="2398320"/>
              <a:ext cx="7747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5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344280" y="2398320"/>
              <a:ext cx="90324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7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247520" y="2398320"/>
              <a:ext cx="6001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7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848000" y="2398320"/>
              <a:ext cx="14479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-380880" y="2731320"/>
              <a:ext cx="14731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092240" y="2731320"/>
              <a:ext cx="308088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I y II Cicl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173480" y="2731320"/>
              <a:ext cx="13957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9,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569200" y="2731320"/>
              <a:ext cx="7747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90,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344280" y="2731320"/>
              <a:ext cx="90324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91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247520" y="2731320"/>
              <a:ext cx="6001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92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848000" y="2731320"/>
              <a:ext cx="14479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-380880" y="3064320"/>
              <a:ext cx="14731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092240" y="3064320"/>
              <a:ext cx="30808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Esc. Noctur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73480" y="3064320"/>
              <a:ext cx="13957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0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569200" y="3064320"/>
              <a:ext cx="7747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0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44280" y="3064320"/>
              <a:ext cx="9032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0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247520" y="3064320"/>
              <a:ext cx="6001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97,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848000" y="3064320"/>
              <a:ext cx="14479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-380880" y="3465360"/>
              <a:ext cx="14731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092240" y="3465360"/>
              <a:ext cx="308088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III Ciclo-Educ.Div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173480" y="3465360"/>
              <a:ext cx="13957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2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569200" y="3465360"/>
              <a:ext cx="7747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4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44280" y="3465360"/>
              <a:ext cx="90324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6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247520" y="3465360"/>
              <a:ext cx="6001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8,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848000" y="3465360"/>
              <a:ext cx="14479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-380880" y="3798360"/>
              <a:ext cx="14731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092240" y="3798360"/>
              <a:ext cx="308088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Educ. Espec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173480" y="3798360"/>
              <a:ext cx="13957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77,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569200" y="3798360"/>
              <a:ext cx="7747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75,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344280" y="3798360"/>
              <a:ext cx="90324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74,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247520" y="3798360"/>
              <a:ext cx="6001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72,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848000" y="3798360"/>
              <a:ext cx="14479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-380880" y="4131000"/>
              <a:ext cx="1473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092240" y="4131000"/>
              <a:ext cx="3080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173480" y="4131000"/>
              <a:ext cx="13957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569200" y="4131000"/>
              <a:ext cx="7747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344280" y="4131000"/>
              <a:ext cx="903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247520" y="4131000"/>
              <a:ext cx="600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848000" y="4131000"/>
              <a:ext cx="14479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-380880" y="4309920"/>
              <a:ext cx="14731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092240" y="4309920"/>
              <a:ext cx="675576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No Titulad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848000" y="4309920"/>
              <a:ext cx="14479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-380880" y="4506120"/>
              <a:ext cx="14731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092240" y="4506120"/>
              <a:ext cx="308088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173480" y="4506120"/>
              <a:ext cx="13957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4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569200" y="4506120"/>
              <a:ext cx="7747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2,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344280" y="4506120"/>
              <a:ext cx="90324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1,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247520" y="4506120"/>
              <a:ext cx="6001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0,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848000" y="4506120"/>
              <a:ext cx="14479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-380880" y="4839120"/>
              <a:ext cx="1473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092240" y="4839120"/>
              <a:ext cx="3080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173480" y="4839120"/>
              <a:ext cx="13957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569200" y="4839120"/>
              <a:ext cx="7747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344280" y="4839120"/>
              <a:ext cx="903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247520" y="4839120"/>
              <a:ext cx="600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848000" y="4839120"/>
              <a:ext cx="14479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-380880" y="5018040"/>
              <a:ext cx="14731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092240" y="5018040"/>
              <a:ext cx="308088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Preesco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173480" y="5018040"/>
              <a:ext cx="13957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6,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569200" y="5018040"/>
              <a:ext cx="7747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4,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344280" y="5018040"/>
              <a:ext cx="90324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2,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47520" y="5018040"/>
              <a:ext cx="6001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2,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848000" y="5018040"/>
              <a:ext cx="14479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-380880" y="5350680"/>
              <a:ext cx="14731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092240" y="5350680"/>
              <a:ext cx="3080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I y II Cicl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173480" y="5350680"/>
              <a:ext cx="1395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0,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569200" y="5350680"/>
              <a:ext cx="774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9,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344280" y="5350680"/>
              <a:ext cx="9032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,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247520" y="5350680"/>
              <a:ext cx="6001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8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848000" y="5350680"/>
              <a:ext cx="14479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-380880" y="5615280"/>
              <a:ext cx="14731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92240" y="5615280"/>
              <a:ext cx="308088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Esc. Noctur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173480" y="5615280"/>
              <a:ext cx="13957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569200" y="5615280"/>
              <a:ext cx="7747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344280" y="5615280"/>
              <a:ext cx="90324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247520" y="5615280"/>
              <a:ext cx="6001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2,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848000" y="5615280"/>
              <a:ext cx="144792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-380880" y="5811480"/>
              <a:ext cx="14731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092240" y="5811480"/>
              <a:ext cx="308088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III Ciclo-Educ.Div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173480" y="5811480"/>
              <a:ext cx="13957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7,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569200" y="5811480"/>
              <a:ext cx="7747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5,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4280" y="5811480"/>
              <a:ext cx="90324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3,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247520" y="5811480"/>
              <a:ext cx="6001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11,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848000" y="5811480"/>
              <a:ext cx="14479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-380880" y="6144480"/>
              <a:ext cx="14731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848000" y="6144480"/>
              <a:ext cx="14479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404a66"/>
                  </a:solidFill>
                  <a:latin typeface="Times New Roman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7" name=""/>
            <p:cNvGrpSpPr/>
            <p:nvPr/>
          </p:nvGrpSpPr>
          <p:grpSpPr>
            <a:xfrm>
              <a:off x="1092240" y="914400"/>
              <a:ext cx="3080520" cy="401040"/>
              <a:chOff x="1092240" y="914400"/>
              <a:chExt cx="3080520" cy="401040"/>
            </a:xfrm>
          </p:grpSpPr>
          <p:sp>
            <p:nvSpPr>
              <p:cNvPr id="1308" name=""/>
              <p:cNvSpPr/>
              <p:nvPr/>
            </p:nvSpPr>
            <p:spPr>
              <a:xfrm>
                <a:off x="1092240" y="914400"/>
                <a:ext cx="308052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Enseñanza</a:t>
                </a:r>
                <a:r>
                  <a:rPr b="1" lang="es-MX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 /Períod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092240" y="914400"/>
                <a:ext cx="3080520" cy="401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0" name=""/>
            <p:cNvGrpSpPr/>
            <p:nvPr/>
          </p:nvGrpSpPr>
          <p:grpSpPr>
            <a:xfrm>
              <a:off x="4173480" y="914400"/>
              <a:ext cx="1395360" cy="401040"/>
              <a:chOff x="4173480" y="914400"/>
              <a:chExt cx="1395360" cy="401040"/>
            </a:xfrm>
          </p:grpSpPr>
          <p:sp>
            <p:nvSpPr>
              <p:cNvPr id="1311" name=""/>
              <p:cNvSpPr/>
              <p:nvPr/>
            </p:nvSpPr>
            <p:spPr>
              <a:xfrm>
                <a:off x="4173480" y="914400"/>
                <a:ext cx="139536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4173480" y="914400"/>
                <a:ext cx="1395360" cy="401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3" name=""/>
            <p:cNvGrpSpPr/>
            <p:nvPr/>
          </p:nvGrpSpPr>
          <p:grpSpPr>
            <a:xfrm>
              <a:off x="5569200" y="914400"/>
              <a:ext cx="774360" cy="401040"/>
              <a:chOff x="5569200" y="914400"/>
              <a:chExt cx="774360" cy="401040"/>
            </a:xfrm>
          </p:grpSpPr>
          <p:sp>
            <p:nvSpPr>
              <p:cNvPr id="1314" name=""/>
              <p:cNvSpPr/>
              <p:nvPr/>
            </p:nvSpPr>
            <p:spPr>
              <a:xfrm>
                <a:off x="5569200" y="914400"/>
                <a:ext cx="77436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569200" y="914400"/>
                <a:ext cx="774360" cy="401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6344280" y="914400"/>
              <a:ext cx="902880" cy="401040"/>
              <a:chOff x="6344280" y="914400"/>
              <a:chExt cx="902880" cy="401040"/>
            </a:xfrm>
          </p:grpSpPr>
          <p:sp>
            <p:nvSpPr>
              <p:cNvPr id="1317" name=""/>
              <p:cNvSpPr/>
              <p:nvPr/>
            </p:nvSpPr>
            <p:spPr>
              <a:xfrm>
                <a:off x="6344280" y="914400"/>
                <a:ext cx="90288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00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344280" y="914400"/>
                <a:ext cx="902880" cy="401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7247520" y="914400"/>
              <a:ext cx="599760" cy="401040"/>
              <a:chOff x="7247520" y="914400"/>
              <a:chExt cx="599760" cy="401040"/>
            </a:xfrm>
          </p:grpSpPr>
          <p:sp>
            <p:nvSpPr>
              <p:cNvPr id="1320" name=""/>
              <p:cNvSpPr/>
              <p:nvPr/>
            </p:nvSpPr>
            <p:spPr>
              <a:xfrm>
                <a:off x="7247520" y="914400"/>
                <a:ext cx="59976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00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247520" y="914400"/>
                <a:ext cx="599760" cy="401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2" name=""/>
            <p:cNvGrpSpPr/>
            <p:nvPr/>
          </p:nvGrpSpPr>
          <p:grpSpPr>
            <a:xfrm>
              <a:off x="1092240" y="6144480"/>
              <a:ext cx="3080520" cy="332640"/>
              <a:chOff x="1092240" y="6144480"/>
              <a:chExt cx="3080520" cy="332640"/>
            </a:xfrm>
          </p:grpSpPr>
          <p:sp>
            <p:nvSpPr>
              <p:cNvPr id="1323" name=""/>
              <p:cNvSpPr/>
              <p:nvPr/>
            </p:nvSpPr>
            <p:spPr>
              <a:xfrm>
                <a:off x="1092240" y="6144480"/>
                <a:ext cx="308052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-Educ. Especi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092240" y="6144480"/>
                <a:ext cx="3080520" cy="332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"/>
            <p:cNvGrpSpPr/>
            <p:nvPr/>
          </p:nvGrpSpPr>
          <p:grpSpPr>
            <a:xfrm>
              <a:off x="4173480" y="6144480"/>
              <a:ext cx="1395360" cy="332640"/>
              <a:chOff x="4173480" y="6144480"/>
              <a:chExt cx="1395360" cy="332640"/>
            </a:xfrm>
          </p:grpSpPr>
          <p:sp>
            <p:nvSpPr>
              <p:cNvPr id="1326" name=""/>
              <p:cNvSpPr/>
              <p:nvPr/>
            </p:nvSpPr>
            <p:spPr>
              <a:xfrm>
                <a:off x="4173480" y="6144480"/>
                <a:ext cx="139536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2,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173480" y="6144480"/>
                <a:ext cx="1395360" cy="332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5569200" y="6144480"/>
              <a:ext cx="774360" cy="332640"/>
              <a:chOff x="5569200" y="6144480"/>
              <a:chExt cx="774360" cy="332640"/>
            </a:xfrm>
          </p:grpSpPr>
          <p:sp>
            <p:nvSpPr>
              <p:cNvPr id="1329" name=""/>
              <p:cNvSpPr/>
              <p:nvPr/>
            </p:nvSpPr>
            <p:spPr>
              <a:xfrm>
                <a:off x="5569200" y="6144480"/>
                <a:ext cx="77436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4,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569200" y="6144480"/>
                <a:ext cx="774360" cy="332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1" name=""/>
            <p:cNvGrpSpPr/>
            <p:nvPr/>
          </p:nvGrpSpPr>
          <p:grpSpPr>
            <a:xfrm>
              <a:off x="6344280" y="6144480"/>
              <a:ext cx="902880" cy="332640"/>
              <a:chOff x="6344280" y="6144480"/>
              <a:chExt cx="902880" cy="332640"/>
            </a:xfrm>
          </p:grpSpPr>
          <p:sp>
            <p:nvSpPr>
              <p:cNvPr id="1332" name=""/>
              <p:cNvSpPr/>
              <p:nvPr/>
            </p:nvSpPr>
            <p:spPr>
              <a:xfrm>
                <a:off x="6344280" y="6144480"/>
                <a:ext cx="90288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5,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344280" y="6144480"/>
                <a:ext cx="902880" cy="332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"/>
            <p:cNvGrpSpPr/>
            <p:nvPr/>
          </p:nvGrpSpPr>
          <p:grpSpPr>
            <a:xfrm>
              <a:off x="7247520" y="6144480"/>
              <a:ext cx="599760" cy="332640"/>
              <a:chOff x="7247520" y="6144480"/>
              <a:chExt cx="599760" cy="332640"/>
            </a:xfrm>
          </p:grpSpPr>
          <p:sp>
            <p:nvSpPr>
              <p:cNvPr id="1335" name=""/>
              <p:cNvSpPr/>
              <p:nvPr/>
            </p:nvSpPr>
            <p:spPr>
              <a:xfrm>
                <a:off x="7247520" y="6144480"/>
                <a:ext cx="59976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a66"/>
                    </a:solidFill>
                    <a:latin typeface="Times New Roman"/>
                    <a:ea typeface="Arial Unicode MS"/>
                  </a:rPr>
                  <a:t>27,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247520" y="6144480"/>
                <a:ext cx="599760" cy="332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" descr=""/>
          <p:cNvPicPr/>
          <p:nvPr/>
        </p:nvPicPr>
        <p:blipFill>
          <a:blip r:embed="rId1"/>
          <a:srcRect l="0" t="0" r="13345" b="0"/>
          <a:stretch/>
        </p:blipFill>
        <p:spPr>
          <a:xfrm>
            <a:off x="376200" y="4538520"/>
            <a:ext cx="2443320" cy="1938600"/>
          </a:xfrm>
          <a:prstGeom prst="rect">
            <a:avLst/>
          </a:prstGeom>
          <a:ln w="0">
            <a:noFill/>
          </a:ln>
        </p:spPr>
      </p:pic>
      <p:sp>
        <p:nvSpPr>
          <p:cNvPr id="1338" name=""/>
          <p:cNvSpPr/>
          <p:nvPr/>
        </p:nvSpPr>
        <p:spPr>
          <a:xfrm>
            <a:off x="36036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855720" y="4535640"/>
            <a:ext cx="495360" cy="495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349280" y="4535640"/>
            <a:ext cx="4971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846440" y="4535640"/>
            <a:ext cx="49500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34144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6036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85572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349280" y="503064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846440" y="503064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34144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60360" y="5524560"/>
            <a:ext cx="49536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85572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349280" y="5524560"/>
            <a:ext cx="4971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846440" y="5524560"/>
            <a:ext cx="49500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34144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60360" y="6019920"/>
            <a:ext cx="495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855720" y="601992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349280" y="601992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846440" y="601992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341440" y="6019920"/>
            <a:ext cx="4953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8" name=""/>
          <p:cNvGrpSpPr/>
          <p:nvPr/>
        </p:nvGrpSpPr>
        <p:grpSpPr>
          <a:xfrm>
            <a:off x="-1440" y="0"/>
            <a:ext cx="9145440" cy="1006560"/>
            <a:chOff x="-1440" y="0"/>
            <a:chExt cx="9145440" cy="1006560"/>
          </a:xfrm>
        </p:grpSpPr>
        <p:sp>
          <p:nvSpPr>
            <p:cNvPr id="1359" name=""/>
            <p:cNvSpPr/>
            <p:nvPr/>
          </p:nvSpPr>
          <p:spPr>
            <a:xfrm>
              <a:off x="69840" y="71280"/>
              <a:ext cx="9074160" cy="93528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-1440" y="0"/>
              <a:ext cx="9145440" cy="93492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1" name=""/>
          <p:cNvSpPr/>
          <p:nvPr/>
        </p:nvSpPr>
        <p:spPr>
          <a:xfrm>
            <a:off x="430200" y="0"/>
            <a:ext cx="500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RELACIÓN CON DEMAN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L SISTEMA PRODUCTIVO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438280" y="990720"/>
            <a:ext cx="6336000" cy="56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</a:t>
            </a:r>
            <a:r>
              <a:rPr b="0" lang="es-ES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imer esfuerzo en 1997</a:t>
            </a:r>
            <a:r>
              <a:rPr b="0" lang="es-MX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</a:t>
            </a:r>
            <a:r>
              <a:rPr b="0" lang="es-ES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“Seminario de Vinculación entre la Educación Técnica y el Sector Empresarial”</a:t>
            </a:r>
            <a:r>
              <a:rPr b="0" lang="es-ES" sz="19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oceso de validación del currículum con los empresarios en el año 200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rabajo conjunto con CINDE en la realización de seminarios, talleres y estudios especializados</a:t>
            </a:r>
            <a:r>
              <a:rPr b="0" lang="es-MX" sz="19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ctividades relacionadas con las especialidades que integran la oferta de la Educación Técnica</a:t>
            </a:r>
            <a:r>
              <a:rPr b="0" lang="es-MX" sz="19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venios con: Pipasa, Ricafrut, Irex, Periféricos, La Nación, LabBolt, SB Conta, BNCR, MICYT, M. Hacienda, Tributación Directa, Microsoft, Intel, Bticino, Consejo de Salud Ocupacional, Caja del Seguro Social,  IMAS, INA entre otr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n el 2003 se realizaron 9 mesas empresariales</a:t>
            </a:r>
            <a:r>
              <a:rPr b="0" lang="es-MX" sz="19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ay un </a:t>
            </a:r>
            <a:r>
              <a:rPr b="0" lang="es-ES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oceso de estudio y divulgación del uso de las bolsas de empleo electrónicas</a:t>
            </a:r>
            <a:r>
              <a:rPr b="0" lang="es-ES" sz="19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04920" y="1371600"/>
            <a:ext cx="2133360" cy="26542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bajo conjunto entre el sector productivo y la Educación Técnica Profesio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152" t="1146" r="0" b="47836"/>
          <a:stretch/>
        </p:blipFill>
        <p:spPr>
          <a:xfrm>
            <a:off x="380880" y="4572000"/>
            <a:ext cx="2460600" cy="1905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036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55720" y="4535640"/>
            <a:ext cx="4953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49280" y="4535640"/>
            <a:ext cx="4971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46440" y="4535640"/>
            <a:ext cx="49500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41440" y="4535640"/>
            <a:ext cx="4953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036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5572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49280" y="503064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46440" y="503064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41440" y="5030640"/>
            <a:ext cx="4953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0360" y="5524560"/>
            <a:ext cx="495360" cy="496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572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49280" y="5524560"/>
            <a:ext cx="4971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46440" y="5524560"/>
            <a:ext cx="49500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4144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0360" y="6019920"/>
            <a:ext cx="4953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5720" y="601992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49280" y="6019920"/>
            <a:ext cx="4971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46440" y="601992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1440" y="6019920"/>
            <a:ext cx="495360" cy="495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0"/>
            <a:ext cx="9145440" cy="1006560"/>
            <a:chOff x="0" y="0"/>
            <a:chExt cx="9145440" cy="1006560"/>
          </a:xfrm>
        </p:grpSpPr>
        <p:sp>
          <p:nvSpPr>
            <p:cNvPr id="69" name=""/>
            <p:cNvSpPr/>
            <p:nvPr/>
          </p:nvSpPr>
          <p:spPr>
            <a:xfrm>
              <a:off x="71280" y="71280"/>
              <a:ext cx="9074160" cy="93528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0"/>
              <a:ext cx="9145440" cy="93492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41280" y="236520"/>
            <a:ext cx="85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JE PRIOROTARIO DE LA AGENDA SOCIAL</a:t>
            </a:r>
            <a:r>
              <a:rPr b="1" lang="es-E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55720" y="2116080"/>
            <a:ext cx="287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24360" y="1106640"/>
            <a:ext cx="475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1219320"/>
            <a:ext cx="58676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74760">
              <a:lnSpc>
                <a:spcPct val="16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Relanzar, con equidad social , la educación costarricense, para que esta sea el eje prioritario  de la agenda social del país, en el marco del combate a la pobreza, la reducción de  las brechas entre la educación rural y la educación  urb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" descr=""/>
          <p:cNvPicPr/>
          <p:nvPr/>
        </p:nvPicPr>
        <p:blipFill>
          <a:blip r:embed="rId1"/>
          <a:srcRect l="0" t="0" r="13345" b="0"/>
          <a:stretch/>
        </p:blipFill>
        <p:spPr>
          <a:xfrm>
            <a:off x="376200" y="4538520"/>
            <a:ext cx="2443320" cy="1938600"/>
          </a:xfrm>
          <a:prstGeom prst="rect">
            <a:avLst/>
          </a:prstGeom>
          <a:ln w="0">
            <a:noFill/>
          </a:ln>
        </p:spPr>
      </p:pic>
      <p:sp>
        <p:nvSpPr>
          <p:cNvPr id="1365" name=""/>
          <p:cNvSpPr/>
          <p:nvPr/>
        </p:nvSpPr>
        <p:spPr>
          <a:xfrm>
            <a:off x="36036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855720" y="4535640"/>
            <a:ext cx="495360" cy="495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349280" y="4535640"/>
            <a:ext cx="4971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846440" y="4535640"/>
            <a:ext cx="49500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34144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6036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85572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349280" y="503064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846440" y="503064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34144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60360" y="5524560"/>
            <a:ext cx="49536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85572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349280" y="5524560"/>
            <a:ext cx="4971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846440" y="5524560"/>
            <a:ext cx="49500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34144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60360" y="6019920"/>
            <a:ext cx="495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855720" y="601992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349280" y="601992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846440" y="601992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341440" y="6019920"/>
            <a:ext cx="4953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-1440" y="0"/>
            <a:ext cx="9145440" cy="1006560"/>
            <a:chOff x="-1440" y="0"/>
            <a:chExt cx="9145440" cy="1006560"/>
          </a:xfrm>
        </p:grpSpPr>
        <p:sp>
          <p:nvSpPr>
            <p:cNvPr id="1386" name=""/>
            <p:cNvSpPr/>
            <p:nvPr/>
          </p:nvSpPr>
          <p:spPr>
            <a:xfrm>
              <a:off x="69840" y="71280"/>
              <a:ext cx="9074160" cy="93528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-1440" y="0"/>
              <a:ext cx="9145440" cy="93492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8" name=""/>
          <p:cNvSpPr/>
          <p:nvPr/>
        </p:nvSpPr>
        <p:spPr>
          <a:xfrm>
            <a:off x="430200" y="0"/>
            <a:ext cx="500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RELACIÓN CON DEMAN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L SISTEMA PRODUCTIVO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48120" y="990720"/>
            <a:ext cx="572616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188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presentaciones estudiantiles, profesores técnicos y académicos, coordinadores técnicos y con la empresa, directores regionales, asesores supervisores</a:t>
            </a:r>
            <a:r>
              <a:rPr b="0" lang="es-MX" sz="1900" spc="-1" strike="noStrike">
                <a:solidFill>
                  <a:srgbClr val="000000"/>
                </a:solidFill>
                <a:latin typeface="Century Gothic"/>
              </a:rPr>
              <a:t>, etc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188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uncionarios del INA</a:t>
            </a:r>
            <a:r>
              <a:rPr b="0" lang="es-MX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</a:t>
            </a:r>
            <a:r>
              <a:rPr b="0" lang="es-ES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ICE, MAG, CENARA, MEIC, etc</a:t>
            </a:r>
            <a:r>
              <a:rPr b="0" lang="es-MX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188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presentantes de cámaras u organizaciones empresariales</a:t>
            </a:r>
            <a:r>
              <a:rPr b="0" lang="es-MX" sz="19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188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presentantes de la sociedad civil</a:t>
            </a:r>
            <a:r>
              <a:rPr b="0" lang="es-MX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188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presentantes de las asociaciones gremiales del ANDE, APSE Y SEC</a:t>
            </a:r>
            <a:r>
              <a:rPr b="0" lang="es-MX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04920" y="1371600"/>
            <a:ext cx="2133360" cy="30200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el 2004 de dis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 desarrollar 13 mesas nacional y regionales, con los siguientes particip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1" name=""/>
          <p:cNvGrpSpPr/>
          <p:nvPr/>
        </p:nvGrpSpPr>
        <p:grpSpPr>
          <a:xfrm>
            <a:off x="0" y="4495680"/>
            <a:ext cx="2285640" cy="1904760"/>
            <a:chOff x="0" y="4495680"/>
            <a:chExt cx="2285640" cy="1904760"/>
          </a:xfrm>
        </p:grpSpPr>
        <p:pic>
          <p:nvPicPr>
            <p:cNvPr id="1392" name="" descr=""/>
            <p:cNvPicPr/>
            <p:nvPr/>
          </p:nvPicPr>
          <p:blipFill>
            <a:blip r:embed="rId1"/>
            <a:srcRect l="0" t="0" r="13345" b="0"/>
            <a:stretch/>
          </p:blipFill>
          <p:spPr>
            <a:xfrm>
              <a:off x="14400" y="4498200"/>
              <a:ext cx="2255400" cy="18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3" name=""/>
            <p:cNvSpPr/>
            <p:nvPr/>
          </p:nvSpPr>
          <p:spPr>
            <a:xfrm>
              <a:off x="0" y="4495680"/>
              <a:ext cx="45720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57200" y="4495680"/>
              <a:ext cx="457200" cy="476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912600" y="4495680"/>
              <a:ext cx="458640" cy="476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371600" y="4495680"/>
              <a:ext cx="456840" cy="476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828440" y="4495680"/>
              <a:ext cx="45720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0" y="4971960"/>
              <a:ext cx="457200" cy="476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57200" y="4971960"/>
              <a:ext cx="457200" cy="476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912600" y="4971960"/>
              <a:ext cx="458640" cy="476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371600" y="4971960"/>
              <a:ext cx="456840" cy="476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828440" y="4971960"/>
              <a:ext cx="457200" cy="476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0" y="5447160"/>
              <a:ext cx="457200" cy="47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57200" y="5447160"/>
              <a:ext cx="457200" cy="478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912600" y="5447160"/>
              <a:ext cx="458640" cy="478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371600" y="5447160"/>
              <a:ext cx="456840" cy="478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828440" y="5447160"/>
              <a:ext cx="457200" cy="478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0" y="5923800"/>
              <a:ext cx="45720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57200" y="5923800"/>
              <a:ext cx="457200" cy="476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912600" y="5923800"/>
              <a:ext cx="458640" cy="476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371600" y="5923800"/>
              <a:ext cx="456840" cy="476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828440" y="5923800"/>
              <a:ext cx="457200" cy="4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-1440" y="0"/>
            <a:ext cx="9145440" cy="1006560"/>
            <a:chOff x="-1440" y="0"/>
            <a:chExt cx="9145440" cy="1006560"/>
          </a:xfrm>
        </p:grpSpPr>
        <p:sp>
          <p:nvSpPr>
            <p:cNvPr id="1414" name=""/>
            <p:cNvSpPr/>
            <p:nvPr/>
          </p:nvSpPr>
          <p:spPr>
            <a:xfrm>
              <a:off x="69840" y="71280"/>
              <a:ext cx="9074160" cy="93528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-1440" y="0"/>
              <a:ext cx="9145440" cy="93492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6" name=""/>
          <p:cNvSpPr/>
          <p:nvPr/>
        </p:nvSpPr>
        <p:spPr>
          <a:xfrm>
            <a:off x="430200" y="0"/>
            <a:ext cx="500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RELACIÓN CON DEMAN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L SISTEMA PRODUCTIVO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133720" y="990720"/>
            <a:ext cx="678168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12 nuevas especialida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pertura de especialidades no tradicionales en centros rurales, de acuerdo con las necesidades de la regió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ctualización permanentes de los planes y program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iseño de mapas curriculares y perfiles ocupacionales para todas las especialidades</a:t>
            </a:r>
            <a:r>
              <a:rPr b="0" lang="es-MX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Validación de los planes de estudio con el sector empresarial y especialistas en las diferentes áreas cada dos años</a:t>
            </a:r>
            <a:r>
              <a:rPr b="0" lang="es-MX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clusión del inglés como segunda lengua en talleres exploratorios</a:t>
            </a:r>
            <a:r>
              <a:rPr b="0" lang="es-MX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clusión de un componente de ajuste regional en los nuevos programas de estudio, a desarrollarse a partir del 2004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mpliación de la cobertura de Educación Técnica</a:t>
            </a:r>
            <a:r>
              <a:rPr b="0" lang="es-MX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reación de una nueva opción educativa: Colegios académicos con orientación tecnológic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04920" y="2362320"/>
            <a:ext cx="160020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result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9" name=""/>
          <p:cNvGrpSpPr/>
          <p:nvPr/>
        </p:nvGrpSpPr>
        <p:grpSpPr>
          <a:xfrm>
            <a:off x="0" y="4495680"/>
            <a:ext cx="2285640" cy="1904760"/>
            <a:chOff x="0" y="4495680"/>
            <a:chExt cx="2285640" cy="1904760"/>
          </a:xfrm>
        </p:grpSpPr>
        <p:pic>
          <p:nvPicPr>
            <p:cNvPr id="1420" name="" descr=""/>
            <p:cNvPicPr/>
            <p:nvPr/>
          </p:nvPicPr>
          <p:blipFill>
            <a:blip r:embed="rId1"/>
            <a:srcRect l="0" t="0" r="13345" b="0"/>
            <a:stretch/>
          </p:blipFill>
          <p:spPr>
            <a:xfrm>
              <a:off x="14400" y="4498200"/>
              <a:ext cx="2255400" cy="18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1" name=""/>
            <p:cNvSpPr/>
            <p:nvPr/>
          </p:nvSpPr>
          <p:spPr>
            <a:xfrm>
              <a:off x="0" y="4495680"/>
              <a:ext cx="45720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57200" y="4495680"/>
              <a:ext cx="457200" cy="476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912600" y="4495680"/>
              <a:ext cx="458640" cy="476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4495680"/>
              <a:ext cx="456840" cy="476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828440" y="4495680"/>
              <a:ext cx="45720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0" y="4971960"/>
              <a:ext cx="457200" cy="476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57200" y="4971960"/>
              <a:ext cx="457200" cy="476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912600" y="4971960"/>
              <a:ext cx="458640" cy="476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371600" y="4971960"/>
              <a:ext cx="456840" cy="476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828440" y="4971960"/>
              <a:ext cx="457200" cy="476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0" y="5447160"/>
              <a:ext cx="457200" cy="47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57200" y="5447160"/>
              <a:ext cx="457200" cy="478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912600" y="5447160"/>
              <a:ext cx="458640" cy="478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371600" y="5447160"/>
              <a:ext cx="456840" cy="478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828440" y="5447160"/>
              <a:ext cx="457200" cy="478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0" y="5923800"/>
              <a:ext cx="45720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57200" y="5923800"/>
              <a:ext cx="457200" cy="476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912600" y="5923800"/>
              <a:ext cx="458640" cy="476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371600" y="5923800"/>
              <a:ext cx="456840" cy="476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828440" y="5923800"/>
              <a:ext cx="457200" cy="4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-1440" y="0"/>
            <a:ext cx="9145440" cy="1006560"/>
            <a:chOff x="-1440" y="0"/>
            <a:chExt cx="9145440" cy="1006560"/>
          </a:xfrm>
        </p:grpSpPr>
        <p:sp>
          <p:nvSpPr>
            <p:cNvPr id="1442" name=""/>
            <p:cNvSpPr/>
            <p:nvPr/>
          </p:nvSpPr>
          <p:spPr>
            <a:xfrm>
              <a:off x="69840" y="71280"/>
              <a:ext cx="9074160" cy="93528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-1440" y="0"/>
              <a:ext cx="9145440" cy="93492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4" name=""/>
          <p:cNvSpPr/>
          <p:nvPr/>
        </p:nvSpPr>
        <p:spPr>
          <a:xfrm>
            <a:off x="430200" y="0"/>
            <a:ext cx="500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RELACIÓN CON DEMAN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L SISTEMA PRODUCTIVO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209680" y="990720"/>
            <a:ext cx="6705720" cy="54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404a66"/>
                </a:solidFill>
                <a:latin typeface="Century Gothic"/>
                <a:ea typeface="Arial Unicode MS"/>
              </a:rPr>
              <a:t>En concordancia con los objetivos planteados en relación con la formación integral de los y las jóvenes de la Educación Técnica, el Departamento está trabajando activamente en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0000"/>
              </a:lnSpc>
              <a:spcBef>
                <a:spcPts val="1188"/>
              </a:spcBef>
              <a:buClr>
                <a:srgbClr val="404a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404a66"/>
                </a:solidFill>
                <a:latin typeface="Symbol"/>
                <a:ea typeface="Symbol"/>
              </a:rPr>
              <a:t></a:t>
            </a:r>
            <a:r>
              <a:rPr b="0" lang="es-MX" sz="1900" spc="-1" strike="noStrike">
                <a:solidFill>
                  <a:srgbClr val="404a66"/>
                </a:solidFill>
                <a:latin typeface="Times New Roman"/>
                <a:ea typeface="Times New Roman"/>
              </a:rPr>
              <a:t>   </a:t>
            </a:r>
            <a:r>
              <a:rPr b="0" lang="es-MX" sz="1900" spc="-1" strike="noStrike">
                <a:solidFill>
                  <a:srgbClr val="404a66"/>
                </a:solidFill>
                <a:latin typeface="Century Gothic"/>
                <a:ea typeface="Arial Unicode MS"/>
              </a:rPr>
              <a:t>Comisión de equidad de géne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0000"/>
              </a:lnSpc>
              <a:spcBef>
                <a:spcPts val="1188"/>
              </a:spcBef>
              <a:buClr>
                <a:srgbClr val="404a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404a66"/>
                </a:solidFill>
                <a:latin typeface="Symbol"/>
                <a:ea typeface="Symbol"/>
              </a:rPr>
              <a:t></a:t>
            </a:r>
            <a:r>
              <a:rPr b="0" lang="es-MX" sz="1900" spc="-1" strike="noStrike">
                <a:solidFill>
                  <a:srgbClr val="404a66"/>
                </a:solidFill>
                <a:latin typeface="Times New Roman"/>
                <a:ea typeface="Times New Roman"/>
              </a:rPr>
              <a:t> </a:t>
            </a:r>
            <a:r>
              <a:rPr b="0" lang="es-MX" sz="1900" spc="-1" strike="noStrike">
                <a:solidFill>
                  <a:srgbClr val="404a66"/>
                </a:solidFill>
                <a:latin typeface="Century Gothic"/>
                <a:ea typeface="Arial Unicode MS"/>
              </a:rPr>
              <a:t>Comisión de Explotación sexual comercial en personas menores de eda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70000"/>
              </a:lnSpc>
              <a:spcBef>
                <a:spcPts val="1188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aller: Análisis y construcción de proyectos igualdad de oportunidades de acceso a la formación técnico - profesiona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6" name=""/>
          <p:cNvGrpSpPr/>
          <p:nvPr/>
        </p:nvGrpSpPr>
        <p:grpSpPr>
          <a:xfrm>
            <a:off x="-1440" y="0"/>
            <a:ext cx="9145440" cy="1006560"/>
            <a:chOff x="-1440" y="0"/>
            <a:chExt cx="9145440" cy="1006560"/>
          </a:xfrm>
        </p:grpSpPr>
        <p:sp>
          <p:nvSpPr>
            <p:cNvPr id="1447" name=""/>
            <p:cNvSpPr/>
            <p:nvPr/>
          </p:nvSpPr>
          <p:spPr>
            <a:xfrm>
              <a:off x="69840" y="71280"/>
              <a:ext cx="9074160" cy="93528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-1440" y="0"/>
              <a:ext cx="9145440" cy="93492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9" name=""/>
          <p:cNvSpPr/>
          <p:nvPr/>
        </p:nvSpPr>
        <p:spPr>
          <a:xfrm>
            <a:off x="698400" y="0"/>
            <a:ext cx="527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STRUCTURA ORGANIZ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E LA EDUCACIÓN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855720" y="2116080"/>
            <a:ext cx="287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627280" y="155736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2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400800" cy="3895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" descr=""/>
          <p:cNvPicPr/>
          <p:nvPr/>
        </p:nvPicPr>
        <p:blipFill>
          <a:blip r:embed="rId1"/>
          <a:srcRect l="0" t="0" r="13345" b="0"/>
          <a:stretch/>
        </p:blipFill>
        <p:spPr>
          <a:xfrm>
            <a:off x="376200" y="4538520"/>
            <a:ext cx="2443320" cy="1938600"/>
          </a:xfrm>
          <a:prstGeom prst="rect">
            <a:avLst/>
          </a:prstGeom>
          <a:ln w="0">
            <a:noFill/>
          </a:ln>
        </p:spPr>
      </p:pic>
      <p:sp>
        <p:nvSpPr>
          <p:cNvPr id="1454" name=""/>
          <p:cNvSpPr/>
          <p:nvPr/>
        </p:nvSpPr>
        <p:spPr>
          <a:xfrm>
            <a:off x="36036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855720" y="4535640"/>
            <a:ext cx="495360" cy="495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49280" y="4535640"/>
            <a:ext cx="4971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846440" y="4535640"/>
            <a:ext cx="49500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34144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6036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85572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349280" y="503064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846440" y="503064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34144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60360" y="5524560"/>
            <a:ext cx="49536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85572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349280" y="5524560"/>
            <a:ext cx="4971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846440" y="5524560"/>
            <a:ext cx="49500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34144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60360" y="6019920"/>
            <a:ext cx="495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855720" y="601992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349280" y="601992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846440" y="601992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341440" y="6019920"/>
            <a:ext cx="4953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-1440" y="0"/>
            <a:ext cx="9145440" cy="1006560"/>
            <a:chOff x="-1440" y="0"/>
            <a:chExt cx="9145440" cy="1006560"/>
          </a:xfrm>
        </p:grpSpPr>
        <p:sp>
          <p:nvSpPr>
            <p:cNvPr id="1475" name=""/>
            <p:cNvSpPr/>
            <p:nvPr/>
          </p:nvSpPr>
          <p:spPr>
            <a:xfrm>
              <a:off x="69840" y="71280"/>
              <a:ext cx="9074160" cy="93528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-1440" y="0"/>
              <a:ext cx="9145440" cy="93492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"/>
          <p:cNvSpPr/>
          <p:nvPr/>
        </p:nvSpPr>
        <p:spPr>
          <a:xfrm>
            <a:off x="325800" y="236520"/>
            <a:ext cx="53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ALIANZAS ESTRATÉ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855720" y="2116080"/>
            <a:ext cx="287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95280" y="1268280"/>
            <a:ext cx="8064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2514600" y="974880"/>
            <a:ext cx="6264360" cy="53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CA COLA: LEER ES MÁGICO (25 de noviembre, 20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ICROSOFT: ALIANZA POR LA EDU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OPTE UNA ESCUE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OCTER AND GAMBLE: (9 de febrero, 20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GRUPO LA NACIÓN: PROYECTOS EDUCA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SOCIACIÓN PRO-HOSPITAL NACIONAL DE NIÑOS: APRENDER CON DI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MPONENTES INT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IPER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UN MICRO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D DE INNOVACIÓN EDUCATIVA (INTERNET Y CONECTIVIDA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RTE SUPREMA DE JUSTICIA:  Resolución alterna de conflictos (09 de febrero, 20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INAE: PROGRAMA BANDERA ECOLÓGICA (09 de febrero, 2004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" descr=""/>
          <p:cNvPicPr/>
          <p:nvPr/>
        </p:nvPicPr>
        <p:blipFill>
          <a:blip r:embed="rId1"/>
          <a:srcRect l="6874" t="0" r="46979" b="0"/>
          <a:stretch/>
        </p:blipFill>
        <p:spPr>
          <a:xfrm>
            <a:off x="324000" y="1628640"/>
            <a:ext cx="3114360" cy="5105520"/>
          </a:xfrm>
          <a:prstGeom prst="rect">
            <a:avLst/>
          </a:prstGeom>
          <a:ln w="0">
            <a:noFill/>
          </a:ln>
        </p:spPr>
      </p:pic>
      <p:grpSp>
        <p:nvGrpSpPr>
          <p:cNvPr id="1482" name=""/>
          <p:cNvGrpSpPr/>
          <p:nvPr/>
        </p:nvGrpSpPr>
        <p:grpSpPr>
          <a:xfrm>
            <a:off x="0" y="0"/>
            <a:ext cx="9145440" cy="1294560"/>
            <a:chOff x="0" y="0"/>
            <a:chExt cx="9145440" cy="1294560"/>
          </a:xfrm>
        </p:grpSpPr>
        <p:sp>
          <p:nvSpPr>
            <p:cNvPr id="1483" name=""/>
            <p:cNvSpPr/>
            <p:nvPr/>
          </p:nvSpPr>
          <p:spPr>
            <a:xfrm>
              <a:off x="71280" y="91440"/>
              <a:ext cx="9074160" cy="120312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0" y="0"/>
              <a:ext cx="9145440" cy="120276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5" name=""/>
          <p:cNvSpPr/>
          <p:nvPr/>
        </p:nvSpPr>
        <p:spPr>
          <a:xfrm>
            <a:off x="3962520" y="3886200"/>
            <a:ext cx="426708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Century Gothic"/>
              </a:rPr>
              <a:t>Por el fortalecimiento de una educación integ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16000" y="1558800"/>
            <a:ext cx="649080" cy="64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863640" y="1558800"/>
            <a:ext cx="649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511280" y="1558800"/>
            <a:ext cx="649440" cy="64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160720" y="1558800"/>
            <a:ext cx="649080" cy="64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808360" y="1558800"/>
            <a:ext cx="649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16000" y="2206800"/>
            <a:ext cx="64908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863640" y="2206800"/>
            <a:ext cx="64908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511280" y="2206800"/>
            <a:ext cx="64944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160720" y="2206800"/>
            <a:ext cx="64908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808360" y="2206800"/>
            <a:ext cx="64908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216000" y="2854440"/>
            <a:ext cx="64908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863640" y="2854440"/>
            <a:ext cx="64908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511280" y="2854440"/>
            <a:ext cx="64944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60720" y="2854440"/>
            <a:ext cx="64908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808360" y="2854440"/>
            <a:ext cx="64908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16000" y="3503520"/>
            <a:ext cx="649080" cy="64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863640" y="3503520"/>
            <a:ext cx="649080" cy="64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511280" y="3503520"/>
            <a:ext cx="649440" cy="64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160720" y="3503520"/>
            <a:ext cx="649080" cy="64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808360" y="3503520"/>
            <a:ext cx="649080" cy="64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16000" y="4151160"/>
            <a:ext cx="649080" cy="64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863640" y="4151160"/>
            <a:ext cx="649080" cy="64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511280" y="4151160"/>
            <a:ext cx="649440" cy="64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160720" y="4151160"/>
            <a:ext cx="649080" cy="64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808360" y="4151160"/>
            <a:ext cx="649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16000" y="4799160"/>
            <a:ext cx="64908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863640" y="4799160"/>
            <a:ext cx="64908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511280" y="4799160"/>
            <a:ext cx="64944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2160720" y="4799160"/>
            <a:ext cx="64908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808360" y="4799160"/>
            <a:ext cx="64908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16000" y="5446800"/>
            <a:ext cx="6490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863640" y="5446800"/>
            <a:ext cx="64908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511280" y="5446800"/>
            <a:ext cx="649440" cy="64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160720" y="5446800"/>
            <a:ext cx="6490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2808360" y="5446800"/>
            <a:ext cx="649080" cy="649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16000" y="6094440"/>
            <a:ext cx="649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863640" y="6094440"/>
            <a:ext cx="649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511280" y="6094440"/>
            <a:ext cx="649440" cy="64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160720" y="6094440"/>
            <a:ext cx="649080" cy="64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808360" y="6094440"/>
            <a:ext cx="649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50440" y="79200"/>
            <a:ext cx="64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Relanzamiento de la edu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Costarric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7" name="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2563560" cy="192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819520" y="1200240"/>
            <a:ext cx="6933960" cy="5962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4724280"/>
            <a:ext cx="76176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77320" y="3822840"/>
            <a:ext cx="76176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3009960"/>
            <a:ext cx="761760" cy="762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1600200"/>
            <a:ext cx="762120" cy="7621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3024" b="7625"/>
          <a:stretch/>
        </p:blipFill>
        <p:spPr>
          <a:xfrm>
            <a:off x="380880" y="4572000"/>
            <a:ext cx="2438640" cy="1905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6036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55720" y="4535640"/>
            <a:ext cx="4953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49280" y="4535640"/>
            <a:ext cx="4971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46440" y="4535640"/>
            <a:ext cx="49500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4144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036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55720" y="5030640"/>
            <a:ext cx="495360" cy="495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49280" y="503064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46440" y="503064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4144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0360" y="5524560"/>
            <a:ext cx="49536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5572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49280" y="5524560"/>
            <a:ext cx="4971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46440" y="5524560"/>
            <a:ext cx="49500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41440" y="5524560"/>
            <a:ext cx="49536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0360" y="6019920"/>
            <a:ext cx="495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5720" y="601992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49280" y="601992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46440" y="601992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41440" y="6019920"/>
            <a:ext cx="495360" cy="495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0"/>
            <a:ext cx="9144000" cy="1006560"/>
            <a:chOff x="0" y="0"/>
            <a:chExt cx="9144000" cy="1006560"/>
          </a:xfrm>
        </p:grpSpPr>
        <p:sp>
          <p:nvSpPr>
            <p:cNvPr id="102" name=""/>
            <p:cNvSpPr/>
            <p:nvPr/>
          </p:nvSpPr>
          <p:spPr>
            <a:xfrm>
              <a:off x="70920" y="71280"/>
              <a:ext cx="9072720" cy="93528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0"/>
              <a:ext cx="9144000" cy="93492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80880" y="22860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ÁREAS PRIORITA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5720" y="2116080"/>
            <a:ext cx="287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124080" y="1752480"/>
            <a:ext cx="5791320" cy="4114800"/>
            <a:chOff x="3124080" y="1752480"/>
            <a:chExt cx="5791320" cy="4114800"/>
          </a:xfrm>
        </p:grpSpPr>
        <p:sp>
          <p:nvSpPr>
            <p:cNvPr id="107" name=""/>
            <p:cNvSpPr/>
            <p:nvPr/>
          </p:nvSpPr>
          <p:spPr>
            <a:xfrm>
              <a:off x="4128120" y="4876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295480" y="4200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19720" y="5029200"/>
              <a:ext cx="3200400" cy="83808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ffffff"/>
                  </a:solidFill>
                  <a:latin typeface="Century Gothic"/>
                </a:rPr>
                <a:t>Educación secunda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ffffff"/>
                  </a:solidFill>
                  <a:latin typeface="Century Gothic"/>
                </a:rPr>
                <a:t>y técn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54760" y="1828800"/>
              <a:ext cx="1928520" cy="84780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ffffff"/>
                  </a:solidFill>
                  <a:latin typeface="Century Gothic"/>
                </a:rPr>
                <a:t>Calidad de l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ffffff"/>
                  </a:solidFill>
                  <a:latin typeface="Century Gothic"/>
                </a:rPr>
                <a:t>Educ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34320" y="3375000"/>
              <a:ext cx="1981080" cy="83808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ffffff"/>
                  </a:solidFill>
                  <a:latin typeface="Century Gothic"/>
                </a:rPr>
                <a:t>Programas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ffffff"/>
                  </a:solidFill>
                  <a:latin typeface="Century Gothic"/>
                </a:rPr>
                <a:t>Equida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24080" y="3375000"/>
              <a:ext cx="1981440" cy="83808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ffffff"/>
                  </a:solidFill>
                  <a:latin typeface="Century Gothic"/>
                </a:rPr>
                <a:t>Educación ru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66720" y="1752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94880" y="306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5829120" y="2819160"/>
              <a:ext cx="457200" cy="6094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900" y="0"/>
                  </a:lnTo>
                  <a:lnTo>
                    <a:pt x="21600" y="10800"/>
                  </a:lnTo>
                  <a:lnTo>
                    <a:pt x="9900" y="21600"/>
                  </a:lnTo>
                  <a:lnTo>
                    <a:pt x="0" y="21600"/>
                  </a:lnTo>
                  <a:lnTo>
                    <a:pt x="11700" y="108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 rot="5400000">
              <a:off x="5829120" y="4190760"/>
              <a:ext cx="457200" cy="6094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900" y="0"/>
                  </a:lnTo>
                  <a:lnTo>
                    <a:pt x="21600" y="10800"/>
                  </a:lnTo>
                  <a:lnTo>
                    <a:pt x="9900" y="21600"/>
                  </a:lnTo>
                  <a:lnTo>
                    <a:pt x="0" y="21600"/>
                  </a:lnTo>
                  <a:lnTo>
                    <a:pt x="117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5753160" y="3467160"/>
            <a:ext cx="609480" cy="685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53160" y="3467160"/>
                      <a:ext cx="6094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 flipV="1" rot="10800000">
              <a:off x="5181480" y="3504240"/>
              <a:ext cx="457200" cy="6094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900" y="0"/>
                  </a:lnTo>
                  <a:lnTo>
                    <a:pt x="21600" y="10800"/>
                  </a:lnTo>
                  <a:lnTo>
                    <a:pt x="9900" y="21600"/>
                  </a:lnTo>
                  <a:lnTo>
                    <a:pt x="0" y="21600"/>
                  </a:lnTo>
                  <a:lnTo>
                    <a:pt x="117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400800" y="3504600"/>
              <a:ext cx="457200" cy="6094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900" y="0"/>
                  </a:lnTo>
                  <a:lnTo>
                    <a:pt x="21600" y="10800"/>
                  </a:lnTo>
                  <a:lnTo>
                    <a:pt x="9900" y="21600"/>
                  </a:lnTo>
                  <a:lnTo>
                    <a:pt x="0" y="21600"/>
                  </a:lnTo>
                  <a:lnTo>
                    <a:pt x="117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8009" t="3810" r="0" b="0"/>
          <a:stretch/>
        </p:blipFill>
        <p:spPr>
          <a:xfrm>
            <a:off x="380880" y="4572000"/>
            <a:ext cx="2457720" cy="1924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6036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55720" y="4535640"/>
            <a:ext cx="4953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49280" y="4535640"/>
            <a:ext cx="4971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46440" y="4535640"/>
            <a:ext cx="49500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41440" y="4535640"/>
            <a:ext cx="495360" cy="495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036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5572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49280" y="503064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46440" y="503064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41440" y="5030640"/>
            <a:ext cx="4953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5572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49280" y="5524560"/>
            <a:ext cx="4971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46440" y="5524560"/>
            <a:ext cx="49500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4144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0360" y="6019920"/>
            <a:ext cx="4953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55720" y="601992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49280" y="6019920"/>
            <a:ext cx="4971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46440" y="601992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41440" y="6019920"/>
            <a:ext cx="4953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0"/>
            <a:ext cx="9145440" cy="1006560"/>
            <a:chOff x="0" y="0"/>
            <a:chExt cx="9145440" cy="1006560"/>
          </a:xfrm>
        </p:grpSpPr>
        <p:sp>
          <p:nvSpPr>
            <p:cNvPr id="143" name=""/>
            <p:cNvSpPr/>
            <p:nvPr/>
          </p:nvSpPr>
          <p:spPr>
            <a:xfrm>
              <a:off x="71280" y="71280"/>
              <a:ext cx="9074160" cy="93528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0"/>
              <a:ext cx="9145440" cy="93492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LAN DE ACCIÓN:</a:t>
            </a:r>
            <a:r>
              <a:rPr b="1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ED</a:t>
            </a:r>
            <a:r>
              <a:rPr b="1" lang="es-ES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CACIÓN PARA TODOS</a:t>
            </a:r>
            <a:r>
              <a:rPr b="1" lang="es-E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1219320"/>
            <a:ext cx="6324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74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nstrucción colectiva del plan de acción para el periodo 2003-2015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mo estrategia de planificación se integró el Foro Nacional de la Educación para Todos</a:t>
            </a: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n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ó con una </a:t>
            </a:r>
            <a:r>
              <a:rPr b="1" lang="es-E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mplia representación de la sociedad civil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.</a:t>
            </a: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</a:t>
            </a:r>
            <a:r>
              <a:rPr b="1" lang="es-E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stancia que facilita la reflexión y discusión nacional del estado actual de la educación costarricense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ros Regionales de Educación para Todos, en cada una de las 20 regiones educa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a cobertura, la equidad, la inclusión y la calidad educativa constituyen pilares estratégicos del desarrollo educativo nacional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.</a:t>
            </a:r>
            <a:r>
              <a:rPr b="1" lang="es-E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2133720"/>
            <a:ext cx="259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0" t="0" r="0" b="23741"/>
          <a:stretch/>
        </p:blipFill>
        <p:spPr>
          <a:xfrm>
            <a:off x="379440" y="4559400"/>
            <a:ext cx="2457360" cy="1917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60360" y="4535640"/>
            <a:ext cx="4953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55720" y="4535640"/>
            <a:ext cx="4953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49280" y="4535640"/>
            <a:ext cx="4971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46440" y="4535640"/>
            <a:ext cx="49500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4144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036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5572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49280" y="503064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46440" y="503064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4144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0360" y="5524560"/>
            <a:ext cx="495360" cy="496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572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49280" y="5524560"/>
            <a:ext cx="4971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46440" y="5524560"/>
            <a:ext cx="49500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41440" y="5524560"/>
            <a:ext cx="49536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0360" y="6019920"/>
            <a:ext cx="4953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5720" y="601992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49280" y="6019920"/>
            <a:ext cx="497160" cy="495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46440" y="601992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41440" y="6019920"/>
            <a:ext cx="495360" cy="495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0" y="0"/>
            <a:ext cx="9145440" cy="1006560"/>
            <a:chOff x="0" y="0"/>
            <a:chExt cx="9145440" cy="1006560"/>
          </a:xfrm>
        </p:grpSpPr>
        <p:sp>
          <p:nvSpPr>
            <p:cNvPr id="170" name=""/>
            <p:cNvSpPr/>
            <p:nvPr/>
          </p:nvSpPr>
          <p:spPr>
            <a:xfrm>
              <a:off x="71280" y="71280"/>
              <a:ext cx="9074160" cy="93528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0"/>
              <a:ext cx="9145440" cy="93492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38760" y="236520"/>
            <a:ext cx="618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ROGRAMAS EMBLEMÁTICOS</a:t>
            </a:r>
            <a:r>
              <a:rPr b="1" lang="es-E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9520" y="1066680"/>
            <a:ext cx="60958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Cierre de brechas entre Educación Pública y Privada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a ampliación de la cobertura y pertinencia de la Educación Secundaria, en particular la Educación Técnica</a:t>
            </a: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a Calidad de la Educación, mejorando la cantidad y calidad de los insumos del proceso de enseñanza y aprendizaje: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0640" indent="-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pacitación docente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0640" indent="-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Infraestru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0640" indent="-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teriales educativos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0640" indent="-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rmación en valores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0640" indent="-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a evaluación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opicia</a:t>
            </a: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las condiciones para modernizar la gestión educativa</a:t>
            </a: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corpora</a:t>
            </a: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do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modelos más participativos de gestión centrados en la escuela y en función de la calidad de los servicios que ésta presta</a:t>
            </a: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0" t="0" r="0" b="23741"/>
          <a:stretch/>
        </p:blipFill>
        <p:spPr>
          <a:xfrm>
            <a:off x="379440" y="4559400"/>
            <a:ext cx="2457360" cy="1917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60360" y="4535640"/>
            <a:ext cx="4953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55720" y="4535640"/>
            <a:ext cx="4953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49280" y="4535640"/>
            <a:ext cx="4971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46440" y="4535640"/>
            <a:ext cx="49500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4144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036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5572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49280" y="503064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46440" y="503064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4144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0360" y="5524560"/>
            <a:ext cx="495360" cy="496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5572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49280" y="5524560"/>
            <a:ext cx="4971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46440" y="5524560"/>
            <a:ext cx="49500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41440" y="5524560"/>
            <a:ext cx="49536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0360" y="6019920"/>
            <a:ext cx="4953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5720" y="601992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49280" y="6019920"/>
            <a:ext cx="497160" cy="495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46440" y="601992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41440" y="6019920"/>
            <a:ext cx="495360" cy="495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0"/>
            <a:ext cx="9145440" cy="1006560"/>
            <a:chOff x="0" y="0"/>
            <a:chExt cx="9145440" cy="1006560"/>
          </a:xfrm>
        </p:grpSpPr>
        <p:sp>
          <p:nvSpPr>
            <p:cNvPr id="196" name=""/>
            <p:cNvSpPr/>
            <p:nvPr/>
          </p:nvSpPr>
          <p:spPr>
            <a:xfrm>
              <a:off x="71280" y="71280"/>
              <a:ext cx="9074160" cy="93528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0"/>
              <a:ext cx="9145440" cy="93492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66120" y="23652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COBER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55720" y="2116080"/>
            <a:ext cx="287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066680"/>
            <a:ext cx="556236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El sistema atiende a más de 1 millón de </a:t>
            </a:r>
            <a:r>
              <a:rPr b="1" lang="es-E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iños, niñas</a:t>
            </a: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, adolescentes y adultos (¼ de la población nacion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57.1% del total de estudiantes</a:t>
            </a: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(I y II Ciclo) (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Century Gothic"/>
              </a:rPr>
              <a:t>Universalizado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31.6%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del total de matrícula</a:t>
            </a: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(III y Edc. Diversificada) (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entury Gothic"/>
                <a:ea typeface="Times New Roman"/>
              </a:rPr>
              <a:t>66.2%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Century Gothic"/>
                <a:ea typeface="Times New Roman"/>
              </a:rPr>
              <a:t> de cobertura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). Proyección al 2006 de 77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Educ. Preescolar: (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entury Gothic"/>
                <a:ea typeface="Times New Roman"/>
              </a:rPr>
              <a:t>90.3%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) de la totalidad. Proyección al 2006 de la universal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2000 inicia el ciclo materno infantil (4-5) con un </a:t>
            </a:r>
            <a:r>
              <a:rPr b="1" lang="es-E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33.2% 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e cobertura. Proyección al 2006 del 5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Educ. Especial: </a:t>
            </a:r>
            <a:r>
              <a:rPr b="1" lang="es-E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e hacen esfuerzos técnicos, curriculares y ambientales para promover la inclusión educativa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60360" y="4535640"/>
            <a:ext cx="4953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55720" y="4535640"/>
            <a:ext cx="4953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49280" y="4535640"/>
            <a:ext cx="4971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46440" y="4535640"/>
            <a:ext cx="49500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4144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5572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49280" y="503064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46440" y="503064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144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0360" y="5524560"/>
            <a:ext cx="495360" cy="496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5572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49280" y="5524560"/>
            <a:ext cx="4971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46440" y="5524560"/>
            <a:ext cx="49500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41440" y="5524560"/>
            <a:ext cx="49536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55720" y="601992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46440" y="601992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0" y="0"/>
            <a:ext cx="9145440" cy="1006560"/>
            <a:chOff x="0" y="0"/>
            <a:chExt cx="9145440" cy="1006560"/>
          </a:xfrm>
        </p:grpSpPr>
        <p:sp>
          <p:nvSpPr>
            <p:cNvPr id="219" name=""/>
            <p:cNvSpPr/>
            <p:nvPr/>
          </p:nvSpPr>
          <p:spPr>
            <a:xfrm>
              <a:off x="71280" y="71280"/>
              <a:ext cx="9074160" cy="93528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0"/>
              <a:ext cx="9145440" cy="93492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32280" y="236520"/>
            <a:ext cx="53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POBLACIÓN MIGR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55720" y="2116080"/>
            <a:ext cx="287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80880" y="1295280"/>
          <a:ext cx="8458200" cy="448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45820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rcRect l="0" t="0" r="0" b="23741"/>
          <a:stretch/>
        </p:blipFill>
        <p:spPr>
          <a:xfrm>
            <a:off x="379440" y="4559400"/>
            <a:ext cx="2457360" cy="1917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60360" y="4535640"/>
            <a:ext cx="4953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55720" y="4535640"/>
            <a:ext cx="4953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49280" y="4535640"/>
            <a:ext cx="4971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46440" y="4535640"/>
            <a:ext cx="49500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4144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036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5572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49280" y="503064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46440" y="503064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4144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" y="5524560"/>
            <a:ext cx="495360" cy="496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5572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49280" y="5524560"/>
            <a:ext cx="4971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46440" y="5524560"/>
            <a:ext cx="49500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41440" y="5524560"/>
            <a:ext cx="49536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0360" y="6019920"/>
            <a:ext cx="4953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5720" y="601992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49280" y="6019920"/>
            <a:ext cx="497160" cy="495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46440" y="601992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41440" y="6019920"/>
            <a:ext cx="495360" cy="495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0" y="0"/>
            <a:ext cx="9145440" cy="1006560"/>
            <a:chOff x="0" y="0"/>
            <a:chExt cx="9145440" cy="1006560"/>
          </a:xfrm>
        </p:grpSpPr>
        <p:sp>
          <p:nvSpPr>
            <p:cNvPr id="247" name=""/>
            <p:cNvSpPr/>
            <p:nvPr/>
          </p:nvSpPr>
          <p:spPr>
            <a:xfrm>
              <a:off x="71280" y="71280"/>
              <a:ext cx="9074160" cy="93528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0" y="0"/>
              <a:ext cx="9145440" cy="93492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855720" y="2116080"/>
            <a:ext cx="287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1066680"/>
            <a:ext cx="60199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Century Gothic"/>
                <a:ea typeface="Times New Roman"/>
              </a:rPr>
              <a:t>Análisis Situacional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0640" indent="-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on en su mayoría bilingües (lengua indígena y españ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0640" indent="-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xiste una visión cultural indígena propia, la cual se basa en la tradición, su historia y los enfoque loc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0640" indent="-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diciones ambientales particulares, en estrecha relación con la Naturaleza, en donde los recursos y elementos naturales son determinantes para todas las actividades cotidianas</a:t>
            </a:r>
            <a:r>
              <a:rPr b="1" lang="es-E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213480" y="228600"/>
            <a:ext cx="93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OPORTUNIDADES EDUCATIVAS EN LAS ESCUELAS INDÍGENAS</a:t>
            </a: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295280"/>
            <a:ext cx="2438280" cy="2654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población indígena, está considerada como prioritaria en las acciones estratégicas de la edu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rcRect l="0" t="0" r="0" b="23741"/>
          <a:stretch/>
        </p:blipFill>
        <p:spPr>
          <a:xfrm>
            <a:off x="379440" y="4559400"/>
            <a:ext cx="2457360" cy="1917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60360" y="4535640"/>
            <a:ext cx="4953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55720" y="4535640"/>
            <a:ext cx="4953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49280" y="4535640"/>
            <a:ext cx="49716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6440" y="4535640"/>
            <a:ext cx="495000" cy="49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41440" y="4535640"/>
            <a:ext cx="49536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036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5572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49280" y="5030640"/>
            <a:ext cx="4971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46440" y="503064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41440" y="503064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0360" y="5524560"/>
            <a:ext cx="495360" cy="496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5720" y="5524560"/>
            <a:ext cx="4953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49280" y="5524560"/>
            <a:ext cx="49716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46440" y="5524560"/>
            <a:ext cx="495000" cy="49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41440" y="5524560"/>
            <a:ext cx="49536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0360" y="6019920"/>
            <a:ext cx="49536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55720" y="6019920"/>
            <a:ext cx="49536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49280" y="6019920"/>
            <a:ext cx="497160" cy="495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46440" y="6019920"/>
            <a:ext cx="495000" cy="49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41440" y="6019920"/>
            <a:ext cx="495360" cy="495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0" y="0"/>
            <a:ext cx="9145440" cy="1006560"/>
            <a:chOff x="0" y="0"/>
            <a:chExt cx="9145440" cy="1006560"/>
          </a:xfrm>
        </p:grpSpPr>
        <p:sp>
          <p:nvSpPr>
            <p:cNvPr id="275" name=""/>
            <p:cNvSpPr/>
            <p:nvPr/>
          </p:nvSpPr>
          <p:spPr>
            <a:xfrm>
              <a:off x="71280" y="71280"/>
              <a:ext cx="9074160" cy="935280"/>
            </a:xfrm>
            <a:custGeom>
              <a:avLst/>
              <a:gdLst/>
              <a:ahLst/>
              <a:rect l="l" t="t" r="r" b="b"/>
              <a:pathLst>
                <a:path w="5716" h="726">
                  <a:moveTo>
                    <a:pt x="0" y="726"/>
                  </a:moveTo>
                  <a:lnTo>
                    <a:pt x="5126" y="726"/>
                  </a:lnTo>
                  <a:lnTo>
                    <a:pt x="5716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0"/>
              <a:ext cx="9145440" cy="934920"/>
            </a:xfrm>
            <a:custGeom>
              <a:avLst/>
              <a:gdLst/>
              <a:ahLst/>
              <a:rect l="l" t="t" r="r" b="b"/>
              <a:pathLst>
                <a:path w="5761" h="726">
                  <a:moveTo>
                    <a:pt x="0" y="726"/>
                  </a:moveTo>
                  <a:lnTo>
                    <a:pt x="5171" y="726"/>
                  </a:lnTo>
                  <a:lnTo>
                    <a:pt x="5761" y="0"/>
                  </a:lnTo>
                  <a:lnTo>
                    <a:pt x="0" y="0"/>
                  </a:lnTo>
                  <a:lnTo>
                    <a:pt x="0" y="72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855720" y="2116080"/>
            <a:ext cx="287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1066680"/>
            <a:ext cx="60199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Century Gothic"/>
                <a:ea typeface="Times New Roman"/>
              </a:rPr>
              <a:t>C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entury Gothic"/>
                <a:ea typeface="Times New Roman"/>
              </a:rPr>
              <a:t>ondiciones 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Century Gothic"/>
                <a:ea typeface="Times New Roman"/>
              </a:rPr>
              <a:t>E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entury Gothic"/>
                <a:ea typeface="Times New Roman"/>
              </a:rPr>
              <a:t>structurales 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Century Gothic"/>
                <a:ea typeface="Times New Roman"/>
              </a:rPr>
              <a:t>I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entury Gothic"/>
                <a:ea typeface="Times New Roman"/>
              </a:rPr>
              <a:t>nstitucionales 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l 70% de las escuelas son del tipo unidocente o multigr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os edificios, plantas físicas y equipamiento de las escuelas están en proceso de mejoramiento</a:t>
            </a:r>
            <a:r>
              <a:rPr b="1" lang="es-E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a ubicación geográfica de la mayoría de las instituciones es disp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ño tras año y a partir de esta apertura educativa; las demandas son creci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l 50% del personal docente que labora, no está calificado para el ejercicio docente</a:t>
            </a: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. El otro 50% si está califi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rencia y escasez de material didáctico debidamente contextualizado</a:t>
            </a:r>
            <a:r>
              <a:rPr b="1" lang="es-ES" sz="2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-213480" y="228600"/>
            <a:ext cx="93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OPORTUNIDADES EDUCATIVAS EN LAS ESCUELAS INDÍGENAS</a:t>
            </a: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752480"/>
            <a:ext cx="2438280" cy="2288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gram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Desarrollo de Oportunidades Educativas para la Población Indígena”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4:08:33Z</dcterms:created>
  <dc:creator>CINDISA</dc:creator>
  <dc:description/>
  <dc:language>en-US</dc:language>
  <cp:lastModifiedBy>Isabel Margaarita Honorato</cp:lastModifiedBy>
  <dcterms:modified xsi:type="dcterms:W3CDTF">2004-08-10T20:58:42Z</dcterms:modified>
  <cp:revision>107</cp:revision>
  <dc:subject/>
  <dc:title>Presentación de PowerPoint</dc:title>
</cp:coreProperties>
</file>